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E3D-6E9C-4FE4-A489-1566C6C0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CFE-24B2-43F1-8439-A105434C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411-1CF5-45F3-8A5B-1D54E405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FE0-BDE3-4E28-8CBB-F8D2BB97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AFEB-5396-4DA1-9FF5-256EC604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2D56-9C62-4742-951C-5BA7A073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87BF-3950-4333-875D-B4D2EC83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BAB5-D104-4EB0-85CC-03E02655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7EE5-85C6-447A-8A4D-95D11EEB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5EAF-5222-48F1-BD9E-851A6B22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3DE5-D4B1-4B73-8676-A554E7BF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C06-D94C-440F-BEDF-2B2E3905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45CD-E4EC-4F87-A209-B1FC343D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4C8E-80C6-44D5-9168-02CD8FB7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F149-12D8-4808-B897-88D8C93F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0240-1916-4538-8407-D9FA053C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885A-FEF4-4A6B-921D-0C8AF78C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0673-E737-478C-8A1A-DD92C4AE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D17-6E80-45CA-BB25-08268903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9BC-BE92-48FE-997E-114D0831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56AB-DB25-4F29-B89E-48C001DF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F72-AC68-493D-81E3-455D0E72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AE2-2DEC-4C18-AE72-1261DE81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201D-7DA5-4E02-999B-14B695AF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FD87-A4F0-4B01-AB14-AB7830499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2CE5-DB94-406A-BB23-D3D66C0EA006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638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8160" y="11253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为人民服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）这件事对他来说（       ）很大，（       ）他绝对不会放弃，一定会想尽办法解决的。</a:t>
            </a:r>
            <a:endParaRPr b="0" lang="en-US" sz="2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292428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三、把你觉得课文中需要记住的语句抄写下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四、背诵自己的喜欢的部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66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7"/>
          <p:cNvSpPr/>
          <p:nvPr/>
        </p:nvSpPr>
        <p:spPr>
          <a:xfrm>
            <a:off x="641520" y="112536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《为人民服务》插图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4648320" y="43020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张思德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</a:rPr>
              <a:t>同志是中央警卫团的战士，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1933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</a:rPr>
              <a:t>参加红军，经历过长征，负过伤。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1944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</a:rPr>
              <a:t>因大生产运动的需要，被派去陕北安塞县山中烧炭，因炭窑崩塌不幸牺牲。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日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</a:rPr>
              <a:t>，中央警卫团为他举行了追悼会。毛泽东主席在大会上作了著名的演讲，这就是我们今天要学习的</a:t>
            </a:r>
            <a:r>
              <a:rPr b="1" lang="en-US" sz="3200" spc="-1" strike="noStrike">
                <a:solidFill>
                  <a:srgbClr val="0099ff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</a:rPr>
              <a:t>为人民服务</a:t>
            </a:r>
            <a:r>
              <a:rPr b="1" lang="en-US" sz="3200" spc="-1" strike="noStrike">
                <a:solidFill>
                  <a:srgbClr val="0099ff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438280" y="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写作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PM_001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380880" y="13716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彻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(ch</a:t>
            </a:r>
            <a:r>
              <a:rPr b="1" lang="en-US" sz="4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è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057400" y="6094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学习生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059280" y="148428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迁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(qiā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80880" y="2514600"/>
            <a:ext cx="259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鸿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(h</a:t>
            </a:r>
            <a:r>
              <a:rPr b="1" lang="en-US" sz="4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ó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124080" y="251460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旺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(w</a:t>
            </a:r>
            <a:r>
              <a:rPr b="1" lang="en-US" sz="4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à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57200" y="3581280"/>
            <a:ext cx="2530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标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(biā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200400" y="3581280"/>
            <a:ext cx="252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炊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(chuī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33520" y="464832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葬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(z</a:t>
            </a:r>
            <a:r>
              <a:rPr b="1" lang="en-US" sz="4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à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PM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609480" y="2286000"/>
            <a:ext cx="58676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彻底 鸿毛 送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兴旺 目标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炊事员 司马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828800" y="91440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学习词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76520" y="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理解下面句子的意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0" y="7621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我们这个队伍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完全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是为着解放人民的，是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彻底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地为人民的利益工作的。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243828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人总是要死的，但死的意义有不同</a:t>
            </a:r>
            <a:r>
              <a:rPr b="1" lang="zh-CN" sz="3600" spc="-1" strike="noStrike">
                <a:solidFill>
                  <a:srgbClr val="ff9900"/>
                </a:solidFill>
                <a:latin typeface="宋体"/>
              </a:rPr>
              <a:t>。</a:t>
            </a:r>
            <a:r>
              <a:rPr b="1" lang="zh-CN" sz="36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3581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人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固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有一死，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或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重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于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泰山，或轻于鸿毛。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0" y="4876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只要我们为人民的利益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坚持好的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，为人民的利益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改正错的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，我们这个队伍就一定会兴旺起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304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、因为我们是为人民服务的，所以，我们如果有缺点，就不怕别人批评指出。不管是什么人，谁向我们指出都行。只要你说得对，我们就改正。你说的办法对人民有好处，我们就照你的办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0" y="3733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、要奋斗就会有牺牲，死人的事情是经常发生的。但是我们想到人民的利益，想到大多数人民的痛苦，我们为人民而死，就是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死得其所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幼圆"/>
                <a:ea typeface="幼圆"/>
              </a:rPr>
              <a:t>    </a:t>
            </a:r>
            <a:r>
              <a:rPr b="1" lang="zh-CN" sz="3600" spc="-1" strike="noStrike">
                <a:solidFill>
                  <a:srgbClr val="9900ff"/>
                </a:solidFill>
                <a:latin typeface="幼圆"/>
                <a:ea typeface="幼圆"/>
              </a:rPr>
              <a:t>张思德为了人民的利益献出了宝贵的生命，但他为革命为人民奋斗一生的光辉事迹和高贵品质，却永世长存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80880" y="22860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板书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600200" y="3048120"/>
            <a:ext cx="7543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原因：革命队伍的宗旨、性质所决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不怕牺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做法    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不怕批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不怕困难、加强团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开追悼会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 flipV="1">
            <a:off x="2438280" y="4190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251460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2438280" y="4952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70280" y="3581280"/>
            <a:ext cx="12776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为人民服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3932-9522-4EF8-8C3B-768C4F34F4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彩云"/>
              </a:rPr>
              <a:t>轻松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一、写出下列词语的反义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困难（      ）完全（       ）支持（       ）光明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兴旺（      ）批评（       ）集中（       ）痛苦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0" y="213372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二、选择关联词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管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都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只要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就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只有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只要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都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虽然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但是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不管是高级干部，还是普通群众，（       ）他做过违反法纪的事，（       ）要受到法律的惩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（       ）人人都来关心班集体，我的班级（        ）一定能评上“文明班级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（       ）付出辛勤的劳动，（        ）会有成功的收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（       ）是什么，我们（        ）不能搞特殊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7:20:40Z</dcterms:created>
  <dc:creator/>
  <dc:description/>
  <cp:keywords>幻灯片之家 http:/www.eeppt.com</cp:keywords>
  <dc:language>en-US</dc:language>
  <cp:lastModifiedBy/>
  <dcterms:modified xsi:type="dcterms:W3CDTF">2015-07-20T01:36:14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