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8FA1-6978-4850-BC0A-513187B1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5672-7D07-4365-9A7C-5EFD7DED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26D1-6B0F-4E53-A4E3-E693A3A73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1B3F-14C2-443C-A07F-FC9186E40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15CEE-39ED-4486-965A-E88D82495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60D4-1B0A-47C5-8312-3FA00E43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CEA8-A944-41C5-8AF4-90D0A734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BA5E-319E-41B4-A619-48CFFE0A7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1EE0-60A6-4242-918D-94862013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DD00-7A92-4A15-8EE8-2FFD1E3F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FF1D-59E9-42C2-9A1B-911FD391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7B4-9E3A-4381-8750-2CE5CF17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1785-01B7-4D3F-A501-69E436C4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21D1-A494-4352-A6B2-4AAE4206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C8AE-C7E0-4324-A597-538CF41F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7828-9114-456A-8C2B-5C34E224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27D0-CEDF-4B5C-B031-E30B14F25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249-FE36-4312-951C-F6979A6D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D0F6-8AC5-4363-A344-0D443FF4D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4822-E52F-4FD8-90F8-DF1F6145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C93B-FDE3-465D-8245-46EB804B4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F2B-79EA-42A0-8708-8B9D6D4B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36D-D63F-4163-A788-CE66A263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66A0-DADD-4EAA-A275-D0AC6D8C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CA08-3700-47AA-B903-B87E69AD33EF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84A8-903A-4415-9723-AE3E70AD754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2945520" y="3259080"/>
            <a:ext cx="32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2"/>
          <p:cNvPicPr/>
          <p:nvPr/>
        </p:nvPicPr>
        <p:blipFill>
          <a:blip r:embed="rId2"/>
          <a:stretch/>
        </p:blipFill>
        <p:spPr>
          <a:xfrm>
            <a:off x="34920" y="-6984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 flipV="1">
            <a:off x="0" y="5372640"/>
            <a:ext cx="9144000" cy="1484280"/>
          </a:xfrm>
          <a:prstGeom prst="rect">
            <a:avLst/>
          </a:prstGeom>
          <a:solidFill>
            <a:srgbClr val="80808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33200" y="5423040"/>
            <a:ext cx="88711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汉仪娃娃篆简"/>
              </a:rPr>
              <a:t>今天，你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汉仪娃娃篆简"/>
              </a:rPr>
              <a:t>微笑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汉仪娃娃篆简"/>
              </a:rPr>
              <a:t>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08000" y="5373720"/>
            <a:ext cx="887076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6445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28520" y="467352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微笑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5079960" y="393372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836720" y="393372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079960" y="285264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1836720" y="2852640"/>
            <a:ext cx="1871640" cy="5032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079960" y="1844640"/>
            <a:ext cx="1871640" cy="504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836720" y="1844640"/>
            <a:ext cx="1871640" cy="504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219400" y="631800"/>
            <a:ext cx="4944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2880" y="693720"/>
            <a:ext cx="588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微笑上班</a:t>
            </a: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绝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806480" y="180828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乐观心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5105520" y="180828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提升能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1806480" y="285264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管理时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5119560" y="285264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保持健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806480" y="39085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加强沟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5119560" y="3908520"/>
            <a:ext cx="211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把握今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6" descr="5"/>
          <p:cNvPicPr/>
          <p:nvPr/>
        </p:nvPicPr>
        <p:blipFill>
          <a:blip r:embed="rId2"/>
          <a:stretch/>
        </p:blipFill>
        <p:spPr>
          <a:xfrm rot="720000">
            <a:off x="7380360" y="4436640"/>
            <a:ext cx="118404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4"/>
          <p:cNvPicPr/>
          <p:nvPr/>
        </p:nvPicPr>
        <p:blipFill>
          <a:blip r:embed="rId2"/>
          <a:stretch/>
        </p:blipFill>
        <p:spPr>
          <a:xfrm>
            <a:off x="900000" y="2276640"/>
            <a:ext cx="3065400" cy="1996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1300000084627121640859141042"/>
          <p:cNvPicPr/>
          <p:nvPr/>
        </p:nvPicPr>
        <p:blipFill>
          <a:blip r:embed="rId3"/>
          <a:stretch/>
        </p:blipFill>
        <p:spPr>
          <a:xfrm>
            <a:off x="5364000" y="2133720"/>
            <a:ext cx="2816280" cy="20872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4"/>
          <p:cNvSpPr/>
          <p:nvPr/>
        </p:nvSpPr>
        <p:spPr>
          <a:xfrm>
            <a:off x="4140360" y="285444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汉仪娃娃篆简"/>
              </a:rPr>
              <a:t>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279440" y="866880"/>
            <a:ext cx="65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乐观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619280" y="4365720"/>
            <a:ext cx="12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愁眉苦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6229440" y="436572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笑对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619280" y="5157720"/>
            <a:ext cx="614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9900"/>
                </a:solidFill>
                <a:latin typeface="Arial"/>
                <a:ea typeface="汉仪娃娃篆简"/>
              </a:rPr>
              <a:t>我们不能选择工作，但可以选择心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828720" y="1557360"/>
            <a:ext cx="7591320" cy="20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遇到压力时要看到压力后面的动力；遇到挫折时要看到挫折后面的成长，遇到成功时要看到成功后面的失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任何事情都有两个以上的选择，我们要做的是选择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积极的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应对心态。有专家研究，一个乐观系数高的人，在处理问题时，他就会比一般人多出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机会得到满意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正向乐观的态度不仅会平息由环境压力而带来的紊乱情绪，也较能使问题导向</a:t>
            </a:r>
            <a:r>
              <a:rPr b="1" lang="zh-CN" sz="2400" spc="-1" strike="noStrike">
                <a:solidFill>
                  <a:srgbClr val="ff9900"/>
                </a:solidFill>
                <a:latin typeface="Arial"/>
              </a:rPr>
              <a:t>积极正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结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692360" y="83808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、乐观心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8313604_093835684000_2副本"/>
          <p:cNvPicPr/>
          <p:nvPr/>
        </p:nvPicPr>
        <p:blipFill>
          <a:blip r:embed="rId2"/>
          <a:stretch/>
        </p:blipFill>
        <p:spPr>
          <a:xfrm>
            <a:off x="6811920" y="5016600"/>
            <a:ext cx="16081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979640" y="4797360"/>
            <a:ext cx="5256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人们需要快乐</a:t>
            </a: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,</a:t>
            </a:r>
            <a:r>
              <a:rPr b="0" lang="zh-CN" sz="2600" spc="-1" strike="noStrike">
                <a:solidFill>
                  <a:srgbClr val="ff9900"/>
                </a:solidFill>
                <a:latin typeface="汉仪娃娃篆简"/>
                <a:ea typeface="汉仪娃娃篆简"/>
              </a:rPr>
              <a:t>就像需要衣服一样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玛格瑞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科利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格雷厄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2048040" y="981000"/>
            <a:ext cx="51879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044720" y="1557360"/>
            <a:ext cx="766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熟读以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黄金法则，让你快乐长伴，每天以微笑面对工作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42920" y="2635200"/>
            <a:ext cx="766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9900"/>
                </a:solidFill>
                <a:latin typeface="Arial"/>
                <a:ea typeface="汉仪娃娃篆简"/>
              </a:rPr>
              <a:t>今天，你微笑了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8313604_093835684000_2副本"/>
          <p:cNvPicPr/>
          <p:nvPr/>
        </p:nvPicPr>
        <p:blipFill>
          <a:blip r:embed="rId2"/>
          <a:stretch/>
        </p:blipFill>
        <p:spPr>
          <a:xfrm>
            <a:off x="3492360" y="3286080"/>
            <a:ext cx="2592360" cy="2589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908000" y="765000"/>
            <a:ext cx="443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9"/>
          <p:cNvPicPr/>
          <p:nvPr/>
        </p:nvPicPr>
        <p:blipFill>
          <a:blip r:embed="rId2"/>
          <a:stretch/>
        </p:blipFill>
        <p:spPr>
          <a:xfrm>
            <a:off x="2211480" y="3286080"/>
            <a:ext cx="4593960" cy="33130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1260360" y="2349360"/>
            <a:ext cx="667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00"/>
                </a:solidFill>
                <a:latin typeface="Arial"/>
                <a:ea typeface="汉仪娃娃篆简"/>
              </a:rPr>
              <a:t>谢  谢  观  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2DFE-CB49-4534-BE50-D72F5BBD0F7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45:0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