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DA4-F574-4723-A7C0-15614703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BDC-749A-45BD-9E4F-A0ED3CE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939-B693-4FA9-BD32-8AA91D7C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5A6-B8B9-4387-983E-5042C603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D577-1D9D-4A95-B017-614334DF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61C7-08AE-4EA6-A260-153173AB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EAF2-B22B-4AE7-87FA-885F51A0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D153-CCBB-48F3-9DA3-0FCDBF88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E156-3628-4779-BBA1-0FE0C9C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8E38-9C37-4654-9991-E1592630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E5AC-308B-43EE-A989-E75BFA54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A1A-CB8F-4174-AE1B-11ADB2C9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401E-7CB1-4CB1-82B8-00EF7A3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2AAA-8EA9-4DC3-BDFD-5AA3ABF5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E94A-3730-4AB7-B084-D87A169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C229-F408-4870-AAA4-DD6FA38F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B426-A2EF-47CF-ABA2-3D81E2D6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C3F8-33F0-478D-B3B9-6B8962E4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3907-DA76-4849-A402-57C06C29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B2625-3835-4B2E-A70D-C5FDD755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81B4-172C-4F49-A7A8-AFADCDDF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858D-4ED9-4184-BEB3-302B671A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AE7-265B-49B5-A664-B02EB3A2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DDAC-E3BA-4DE2-98AF-45CBD21C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3C06-E65F-4122-AF5C-406D452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635D-189E-47E5-9230-0E6FBF2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80A5C-4E98-47A9-93D4-AF57186C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61DC-98AE-4252-8E96-E9CF9BC1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69FC-C82E-47CD-979C-5E8373A2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2292-0F01-4DA8-85F9-83E4808C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A4A-6AAA-46A8-85BD-E3435667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2D5-FB83-4549-B6E9-BDA074E6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6FD-2608-4CE6-861F-3F949426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00F-F9CA-4AF6-81EF-1991F9B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75A-2B10-49F9-8175-E87048A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66A-54F7-494B-90FC-237AC2A1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36865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36866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36867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36868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36869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36870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36871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915A-5068-4BA8-A45F-D2F7DCB4C0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E9BE-F607-46A5-9B21-98267B01FFB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28A1-18AC-4BBE-9AD1-666357362E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37889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组合 37890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矩形 37891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矩形 37892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组合 37893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矩形 37894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矩形 37895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矩形 37896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矩形 37897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矩形 37898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45F3-CA48-4BD7-8512-438D84670CB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052" descr=""/>
          <p:cNvPicPr/>
          <p:nvPr/>
        </p:nvPicPr>
        <p:blipFill>
          <a:blip r:embed="rId1"/>
          <a:stretch/>
        </p:blipFill>
        <p:spPr>
          <a:xfrm>
            <a:off x="3048120" y="228600"/>
            <a:ext cx="3098520" cy="6350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物质代谢调节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日期占位符 1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79873"/>
          <p:cNvSpPr/>
          <p:nvPr/>
        </p:nvSpPr>
        <p:spPr>
          <a:xfrm>
            <a:off x="838080" y="11430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激素的作用机制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图片 79874" descr="15-1"/>
          <p:cNvPicPr/>
          <p:nvPr/>
        </p:nvPicPr>
        <p:blipFill>
          <a:blip r:embed="rId1"/>
          <a:stretch/>
        </p:blipFill>
        <p:spPr>
          <a:xfrm>
            <a:off x="2743200" y="2276640"/>
            <a:ext cx="64008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79875"/>
          <p:cNvSpPr/>
          <p:nvPr/>
        </p:nvSpPr>
        <p:spPr>
          <a:xfrm>
            <a:off x="304920" y="2362320"/>
            <a:ext cx="2514600" cy="1191240"/>
          </a:xfrm>
          <a:prstGeom prst="rect">
            <a:avLst/>
          </a:prstGeom>
          <a:noFill/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宋体"/>
              </a:rPr>
              <a:t>水溶性激素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肽或蛋白质激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儿茶酚胺类激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文本框 79876"/>
          <p:cNvSpPr/>
          <p:nvPr/>
        </p:nvSpPr>
        <p:spPr>
          <a:xfrm>
            <a:off x="304920" y="4038480"/>
            <a:ext cx="2514600" cy="2389320"/>
          </a:xfrm>
          <a:prstGeom prst="rect">
            <a:avLst/>
          </a:prstGeom>
          <a:noFill/>
          <a:ln cap="sq"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99"/>
                </a:solidFill>
                <a:uFillTx/>
                <a:latin typeface="宋体"/>
              </a:rPr>
              <a:t>脂溶性激素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类固醇激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甲状腺激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3399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3399"/>
                </a:solidFill>
                <a:latin typeface="宋体"/>
              </a:rPr>
              <a:t>OH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）</a:t>
            </a:r>
            <a:r>
              <a:rPr b="1" lang="en-US" sz="2400" spc="-1" strike="noStrike" baseline="-25000">
                <a:solidFill>
                  <a:srgbClr val="ff3399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3399"/>
                </a:solidFill>
                <a:latin typeface="宋体"/>
              </a:rPr>
              <a:t>-D</a:t>
            </a:r>
            <a:r>
              <a:rPr b="1" lang="en-US" sz="2400" spc="-1" strike="noStrike" baseline="-25000">
                <a:solidFill>
                  <a:srgbClr val="ff3399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维甲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79877"/>
          <p:cNvSpPr/>
          <p:nvPr/>
        </p:nvSpPr>
        <p:spPr>
          <a:xfrm>
            <a:off x="3962520" y="3886200"/>
            <a:ext cx="1066680" cy="167652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文本框 79878"/>
          <p:cNvSpPr/>
          <p:nvPr/>
        </p:nvSpPr>
        <p:spPr>
          <a:xfrm>
            <a:off x="4077000" y="5638680"/>
            <a:ext cx="729360" cy="2764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宋体"/>
              </a:rPr>
              <a:t>反式作用因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、激素通过细胞质膜受体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的调节作用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93" name="组合 85005"/>
          <p:cNvGrpSpPr/>
          <p:nvPr/>
        </p:nvGrpSpPr>
        <p:grpSpPr>
          <a:xfrm>
            <a:off x="4114800" y="1828800"/>
            <a:ext cx="3421080" cy="4648320"/>
            <a:chOff x="4114800" y="1828800"/>
            <a:chExt cx="3421080" cy="4648320"/>
          </a:xfrm>
        </p:grpSpPr>
        <p:pic>
          <p:nvPicPr>
            <p:cNvPr id="194" name="图片 84995" descr="11-2"/>
            <p:cNvPicPr/>
            <p:nvPr/>
          </p:nvPicPr>
          <p:blipFill>
            <a:blip r:embed="rId1"/>
            <a:stretch/>
          </p:blipFill>
          <p:spPr>
            <a:xfrm>
              <a:off x="4114800" y="1828800"/>
              <a:ext cx="34210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84996"/>
            <p:cNvSpPr/>
            <p:nvPr/>
          </p:nvSpPr>
          <p:spPr>
            <a:xfrm>
              <a:off x="5257800" y="1905120"/>
              <a:ext cx="685800" cy="228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矩形 84997"/>
            <p:cNvSpPr/>
            <p:nvPr/>
          </p:nvSpPr>
          <p:spPr>
            <a:xfrm>
              <a:off x="5562360" y="2743200"/>
              <a:ext cx="685800" cy="228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矩形 84998"/>
            <p:cNvSpPr/>
            <p:nvPr/>
          </p:nvSpPr>
          <p:spPr>
            <a:xfrm>
              <a:off x="5638680" y="2133720"/>
              <a:ext cx="1219320" cy="457200"/>
            </a:xfrm>
            <a:prstGeom prst="rect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矩形 84999"/>
            <p:cNvSpPr/>
            <p:nvPr/>
          </p:nvSpPr>
          <p:spPr>
            <a:xfrm>
              <a:off x="5181480" y="3200400"/>
              <a:ext cx="1371600" cy="228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矩形 85000"/>
            <p:cNvSpPr/>
            <p:nvPr/>
          </p:nvSpPr>
          <p:spPr>
            <a:xfrm>
              <a:off x="4267080" y="4267080"/>
              <a:ext cx="1447920" cy="228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矩形 85001"/>
            <p:cNvSpPr/>
            <p:nvPr/>
          </p:nvSpPr>
          <p:spPr>
            <a:xfrm>
              <a:off x="5790960" y="4267080"/>
              <a:ext cx="1524240" cy="228600"/>
            </a:xfrm>
            <a:prstGeom prst="rect">
              <a:avLst/>
            </a:pr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矩形 85002"/>
            <p:cNvSpPr/>
            <p:nvPr/>
          </p:nvSpPr>
          <p:spPr>
            <a:xfrm>
              <a:off x="5943600" y="5029200"/>
              <a:ext cx="1218960" cy="228600"/>
            </a:xfrm>
            <a:prstGeom prst="rect">
              <a:avLst/>
            </a:prstGeom>
            <a:noFill/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矩形 85003"/>
            <p:cNvSpPr/>
            <p:nvPr/>
          </p:nvSpPr>
          <p:spPr>
            <a:xfrm>
              <a:off x="4800600" y="5486400"/>
              <a:ext cx="838080" cy="228600"/>
            </a:xfrm>
            <a:prstGeom prst="rect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矩形 85004"/>
            <p:cNvSpPr/>
            <p:nvPr/>
          </p:nvSpPr>
          <p:spPr>
            <a:xfrm>
              <a:off x="6019560" y="5486400"/>
              <a:ext cx="990720" cy="228600"/>
            </a:xfrm>
            <a:prstGeom prst="rect">
              <a:avLst/>
            </a:prstGeom>
            <a:noFill/>
            <a:ln w="763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文本框 85006"/>
          <p:cNvSpPr/>
          <p:nvPr/>
        </p:nvSpPr>
        <p:spPr>
          <a:xfrm>
            <a:off x="1403640" y="2057400"/>
            <a:ext cx="17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激素经酶调节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87049"/>
          <p:cNvGrpSpPr/>
          <p:nvPr/>
        </p:nvGrpSpPr>
        <p:grpSpPr>
          <a:xfrm>
            <a:off x="3657600" y="914400"/>
            <a:ext cx="4533840" cy="5943600"/>
            <a:chOff x="3657600" y="914400"/>
            <a:chExt cx="4533840" cy="5943600"/>
          </a:xfrm>
        </p:grpSpPr>
        <p:pic>
          <p:nvPicPr>
            <p:cNvPr id="207" name="图片 87041" descr="11-3"/>
            <p:cNvPicPr/>
            <p:nvPr/>
          </p:nvPicPr>
          <p:blipFill>
            <a:blip r:embed="rId1"/>
            <a:stretch/>
          </p:blipFill>
          <p:spPr>
            <a:xfrm>
              <a:off x="3657600" y="914400"/>
              <a:ext cx="453384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椭圆 87042"/>
            <p:cNvSpPr/>
            <p:nvPr/>
          </p:nvSpPr>
          <p:spPr>
            <a:xfrm>
              <a:off x="4191120" y="3048120"/>
              <a:ext cx="457200" cy="30456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矩形 87043"/>
            <p:cNvSpPr/>
            <p:nvPr/>
          </p:nvSpPr>
          <p:spPr>
            <a:xfrm>
              <a:off x="5334120" y="3352680"/>
              <a:ext cx="457200" cy="228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矩形 87044"/>
            <p:cNvSpPr/>
            <p:nvPr/>
          </p:nvSpPr>
          <p:spPr>
            <a:xfrm>
              <a:off x="6781680" y="3657600"/>
              <a:ext cx="457200" cy="30492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椭圆 87046"/>
            <p:cNvSpPr/>
            <p:nvPr/>
          </p:nvSpPr>
          <p:spPr>
            <a:xfrm>
              <a:off x="7391520" y="4038480"/>
              <a:ext cx="533160" cy="304920"/>
            </a:xfrm>
            <a:prstGeom prst="ellipse">
              <a:avLst/>
            </a:prstGeom>
            <a:noFill/>
            <a:ln cap="rnd" w="2844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椭圆 87047"/>
            <p:cNvSpPr/>
            <p:nvPr/>
          </p:nvSpPr>
          <p:spPr>
            <a:xfrm>
              <a:off x="5562720" y="3962520"/>
              <a:ext cx="533160" cy="380880"/>
            </a:xfrm>
            <a:prstGeom prst="ellipse">
              <a:avLst/>
            </a:prstGeom>
            <a:noFill/>
            <a:ln cap="rnd" w="1908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椭圆 87048"/>
            <p:cNvSpPr/>
            <p:nvPr/>
          </p:nvSpPr>
          <p:spPr>
            <a:xfrm>
              <a:off x="3886200" y="3962520"/>
              <a:ext cx="533520" cy="304560"/>
            </a:xfrm>
            <a:prstGeom prst="ellipse">
              <a:avLst/>
            </a:prstGeom>
            <a:noFill/>
            <a:ln cap="rnd" w="12600">
              <a:solidFill>
                <a:srgbClr val="ff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文本框 87050"/>
          <p:cNvSpPr/>
          <p:nvPr/>
        </p:nvSpPr>
        <p:spPr>
          <a:xfrm>
            <a:off x="1479960" y="2057400"/>
            <a:ext cx="17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靶蛋白直接磷酸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调节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激素通过细胞内受体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的调节作用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矩形 88074"/>
          <p:cNvSpPr/>
          <p:nvPr/>
        </p:nvSpPr>
        <p:spPr>
          <a:xfrm>
            <a:off x="3830760" y="4113360"/>
            <a:ext cx="660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组合 88080"/>
          <p:cNvGrpSpPr/>
          <p:nvPr/>
        </p:nvGrpSpPr>
        <p:grpSpPr>
          <a:xfrm>
            <a:off x="2209680" y="1752480"/>
            <a:ext cx="4983120" cy="4626000"/>
            <a:chOff x="2209680" y="1752480"/>
            <a:chExt cx="4983120" cy="4626000"/>
          </a:xfrm>
        </p:grpSpPr>
        <p:pic>
          <p:nvPicPr>
            <p:cNvPr id="219" name="图片 88068" descr="16-21"/>
            <p:cNvPicPr/>
            <p:nvPr/>
          </p:nvPicPr>
          <p:blipFill>
            <a:blip r:embed="rId1"/>
            <a:stretch/>
          </p:blipFill>
          <p:spPr>
            <a:xfrm>
              <a:off x="2209680" y="1752480"/>
              <a:ext cx="4983120" cy="46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矩形 88070"/>
            <p:cNvSpPr/>
            <p:nvPr/>
          </p:nvSpPr>
          <p:spPr>
            <a:xfrm>
              <a:off x="4343400" y="1905120"/>
              <a:ext cx="781200" cy="230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矩形 88071"/>
            <p:cNvSpPr/>
            <p:nvPr/>
          </p:nvSpPr>
          <p:spPr>
            <a:xfrm>
              <a:off x="3351240" y="2789280"/>
              <a:ext cx="358920" cy="230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矩形 88072"/>
            <p:cNvSpPr/>
            <p:nvPr/>
          </p:nvSpPr>
          <p:spPr>
            <a:xfrm>
              <a:off x="2570040" y="4344840"/>
              <a:ext cx="360360" cy="171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矩形 88073"/>
            <p:cNvSpPr/>
            <p:nvPr/>
          </p:nvSpPr>
          <p:spPr>
            <a:xfrm>
              <a:off x="5751360" y="5842080"/>
              <a:ext cx="600120" cy="230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矩形 88075"/>
            <p:cNvSpPr/>
            <p:nvPr/>
          </p:nvSpPr>
          <p:spPr>
            <a:xfrm>
              <a:off x="3830760" y="2846520"/>
              <a:ext cx="720720" cy="5191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文本框 88076"/>
            <p:cNvSpPr/>
            <p:nvPr/>
          </p:nvSpPr>
          <p:spPr>
            <a:xfrm>
              <a:off x="4926240" y="2959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转录因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矩形 88077"/>
            <p:cNvSpPr/>
            <p:nvPr/>
          </p:nvSpPr>
          <p:spPr>
            <a:xfrm>
              <a:off x="3770280" y="4056120"/>
              <a:ext cx="781200" cy="519120"/>
            </a:xfrm>
            <a:prstGeom prst="rect">
              <a:avLst/>
            </a:pr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文本框 88078"/>
            <p:cNvSpPr/>
            <p:nvPr/>
          </p:nvSpPr>
          <p:spPr>
            <a:xfrm>
              <a:off x="2673360" y="4800600"/>
              <a:ext cx="1095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转录因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   </a:t>
              </a:r>
              <a:r>
                <a:rPr b="1" lang="en-US" sz="20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顺式作用元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第三节 整体水平的综合调节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体调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液调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系统协调调节几种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激素共同协调调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一、饥饿时的代谢调节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饥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生活、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理情况：昏迷、胃肠道手术后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道疾病、厌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饥饿时机体综合调节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糖浓度的低水平维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提供草酰乙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激素水平的调节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血糖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脂解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胰岛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升血糖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解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胰高血糖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肾上腺皮质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肾上腺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219320" y="3429000"/>
            <a:ext cx="7619760" cy="360"/>
            <a:chOff x="1219320" y="3429000"/>
            <a:chExt cx="7619760" cy="360"/>
          </a:xfrm>
        </p:grpSpPr>
        <p:sp>
          <p:nvSpPr>
            <p:cNvPr id="239" name="直接连接符 95236"/>
            <p:cNvSpPr/>
            <p:nvPr/>
          </p:nvSpPr>
          <p:spPr>
            <a:xfrm>
              <a:off x="1219320" y="3429000"/>
              <a:ext cx="7619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1219320" y="3429000"/>
              <a:ext cx="761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971800" y="3733920"/>
            <a:ext cx="360" cy="304560"/>
            <a:chOff x="2971800" y="3733920"/>
            <a:chExt cx="360" cy="304560"/>
          </a:xfrm>
        </p:grpSpPr>
        <p:sp>
          <p:nvSpPr>
            <p:cNvPr id="242" name="直接连接符 95237"/>
            <p:cNvSpPr/>
            <p:nvPr/>
          </p:nvSpPr>
          <p:spPr>
            <a:xfrm>
              <a:off x="2971800" y="3733920"/>
              <a:ext cx="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97180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467120" y="3657240"/>
            <a:ext cx="360" cy="304920"/>
            <a:chOff x="7467120" y="3657240"/>
            <a:chExt cx="360" cy="304920"/>
          </a:xfrm>
        </p:grpSpPr>
        <p:sp>
          <p:nvSpPr>
            <p:cNvPr id="245" name="直接连接符 95238"/>
            <p:cNvSpPr/>
            <p:nvPr/>
          </p:nvSpPr>
          <p:spPr>
            <a:xfrm flipV="1">
              <a:off x="7467480" y="3657240"/>
              <a:ext cx="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 rot="10800000">
              <a:off x="7467120" y="365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152920" y="4191120"/>
            <a:ext cx="360" cy="304560"/>
            <a:chOff x="8152920" y="4191120"/>
            <a:chExt cx="360" cy="304560"/>
          </a:xfrm>
        </p:grpSpPr>
        <p:sp>
          <p:nvSpPr>
            <p:cNvPr id="248" name="直接连接符 95239"/>
            <p:cNvSpPr/>
            <p:nvPr/>
          </p:nvSpPr>
          <p:spPr>
            <a:xfrm flipV="1">
              <a:off x="8153280" y="4191120"/>
              <a:ext cx="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 rot="10800000">
              <a:off x="8152920" y="41911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162560" y="4723920"/>
            <a:ext cx="360" cy="304920"/>
            <a:chOff x="7162560" y="4723920"/>
            <a:chExt cx="360" cy="304920"/>
          </a:xfrm>
        </p:grpSpPr>
        <p:sp>
          <p:nvSpPr>
            <p:cNvPr id="251" name="直接连接符 95240"/>
            <p:cNvSpPr/>
            <p:nvPr/>
          </p:nvSpPr>
          <p:spPr>
            <a:xfrm flipV="1">
              <a:off x="7162920" y="4723920"/>
              <a:ext cx="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 rot="10800000">
              <a:off x="7162560" y="47239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细胞水平调节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异生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周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葡萄糖利用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酮体利用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脂肪酸分解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蛋白质分解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19320" y="2590920"/>
            <a:ext cx="7696080" cy="360"/>
            <a:chOff x="1219320" y="2590920"/>
            <a:chExt cx="7696080" cy="360"/>
          </a:xfrm>
        </p:grpSpPr>
        <p:sp>
          <p:nvSpPr>
            <p:cNvPr id="258" name="直接连接符 96260"/>
            <p:cNvSpPr/>
            <p:nvPr/>
          </p:nvSpPr>
          <p:spPr>
            <a:xfrm>
              <a:off x="1219320" y="2590920"/>
              <a:ext cx="7696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219320" y="2590920"/>
              <a:ext cx="769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饥饿时机体各组织的供能物质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脂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图片 97283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673520" cy="329256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97284" descr=""/>
          <p:cNvPicPr/>
          <p:nvPr/>
        </p:nvPicPr>
        <p:blipFill>
          <a:blip r:embed="rId2"/>
          <a:stretch/>
        </p:blipFill>
        <p:spPr>
          <a:xfrm>
            <a:off x="304920" y="3425760"/>
            <a:ext cx="3276360" cy="3159360"/>
          </a:xfrm>
          <a:prstGeom prst="rect">
            <a:avLst/>
          </a:prstGeom>
          <a:ln w="0">
            <a:noFill/>
          </a:ln>
        </p:spPr>
      </p:pic>
      <p:sp>
        <p:nvSpPr>
          <p:cNvPr id="26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低血糖临床症状和处置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=2mmol/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心悸、出汗、脸色苍白、心动过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酮症酸中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氮平衡： 明显消耗体质、抵抗力下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处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及时抢救，输入葡萄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宋体"/>
              </a:rPr>
              <a:t>生命存在的三大要素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物质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能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代谢调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日期占位符 1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二、应急时的代谢调节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tr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创伤、手术、缺氧、寒冷、休克、感染、剧烈疼痛、中毒、强烈情绪激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急时的代谢调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液综合整体调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神经水平调节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上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髓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激素释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肾上腺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甲肾上腺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下箭头 100357"/>
          <p:cNvSpPr/>
          <p:nvPr/>
        </p:nvSpPr>
        <p:spPr>
          <a:xfrm>
            <a:off x="3048120" y="26668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激素水平的调节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血糖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脂解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胰岛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升血糖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解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胰高血糖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上腺皮质激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上腺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9320" y="3429000"/>
            <a:ext cx="7619760" cy="360"/>
            <a:chOff x="1219320" y="3429000"/>
            <a:chExt cx="7619760" cy="360"/>
          </a:xfrm>
        </p:grpSpPr>
        <p:sp>
          <p:nvSpPr>
            <p:cNvPr id="280" name="直接连接符 101380"/>
            <p:cNvSpPr/>
            <p:nvPr/>
          </p:nvSpPr>
          <p:spPr>
            <a:xfrm>
              <a:off x="1219320" y="3429000"/>
              <a:ext cx="7619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219320" y="3429000"/>
              <a:ext cx="761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971800" y="3733920"/>
            <a:ext cx="360" cy="304560"/>
            <a:chOff x="2971800" y="3733920"/>
            <a:chExt cx="360" cy="304560"/>
          </a:xfrm>
        </p:grpSpPr>
        <p:sp>
          <p:nvSpPr>
            <p:cNvPr id="283" name="直接连接符 101381"/>
            <p:cNvSpPr/>
            <p:nvPr/>
          </p:nvSpPr>
          <p:spPr>
            <a:xfrm>
              <a:off x="2971800" y="3733920"/>
              <a:ext cx="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297180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467120" y="3657240"/>
            <a:ext cx="360" cy="304920"/>
            <a:chOff x="7467120" y="3657240"/>
            <a:chExt cx="360" cy="304920"/>
          </a:xfrm>
        </p:grpSpPr>
        <p:sp>
          <p:nvSpPr>
            <p:cNvPr id="286" name="直接连接符 101382"/>
            <p:cNvSpPr/>
            <p:nvPr/>
          </p:nvSpPr>
          <p:spPr>
            <a:xfrm flipV="1">
              <a:off x="7467480" y="3657240"/>
              <a:ext cx="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 rot="10800000">
              <a:off x="7467120" y="3657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8152920" y="4191120"/>
            <a:ext cx="360" cy="304560"/>
            <a:chOff x="8152920" y="4191120"/>
            <a:chExt cx="360" cy="304560"/>
          </a:xfrm>
        </p:grpSpPr>
        <p:sp>
          <p:nvSpPr>
            <p:cNvPr id="289" name="直接连接符 101383"/>
            <p:cNvSpPr/>
            <p:nvPr/>
          </p:nvSpPr>
          <p:spPr>
            <a:xfrm flipV="1">
              <a:off x="8153280" y="4191120"/>
              <a:ext cx="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0800000">
              <a:off x="8152920" y="41911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62560" y="4723920"/>
            <a:ext cx="360" cy="304920"/>
            <a:chOff x="7162560" y="4723920"/>
            <a:chExt cx="360" cy="304920"/>
          </a:xfrm>
        </p:grpSpPr>
        <p:sp>
          <p:nvSpPr>
            <p:cNvPr id="292" name="直接连接符 101384"/>
            <p:cNvSpPr/>
            <p:nvPr/>
          </p:nvSpPr>
          <p:spPr>
            <a:xfrm flipV="1">
              <a:off x="7162920" y="4723920"/>
              <a:ext cx="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0800000">
              <a:off x="7162560" y="47239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细胞水平调节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异生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原合成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周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糖利用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酮体利用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脂肪酸分解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蛋白质分解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脂肪合成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19320" y="2590920"/>
            <a:ext cx="7696080" cy="360"/>
            <a:chOff x="1219320" y="2590920"/>
            <a:chExt cx="7696080" cy="360"/>
          </a:xfrm>
        </p:grpSpPr>
        <p:sp>
          <p:nvSpPr>
            <p:cNvPr id="299" name="直接连接符 102404"/>
            <p:cNvSpPr/>
            <p:nvPr/>
          </p:nvSpPr>
          <p:spPr>
            <a:xfrm>
              <a:off x="1219320" y="2590920"/>
              <a:ext cx="7696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1219320" y="2590920"/>
              <a:ext cx="769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219320" y="4648320"/>
            <a:ext cx="7696080" cy="360"/>
            <a:chOff x="1219320" y="4648320"/>
            <a:chExt cx="7696080" cy="360"/>
          </a:xfrm>
        </p:grpSpPr>
        <p:sp>
          <p:nvSpPr>
            <p:cNvPr id="302" name="直接连接符 102405"/>
            <p:cNvSpPr/>
            <p:nvPr/>
          </p:nvSpPr>
          <p:spPr>
            <a:xfrm>
              <a:off x="1219320" y="4648320"/>
              <a:ext cx="7696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219320" y="4648320"/>
              <a:ext cx="769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应急时机体各组织的供能物质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62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葡萄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脂肪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酮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云形标注 103427"/>
          <p:cNvSpPr/>
          <p:nvPr/>
        </p:nvSpPr>
        <p:spPr>
          <a:xfrm>
            <a:off x="4343400" y="1905120"/>
            <a:ext cx="2743200" cy="2057400"/>
          </a:xfrm>
          <a:prstGeom prst="cloudCallout">
            <a:avLst>
              <a:gd name="adj1" fmla="val -79689"/>
              <a:gd name="adj2" fmla="val 233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华文新魏"/>
              </a:rPr>
              <a:t>急中生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代谢调节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质代谢、能量代谢的协调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具有规律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体代谢调节分为三个层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细胞水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激素水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整体水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第一节   细胞水平的调节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调节细胞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布、活性、含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一、酶在细胞内的分隔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第二节  激素水平的调节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矩形 75779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制造分泌    血液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分泌细胞      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</a:rPr>
              <a:t>激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靶细胞  生物学效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第一信使）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受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362320" y="4114800"/>
            <a:ext cx="609480" cy="360"/>
            <a:chOff x="2362320" y="4114800"/>
            <a:chExt cx="609480" cy="360"/>
          </a:xfrm>
        </p:grpSpPr>
        <p:sp>
          <p:nvSpPr>
            <p:cNvPr id="155" name="直接连接符 75780"/>
            <p:cNvSpPr/>
            <p:nvPr/>
          </p:nvSpPr>
          <p:spPr>
            <a:xfrm>
              <a:off x="2362320" y="4114800"/>
              <a:ext cx="60948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2362320" y="41148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343400" y="4114800"/>
            <a:ext cx="685800" cy="360"/>
            <a:chOff x="4343400" y="4114800"/>
            <a:chExt cx="685800" cy="360"/>
          </a:xfrm>
        </p:grpSpPr>
        <p:sp>
          <p:nvSpPr>
            <p:cNvPr id="158" name="直接连接符 75781"/>
            <p:cNvSpPr/>
            <p:nvPr/>
          </p:nvSpPr>
          <p:spPr>
            <a:xfrm>
              <a:off x="4343400" y="4114800"/>
              <a:ext cx="68580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4343400" y="41148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400800" y="4114800"/>
            <a:ext cx="304920" cy="360"/>
            <a:chOff x="6400800" y="4114800"/>
            <a:chExt cx="304920" cy="360"/>
          </a:xfrm>
        </p:grpSpPr>
        <p:sp>
          <p:nvSpPr>
            <p:cNvPr id="161" name="直接连接符 75782"/>
            <p:cNvSpPr/>
            <p:nvPr/>
          </p:nvSpPr>
          <p:spPr>
            <a:xfrm>
              <a:off x="6400800" y="4114800"/>
              <a:ext cx="304920" cy="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6400800" y="41148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666880" y="3581280"/>
            <a:ext cx="360" cy="381240"/>
            <a:chOff x="2666880" y="3581280"/>
            <a:chExt cx="360" cy="381240"/>
          </a:xfrm>
        </p:grpSpPr>
        <p:sp>
          <p:nvSpPr>
            <p:cNvPr id="164" name="直接连接符 75783"/>
            <p:cNvSpPr/>
            <p:nvPr/>
          </p:nvSpPr>
          <p:spPr>
            <a:xfrm>
              <a:off x="2666880" y="3581280"/>
              <a:ext cx="0" cy="38124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666880" y="35812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724280" y="3581280"/>
            <a:ext cx="360" cy="304920"/>
            <a:chOff x="4724280" y="3581280"/>
            <a:chExt cx="360" cy="304920"/>
          </a:xfrm>
        </p:grpSpPr>
        <p:sp>
          <p:nvSpPr>
            <p:cNvPr id="167" name="直接连接符 75784"/>
            <p:cNvSpPr/>
            <p:nvPr/>
          </p:nvSpPr>
          <p:spPr>
            <a:xfrm>
              <a:off x="4724280" y="3581280"/>
              <a:ext cx="0" cy="304920"/>
            </a:xfrm>
            <a:prstGeom prst="line">
              <a:avLst/>
            </a:prstGeom>
            <a:ln cap="sq" w="381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724280" y="35812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激素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矩形 81924"/>
          <p:cNvSpPr/>
          <p:nvPr/>
        </p:nvSpPr>
        <p:spPr>
          <a:xfrm>
            <a:off x="685800" y="2286000"/>
            <a:ext cx="3124080" cy="3276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用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 81925"/>
          <p:cNvSpPr/>
          <p:nvPr/>
        </p:nvSpPr>
        <p:spPr>
          <a:xfrm>
            <a:off x="3733920" y="2286000"/>
            <a:ext cx="3504960" cy="3276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量小作用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特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用迅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激素的受体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ecepto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819520" cy="3352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学本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存在部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25440" y="2017440"/>
            <a:ext cx="4303800" cy="3352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靶细胞质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靶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靶细胞质膜和靶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3657600" cy="388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高度的特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高度的亲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结合的可逆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生物学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66720" y="2057040"/>
            <a:ext cx="4496040" cy="3886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激素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共价键结合（可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结合量成正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中激素的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靶细胞上的受体的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激素与受体的亲和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激素的受体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ecepto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胰岛素主要通过靶细胞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受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挥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胰岛素抵抗的异质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胰岛素抗性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举例：胰岛素调节代谢的作用机制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日期占位符 1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0:39Z</dcterms:created>
  <dc:creator/>
  <dc:description/>
  <cp:keywords>物质 代谢 调节</cp:keywords>
  <dc:language>en-US</dc:language>
  <cp:lastModifiedBy>An</cp:lastModifiedBy>
  <dcterms:modified xsi:type="dcterms:W3CDTF">2016-05-01T00:50:4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