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SN00497A.wav" ContentType="audio/x-wav"/>
  <Override PartName="/ppt/media/image4.png" ContentType="image/png"/>
  <Override PartName="/ppt/media/image8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CA38-BE41-414B-8A21-E5D8A8FD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8ECEB-9872-4F39-B6FE-7083F634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E615-EBCE-4696-9018-755C9177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9B087-CD8D-464C-A508-C588C198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CA1E-E0F9-495F-BBB8-647AE1C7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3E63-3A00-44A7-9B70-4F7A1E09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87D7-C550-4ACE-82E2-20CC3282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D20A-8E26-41CE-972A-3F2BAAB1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0FC7-EDF2-49D8-AFF1-1919B9BA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1673-AD9B-4FBD-A966-23126143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D52B-14C1-4660-B7E4-9B00B164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C051-873E-4819-AA75-E1435ACD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6389-AF16-4C2B-BD4B-8951509A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9BA0-5FCD-49FC-A272-1EF5508E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1FF9-BB0E-4BA5-A151-B1F96367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92B0-1D08-435F-BEB8-4871D88A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834F-1075-4F52-B993-67EA1825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A77C-44E8-4411-98FD-1450D9A3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04D6D-8F29-42B3-B339-099E0914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A25A-1D0B-478A-87E3-519079DC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A44AC-E322-4304-86B6-E39A66E5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2BD6-BA2F-45A0-BA92-4609F146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1222-AEF0-4820-B2F6-4F8E70FF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DDAD-459F-44A0-95BB-1103D9F7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F319-6DC5-4B73-8609-432DD126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2479-1D1B-4D93-B521-9F82FF7A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7DC4-823B-4E4A-ACD6-08409180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E8B9E-28A6-42A9-B61C-FF5FA269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C3723-F815-4ECE-AE1A-8641CBC8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21B2-2753-4008-8FA2-E0260CCA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F5F0-CCE4-4BE0-AAA2-0363C3C3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20B3-CE9D-4F0F-862F-38CC2B77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88A6-1E69-4F8E-8487-312F56E4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8EBB-60C3-4584-AEAC-4E98DDF2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EA736-23CF-4E6A-856E-67034B83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7539-CBD6-47CE-B333-D6A1AC91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3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0481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矩形 20482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矩形 20483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5353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矩形 20484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5353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矩形 20485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矩形 20486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矩形 20487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矩形 20488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矩形 20489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矩形 20490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矩形 20491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5353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矩形 20492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矩形 20493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矩形 20494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矩形 20495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矩形 20496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ff5353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矩形 20497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5353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矩形 20498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矩形 20499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矩形 20500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5353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任意多边形 20501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任意多边形 20502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C9AB-4ACB-44C0-B463-1E9F79900B5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1F5F-C898-4003-A3D9-4565507140B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F82A-0430-4A35-811F-A43DCDF20F0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3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21505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矩形 21506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矩形 21507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5353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矩形 21508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5353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矩形 21509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矩形 21510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矩形 21511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矩形 21512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矩形 21513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矩形 21514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矩形 21515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5353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矩形 21516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矩形 21517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矩形 21518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矩形 21519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矩形 21520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ff5353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矩形 21521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5353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矩形 21522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矩形 21523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矩形 21524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5353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任意多边形 21525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任意多边形 21526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E3B2-CAB0-48FF-A7E8-C052BF0FEE72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SN00497A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ffcc"/>
                </a:solidFill>
                <a:latin typeface="Tahoma"/>
                <a:ea typeface="PMingLiU"/>
              </a:rPr>
              <a:t>新春美食大賞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ahoma"/>
                <a:ea typeface="PMingLiU"/>
              </a:rPr>
              <a:t>作者：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PMingLiU"/>
              </a:rPr>
              <a:t>× × 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ahoma"/>
                <a:ea typeface="PMingLiU"/>
              </a:rPr>
              <a:t>时间：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  <a:ea typeface="PMingLiU"/>
              </a:rPr>
              <a:t>× × 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图片 2053" descr="banger_l"/>
          <p:cNvPicPr/>
          <p:nvPr/>
        </p:nvPicPr>
        <p:blipFill>
          <a:blip r:embed="rId1"/>
          <a:stretch/>
        </p:blipFill>
        <p:spPr>
          <a:xfrm>
            <a:off x="468360" y="765000"/>
            <a:ext cx="1695240" cy="57531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056" descr="banger_l"/>
          <p:cNvPicPr/>
          <p:nvPr/>
        </p:nvPicPr>
        <p:blipFill>
          <a:blip r:embed="rId2"/>
          <a:stretch/>
        </p:blipFill>
        <p:spPr>
          <a:xfrm>
            <a:off x="7164360" y="765000"/>
            <a:ext cx="1695600" cy="5753160"/>
          </a:xfrm>
          <a:prstGeom prst="rect">
            <a:avLst/>
          </a:prstGeom>
          <a:ln w="0">
            <a:noFill/>
          </a:ln>
        </p:spPr>
      </p:pic>
      <p:sp>
        <p:nvSpPr>
          <p:cNvPr id="171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3" name="SN00497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200" spc="-1" strike="noStrike">
                <a:solidFill>
                  <a:srgbClr val="ffffff"/>
                </a:solidFill>
                <a:latin typeface="Arial"/>
              </a:rPr>
              <a:t>油角材料和製造方法 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260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麵粉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5g 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豬油粒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g 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油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g 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炒香白芝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g 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壓碎熟花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g 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砂糖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5g 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砂糖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g 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蛋汁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毫升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矩形 25604"/>
          <p:cNvSpPr/>
          <p:nvPr/>
        </p:nvSpPr>
        <p:spPr>
          <a:xfrm>
            <a:off x="2700360" y="1484280"/>
            <a:ext cx="615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將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75g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麵粉過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加入豬油粒用手指搓入麵     粉中至極幼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加入砂糖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拌勻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逐少加入生油及蛋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拌勻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逐少攪入餘下之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0g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麵粉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輕搓成一不黏手之粉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將餡用料混合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待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桌上灑上乾麵粉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用棍將麵皮輾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分厚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印成小圓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包入適量餡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對摺成半月形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收口鎖邊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用中火油炸透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瀝軟油分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待冷即可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动作按钮: 第一张 25605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200" spc="-1" strike="noStrike">
                <a:solidFill>
                  <a:srgbClr val="ffffff"/>
                </a:solidFill>
                <a:latin typeface="Arial"/>
              </a:rPr>
              <a:t>煎堆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图片 26628" descr="food2s"/>
          <p:cNvPicPr/>
          <p:nvPr/>
        </p:nvPicPr>
        <p:blipFill>
          <a:blip r:embed="rId1"/>
          <a:stretch/>
        </p:blipFill>
        <p:spPr>
          <a:xfrm>
            <a:off x="2195640" y="1773360"/>
            <a:ext cx="4824360" cy="3797280"/>
          </a:xfrm>
          <a:prstGeom prst="rect">
            <a:avLst/>
          </a:prstGeom>
          <a:ln w="0">
            <a:noFill/>
          </a:ln>
        </p:spPr>
      </p:pic>
      <p:sp>
        <p:nvSpPr>
          <p:cNvPr id="221" name="动作按钮: 第一张 26630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200" spc="-1" strike="noStrike">
                <a:solidFill>
                  <a:srgbClr val="ffffff"/>
                </a:solidFill>
                <a:latin typeface="Arial"/>
              </a:rPr>
              <a:t>煎堆材料和製造方法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zh-TW" sz="2800" spc="-1" strike="noStrike">
                <a:solidFill>
                  <a:srgbClr val="ffffff"/>
                </a:solidFill>
                <a:latin typeface="Arial"/>
              </a:rPr>
              <a:t>將所有材料搓勻會發覺很乾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zh-TW" sz="2800" spc="-1" strike="noStrike">
                <a:solidFill>
                  <a:srgbClr val="ffffff"/>
                </a:solidFill>
                <a:latin typeface="Arial"/>
              </a:rPr>
              <a:t>將糯米糰搓成小圓球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zh-TW" sz="2800" spc="-1" strike="noStrike">
                <a:solidFill>
                  <a:srgbClr val="ffffff"/>
                </a:solidFill>
                <a:latin typeface="Arial"/>
              </a:rPr>
              <a:t>再在四週噴水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zh-TW" sz="2800" spc="-1" strike="noStrike">
                <a:solidFill>
                  <a:srgbClr val="ffffff"/>
                </a:solidFill>
                <a:latin typeface="Arial"/>
              </a:rPr>
              <a:t>再沾上芝麻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1" i="1" lang="zh-TW" sz="2800" spc="-1" strike="noStrike">
                <a:solidFill>
                  <a:srgbClr val="ffffff"/>
                </a:solidFill>
                <a:latin typeface="Arial"/>
              </a:rPr>
              <a:t>油燒至約五成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zh-TW" sz="2800" spc="-1" strike="noStrike">
                <a:solidFill>
                  <a:srgbClr val="ffffff"/>
                </a:solidFill>
                <a:latin typeface="Arial"/>
              </a:rPr>
              <a:t>關掉火放煎堆落油鑊浸至半浮起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zh-TW" sz="2800" spc="-1" strike="noStrike">
                <a:solidFill>
                  <a:srgbClr val="ffffff"/>
                </a:solidFill>
                <a:latin typeface="Arial"/>
              </a:rPr>
              <a:t>就可開中火及用平殼輕壓煎堆讓它更彭漲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zh-TW" sz="2800" spc="-1" strike="noStrike">
                <a:solidFill>
                  <a:srgbClr val="ffffff"/>
                </a:solidFill>
                <a:latin typeface="Arial"/>
              </a:rPr>
              <a:t>約壓三數次就可以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zh-TW" sz="2800" spc="-1" strike="noStrike">
                <a:solidFill>
                  <a:srgbClr val="ffffff"/>
                </a:solidFill>
                <a:latin typeface="Arial"/>
              </a:rPr>
              <a:t>直至炸至金黃色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K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文本框 27659"/>
          <p:cNvSpPr/>
          <p:nvPr/>
        </p:nvSpPr>
        <p:spPr>
          <a:xfrm>
            <a:off x="468360" y="1628640"/>
            <a:ext cx="302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糯米粉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斤</a:t>
            </a:r>
            <a:br>
              <a:rPr sz="3200"/>
            </a:b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糖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兩梳打粉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錢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3200"/>
            </a:b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泡打粉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錢</a:t>
            </a:r>
            <a:br>
              <a:rPr sz="3200"/>
            </a:b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水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兩</a:t>
            </a:r>
            <a:br>
              <a:rPr sz="3200"/>
            </a:b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糯米粉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斤</a:t>
            </a:r>
            <a:br>
              <a:rPr sz="3200"/>
            </a:b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糖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兩梳打粉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錢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3200"/>
            </a:b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泡打粉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錢</a:t>
            </a:r>
            <a:br>
              <a:rPr sz="3200"/>
            </a:b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水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1" i="1" lang="zh-TW" sz="3200" spc="-1" strike="noStrike">
                <a:solidFill>
                  <a:srgbClr val="ffffff"/>
                </a:solidFill>
                <a:latin typeface="Tahoma"/>
              </a:rPr>
              <a:t>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动作按钮: 第一张 27660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35847"/>
          <p:cNvSpPr/>
          <p:nvPr/>
        </p:nvSpPr>
        <p:spPr>
          <a:xfrm>
            <a:off x="3276720" y="2708280"/>
            <a:ext cx="172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文本框 35848"/>
          <p:cNvSpPr/>
          <p:nvPr/>
        </p:nvSpPr>
        <p:spPr>
          <a:xfrm>
            <a:off x="3276720" y="292428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9600" spc="-1" strike="noStrike">
                <a:solidFill>
                  <a:srgbClr val="ffffff"/>
                </a:solidFill>
                <a:latin typeface="Tahoma"/>
              </a:rPr>
              <a:t>再見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200" spc="-1" strike="noStrike">
                <a:solidFill>
                  <a:srgbClr val="ffffff"/>
                </a:solidFill>
                <a:latin typeface="Arial"/>
              </a:rPr>
              <a:t>簡介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ff"/>
                </a:solidFill>
                <a:uFillTx/>
                <a:latin typeface="Arial"/>
              </a:rPr>
              <a:t>年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ff"/>
                </a:solidFill>
                <a:uFillTx/>
                <a:latin typeface="Arial"/>
              </a:rPr>
              <a:t>年糕製造方法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ff"/>
                </a:solidFill>
                <a:uFillTx/>
                <a:latin typeface="Arial"/>
              </a:rPr>
              <a:t>蘿蔔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ff"/>
                </a:solidFill>
                <a:uFillTx/>
                <a:latin typeface="Arial"/>
              </a:rPr>
              <a:t>蘿蔔糕材料和製造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ff"/>
                </a:solidFill>
                <a:uFillTx/>
                <a:latin typeface="Arial"/>
              </a:rPr>
              <a:t>全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ff"/>
                </a:solidFill>
                <a:uFillTx/>
                <a:latin typeface="Arial"/>
              </a:rPr>
              <a:t>油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ff"/>
                </a:solidFill>
                <a:uFillTx/>
                <a:latin typeface="Arial"/>
              </a:rPr>
              <a:t>油角材料和製造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ff"/>
                </a:solidFill>
                <a:uFillTx/>
                <a:latin typeface="Arial"/>
              </a:rPr>
              <a:t>煎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ff"/>
                </a:solidFill>
                <a:uFillTx/>
                <a:latin typeface="Arial"/>
              </a:rPr>
              <a:t>煎堆材料和製造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800" spc="-1" strike="noStrike">
                <a:solidFill>
                  <a:srgbClr val="ffffcc"/>
                </a:solidFill>
                <a:latin typeface="Arial"/>
              </a:rPr>
              <a:t>年糕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内容占位符 3076" descr="dimsum_117"/>
          <p:cNvPicPr/>
          <p:nvPr/>
        </p:nvPicPr>
        <p:blipFill>
          <a:blip r:embed="rId1"/>
          <a:stretch/>
        </p:blipFill>
        <p:spPr>
          <a:xfrm>
            <a:off x="2340000" y="2162160"/>
            <a:ext cx="4608360" cy="3719520"/>
          </a:xfrm>
          <a:prstGeom prst="rect">
            <a:avLst/>
          </a:prstGeom>
          <a:ln w="0">
            <a:noFill/>
          </a:ln>
        </p:spPr>
      </p:pic>
      <p:sp>
        <p:nvSpPr>
          <p:cNvPr id="178" name="动作按钮: 第一张 3079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200" spc="-1" strike="noStrike">
                <a:solidFill>
                  <a:srgbClr val="ffffff"/>
                </a:solidFill>
                <a:latin typeface="Arial"/>
              </a:rPr>
              <a:t>年糕製造方法  </a:t>
            </a:r>
            <a:r>
              <a:rPr b="1" i="1" lang="en-US" sz="4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i="1" lang="zh-TW" sz="3200" spc="-1" strike="noStrike">
                <a:solidFill>
                  <a:srgbClr val="ffffff"/>
                </a:solidFill>
                <a:latin typeface="Arial"/>
              </a:rPr>
              <a:t>將片糖加水煮溶待凍，待凍後加入椰槳、薑汁用格篩過去什質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zh-TW" sz="3200" spc="-1" strike="noStrike">
                <a:solidFill>
                  <a:srgbClr val="ffffff"/>
                </a:solidFill>
                <a:latin typeface="Arial"/>
              </a:rPr>
              <a:t>加入糯米粉和澄麵中（粉要篩過），用筷子攪勻用隔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i="1" lang="zh-TW" sz="3200" spc="-1" strike="noStrike">
                <a:solidFill>
                  <a:srgbClr val="ffffff"/>
                </a:solidFill>
                <a:latin typeface="Arial"/>
              </a:rPr>
              <a:t>次，粉會滑一點。直至挑起粉槳即瀉下為合。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zh-TW" sz="3200" spc="-1" strike="noStrike">
                <a:solidFill>
                  <a:srgbClr val="ffffff"/>
                </a:solidFill>
                <a:latin typeface="Arial"/>
              </a:rPr>
              <a:t>倒入已塗油之糕盆內，隔水蒸約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zh-TW" sz="3200" spc="-1" strike="noStrike">
                <a:solidFill>
                  <a:srgbClr val="ffffff"/>
                </a:solidFill>
                <a:latin typeface="Arial"/>
              </a:rPr>
              <a:t>小時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动作按钮: 第一张 614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200" spc="-1" strike="noStrike">
                <a:solidFill>
                  <a:srgbClr val="ffffff"/>
                </a:solidFill>
                <a:latin typeface="Arial"/>
              </a:rPr>
              <a:t>蘿蔔糕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5" name="内容占位符 14340" descr="20030124_cnypuddng2"/>
          <p:cNvPicPr/>
          <p:nvPr/>
        </p:nvPicPr>
        <p:blipFill>
          <a:blip r:embed="rId1"/>
          <a:stretch/>
        </p:blipFill>
        <p:spPr>
          <a:xfrm>
            <a:off x="2340000" y="2422440"/>
            <a:ext cx="4746600" cy="3564000"/>
          </a:xfrm>
          <a:prstGeom prst="rect">
            <a:avLst/>
          </a:prstGeom>
          <a:ln w="0">
            <a:noFill/>
          </a:ln>
        </p:spPr>
      </p:pic>
      <p:sp>
        <p:nvSpPr>
          <p:cNvPr id="186" name="动作按钮: 第一张 14343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200" spc="-1" strike="noStrike">
                <a:solidFill>
                  <a:srgbClr val="ffffff"/>
                </a:solidFill>
                <a:latin typeface="Arial"/>
              </a:rPr>
              <a:t>蘿蔔糕材料和製造方法 </a:t>
            </a:r>
            <a:r>
              <a:rPr b="1" i="1" lang="en-US" sz="4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蘿蔔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ingLiU"/>
              </a:rPr>
              <a:t>5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粘米粉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ingLiU"/>
              </a:rPr>
              <a:t>500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蝦米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ingLiU"/>
              </a:rPr>
              <a:t>1/2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冬菇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ingLiU"/>
              </a:rPr>
              <a:t>4-5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白芝麻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ingLiU"/>
              </a:rPr>
              <a:t>2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湯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蔥、芫茜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ingLiU"/>
              </a:rPr>
              <a:t>(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切碎裝飾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ingLiU"/>
              </a:rPr>
              <a:t>)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MingLiU"/>
              </a:rPr>
              <a:t>適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蝦米切碎粒浸軟、冬菇去蒂用水浸軟，加一片薑一條蔥（可不加）放入鑊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分鐘，蒸汁留用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蝦米白鑊炒至乾身、白芝麻白鑊炒至金黃色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冬菇切細粒或絲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蘿蔔刨絲，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杯水和調味料用鑊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分鐘（小心不要煮到底部的蘿蔔變黃，否則出來的糕會帶黃色）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將煮蘿蔔的水盡量取出，蘿蔔繼續留在鑊中，轉為最細火，放入蝦米及冬菇絲放入撈勻，再分數次將蒸汁倒入和粘米粉篩入，不斷的攪拌，如覺水不夠，便遂小加入蘿蔔水，直至你認為合適的硬度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粉糰調好便可以放入已塗油的盤中，舖平，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分鐘後，灑入蔥粒、芫茜碎，再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分鐘便成。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动作按钮: 第一张 22531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200" spc="-1" strike="noStrike">
                <a:solidFill>
                  <a:srgbClr val="ffffff"/>
                </a:solidFill>
                <a:latin typeface="Arial"/>
              </a:rPr>
              <a:t>全盒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3" name="内容占位符 7172" descr="eatbox"/>
          <p:cNvPicPr/>
          <p:nvPr/>
        </p:nvPicPr>
        <p:blipFill>
          <a:blip r:embed="rId1"/>
          <a:stretch/>
        </p:blipFill>
        <p:spPr>
          <a:xfrm>
            <a:off x="971640" y="3429000"/>
            <a:ext cx="7200720" cy="252900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7176"/>
          <p:cNvSpPr/>
          <p:nvPr/>
        </p:nvSpPr>
        <p:spPr>
          <a:xfrm>
            <a:off x="1476360" y="1844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ff"/>
                </a:solidFill>
                <a:latin typeface="PMingLiU"/>
              </a:rPr>
              <a:t>哇</a:t>
            </a:r>
            <a:r>
              <a:rPr b="1" i="1" lang="en-US" sz="3200" spc="-1" strike="noStrike">
                <a:solidFill>
                  <a:srgbClr val="ffffff"/>
                </a:solidFill>
                <a:latin typeface="PMingLiU"/>
              </a:rPr>
              <a:t>!</a:t>
            </a:r>
            <a:r>
              <a:rPr b="1" i="1" lang="zh-TW" sz="3200" spc="-1" strike="noStrike">
                <a:solidFill>
                  <a:srgbClr val="ffffff"/>
                </a:solidFill>
                <a:latin typeface="PMingLiU"/>
              </a:rPr>
              <a:t>裏</a:t>
            </a:r>
            <a:r>
              <a:rPr b="1" i="1" lang="zh-TW" sz="3200" spc="-1" strike="noStrike">
                <a:solidFill>
                  <a:srgbClr val="ffffff"/>
                </a:solidFill>
                <a:latin typeface="Arial"/>
              </a:rPr>
              <a:t>面有好多食物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!!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TW" sz="1800" spc="-1" strike="noStrike" u="sng">
                <a:solidFill>
                  <a:srgbClr val="ffffff"/>
                </a:solidFill>
                <a:uFillTx/>
                <a:latin typeface="Tahoma"/>
              </a:rPr>
              <a:t>請</a:t>
            </a:r>
            <a:r>
              <a:rPr b="0" lang="zh-TW" sz="1800" spc="-1" strike="noStrike" u="sng">
                <a:solidFill>
                  <a:srgbClr val="ffffff"/>
                </a:solidFill>
                <a:uFillTx/>
                <a:latin typeface="Tahoma"/>
              </a:rPr>
              <a:t>按一下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文本框 7178"/>
          <p:cNvSpPr/>
          <p:nvPr/>
        </p:nvSpPr>
        <p:spPr>
          <a:xfrm>
            <a:off x="1116000" y="1916280"/>
            <a:ext cx="6337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动作按钮: 第一张 7214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200" spc="-1" strike="noStrike">
                <a:solidFill>
                  <a:srgbClr val="ffffff"/>
                </a:solidFill>
                <a:latin typeface="Arial"/>
              </a:rPr>
              <a:t>例如：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内容占位符 9225" descr="wrd41110b_pic"/>
          <p:cNvPicPr/>
          <p:nvPr/>
        </p:nvPicPr>
        <p:blipFill>
          <a:blip r:embed="rId1"/>
          <a:stretch/>
        </p:blipFill>
        <p:spPr>
          <a:xfrm>
            <a:off x="250920" y="3284640"/>
            <a:ext cx="2808360" cy="21859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952360" y="1655640"/>
            <a:ext cx="52563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......</a:t>
            </a: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瓜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......</a:t>
            </a: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图片 9222" descr="ccff5f98e126983218fafbddf37ded0d"/>
          <p:cNvPicPr/>
          <p:nvPr/>
        </p:nvPicPr>
        <p:blipFill>
          <a:blip r:embed="rId2"/>
          <a:stretch/>
        </p:blipFill>
        <p:spPr>
          <a:xfrm>
            <a:off x="250920" y="119700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202" name="内容占位符 9229" descr="e84e9b96c4a819fb18d48324f81df3c7"/>
          <p:cNvPicPr/>
          <p:nvPr/>
        </p:nvPicPr>
        <p:blipFill>
          <a:blip r:embed="rId3"/>
          <a:stretch/>
        </p:blipFill>
        <p:spPr>
          <a:xfrm>
            <a:off x="4788000" y="981000"/>
            <a:ext cx="2158920" cy="202428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9231"/>
          <p:cNvSpPr/>
          <p:nvPr/>
        </p:nvSpPr>
        <p:spPr>
          <a:xfrm>
            <a:off x="7236000" y="1557360"/>
            <a:ext cx="1908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文本框 9240"/>
          <p:cNvSpPr/>
          <p:nvPr/>
        </p:nvSpPr>
        <p:spPr>
          <a:xfrm>
            <a:off x="7288200" y="1076400"/>
            <a:ext cx="146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图片 9245" descr="food5s"/>
          <p:cNvPicPr/>
          <p:nvPr/>
        </p:nvPicPr>
        <p:blipFill>
          <a:blip r:embed="rId4"/>
          <a:stretch/>
        </p:blipFill>
        <p:spPr>
          <a:xfrm>
            <a:off x="4500720" y="3284640"/>
            <a:ext cx="2449440" cy="2077920"/>
          </a:xfrm>
          <a:prstGeom prst="rect">
            <a:avLst/>
          </a:prstGeom>
          <a:ln w="0">
            <a:noFill/>
          </a:ln>
        </p:spPr>
      </p:pic>
      <p:sp>
        <p:nvSpPr>
          <p:cNvPr id="206" name="矩形 9246"/>
          <p:cNvSpPr/>
          <p:nvPr/>
        </p:nvSpPr>
        <p:spPr>
          <a:xfrm>
            <a:off x="6804000" y="3933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......</a:t>
            </a: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糖蓮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矩形 9247"/>
          <p:cNvSpPr/>
          <p:nvPr/>
        </p:nvSpPr>
        <p:spPr>
          <a:xfrm>
            <a:off x="6877080" y="1773360"/>
            <a:ext cx="19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MingLiU"/>
              </a:rPr>
              <a:t>......</a:t>
            </a:r>
            <a:r>
              <a:rPr b="1" lang="zh-TW" sz="3200" spc="-1" strike="noStrike">
                <a:solidFill>
                  <a:srgbClr val="ffffff"/>
                </a:solidFill>
                <a:latin typeface="PMingLiU"/>
              </a:rPr>
              <a:t>糖蓮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动作按钮: 第一张 9248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200" spc="-1" strike="noStrike">
                <a:solidFill>
                  <a:srgbClr val="ffffff"/>
                </a:solidFill>
                <a:latin typeface="Arial"/>
              </a:rPr>
              <a:t>油角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内容占位符 23556" descr="kok"/>
          <p:cNvPicPr/>
          <p:nvPr/>
        </p:nvPicPr>
        <p:blipFill>
          <a:blip r:embed="rId1"/>
          <a:stretch/>
        </p:blipFill>
        <p:spPr>
          <a:xfrm>
            <a:off x="1692360" y="1989000"/>
            <a:ext cx="5688000" cy="4084920"/>
          </a:xfrm>
          <a:prstGeom prst="rect">
            <a:avLst/>
          </a:prstGeom>
          <a:ln w="0">
            <a:noFill/>
          </a:ln>
        </p:spPr>
      </p:pic>
      <p:sp>
        <p:nvSpPr>
          <p:cNvPr id="212" name="动作按钮: 第一张 23559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6267" y="3837"/>
                </a:moveTo>
                <a:lnTo>
                  <a:pt x="18844" y="6448"/>
                </a:ln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lnTo>
                  <a:pt x="23230" y="10800"/>
                </a:lnTo>
                <a:lnTo>
                  <a:pt x="21577" y="10800"/>
                </a:lnTo>
                <a:lnTo>
                  <a:pt x="21577" y="17989"/>
                </a:lnTo>
                <a:lnTo>
                  <a:pt x="10958" y="17989"/>
                </a:lnTo>
                <a:lnTo>
                  <a:pt x="10958" y="10800"/>
                </a:lnTo>
                <a:lnTo>
                  <a:pt x="9304" y="10800"/>
                </a:lnTo>
                <a:close/>
              </a:path>
              <a:path fill="darkenLess" w="32535" h="21600">
                <a:moveTo>
                  <a:pt x="18844" y="6448"/>
                </a:moveTo>
                <a:lnTo>
                  <a:pt x="18844" y="4707"/>
                </a:lnTo>
                <a:lnTo>
                  <a:pt x="20619" y="4707"/>
                </a:lnTo>
                <a:lnTo>
                  <a:pt x="20619" y="8224"/>
                </a:lnTo>
                <a:close/>
              </a:path>
              <a:path fill="darkenLess" w="32535" h="21600">
                <a:moveTo>
                  <a:pt x="15345" y="14299"/>
                </a:moveTo>
                <a:lnTo>
                  <a:pt x="17190" y="14299"/>
                </a:lnTo>
                <a:lnTo>
                  <a:pt x="17190" y="17989"/>
                </a:lnTo>
                <a:lnTo>
                  <a:pt x="21577" y="17989"/>
                </a:lnTo>
                <a:lnTo>
                  <a:pt x="21577" y="10800"/>
                </a:lnTo>
                <a:lnTo>
                  <a:pt x="10958" y="10800"/>
                </a:lnTo>
                <a:lnTo>
                  <a:pt x="10958" y="17989"/>
                </a:lnTo>
                <a:lnTo>
                  <a:pt x="1534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5:01Z</dcterms:created>
  <dc:creator/>
  <dc:description/>
  <cp:keywords>新春 美食 大賞</cp:keywords>
  <dc:language>en-US</dc:language>
  <cp:lastModifiedBy>An</cp:lastModifiedBy>
  <dcterms:modified xsi:type="dcterms:W3CDTF">2016-05-01T00:45:0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