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CFD-643D-4CE8-83FB-C12BBBFE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1A7-9402-4700-9862-3FCE8FC2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D2E-E423-4235-8A2A-0F0096DF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4D4-A644-41CB-8A24-61222E89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79AD-AAB2-4B81-8959-C380C834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8B8D-D492-49E9-9E62-5C53E201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2E44-D9AE-4133-909D-E7100BF4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8139-513A-41C1-B819-D05C1D1C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11A4-2631-4224-B131-8ACB0A1A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11AF-092F-4D54-8B8D-D63F4FC1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EAB7-F51A-46C6-AEDC-352022C7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F33D-7515-405A-B6AB-F772CED8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7EFF-5C94-4DD7-9ED3-B2F64BD9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69B8-301C-4A9C-A6DC-0386CBC8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2FA4-7EF2-45C1-886B-97E214D7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5EDF-6C9C-43BE-93EE-6344F8AB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864E-DB33-441E-9EE5-2A591CB0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1E971-4120-4048-93C7-EDDB3DAB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D0EF5-2A99-4CB1-9D5D-10D3C765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C24C9-5C19-4F1C-909F-13E38170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20CD6-B38D-4EC7-A7BD-1411E1B9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34843-8B97-4733-98BF-F3675325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9883-762D-4CF8-8B72-1E6A36F2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26EFE-1F09-4CAB-BD29-AC692ADD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12705-D0FC-449B-8BA3-49B33F69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43904-6872-44B1-8003-F241FB01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889AE-8AD7-424D-9F4C-683DE01E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1972E-E084-44FE-892A-44E197E3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41510-A074-418A-B386-99F55438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14A4C-D96E-4460-8917-301C0B2A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F6038-5187-4DCA-A45E-6256431D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42360-93D1-4479-BFAE-03A919BB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A203C-4608-49A8-87C8-E0FC2DB2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062-0066-436F-B141-25DC9833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80F68-5215-4E26-A0A1-48C36182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1BE6F-889D-4A05-8D07-2EDFF5A9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EE4F0-AF55-4E79-BBB1-30F39431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54BF5-8CFB-40A5-9624-A4972476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FA610-9E1B-4C95-B8BB-BD2DA5BA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E9EAB-2389-4201-8BF2-8E4B76CA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B94F9-BB88-48B0-9225-54F5EC5E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9FA35-B11F-47C0-85EF-E3511EAA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E23CD-1087-4173-98BD-AB14DAC9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6696-7A67-45DD-96DC-406A04A1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DAAE-3719-4CFF-8837-003CE02F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487-0DD1-4653-92AA-152F4F96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1986-E755-4CAA-ACAA-13A268F3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FDF-3CB0-4CDB-987C-E9497570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240"/>
              <a:ext cx="3400560" cy="28641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600"/>
              <a:ext cx="2770200" cy="25038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B216-530E-46CE-951C-7483DCF6B5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3F8E-DD57-428C-81A7-A68B5A4827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81CB-4E8F-4DA8-A122-0D97261CD7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4090-A28D-49DB-A1A4-2C714CDEBB2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38/" TargetMode="External"/><Relationship Id="rId8" Type="http://schemas.openxmlformats.org/officeDocument/2006/relationships/hyperlink" Target="http://www.1ppt.com/kejian/yuwen/160/" TargetMode="External"/><Relationship Id="rId9" Type="http://schemas.openxmlformats.org/officeDocument/2006/relationships/hyperlink" Target="http://www.1ppt.com/kejian/yuwen/161/" TargetMode="External"/><Relationship Id="rId10" Type="http://schemas.openxmlformats.org/officeDocument/2006/relationships/hyperlink" Target="http://www.1ppt.com/kejian/yuwen/162/" TargetMode="External"/><Relationship Id="rId11" Type="http://schemas.openxmlformats.org/officeDocument/2006/relationships/hyperlink" Target="http://www.1ppt.com/kejian/yuwen/163/" TargetMode="External"/><Relationship Id="rId12" Type="http://schemas.openxmlformats.org/officeDocument/2006/relationships/hyperlink" Target="http://www.1ppt.com/kejian/yuwen/164/" TargetMode="External"/><Relationship Id="rId13" Type="http://schemas.openxmlformats.org/officeDocument/2006/relationships/hyperlink" Target="http://www.1ppt.com/kejian/yuwen/165/" TargetMode="External"/><Relationship Id="rId14" Type="http://schemas.openxmlformats.org/officeDocument/2006/relationships/hyperlink" Target="http://www.1ppt.com/" TargetMode="External"/><Relationship Id="rId15" Type="http://schemas.openxmlformats.org/officeDocument/2006/relationships/hyperlink" Target="http://www.1ppt.com/kejian/yuwen/166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hyperlink" Target="http://www.1ppt.com/kejian/yuwen/167/" TargetMode="External"/><Relationship Id="rId20" Type="http://schemas.openxmlformats.org/officeDocument/2006/relationships/hyperlink" Target="http://imgsrc.baidu.com/baike/pic/item/4bd1e8038c5b5b5f3812bb25.jpg" TargetMode="External"/><Relationship Id="rId21" Type="http://schemas.openxmlformats.org/officeDocument/2006/relationships/image" Target="../media/image5.jpeg"/><Relationship Id="rId2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src.baidu.com/baike/pic/item/4bd1e8038c5b5b5f3812bb25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1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3651120" cy="4016520"/>
          </a:xfrm>
          <a:prstGeom prst="rect">
            <a:avLst/>
          </a:prstGeom>
          <a:ln w="0">
            <a:noFill/>
          </a:ln>
        </p:spPr>
      </p:pic>
      <p:pic>
        <p:nvPicPr>
          <p:cNvPr id="173" name="课前.mp3" descr=""/>
          <p:cNvPicPr/>
          <p:nvPr/>
        </p:nvPicPr>
        <p:blipFill>
          <a:blip r:embed="rId3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52280" y="61722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77600" y="990720"/>
            <a:ext cx="17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《鞋匠的儿子》公开课课件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9488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33520" y="2590920"/>
            <a:ext cx="8001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填一填：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　　在参议员们的眼里，当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统的应该是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_________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而不应该是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________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85800" y="380880"/>
            <a:ext cx="74674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读课文第一段，思考：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林肯当选美国总统，议员们为什么感到尴尬？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自读课文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黑体"/>
              </a:rPr>
              <a:t>,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思考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黑体"/>
              </a:rPr>
              <a:t>: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林肯演讲前后，参议员的态度发生了怎样的变化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黑体"/>
              </a:rPr>
              <a:t>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19320" y="426708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尴尬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1752480" y="563868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黑体"/>
              </a:rPr>
              <a:t>——</a:t>
            </a:r>
            <a:r>
              <a:rPr b="1" lang="zh-CN" sz="48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静默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4800600" y="55627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黑体"/>
              </a:rPr>
              <a:t>——</a:t>
            </a:r>
            <a:r>
              <a:rPr b="1" lang="zh-CN" sz="48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赞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5410080" y="434340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黑体"/>
              </a:rPr>
              <a:t>——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大笑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2743200" y="42670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黑体"/>
              </a:rPr>
              <a:t>——</a:t>
            </a:r>
            <a:r>
              <a:rPr b="1" lang="zh-CN" sz="4800" spc="-1" strike="noStrike" u="sng">
                <a:solidFill>
                  <a:srgbClr val="ffff00"/>
                </a:solidFill>
                <a:uFillTx/>
                <a:latin typeface="Arial"/>
              </a:rPr>
              <a:t>羞辱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学习导航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黑体"/>
              </a:rPr>
              <a:t>: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、读课文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3—5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自然段，划出林肯的话，抓住关键词句在旁边写上感受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、在小组内交流，说说林肯给你留下了什么印象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61722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我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非常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感激你使我想起我的父亲。他已经过世了。我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定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会永远记住你的忠告， 我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永远是鞋匠的儿子。我知道我做总统，永远无法像父亲做鞋匠那样做得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那么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好 。”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1752480" y="236232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永远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3217320" y="3886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永远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779040" y="3124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永远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0" y="601992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宽宏大度的胸襟  对父亲的尊敬、爱戴和感激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虽然我不是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伟大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的鞋匠，但我从小就跟父亲学到了做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鞋子的艺术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但是有一件事是可以确定的， 我无法像我父亲那么伟大，他的手艺是无人能比的。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2438280" y="2057400"/>
            <a:ext cx="14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艺术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3293640" y="5029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手艺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876920" y="609480"/>
            <a:ext cx="154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伟大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876920" y="502920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无人能比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课中.mp3" descr=""/>
          <p:cNvPicPr/>
          <p:nvPr/>
        </p:nvPicPr>
        <p:blipFill>
          <a:blip r:embed="rId2"/>
          <a:stretch/>
        </p:blipFill>
        <p:spPr>
          <a:xfrm>
            <a:off x="7848720" y="6019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3"/>
          <p:cNvSpPr/>
          <p:nvPr/>
        </p:nvSpPr>
        <p:spPr>
          <a:xfrm>
            <a:off x="4648320" y="2286000"/>
            <a:ext cx="35812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勤劳俭朴  不亢不卑的作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3886200" y="5943600"/>
            <a:ext cx="29718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谦逊朴实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264315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一个裂开的房子是站立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不住的， 我不希望这个房子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塌下去。”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“我所希望的是它结束分裂，它应该成为一个完整的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整体。”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590920" y="5181480"/>
            <a:ext cx="601956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爱心  仁慈  高瞻远瞩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609480" y="304920"/>
            <a:ext cx="79250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这篇文章中，你看出林肯是个怎样的人？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85800" y="1905120"/>
            <a:ext cx="7772400" cy="216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襟怀坦荡   仁爱正义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宽容大度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762120" y="4419720"/>
            <a:ext cx="76960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林肯的伟大不仅在于打赢了南北战争，维护了美国的同意，而且在于他独特的精神力量和伟大的人格魅力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61722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609480" y="1600200"/>
            <a:ext cx="8153640" cy="16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启示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宽容是一种力量。当我们掌握并能运用这种力量时，就会显得自信和强大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它不是软弱，而是刚强和坚韧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课后作业</a:t>
            </a:r>
            <a:r>
              <a:rPr b="0" i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: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读读美国诗人惠特曼的诗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黑体"/>
              </a:rPr>
              <a:t>《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啊，船长，我的船长啊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黑体"/>
              </a:rPr>
              <a:t>》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搜集林肯生平小故事，在同学间交流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09480" y="17524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尴尬      辱       豫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276720" y="3276720"/>
            <a:ext cx="5410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侮辱           犹豫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羞辱           豫州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228600" y="152280"/>
            <a:ext cx="2743200" cy="83844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28600" y="3049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检查预习情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60199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ppt课件模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eeppt.com/moban/kejian/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2CCE8-FEC9-4963-8393-69D7E3F727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143000" y="1523880"/>
            <a:ext cx="76201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参议院   尴尬    鞋匠   卑微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羞辱       开怀不已       静默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名门望族   傲慢    改善   赞叹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毫不犹豫  武器   维护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6"/>
          <p:cNvSpPr/>
          <p:nvPr/>
        </p:nvSpPr>
        <p:spPr>
          <a:xfrm>
            <a:off x="1295280" y="198108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2"/>
              </a:rPr>
              <a:t>www.1ppt.com/kejian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3"/>
              </a:rPr>
              <a:t>www.1ppt.com/kejian/yuwen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4"/>
              </a:rPr>
              <a:t>www.1ppt.com/kejian/shuxue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5"/>
              </a:rPr>
              <a:t>www.1ppt.com/kejian/yingyu/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6"/>
              </a:rPr>
              <a:t>www.1ppt.com/kejian/yuwen/138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7"/>
              </a:rPr>
              <a:t>/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8"/>
              </a:rPr>
              <a:t>www.1ppt.com/kejian/yuwen/160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9"/>
              </a:rPr>
              <a:t>www.1ppt.com/kejian/yuwen/161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0"/>
              </a:rPr>
              <a:t>www.1ppt.com/kejian/yuwen/162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1"/>
              </a:rPr>
              <a:t>www.1ppt.com/kejian/yuwen/163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2"/>
              </a:rPr>
              <a:t>www.1ppt.com/kejian/yuwen/164/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3"/>
              </a:rPr>
              <a:t>www.1ppt.com/kejian/yuwen/165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4"/>
              </a:rPr>
              <a:t>www.1ppt.com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5"/>
              </a:rPr>
              <a:t>/kejian/yuwen/166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6"/>
              </a:rPr>
              <a:t>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7"/>
              </a:rPr>
              <a:t>www.1ppt.com/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8"/>
              </a:rPr>
              <a:t>kejian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9"/>
              </a:rPr>
              <a:t>/yuwen/167/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4bd1e8038c5b5b5f3812bb25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304920" y="1219320"/>
            <a:ext cx="2798640" cy="4114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3505320" y="144792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亚伯拉罕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林肯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Abraham Lincoln,1809-1865),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政治家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任美国总统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任期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186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日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186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日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是首位美国共和党籍总统，也是历史上首名遇刺身亡的总统。　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林肯上任后不久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南方奴隶主对他    “人人平等”的政治主张非常排斥，企图分裂，挑起了南北战争。在这场战争中，林肯凭借自己非凡的毅力和决心履行了自己的职责。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186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年林肯亲自领导人民同南方奴隶主进行了坚决斗争。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186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年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月，林肯发布了著名的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解放黑奴宣言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，宣布废除奴隶制。南北战争的胜利，标志着奴隶制的彻底崩溃，它维护了国家的统一，推动了国家的发展。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181B8-2498-4DF6-AAF6-D50F8DA4B6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200400" y="304920"/>
            <a:ext cx="59436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6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日晚，林肯在华盛顿的福特剧院遇刺身亡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日，林肯葬于橡树岭公墓。林肯领导美国人民维护了国家统一，废除了奴隶制，为资本主义的发展扫除了障碍，促进了美国历史的发展，一百多年来，受到美国人民的尊敬。由于林肯在美国历史上所起的进步作用，人们称赞他为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新时代国家统治者的楷模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”。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亚伯拉罕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林肯是美国第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6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任总统，是世界历史中最伟大的人物之一，领导了拯救联邦和结束奴隶制度的伟大斗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。人们怀念他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正直、仁慈、和坚强的个性，他一直是美国历史上最受人景仰的总统之一。尽管他只受过一点儿初级教育，担任公职的经验也很少，然而，他那敏锐的洞察力和深厚的人道主义意识，使他成了美国历史上最伟大的总统。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4bd1e8038c5b5b5f3812bb2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1295280"/>
            <a:ext cx="2799000" cy="4114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61722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他不会被困难所吓倒，不会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为成功所迷惑 ，他不屈不挠地迈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向自己的伟大目标，而从不轻举妄动，他稳步向前，而从不倒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黑体"/>
              </a:rPr>
              <a:t>……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总之，他是一位达到了伟大境界而仍然保持自己优良品质的罕有的人物。”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马克思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12:22:35Z</dcterms:created>
  <dc:creator/>
  <dc:description/>
  <cp:keywords>幻灯片之家 http:/www.eeppt.com</cp:keywords>
  <dc:language>en-US</dc:language>
  <cp:lastModifiedBy/>
  <dcterms:modified xsi:type="dcterms:W3CDTF">2015-07-20T01:51:53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