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3A2-D1E8-4C5C-9CE9-6DEBC87B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086-7883-4661-BD2B-D4FEC9E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D83-A423-4C4C-B331-208CECEA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B6F-685B-4BBB-B624-49045F9F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992-693E-4A1D-A5E7-47911C48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DB5-B47A-4E44-BB3C-7B9E2A9D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554-CD33-4851-B2A7-B3154961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C42-9EB4-4DFA-988F-A9144F3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5D0-011E-4E0F-8F54-64A238D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BEC-8736-4914-AC3A-EB88D837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AE8-65CF-4834-8CC9-F40F1ECA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A18-AAD1-4A9F-950B-BD548097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07B7-88AF-47BC-ACFF-E543B493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27F-D3A4-4CF5-9A64-5C51E011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1F9-0BF7-4041-9B0F-C348E1DB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7B8E-21A4-4E76-B403-00F2A914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8097-C441-4D76-8116-4C1ED9AF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97D9-FDC0-421A-8996-342B1A5A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0EF-FD4C-407C-80BC-5CC1B5D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D2EC-133D-42D3-8C2D-BAAEF89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802-1E60-49DB-AD3F-2587ACCF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238-BE2F-4548-A1D0-7D16C0AF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E1DA-0797-49A9-AB84-30A70C2D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2CFF-3DE3-48E6-A288-D52BC162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193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8194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4303-7EFC-4F21-8223-C8532CD42C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B624-4354-4906-BBA4-C0FAD4EC61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92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图片 9218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9219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9220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E59F-E08E-4E98-837D-B40DBC4F66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6880" y="1052280"/>
            <a:ext cx="6081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学校心理辅导站的基本建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1142640"/>
            <a:ext cx="632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从教育内容看，德育往往注重“高、大、全、远”的人物、事件、观念、原则、规范等等，而心理健康教育则往往注重学生身边“真、实、小、近”的人物、事件、心态、理念及价值判断等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320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从教育形式看，德育侧重由外而内的理论灌输和教育（尽管它也有榜样的感染与熏陶），而心理健康教育则侧重由内而外的体验、感悟和个性的自我张扬，通过助人自助实现学生的自我成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66520" y="1066320"/>
            <a:ext cx="5867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理念之四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研究学生心理发展规律，按照学生的心理特征和成长规律去教书育人，是每一位学校领导和教师的本分与天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66520" y="685440"/>
            <a:ext cx="5867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理念之五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育不是万能的，德育也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万能的， 心理健康教育同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是万能的。 对心理健康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、 作用的过高估价是不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的； 同样的道理，对心理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康教育的成效 提出苛求也是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实际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4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把握中小学生心理健康的两大指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43200" y="1371600"/>
            <a:ext cx="5867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　适应性指标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切不适应社会的心理现象和行为表现都属于不健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嫉妒　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自卑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任性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孤僻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焦虑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攻击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逆反心理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离家出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自杀倾向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社交困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520" y="1295280"/>
            <a:ext cx="5867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展性指标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个体在成长过程中，智力和人格的发展出现受阻也属于不健康。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智力发展得不到及时的促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社会化发展不够积极而稳定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三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4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坚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持学校心理健康教育的基本取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6520" y="1142640"/>
            <a:ext cx="5867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心理健康教育可以有各种各样的切入点，但不管从何处入手，其基本取向都应该是教育模式、发展模式，而不应该是医学模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就是学校，不是医院；教师就是教师，不是医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1295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四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理顺管理体制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990360"/>
            <a:ext cx="6096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★　在分管校长领导下开展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★　和政教处密切合作，抓好班主任队伍建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★　要有专兼职人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★　接受上级业务部门的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五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抓好两条主线一个氛围这一工作模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16360" y="549360"/>
            <a:ext cx="5867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★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　主线之一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抓发展性预防性辅导，开好心理辅导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交叉上课　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用好设计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　　  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典型引路   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力求精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★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　主线之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抓补救性辅导，开通各种个别辅导渠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辅导室　　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心理心箱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　　  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心理日记　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热线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　　  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心理网站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★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　一个氛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抓全员参与、全程渗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教书育人　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环境氛围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　　    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团队工作　</a:t>
            </a:r>
            <a:r>
              <a:rPr b="0" lang="en-US" sz="2400" spc="-1" strike="noStrike">
                <a:solidFill>
                  <a:srgbClr val="ff9900"/>
                </a:solidFill>
                <a:latin typeface="黑体"/>
                <a:ea typeface="黑体"/>
              </a:rPr>
              <a:t>△</a:t>
            </a: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家长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1295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六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建好一块基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★　因地制宜，尽快上马，逐步升级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★　制定规范，提高水平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★　搞好宣传，定时开放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★　建立档案，积累资料，做好个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一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构建心理健康教育的基本理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6520" y="1142640"/>
            <a:ext cx="5867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黑体"/>
              </a:rPr>
              <a:t>理念之一</a:t>
            </a:r>
            <a:r>
              <a:rPr b="0" lang="en-US" sz="4000" spc="-1" strike="noStrike">
                <a:solidFill>
                  <a:srgbClr val="9900cc"/>
                </a:solidFill>
                <a:latin typeface="Times New Roman"/>
                <a:ea typeface="黑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心理健康教育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是关注“健康”与“不健康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教育，而是关注人的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展是“正常”还是“受阻”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教育，是以促进人的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为其根本宗旨的教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七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培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训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四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支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队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6520" y="76176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参加站长培训，提高业务素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培训持上岗证书的专兼职人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分片分校培训班主任队伍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校本培训：有计划地读几本书，开几个讲座，转变全体教师的教育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1295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八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坚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持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五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项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常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规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　制定心育工作计划，纳入学校工作行事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　每学期向班主任提供１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—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２次心育资料和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　每学期组织班主任研究一次学生心理健康状况及对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　每学期向学校领导提出一份心育资料或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　每学年组织一次教书育人渗透心育的经验交流或论文研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九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提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高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站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长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自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身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素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6688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草创初期，特别需要提倡奉献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学习学校心理学理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实践中提高自己实施团体辅导和个别辅导的技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积累个案和课例，善于总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工作中自我完善、自我成长，并以自己的人格力量去推动事业的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27280" y="112500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黑体"/>
              </a:rPr>
              <a:t>理念之二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  <a:ea typeface="黑体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心理健康教育的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象不是专指有心理障碍的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，而是全体成长中的、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常的、健康的幼儿和中小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几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种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模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糊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认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心理辅导室是专管后进生教育的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后进生问题多，优生也需要心理辅导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初三、高三太忙，有必要再搞心理健康教育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学生有心理问题，小学生哪有什么心理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幼儿有必要开展心理健康教育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理念之三</a:t>
            </a:r>
            <a:r>
              <a:rPr b="0" lang="en-US" sz="3200" spc="-1" strike="noStrike">
                <a:solidFill>
                  <a:srgbClr val="9900cc"/>
                </a:solidFill>
                <a:latin typeface="黑体"/>
                <a:ea typeface="黑体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理健康教育同德育既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系，又有区别，两者不能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互替代。在中国目前的国情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，心理健康教育是纳入德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系列的，但这不等于说，两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存在着包含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联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00360" y="836640"/>
            <a:ext cx="58672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小学生问题行为的产生，不仅有思想方面、品质方面、行为习惯方面及法制观念方面的原因，而且往往还伴有心理方面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德育、心育互为补充，殊途同归，共同为塑造学生美好的人格特质和道德品行而努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界对心理的压力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良习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偏差行为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支持系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适应方式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我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◇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区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微软简综艺"/>
              </a:rPr>
              <a:t>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育人功能看，德育主要是关注学生的世界观、人生观、方的问题，关注政治立场、政治观点、政治方向的问题，关注法制意识、道德意识、社会规范等问题；而心理健康教育则主要关注学生的个性发展、人格完善及社会适应性问题，预防学生在日常学习、生活中可能出现的心理不适应或心理困扰等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换一句话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德育注重塑造学生的社会角色，要努力把学生带到一个“君子”的境界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心理健康教育注重塑造学生的个人角色，要努力把学生引向一个“好人”、“一个成熟的人”的境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德育的核心是人的世界观问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心理健康教育的核心是人的成长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2:35Z</dcterms:created>
  <dc:creator/>
  <dc:description/>
  <cp:keywords>心理 辅导站 基本 建设</cp:keywords>
  <dc:language>en-US</dc:language>
  <cp:lastModifiedBy>An</cp:lastModifiedBy>
  <dcterms:modified xsi:type="dcterms:W3CDTF">2016-05-01T00:42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