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0EF3-73D1-48D6-8695-88BC2442E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91D1-EAB8-4A56-BE15-025CB6ED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68C7-5007-44F5-B1C0-55085170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78AF-0BBA-4D6D-A66A-93306810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BEE2-B0CA-46D7-BDC5-5AD6A76B4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84FF-38AF-4143-B6BB-8526EC01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901F-672A-40F7-9633-B5201498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4A8C-1BFA-4382-9F1D-71E959CE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15D3-CF61-4D48-A4AA-3F550C21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B9A8-E8F6-4C20-8759-609A784D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22AF-201C-45E4-9AE4-D349EDD3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E279-78CC-4B57-9B83-64C5DD7C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5AF7-14CE-4466-A5FF-95429262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A993-D3C6-4903-A350-A5D56451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E187-8AFB-405A-9D69-389FA3C9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A637-6746-48FE-973A-537E6F4F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5FE7-0900-4F3E-AB5F-C25E3ACB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AE39-56E1-4D36-84DA-CEB2E074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AAE2-EFD8-4582-AEF3-FF5CCAE7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E17C-5B73-4394-BD1A-9E3A364F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39CB-EFBF-4ABD-8397-5EFDAD40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FA82-309A-43B7-B4EC-1DD9CD30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7A7E-20BB-400D-A482-44CB281B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E7A6-22F8-4386-8FC3-928B5CA8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F3DB-9874-4E01-83B3-7FA630EF7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29D8-DBC4-4009-B8ED-27C97AE3B50D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gi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52280" y="228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P32043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60360" y="1413000"/>
            <a:ext cx="59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《西门豹》课件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324000" y="1208160"/>
            <a:ext cx="860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邺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田地荒芜      人烟稀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河伯      巫婆       官绅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提心吊胆      面如土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扑腾   磕头求饶    淌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娶媳妇   闹旱灾  开凿渠道   灌溉庄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我会猜"/>
          <p:cNvPicPr/>
          <p:nvPr/>
        </p:nvPicPr>
        <p:blipFill>
          <a:blip r:embed="rId2"/>
          <a:stretch/>
        </p:blipFill>
        <p:spPr>
          <a:xfrm>
            <a:off x="0" y="0"/>
            <a:ext cx="1692360" cy="1569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4000" y="587700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1C25-CC44-4D62-8556-E6E228EBC7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说一说"/>
          <p:cNvPicPr/>
          <p:nvPr/>
        </p:nvPicPr>
        <p:blipFill>
          <a:blip r:embed="rId2"/>
          <a:stretch/>
        </p:blipFill>
        <p:spPr>
          <a:xfrm>
            <a:off x="6924600" y="4365720"/>
            <a:ext cx="2219400" cy="24922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684360" y="2147760"/>
            <a:ext cx="824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楷体"/>
              </a:rPr>
              <a:t>　　战国时候，魏王派西门豹去管理邺这个地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楷体"/>
              </a:rPr>
              <a:t>　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楷体"/>
              </a:rPr>
              <a:t>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楷体"/>
              </a:rPr>
              <a:t>管理前？管理后？怎么管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4"/>
          <p:cNvPicPr/>
          <p:nvPr/>
        </p:nvPicPr>
        <p:blipFill>
          <a:blip r:embed="rId3"/>
          <a:stretch/>
        </p:blipFill>
        <p:spPr>
          <a:xfrm>
            <a:off x="0" y="176040"/>
            <a:ext cx="24112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说一说"/>
          <p:cNvPicPr/>
          <p:nvPr/>
        </p:nvPicPr>
        <p:blipFill>
          <a:blip r:embed="rId2"/>
          <a:stretch/>
        </p:blipFill>
        <p:spPr>
          <a:xfrm>
            <a:off x="6924600" y="4365720"/>
            <a:ext cx="2219400" cy="2492280"/>
          </a:xfrm>
          <a:prstGeom prst="rect">
            <a:avLst/>
          </a:prstGeom>
          <a:ln w="0">
            <a:noFill/>
          </a:ln>
        </p:spPr>
      </p:pic>
      <p:sp>
        <p:nvSpPr>
          <p:cNvPr id="104" name="Line 3"/>
          <p:cNvSpPr/>
          <p:nvPr/>
        </p:nvSpPr>
        <p:spPr>
          <a:xfrm>
            <a:off x="1042920" y="2565360"/>
            <a:ext cx="597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971640" y="1125360"/>
            <a:ext cx="68403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　　西门豹到了那里，看到田地荒芜，人烟稀少，就找了位老大爷，问他是怎么回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说一说"/>
          <p:cNvPicPr/>
          <p:nvPr/>
        </p:nvPicPr>
        <p:blipFill>
          <a:blip r:embed="rId2"/>
          <a:stretch/>
        </p:blipFill>
        <p:spPr>
          <a:xfrm>
            <a:off x="6924600" y="4365720"/>
            <a:ext cx="2219400" cy="2492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西门豹"/>
          <p:cNvPicPr/>
          <p:nvPr/>
        </p:nvPicPr>
        <p:blipFill>
          <a:blip r:embed="rId3"/>
          <a:stretch/>
        </p:blipFill>
        <p:spPr>
          <a:xfrm>
            <a:off x="395280" y="189000"/>
            <a:ext cx="41004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说一说"/>
          <p:cNvPicPr/>
          <p:nvPr/>
        </p:nvPicPr>
        <p:blipFill>
          <a:blip r:embed="rId2"/>
          <a:stretch/>
        </p:blipFill>
        <p:spPr>
          <a:xfrm>
            <a:off x="6924600" y="4365720"/>
            <a:ext cx="2219400" cy="24922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西门豹先叫卫士把巫婆投进河里；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等了一会儿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，他又叫卫士把官绅头子投进河里；接着，他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面对漳河站了很久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，又要叫卫士把官绅们扔进河里；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过了一会儿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，他才让官绅们回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32"/>
          <p:cNvGrpSpPr/>
          <p:nvPr/>
        </p:nvGrpSpPr>
        <p:grpSpPr>
          <a:xfrm>
            <a:off x="1044720" y="620640"/>
            <a:ext cx="8064360" cy="5416560"/>
            <a:chOff x="1044720" y="620640"/>
            <a:chExt cx="8064360" cy="5416560"/>
          </a:xfrm>
        </p:grpSpPr>
        <p:sp>
          <p:nvSpPr>
            <p:cNvPr id="115" name="Text Box 4"/>
            <p:cNvSpPr/>
            <p:nvPr/>
          </p:nvSpPr>
          <p:spPr>
            <a:xfrm>
              <a:off x="1684440" y="620640"/>
              <a:ext cx="231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ff"/>
                  </a:solidFill>
                  <a:latin typeface="Arial"/>
                  <a:ea typeface="黑体"/>
                </a:rPr>
                <a:t>默读课文，填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5"/>
            <p:cNvSpPr/>
            <p:nvPr/>
          </p:nvSpPr>
          <p:spPr>
            <a:xfrm>
              <a:off x="1044720" y="1789200"/>
              <a:ext cx="8064360" cy="245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2176560" y="21542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7"/>
            <p:cNvSpPr/>
            <p:nvPr/>
          </p:nvSpPr>
          <p:spPr>
            <a:xfrm>
              <a:off x="1044720" y="1573200"/>
              <a:ext cx="755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8"/>
            <p:cNvSpPr/>
            <p:nvPr/>
          </p:nvSpPr>
          <p:spPr>
            <a:xfrm>
              <a:off x="1044720" y="1573200"/>
              <a:ext cx="0" cy="446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9"/>
            <p:cNvSpPr/>
            <p:nvPr/>
          </p:nvSpPr>
          <p:spPr>
            <a:xfrm>
              <a:off x="1044720" y="6037200"/>
              <a:ext cx="755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0"/>
            <p:cNvSpPr/>
            <p:nvPr/>
          </p:nvSpPr>
          <p:spPr>
            <a:xfrm>
              <a:off x="8604360" y="1573200"/>
              <a:ext cx="0" cy="446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1"/>
            <p:cNvSpPr/>
            <p:nvPr/>
          </p:nvSpPr>
          <p:spPr>
            <a:xfrm>
              <a:off x="1044720" y="2436840"/>
              <a:ext cx="755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1044720" y="3301920"/>
              <a:ext cx="755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3"/>
            <p:cNvSpPr/>
            <p:nvPr/>
          </p:nvSpPr>
          <p:spPr>
            <a:xfrm>
              <a:off x="1044720" y="4165560"/>
              <a:ext cx="755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4"/>
            <p:cNvSpPr/>
            <p:nvPr/>
          </p:nvSpPr>
          <p:spPr>
            <a:xfrm>
              <a:off x="1044720" y="5102280"/>
              <a:ext cx="755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5"/>
            <p:cNvSpPr/>
            <p:nvPr/>
          </p:nvSpPr>
          <p:spPr>
            <a:xfrm>
              <a:off x="3365640" y="1573200"/>
              <a:ext cx="0" cy="446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6"/>
            <p:cNvSpPr/>
            <p:nvPr/>
          </p:nvSpPr>
          <p:spPr>
            <a:xfrm>
              <a:off x="5232600" y="1573200"/>
              <a:ext cx="0" cy="446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7"/>
            <p:cNvSpPr/>
            <p:nvPr/>
          </p:nvSpPr>
          <p:spPr>
            <a:xfrm>
              <a:off x="1842840" y="17110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问什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8"/>
            <p:cNvSpPr/>
            <p:nvPr/>
          </p:nvSpPr>
          <p:spPr>
            <a:xfrm>
              <a:off x="1483560" y="25812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Arial"/>
                </a:rPr>
                <a:t>这是怎么回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9"/>
            <p:cNvSpPr/>
            <p:nvPr/>
          </p:nvSpPr>
          <p:spPr>
            <a:xfrm>
              <a:off x="1483560" y="33732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Arial"/>
                </a:rPr>
                <a:t>这话是谁说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20"/>
            <p:cNvSpPr/>
            <p:nvPr/>
          </p:nvSpPr>
          <p:spPr>
            <a:xfrm>
              <a:off x="1483560" y="44528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Arial"/>
                </a:rPr>
                <a:t>新娘哪儿来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21"/>
            <p:cNvSpPr/>
            <p:nvPr/>
          </p:nvSpPr>
          <p:spPr>
            <a:xfrm>
              <a:off x="1545120" y="5317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Arial"/>
                </a:rPr>
                <a:t>漳河发过大水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22"/>
            <p:cNvSpPr/>
            <p:nvPr/>
          </p:nvSpPr>
          <p:spPr>
            <a:xfrm>
              <a:off x="3785760" y="17175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为什么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23"/>
            <p:cNvSpPr/>
            <p:nvPr/>
          </p:nvSpPr>
          <p:spPr>
            <a:xfrm>
              <a:off x="6025320" y="1717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了解到的情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4"/>
            <p:cNvSpPr/>
            <p:nvPr/>
          </p:nvSpPr>
          <p:spPr>
            <a:xfrm>
              <a:off x="3785760" y="25812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Arial"/>
                </a:rPr>
                <a:t>了解真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25"/>
            <p:cNvSpPr/>
            <p:nvPr/>
          </p:nvSpPr>
          <p:spPr>
            <a:xfrm>
              <a:off x="6086880" y="25812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Arial"/>
                </a:rPr>
                <a:t>河伯娶媳妇闹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6"/>
            <p:cNvSpPr/>
            <p:nvPr/>
          </p:nvSpPr>
          <p:spPr>
            <a:xfrm>
              <a:off x="3785760" y="3444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Arial"/>
                </a:rPr>
                <a:t>了解主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27"/>
            <p:cNvSpPr/>
            <p:nvPr/>
          </p:nvSpPr>
          <p:spPr>
            <a:xfrm>
              <a:off x="6350760" y="351792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Arial"/>
                </a:rPr>
                <a:t>巫婆、官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8"/>
            <p:cNvSpPr/>
            <p:nvPr/>
          </p:nvSpPr>
          <p:spPr>
            <a:xfrm>
              <a:off x="3847320" y="44528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Arial"/>
                </a:rPr>
                <a:t>了解受害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9"/>
            <p:cNvSpPr/>
            <p:nvPr/>
          </p:nvSpPr>
          <p:spPr>
            <a:xfrm>
              <a:off x="5962680" y="44528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Arial"/>
                </a:rPr>
                <a:t>没钱的人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30"/>
            <p:cNvSpPr/>
            <p:nvPr/>
          </p:nvSpPr>
          <p:spPr>
            <a:xfrm>
              <a:off x="3785760" y="53895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Arial"/>
                </a:rPr>
                <a:t>了解效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31"/>
            <p:cNvSpPr/>
            <p:nvPr/>
          </p:nvSpPr>
          <p:spPr>
            <a:xfrm>
              <a:off x="6148800" y="538956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Arial"/>
                </a:rPr>
                <a:t>没发大水倒闹旱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2"/>
          <p:cNvSpPr txBox="1"/>
          <p:nvPr/>
        </p:nvSpPr>
        <p:spPr>
          <a:xfrm>
            <a:off x="468360" y="404640"/>
            <a:ext cx="3095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隶书"/>
              </a:rPr>
              <a:t>拓展延伸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45" name="Picture 3" descr="图片1"/>
          <p:cNvPicPr/>
          <p:nvPr/>
        </p:nvPicPr>
        <p:blipFill>
          <a:blip r:embed="rId2"/>
          <a:stretch/>
        </p:blipFill>
        <p:spPr>
          <a:xfrm>
            <a:off x="3708360" y="333360"/>
            <a:ext cx="1584360" cy="985680"/>
          </a:xfrm>
          <a:prstGeom prst="rect">
            <a:avLst/>
          </a:prstGeom>
          <a:ln w="0">
            <a:noFill/>
          </a:ln>
        </p:spPr>
      </p:pic>
      <p:sp>
        <p:nvSpPr>
          <p:cNvPr id="146" name="WordArt 4"/>
          <p:cNvSpPr txBox="1"/>
          <p:nvPr/>
        </p:nvSpPr>
        <p:spPr>
          <a:xfrm>
            <a:off x="1332000" y="2708280"/>
            <a:ext cx="676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隶书"/>
              </a:rPr>
              <a:t>学了这篇课文，你有什么想法？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7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4:34:15Z</dcterms:created>
  <dc:creator/>
  <dc:description/>
  <cp:keywords>幻灯片之家 http:/www.eeppt.com</cp:keywords>
  <dc:language>en-US</dc:language>
  <cp:lastModifiedBy/>
  <dcterms:modified xsi:type="dcterms:W3CDTF">2015-07-20T01:35:28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