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CC9E-7DE1-491D-B2FA-EC7E33E3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7D04-EF99-4A72-A865-4F00A93E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D9A5-5D5E-442A-8FD7-6EEFCFC5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140D-6842-40ED-BF87-3E7670A4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5180-D09F-467C-A616-9C8B226E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9DF0-6D18-44FF-AA88-F7C40402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822F-922B-44B7-A660-35D7CFFD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DDE1-5311-4172-9687-F5B08086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D22A-34D8-4F9C-B1F3-3253D009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B031-25D8-4300-A670-4C92856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5936-CD4C-4BFE-9FED-49B72A6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9437-0B09-4DE0-A354-888C484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D0E-3873-4FFB-814B-00C86B062BEF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26920" y="981000"/>
            <a:ext cx="30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5" descr="pic_228526季2"/>
          <p:cNvPicPr/>
          <p:nvPr/>
        </p:nvPicPr>
        <p:blipFill>
          <a:blip r:embed="rId2"/>
          <a:stretch/>
        </p:blipFill>
        <p:spPr>
          <a:xfrm>
            <a:off x="1403280" y="1987560"/>
            <a:ext cx="655344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169280" y="620640"/>
            <a:ext cx="44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小苗与大树的对话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件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0" y="0"/>
            <a:ext cx="1655640" cy="1008000"/>
          </a:xfrm>
          <a:prstGeom prst="flowChartMultidocumen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读一读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1111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兴趣　三国演义　水浒传　绿林好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偷偷藏　三侠五义　彭公案　能文能武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才生　中西贯通　能文能理　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嗯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语    起码   古今贯通　　文理贯通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    建议   古文观止　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２１世纪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50760" y="451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0920" y="170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　　认真读读课文，看看苗苗同季老交流了哪些问题 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26920" y="3500280"/>
            <a:ext cx="77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１、 阅读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２、 偏科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３、 学习外语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４、 积累古诗文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766880" y="170028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季羡林先生对于读书，提出了哪些见解？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0" y="2852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１、把文章写好，要多看书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２、要中西贯通、古今贯通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理贯通，不要偏科，要学好外语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３、进行古诗文积累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谈一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77336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在苗苗对季老先生的采访中，他们用了很长时间在讨论看闲书。那么，到底闲书指什么，能结合课文谈谈你们的理解吗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使用规范说明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C29B-1A3A-46AE-A997-2C9C5FEA562B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19162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、课文中的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苗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指的是谁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400536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、读了课文，你认为文中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苗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什么更深的含义吗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96720" y="3213000"/>
            <a:ext cx="835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5"/>
          <p:cNvSpPr/>
          <p:nvPr/>
        </p:nvSpPr>
        <p:spPr>
          <a:xfrm>
            <a:off x="622440" y="144360"/>
            <a:ext cx="2016000" cy="1125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积累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555360" y="1557360"/>
            <a:ext cx="173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阅读，是一把钥匙，为我打开知识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宝库的大门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阅读，是一位向导，帮我找到智慧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源泉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阅读，是一架望远镜，让我看得很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远很远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ebf25a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5:15:12Z</dcterms:created>
  <dc:creator/>
  <dc:description/>
  <cp:keywords>幻灯片之家 http:/www.eeppt.com</cp:keywords>
  <dc:language>en-US</dc:language>
  <cp:lastModifiedBy/>
  <dcterms:modified xsi:type="dcterms:W3CDTF">2015-07-20T01:34:42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