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3EEA0-C1AA-4116-95E2-CABB8B5EF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8C20A-6EE5-4AA4-9598-AB2ABAF33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DB3EC-E1D1-4C54-BFBD-5D25810FE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A5757-6101-4BAE-B6B9-66A702207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3F121-206A-437F-8D64-E5FD95460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2C736-49DC-44D2-8FE9-38DF8EACB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2AA3F-BC82-4519-B4E3-3AEBAB8D9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08513-5CCD-45E4-834A-8B4D8C721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1D5BD-89ED-4011-ADDB-BC122FAC4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5914F-FB20-411C-A332-B37555A78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C0ED4-6E53-47BF-A0F4-9E2A7541C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73628-63BC-4F7C-8DC3-F3BA28740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264C0-15EB-4B30-9C17-8D39D9090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48D6A-D280-4162-9281-194F3F415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D7275-95B9-43A0-968B-8FB0F8EC3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21E4D-86DA-4FB6-966D-97BD00C32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E34E4-0EF6-46EF-9CE4-FB4B4925B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89D435-0CB8-4C2E-8A79-BBE67D19DF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95B44-884B-4F63-9566-ACD5CCA72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73E08-C8B3-42C0-A8F1-E064DE6A2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12CBC-D5F6-4D27-8E2F-F75F98437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7BBDE4-9AFB-4578-BD22-9B7889778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20A90-C418-44A4-95F0-820E1CCC0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6CF84-0222-44B0-B9C7-B628CAA886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77D08-92B0-4FC5-B041-3909CBD61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C0F72-4F54-4056-A572-D0F1080F1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9D50C-C551-4CB7-8B81-E7DAF19D7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880B89-2F0F-4747-A7E8-D41546F4A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E4DAF-AF84-4B98-B28A-5499BBADB1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4C335D-51A8-4690-BD02-351CED81E2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CEBAA-4791-4128-A07E-2DEAE306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AD3A4-464C-4371-B646-986B4E96E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F509C-C4FE-4BC6-9242-709CE065C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A7FF-6FB6-4E00-8A01-4714CF831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C015-9DD9-443D-B8A7-4BC5BB55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106F6-319A-4795-9007-84758D064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A594-143A-4DBC-B2DC-07C6308A473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8C55-1ACB-4194-89E5-0CFC155CC4FD}" type="datetime">
              <a:rPr b="0" lang="zh-CN" sz="1200" spc="-1" strike="noStrike">
                <a:solidFill>
                  <a:srgbClr val="898989"/>
                </a:solidFill>
                <a:latin typeface="Arial"/>
                <a:ea typeface="宋体"/>
              </a:rPr>
              <a:t>26/7/30</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BBC7-5AD7-415A-A78E-ECD25BED73CE}"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CB1C-F316-4DE3-8FDA-730A5A38DFB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zh-CN" sz="6000" spc="-1" strike="noStrike">
                <a:solidFill>
                  <a:srgbClr val="b7e7ff"/>
                </a:solidFill>
                <a:latin typeface="Arial"/>
              </a:rPr>
              <a:t>学校管理心理学</a:t>
            </a:r>
            <a:br>
              <a:rPr sz="6000"/>
            </a:br>
            <a:r>
              <a:rPr b="0" lang="zh-CN" sz="6000" spc="-1" strike="noStrike">
                <a:solidFill>
                  <a:srgbClr val="b7e7ff"/>
                </a:solidFill>
                <a:latin typeface="Arial"/>
              </a:rPr>
              <a:t>期末复习</a:t>
            </a:r>
            <a:r>
              <a:rPr b="1" lang="en-US" sz="6000" spc="-1" strike="noStrike">
                <a:solidFill>
                  <a:srgbClr val="b7e7ff"/>
                </a:solidFill>
                <a:latin typeface="Arial"/>
              </a:rPr>
              <a:t> </a:t>
            </a:r>
            <a:endParaRPr b="0" lang="en-US" sz="60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第八章      学校领导心理</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 </a:t>
            </a:r>
            <a:r>
              <a:rPr b="1" lang="zh-CN" sz="2000" spc="-1" strike="noStrike">
                <a:solidFill>
                  <a:srgbClr val="ffffff"/>
                </a:solidFill>
                <a:latin typeface="Arial"/>
              </a:rPr>
              <a:t>考核目的：</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本章主要考核学生对学校领导心理概述， 学校领导的权力、权威与影响力，学校领导行为及学校领导原理、原则，学校领导个体心理与测评，学校领导集体的心理协调。</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1" lang="zh-CN" sz="2000" spc="-1" strike="noStrike">
                <a:solidFill>
                  <a:srgbClr val="ffffff"/>
                </a:solidFill>
                <a:latin typeface="Arial"/>
              </a:rPr>
              <a:t>掌握知识点</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学校领导、学校领导的角色和功能</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2.</a:t>
            </a:r>
            <a:r>
              <a:rPr b="0" lang="zh-CN" sz="2000" spc="-1" strike="noStrike">
                <a:solidFill>
                  <a:srgbClr val="ffffff"/>
                </a:solidFill>
                <a:latin typeface="Arial"/>
              </a:rPr>
              <a:t>学校领导的权力、权威与影响力的提高</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3.</a:t>
            </a:r>
            <a:r>
              <a:rPr b="0" lang="zh-CN" sz="2000" spc="-1" strike="noStrike">
                <a:solidFill>
                  <a:srgbClr val="ffffff"/>
                </a:solidFill>
                <a:latin typeface="Arial"/>
              </a:rPr>
              <a:t>学校领导原理、原则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zh-CN" sz="2000" spc="-1" strike="noStrike">
                <a:solidFill>
                  <a:srgbClr val="ffffff"/>
                </a:solidFill>
                <a:latin typeface="Arial"/>
              </a:rPr>
              <a:t>学校领导者的个体心理与测评</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5.</a:t>
            </a:r>
            <a:r>
              <a:rPr b="0" lang="zh-CN" sz="2000" spc="-1" strike="noStrike">
                <a:solidFill>
                  <a:srgbClr val="ffffff"/>
                </a:solidFill>
                <a:latin typeface="Arial"/>
              </a:rPr>
              <a:t>学校领导集体的心理结构及学校领导集体关系的协调</a:t>
            </a:r>
            <a:r>
              <a:rPr b="0" lang="zh-CN"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4"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九章     学校组织心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考核目的</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本章主要考核学生对学校组织心理的基本问题</a:t>
            </a:r>
            <a:r>
              <a:rPr b="0" lang="en-US" sz="2800" spc="-1" strike="noStrike">
                <a:solidFill>
                  <a:srgbClr val="ffffff"/>
                </a:solidFill>
                <a:latin typeface="Arial"/>
              </a:rPr>
              <a:t>,</a:t>
            </a:r>
            <a:r>
              <a:rPr b="0" lang="zh-CN" sz="2800" spc="-1" strike="noStrike">
                <a:solidFill>
                  <a:srgbClr val="ffffff"/>
                </a:solidFill>
                <a:latin typeface="Arial"/>
              </a:rPr>
              <a:t>校园组织文化的建设</a:t>
            </a:r>
            <a:r>
              <a:rPr b="0" lang="en-US" sz="2800" spc="-1" strike="noStrike">
                <a:solidFill>
                  <a:srgbClr val="ffffff"/>
                </a:solidFill>
                <a:latin typeface="Arial"/>
              </a:rPr>
              <a:t>, </a:t>
            </a:r>
            <a:r>
              <a:rPr b="0" lang="zh-CN" sz="2800" spc="-1" strike="noStrike">
                <a:solidFill>
                  <a:srgbClr val="ffffff"/>
                </a:solidFill>
                <a:latin typeface="Arial"/>
              </a:rPr>
              <a:t>变革与开发。</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组织、学校组织及其特点</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校园组织文化的概念和构造</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组织变革、组织开发及校园危机的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学校管理心理（学校管理心理学）是中央广播电视大学高等专科教育管理专业必修的          专业基础课程。学校管理心理学是研究学校管理活动中心理现象及其规律的科学。通过本课程的教学</a:t>
            </a:r>
            <a:r>
              <a:rPr b="0" lang="en-US" sz="2800" spc="-1" strike="noStrike">
                <a:solidFill>
                  <a:srgbClr val="ffffff"/>
                </a:solidFill>
                <a:latin typeface="Arial"/>
              </a:rPr>
              <a:t>,</a:t>
            </a:r>
            <a:r>
              <a:rPr b="0" lang="zh-CN" sz="2800" spc="-1" strike="noStrike">
                <a:solidFill>
                  <a:srgbClr val="ffffff"/>
                </a:solidFill>
                <a:latin typeface="Arial"/>
              </a:rPr>
              <a:t>使学生比较系统地获得学校管理心理学的基本概念、基础知识和基本理论；理解学校管理过程中人的心理规律；学会学校管理心理学的基本研究方法；从而培养学生运用心理学规律分析并解决学校管理中实际问题的能力。现结合教学大纲，做以下的期末复习方案</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ffffff"/>
                </a:solidFill>
                <a:latin typeface="Arial"/>
              </a:rPr>
              <a:t>第一章   绪  论</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考核目的：</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章主要考核学生对学校管理心理学的性质、研究对象、基本任务和研究方法的学习情况。</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学校管理心理学的研究对象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学校管理心理学的研究任务</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学校管理心理学的研究方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二章  个性心理与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考核目的</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章主要考核学生对个性、个性差异与管理的基本概念、理论及心理测量的主要方法的学习情况。</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个性、个性的特点及差异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0" lang="zh-CN" sz="2800" spc="-1" strike="noStrike">
                <a:solidFill>
                  <a:srgbClr val="ffffff"/>
                </a:solidFill>
                <a:latin typeface="Arial"/>
              </a:rPr>
              <a:t>气质差异与管理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性格差异与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能力差异与管理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zh-CN" sz="2800" spc="-1" strike="noStrike">
                <a:solidFill>
                  <a:srgbClr val="ffffff"/>
                </a:solidFill>
                <a:latin typeface="Arial"/>
              </a:rPr>
              <a:t>心理测量及条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三章  教师积极性的激励</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考核目的</a:t>
            </a:r>
            <a:r>
              <a:rPr b="1"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本章主要考核学生对教师积极性的心理分析、教师积极性的激励 、教师挫折心理与管理的学习情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掌握知识点：</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zh-CN" sz="2400" spc="-1" strike="noStrike">
                <a:solidFill>
                  <a:srgbClr val="ffffff"/>
                </a:solidFill>
                <a:latin typeface="Arial"/>
              </a:rPr>
              <a:t>需要、动机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目标与目标管理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zh-CN" sz="2400" spc="-1" strike="noStrike">
                <a:solidFill>
                  <a:srgbClr val="ffffff"/>
                </a:solidFill>
                <a:latin typeface="Arial"/>
              </a:rPr>
              <a:t>激励、激励的方式、激励的理论及其应用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zh-CN" sz="2400" spc="-1" strike="noStrike">
                <a:solidFill>
                  <a:srgbClr val="ffffff"/>
                </a:solidFill>
                <a:latin typeface="Arial"/>
              </a:rPr>
              <a:t>挫折、遭受挫折后的反应、自我调节及对挫折的管理</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四章   教师心理与管理</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考核目的</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本章主要考核学生对师职业社会化、教师的态度及其改变、教师心理健康的学习情况。</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教师职业社会化和教师队伍建设</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态度、教师的态度及其对工作的影响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态度改变的理论和方法及教师态度的改变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教师心理健康及其维护</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五章    学校中的群体心理</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考核目的：</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本章主要考核学生对群体和群体规范，非正式群体及管理，群体情境对个体行为的影响，有效的工作群体的学习情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400" spc="-1" strike="noStrike">
                <a:solidFill>
                  <a:srgbClr val="ffffff"/>
                </a:solidFill>
                <a:latin typeface="Arial"/>
              </a:rPr>
              <a:t> </a:t>
            </a:r>
            <a:r>
              <a:rPr b="1" lang="zh-CN" sz="2400" spc="-1" strike="noStrike">
                <a:solidFill>
                  <a:srgbClr val="ffffff"/>
                </a:solidFill>
                <a:latin typeface="Arial"/>
              </a:rPr>
              <a:t>掌握知识点：</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群体和群体规范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非正式群体、非正式群体的特点及管理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群体情境中的社会助长作用、责任分散、去个性化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高效率工作群体、群体凝聚力和群体士气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六章    学校中的人际关系</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考核目的</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章主要考核学生对人际关系及其影响因素，师生关系，竞争与合作的学习情况。</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人际关系及其影响因素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师生关系及师生关系对学生和教师的影响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学生的竞争、合作与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教师的竞争、合作与管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七章      学生心理与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考核目的</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章主要考核学生对中小学生心理特点与管理</a:t>
            </a:r>
            <a:r>
              <a:rPr b="0" lang="en-US" sz="2800" spc="-1" strike="noStrike">
                <a:solidFill>
                  <a:srgbClr val="ffffff"/>
                </a:solidFill>
                <a:latin typeface="Arial"/>
              </a:rPr>
              <a:t>,</a:t>
            </a:r>
            <a:r>
              <a:rPr b="0" lang="zh-CN" sz="2800" spc="-1" strike="noStrike">
                <a:solidFill>
                  <a:srgbClr val="ffffff"/>
                </a:solidFill>
                <a:latin typeface="Arial"/>
              </a:rPr>
              <a:t>中小学生心理健康及心理健康教育</a:t>
            </a:r>
            <a:r>
              <a:rPr b="0" lang="en-US" sz="2800" spc="-1" strike="noStrike">
                <a:solidFill>
                  <a:srgbClr val="ffffff"/>
                </a:solidFill>
                <a:latin typeface="Arial"/>
              </a:rPr>
              <a:t>,</a:t>
            </a:r>
            <a:r>
              <a:rPr b="0" lang="zh-CN" sz="2800" spc="-1" strike="noStrike">
                <a:solidFill>
                  <a:srgbClr val="ffffff"/>
                </a:solidFill>
                <a:latin typeface="Arial"/>
              </a:rPr>
              <a:t>班级群体的心理与管理的学习情况。</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掌握知识点</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中小学生的心理特点与管理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0" lang="zh-CN" sz="2800" spc="-1" strike="noStrike">
                <a:solidFill>
                  <a:srgbClr val="ffffff"/>
                </a:solidFill>
                <a:latin typeface="Arial"/>
              </a:rPr>
              <a:t>心理健康、中小学生常见心理健康问题及心理健康教育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班级群体 、班级群体对学生发展的影响、班集体的形成及管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9:24Z</dcterms:created>
  <dc:creator/>
  <dc:description/>
  <cp:keywords>瀛︽牎绠＄悊 蹇冪悊瀛</cp:keywords>
  <dc:language>en-US</dc:language>
  <cp:lastModifiedBy>An</cp:lastModifiedBy>
  <dcterms:modified xsi:type="dcterms:W3CDTF">2016-05-01T00:39:2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