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72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616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128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72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616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1280" y="233280"/>
            <a:ext cx="78296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616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0128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616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1280" y="233280"/>
            <a:ext cx="78296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59840" cy="6916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640" y="2126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Stone Sans"/>
              <a:buChar char="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tone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Shape 211971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564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56240" y="828720"/>
            <a:ext cx="253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移动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87440" y="3881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80577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49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1:42Z</dcterms:modified>
  <cp:revision>2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