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0D3D-05A5-44FB-AB70-CBFE655C5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E2F1-86DD-40C1-8E63-5786CA8D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759A-287F-4D09-B7B8-07131B23B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DD89-FF11-4E95-81CA-760411046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0D47-3725-45F7-8ABE-1D4A1424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111E-9FB7-4EAD-9786-F669527E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3D8A-7414-4ED8-95AC-34BD45EE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C8B1-BA7D-4262-9AB7-6817B37C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0C56-242D-4DBC-9D0E-E577DC72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E44E-B612-45B0-BE44-EE0CC004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8E3E-40F8-4384-97A5-28224DA8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DAD9-3111-4FD2-A540-D2955AEB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4FF8-A979-4FAF-8022-F9B7881B88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/moban/kejian/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6084720" y="4267080"/>
            <a:ext cx="2667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---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老舍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800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cc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ffffcc"/>
                </a:solidFill>
                <a:latin typeface="Times New Roman"/>
              </a:rPr>
              <a:t>http://www.eeppt.com</a:t>
            </a:r>
            <a:endParaRPr b="1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75440" y="1486080"/>
            <a:ext cx="187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《养花》课件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PPT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1676520" y="60948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有</a:t>
            </a:r>
            <a:r>
              <a:rPr b="1" lang="zh-CN" sz="4000" spc="-1" strike="noStrike">
                <a:solidFill>
                  <a:srgbClr val="333300"/>
                </a:solidFill>
                <a:latin typeface="Times New Roman"/>
                <a:ea typeface="华文中宋"/>
              </a:rPr>
              <a:t>喜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有</a:t>
            </a:r>
            <a:r>
              <a:rPr b="1" lang="zh-CN" sz="4000" spc="-1" strike="noStrike">
                <a:solidFill>
                  <a:srgbClr val="333300"/>
                </a:solidFill>
                <a:latin typeface="Times New Roman"/>
                <a:ea typeface="华文中宋"/>
              </a:rPr>
              <a:t>忧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，有</a:t>
            </a:r>
            <a:r>
              <a:rPr b="1" lang="zh-CN" sz="4000" spc="-1" strike="noStrike">
                <a:solidFill>
                  <a:srgbClr val="333300"/>
                </a:solidFill>
                <a:latin typeface="Times New Roman"/>
                <a:ea typeface="华文中宋"/>
              </a:rPr>
              <a:t>笑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有</a:t>
            </a:r>
            <a:r>
              <a:rPr b="1" lang="zh-CN" sz="4000" spc="-1" strike="noStrike">
                <a:solidFill>
                  <a:srgbClr val="333300"/>
                </a:solidFill>
                <a:latin typeface="Times New Roman"/>
                <a:ea typeface="华文中宋"/>
              </a:rPr>
              <a:t>泪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，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375000" y="754200"/>
            <a:ext cx="2949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200400" y="609480"/>
            <a:ext cx="2759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1676520" y="2209680"/>
            <a:ext cx="53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有</a:t>
            </a:r>
            <a:r>
              <a:rPr b="1" lang="zh-CN" sz="4000" spc="-1" strike="noStrike">
                <a:solidFill>
                  <a:srgbClr val="333300"/>
                </a:solidFill>
                <a:latin typeface="Times New Roman"/>
                <a:ea typeface="华文中宋"/>
              </a:rPr>
              <a:t>花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有</a:t>
            </a:r>
            <a:r>
              <a:rPr b="1" lang="zh-CN" sz="4000" spc="-1" strike="noStrike">
                <a:solidFill>
                  <a:srgbClr val="333300"/>
                </a:solidFill>
                <a:latin typeface="Times New Roman"/>
                <a:ea typeface="华文中宋"/>
              </a:rPr>
              <a:t>果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，有</a:t>
            </a:r>
            <a:r>
              <a:rPr b="1" lang="zh-CN" sz="4000" spc="-1" strike="noStrike">
                <a:solidFill>
                  <a:srgbClr val="333300"/>
                </a:solidFill>
                <a:latin typeface="Times New Roman"/>
                <a:ea typeface="华文中宋"/>
              </a:rPr>
              <a:t>香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有</a:t>
            </a:r>
            <a:r>
              <a:rPr b="1" lang="zh-CN" sz="4000" spc="-1" strike="noStrike">
                <a:solidFill>
                  <a:srgbClr val="333300"/>
                </a:solidFill>
                <a:latin typeface="Times New Roman"/>
                <a:ea typeface="华文中宋"/>
              </a:rPr>
              <a:t>色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。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1676520" y="3733920"/>
            <a:ext cx="51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既须</a:t>
            </a:r>
            <a:r>
              <a:rPr b="1" lang="zh-CN" sz="4000" spc="-1" strike="noStrike">
                <a:solidFill>
                  <a:srgbClr val="333300"/>
                </a:solidFill>
                <a:latin typeface="Times New Roman"/>
                <a:ea typeface="华文中宋"/>
              </a:rPr>
              <a:t>劳动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，又长</a:t>
            </a:r>
            <a:r>
              <a:rPr b="1" lang="zh-CN" sz="4000" spc="-1" strike="noStrike">
                <a:solidFill>
                  <a:srgbClr val="333300"/>
                </a:solidFill>
                <a:latin typeface="Times New Roman"/>
                <a:ea typeface="华文中宋"/>
              </a:rPr>
              <a:t>见识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，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9" name="Text Box 9"/>
          <p:cNvSpPr/>
          <p:nvPr/>
        </p:nvSpPr>
        <p:spPr>
          <a:xfrm flipH="1" flipV="1">
            <a:off x="9470880" y="35046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1676520" y="525780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这就是养花的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乐趣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。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2590920" y="14479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华文细黑"/>
              </a:rPr>
              <a:t>（对花的感情）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590920" y="3048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华文细黑"/>
              </a:rPr>
              <a:t>（劳动的成果）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2590920" y="46483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华文细黑"/>
              </a:rPr>
              <a:t>（养花的意义）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114" name="Picture 17" descr="D:\素材库\图案\按钮背景\button104.gif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2120" y="533412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8" descr="D:\素材库\图案\按钮背景\button106.gif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467480" y="5334120"/>
            <a:ext cx="67464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2514600" y="83808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中心思想</a:t>
            </a:r>
            <a:endParaRPr b="1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609480" y="251460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作者通过自己的养花实践，切身体会到养花的乐趣：有喜有忧，有笑有泪，有花有果，有香有色。既须劳动，又长见识。表达了作者对生活对劳动的赞美之情。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119" name="Picture 6" descr="D:\素材库\图案\按钮背景\button104.gif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685800" y="556272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D:\素材库\图案\按钮背景\button103.gif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7543800" y="5562720"/>
            <a:ext cx="674640" cy="674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573408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课件模板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http://www.eeppt.com/moban/kejian/</a:t>
            </a:r>
            <a:endParaRPr b="1" lang="en-US" sz="20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468360" y="69228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经典粗圆简"/>
              </a:rPr>
              <a:t>课文分为几部分？每一部分都写了什么意思？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423720" y="1413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经典趣体简"/>
              </a:rPr>
              <a:t>第一部分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595680" y="1413000"/>
            <a:ext cx="55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讲“我”把养花当作一种乐趣。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392040" y="2271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经典趣体简"/>
              </a:rPr>
              <a:t>第二部分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821040" y="22716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具体讲养花的乐趣。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52440" y="3146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经典趣体简"/>
              </a:rPr>
              <a:t>第三部分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3781440" y="31464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总结养花的乐趣。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2328840" y="1413000"/>
            <a:ext cx="1219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328840" y="1413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2144880" y="227160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2--6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181240" y="314640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2257560" y="3146400"/>
            <a:ext cx="137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2257560" y="31464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58" name="Picture 17" descr="D:\素材库\图案\按钮背景\button104.gif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3280" y="556272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" descr="D:\素材库\图案\按钮背景\button106.gif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696080" y="5562720"/>
            <a:ext cx="67464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3240" y="990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华文中宋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3333ff"/>
                </a:solidFill>
                <a:latin typeface="华文中宋"/>
                <a:ea typeface="华文中宋"/>
              </a:rPr>
              <a:t>、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“</a:t>
            </a:r>
            <a:r>
              <a:rPr b="1" lang="zh-CN" sz="3600" spc="-1" strike="noStrike">
                <a:solidFill>
                  <a:srgbClr val="3333ff"/>
                </a:solidFill>
                <a:latin typeface="华文中宋"/>
                <a:ea typeface="华文中宋"/>
              </a:rPr>
              <a:t>奇花异草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”</a:t>
            </a:r>
            <a:r>
              <a:rPr b="1" lang="zh-CN" sz="3600" spc="-1" strike="noStrike">
                <a:solidFill>
                  <a:srgbClr val="3333ff"/>
                </a:solidFill>
                <a:latin typeface="华文中宋"/>
                <a:ea typeface="华文中宋"/>
              </a:rPr>
              <a:t>是什么意思？作者养的花草有什么特点？为什么？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0" y="2362320"/>
            <a:ext cx="914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经典楷体简"/>
              </a:rPr>
              <a:t>（“奇花异草”就是稀有罕见的珍贵花草。）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0" y="3276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经典楷体简"/>
              </a:rPr>
              <a:t>（作者的花草都是“好种易活”、“自己会奋斗”的，因为北京的气候不容易使南方的好花存活，而看着花草生病要死“是件难过的事”，所以作者没有奇花异草。）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228600" y="617220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65" name="Picture 17" descr="D:\素材库\图案\按钮背景\button104.gif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010280" y="533412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" descr="D:\素材库\图案\按钮背景\button106.gif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77320" y="5334120"/>
            <a:ext cx="67464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0" y="380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华文中宋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3333ff"/>
                </a:solidFill>
                <a:latin typeface="华文中宋"/>
                <a:ea typeface="华文中宋"/>
              </a:rPr>
              <a:t>、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“</a:t>
            </a:r>
            <a:r>
              <a:rPr b="1" lang="zh-CN" sz="3600" spc="-1" strike="noStrike">
                <a:solidFill>
                  <a:srgbClr val="3333ff"/>
                </a:solidFill>
                <a:latin typeface="华文中宋"/>
                <a:ea typeface="华文中宋"/>
              </a:rPr>
              <a:t>置之不理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”</a:t>
            </a:r>
            <a:r>
              <a:rPr b="1" lang="zh-CN" sz="3600" spc="-1" strike="noStrike">
                <a:solidFill>
                  <a:srgbClr val="3333ff"/>
                </a:solidFill>
                <a:latin typeface="华文中宋"/>
                <a:ea typeface="华文中宋"/>
              </a:rPr>
              <a:t>是什么意思？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“</a:t>
            </a:r>
            <a:r>
              <a:rPr b="1" lang="zh-CN" sz="3600" spc="-1" strike="noStrike">
                <a:solidFill>
                  <a:srgbClr val="3333ff"/>
                </a:solidFill>
                <a:latin typeface="华文中宋"/>
                <a:ea typeface="华文中宋"/>
              </a:rPr>
              <a:t>自生自灭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”</a:t>
            </a:r>
            <a:r>
              <a:rPr b="1" lang="zh-CN" sz="3600" spc="-1" strike="noStrike">
                <a:solidFill>
                  <a:srgbClr val="3333ff"/>
                </a:solidFill>
                <a:latin typeface="华文中宋"/>
                <a:ea typeface="华文中宋"/>
              </a:rPr>
              <a:t>又是什么意思？作者认为养花应该采取什么样的态度？作者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“</a:t>
            </a:r>
            <a:r>
              <a:rPr b="1" lang="zh-CN" sz="3600" spc="-1" strike="noStrike">
                <a:solidFill>
                  <a:srgbClr val="3333ff"/>
                </a:solidFill>
                <a:latin typeface="华文中宋"/>
                <a:ea typeface="华文中宋"/>
              </a:rPr>
              <a:t>摸着了一些门道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”</a:t>
            </a:r>
            <a:r>
              <a:rPr b="1" lang="zh-CN" sz="3600" spc="-1" strike="noStrike">
                <a:solidFill>
                  <a:srgbClr val="3333ff"/>
                </a:solidFill>
                <a:latin typeface="华文中宋"/>
                <a:ea typeface="华文中宋"/>
              </a:rPr>
              <a:t>，这些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“</a:t>
            </a:r>
            <a:r>
              <a:rPr b="1" lang="zh-CN" sz="3600" spc="-1" strike="noStrike">
                <a:solidFill>
                  <a:srgbClr val="3333ff"/>
                </a:solidFill>
                <a:latin typeface="华文中宋"/>
                <a:ea typeface="华文中宋"/>
              </a:rPr>
              <a:t>门道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”</a:t>
            </a:r>
            <a:r>
              <a:rPr b="1" lang="zh-CN" sz="3600" spc="-1" strike="noStrike">
                <a:solidFill>
                  <a:srgbClr val="3333ff"/>
                </a:solidFill>
                <a:latin typeface="华文中宋"/>
                <a:ea typeface="华文中宋"/>
              </a:rPr>
              <a:t>指什么？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0" y="28195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经典楷体简"/>
              </a:rPr>
              <a:t>（“置之不理”就是放在一边不去管它。）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0" y="304812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0" y="3733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经典楷体简"/>
              </a:rPr>
              <a:t>（“自生自灭”是任其自然生长，自然死亡）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0" y="4724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经典楷体简"/>
              </a:rPr>
              <a:t>（养花不能对花置之不理，而要“天天照管它们，好象朋友似的关切它们”。）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73" name="Picture 7" descr="D:\素材库\图案\按钮背景\button104.gif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010280" y="533412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D:\素材库\图案\按钮背景\button106.gif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77320" y="5334120"/>
            <a:ext cx="674640" cy="674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645336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0" y="114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华文中宋"/>
                <a:ea typeface="华文中宋"/>
              </a:rPr>
              <a:t>3</a:t>
            </a:r>
            <a:r>
              <a:rPr b="1" lang="zh-CN" sz="4000" spc="-1" strike="noStrike">
                <a:solidFill>
                  <a:srgbClr val="3333ff"/>
                </a:solidFill>
                <a:latin typeface="华文中宋"/>
                <a:ea typeface="华文中宋"/>
              </a:rPr>
              <a:t>、作者为什么说他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“</a:t>
            </a:r>
            <a:r>
              <a:rPr b="1" lang="zh-CN" sz="4000" spc="-1" strike="noStrike">
                <a:solidFill>
                  <a:srgbClr val="3333ff"/>
                </a:solidFill>
                <a:latin typeface="华文中宋"/>
                <a:ea typeface="华文中宋"/>
              </a:rPr>
              <a:t>可得感谢它们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”</a:t>
            </a:r>
            <a:r>
              <a:rPr b="1" lang="zh-CN" sz="4000" spc="-1" strike="noStrike">
                <a:solidFill>
                  <a:srgbClr val="3333ff"/>
                </a:solidFill>
                <a:latin typeface="华文中宋"/>
                <a:ea typeface="华文中宋"/>
              </a:rPr>
              <a:t>？用课文里的话说一说。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0" y="3048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经典楷体简"/>
              </a:rPr>
              <a:t>（作者因为养花而受益：让脑力劳动和体力劳动得到适当的调节，有益身心，胜于吃药。）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79" name="Picture 4" descr="D:\素材库\图案\按钮背景\button106.gif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7320" y="533412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D:\素材库\图案\按钮背景\button104.gif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010280" y="5334120"/>
            <a:ext cx="67464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"/>
          <p:cNvSpPr/>
          <p:nvPr/>
        </p:nvSpPr>
        <p:spPr>
          <a:xfrm>
            <a:off x="1314360" y="142704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华文中宋"/>
                <a:ea typeface="华文中宋"/>
              </a:rPr>
              <a:t>4</a:t>
            </a:r>
            <a:r>
              <a:rPr b="1" lang="zh-CN" sz="3600" spc="-1" strike="noStrike">
                <a:solidFill>
                  <a:srgbClr val="ff0066"/>
                </a:solidFill>
                <a:latin typeface="华文中宋"/>
                <a:ea typeface="华文中宋"/>
              </a:rPr>
              <a:t>、动员全家抢救花草，十分紧张，使人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中宋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华文中宋"/>
                <a:ea typeface="华文中宋"/>
              </a:rPr>
              <a:t>腰酸腿疼，热汗直流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中宋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华文中宋"/>
                <a:ea typeface="华文中宋"/>
              </a:rPr>
              <a:t>。作者两次使用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中宋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华文中宋"/>
                <a:ea typeface="华文中宋"/>
              </a:rPr>
              <a:t>腰酸腿疼，热汗直流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中宋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华文中宋"/>
                <a:ea typeface="华文中宋"/>
              </a:rPr>
              <a:t>。你认为作者是在抱怨养花的劳累吗？为什么？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0" y="3657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经典楷体简"/>
              </a:rPr>
              <a:t>（作者不但没有抱怨养花的劳累，而是从中感受到了劳动的快乐，虽然很累，很紧张，但却感到“多么有意思呀”，从养花的辛苦中体会到了乐趣。）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85" name="Picture 4" descr="D:\素材库\图案\按钮背景\button106.gif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7320" y="548640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D:\素材库\图案\按钮背景\button104.gif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010280" y="5486400"/>
            <a:ext cx="67464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0" y="609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华文中宋"/>
                <a:ea typeface="华文中宋"/>
              </a:rPr>
              <a:t>5</a:t>
            </a:r>
            <a:r>
              <a:rPr b="1" lang="zh-CN" sz="3600" spc="-1" strike="noStrike">
                <a:solidFill>
                  <a:srgbClr val="ff0066"/>
                </a:solidFill>
                <a:latin typeface="华文中宋"/>
                <a:ea typeface="华文中宋"/>
              </a:rPr>
              <a:t>、什么是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中宋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华文中宋"/>
                <a:ea typeface="华文中宋"/>
              </a:rPr>
              <a:t>秉烛夜游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中宋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华文中宋"/>
                <a:ea typeface="华文中宋"/>
              </a:rPr>
              <a:t>？作者在照管花的过程中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中宋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华文中宋"/>
                <a:ea typeface="华文中宋"/>
              </a:rPr>
              <a:t>摸到了一些门道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中宋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华文中宋"/>
                <a:ea typeface="华文中宋"/>
              </a:rPr>
              <a:t>是什么意思？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0" y="23623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经典楷体简"/>
              </a:rPr>
              <a:t>（“秉烛夜游”指举着灯烛在夜间游赏。）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0" y="36576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经典楷体简"/>
              </a:rPr>
              <a:t>（作者养花能够得到别人的赞赏，并与朋友分享劳动果实，“心里自然特别喜欢”，这也是养花给作者带来的乐趣。摸着了一些门道是指增长了一些养花的知识。）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91" name="Picture 5" descr="D:\素材库\图案\按钮背景\button106.gif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7320" y="556272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D:\素材库\图案\按钮背景\button104.gif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934320" y="5562720"/>
            <a:ext cx="674640" cy="674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4920" y="645336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0" y="11430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华文中宋"/>
                <a:ea typeface="华文中宋"/>
              </a:rPr>
              <a:t>6</a:t>
            </a:r>
            <a:r>
              <a:rPr b="1" lang="zh-CN" sz="4000" spc="-1" strike="noStrike">
                <a:solidFill>
                  <a:srgbClr val="ff0066"/>
                </a:solidFill>
                <a:latin typeface="华文中宋"/>
                <a:ea typeface="华文中宋"/>
              </a:rPr>
              <a:t>、为什么作者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华文中宋"/>
              </a:rPr>
              <a:t>“</a:t>
            </a:r>
            <a:r>
              <a:rPr b="1" lang="zh-CN" sz="4000" spc="-1" strike="noStrike">
                <a:solidFill>
                  <a:srgbClr val="ff0066"/>
                </a:solidFill>
                <a:latin typeface="华文中宋"/>
                <a:ea typeface="华文中宋"/>
              </a:rPr>
              <a:t>也有伤心的时候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华文中宋"/>
              </a:rPr>
              <a:t>”</a:t>
            </a:r>
            <a:r>
              <a:rPr b="1" lang="zh-CN" sz="4000" spc="-1" strike="noStrike">
                <a:solidFill>
                  <a:srgbClr val="ff0066"/>
                </a:solidFill>
                <a:latin typeface="华文中宋"/>
                <a:ea typeface="华文中宋"/>
              </a:rPr>
              <a:t>？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2438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经典楷体简"/>
              </a:rPr>
              <a:t>（当花受到摧残时，养花的人难免忧郁和伤心。这说明作者已经对花产生了一种特殊的感情，也说明了作者酷爱养花的程度。）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98" name="Picture 12" descr="D:\素材库\图案\按钮背景\button104.gif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6019920" y="472428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D:\素材库\图案\按钮背景\button106.gif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315200" y="4724280"/>
            <a:ext cx="67464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4426-D2C7-491C-8F8B-C67D58394D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05:10:38Z</dcterms:created>
  <dc:creator/>
  <dc:description/>
  <cp:keywords>幻灯片之家 http:/www.eeppt.com</cp:keywords>
  <dc:language>en-US</dc:language>
  <cp:lastModifiedBy/>
  <dcterms:modified xsi:type="dcterms:W3CDTF">2015-07-20T01:57:06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