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7.gif" ContentType="image/gif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33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340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36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160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36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160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4960" y="259920"/>
            <a:ext cx="1097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340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340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2036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3160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2036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3160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4960" y="259920"/>
            <a:ext cx="1097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340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1089000" y="0"/>
            <a:ext cx="9950400" cy="542880"/>
          </a:xfrm>
          <a:prstGeom prst="rect">
            <a:avLst/>
          </a:prstGeom>
          <a:solidFill>
            <a:srgbClr val="009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TextBox 10" descr=""/>
          <p:cNvPicPr/>
          <p:nvPr/>
        </p:nvPicPr>
        <p:blipFill>
          <a:blip r:embed="rId2"/>
          <a:stretch/>
        </p:blipFill>
        <p:spPr>
          <a:xfrm>
            <a:off x="122400" y="139680"/>
            <a:ext cx="98712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矩形 12"/>
          <p:cNvSpPr/>
          <p:nvPr/>
        </p:nvSpPr>
        <p:spPr>
          <a:xfrm>
            <a:off x="11039400" y="173160"/>
            <a:ext cx="1094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</a:rPr>
              <a:t>第 </a:t>
            </a:r>
            <a:fld id="{82D75C62-FB65-4A6A-BCD3-B770F5561A50}" type="slidenum">
              <a:rPr b="0" lang="zh-CN" sz="1600" spc="-1" strike="noStrike">
                <a:solidFill>
                  <a:srgbClr val="00b0f0"/>
                </a:solidFill>
                <a:latin typeface="Calibri"/>
                <a:ea typeface="宋体"/>
              </a:rPr>
              <a:t>&lt;number&gt;</a:t>
            </a:fld>
            <a:r>
              <a:rPr b="0" lang="zh-CN" sz="1600" spc="-1" strike="noStrike">
                <a:solidFill>
                  <a:srgbClr val="00b0f0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</a:rPr>
              <a:t>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0" descr=""/>
          <p:cNvPicPr/>
          <p:nvPr/>
        </p:nvPicPr>
        <p:blipFill>
          <a:blip r:embed="rId2"/>
          <a:stretch/>
        </p:blipFill>
        <p:spPr>
          <a:xfrm>
            <a:off x="122400" y="139680"/>
            <a:ext cx="1000080" cy="86688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11"/>
          <p:cNvSpPr/>
          <p:nvPr/>
        </p:nvSpPr>
        <p:spPr>
          <a:xfrm>
            <a:off x="3222720" y="142920"/>
            <a:ext cx="0" cy="26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11039400" y="173160"/>
            <a:ext cx="1094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</a:rPr>
              <a:t>第 </a:t>
            </a:r>
            <a:fld id="{CE3692DB-5A94-4937-88CA-481AFAC8A629}" type="slidenum">
              <a:rPr b="0" lang="zh-CN" sz="1600" spc="-1" strike="noStrike">
                <a:solidFill>
                  <a:srgbClr val="00b0f0"/>
                </a:solidFill>
                <a:latin typeface="微软雅黑"/>
              </a:rPr>
              <a:t>&lt;number&gt;</a:t>
            </a:fld>
            <a:r>
              <a:rPr b="0" lang="zh-CN" sz="16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</a:rPr>
              <a:t>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18"/>
          <p:cNvSpPr/>
          <p:nvPr/>
        </p:nvSpPr>
        <p:spPr>
          <a:xfrm>
            <a:off x="5372280" y="142920"/>
            <a:ext cx="0" cy="26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9"/>
          <p:cNvSpPr/>
          <p:nvPr/>
        </p:nvSpPr>
        <p:spPr>
          <a:xfrm>
            <a:off x="7521480" y="142920"/>
            <a:ext cx="0" cy="26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hyperlink" Target="mailto:info@eyefulpresentations.co.uk" TargetMode="External"/><Relationship Id="rId5" Type="http://schemas.openxmlformats.org/officeDocument/2006/relationships/hyperlink" Target="http://www.eyefulpresentations.co.uk/" TargetMode="External"/><Relationship Id="rId6" Type="http://schemas.openxmlformats.org/officeDocument/2006/relationships/image" Target="../media/image35.jpeg"/><Relationship Id="rId7" Type="http://schemas.openxmlformats.org/officeDocument/2006/relationships/hyperlink" Target="mailto:info@eyefulpresentations.co.uk" TargetMode="External"/><Relationship Id="rId8" Type="http://schemas.openxmlformats.org/officeDocument/2006/relationships/hyperlink" Target="http://www.eyefulpresentations.co.uk/" TargetMode="External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3" descr="未标题-1.PNG"/>
          <p:cNvPicPr/>
          <p:nvPr/>
        </p:nvPicPr>
        <p:blipFill>
          <a:blip r:embed="rId1"/>
          <a:stretch/>
        </p:blipFill>
        <p:spPr>
          <a:xfrm>
            <a:off x="8921880" y="2095560"/>
            <a:ext cx="327312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2000"/>
              </a:srgbClr>
            </a:outerShdw>
          </a:effectLst>
        </p:spPr>
      </p:pic>
      <p:sp>
        <p:nvSpPr>
          <p:cNvPr id="85" name="矩形 61"/>
          <p:cNvSpPr/>
          <p:nvPr/>
        </p:nvSpPr>
        <p:spPr>
          <a:xfrm rot="19468200">
            <a:off x="-1463760" y="1196640"/>
            <a:ext cx="9709200" cy="1809720"/>
          </a:xfrm>
          <a:custGeom>
            <a:avLst/>
            <a:gdLst/>
            <a:ahLst/>
            <a:rect l="l" t="t" r="r" b="b"/>
            <a:pathLst>
              <a:path w="9710091" h="1809998">
                <a:moveTo>
                  <a:pt x="1253352" y="0"/>
                </a:moveTo>
                <a:lnTo>
                  <a:pt x="7187528" y="4254"/>
                </a:lnTo>
                <a:lnTo>
                  <a:pt x="9710091" y="1809998"/>
                </a:lnTo>
                <a:lnTo>
                  <a:pt x="0" y="1809998"/>
                </a:lnTo>
                <a:lnTo>
                  <a:pt x="1253352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857680" y="3645000"/>
            <a:ext cx="5545080" cy="3202200"/>
          </a:xfrm>
          <a:prstGeom prst="rect">
            <a:avLst/>
          </a:prstGeom>
          <a:noFill/>
          <a:ln w="28440">
            <a:solidFill>
              <a:srgbClr val="00ccff"/>
            </a:solidFill>
            <a:prstDash val="dash"/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职场人士</a:t>
            </a:r>
            <a:endParaRPr b="1" lang="en-US" sz="6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       </a:t>
            </a:r>
            <a:r>
              <a:rPr b="1" lang="zh-CN" sz="6800" spc="-1" strike="noStrike">
                <a:solidFill>
                  <a:srgbClr val="ff6600"/>
                </a:solidFill>
                <a:latin typeface="方正粗宋简体"/>
                <a:ea typeface="方正粗宋简体"/>
              </a:rPr>
              <a:t>再</a:t>
            </a:r>
            <a:r>
              <a:rPr b="1" lang="zh-CN" sz="6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思考</a:t>
            </a:r>
            <a:endParaRPr b="1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 rot="3300000">
            <a:off x="2038320" y="-635400"/>
            <a:ext cx="1800360" cy="611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拿什么来跟你竞争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63880" y="2349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演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5160960" y="779400"/>
            <a:ext cx="5881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b2f1"/>
                </a:solidFill>
                <a:latin typeface="幼圆"/>
              </a:rPr>
              <a:t>人生命运区别在哪里</a:t>
            </a:r>
            <a:r>
              <a:rPr b="1" lang="en-US" sz="3600" spc="-1" strike="noStrike">
                <a:solidFill>
                  <a:srgbClr val="01b2f1"/>
                </a:solidFill>
                <a:latin typeface="微软雅黑"/>
              </a:rPr>
              <a:t>——</a:t>
            </a:r>
            <a:r>
              <a:rPr b="1" lang="zh-CN" sz="4000" spc="-1" strike="noStrike">
                <a:solidFill>
                  <a:srgbClr val="f68426"/>
                </a:solidFill>
                <a:latin typeface="幼圆"/>
              </a:rPr>
              <a:t>标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242040" y="407664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b2f1"/>
                </a:solidFill>
                <a:latin typeface="微软雅黑"/>
              </a:rPr>
              <a:t>1</a:t>
            </a:r>
            <a:r>
              <a:rPr b="1" lang="zh-CN" sz="2000" spc="-1" strike="noStrike">
                <a:solidFill>
                  <a:srgbClr val="01b2f1"/>
                </a:solidFill>
                <a:latin typeface="微软雅黑"/>
              </a:rPr>
              <a:t>、人生区别就在：标准的要求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b2f1"/>
                </a:solidFill>
                <a:latin typeface="微软雅黑"/>
              </a:rPr>
              <a:t>2</a:t>
            </a:r>
            <a:r>
              <a:rPr b="1" lang="zh-CN" sz="2000" spc="-1" strike="noStrike">
                <a:solidFill>
                  <a:srgbClr val="01b2f1"/>
                </a:solidFill>
                <a:latin typeface="微软雅黑"/>
              </a:rPr>
              <a:t>、领导交代你的每件工作要追求完美，追求永无止境的完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b2f1"/>
                </a:solidFill>
                <a:latin typeface="微软雅黑"/>
              </a:rPr>
              <a:t>3</a:t>
            </a:r>
            <a:r>
              <a:rPr b="1" lang="zh-CN" sz="2000" spc="-1" strike="noStrike">
                <a:solidFill>
                  <a:srgbClr val="01b2f1"/>
                </a:solidFill>
                <a:latin typeface="微软雅黑"/>
              </a:rPr>
              <a:t>、把做行业的顶尖，作为你的目标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6897240" y="1786680"/>
            <a:ext cx="2319840" cy="1922760"/>
          </a:xfrm>
          <a:prstGeom prst="rect">
            <a:avLst/>
          </a:prstGeom>
          <a:noFill/>
          <a:ln w="28440">
            <a:solidFill>
              <a:srgbClr val="00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要树立高标准</a:t>
            </a:r>
            <a:r>
              <a:rPr b="1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日省其身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要勇于接受批评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不要自甘落后 </a:t>
            </a:r>
            <a:r>
              <a:rPr b="1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自满自大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不要找借口</a:t>
            </a:r>
            <a:r>
              <a:rPr b="1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不要指责别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D:\Teliss_Tong\Copy\定期备份\工作备份\！PPT图片及版面资源\06-PPT精选插图\03-人物\培训课.png"/>
          <p:cNvPicPr/>
          <p:nvPr/>
        </p:nvPicPr>
        <p:blipFill>
          <a:blip r:embed="rId1"/>
          <a:stretch/>
        </p:blipFill>
        <p:spPr>
          <a:xfrm>
            <a:off x="841320" y="1484280"/>
            <a:ext cx="5121360" cy="5010120"/>
          </a:xfrm>
          <a:prstGeom prst="rect">
            <a:avLst/>
          </a:prstGeom>
          <a:ln w="0">
            <a:noFill/>
          </a:ln>
        </p:spPr>
      </p:pic>
      <p:sp>
        <p:nvSpPr>
          <p:cNvPr id="371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128600" y="1125360"/>
            <a:ext cx="4851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b2f1"/>
                </a:solidFill>
                <a:latin typeface="幼圆"/>
              </a:rPr>
              <a:t>标准的追求折射人生高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4441680" y="4846680"/>
            <a:ext cx="3889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就算是洗一辈子的马桶</a:t>
            </a: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也要做一名洗马桶最出色的人</a:t>
            </a: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201680" y="2060640"/>
            <a:ext cx="7848720" cy="1800360"/>
          </a:xfrm>
          <a:prstGeom prst="rect">
            <a:avLst/>
          </a:prstGeom>
          <a:noFill/>
          <a:ln w="28440">
            <a:solidFill>
              <a:srgbClr val="00cc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微软雅黑"/>
              </a:rPr>
              <a:t>1</a:t>
            </a: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、行情不好，竞争加剧！你还是，你还是原来的三把斧头能行吗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微软雅黑"/>
              </a:rPr>
              <a:t>2</a:t>
            </a: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、社会在进步，要求更多服务，更多附加价值，你给到客户了吗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微软雅黑"/>
              </a:rPr>
              <a:t>3</a:t>
            </a: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、没有工作热情，而是像老牛拉磨一样，   懒散的会得到晋升吗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微软雅黑"/>
              </a:rPr>
              <a:t>4</a:t>
            </a: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、老板出钱、我出力，等价交换，谁也不欠谁，谁也不必认真</a:t>
            </a:r>
            <a:r>
              <a:rPr b="1" lang="en-US" sz="2000" spc="-1" strike="noStrike">
                <a:solidFill>
                  <a:srgbClr val="5f5f5f"/>
                </a:solidFill>
                <a:latin typeface="微软雅黑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1273320" y="4149720"/>
            <a:ext cx="7777080" cy="2045160"/>
          </a:xfrm>
          <a:prstGeom prst="rect">
            <a:avLst/>
          </a:prstGeom>
          <a:noFill/>
          <a:ln w="28440">
            <a:solidFill>
              <a:srgbClr val="00cc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反复写出你的目标，并将目标视觉化，要充满信心期待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想象达成目标的愉快感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随时专注在这些目标上，目标要切实可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热切的欲望是自信的开始，有目标才没有时间自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C:\Users\user\Desktop\未标题-1 拷贝.png"/>
          <p:cNvPicPr/>
          <p:nvPr/>
        </p:nvPicPr>
        <p:blipFill>
          <a:blip r:embed="rId1"/>
          <a:srcRect l="0" t="0" r="87" b="0"/>
          <a:stretch/>
        </p:blipFill>
        <p:spPr>
          <a:xfrm>
            <a:off x="9097920" y="0"/>
            <a:ext cx="3097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1" descr="slide0033_image243"/>
          <p:cNvPicPr/>
          <p:nvPr/>
        </p:nvPicPr>
        <p:blipFill>
          <a:blip r:embed="rId1"/>
          <a:stretch/>
        </p:blipFill>
        <p:spPr>
          <a:xfrm>
            <a:off x="5018040" y="3246480"/>
            <a:ext cx="7176960" cy="36115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1344600" y="2721960"/>
            <a:ext cx="7488360" cy="1831680"/>
          </a:xfrm>
          <a:prstGeom prst="rect">
            <a:avLst/>
          </a:prstGeom>
          <a:noFill/>
          <a:ln w="28440">
            <a:solidFill>
              <a:srgbClr val="00cc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自律就是自己约束自己，自己控制自己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自律是自我超越的起点，也是修养的基本要求之一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它是人们自我超越的必要条件。不能自律的人何谈自我超越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自律自治，挑战极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6"/>
          <p:cNvSpPr/>
          <p:nvPr/>
        </p:nvSpPr>
        <p:spPr>
          <a:xfrm>
            <a:off x="1273320" y="18432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b2f1"/>
                </a:solidFill>
                <a:latin typeface="微软雅黑"/>
              </a:rPr>
              <a:t>能够抵御各种诱惑，敢于慎独，不搞自由主义 ，不反复无常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1417680" y="1125000"/>
            <a:ext cx="921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8426"/>
                </a:solidFill>
                <a:latin typeface="微软雅黑"/>
              </a:rPr>
              <a:t>经受过严寒的人，才知道太阳的温暖，饱尝过人生艰辛的人，才懂得生命的可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自律自治，挑战极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rc 26"/>
          <p:cNvSpPr/>
          <p:nvPr/>
        </p:nvSpPr>
        <p:spPr>
          <a:xfrm flipV="1">
            <a:off x="3576600" y="2487960"/>
            <a:ext cx="7416720" cy="2840040"/>
          </a:xfrm>
          <a:custGeom>
            <a:avLst/>
            <a:gdLst/>
            <a:ahLst/>
            <a:rect l="l" t="t" r="r" b="b"/>
            <a:pathLst>
              <a:path fill="none" w="21600" h="25410">
                <a:moveTo>
                  <a:pt x="19768" y="0"/>
                </a:moveTo>
                <a:cubicBezTo>
                  <a:pt x="20976" y="2742"/>
                  <a:pt x="21600" y="5707"/>
                  <a:pt x="21600" y="8704"/>
                </a:cubicBezTo>
                <a:cubicBezTo>
                  <a:pt x="21600" y="15176"/>
                  <a:pt x="18697" y="21307"/>
                  <a:pt x="13691" y="25410"/>
                </a:cubicBezTo>
              </a:path>
              <a:path stroke="0" w="21600" h="25410">
                <a:moveTo>
                  <a:pt x="19768" y="0"/>
                </a:moveTo>
                <a:cubicBezTo>
                  <a:pt x="20976" y="2742"/>
                  <a:pt x="21600" y="5707"/>
                  <a:pt x="21600" y="8704"/>
                </a:cubicBezTo>
                <a:cubicBezTo>
                  <a:pt x="21600" y="15176"/>
                  <a:pt x="18697" y="21307"/>
                  <a:pt x="13691" y="25410"/>
                </a:cubicBezTo>
                <a:lnTo>
                  <a:pt x="0" y="8704"/>
                </a:lnTo>
                <a:lnTo>
                  <a:pt x="19768" y="0"/>
                </a:lnTo>
                <a:close/>
              </a:path>
            </a:pathLst>
          </a:custGeom>
          <a:noFill/>
          <a:ln w="76320">
            <a:solidFill>
              <a:srgbClr val="00ccff"/>
            </a:solidFill>
            <a:prstDash val="sysDot"/>
            <a:round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27"/>
          <p:cNvSpPr/>
          <p:nvPr/>
        </p:nvSpPr>
        <p:spPr>
          <a:xfrm flipH="1" flipV="1">
            <a:off x="1272960" y="2491560"/>
            <a:ext cx="8802720" cy="2706840"/>
          </a:xfrm>
          <a:custGeom>
            <a:avLst/>
            <a:gdLst/>
            <a:ahLst/>
            <a:rect l="l" t="t" r="r" b="b"/>
            <a:pathLst>
              <a:path fill="none" w="21600" h="23522">
                <a:moveTo>
                  <a:pt x="17745" y="0"/>
                </a:moveTo>
                <a:cubicBezTo>
                  <a:pt x="20255" y="3616"/>
                  <a:pt x="21600" y="7913"/>
                  <a:pt x="21600" y="12315"/>
                </a:cubicBezTo>
                <a:cubicBezTo>
                  <a:pt x="21600" y="16267"/>
                  <a:pt x="20515" y="20143"/>
                  <a:pt x="18465" y="23522"/>
                </a:cubicBezTo>
              </a:path>
              <a:path stroke="0" w="21600" h="23522">
                <a:moveTo>
                  <a:pt x="17745" y="0"/>
                </a:moveTo>
                <a:cubicBezTo>
                  <a:pt x="20255" y="3616"/>
                  <a:pt x="21600" y="7913"/>
                  <a:pt x="21600" y="12315"/>
                </a:cubicBezTo>
                <a:cubicBezTo>
                  <a:pt x="21600" y="16267"/>
                  <a:pt x="20515" y="20143"/>
                  <a:pt x="18465" y="23522"/>
                </a:cubicBezTo>
                <a:lnTo>
                  <a:pt x="0" y="12315"/>
                </a:lnTo>
                <a:lnTo>
                  <a:pt x="17745" y="0"/>
                </a:lnTo>
                <a:close/>
              </a:path>
            </a:pathLst>
          </a:custGeom>
          <a:noFill/>
          <a:ln w="76320">
            <a:solidFill>
              <a:srgbClr val="00ccff"/>
            </a:solidFill>
            <a:prstDash val="sysDot"/>
            <a:round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8"/>
          <p:cNvGrpSpPr/>
          <p:nvPr/>
        </p:nvGrpSpPr>
        <p:grpSpPr>
          <a:xfrm>
            <a:off x="2111400" y="1844280"/>
            <a:ext cx="7984080" cy="2563920"/>
            <a:chOff x="2111400" y="1844280"/>
            <a:chExt cx="7984080" cy="2563920"/>
          </a:xfrm>
        </p:grpSpPr>
        <p:grpSp>
          <p:nvGrpSpPr>
            <p:cNvPr id="399" name="Group 29"/>
            <p:cNvGrpSpPr/>
            <p:nvPr/>
          </p:nvGrpSpPr>
          <p:grpSpPr>
            <a:xfrm>
              <a:off x="2111400" y="1844280"/>
              <a:ext cx="7984080" cy="2563920"/>
              <a:chOff x="2111400" y="1844280"/>
              <a:chExt cx="7984080" cy="2563920"/>
            </a:xfrm>
          </p:grpSpPr>
          <p:sp>
            <p:nvSpPr>
              <p:cNvPr id="400" name="AutoShape 30"/>
              <p:cNvSpPr/>
              <p:nvPr/>
            </p:nvSpPr>
            <p:spPr>
              <a:xfrm flipV="1">
                <a:off x="2111400" y="3924720"/>
                <a:ext cx="7984080" cy="482760"/>
              </a:xfrm>
              <a:custGeom>
                <a:avLst/>
                <a:gdLst>
                  <a:gd name="textAreaLeft" fmla="*/ 1041120 w 7984080"/>
                  <a:gd name="textAreaRight" fmla="*/ 6942960 w 7984080"/>
                  <a:gd name="textAreaTop" fmla="*/ 63000 h 482760"/>
                  <a:gd name="textAreaBottom" fmla="*/ 419760 h 48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32" y="21600"/>
                    </a:lnTo>
                    <a:lnTo>
                      <a:pt x="1956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e4">
                      <a:alpha val="0"/>
                    </a:srgbClr>
                  </a:gs>
                  <a:gs pos="100000">
                    <a:srgbClr val="000000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31"/>
              <p:cNvSpPr/>
              <p:nvPr/>
            </p:nvSpPr>
            <p:spPr>
              <a:xfrm flipV="1" rot="10800000">
                <a:off x="2159280" y="3820680"/>
                <a:ext cx="7894440" cy="154080"/>
              </a:xfrm>
              <a:custGeom>
                <a:avLst/>
                <a:gdLst>
                  <a:gd name="textAreaLeft" fmla="*/ 1061640 w 7894440"/>
                  <a:gd name="textAreaRight" fmla="*/ 6832800 w 7894440"/>
                  <a:gd name="textAreaTop" fmla="*/ 20880 h 154080"/>
                  <a:gd name="textAreaBottom" fmla="*/ 133200 h 15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18" y="21600"/>
                    </a:lnTo>
                    <a:lnTo>
                      <a:pt x="1938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1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32"/>
              <p:cNvSpPr/>
              <p:nvPr/>
            </p:nvSpPr>
            <p:spPr>
              <a:xfrm rot="10800000">
                <a:off x="2159280" y="1843920"/>
                <a:ext cx="7894440" cy="1976040"/>
              </a:xfrm>
              <a:custGeom>
                <a:avLst/>
                <a:gdLst>
                  <a:gd name="textAreaLeft" fmla="*/ 830520 w 7894440"/>
                  <a:gd name="textAreaRight" fmla="*/ 7063920 w 7894440"/>
                  <a:gd name="textAreaTop" fmla="*/ 210240 h 1976040"/>
                  <a:gd name="textAreaBottom" fmla="*/ 1765800 h 197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43" y="21600"/>
                    </a:lnTo>
                    <a:lnTo>
                      <a:pt x="2065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33"/>
              <p:cNvSpPr/>
              <p:nvPr/>
            </p:nvSpPr>
            <p:spPr>
              <a:xfrm rot="10800000">
                <a:off x="2438640" y="1907280"/>
                <a:ext cx="7346160" cy="489240"/>
              </a:xfrm>
              <a:custGeom>
                <a:avLst/>
                <a:gdLst>
                  <a:gd name="textAreaLeft" fmla="*/ 654840 w 7346160"/>
                  <a:gd name="textAreaRight" fmla="*/ 6691320 w 7346160"/>
                  <a:gd name="textAreaTop" fmla="*/ 41760 h 489240"/>
                  <a:gd name="textAreaBottom" fmla="*/ 447480 h 48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43" y="21600"/>
                    </a:lnTo>
                    <a:lnTo>
                      <a:pt x="2135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24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34"/>
            <p:cNvSpPr/>
            <p:nvPr/>
          </p:nvSpPr>
          <p:spPr>
            <a:xfrm>
              <a:off x="2371320" y="1844640"/>
              <a:ext cx="7180560" cy="18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检讨：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、现在市场或金融风波的影响，市场不好，真是个麻烦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、这样的条件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,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经理还要我们干出好的成绩来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!——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多难呀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!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3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、我的经理老给我出难题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4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、我们什么都没感觉到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35"/>
          <p:cNvSpPr/>
          <p:nvPr/>
        </p:nvSpPr>
        <p:spPr>
          <a:xfrm>
            <a:off x="3505320" y="4585320"/>
            <a:ext cx="6480000" cy="1206720"/>
          </a:xfrm>
          <a:prstGeom prst="rect">
            <a:avLst/>
          </a:prstGeom>
          <a:solidFill>
            <a:srgbClr val="01a0d9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</a:rPr>
              <a:t>问题是扶手，困难是雕刻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</a:rPr>
              <a:t>自古英豪出贫家！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</a:rPr>
              <a:t>困难永远存在，只有战胜困难才可以粹炼成精华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6" descr="3"/>
          <p:cNvPicPr/>
          <p:nvPr/>
        </p:nvPicPr>
        <p:blipFill>
          <a:blip r:embed="rId1"/>
          <a:stretch/>
        </p:blipFill>
        <p:spPr>
          <a:xfrm>
            <a:off x="10139400" y="4724280"/>
            <a:ext cx="20556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44"/>
          <p:cNvSpPr/>
          <p:nvPr/>
        </p:nvSpPr>
        <p:spPr>
          <a:xfrm>
            <a:off x="1488960" y="1258920"/>
            <a:ext cx="929016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</a:rPr>
              <a:t>我们生命中的挫折就如同这些泥沙，</a:t>
            </a:r>
            <a:r>
              <a:rPr b="1" lang="zh-CN" sz="2000" spc="-1" strike="noStrike">
                <a:solidFill>
                  <a:srgbClr val="01a0d9"/>
                </a:solidFill>
                <a:latin typeface="微软雅黑"/>
              </a:rPr>
              <a:t>把“泥沙”抖落掉，然后站到上面去，它就是我们成长的阶梯。</a:t>
            </a:r>
            <a:r>
              <a:rPr b="1" lang="zh-CN" sz="2000" spc="-1" strike="noStrike">
                <a:solidFill>
                  <a:srgbClr val="7f7f7f"/>
                </a:solidFill>
                <a:latin typeface="微软雅黑"/>
              </a:rPr>
              <a:t>人们正是在不断地认识挫折、战胜挫折的过程中成长和发展起来的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6"/>
          <p:cNvSpPr/>
          <p:nvPr/>
        </p:nvSpPr>
        <p:spPr>
          <a:xfrm>
            <a:off x="1344600" y="1197000"/>
            <a:ext cx="10117080" cy="1512720"/>
          </a:xfrm>
          <a:prstGeom prst="rect">
            <a:avLst/>
          </a:prstGeom>
          <a:noFill/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F:\TDZ临时\其他备用\！PPT图片及版面资源\06-PPT精选插图\04-图标\右边角-黄1.png"/>
          <p:cNvPicPr/>
          <p:nvPr/>
        </p:nvPicPr>
        <p:blipFill>
          <a:blip r:embed="rId1"/>
          <a:stretch/>
        </p:blipFill>
        <p:spPr>
          <a:xfrm>
            <a:off x="10399680" y="1628640"/>
            <a:ext cx="115740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1"/>
          <p:cNvSpPr/>
          <p:nvPr/>
        </p:nvSpPr>
        <p:spPr>
          <a:xfrm rot="18944400">
            <a:off x="10909080" y="2161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点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1"/>
          <p:cNvSpPr/>
          <p:nvPr/>
        </p:nvSpPr>
        <p:spPr>
          <a:xfrm>
            <a:off x="7105680" y="6021360"/>
            <a:ext cx="208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1.</a:t>
            </a: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蝴蝶破茧而出的故事</a:t>
            </a: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2.</a:t>
            </a: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小孩子学走路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F:\TDZ临时\其他备用\！PPT图片及版面资源\06-PPT精选插图\02-商务\井里的驴子.jpg"/>
          <p:cNvPicPr/>
          <p:nvPr/>
        </p:nvPicPr>
        <p:blipFill>
          <a:blip r:embed="rId2"/>
          <a:stretch/>
        </p:blipFill>
        <p:spPr>
          <a:xfrm>
            <a:off x="7034040" y="2854440"/>
            <a:ext cx="4422960" cy="3095640"/>
          </a:xfrm>
          <a:prstGeom prst="rect">
            <a:avLst/>
          </a:prstGeom>
          <a:ln w="9360">
            <a:solidFill>
              <a:srgbClr val="f79646"/>
            </a:solidFill>
            <a:miter/>
          </a:ln>
        </p:spPr>
      </p:pic>
      <p:sp>
        <p:nvSpPr>
          <p:cNvPr id="413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自律自治，挑战极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7"/>
          <p:cNvSpPr/>
          <p:nvPr/>
        </p:nvSpPr>
        <p:spPr>
          <a:xfrm>
            <a:off x="1344600" y="3141720"/>
            <a:ext cx="5256360" cy="1410120"/>
          </a:xfrm>
          <a:prstGeom prst="rect">
            <a:avLst/>
          </a:prstGeom>
          <a:noFill/>
          <a:ln w="19080">
            <a:solidFill>
              <a:srgbClr val="00ccff"/>
            </a:solidFill>
            <a:prstDash val="lgDashDot"/>
            <a:miter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68426"/>
                </a:solidFill>
                <a:latin typeface="Arial"/>
              </a:rPr>
              <a:t>信心：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相信没有不能改变的缺点，相信自己可以战胜自己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68426"/>
                </a:solidFill>
                <a:latin typeface="Arial"/>
              </a:rPr>
              <a:t>专心：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全力以赴，专心致志，不三心二意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68426"/>
                </a:solidFill>
                <a:latin typeface="Arial"/>
              </a:rPr>
              <a:t>耐心：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在没有得到上级关注和回报时，能够坚持用高标准要求自己，不断进步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68426"/>
                </a:solidFill>
                <a:latin typeface="Arial"/>
              </a:rPr>
              <a:t>恒心：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遇到困难、差距、挫折、失败时，不沮丧、不畏惧、不轻言放弃，全力寻找走出困境的方法，坚持到底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8"/>
          <p:cNvSpPr/>
          <p:nvPr/>
        </p:nvSpPr>
        <p:spPr>
          <a:xfrm>
            <a:off x="2209680" y="6165720"/>
            <a:ext cx="355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1.</a:t>
            </a: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囚犯的死</a:t>
            </a: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(</a:t>
            </a: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冰片</a:t>
            </a: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);2.</a:t>
            </a: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塌方</a:t>
            </a: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4</a:t>
            </a: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小时后获救</a:t>
            </a: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3.</a:t>
            </a: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刘备的成长</a:t>
            </a: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;4.</a:t>
            </a: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跳蚤自我设限</a:t>
            </a: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6960" y="6922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21"/>
          <p:cNvSpPr/>
          <p:nvPr/>
        </p:nvSpPr>
        <p:spPr>
          <a:xfrm>
            <a:off x="1201680" y="1844640"/>
            <a:ext cx="6553080" cy="4376880"/>
          </a:xfrm>
          <a:prstGeom prst="rect">
            <a:avLst/>
          </a:prstGeom>
          <a:noFill/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4"/>
          <p:cNvSpPr/>
          <p:nvPr/>
        </p:nvSpPr>
        <p:spPr>
          <a:xfrm>
            <a:off x="1994040" y="1963800"/>
            <a:ext cx="56163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3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修正消极的自我评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看到自己的长处和力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开始将自己想象成为理想中的模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自我确认并言词化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伪装你已具有了高尚人的人格特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4"/>
          <p:cNvSpPr/>
          <p:nvPr/>
        </p:nvSpPr>
        <p:spPr>
          <a:xfrm>
            <a:off x="1417680" y="4221000"/>
            <a:ext cx="61927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01a0d9"/>
                </a:solidFill>
                <a:latin typeface="Arial"/>
              </a:rPr>
              <a:t>每一次面对逆境的时候，人最容易想到的就是放弃，这恰恰便是平庸人的选择。</a:t>
            </a: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看一个人是不是真正的英雄，不能看他风光无限的时候，而是要看他走麦城，身陷低谷的时候，这大概人们常说的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</a:rPr>
              <a:t>“</a:t>
            </a: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逆境中方显英雄本色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0"/>
          <p:cNvSpPr/>
          <p:nvPr/>
        </p:nvSpPr>
        <p:spPr>
          <a:xfrm>
            <a:off x="1086120" y="1989000"/>
            <a:ext cx="7902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8426"/>
                </a:solidFill>
                <a:latin typeface="微软雅黑"/>
              </a:rPr>
              <a:t>建立积极观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自律自治，挑战极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8" descr="70-11092Q6433599"/>
          <p:cNvPicPr/>
          <p:nvPr/>
        </p:nvPicPr>
        <p:blipFill>
          <a:blip r:embed="rId1"/>
          <a:stretch/>
        </p:blipFill>
        <p:spPr>
          <a:xfrm>
            <a:off x="7826400" y="1197000"/>
            <a:ext cx="3959280" cy="5114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精选35（www"/>
          <p:cNvPicPr/>
          <p:nvPr/>
        </p:nvPicPr>
        <p:blipFill>
          <a:blip r:embed="rId1"/>
          <a:stretch/>
        </p:blipFill>
        <p:spPr>
          <a:xfrm>
            <a:off x="6673680" y="1125360"/>
            <a:ext cx="5328000" cy="51120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21"/>
          <p:cNvSpPr/>
          <p:nvPr/>
        </p:nvSpPr>
        <p:spPr>
          <a:xfrm>
            <a:off x="1123200" y="1052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b2f1"/>
                </a:solidFill>
                <a:latin typeface="微软雅黑"/>
              </a:rPr>
              <a:t>自信心的训练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1612800" y="2602080"/>
            <a:ext cx="3116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a0d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1" lang="zh-CN" sz="2800" spc="-1" strike="noStrike">
                <a:solidFill>
                  <a:srgbClr val="5f5f5f"/>
                </a:solidFill>
                <a:latin typeface="微软雅黑"/>
              </a:rPr>
              <a:t>练习正视别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1612800" y="3370320"/>
            <a:ext cx="3476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a0d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1" lang="zh-CN" sz="2800" spc="-1" strike="noStrike">
                <a:solidFill>
                  <a:srgbClr val="5f5f5f"/>
                </a:solidFill>
                <a:latin typeface="微软雅黑"/>
              </a:rPr>
              <a:t>抬头挺胸快步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1612800" y="4219560"/>
            <a:ext cx="604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1128600" y="2492280"/>
            <a:ext cx="56660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1"/>
          <p:cNvSpPr/>
          <p:nvPr/>
        </p:nvSpPr>
        <p:spPr>
          <a:xfrm>
            <a:off x="1128600" y="3213000"/>
            <a:ext cx="56660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1128600" y="4005360"/>
            <a:ext cx="56660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1612800" y="1844640"/>
            <a:ext cx="3260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a0d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1" lang="zh-CN" sz="2800" spc="-1" strike="noStrike">
                <a:solidFill>
                  <a:srgbClr val="5f5f5f"/>
                </a:solidFill>
                <a:latin typeface="微软雅黑"/>
              </a:rPr>
              <a:t>找前排的位置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619280" y="4140360"/>
            <a:ext cx="3110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a0d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1" lang="zh-CN" sz="2800" spc="-1" strike="noStrike">
                <a:solidFill>
                  <a:srgbClr val="5f5f5f"/>
                </a:solidFill>
                <a:latin typeface="微软雅黑"/>
              </a:rPr>
              <a:t>练习当众发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>
            <a:off x="1128600" y="4724280"/>
            <a:ext cx="56660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1611360" y="4869000"/>
            <a:ext cx="3693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a0d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1" lang="zh-CN" sz="2800" spc="-1" strike="noStrike">
                <a:solidFill>
                  <a:srgbClr val="5f5f5f"/>
                </a:solidFill>
                <a:latin typeface="微软雅黑"/>
              </a:rPr>
              <a:t>主动的和别人说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2"/>
          <p:cNvSpPr/>
          <p:nvPr/>
        </p:nvSpPr>
        <p:spPr>
          <a:xfrm>
            <a:off x="1425600" y="5445000"/>
            <a:ext cx="56642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1604880" y="5611680"/>
            <a:ext cx="60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611360" y="5532480"/>
            <a:ext cx="2830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a0d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1" lang="zh-CN" sz="2800" spc="-1" strike="noStrike">
                <a:solidFill>
                  <a:srgbClr val="5f5f5f"/>
                </a:solidFill>
                <a:latin typeface="微软雅黑"/>
              </a:rPr>
              <a:t>爽朗的大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>
            <a:off x="1128600" y="6165720"/>
            <a:ext cx="56660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C:\Documents and Settings\tdz\桌面\新建文件夹\为高手鼓掌.jpg"/>
          <p:cNvPicPr/>
          <p:nvPr/>
        </p:nvPicPr>
        <p:blipFill>
          <a:blip r:embed="rId1"/>
          <a:stretch/>
        </p:blipFill>
        <p:spPr>
          <a:xfrm>
            <a:off x="79200" y="4635360"/>
            <a:ext cx="2910240" cy="1818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</p:pic>
      <p:pic>
        <p:nvPicPr>
          <p:cNvPr id="446" name="Picture 3" descr="C:\Documents and Settings\tdz\桌面\新建文件夹\20121281732304920306.jpg"/>
          <p:cNvPicPr/>
          <p:nvPr/>
        </p:nvPicPr>
        <p:blipFill>
          <a:blip r:embed="rId2"/>
          <a:stretch/>
        </p:blipFill>
        <p:spPr>
          <a:xfrm>
            <a:off x="3127320" y="4635360"/>
            <a:ext cx="2909880" cy="1818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</p:pic>
      <p:pic>
        <p:nvPicPr>
          <p:cNvPr id="447" name="Picture 4" descr="C:\Documents and Settings\tdz\桌面\新建文件夹\2012511855371554.jpg"/>
          <p:cNvPicPr/>
          <p:nvPr/>
        </p:nvPicPr>
        <p:blipFill>
          <a:blip r:embed="rId3"/>
          <a:stretch/>
        </p:blipFill>
        <p:spPr>
          <a:xfrm>
            <a:off x="6159600" y="4635360"/>
            <a:ext cx="2908080" cy="1818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</p:pic>
      <p:sp>
        <p:nvSpPr>
          <p:cNvPr id="448" name="Oval 60">
            <a:hlinkClick r:id="rId4"/>
          </p:cNvPr>
          <p:cNvSpPr/>
          <p:nvPr/>
        </p:nvSpPr>
        <p:spPr>
          <a:xfrm>
            <a:off x="5969160" y="2421000"/>
            <a:ext cx="446040" cy="523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61">
            <a:hlinkClick r:id="rId5"/>
          </p:cNvPr>
          <p:cNvSpPr/>
          <p:nvPr/>
        </p:nvSpPr>
        <p:spPr>
          <a:xfrm>
            <a:off x="5981760" y="3228840"/>
            <a:ext cx="420480" cy="52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​​ 5"/>
          <p:cNvSpPr/>
          <p:nvPr/>
        </p:nvSpPr>
        <p:spPr>
          <a:xfrm>
            <a:off x="0" y="0"/>
            <a:ext cx="12195000" cy="44845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 flipV="1">
            <a:off x="6191280" y="1671120"/>
            <a:ext cx="1440" cy="27003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0" y="3913200"/>
            <a:ext cx="1922400" cy="158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29520" bIns="-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9"/>
          <p:cNvSpPr/>
          <p:nvPr/>
        </p:nvSpPr>
        <p:spPr>
          <a:xfrm flipH="1">
            <a:off x="1922400" y="2739960"/>
            <a:ext cx="201600" cy="118908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1"/>
          <p:cNvSpPr/>
          <p:nvPr/>
        </p:nvSpPr>
        <p:spPr>
          <a:xfrm>
            <a:off x="3137040" y="2562120"/>
            <a:ext cx="7920" cy="18068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1"/>
          <p:cNvSpPr/>
          <p:nvPr/>
        </p:nvSpPr>
        <p:spPr>
          <a:xfrm>
            <a:off x="1154160" y="2738520"/>
            <a:ext cx="982440" cy="198360"/>
          </a:xfrm>
          <a:custGeom>
            <a:avLst/>
            <a:gdLst>
              <a:gd name="textAreaLeft" fmla="*/ 0 w 982440"/>
              <a:gd name="textAreaRight" fmla="*/ 982800 w 9824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618" h="167">
                <a:moveTo>
                  <a:pt x="0" y="167"/>
                </a:moveTo>
                <a:lnTo>
                  <a:pt x="616" y="20"/>
                </a:lnTo>
                <a:lnTo>
                  <a:pt x="618" y="0"/>
                </a:lnTo>
                <a:lnTo>
                  <a:pt x="2" y="153"/>
                </a:lnTo>
              </a:path>
            </a:pathLst>
          </a:custGeom>
          <a:solidFill>
            <a:srgbClr val="ffffff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3"/>
          <p:cNvSpPr/>
          <p:nvPr/>
        </p:nvSpPr>
        <p:spPr>
          <a:xfrm>
            <a:off x="2104920" y="2459160"/>
            <a:ext cx="1567080" cy="309600"/>
          </a:xfrm>
          <a:custGeom>
            <a:avLst/>
            <a:gdLst>
              <a:gd name="textAreaLeft" fmla="*/ 0 w 1567080"/>
              <a:gd name="textAreaRight" fmla="*/ 1567440 w 15670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987" h="260">
                <a:moveTo>
                  <a:pt x="0" y="260"/>
                </a:moveTo>
                <a:lnTo>
                  <a:pt x="985" y="19"/>
                </a:lnTo>
                <a:lnTo>
                  <a:pt x="987" y="0"/>
                </a:lnTo>
                <a:lnTo>
                  <a:pt x="8" y="238"/>
                </a:lnTo>
              </a:path>
            </a:pathLst>
          </a:custGeom>
          <a:solidFill>
            <a:srgbClr val="ffffff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15"/>
          <p:cNvSpPr/>
          <p:nvPr/>
        </p:nvSpPr>
        <p:spPr>
          <a:xfrm>
            <a:off x="1260360" y="946080"/>
            <a:ext cx="2543400" cy="846360"/>
          </a:xfrm>
          <a:custGeom>
            <a:avLst/>
            <a:gdLst>
              <a:gd name="textAreaLeft" fmla="*/ 0 w 2543400"/>
              <a:gd name="textAreaRight" fmla="*/ 2543760 w 25434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1002" h="396">
                <a:moveTo>
                  <a:pt x="1002" y="3"/>
                </a:moveTo>
                <a:cubicBezTo>
                  <a:pt x="997" y="12"/>
                  <a:pt x="997" y="12"/>
                  <a:pt x="997" y="12"/>
                </a:cubicBezTo>
                <a:cubicBezTo>
                  <a:pt x="993" y="11"/>
                  <a:pt x="993" y="11"/>
                  <a:pt x="993" y="11"/>
                </a:cubicBezTo>
                <a:cubicBezTo>
                  <a:pt x="990" y="10"/>
                  <a:pt x="986" y="9"/>
                  <a:pt x="982" y="9"/>
                </a:cubicBezTo>
                <a:cubicBezTo>
                  <a:pt x="977" y="9"/>
                  <a:pt x="972" y="9"/>
                  <a:pt x="967" y="9"/>
                </a:cubicBezTo>
                <a:cubicBezTo>
                  <a:pt x="962" y="10"/>
                  <a:pt x="957" y="10"/>
                  <a:pt x="953" y="11"/>
                </a:cubicBezTo>
                <a:cubicBezTo>
                  <a:pt x="948" y="13"/>
                  <a:pt x="943" y="14"/>
                  <a:pt x="939" y="16"/>
                </a:cubicBezTo>
                <a:cubicBezTo>
                  <a:pt x="424" y="224"/>
                  <a:pt x="424" y="224"/>
                  <a:pt x="424" y="224"/>
                </a:cubicBezTo>
                <a:cubicBezTo>
                  <a:pt x="376" y="244"/>
                  <a:pt x="376" y="244"/>
                  <a:pt x="376" y="244"/>
                </a:cubicBezTo>
                <a:cubicBezTo>
                  <a:pt x="1" y="396"/>
                  <a:pt x="1" y="396"/>
                  <a:pt x="1" y="396"/>
                </a:cubicBezTo>
                <a:cubicBezTo>
                  <a:pt x="0" y="390"/>
                  <a:pt x="0" y="390"/>
                  <a:pt x="0" y="390"/>
                </a:cubicBezTo>
                <a:cubicBezTo>
                  <a:pt x="377" y="237"/>
                  <a:pt x="377" y="237"/>
                  <a:pt x="377" y="237"/>
                </a:cubicBezTo>
                <a:cubicBezTo>
                  <a:pt x="424" y="218"/>
                  <a:pt x="424" y="218"/>
                  <a:pt x="424" y="218"/>
                </a:cubicBezTo>
                <a:cubicBezTo>
                  <a:pt x="938" y="8"/>
                  <a:pt x="938" y="8"/>
                  <a:pt x="938" y="8"/>
                </a:cubicBezTo>
                <a:cubicBezTo>
                  <a:pt x="943" y="6"/>
                  <a:pt x="948" y="5"/>
                  <a:pt x="954" y="3"/>
                </a:cubicBezTo>
                <a:cubicBezTo>
                  <a:pt x="959" y="2"/>
                  <a:pt x="965" y="1"/>
                  <a:pt x="971" y="1"/>
                </a:cubicBezTo>
                <a:cubicBezTo>
                  <a:pt x="976" y="0"/>
                  <a:pt x="982" y="0"/>
                  <a:pt x="987" y="0"/>
                </a:cubicBezTo>
                <a:cubicBezTo>
                  <a:pt x="992" y="1"/>
                  <a:pt x="996" y="1"/>
                  <a:pt x="1000" y="3"/>
                </a:cubicBezTo>
                <a:cubicBezTo>
                  <a:pt x="1002" y="3"/>
                  <a:pt x="1002" y="3"/>
                  <a:pt x="1002" y="3"/>
                </a:cubicBezTo>
              </a:path>
            </a:pathLst>
          </a:custGeom>
          <a:solidFill>
            <a:srgbClr val="ffffff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6"/>
          <p:cNvSpPr/>
          <p:nvPr/>
        </p:nvSpPr>
        <p:spPr>
          <a:xfrm>
            <a:off x="938160" y="1778040"/>
            <a:ext cx="325440" cy="1190520"/>
          </a:xfrm>
          <a:custGeom>
            <a:avLst/>
            <a:gdLst>
              <a:gd name="textAreaLeft" fmla="*/ 0 w 325440"/>
              <a:gd name="textAreaRight" fmla="*/ 325800 w 32544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28" h="558">
                <a:moveTo>
                  <a:pt x="128" y="6"/>
                </a:moveTo>
                <a:cubicBezTo>
                  <a:pt x="124" y="7"/>
                  <a:pt x="124" y="7"/>
                  <a:pt x="124" y="7"/>
                </a:cubicBezTo>
                <a:cubicBezTo>
                  <a:pt x="122" y="8"/>
                  <a:pt x="120" y="9"/>
                  <a:pt x="118" y="11"/>
                </a:cubicBezTo>
                <a:cubicBezTo>
                  <a:pt x="116" y="13"/>
                  <a:pt x="114" y="15"/>
                  <a:pt x="112" y="17"/>
                </a:cubicBezTo>
                <a:cubicBezTo>
                  <a:pt x="111" y="19"/>
                  <a:pt x="109" y="21"/>
                  <a:pt x="108" y="24"/>
                </a:cubicBezTo>
                <a:cubicBezTo>
                  <a:pt x="107" y="26"/>
                  <a:pt x="106" y="28"/>
                  <a:pt x="106" y="31"/>
                </a:cubicBezTo>
                <a:cubicBezTo>
                  <a:pt x="64" y="240"/>
                  <a:pt x="64" y="240"/>
                  <a:pt x="64" y="240"/>
                </a:cubicBezTo>
                <a:cubicBezTo>
                  <a:pt x="55" y="287"/>
                  <a:pt x="55" y="287"/>
                  <a:pt x="55" y="287"/>
                </a:cubicBezTo>
                <a:cubicBezTo>
                  <a:pt x="7" y="530"/>
                  <a:pt x="7" y="530"/>
                  <a:pt x="7" y="530"/>
                </a:cubicBezTo>
                <a:cubicBezTo>
                  <a:pt x="6" y="533"/>
                  <a:pt x="6" y="536"/>
                  <a:pt x="6" y="539"/>
                </a:cubicBezTo>
                <a:cubicBezTo>
                  <a:pt x="6" y="541"/>
                  <a:pt x="7" y="544"/>
                  <a:pt x="8" y="545"/>
                </a:cubicBezTo>
                <a:cubicBezTo>
                  <a:pt x="9" y="547"/>
                  <a:pt x="11" y="548"/>
                  <a:pt x="13" y="549"/>
                </a:cubicBezTo>
                <a:cubicBezTo>
                  <a:pt x="14" y="550"/>
                  <a:pt x="17" y="550"/>
                  <a:pt x="19" y="550"/>
                </a:cubicBezTo>
                <a:cubicBezTo>
                  <a:pt x="86" y="535"/>
                  <a:pt x="86" y="535"/>
                  <a:pt x="86" y="535"/>
                </a:cubicBezTo>
                <a:cubicBezTo>
                  <a:pt x="85" y="543"/>
                  <a:pt x="85" y="543"/>
                  <a:pt x="85" y="543"/>
                </a:cubicBezTo>
                <a:cubicBezTo>
                  <a:pt x="17" y="558"/>
                  <a:pt x="17" y="558"/>
                  <a:pt x="17" y="558"/>
                </a:cubicBezTo>
                <a:cubicBezTo>
                  <a:pt x="14" y="558"/>
                  <a:pt x="11" y="558"/>
                  <a:pt x="9" y="557"/>
                </a:cubicBezTo>
                <a:cubicBezTo>
                  <a:pt x="6" y="556"/>
                  <a:pt x="4" y="554"/>
                  <a:pt x="3" y="552"/>
                </a:cubicBezTo>
                <a:cubicBezTo>
                  <a:pt x="1" y="550"/>
                  <a:pt x="0" y="547"/>
                  <a:pt x="0" y="543"/>
                </a:cubicBezTo>
                <a:cubicBezTo>
                  <a:pt x="0" y="540"/>
                  <a:pt x="0" y="536"/>
                  <a:pt x="1" y="531"/>
                </a:cubicBezTo>
                <a:cubicBezTo>
                  <a:pt x="49" y="289"/>
                  <a:pt x="49" y="289"/>
                  <a:pt x="49" y="289"/>
                </a:cubicBezTo>
                <a:cubicBezTo>
                  <a:pt x="58" y="242"/>
                  <a:pt x="58" y="242"/>
                  <a:pt x="58" y="242"/>
                </a:cubicBezTo>
                <a:cubicBezTo>
                  <a:pt x="100" y="33"/>
                  <a:pt x="100" y="33"/>
                  <a:pt x="100" y="33"/>
                </a:cubicBezTo>
                <a:cubicBezTo>
                  <a:pt x="101" y="30"/>
                  <a:pt x="102" y="26"/>
                  <a:pt x="104" y="23"/>
                </a:cubicBezTo>
                <a:cubicBezTo>
                  <a:pt x="105" y="20"/>
                  <a:pt x="107" y="17"/>
                  <a:pt x="110" y="14"/>
                </a:cubicBezTo>
                <a:cubicBezTo>
                  <a:pt x="112" y="11"/>
                  <a:pt x="114" y="8"/>
                  <a:pt x="117" y="6"/>
                </a:cubicBezTo>
                <a:cubicBezTo>
                  <a:pt x="120" y="4"/>
                  <a:pt x="123" y="2"/>
                  <a:pt x="126" y="1"/>
                </a:cubicBezTo>
                <a:cubicBezTo>
                  <a:pt x="127" y="0"/>
                  <a:pt x="127" y="0"/>
                  <a:pt x="127" y="0"/>
                </a:cubicBezTo>
                <a:lnTo>
                  <a:pt x="128" y="6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3648240" y="907920"/>
            <a:ext cx="1307880" cy="152892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1528920"/>
              <a:gd name="textAreaBottom" fmla="*/ 1529280 h 1528920"/>
            </a:gdLst>
            <a:ahLst/>
            <a:rect l="textAreaLeft" t="textAreaTop" r="textAreaRight" b="textAreaBottom"/>
            <a:pathLst>
              <a:path w="516" h="716">
                <a:moveTo>
                  <a:pt x="46" y="9"/>
                </a:moveTo>
                <a:cubicBezTo>
                  <a:pt x="485" y="148"/>
                  <a:pt x="485" y="148"/>
                  <a:pt x="485" y="148"/>
                </a:cubicBezTo>
                <a:cubicBezTo>
                  <a:pt x="490" y="150"/>
                  <a:pt x="493" y="152"/>
                  <a:pt x="496" y="154"/>
                </a:cubicBezTo>
                <a:cubicBezTo>
                  <a:pt x="499" y="157"/>
                  <a:pt x="500" y="160"/>
                  <a:pt x="501" y="164"/>
                </a:cubicBezTo>
                <a:cubicBezTo>
                  <a:pt x="502" y="167"/>
                  <a:pt x="502" y="171"/>
                  <a:pt x="501" y="175"/>
                </a:cubicBezTo>
                <a:cubicBezTo>
                  <a:pt x="500" y="179"/>
                  <a:pt x="498" y="183"/>
                  <a:pt x="494" y="187"/>
                </a:cubicBezTo>
                <a:cubicBezTo>
                  <a:pt x="113" y="656"/>
                  <a:pt x="113" y="656"/>
                  <a:pt x="113" y="656"/>
                </a:cubicBezTo>
                <a:cubicBezTo>
                  <a:pt x="109" y="660"/>
                  <a:pt x="105" y="664"/>
                  <a:pt x="100" y="668"/>
                </a:cubicBezTo>
                <a:cubicBezTo>
                  <a:pt x="95" y="672"/>
                  <a:pt x="89" y="676"/>
                  <a:pt x="84" y="679"/>
                </a:cubicBezTo>
                <a:cubicBezTo>
                  <a:pt x="78" y="683"/>
                  <a:pt x="72" y="686"/>
                  <a:pt x="66" y="689"/>
                </a:cubicBezTo>
                <a:cubicBezTo>
                  <a:pt x="60" y="691"/>
                  <a:pt x="55" y="693"/>
                  <a:pt x="49" y="694"/>
                </a:cubicBezTo>
                <a:cubicBezTo>
                  <a:pt x="0" y="705"/>
                  <a:pt x="0" y="705"/>
                  <a:pt x="0" y="705"/>
                </a:cubicBezTo>
                <a:cubicBezTo>
                  <a:pt x="0" y="716"/>
                  <a:pt x="0" y="716"/>
                  <a:pt x="0" y="716"/>
                </a:cubicBezTo>
                <a:cubicBezTo>
                  <a:pt x="50" y="705"/>
                  <a:pt x="50" y="705"/>
                  <a:pt x="50" y="705"/>
                </a:cubicBezTo>
                <a:cubicBezTo>
                  <a:pt x="56" y="704"/>
                  <a:pt x="63" y="702"/>
                  <a:pt x="69" y="699"/>
                </a:cubicBezTo>
                <a:cubicBezTo>
                  <a:pt x="76" y="696"/>
                  <a:pt x="83" y="693"/>
                  <a:pt x="89" y="689"/>
                </a:cubicBezTo>
                <a:cubicBezTo>
                  <a:pt x="96" y="685"/>
                  <a:pt x="102" y="680"/>
                  <a:pt x="108" y="676"/>
                </a:cubicBezTo>
                <a:cubicBezTo>
                  <a:pt x="113" y="671"/>
                  <a:pt x="118" y="666"/>
                  <a:pt x="122" y="661"/>
                </a:cubicBezTo>
                <a:cubicBezTo>
                  <a:pt x="506" y="190"/>
                  <a:pt x="506" y="190"/>
                  <a:pt x="506" y="190"/>
                </a:cubicBezTo>
                <a:cubicBezTo>
                  <a:pt x="510" y="185"/>
                  <a:pt x="513" y="180"/>
                  <a:pt x="515" y="174"/>
                </a:cubicBezTo>
                <a:cubicBezTo>
                  <a:pt x="516" y="169"/>
                  <a:pt x="516" y="164"/>
                  <a:pt x="515" y="159"/>
                </a:cubicBezTo>
                <a:cubicBezTo>
                  <a:pt x="514" y="154"/>
                  <a:pt x="511" y="150"/>
                  <a:pt x="508" y="147"/>
                </a:cubicBezTo>
                <a:cubicBezTo>
                  <a:pt x="504" y="143"/>
                  <a:pt x="499" y="140"/>
                  <a:pt x="493" y="138"/>
                </a:cubicBezTo>
                <a:cubicBezTo>
                  <a:pt x="51" y="0"/>
                  <a:pt x="51" y="0"/>
                  <a:pt x="51" y="0"/>
                </a:cubicBezTo>
                <a:lnTo>
                  <a:pt x="46" y="9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51"/>
          <p:cNvSpPr/>
          <p:nvPr/>
        </p:nvSpPr>
        <p:spPr>
          <a:xfrm>
            <a:off x="3130560" y="4365720"/>
            <a:ext cx="3073320" cy="32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87"/>
          <p:cNvSpPr/>
          <p:nvPr/>
        </p:nvSpPr>
        <p:spPr>
          <a:xfrm rot="20445000">
            <a:off x="1952280" y="1492200"/>
            <a:ext cx="182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</a:rPr>
              <a:t>谢谢观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C:\Documents and Settings\tdz\桌面\新建文件夹\欢迎02.jpg"/>
          <p:cNvPicPr/>
          <p:nvPr/>
        </p:nvPicPr>
        <p:blipFill>
          <a:blip r:embed="rId6"/>
          <a:stretch/>
        </p:blipFill>
        <p:spPr>
          <a:xfrm>
            <a:off x="9198000" y="4635360"/>
            <a:ext cx="2909880" cy="1818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</p:pic>
      <p:sp>
        <p:nvSpPr>
          <p:cNvPr id="463" name="Oval 60">
            <a:hlinkClick r:id="rId7"/>
          </p:cNvPr>
          <p:cNvSpPr/>
          <p:nvPr/>
        </p:nvSpPr>
        <p:spPr>
          <a:xfrm>
            <a:off x="6033960" y="3481560"/>
            <a:ext cx="594000" cy="523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61">
            <a:hlinkClick r:id="rId8"/>
          </p:cNvPr>
          <p:cNvSpPr/>
          <p:nvPr/>
        </p:nvSpPr>
        <p:spPr>
          <a:xfrm>
            <a:off x="6051600" y="3565440"/>
            <a:ext cx="560160" cy="52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5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000" y="1269720"/>
            <a:ext cx="11906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971856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john\Desktop\13.jpg"/>
          <p:cNvPicPr/>
          <p:nvPr/>
        </p:nvPicPr>
        <p:blipFill>
          <a:blip r:embed="rId1"/>
          <a:stretch/>
        </p:blipFill>
        <p:spPr>
          <a:xfrm>
            <a:off x="592200" y="4491000"/>
            <a:ext cx="3513240" cy="173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john\Desktop\3.JPG"/>
          <p:cNvPicPr/>
          <p:nvPr/>
        </p:nvPicPr>
        <p:blipFill>
          <a:blip r:embed="rId2"/>
          <a:stretch/>
        </p:blipFill>
        <p:spPr>
          <a:xfrm>
            <a:off x="4243320" y="4491000"/>
            <a:ext cx="36435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john\Desktop\3.JPG"/>
          <p:cNvPicPr/>
          <p:nvPr/>
        </p:nvPicPr>
        <p:blipFill>
          <a:blip r:embed="rId3"/>
          <a:stretch/>
        </p:blipFill>
        <p:spPr>
          <a:xfrm>
            <a:off x="8024760" y="4491000"/>
            <a:ext cx="3657600" cy="1731960"/>
          </a:xfrm>
          <a:prstGeom prst="rect">
            <a:avLst/>
          </a:prstGeom>
          <a:ln w="0">
            <a:noFill/>
          </a:ln>
        </p:spPr>
      </p:pic>
      <p:sp>
        <p:nvSpPr>
          <p:cNvPr id="93" name="直接连接符 10"/>
          <p:cNvSpPr/>
          <p:nvPr/>
        </p:nvSpPr>
        <p:spPr>
          <a:xfrm>
            <a:off x="666720" y="1773360"/>
            <a:ext cx="82152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9"/>
          <p:cNvSpPr/>
          <p:nvPr/>
        </p:nvSpPr>
        <p:spPr>
          <a:xfrm>
            <a:off x="1905120" y="987480"/>
            <a:ext cx="52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做自我超越的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11"/>
          <p:cNvSpPr/>
          <p:nvPr/>
        </p:nvSpPr>
        <p:spPr>
          <a:xfrm>
            <a:off x="666720" y="558720"/>
            <a:ext cx="1548000" cy="1214640"/>
          </a:xfrm>
          <a:prstGeom prst="triangle">
            <a:avLst>
              <a:gd name="adj" fmla="val 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 flipH="1">
            <a:off x="-442800" y="841320"/>
            <a:ext cx="30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华文隶书"/>
                <a:ea typeface="华文隶书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矩形 21" descr=""/>
          <p:cNvPicPr/>
          <p:nvPr/>
        </p:nvPicPr>
        <p:blipFill>
          <a:blip r:embed="rId4"/>
          <a:stretch/>
        </p:blipFill>
        <p:spPr>
          <a:xfrm>
            <a:off x="984240" y="1592280"/>
            <a:ext cx="2187720" cy="1189080"/>
          </a:xfrm>
          <a:prstGeom prst="rect">
            <a:avLst/>
          </a:prstGeom>
          <a:ln w="0">
            <a:noFill/>
          </a:ln>
        </p:spPr>
      </p:pic>
      <p:pic>
        <p:nvPicPr>
          <p:cNvPr id="98" name="矩形 22" descr=""/>
          <p:cNvPicPr/>
          <p:nvPr/>
        </p:nvPicPr>
        <p:blipFill>
          <a:blip r:embed="rId5"/>
          <a:stretch/>
        </p:blipFill>
        <p:spPr>
          <a:xfrm>
            <a:off x="9193320" y="2960640"/>
            <a:ext cx="2187360" cy="11890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6"/>
          <p:cNvSpPr/>
          <p:nvPr/>
        </p:nvSpPr>
        <p:spPr>
          <a:xfrm>
            <a:off x="2425680" y="2109960"/>
            <a:ext cx="7416720" cy="128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微软雅黑"/>
              </a:rPr>
              <a:t>要做百年企业得要求公司不断改变现状，自我超越，而公司的自我超越是建立在全体员工不断自我超越的基础上</a:t>
            </a:r>
            <a:r>
              <a:rPr b="1" lang="en-US" sz="2000" spc="-1" strike="noStrike">
                <a:solidFill>
                  <a:srgbClr val="333333"/>
                </a:solidFill>
                <a:latin typeface="微软雅黑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微软雅黑"/>
              </a:rPr>
              <a:t>人的成功是靠自己的改变，不是靠别人的改变，你不能控制他人，但你可以掌握自己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user\Desktop\未标题-1 拷贝.png"/>
          <p:cNvPicPr/>
          <p:nvPr/>
        </p:nvPicPr>
        <p:blipFill>
          <a:blip r:embed="rId1"/>
          <a:stretch/>
        </p:blipFill>
        <p:spPr>
          <a:xfrm>
            <a:off x="1797120" y="1197000"/>
            <a:ext cx="10397880" cy="5616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002040" y="4365720"/>
            <a:ext cx="8496360" cy="20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微软雅黑"/>
              </a:rPr>
              <a:t>1</a:t>
            </a:r>
            <a:r>
              <a:rPr b="1" lang="zh-CN" sz="2000" spc="-1" strike="noStrike">
                <a:solidFill>
                  <a:srgbClr val="333333"/>
                </a:solidFill>
                <a:latin typeface="微软雅黑"/>
              </a:rPr>
              <a:t>、一个人反省自己，是认识自己现状的过程，也是认识与目标差距的过程，它给自我超越提供了张力，也是修炼自我超越的基本方法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微软雅黑"/>
              </a:rPr>
              <a:t>2</a:t>
            </a:r>
            <a:r>
              <a:rPr b="1" lang="zh-CN" sz="2000" spc="-1" strike="noStrike">
                <a:solidFill>
                  <a:srgbClr val="333333"/>
                </a:solidFill>
                <a:latin typeface="微软雅黑"/>
              </a:rPr>
              <a:t>、听不到奉承的人是一种幸运，听不到批评的人却是一种危险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微软雅黑"/>
              </a:rPr>
              <a:t>3</a:t>
            </a:r>
            <a:r>
              <a:rPr b="1" lang="zh-CN" sz="2000" spc="-1" strike="noStrike">
                <a:solidFill>
                  <a:srgbClr val="333333"/>
                </a:solidFill>
                <a:latin typeface="微软雅黑"/>
              </a:rPr>
              <a:t>、为自己的缺点和错误找借口的人永远不会进步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直接连接符 6"/>
          <p:cNvSpPr/>
          <p:nvPr/>
        </p:nvSpPr>
        <p:spPr>
          <a:xfrm>
            <a:off x="1357200" y="785880"/>
            <a:ext cx="0" cy="1569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9"/>
          <p:cNvSpPr/>
          <p:nvPr/>
        </p:nvSpPr>
        <p:spPr>
          <a:xfrm>
            <a:off x="1417680" y="4000680"/>
            <a:ext cx="38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2608920" y="646740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故事</a:t>
            </a: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:</a:t>
            </a: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割草工的故事</a:t>
            </a: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4" descr="问号22"/>
          <p:cNvPicPr/>
          <p:nvPr/>
        </p:nvPicPr>
        <p:blipFill>
          <a:blip r:embed="rId1"/>
          <a:srcRect l="15674" t="11234" r="5714" b="15674"/>
          <a:stretch/>
        </p:blipFill>
        <p:spPr>
          <a:xfrm>
            <a:off x="1776240" y="1700280"/>
            <a:ext cx="4392720" cy="475308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1"/>
          <p:cNvGrpSpPr/>
          <p:nvPr/>
        </p:nvGrpSpPr>
        <p:grpSpPr>
          <a:xfrm>
            <a:off x="6242040" y="1916280"/>
            <a:ext cx="4968720" cy="1069920"/>
            <a:chOff x="6242040" y="1916280"/>
            <a:chExt cx="4968720" cy="1069920"/>
          </a:xfrm>
        </p:grpSpPr>
        <p:grpSp>
          <p:nvGrpSpPr>
            <p:cNvPr id="111" name="组合 47"/>
            <p:cNvGrpSpPr/>
            <p:nvPr/>
          </p:nvGrpSpPr>
          <p:grpSpPr>
            <a:xfrm>
              <a:off x="6968160" y="1916280"/>
              <a:ext cx="4242600" cy="699480"/>
              <a:chOff x="6968160" y="1916280"/>
              <a:chExt cx="4242600" cy="699480"/>
            </a:xfrm>
          </p:grpSpPr>
          <p:sp>
            <p:nvSpPr>
              <p:cNvPr id="112" name="任意多边形 38"/>
              <p:cNvSpPr/>
              <p:nvPr/>
            </p:nvSpPr>
            <p:spPr>
              <a:xfrm>
                <a:off x="6968160" y="1916280"/>
                <a:ext cx="4242600" cy="69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miter/>
              </a:ln>
              <a:effectLst>
                <a:outerShdw dist="153753" dir="2700000" blurRad="0" rotWithShape="0">
                  <a:srgbClr val="000000">
                    <a:alpha val="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任意多边形 39"/>
              <p:cNvSpPr/>
              <p:nvPr/>
            </p:nvSpPr>
            <p:spPr>
              <a:xfrm>
                <a:off x="6986880" y="1930320"/>
                <a:ext cx="4204800" cy="671040"/>
              </a:xfrm>
              <a:prstGeom prst="pi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f5f5f"/>
                    </a:solidFill>
                    <a:latin typeface="微软雅黑"/>
                  </a:rPr>
                  <a:t>我今天到底学到些什么</a:t>
                </a:r>
                <a:r>
                  <a:rPr b="1" lang="en-US" sz="1800" spc="-1" strike="noStrike">
                    <a:solidFill>
                      <a:srgbClr val="5f5f5f"/>
                    </a:solidFill>
                    <a:latin typeface="微软雅黑"/>
                  </a:rPr>
                  <a:t>?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组合 39"/>
            <p:cNvGrpSpPr/>
            <p:nvPr/>
          </p:nvGrpSpPr>
          <p:grpSpPr>
            <a:xfrm>
              <a:off x="6242040" y="1916280"/>
              <a:ext cx="718920" cy="1069920"/>
              <a:chOff x="6242040" y="1916280"/>
              <a:chExt cx="718920" cy="1069920"/>
            </a:xfrm>
          </p:grpSpPr>
          <p:sp>
            <p:nvSpPr>
              <p:cNvPr id="115" name="任意多边形 86"/>
              <p:cNvSpPr/>
              <p:nvPr/>
            </p:nvSpPr>
            <p:spPr>
              <a:xfrm>
                <a:off x="6242040" y="1916280"/>
                <a:ext cx="718920" cy="1069920"/>
              </a:xfrm>
              <a:custGeom>
                <a:avLst/>
                <a:gdLst/>
                <a:ahLst/>
                <a:rect l="l" t="t" r="r" b="b"/>
                <a:pathLst>
                  <a:path w="1484312" h="1039018">
                    <a:moveTo>
                      <a:pt x="1484312" y="0"/>
                    </a:moveTo>
                    <a:lnTo>
                      <a:pt x="1484312" y="675362"/>
                    </a:lnTo>
                    <a:lnTo>
                      <a:pt x="742156" y="1039018"/>
                    </a:lnTo>
                    <a:lnTo>
                      <a:pt x="0" y="675362"/>
                    </a:lnTo>
                    <a:lnTo>
                      <a:pt x="0" y="0"/>
                    </a:lnTo>
                    <a:lnTo>
                      <a:pt x="742156" y="363656"/>
                    </a:lnTo>
                    <a:lnTo>
                      <a:pt x="14843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2f3d0"/>
                  </a:gs>
                  <a:gs pos="50000">
                    <a:srgbClr val="a8da73"/>
                  </a:gs>
                  <a:gs pos="100000">
                    <a:srgbClr val="e2f3d0"/>
                  </a:gs>
                </a:gsLst>
                <a:lin ang="5400000"/>
              </a:gradFill>
              <a:ln w="9360">
                <a:solidFill>
                  <a:srgbClr val="a8da73"/>
                </a:solidFill>
                <a:round/>
              </a:ln>
              <a:effectLst>
                <a:outerShdw dist="153753" dir="2700000" blurRad="0" rotWithShape="0">
                  <a:srgbClr val="000000">
                    <a:alpha val="1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920" rIns="16920" tIns="180000" bIns="5364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任意多边形 87"/>
              <p:cNvGrpSpPr/>
              <p:nvPr/>
            </p:nvGrpSpPr>
            <p:grpSpPr>
              <a:xfrm>
                <a:off x="6260400" y="1963080"/>
                <a:ext cx="682560" cy="993600"/>
                <a:chOff x="6260400" y="1963080"/>
                <a:chExt cx="682560" cy="993600"/>
              </a:xfrm>
            </p:grpSpPr>
            <p:pic>
              <p:nvPicPr>
                <p:cNvPr id="117" name="任意多边形 8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61120" y="1963080"/>
                  <a:ext cx="681480" cy="99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"/>
                <p:cNvSpPr/>
                <p:nvPr/>
              </p:nvSpPr>
              <p:spPr>
                <a:xfrm>
                  <a:off x="6260400" y="1965600"/>
                  <a:ext cx="682560" cy="99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Impact"/>
                      <a:ea typeface="Arial"/>
                    </a:rPr>
                    <a:t>1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" name="组合 2"/>
          <p:cNvGrpSpPr/>
          <p:nvPr/>
        </p:nvGrpSpPr>
        <p:grpSpPr>
          <a:xfrm>
            <a:off x="6242040" y="2781360"/>
            <a:ext cx="4968720" cy="1071360"/>
            <a:chOff x="6242040" y="2781360"/>
            <a:chExt cx="4968720" cy="1071360"/>
          </a:xfrm>
        </p:grpSpPr>
        <p:grpSp>
          <p:nvGrpSpPr>
            <p:cNvPr id="120" name="组合 48"/>
            <p:cNvGrpSpPr/>
            <p:nvPr/>
          </p:nvGrpSpPr>
          <p:grpSpPr>
            <a:xfrm>
              <a:off x="6968160" y="2781360"/>
              <a:ext cx="4242600" cy="700560"/>
              <a:chOff x="6968160" y="2781360"/>
              <a:chExt cx="4242600" cy="700560"/>
            </a:xfrm>
          </p:grpSpPr>
          <p:sp>
            <p:nvSpPr>
              <p:cNvPr id="121" name="任意多边形 74"/>
              <p:cNvSpPr/>
              <p:nvPr/>
            </p:nvSpPr>
            <p:spPr>
              <a:xfrm>
                <a:off x="6968160" y="2781360"/>
                <a:ext cx="4242600" cy="70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miter/>
              </a:ln>
              <a:effectLst>
                <a:outerShdw dist="153753" dir="2700000" blurRad="0" rotWithShape="0">
                  <a:srgbClr val="000000">
                    <a:alpha val="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任意多边形 75"/>
              <p:cNvSpPr/>
              <p:nvPr/>
            </p:nvSpPr>
            <p:spPr>
              <a:xfrm>
                <a:off x="6986880" y="2795400"/>
                <a:ext cx="4204800" cy="672120"/>
              </a:xfrm>
              <a:prstGeom prst="pi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f5f5f"/>
                    </a:solidFill>
                    <a:latin typeface="微软雅黑"/>
                  </a:rPr>
                  <a:t>我有什么样的改进</a:t>
                </a:r>
                <a:r>
                  <a:rPr b="1" lang="en-US" sz="1800" spc="-1" strike="noStrike">
                    <a:solidFill>
                      <a:srgbClr val="5f5f5f"/>
                    </a:solidFill>
                    <a:latin typeface="微软雅黑"/>
                  </a:rPr>
                  <a:t>?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组合 46"/>
            <p:cNvGrpSpPr/>
            <p:nvPr/>
          </p:nvGrpSpPr>
          <p:grpSpPr>
            <a:xfrm>
              <a:off x="6242040" y="2781360"/>
              <a:ext cx="718920" cy="1071360"/>
              <a:chOff x="6242040" y="2781360"/>
              <a:chExt cx="718920" cy="1071360"/>
            </a:xfrm>
          </p:grpSpPr>
          <p:sp>
            <p:nvSpPr>
              <p:cNvPr id="124" name="任意多边形 89"/>
              <p:cNvSpPr/>
              <p:nvPr/>
            </p:nvSpPr>
            <p:spPr>
              <a:xfrm>
                <a:off x="6242040" y="2781360"/>
                <a:ext cx="718920" cy="1071360"/>
              </a:xfrm>
              <a:custGeom>
                <a:avLst/>
                <a:gdLst/>
                <a:ahLst/>
                <a:rect l="l" t="t" r="r" b="b"/>
                <a:pathLst>
                  <a:path w="1484312" h="1039018">
                    <a:moveTo>
                      <a:pt x="1484312" y="0"/>
                    </a:moveTo>
                    <a:lnTo>
                      <a:pt x="1484312" y="675362"/>
                    </a:lnTo>
                    <a:lnTo>
                      <a:pt x="742156" y="1039018"/>
                    </a:lnTo>
                    <a:lnTo>
                      <a:pt x="0" y="675362"/>
                    </a:lnTo>
                    <a:lnTo>
                      <a:pt x="0" y="0"/>
                    </a:lnTo>
                    <a:lnTo>
                      <a:pt x="742156" y="363656"/>
                    </a:lnTo>
                    <a:lnTo>
                      <a:pt x="14843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2f3d0"/>
                  </a:gs>
                  <a:gs pos="50000">
                    <a:srgbClr val="a8da73"/>
                  </a:gs>
                  <a:gs pos="100000">
                    <a:srgbClr val="e2f3d0"/>
                  </a:gs>
                </a:gsLst>
                <a:lin ang="5400000"/>
              </a:gradFill>
              <a:ln w="9360">
                <a:solidFill>
                  <a:srgbClr val="a8da73"/>
                </a:solidFill>
                <a:round/>
              </a:ln>
              <a:effectLst>
                <a:outerShdw dist="153753" dir="2700000" blurRad="0" rotWithShape="0">
                  <a:srgbClr val="000000">
                    <a:alpha val="1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920" rIns="16920" tIns="180000" bIns="5364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任意多边形 90"/>
              <p:cNvGrpSpPr/>
              <p:nvPr/>
            </p:nvGrpSpPr>
            <p:grpSpPr>
              <a:xfrm>
                <a:off x="6260400" y="2828520"/>
                <a:ext cx="682560" cy="993600"/>
                <a:chOff x="6260400" y="2828520"/>
                <a:chExt cx="682560" cy="993600"/>
              </a:xfrm>
            </p:grpSpPr>
            <p:pic>
              <p:nvPicPr>
                <p:cNvPr id="126" name="任意多边形 9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261120" y="2828520"/>
                  <a:ext cx="681480" cy="99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"/>
                <p:cNvSpPr/>
                <p:nvPr/>
              </p:nvSpPr>
              <p:spPr>
                <a:xfrm>
                  <a:off x="6260400" y="2830680"/>
                  <a:ext cx="682560" cy="99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Impact"/>
                      <a:ea typeface="Arial"/>
                    </a:rPr>
                    <a:t>2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8" name="组合 3"/>
          <p:cNvGrpSpPr/>
          <p:nvPr/>
        </p:nvGrpSpPr>
        <p:grpSpPr>
          <a:xfrm>
            <a:off x="6242040" y="3660840"/>
            <a:ext cx="4968720" cy="1071360"/>
            <a:chOff x="6242040" y="3660840"/>
            <a:chExt cx="4968720" cy="1071360"/>
          </a:xfrm>
        </p:grpSpPr>
        <p:grpSp>
          <p:nvGrpSpPr>
            <p:cNvPr id="129" name="组合 49"/>
            <p:cNvGrpSpPr/>
            <p:nvPr/>
          </p:nvGrpSpPr>
          <p:grpSpPr>
            <a:xfrm>
              <a:off x="6968160" y="3660840"/>
              <a:ext cx="4242600" cy="700560"/>
              <a:chOff x="6968160" y="3660840"/>
              <a:chExt cx="4242600" cy="700560"/>
            </a:xfrm>
          </p:grpSpPr>
          <p:sp>
            <p:nvSpPr>
              <p:cNvPr id="130" name="任意多边形 77"/>
              <p:cNvSpPr/>
              <p:nvPr/>
            </p:nvSpPr>
            <p:spPr>
              <a:xfrm>
                <a:off x="6968160" y="3660840"/>
                <a:ext cx="4242600" cy="70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miter/>
              </a:ln>
              <a:effectLst>
                <a:outerShdw dist="153753" dir="2700000" blurRad="0" rotWithShape="0">
                  <a:srgbClr val="000000">
                    <a:alpha val="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任意多边形 78"/>
              <p:cNvSpPr/>
              <p:nvPr/>
            </p:nvSpPr>
            <p:spPr>
              <a:xfrm>
                <a:off x="6986880" y="3674880"/>
                <a:ext cx="4204800" cy="672120"/>
              </a:xfrm>
              <a:prstGeom prst="pi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f5f5f"/>
                    </a:solidFill>
                    <a:latin typeface="微软雅黑"/>
                  </a:rPr>
                  <a:t>我是否对所做的一切感到满足</a:t>
                </a:r>
                <a:r>
                  <a:rPr b="1" lang="en-US" sz="1800" spc="-1" strike="noStrike">
                    <a:solidFill>
                      <a:srgbClr val="5f5f5f"/>
                    </a:solidFill>
                    <a:latin typeface="微软雅黑"/>
                  </a:rPr>
                  <a:t>?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组合 54"/>
            <p:cNvGrpSpPr/>
            <p:nvPr/>
          </p:nvGrpSpPr>
          <p:grpSpPr>
            <a:xfrm>
              <a:off x="6242040" y="3660840"/>
              <a:ext cx="718920" cy="1071360"/>
              <a:chOff x="6242040" y="3660840"/>
              <a:chExt cx="718920" cy="1071360"/>
            </a:xfrm>
          </p:grpSpPr>
          <p:sp>
            <p:nvSpPr>
              <p:cNvPr id="133" name="任意多边形 92"/>
              <p:cNvSpPr/>
              <p:nvPr/>
            </p:nvSpPr>
            <p:spPr>
              <a:xfrm>
                <a:off x="6242040" y="3660840"/>
                <a:ext cx="718920" cy="1071360"/>
              </a:xfrm>
              <a:custGeom>
                <a:avLst/>
                <a:gdLst/>
                <a:ahLst/>
                <a:rect l="l" t="t" r="r" b="b"/>
                <a:pathLst>
                  <a:path w="1484312" h="1039018">
                    <a:moveTo>
                      <a:pt x="1484312" y="0"/>
                    </a:moveTo>
                    <a:lnTo>
                      <a:pt x="1484312" y="675362"/>
                    </a:lnTo>
                    <a:lnTo>
                      <a:pt x="742156" y="1039018"/>
                    </a:lnTo>
                    <a:lnTo>
                      <a:pt x="0" y="675362"/>
                    </a:lnTo>
                    <a:lnTo>
                      <a:pt x="0" y="0"/>
                    </a:lnTo>
                    <a:lnTo>
                      <a:pt x="742156" y="363656"/>
                    </a:lnTo>
                    <a:lnTo>
                      <a:pt x="14843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2f3d0"/>
                  </a:gs>
                  <a:gs pos="50000">
                    <a:srgbClr val="a8da73"/>
                  </a:gs>
                  <a:gs pos="100000">
                    <a:srgbClr val="e2f3d0"/>
                  </a:gs>
                </a:gsLst>
                <a:lin ang="5400000"/>
              </a:gradFill>
              <a:ln w="9360">
                <a:solidFill>
                  <a:srgbClr val="a8da73"/>
                </a:solidFill>
                <a:round/>
              </a:ln>
              <a:effectLst>
                <a:outerShdw dist="153753" dir="2700000" blurRad="0" rotWithShape="0">
                  <a:srgbClr val="000000">
                    <a:alpha val="1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920" rIns="16920" tIns="180000" bIns="5364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任意多边形 93"/>
              <p:cNvGrpSpPr/>
              <p:nvPr/>
            </p:nvGrpSpPr>
            <p:grpSpPr>
              <a:xfrm>
                <a:off x="6260400" y="3712320"/>
                <a:ext cx="682560" cy="987480"/>
                <a:chOff x="6260400" y="3712320"/>
                <a:chExt cx="682560" cy="987480"/>
              </a:xfrm>
            </p:grpSpPr>
            <p:pic>
              <p:nvPicPr>
                <p:cNvPr id="135" name="任意多边形 9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261120" y="3714120"/>
                  <a:ext cx="681480" cy="98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>
                  <a:off x="6260400" y="3712320"/>
                  <a:ext cx="682560" cy="98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Impact"/>
                      <a:ea typeface="Arial"/>
                    </a:rPr>
                    <a:t>3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7" name="组合 4"/>
          <p:cNvGrpSpPr/>
          <p:nvPr/>
        </p:nvGrpSpPr>
        <p:grpSpPr>
          <a:xfrm>
            <a:off x="6242040" y="4508640"/>
            <a:ext cx="4968720" cy="1071360"/>
            <a:chOff x="6242040" y="4508640"/>
            <a:chExt cx="4968720" cy="1071360"/>
          </a:xfrm>
        </p:grpSpPr>
        <p:grpSp>
          <p:nvGrpSpPr>
            <p:cNvPr id="138" name="组合 50"/>
            <p:cNvGrpSpPr/>
            <p:nvPr/>
          </p:nvGrpSpPr>
          <p:grpSpPr>
            <a:xfrm>
              <a:off x="6968160" y="4508640"/>
              <a:ext cx="4242600" cy="700560"/>
              <a:chOff x="6968160" y="4508640"/>
              <a:chExt cx="4242600" cy="700560"/>
            </a:xfrm>
          </p:grpSpPr>
          <p:sp>
            <p:nvSpPr>
              <p:cNvPr id="139" name="任意多边形 80"/>
              <p:cNvSpPr/>
              <p:nvPr/>
            </p:nvSpPr>
            <p:spPr>
              <a:xfrm>
                <a:off x="6968160" y="4508640"/>
                <a:ext cx="4242600" cy="700560"/>
              </a:xfrm>
              <a:custGeom>
                <a:avLst/>
                <a:gdLst/>
                <a:ahLst/>
                <a:rect l="l" t="t" r="r" b="b"/>
                <a:pathLst>
                  <a:path w="590103" h="5460503">
                    <a:moveTo>
                      <a:pt x="590103" y="910101"/>
                    </a:moveTo>
                    <a:lnTo>
                      <a:pt x="590103" y="4550402"/>
                    </a:lnTo>
                    <a:cubicBezTo>
                      <a:pt x="590103" y="5053032"/>
                      <a:pt x="585344" y="5460498"/>
                      <a:pt x="579474" y="5460498"/>
                    </a:cubicBezTo>
                    <a:lnTo>
                      <a:pt x="0" y="5460498"/>
                    </a:lnTo>
                    <a:lnTo>
                      <a:pt x="0" y="546049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79474" y="5"/>
                    </a:lnTo>
                    <a:cubicBezTo>
                      <a:pt x="585344" y="5"/>
                      <a:pt x="590103" y="407471"/>
                      <a:pt x="590103" y="910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任意多边形 81"/>
              <p:cNvSpPr/>
              <p:nvPr/>
            </p:nvSpPr>
            <p:spPr>
              <a:xfrm>
                <a:off x="6986880" y="4522680"/>
                <a:ext cx="4204800" cy="672120"/>
              </a:xfrm>
              <a:prstGeom prst="pi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f5f5f"/>
                    </a:solidFill>
                    <a:latin typeface="Arial"/>
                  </a:rPr>
                  <a:t>我现在在哪里？我要往哪里去？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组合 57"/>
            <p:cNvGrpSpPr/>
            <p:nvPr/>
          </p:nvGrpSpPr>
          <p:grpSpPr>
            <a:xfrm>
              <a:off x="6242040" y="4508640"/>
              <a:ext cx="718920" cy="1071360"/>
              <a:chOff x="6242040" y="4508640"/>
              <a:chExt cx="718920" cy="1071360"/>
            </a:xfrm>
          </p:grpSpPr>
          <p:sp>
            <p:nvSpPr>
              <p:cNvPr id="142" name="任意多边形 95"/>
              <p:cNvSpPr/>
              <p:nvPr/>
            </p:nvSpPr>
            <p:spPr>
              <a:xfrm>
                <a:off x="6242040" y="4508640"/>
                <a:ext cx="718920" cy="1071360"/>
              </a:xfrm>
              <a:custGeom>
                <a:avLst/>
                <a:gdLst/>
                <a:ahLst/>
                <a:rect l="l" t="t" r="r" b="b"/>
                <a:pathLst>
                  <a:path w="1484312" h="1039018">
                    <a:moveTo>
                      <a:pt x="1484312" y="0"/>
                    </a:moveTo>
                    <a:lnTo>
                      <a:pt x="1484312" y="675362"/>
                    </a:lnTo>
                    <a:lnTo>
                      <a:pt x="742156" y="1039018"/>
                    </a:lnTo>
                    <a:lnTo>
                      <a:pt x="0" y="675362"/>
                    </a:lnTo>
                    <a:lnTo>
                      <a:pt x="0" y="0"/>
                    </a:lnTo>
                    <a:lnTo>
                      <a:pt x="742156" y="363656"/>
                    </a:lnTo>
                    <a:lnTo>
                      <a:pt x="14843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2f3d0"/>
                  </a:gs>
                  <a:gs pos="50000">
                    <a:srgbClr val="a8da73"/>
                  </a:gs>
                  <a:gs pos="100000">
                    <a:srgbClr val="e2f3d0"/>
                  </a:gs>
                </a:gsLst>
                <a:lin ang="5400000"/>
              </a:gradFill>
              <a:ln w="9360">
                <a:solidFill>
                  <a:srgbClr val="a8da73"/>
                </a:solidFill>
                <a:round/>
              </a:ln>
              <a:effectLst>
                <a:outerShdw dist="153753" dir="2700000" blurRad="0" rotWithShape="0">
                  <a:srgbClr val="000000">
                    <a:alpha val="1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920" rIns="16920" tIns="180000" bIns="5364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任意多边形 96"/>
              <p:cNvGrpSpPr/>
              <p:nvPr/>
            </p:nvGrpSpPr>
            <p:grpSpPr>
              <a:xfrm>
                <a:off x="6260400" y="4559760"/>
                <a:ext cx="682560" cy="993600"/>
                <a:chOff x="6260400" y="4559760"/>
                <a:chExt cx="682560" cy="993600"/>
              </a:xfrm>
            </p:grpSpPr>
            <p:pic>
              <p:nvPicPr>
                <p:cNvPr id="144" name="任意多边形 9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61120" y="4561200"/>
                  <a:ext cx="681480" cy="99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6260400" y="4559760"/>
                  <a:ext cx="68256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Impact"/>
                      <a:ea typeface="Arial"/>
                    </a:rPr>
                    <a:t>4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6" name="组合 5"/>
          <p:cNvGrpSpPr/>
          <p:nvPr/>
        </p:nvGrpSpPr>
        <p:grpSpPr>
          <a:xfrm>
            <a:off x="6242040" y="5381640"/>
            <a:ext cx="4968720" cy="1071720"/>
            <a:chOff x="6242040" y="5381640"/>
            <a:chExt cx="4968720" cy="1071720"/>
          </a:xfrm>
        </p:grpSpPr>
        <p:grpSp>
          <p:nvGrpSpPr>
            <p:cNvPr id="147" name="组合 70"/>
            <p:cNvGrpSpPr/>
            <p:nvPr/>
          </p:nvGrpSpPr>
          <p:grpSpPr>
            <a:xfrm>
              <a:off x="6968160" y="5381640"/>
              <a:ext cx="4242600" cy="700560"/>
              <a:chOff x="6968160" y="5381640"/>
              <a:chExt cx="4242600" cy="700560"/>
            </a:xfrm>
          </p:grpSpPr>
          <p:sp>
            <p:nvSpPr>
              <p:cNvPr id="148" name="任意多边形 83"/>
              <p:cNvSpPr/>
              <p:nvPr/>
            </p:nvSpPr>
            <p:spPr>
              <a:xfrm>
                <a:off x="6968160" y="5381640"/>
                <a:ext cx="4242600" cy="700560"/>
              </a:xfrm>
              <a:custGeom>
                <a:avLst/>
                <a:gdLst/>
                <a:ahLst/>
                <a:rect l="l" t="t" r="r" b="b"/>
                <a:pathLst>
                  <a:path w="590103" h="5460503">
                    <a:moveTo>
                      <a:pt x="590103" y="910101"/>
                    </a:moveTo>
                    <a:lnTo>
                      <a:pt x="590103" y="4550402"/>
                    </a:lnTo>
                    <a:cubicBezTo>
                      <a:pt x="590103" y="5053032"/>
                      <a:pt x="585344" y="5460498"/>
                      <a:pt x="579474" y="5460498"/>
                    </a:cubicBezTo>
                    <a:lnTo>
                      <a:pt x="0" y="5460498"/>
                    </a:lnTo>
                    <a:lnTo>
                      <a:pt x="0" y="546049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79474" y="5"/>
                    </a:lnTo>
                    <a:cubicBezTo>
                      <a:pt x="585344" y="5"/>
                      <a:pt x="590103" y="407471"/>
                      <a:pt x="590103" y="910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任意多边形 84"/>
              <p:cNvSpPr/>
              <p:nvPr/>
            </p:nvSpPr>
            <p:spPr>
              <a:xfrm>
                <a:off x="6986880" y="5395680"/>
                <a:ext cx="4204800" cy="672120"/>
              </a:xfrm>
              <a:prstGeom prst="pi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f5f5f"/>
                    </a:solidFill>
                    <a:latin typeface="Arial"/>
                  </a:rPr>
                  <a:t>我如何达到哪里？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60"/>
            <p:cNvGrpSpPr/>
            <p:nvPr/>
          </p:nvGrpSpPr>
          <p:grpSpPr>
            <a:xfrm>
              <a:off x="6242040" y="5381640"/>
              <a:ext cx="718920" cy="1071720"/>
              <a:chOff x="6242040" y="5381640"/>
              <a:chExt cx="718920" cy="1071720"/>
            </a:xfrm>
          </p:grpSpPr>
          <p:sp>
            <p:nvSpPr>
              <p:cNvPr id="151" name="任意多边形 98"/>
              <p:cNvSpPr/>
              <p:nvPr/>
            </p:nvSpPr>
            <p:spPr>
              <a:xfrm>
                <a:off x="6242040" y="5381640"/>
                <a:ext cx="718920" cy="1071720"/>
              </a:xfrm>
              <a:custGeom>
                <a:avLst/>
                <a:gdLst/>
                <a:ahLst/>
                <a:rect l="l" t="t" r="r" b="b"/>
                <a:pathLst>
                  <a:path w="1484312" h="1039018">
                    <a:moveTo>
                      <a:pt x="1484312" y="0"/>
                    </a:moveTo>
                    <a:lnTo>
                      <a:pt x="1484312" y="675362"/>
                    </a:lnTo>
                    <a:lnTo>
                      <a:pt x="742156" y="1039018"/>
                    </a:lnTo>
                    <a:lnTo>
                      <a:pt x="0" y="675362"/>
                    </a:lnTo>
                    <a:lnTo>
                      <a:pt x="0" y="0"/>
                    </a:lnTo>
                    <a:lnTo>
                      <a:pt x="742156" y="363656"/>
                    </a:lnTo>
                    <a:lnTo>
                      <a:pt x="14843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2f3d0"/>
                  </a:gs>
                  <a:gs pos="50000">
                    <a:srgbClr val="a8da73"/>
                  </a:gs>
                  <a:gs pos="100000">
                    <a:srgbClr val="e2f3d0"/>
                  </a:gs>
                </a:gsLst>
                <a:lin ang="5400000"/>
              </a:gradFill>
              <a:ln w="9360">
                <a:solidFill>
                  <a:srgbClr val="a8da73"/>
                </a:solidFill>
                <a:round/>
              </a:ln>
              <a:effectLst>
                <a:outerShdw dist="153753" dir="2700000" blurRad="0" rotWithShape="0">
                  <a:srgbClr val="000000">
                    <a:alpha val="1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920" rIns="16920" tIns="180000" bIns="5364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任意多边形 99"/>
              <p:cNvGrpSpPr/>
              <p:nvPr/>
            </p:nvGrpSpPr>
            <p:grpSpPr>
              <a:xfrm>
                <a:off x="6260400" y="5431320"/>
                <a:ext cx="682560" cy="993960"/>
                <a:chOff x="6260400" y="5431320"/>
                <a:chExt cx="682560" cy="993960"/>
              </a:xfrm>
            </p:grpSpPr>
            <p:pic>
              <p:nvPicPr>
                <p:cNvPr id="153" name="任意多边形 9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261120" y="5431320"/>
                  <a:ext cx="681480" cy="99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6260400" y="5431320"/>
                  <a:ext cx="682560" cy="99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Impact"/>
                      <a:ea typeface="Arial"/>
                    </a:rPr>
                    <a:t>5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5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1"/>
          <p:cNvGrpSpPr/>
          <p:nvPr/>
        </p:nvGrpSpPr>
        <p:grpSpPr>
          <a:xfrm>
            <a:off x="1128600" y="1989000"/>
            <a:ext cx="1649520" cy="3786480"/>
            <a:chOff x="1128600" y="1989000"/>
            <a:chExt cx="1649520" cy="3786480"/>
          </a:xfrm>
        </p:grpSpPr>
        <p:sp>
          <p:nvSpPr>
            <p:cNvPr id="160" name="AutoShape 2"/>
            <p:cNvSpPr/>
            <p:nvPr/>
          </p:nvSpPr>
          <p:spPr>
            <a:xfrm>
              <a:off x="1128600" y="1989000"/>
              <a:ext cx="1649520" cy="1967040"/>
            </a:xfrm>
            <a:prstGeom prst="downArrowCallout">
              <a:avLst>
                <a:gd name="adj1" fmla="val 49884"/>
                <a:gd name="adj2" fmla="val 24940"/>
                <a:gd name="adj3" fmla="val 13261"/>
                <a:gd name="adj4" fmla="val 8888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5f5f5f"/>
                  </a:solidFill>
                  <a:latin typeface="微软雅黑"/>
                </a:rPr>
                <a:t>今天的工作</a:t>
              </a:r>
              <a:r>
                <a:rPr b="1" lang="en-US" sz="1600" spc="-1" strike="noStrike">
                  <a:solidFill>
                    <a:srgbClr val="5f5f5f"/>
                  </a:solidFill>
                  <a:latin typeface="微软雅黑"/>
                </a:rPr>
                <a:t>,</a:t>
              </a:r>
              <a:r>
                <a:rPr b="1" lang="zh-CN" sz="1600" spc="-1" strike="noStrike">
                  <a:solidFill>
                    <a:srgbClr val="5f5f5f"/>
                  </a:solidFill>
                  <a:latin typeface="微软雅黑"/>
                </a:rPr>
                <a:t>我是否有偷懒的行为</a:t>
              </a:r>
              <a:r>
                <a:rPr b="1" lang="en-US" sz="1600" spc="-1" strike="noStrike">
                  <a:solidFill>
                    <a:srgbClr val="5f5f5f"/>
                  </a:solidFill>
                  <a:latin typeface="微软雅黑"/>
                </a:rPr>
                <a:t>?</a:t>
              </a:r>
              <a:r>
                <a:rPr b="1" lang="zh-CN" sz="1600" spc="-1" strike="noStrike">
                  <a:solidFill>
                    <a:srgbClr val="5f5f5f"/>
                  </a:solidFill>
                  <a:latin typeface="微软雅黑"/>
                </a:rPr>
                <a:t>是否尽了全力</a:t>
              </a:r>
              <a:r>
                <a:rPr b="1" lang="en-US" sz="1600" spc="-1" strike="noStrike">
                  <a:solidFill>
                    <a:srgbClr val="5f5f5f"/>
                  </a:solidFill>
                  <a:latin typeface="微软雅黑"/>
                </a:rPr>
                <a:t>?</a:t>
              </a:r>
              <a:r>
                <a:rPr b="1" lang="zh-CN" sz="1600" spc="-1" strike="noStrike">
                  <a:solidFill>
                    <a:srgbClr val="5f5f5f"/>
                  </a:solidFill>
                  <a:latin typeface="微软雅黑"/>
                </a:rPr>
                <a:t>有无浪费时间</a:t>
              </a:r>
              <a:r>
                <a:rPr b="1" lang="en-US" sz="1600" spc="-1" strike="noStrike">
                  <a:solidFill>
                    <a:srgbClr val="5f5f5f"/>
                  </a:solidFill>
                  <a:latin typeface="微软雅黑"/>
                </a:rPr>
                <a:t>?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>
              <a:off x="1287360" y="5445360"/>
              <a:ext cx="1305000" cy="330120"/>
            </a:xfrm>
            <a:custGeom>
              <a:avLst/>
              <a:gdLst>
                <a:gd name="textAreaLeft" fmla="*/ 0 w 1305000"/>
                <a:gd name="textAreaRight" fmla="*/ 1305360 w 13050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126" h="327">
                  <a:moveTo>
                    <a:pt x="563" y="0"/>
                  </a:moveTo>
                  <a:cubicBezTo>
                    <a:pt x="322" y="0"/>
                    <a:pt x="112" y="132"/>
                    <a:pt x="0" y="327"/>
                  </a:cubicBezTo>
                  <a:cubicBezTo>
                    <a:pt x="1126" y="327"/>
                    <a:pt x="1126" y="327"/>
                    <a:pt x="1126" y="327"/>
                  </a:cubicBezTo>
                  <a:cubicBezTo>
                    <a:pt x="1014" y="132"/>
                    <a:pt x="804" y="0"/>
                    <a:pt x="5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9302">
                    <a:alpha val="70196"/>
                  </a:srgbClr>
                </a:gs>
                <a:gs pos="100000">
                  <a:srgbClr val="8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8"/>
            <p:cNvSpPr/>
            <p:nvPr/>
          </p:nvSpPr>
          <p:spPr>
            <a:xfrm>
              <a:off x="1285560" y="4292640"/>
              <a:ext cx="1298880" cy="1131840"/>
            </a:xfrm>
            <a:prstGeom prst="ellipse">
              <a:avLst/>
            </a:prstGeom>
            <a:solidFill>
              <a:srgbClr val="e49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1333440" y="4322880"/>
              <a:ext cx="1202040" cy="503280"/>
            </a:xfrm>
            <a:custGeom>
              <a:avLst/>
              <a:gdLst>
                <a:gd name="textAreaLeft" fmla="*/ 0 w 1202040"/>
                <a:gd name="textAreaRight" fmla="*/ 1202400 w 12020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38" h="499">
                  <a:moveTo>
                    <a:pt x="1038" y="499"/>
                  </a:moveTo>
                  <a:cubicBezTo>
                    <a:pt x="1037" y="223"/>
                    <a:pt x="805" y="0"/>
                    <a:pt x="519" y="0"/>
                  </a:cubicBezTo>
                  <a:cubicBezTo>
                    <a:pt x="233" y="0"/>
                    <a:pt x="1" y="223"/>
                    <a:pt x="0" y="499"/>
                  </a:cubicBezTo>
                  <a:cubicBezTo>
                    <a:pt x="132" y="413"/>
                    <a:pt x="315" y="360"/>
                    <a:pt x="519" y="360"/>
                  </a:cubicBezTo>
                  <a:cubicBezTo>
                    <a:pt x="723" y="360"/>
                    <a:pt x="907" y="413"/>
                    <a:pt x="1038" y="4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90196"/>
                  </a:srgbClr>
                </a:gs>
                <a:gs pos="100000">
                  <a:srgbClr val="ffffff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4"/>
            <p:cNvSpPr/>
            <p:nvPr/>
          </p:nvSpPr>
          <p:spPr>
            <a:xfrm>
              <a:off x="1554480" y="4658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工作态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"/>
          <p:cNvGrpSpPr/>
          <p:nvPr/>
        </p:nvGrpSpPr>
        <p:grpSpPr>
          <a:xfrm>
            <a:off x="3000240" y="1989000"/>
            <a:ext cx="1793880" cy="3786480"/>
            <a:chOff x="3000240" y="1989000"/>
            <a:chExt cx="1793880" cy="3786480"/>
          </a:xfrm>
        </p:grpSpPr>
        <p:sp>
          <p:nvSpPr>
            <p:cNvPr id="166" name="AutoShape 3"/>
            <p:cNvSpPr/>
            <p:nvPr/>
          </p:nvSpPr>
          <p:spPr>
            <a:xfrm>
              <a:off x="3000240" y="1989000"/>
              <a:ext cx="1793880" cy="1967040"/>
            </a:xfrm>
            <a:prstGeom prst="downArrowCallout">
              <a:avLst>
                <a:gd name="adj1" fmla="val 49884"/>
                <a:gd name="adj2" fmla="val 24940"/>
                <a:gd name="adj3" fmla="val 12194"/>
                <a:gd name="adj4" fmla="val 8888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5f5f5f"/>
                  </a:solidFill>
                  <a:latin typeface="微软雅黑"/>
                </a:rPr>
                <a:t>今天所做的事情</a:t>
              </a:r>
              <a:r>
                <a:rPr b="1" lang="en-US" sz="1600" spc="-1" strike="noStrike">
                  <a:solidFill>
                    <a:srgbClr val="5f5f5f"/>
                  </a:solidFill>
                  <a:latin typeface="微软雅黑"/>
                </a:rPr>
                <a:t>,</a:t>
              </a:r>
              <a:r>
                <a:rPr b="1" lang="zh-CN" sz="1600" spc="-1" strike="noStrike">
                  <a:solidFill>
                    <a:srgbClr val="5f5f5f"/>
                  </a:solidFill>
                  <a:latin typeface="微软雅黑"/>
                </a:rPr>
                <a:t>处理是否得当</a:t>
              </a:r>
              <a:r>
                <a:rPr b="1" lang="en-US" sz="1600" spc="-1" strike="noStrike">
                  <a:solidFill>
                    <a:srgbClr val="5f5f5f"/>
                  </a:solidFill>
                  <a:latin typeface="微软雅黑"/>
                </a:rPr>
                <a:t>,</a:t>
              </a:r>
              <a:r>
                <a:rPr b="1" lang="zh-CN" sz="1600" spc="-1" strike="noStrike">
                  <a:solidFill>
                    <a:srgbClr val="5f5f5f"/>
                  </a:solidFill>
                  <a:latin typeface="微软雅黑"/>
                </a:rPr>
                <a:t>怎么样做有可能会出现更好的结果</a:t>
              </a:r>
              <a:r>
                <a:rPr b="1" lang="en-US" sz="1600" spc="-1" strike="noStrike">
                  <a:solidFill>
                    <a:srgbClr val="5f5f5f"/>
                  </a:solidFill>
                  <a:latin typeface="微软雅黑"/>
                </a:rPr>
                <a:t>?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3198600" y="5445360"/>
              <a:ext cx="1419480" cy="330120"/>
            </a:xfrm>
            <a:custGeom>
              <a:avLst/>
              <a:gdLst>
                <a:gd name="textAreaLeft" fmla="*/ 0 w 1419480"/>
                <a:gd name="textAreaRight" fmla="*/ 1419840 w 14194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126" h="327">
                  <a:moveTo>
                    <a:pt x="563" y="0"/>
                  </a:moveTo>
                  <a:cubicBezTo>
                    <a:pt x="322" y="0"/>
                    <a:pt x="112" y="132"/>
                    <a:pt x="0" y="327"/>
                  </a:cubicBezTo>
                  <a:cubicBezTo>
                    <a:pt x="1126" y="327"/>
                    <a:pt x="1126" y="327"/>
                    <a:pt x="1126" y="327"/>
                  </a:cubicBezTo>
                  <a:cubicBezTo>
                    <a:pt x="1014" y="132"/>
                    <a:pt x="804" y="0"/>
                    <a:pt x="5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68426">
                    <a:alpha val="70196"/>
                  </a:srgbClr>
                </a:gs>
                <a:gs pos="100000">
                  <a:srgbClr val="8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1"/>
            <p:cNvSpPr/>
            <p:nvPr/>
          </p:nvSpPr>
          <p:spPr>
            <a:xfrm>
              <a:off x="3196800" y="4292640"/>
              <a:ext cx="1413000" cy="1131840"/>
            </a:xfrm>
            <a:prstGeom prst="ellipse">
              <a:avLst/>
            </a:prstGeom>
            <a:solidFill>
              <a:srgbClr val="f68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3247920" y="4322880"/>
              <a:ext cx="1308240" cy="50328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38" h="499">
                  <a:moveTo>
                    <a:pt x="1038" y="499"/>
                  </a:moveTo>
                  <a:cubicBezTo>
                    <a:pt x="1037" y="223"/>
                    <a:pt x="805" y="0"/>
                    <a:pt x="519" y="0"/>
                  </a:cubicBezTo>
                  <a:cubicBezTo>
                    <a:pt x="233" y="0"/>
                    <a:pt x="1" y="223"/>
                    <a:pt x="0" y="499"/>
                  </a:cubicBezTo>
                  <a:cubicBezTo>
                    <a:pt x="132" y="413"/>
                    <a:pt x="315" y="360"/>
                    <a:pt x="519" y="360"/>
                  </a:cubicBezTo>
                  <a:cubicBezTo>
                    <a:pt x="723" y="360"/>
                    <a:pt x="907" y="413"/>
                    <a:pt x="1038" y="4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90196"/>
                  </a:srgbClr>
                </a:gs>
                <a:gs pos="100000">
                  <a:srgbClr val="ffffff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>
              <a:off x="3527640" y="4658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alibri"/>
                </a:rPr>
                <a:t>做事方法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AutoShape 4"/>
          <p:cNvSpPr/>
          <p:nvPr/>
        </p:nvSpPr>
        <p:spPr>
          <a:xfrm>
            <a:off x="4944960" y="1989000"/>
            <a:ext cx="1727280" cy="1967040"/>
          </a:xfrm>
          <a:prstGeom prst="downArrowCallout">
            <a:avLst>
              <a:gd name="adj1" fmla="val 49884"/>
              <a:gd name="adj2" fmla="val 24940"/>
              <a:gd name="adj3" fmla="val 12664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3"/>
          <p:cNvSpPr/>
          <p:nvPr/>
        </p:nvSpPr>
        <p:spPr>
          <a:xfrm>
            <a:off x="5097600" y="5445000"/>
            <a:ext cx="1133280" cy="330480"/>
          </a:xfrm>
          <a:custGeom>
            <a:avLst/>
            <a:gdLst>
              <a:gd name="textAreaLeft" fmla="*/ 0 w 1133280"/>
              <a:gd name="textAreaRight" fmla="*/ 1133640 w 113328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7bc143">
                  <a:alpha val="70196"/>
                </a:srgbClr>
              </a:gs>
              <a:gs pos="100000">
                <a:srgbClr val="8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5095800" y="4292640"/>
            <a:ext cx="1128960" cy="1131840"/>
          </a:xfrm>
          <a:prstGeom prst="ellipse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5"/>
          <p:cNvSpPr/>
          <p:nvPr/>
        </p:nvSpPr>
        <p:spPr>
          <a:xfrm>
            <a:off x="5137200" y="4322880"/>
            <a:ext cx="1044360" cy="50328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6"/>
          <p:cNvSpPr/>
          <p:nvPr/>
        </p:nvSpPr>
        <p:spPr>
          <a:xfrm>
            <a:off x="5297760" y="4657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工作进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6888240" y="1989000"/>
            <a:ext cx="1800000" cy="1967040"/>
          </a:xfrm>
          <a:prstGeom prst="downArrowCallout">
            <a:avLst>
              <a:gd name="adj1" fmla="val 49884"/>
              <a:gd name="adj2" fmla="val 24940"/>
              <a:gd name="adj3" fmla="val 15259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6"/>
          <p:cNvSpPr/>
          <p:nvPr/>
        </p:nvSpPr>
        <p:spPr>
          <a:xfrm>
            <a:off x="7080120" y="5445000"/>
            <a:ext cx="1422360" cy="3304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00b0f0">
                  <a:alpha val="70196"/>
                </a:srgbClr>
              </a:gs>
              <a:gs pos="100000">
                <a:srgbClr val="8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7"/>
          <p:cNvSpPr/>
          <p:nvPr/>
        </p:nvSpPr>
        <p:spPr>
          <a:xfrm>
            <a:off x="7077240" y="4292640"/>
            <a:ext cx="1417320" cy="1131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8"/>
          <p:cNvSpPr/>
          <p:nvPr/>
        </p:nvSpPr>
        <p:spPr>
          <a:xfrm>
            <a:off x="7129440" y="4322880"/>
            <a:ext cx="1311120" cy="503280"/>
          </a:xfrm>
          <a:custGeom>
            <a:avLst/>
            <a:gdLst>
              <a:gd name="textAreaLeft" fmla="*/ 0 w 1311120"/>
              <a:gd name="textAreaRight" fmla="*/ 1311480 w 13111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7"/>
          <p:cNvSpPr/>
          <p:nvPr/>
        </p:nvSpPr>
        <p:spPr>
          <a:xfrm>
            <a:off x="7409160" y="4657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人际交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4944960" y="1989000"/>
            <a:ext cx="1656000" cy="116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</a:rPr>
              <a:t>今天做了多少的事</a:t>
            </a:r>
            <a:r>
              <a:rPr b="1" lang="en-US" sz="16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1" lang="zh-CN" sz="1600" spc="-1" strike="noStrike">
                <a:solidFill>
                  <a:srgbClr val="5f5f5f"/>
                </a:solidFill>
                <a:latin typeface="微软雅黑"/>
              </a:rPr>
              <a:t>有无进步</a:t>
            </a:r>
            <a:r>
              <a:rPr b="1" lang="en-US" sz="1600" spc="-1" strike="noStrike">
                <a:solidFill>
                  <a:srgbClr val="5f5f5f"/>
                </a:solidFill>
                <a:latin typeface="微软雅黑"/>
              </a:rPr>
              <a:t>?</a:t>
            </a:r>
            <a:r>
              <a:rPr b="1" lang="zh-CN" sz="1600" spc="-1" strike="noStrike">
                <a:solidFill>
                  <a:srgbClr val="5f5f5f"/>
                </a:solidFill>
                <a:latin typeface="微软雅黑"/>
              </a:rPr>
              <a:t>有无完成我既定的目标</a:t>
            </a:r>
            <a:r>
              <a:rPr b="1" lang="en-US" sz="1600" spc="-1" strike="noStrike">
                <a:solidFill>
                  <a:srgbClr val="5f5f5f"/>
                </a:solidFill>
                <a:latin typeface="微软雅黑"/>
              </a:rPr>
              <a:t>?</a:t>
            </a:r>
            <a:r>
              <a:rPr b="1" lang="zh-CN" sz="1600" spc="-1" strike="noStrike">
                <a:solidFill>
                  <a:srgbClr val="5f5f5f"/>
                </a:solidFill>
                <a:latin typeface="微软雅黑"/>
              </a:rPr>
              <a:t>有没有给自己提出更高的要求</a:t>
            </a:r>
            <a:r>
              <a:rPr b="1" lang="en-US" sz="1600" spc="-1" strike="noStrike">
                <a:solidFill>
                  <a:srgbClr val="5f5f5f"/>
                </a:solidFill>
                <a:latin typeface="微软雅黑"/>
              </a:rPr>
              <a:t>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6888240" y="2060640"/>
            <a:ext cx="1800000" cy="100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</a:rPr>
              <a:t>今天是否说过不当的话</a:t>
            </a:r>
            <a:r>
              <a:rPr b="1" lang="en-US" sz="1600" spc="-1" strike="noStrike">
                <a:solidFill>
                  <a:srgbClr val="5f5f5f"/>
                </a:solidFill>
                <a:latin typeface="微软雅黑"/>
              </a:rPr>
              <a:t>?</a:t>
            </a:r>
            <a:r>
              <a:rPr b="1" lang="zh-CN" sz="1600" spc="-1" strike="noStrike">
                <a:solidFill>
                  <a:srgbClr val="5f5f5f"/>
                </a:solidFill>
                <a:latin typeface="微软雅黑"/>
              </a:rPr>
              <a:t>是否做过损害别人的事</a:t>
            </a:r>
            <a:r>
              <a:rPr b="1" lang="en-US" sz="16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1" lang="zh-CN" sz="1600" spc="-1" strike="noStrike">
                <a:solidFill>
                  <a:srgbClr val="5f5f5f"/>
                </a:solidFill>
                <a:latin typeface="微软雅黑"/>
              </a:rPr>
              <a:t>某人对我不友善是不是另有原因</a:t>
            </a:r>
            <a:r>
              <a:rPr b="1" lang="en-US" sz="1800" spc="-1" strike="noStrike">
                <a:solidFill>
                  <a:srgbClr val="5f5f5f"/>
                </a:solidFill>
                <a:latin typeface="微软雅黑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4" descr="slide0022_image170"/>
          <p:cNvPicPr/>
          <p:nvPr/>
        </p:nvPicPr>
        <p:blipFill>
          <a:blip r:embed="rId1"/>
          <a:stretch/>
        </p:blipFill>
        <p:spPr>
          <a:xfrm>
            <a:off x="8496360" y="1150920"/>
            <a:ext cx="3698640" cy="5707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144960" y="981000"/>
            <a:ext cx="8837640" cy="42433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5160960" y="162864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能否找准自己的位置</a:t>
            </a:r>
            <a:r>
              <a:rPr b="1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直接影响着一个人成功的速度</a:t>
            </a:r>
            <a:r>
              <a:rPr b="1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也决定了一个人的命运和前途</a:t>
            </a:r>
            <a:r>
              <a:rPr b="1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哪个更适合自己</a:t>
            </a:r>
            <a:r>
              <a:rPr b="1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1" lang="zh-CN" sz="2000" spc="-1" strike="noStrike">
                <a:solidFill>
                  <a:srgbClr val="5f5f5f"/>
                </a:solidFill>
                <a:latin typeface="微软雅黑"/>
              </a:rPr>
              <a:t>哪个就是自己的位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853320" y="6311880"/>
            <a:ext cx="138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故事</a:t>
            </a: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:</a:t>
            </a: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笼虎与野老虎的故事</a:t>
            </a:r>
            <a:r>
              <a:rPr b="1" lang="en-US" sz="1200" spc="-1" strike="noStrike">
                <a:solidFill>
                  <a:srgbClr val="5f5f5f"/>
                </a:solidFill>
                <a:latin typeface="微软雅黑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master04_image002"/>
          <p:cNvPicPr/>
          <p:nvPr/>
        </p:nvPicPr>
        <p:blipFill>
          <a:blip r:embed="rId2"/>
          <a:stretch/>
        </p:blipFill>
        <p:spPr>
          <a:xfrm>
            <a:off x="1201680" y="1844640"/>
            <a:ext cx="233532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1"/>
          <p:cNvGrpSpPr/>
          <p:nvPr/>
        </p:nvGrpSpPr>
        <p:grpSpPr>
          <a:xfrm>
            <a:off x="3492360" y="1844640"/>
            <a:ext cx="8653680" cy="4673520"/>
            <a:chOff x="3492360" y="1844640"/>
            <a:chExt cx="8653680" cy="4673520"/>
          </a:xfrm>
        </p:grpSpPr>
        <p:sp>
          <p:nvSpPr>
            <p:cNvPr id="197" name="任意多边形 31"/>
            <p:cNvSpPr/>
            <p:nvPr/>
          </p:nvSpPr>
          <p:spPr>
            <a:xfrm>
              <a:off x="8809200" y="4255920"/>
              <a:ext cx="952560" cy="1207800"/>
            </a:xfrm>
            <a:custGeom>
              <a:avLst/>
              <a:gdLst/>
              <a:ahLst/>
              <a:rect l="l" t="t" r="r" b="b"/>
              <a:pathLst>
                <a:path w="952089" h="1208690">
                  <a:moveTo>
                    <a:pt x="0" y="633002"/>
                  </a:moveTo>
                  <a:lnTo>
                    <a:pt x="16669" y="1208690"/>
                  </a:lnTo>
                  <a:lnTo>
                    <a:pt x="952089" y="336331"/>
                  </a:lnTo>
                  <a:lnTo>
                    <a:pt x="952089" y="0"/>
                  </a:lnTo>
                  <a:lnTo>
                    <a:pt x="0" y="633002"/>
                  </a:lnTo>
                  <a:close/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c73e01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32"/>
            <p:cNvSpPr/>
            <p:nvPr/>
          </p:nvSpPr>
          <p:spPr>
            <a:xfrm>
              <a:off x="6541920" y="4946760"/>
              <a:ext cx="1147680" cy="1568520"/>
            </a:xfrm>
            <a:custGeom>
              <a:avLst/>
              <a:gdLst/>
              <a:ahLst/>
              <a:rect l="l" t="t" r="r" b="b"/>
              <a:pathLst>
                <a:path w="1145628" h="1568011">
                  <a:moveTo>
                    <a:pt x="1011" y="0"/>
                  </a:moveTo>
                  <a:lnTo>
                    <a:pt x="1145628" y="685142"/>
                  </a:lnTo>
                  <a:lnTo>
                    <a:pt x="1145628" y="1568011"/>
                  </a:lnTo>
                  <a:lnTo>
                    <a:pt x="0" y="580039"/>
                  </a:lnTo>
                  <a:lnTo>
                    <a:pt x="1011" y="0"/>
                  </a:ln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2f2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33"/>
            <p:cNvSpPr/>
            <p:nvPr/>
          </p:nvSpPr>
          <p:spPr>
            <a:xfrm>
              <a:off x="7688160" y="4906800"/>
              <a:ext cx="1104840" cy="1611360"/>
            </a:xfrm>
            <a:custGeom>
              <a:avLst/>
              <a:gdLst/>
              <a:ahLst/>
              <a:rect l="l" t="t" r="r" b="b"/>
              <a:pathLst>
                <a:path w="1072056" h="1611448">
                  <a:moveTo>
                    <a:pt x="0" y="725214"/>
                  </a:moveTo>
                  <a:cubicBezTo>
                    <a:pt x="1541" y="1019038"/>
                    <a:pt x="771" y="1317624"/>
                    <a:pt x="2312" y="1611448"/>
                  </a:cubicBezTo>
                  <a:lnTo>
                    <a:pt x="1072056" y="588580"/>
                  </a:lnTo>
                  <a:lnTo>
                    <a:pt x="1072056" y="0"/>
                  </a:lnTo>
                  <a:lnTo>
                    <a:pt x="0" y="725214"/>
                  </a:ln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2f2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34"/>
            <p:cNvSpPr/>
            <p:nvPr/>
          </p:nvSpPr>
          <p:spPr>
            <a:xfrm>
              <a:off x="6541920" y="4308480"/>
              <a:ext cx="2251080" cy="1341360"/>
            </a:xfrm>
            <a:custGeom>
              <a:avLst/>
              <a:gdLst/>
              <a:ahLst/>
              <a:rect l="l" t="t" r="r" b="b"/>
              <a:pathLst>
                <a:path w="2753711" h="1639613">
                  <a:moveTo>
                    <a:pt x="1397876" y="1639613"/>
                  </a:moveTo>
                  <a:lnTo>
                    <a:pt x="0" y="777765"/>
                  </a:lnTo>
                  <a:lnTo>
                    <a:pt x="1366345" y="0"/>
                  </a:lnTo>
                  <a:lnTo>
                    <a:pt x="2753711" y="735724"/>
                  </a:lnTo>
                  <a:lnTo>
                    <a:pt x="1397876" y="1639613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5400000"/>
            </a:gradFill>
            <a:ln w="3240">
              <a:solidFill>
                <a:srgbClr val="f2f2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35"/>
            <p:cNvSpPr/>
            <p:nvPr/>
          </p:nvSpPr>
          <p:spPr>
            <a:xfrm>
              <a:off x="7688160" y="3771720"/>
              <a:ext cx="2079720" cy="1117440"/>
            </a:xfrm>
            <a:custGeom>
              <a:avLst/>
              <a:gdLst/>
              <a:ahLst/>
              <a:rect l="l" t="t" r="r" b="b"/>
              <a:pathLst>
                <a:path w="2543503" h="1366345">
                  <a:moveTo>
                    <a:pt x="1366345" y="1366345"/>
                  </a:moveTo>
                  <a:lnTo>
                    <a:pt x="0" y="630621"/>
                  </a:lnTo>
                  <a:lnTo>
                    <a:pt x="1187669" y="0"/>
                  </a:lnTo>
                  <a:lnTo>
                    <a:pt x="2543503" y="609600"/>
                  </a:lnTo>
                  <a:lnTo>
                    <a:pt x="1366345" y="1366345"/>
                  </a:ln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54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36"/>
            <p:cNvSpPr/>
            <p:nvPr/>
          </p:nvSpPr>
          <p:spPr>
            <a:xfrm>
              <a:off x="5529240" y="3789360"/>
              <a:ext cx="2104920" cy="1135080"/>
            </a:xfrm>
            <a:custGeom>
              <a:avLst/>
              <a:gdLst/>
              <a:ahLst/>
              <a:rect l="l" t="t" r="r" b="b"/>
              <a:pathLst>
                <a:path w="2575034" h="1387365">
                  <a:moveTo>
                    <a:pt x="1215654" y="1387365"/>
                  </a:moveTo>
                  <a:lnTo>
                    <a:pt x="2575034" y="609600"/>
                  </a:lnTo>
                  <a:lnTo>
                    <a:pt x="1387365" y="0"/>
                  </a:lnTo>
                  <a:lnTo>
                    <a:pt x="0" y="651641"/>
                  </a:lnTo>
                  <a:lnTo>
                    <a:pt x="1215654" y="1387365"/>
                  </a:lnTo>
                  <a:close/>
                </a:path>
              </a:pathLst>
            </a:custGeom>
            <a:gradFill rotWithShape="0">
              <a:gsLst>
                <a:gs pos="0">
                  <a:srgbClr val="119707"/>
                </a:gs>
                <a:gs pos="100000">
                  <a:srgbClr val="bceb6f"/>
                </a:gs>
              </a:gsLst>
              <a:lin ang="54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37"/>
            <p:cNvSpPr/>
            <p:nvPr/>
          </p:nvSpPr>
          <p:spPr>
            <a:xfrm>
              <a:off x="6694560" y="3324240"/>
              <a:ext cx="1933560" cy="961920"/>
            </a:xfrm>
            <a:custGeom>
              <a:avLst/>
              <a:gdLst/>
              <a:ahLst/>
              <a:rect l="l" t="t" r="r" b="b"/>
              <a:pathLst>
                <a:path w="2364828" h="1177159">
                  <a:moveTo>
                    <a:pt x="1187669" y="1177159"/>
                  </a:moveTo>
                  <a:lnTo>
                    <a:pt x="2364828" y="536028"/>
                  </a:lnTo>
                  <a:lnTo>
                    <a:pt x="1177159" y="0"/>
                  </a:lnTo>
                  <a:lnTo>
                    <a:pt x="0" y="557049"/>
                  </a:lnTo>
                  <a:lnTo>
                    <a:pt x="1187669" y="1177159"/>
                  </a:lnTo>
                  <a:close/>
                </a:path>
              </a:pathLst>
            </a:custGeom>
            <a:gradFill rotWithShape="0">
              <a:gsLst>
                <a:gs pos="0">
                  <a:srgbClr val="006a96"/>
                </a:gs>
                <a:gs pos="100000">
                  <a:srgbClr val="00b8ff"/>
                </a:gs>
              </a:gsLst>
              <a:lin ang="54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38"/>
            <p:cNvSpPr/>
            <p:nvPr/>
          </p:nvSpPr>
          <p:spPr>
            <a:xfrm>
              <a:off x="5529240" y="4329000"/>
              <a:ext cx="995400" cy="1187280"/>
            </a:xfrm>
            <a:custGeom>
              <a:avLst/>
              <a:gdLst/>
              <a:ahLst/>
              <a:rect l="l" t="t" r="r" b="b"/>
              <a:pathLst>
                <a:path w="966952" h="1187669">
                  <a:moveTo>
                    <a:pt x="962324" y="590550"/>
                  </a:moveTo>
                  <a:cubicBezTo>
                    <a:pt x="963867" y="789590"/>
                    <a:pt x="965409" y="988629"/>
                    <a:pt x="966952" y="1187669"/>
                  </a:cubicBezTo>
                  <a:lnTo>
                    <a:pt x="0" y="304800"/>
                  </a:lnTo>
                  <a:lnTo>
                    <a:pt x="0" y="0"/>
                  </a:lnTo>
                  <a:lnTo>
                    <a:pt x="962324" y="590550"/>
                  </a:lnTo>
                  <a:close/>
                </a:path>
              </a:pathLst>
            </a:custGeom>
            <a:gradFill rotWithShape="0">
              <a:gsLst>
                <a:gs pos="0">
                  <a:srgbClr val="bceb6f"/>
                </a:gs>
                <a:gs pos="100000">
                  <a:srgbClr val="11970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组合 39"/>
            <p:cNvGrpSpPr/>
            <p:nvPr/>
          </p:nvGrpSpPr>
          <p:grpSpPr>
            <a:xfrm>
              <a:off x="5478120" y="4327560"/>
              <a:ext cx="4346280" cy="2063520"/>
              <a:chOff x="5478120" y="4327560"/>
              <a:chExt cx="4346280" cy="2063520"/>
            </a:xfrm>
          </p:grpSpPr>
          <p:grpSp>
            <p:nvGrpSpPr>
              <p:cNvPr id="206" name="组合 40"/>
              <p:cNvGrpSpPr/>
              <p:nvPr/>
            </p:nvGrpSpPr>
            <p:grpSpPr>
              <a:xfrm>
                <a:off x="5478120" y="4327560"/>
                <a:ext cx="4346280" cy="2003760"/>
                <a:chOff x="5478120" y="4327560"/>
                <a:chExt cx="4346280" cy="2003760"/>
              </a:xfrm>
            </p:grpSpPr>
            <p:pic>
              <p:nvPicPr>
                <p:cNvPr id="207" name="任意多边形 4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478120" y="4363560"/>
                  <a:ext cx="2231280" cy="196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任意多边形 4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684200" y="4327560"/>
                  <a:ext cx="2140200" cy="2003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9" name="组合 41"/>
              <p:cNvGrpSpPr/>
              <p:nvPr/>
            </p:nvGrpSpPr>
            <p:grpSpPr>
              <a:xfrm>
                <a:off x="5498640" y="4332600"/>
                <a:ext cx="4320720" cy="2058480"/>
                <a:chOff x="5498640" y="4332600"/>
                <a:chExt cx="4320720" cy="2058480"/>
              </a:xfrm>
            </p:grpSpPr>
            <p:pic>
              <p:nvPicPr>
                <p:cNvPr id="210" name="任意多边形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498640" y="4381200"/>
                  <a:ext cx="2190960" cy="2003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任意多边形 4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689600" y="4332600"/>
                  <a:ext cx="2129760" cy="205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12" name="矩形 50"/>
            <p:cNvSpPr/>
            <p:nvPr/>
          </p:nvSpPr>
          <p:spPr>
            <a:xfrm>
              <a:off x="6889680" y="1922400"/>
              <a:ext cx="45720" cy="900000"/>
            </a:xfrm>
            <a:prstGeom prst="rect">
              <a:avLst/>
            </a:prstGeom>
            <a:solidFill>
              <a:srgbClr val="005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51"/>
            <p:cNvSpPr/>
            <p:nvPr/>
          </p:nvSpPr>
          <p:spPr>
            <a:xfrm>
              <a:off x="9456840" y="1922400"/>
              <a:ext cx="44280" cy="900000"/>
            </a:xfrm>
            <a:prstGeom prst="rect">
              <a:avLst/>
            </a:prstGeom>
            <a:solidFill>
              <a:srgbClr val="c77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52"/>
            <p:cNvSpPr/>
            <p:nvPr/>
          </p:nvSpPr>
          <p:spPr>
            <a:xfrm>
              <a:off x="4957560" y="2979720"/>
              <a:ext cx="45720" cy="898560"/>
            </a:xfrm>
            <a:prstGeom prst="rect">
              <a:avLst/>
            </a:prstGeom>
            <a:solidFill>
              <a:srgbClr val="119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53"/>
            <p:cNvSpPr/>
            <p:nvPr/>
          </p:nvSpPr>
          <p:spPr>
            <a:xfrm>
              <a:off x="10598400" y="2985840"/>
              <a:ext cx="45720" cy="900000"/>
            </a:xfrm>
            <a:prstGeom prst="rect">
              <a:avLst/>
            </a:prstGeom>
            <a:solidFill>
              <a:srgbClr val="be1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54"/>
            <p:cNvSpPr/>
            <p:nvPr/>
          </p:nvSpPr>
          <p:spPr>
            <a:xfrm>
              <a:off x="7116840" y="2336760"/>
              <a:ext cx="447480" cy="1198440"/>
            </a:xfrm>
            <a:custGeom>
              <a:avLst/>
              <a:gdLst/>
              <a:ahLst/>
              <a:rect l="l" t="t" r="r" b="b"/>
              <a:pathLst>
                <a:path w="368135" h="1199408">
                  <a:moveTo>
                    <a:pt x="368135" y="1199408"/>
                  </a:moveTo>
                  <a:lnTo>
                    <a:pt x="368135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6a96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55"/>
            <p:cNvSpPr/>
            <p:nvPr/>
          </p:nvSpPr>
          <p:spPr>
            <a:xfrm>
              <a:off x="5206680" y="3341520"/>
              <a:ext cx="1317600" cy="799920"/>
            </a:xfrm>
            <a:custGeom>
              <a:avLst/>
              <a:gdLst/>
              <a:ahLst/>
              <a:rect l="l" t="t" r="r" b="b"/>
              <a:pathLst>
                <a:path w="368135" h="1199408">
                  <a:moveTo>
                    <a:pt x="368135" y="1199408"/>
                  </a:moveTo>
                  <a:lnTo>
                    <a:pt x="368135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119707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56"/>
            <p:cNvSpPr/>
            <p:nvPr/>
          </p:nvSpPr>
          <p:spPr>
            <a:xfrm flipH="1">
              <a:off x="8913960" y="2400120"/>
              <a:ext cx="341280" cy="1635120"/>
            </a:xfrm>
            <a:custGeom>
              <a:avLst/>
              <a:gdLst/>
              <a:ahLst/>
              <a:rect l="l" t="t" r="r" b="b"/>
              <a:pathLst>
                <a:path w="368135" h="1199408">
                  <a:moveTo>
                    <a:pt x="368135" y="1199408"/>
                  </a:moveTo>
                  <a:lnTo>
                    <a:pt x="368135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c73e01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57"/>
            <p:cNvSpPr/>
            <p:nvPr/>
          </p:nvSpPr>
          <p:spPr>
            <a:xfrm flipH="1">
              <a:off x="8120160" y="3411360"/>
              <a:ext cx="2271600" cy="1292040"/>
            </a:xfrm>
            <a:custGeom>
              <a:avLst/>
              <a:gdLst/>
              <a:ahLst/>
              <a:rect l="l" t="t" r="r" b="b"/>
              <a:pathLst>
                <a:path w="368135" h="1199408">
                  <a:moveTo>
                    <a:pt x="368135" y="1199408"/>
                  </a:moveTo>
                  <a:lnTo>
                    <a:pt x="368135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be1247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58"/>
            <p:cNvSpPr/>
            <p:nvPr/>
          </p:nvSpPr>
          <p:spPr>
            <a:xfrm>
              <a:off x="5206680" y="1844640"/>
              <a:ext cx="167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我想要什么样的工作？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59"/>
            <p:cNvSpPr/>
            <p:nvPr/>
          </p:nvSpPr>
          <p:spPr>
            <a:xfrm>
              <a:off x="3492360" y="2912760"/>
              <a:ext cx="145260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我能做什么样工作吗？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60"/>
            <p:cNvSpPr/>
            <p:nvPr/>
          </p:nvSpPr>
          <p:spPr>
            <a:xfrm>
              <a:off x="9550440" y="1861920"/>
              <a:ext cx="158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我最擅长做什么工作？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61"/>
            <p:cNvSpPr/>
            <p:nvPr/>
          </p:nvSpPr>
          <p:spPr>
            <a:xfrm>
              <a:off x="10693440" y="2930400"/>
              <a:ext cx="145260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我适合做什么工作？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1"/>
            <p:cNvSpPr/>
            <p:nvPr/>
          </p:nvSpPr>
          <p:spPr>
            <a:xfrm flipH="1">
              <a:off x="6903360" y="4883040"/>
              <a:ext cx="14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定位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1"/>
            <p:cNvSpPr/>
            <p:nvPr/>
          </p:nvSpPr>
          <p:spPr>
            <a:xfrm flipH="1">
              <a:off x="5844240" y="4240080"/>
              <a:ext cx="14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定点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1"/>
            <p:cNvSpPr/>
            <p:nvPr/>
          </p:nvSpPr>
          <p:spPr>
            <a:xfrm flipH="1">
              <a:off x="7954200" y="4240080"/>
              <a:ext cx="14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定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1"/>
            <p:cNvSpPr/>
            <p:nvPr/>
          </p:nvSpPr>
          <p:spPr>
            <a:xfrm flipH="1">
              <a:off x="6900840" y="3716280"/>
              <a:ext cx="14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定向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9" descr="slide0151_image079"/>
          <p:cNvPicPr/>
          <p:nvPr/>
        </p:nvPicPr>
        <p:blipFill>
          <a:blip r:embed="rId5"/>
          <a:stretch/>
        </p:blipFill>
        <p:spPr>
          <a:xfrm>
            <a:off x="1128600" y="2349360"/>
            <a:ext cx="359892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4441680" y="2565360"/>
            <a:ext cx="3556080" cy="3076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281520" bIns="270000" anchor="t">
            <a:noAutofit/>
          </a:bodyPr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自己目标关键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成大事业的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靠智慧取胜的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合资源实现价值最大化的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领导能力的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拓展人脉，靠人际关系发达的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找到自己人生使命的最关键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336600" y="1125360"/>
            <a:ext cx="3625560" cy="588960"/>
            <a:chOff x="336600" y="1125360"/>
            <a:chExt cx="3625560" cy="588960"/>
          </a:xfrm>
        </p:grpSpPr>
        <p:sp>
          <p:nvSpPr>
            <p:cNvPr id="235" name="Rectangle 3"/>
            <p:cNvSpPr/>
            <p:nvPr/>
          </p:nvSpPr>
          <p:spPr>
            <a:xfrm>
              <a:off x="374400" y="1125360"/>
              <a:ext cx="3549960" cy="513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7040" bIns="63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25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岁到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35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岁的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10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年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4"/>
            <p:cNvSpPr/>
            <p:nvPr/>
          </p:nvSpPr>
          <p:spPr>
            <a:xfrm>
              <a:off x="336600" y="1643400"/>
              <a:ext cx="3625560" cy="70920"/>
            </a:xfrm>
            <a:custGeom>
              <a:avLst/>
              <a:gdLst>
                <a:gd name="textAreaLeft" fmla="*/ 462960 w 3625560"/>
                <a:gd name="textAreaRight" fmla="*/ 3162600 w 3625560"/>
                <a:gd name="textAreaTop" fmla="*/ 9360 h 70920"/>
                <a:gd name="textAreaBottom" fmla="*/ 61560 h 7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4" y="21600"/>
                  </a:lnTo>
                  <a:lnTo>
                    <a:pt x="1968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5"/>
          <p:cNvGrpSpPr/>
          <p:nvPr/>
        </p:nvGrpSpPr>
        <p:grpSpPr>
          <a:xfrm>
            <a:off x="0" y="2133720"/>
            <a:ext cx="3744360" cy="3921120"/>
            <a:chOff x="0" y="2133720"/>
            <a:chExt cx="3744360" cy="3921120"/>
          </a:xfrm>
        </p:grpSpPr>
        <p:sp>
          <p:nvSpPr>
            <p:cNvPr id="238" name="AutoShape 6"/>
            <p:cNvSpPr/>
            <p:nvPr/>
          </p:nvSpPr>
          <p:spPr>
            <a:xfrm rot="16200000">
              <a:off x="122760" y="2411640"/>
              <a:ext cx="3871800" cy="3359880"/>
            </a:xfrm>
            <a:custGeom>
              <a:avLst/>
              <a:gdLst>
                <a:gd name="textAreaLeft" fmla="*/ 520560 w 3871800"/>
                <a:gd name="textAreaRight" fmla="*/ 3351240 w 3871800"/>
                <a:gd name="textAreaTop" fmla="*/ 452880 h 3359880"/>
                <a:gd name="textAreaBottom" fmla="*/ 2907000 h 335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b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7"/>
            <p:cNvSpPr/>
            <p:nvPr/>
          </p:nvSpPr>
          <p:spPr>
            <a:xfrm>
              <a:off x="412560" y="2773440"/>
              <a:ext cx="333180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6520" bIns="45000" anchor="t">
              <a:spAutoFit/>
            </a:bodyPr>
            <a:p>
              <a:pPr lvl="1" marL="743040" indent="-28584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积累自己资本的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从就业向择业转变的关键的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对薪酬待遇等方面斤斤计较的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对自己投资的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吃苦打基础，养成良好职业习惯的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认清自己使用价值的关键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自己定下职业目标的关键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8"/>
            <p:cNvSpPr/>
            <p:nvPr/>
          </p:nvSpPr>
          <p:spPr>
            <a:xfrm rot="5400000">
              <a:off x="-1778760" y="3912480"/>
              <a:ext cx="3921120" cy="363600"/>
            </a:xfrm>
            <a:custGeom>
              <a:avLst/>
              <a:gdLst>
                <a:gd name="textAreaLeft" fmla="*/ 492120 w 3921120"/>
                <a:gd name="textAreaRight" fmla="*/ 3429000 w 3921120"/>
                <a:gd name="textAreaTop" fmla="*/ 46440 h 363600"/>
                <a:gd name="textAreaBottom" fmla="*/ 31716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9" y="21600"/>
                  </a:lnTo>
                  <a:lnTo>
                    <a:pt x="1977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9"/>
          <p:cNvGrpSpPr/>
          <p:nvPr/>
        </p:nvGrpSpPr>
        <p:grpSpPr>
          <a:xfrm>
            <a:off x="8445240" y="2133720"/>
            <a:ext cx="3749400" cy="3921120"/>
            <a:chOff x="8445240" y="2133720"/>
            <a:chExt cx="3749400" cy="3921120"/>
          </a:xfrm>
        </p:grpSpPr>
        <p:sp>
          <p:nvSpPr>
            <p:cNvPr id="242" name="AutoShape 10"/>
            <p:cNvSpPr/>
            <p:nvPr/>
          </p:nvSpPr>
          <p:spPr>
            <a:xfrm rot="5400000">
              <a:off x="8183160" y="2409840"/>
              <a:ext cx="3894120" cy="3369960"/>
            </a:xfrm>
            <a:custGeom>
              <a:avLst/>
              <a:gdLst>
                <a:gd name="textAreaLeft" fmla="*/ 523800 w 3894120"/>
                <a:gd name="textAreaRight" fmla="*/ 3370320 w 3894120"/>
                <a:gd name="textAreaTop" fmla="*/ 452880 h 3369960"/>
                <a:gd name="textAreaBottom" fmla="*/ 2917080 h 336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1"/>
            <p:cNvSpPr/>
            <p:nvPr/>
          </p:nvSpPr>
          <p:spPr>
            <a:xfrm>
              <a:off x="8466480" y="2773440"/>
              <a:ext cx="33318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6520" bIns="45000" anchor="t">
              <a:spAutoFit/>
            </a:bodyPr>
            <a:p>
              <a:pPr lvl="1" marL="743040" indent="-28584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职业历练的高汇报期的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靠自律和定力成就事业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年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靠职业魅力成功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靠人品和诚信取胜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年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是人生收获季节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是品尝奋斗后的甘甜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2"/>
            <p:cNvSpPr/>
            <p:nvPr/>
          </p:nvSpPr>
          <p:spPr>
            <a:xfrm rot="16200000">
              <a:off x="10051920" y="3912120"/>
              <a:ext cx="3921120" cy="364320"/>
            </a:xfrm>
            <a:custGeom>
              <a:avLst/>
              <a:gdLst>
                <a:gd name="textAreaLeft" fmla="*/ 492120 w 3921120"/>
                <a:gd name="textAreaRight" fmla="*/ 3429000 w 3921120"/>
                <a:gd name="textAreaTop" fmla="*/ 46440 h 364320"/>
                <a:gd name="textAreaBottom" fmla="*/ 317880 h 36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9" y="21600"/>
                  </a:lnTo>
                  <a:lnTo>
                    <a:pt x="1977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3"/>
          <p:cNvGrpSpPr/>
          <p:nvPr/>
        </p:nvGrpSpPr>
        <p:grpSpPr>
          <a:xfrm>
            <a:off x="4368960" y="1125360"/>
            <a:ext cx="3627000" cy="588960"/>
            <a:chOff x="4368960" y="1125360"/>
            <a:chExt cx="3627000" cy="588960"/>
          </a:xfrm>
        </p:grpSpPr>
        <p:sp>
          <p:nvSpPr>
            <p:cNvPr id="246" name="Rectangle 14"/>
            <p:cNvSpPr/>
            <p:nvPr/>
          </p:nvSpPr>
          <p:spPr>
            <a:xfrm>
              <a:off x="4406760" y="1125360"/>
              <a:ext cx="3551400" cy="5133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7040" bIns="63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35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岁到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45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岁的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10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年：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5"/>
            <p:cNvSpPr/>
            <p:nvPr/>
          </p:nvSpPr>
          <p:spPr>
            <a:xfrm>
              <a:off x="4368960" y="1643400"/>
              <a:ext cx="3627000" cy="70920"/>
            </a:xfrm>
            <a:custGeom>
              <a:avLst/>
              <a:gdLst>
                <a:gd name="textAreaLeft" fmla="*/ 463320 w 3627000"/>
                <a:gd name="textAreaRight" fmla="*/ 3163680 w 3627000"/>
                <a:gd name="textAreaTop" fmla="*/ 9360 h 70920"/>
                <a:gd name="textAreaBottom" fmla="*/ 61560 h 7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4" y="21600"/>
                  </a:lnTo>
                  <a:lnTo>
                    <a:pt x="1968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8567640" y="1125360"/>
            <a:ext cx="3627000" cy="588960"/>
            <a:chOff x="8567640" y="1125360"/>
            <a:chExt cx="3627000" cy="588960"/>
          </a:xfrm>
        </p:grpSpPr>
        <p:sp>
          <p:nvSpPr>
            <p:cNvPr id="249" name="Rectangle 17"/>
            <p:cNvSpPr/>
            <p:nvPr/>
          </p:nvSpPr>
          <p:spPr>
            <a:xfrm>
              <a:off x="8605440" y="1125360"/>
              <a:ext cx="3551400" cy="513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704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45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岁到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55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岁的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10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年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>
              <a:off x="8567640" y="1643400"/>
              <a:ext cx="3627000" cy="70920"/>
            </a:xfrm>
            <a:custGeom>
              <a:avLst/>
              <a:gdLst>
                <a:gd name="textAreaLeft" fmla="*/ 463320 w 3627000"/>
                <a:gd name="textAreaRight" fmla="*/ 3163680 w 3627000"/>
                <a:gd name="textAreaTop" fmla="*/ 9360 h 70920"/>
                <a:gd name="textAreaBottom" fmla="*/ 61560 h 7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4" y="21600"/>
                  </a:lnTo>
                  <a:lnTo>
                    <a:pt x="1968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60606"/>
                </a:gs>
                <a:gs pos="100000">
                  <a:srgbClr val="555455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19" descr=""/>
          <p:cNvPicPr/>
          <p:nvPr/>
        </p:nvPicPr>
        <p:blipFill>
          <a:blip r:embed="rId1"/>
          <a:stretch/>
        </p:blipFill>
        <p:spPr>
          <a:xfrm>
            <a:off x="3289320" y="4840200"/>
            <a:ext cx="1138320" cy="2017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" descr=""/>
          <p:cNvPicPr/>
          <p:nvPr/>
        </p:nvPicPr>
        <p:blipFill>
          <a:blip r:embed="rId2"/>
          <a:stretch/>
        </p:blipFill>
        <p:spPr>
          <a:xfrm>
            <a:off x="8042400" y="4883040"/>
            <a:ext cx="112716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19" descr="问号8"/>
          <p:cNvPicPr/>
          <p:nvPr/>
        </p:nvPicPr>
        <p:blipFill>
          <a:blip r:embed="rId1"/>
          <a:srcRect l="11789" t="7397" r="0" b="0"/>
          <a:stretch/>
        </p:blipFill>
        <p:spPr>
          <a:xfrm>
            <a:off x="1273320" y="620640"/>
            <a:ext cx="4302000" cy="6021360"/>
          </a:xfrm>
          <a:prstGeom prst="rect">
            <a:avLst/>
          </a:prstGeom>
          <a:ln w="0">
            <a:noFill/>
          </a:ln>
        </p:spPr>
      </p:pic>
      <p:grpSp>
        <p:nvGrpSpPr>
          <p:cNvPr id="254" name="组合 30"/>
          <p:cNvGrpSpPr/>
          <p:nvPr/>
        </p:nvGrpSpPr>
        <p:grpSpPr>
          <a:xfrm>
            <a:off x="4944960" y="2133720"/>
            <a:ext cx="3117960" cy="2019240"/>
            <a:chOff x="4944960" y="2133720"/>
            <a:chExt cx="3117960" cy="2019240"/>
          </a:xfrm>
        </p:grpSpPr>
        <p:sp>
          <p:nvSpPr>
            <p:cNvPr id="255" name="矩形 11"/>
            <p:cNvSpPr/>
            <p:nvPr/>
          </p:nvSpPr>
          <p:spPr>
            <a:xfrm>
              <a:off x="4944960" y="2133720"/>
              <a:ext cx="3117960" cy="2019240"/>
            </a:xfrm>
            <a:custGeom>
              <a:avLst/>
              <a:gdLst/>
              <a:ahLst/>
              <a:rect l="l" t="t" r="r" b="b"/>
              <a:pathLst>
                <a:path w="3312368" h="2304256">
                  <a:moveTo>
                    <a:pt x="0" y="0"/>
                  </a:moveTo>
                  <a:lnTo>
                    <a:pt x="3312368" y="0"/>
                  </a:lnTo>
                  <a:lnTo>
                    <a:pt x="3312368" y="1016376"/>
                  </a:lnTo>
                  <a:cubicBezTo>
                    <a:pt x="2635332" y="1084165"/>
                    <a:pt x="2097864" y="1625446"/>
                    <a:pt x="2036547" y="2304256"/>
                  </a:cubicBezTo>
                  <a:lnTo>
                    <a:pt x="0" y="23042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round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26"/>
            <p:cNvSpPr/>
            <p:nvPr/>
          </p:nvSpPr>
          <p:spPr>
            <a:xfrm>
              <a:off x="5125680" y="2463840"/>
              <a:ext cx="13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三十岁以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跟对人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31"/>
          <p:cNvGrpSpPr/>
          <p:nvPr/>
        </p:nvGrpSpPr>
        <p:grpSpPr>
          <a:xfrm>
            <a:off x="8186760" y="2133720"/>
            <a:ext cx="3240000" cy="2019240"/>
            <a:chOff x="8186760" y="2133720"/>
            <a:chExt cx="3240000" cy="2019240"/>
          </a:xfrm>
        </p:grpSpPr>
        <p:sp>
          <p:nvSpPr>
            <p:cNvPr id="258" name="矩形 12"/>
            <p:cNvSpPr/>
            <p:nvPr/>
          </p:nvSpPr>
          <p:spPr>
            <a:xfrm>
              <a:off x="8186760" y="2133720"/>
              <a:ext cx="3240000" cy="2019240"/>
            </a:xfrm>
            <a:custGeom>
              <a:avLst/>
              <a:gdLst/>
              <a:ahLst/>
              <a:rect l="l" t="t" r="r" b="b"/>
              <a:pathLst>
                <a:path w="3312368" h="2304256">
                  <a:moveTo>
                    <a:pt x="0" y="0"/>
                  </a:moveTo>
                  <a:lnTo>
                    <a:pt x="3312368" y="0"/>
                  </a:lnTo>
                  <a:lnTo>
                    <a:pt x="3312368" y="2304256"/>
                  </a:lnTo>
                  <a:lnTo>
                    <a:pt x="1275821" y="2304256"/>
                  </a:lnTo>
                  <a:cubicBezTo>
                    <a:pt x="1214504" y="1625446"/>
                    <a:pt x="677036" y="1084165"/>
                    <a:pt x="0" y="1016376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round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27"/>
            <p:cNvSpPr/>
            <p:nvPr/>
          </p:nvSpPr>
          <p:spPr>
            <a:xfrm>
              <a:off x="8691480" y="2508120"/>
              <a:ext cx="255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三十岁以后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要做对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33"/>
          <p:cNvGrpSpPr/>
          <p:nvPr/>
        </p:nvGrpSpPr>
        <p:grpSpPr>
          <a:xfrm>
            <a:off x="4944960" y="4292640"/>
            <a:ext cx="3117960" cy="2019240"/>
            <a:chOff x="4944960" y="4292640"/>
            <a:chExt cx="3117960" cy="2019240"/>
          </a:xfrm>
        </p:grpSpPr>
        <p:sp>
          <p:nvSpPr>
            <p:cNvPr id="261" name="矩形 14"/>
            <p:cNvSpPr/>
            <p:nvPr/>
          </p:nvSpPr>
          <p:spPr>
            <a:xfrm>
              <a:off x="4944960" y="4292640"/>
              <a:ext cx="3117960" cy="2019240"/>
            </a:xfrm>
            <a:custGeom>
              <a:avLst/>
              <a:gdLst/>
              <a:ahLst/>
              <a:rect l="l" t="t" r="r" b="b"/>
              <a:pathLst>
                <a:path w="3312368" h="2304256">
                  <a:moveTo>
                    <a:pt x="0" y="0"/>
                  </a:moveTo>
                  <a:lnTo>
                    <a:pt x="2035555" y="0"/>
                  </a:lnTo>
                  <a:cubicBezTo>
                    <a:pt x="2096902" y="679141"/>
                    <a:pt x="2634862" y="1220617"/>
                    <a:pt x="3312368" y="1287930"/>
                  </a:cubicBezTo>
                  <a:lnTo>
                    <a:pt x="3312368" y="2304256"/>
                  </a:lnTo>
                  <a:lnTo>
                    <a:pt x="0" y="23042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round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28"/>
            <p:cNvSpPr/>
            <p:nvPr/>
          </p:nvSpPr>
          <p:spPr>
            <a:xfrm>
              <a:off x="5111640" y="5531040"/>
              <a:ext cx="24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五十岁以后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钱要放对地方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32"/>
          <p:cNvGrpSpPr/>
          <p:nvPr/>
        </p:nvGrpSpPr>
        <p:grpSpPr>
          <a:xfrm>
            <a:off x="8186760" y="4294080"/>
            <a:ext cx="3240000" cy="2019240"/>
            <a:chOff x="8186760" y="4294080"/>
            <a:chExt cx="3240000" cy="2019240"/>
          </a:xfrm>
        </p:grpSpPr>
        <p:sp>
          <p:nvSpPr>
            <p:cNvPr id="264" name="矩形 13"/>
            <p:cNvSpPr/>
            <p:nvPr/>
          </p:nvSpPr>
          <p:spPr>
            <a:xfrm>
              <a:off x="8186760" y="4294080"/>
              <a:ext cx="3240000" cy="2019240"/>
            </a:xfrm>
            <a:custGeom>
              <a:avLst/>
              <a:gdLst/>
              <a:ahLst/>
              <a:rect l="l" t="t" r="r" b="b"/>
              <a:pathLst>
                <a:path w="3312368" h="2304256">
                  <a:moveTo>
                    <a:pt x="1275821" y="0"/>
                  </a:moveTo>
                  <a:lnTo>
                    <a:pt x="3312368" y="0"/>
                  </a:lnTo>
                  <a:lnTo>
                    <a:pt x="3312368" y="2304256"/>
                  </a:lnTo>
                  <a:lnTo>
                    <a:pt x="0" y="2304256"/>
                  </a:lnTo>
                  <a:lnTo>
                    <a:pt x="0" y="1287880"/>
                  </a:lnTo>
                  <a:cubicBezTo>
                    <a:pt x="677036" y="1220091"/>
                    <a:pt x="1214504" y="678811"/>
                    <a:pt x="12758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round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29"/>
            <p:cNvSpPr/>
            <p:nvPr/>
          </p:nvSpPr>
          <p:spPr>
            <a:xfrm>
              <a:off x="9968040" y="4840200"/>
              <a:ext cx="137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四十岁以后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做人最重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23"/>
          <p:cNvGrpSpPr/>
          <p:nvPr/>
        </p:nvGrpSpPr>
        <p:grpSpPr>
          <a:xfrm>
            <a:off x="6458040" y="2565360"/>
            <a:ext cx="3279600" cy="3279960"/>
            <a:chOff x="6458040" y="2565360"/>
            <a:chExt cx="3279600" cy="3279960"/>
          </a:xfrm>
        </p:grpSpPr>
        <p:sp>
          <p:nvSpPr>
            <p:cNvPr id="267" name="椭圆 24"/>
            <p:cNvSpPr/>
            <p:nvPr/>
          </p:nvSpPr>
          <p:spPr>
            <a:xfrm>
              <a:off x="6458040" y="2565360"/>
              <a:ext cx="3279600" cy="3279960"/>
            </a:xfrm>
            <a:prstGeom prst="ellipse">
              <a:avLst/>
            </a:prstGeom>
            <a:solidFill>
              <a:srgbClr val="99ccff"/>
            </a:solidFill>
            <a:ln w="3240">
              <a:solidFill>
                <a:srgbClr val="d7d7d7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3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4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6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7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8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9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0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1"/>
            <p:cNvSpPr/>
            <p:nvPr/>
          </p:nvSpPr>
          <p:spPr>
            <a:xfrm>
              <a:off x="8139240" y="4211640"/>
              <a:ext cx="1440" cy="360"/>
            </a:xfrm>
            <a:custGeom>
              <a:avLst/>
              <a:gdLst/>
              <a:ahLst/>
              <a:rect l="l" t="t" r="r" b="b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33"/>
            <p:cNvGrpSpPr/>
            <p:nvPr/>
          </p:nvGrpSpPr>
          <p:grpSpPr>
            <a:xfrm>
              <a:off x="6816600" y="2899800"/>
              <a:ext cx="2637000" cy="2610360"/>
              <a:chOff x="6816600" y="2899800"/>
              <a:chExt cx="2637000" cy="2610360"/>
            </a:xfrm>
          </p:grpSpPr>
          <p:grpSp>
            <p:nvGrpSpPr>
              <p:cNvPr id="279" name="Group 34"/>
              <p:cNvGrpSpPr/>
              <p:nvPr/>
            </p:nvGrpSpPr>
            <p:grpSpPr>
              <a:xfrm>
                <a:off x="6816600" y="2899800"/>
                <a:ext cx="2637000" cy="2610360"/>
                <a:chOff x="6816600" y="2899800"/>
                <a:chExt cx="2637000" cy="2610360"/>
              </a:xfrm>
            </p:grpSpPr>
            <p:sp>
              <p:nvSpPr>
                <p:cNvPr id="280" name="Freeform 35"/>
                <p:cNvSpPr/>
                <p:nvPr/>
              </p:nvSpPr>
              <p:spPr>
                <a:xfrm>
                  <a:off x="7455960" y="3055320"/>
                  <a:ext cx="90720" cy="1152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35" h="45">
                      <a:moveTo>
                        <a:pt x="0" y="9"/>
                      </a:moveTo>
                      <a:lnTo>
                        <a:pt x="14" y="0"/>
                      </a:lnTo>
                      <a:lnTo>
                        <a:pt x="35" y="35"/>
                      </a:lnTo>
                      <a:lnTo>
                        <a:pt x="19" y="45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36"/>
                <p:cNvSpPr/>
                <p:nvPr/>
              </p:nvSpPr>
              <p:spPr>
                <a:xfrm>
                  <a:off x="8114760" y="2899800"/>
                  <a:ext cx="40680" cy="9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37"/>
                <p:cNvSpPr/>
                <p:nvPr/>
              </p:nvSpPr>
              <p:spPr>
                <a:xfrm>
                  <a:off x="6975720" y="3531960"/>
                  <a:ext cx="111240" cy="85320"/>
                </a:xfrm>
                <a:custGeom>
                  <a:avLst/>
                  <a:gdLst>
                    <a:gd name="textAreaLeft" fmla="*/ 0 w 111240"/>
                    <a:gd name="textAreaRight" fmla="*/ 111600 w 11124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45" h="35">
                      <a:moveTo>
                        <a:pt x="0" y="14"/>
                      </a:moveTo>
                      <a:lnTo>
                        <a:pt x="10" y="0"/>
                      </a:lnTo>
                      <a:lnTo>
                        <a:pt x="45" y="19"/>
                      </a:lnTo>
                      <a:lnTo>
                        <a:pt x="36" y="35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38"/>
                <p:cNvSpPr/>
                <p:nvPr/>
              </p:nvSpPr>
              <p:spPr>
                <a:xfrm>
                  <a:off x="6816600" y="4177080"/>
                  <a:ext cx="101880" cy="49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9"/>
                <p:cNvSpPr/>
                <p:nvPr/>
              </p:nvSpPr>
              <p:spPr>
                <a:xfrm>
                  <a:off x="6975720" y="4783320"/>
                  <a:ext cx="111240" cy="94320"/>
                </a:xfrm>
                <a:custGeom>
                  <a:avLst/>
                  <a:gdLst>
                    <a:gd name="textAreaLeft" fmla="*/ 0 w 111240"/>
                    <a:gd name="textAreaRight" fmla="*/ 111600 w 111240"/>
                    <a:gd name="textAreaTop" fmla="*/ 0 h 94320"/>
                    <a:gd name="textAreaBottom" fmla="*/ 94680 h 94320"/>
                  </a:gdLst>
                  <a:ahLst/>
                  <a:rect l="textAreaLeft" t="textAreaTop" r="textAreaRight" b="textAreaBottom"/>
                  <a:pathLst>
                    <a:path w="45" h="38">
                      <a:moveTo>
                        <a:pt x="10" y="38"/>
                      </a:moveTo>
                      <a:lnTo>
                        <a:pt x="0" y="22"/>
                      </a:lnTo>
                      <a:lnTo>
                        <a:pt x="36" y="0"/>
                      </a:lnTo>
                      <a:lnTo>
                        <a:pt x="45" y="17"/>
                      </a:lnTo>
                      <a:lnTo>
                        <a:pt x="1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40"/>
                <p:cNvSpPr/>
                <p:nvPr/>
              </p:nvSpPr>
              <p:spPr>
                <a:xfrm>
                  <a:off x="7455960" y="5231880"/>
                  <a:ext cx="90720" cy="1112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35" h="45">
                      <a:moveTo>
                        <a:pt x="14" y="45"/>
                      </a:moveTo>
                      <a:lnTo>
                        <a:pt x="0" y="36"/>
                      </a:lnTo>
                      <a:lnTo>
                        <a:pt x="19" y="0"/>
                      </a:lnTo>
                      <a:lnTo>
                        <a:pt x="35" y="10"/>
                      </a:lnTo>
                      <a:lnTo>
                        <a:pt x="14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1"/>
                <p:cNvSpPr/>
                <p:nvPr/>
              </p:nvSpPr>
              <p:spPr>
                <a:xfrm>
                  <a:off x="8114760" y="5411880"/>
                  <a:ext cx="50040" cy="9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42"/>
                <p:cNvSpPr/>
                <p:nvPr/>
              </p:nvSpPr>
              <p:spPr>
                <a:xfrm>
                  <a:off x="8726760" y="5231880"/>
                  <a:ext cx="90720" cy="1112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36"/>
                      </a:moveTo>
                      <a:lnTo>
                        <a:pt x="19" y="45"/>
                      </a:lnTo>
                      <a:lnTo>
                        <a:pt x="0" y="10"/>
                      </a:lnTo>
                      <a:lnTo>
                        <a:pt x="14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43"/>
                <p:cNvSpPr/>
                <p:nvPr/>
              </p:nvSpPr>
              <p:spPr>
                <a:xfrm>
                  <a:off x="9177480" y="4789080"/>
                  <a:ext cx="113040" cy="83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45" h="35">
                      <a:moveTo>
                        <a:pt x="45" y="19"/>
                      </a:moveTo>
                      <a:lnTo>
                        <a:pt x="35" y="35"/>
                      </a:lnTo>
                      <a:lnTo>
                        <a:pt x="0" y="14"/>
                      </a:lnTo>
                      <a:lnTo>
                        <a:pt x="9" y="0"/>
                      </a:lnTo>
                      <a:lnTo>
                        <a:pt x="45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4"/>
                <p:cNvSpPr/>
                <p:nvPr/>
              </p:nvSpPr>
              <p:spPr>
                <a:xfrm>
                  <a:off x="9353520" y="4177080"/>
                  <a:ext cx="100080" cy="49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45"/>
                <p:cNvSpPr/>
                <p:nvPr/>
              </p:nvSpPr>
              <p:spPr>
                <a:xfrm>
                  <a:off x="9182880" y="3528360"/>
                  <a:ext cx="105480" cy="8892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43" h="37">
                      <a:moveTo>
                        <a:pt x="33" y="0"/>
                      </a:moveTo>
                      <a:lnTo>
                        <a:pt x="43" y="16"/>
                      </a:lnTo>
                      <a:lnTo>
                        <a:pt x="7" y="37"/>
                      </a:lnTo>
                      <a:lnTo>
                        <a:pt x="0" y="21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46"/>
                <p:cNvSpPr/>
                <p:nvPr/>
              </p:nvSpPr>
              <p:spPr>
                <a:xfrm>
                  <a:off x="8726760" y="3062880"/>
                  <a:ext cx="90720" cy="10548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05480"/>
                    <a:gd name="textAreaBottom" fmla="*/ 105840 h 105480"/>
                  </a:gdLst>
                  <a:ahLst/>
                  <a:rect l="textAreaLeft" t="textAreaTop" r="textAreaRight" b="textAreaBottom"/>
                  <a:pathLst>
                    <a:path w="36" h="43">
                      <a:moveTo>
                        <a:pt x="19" y="0"/>
                      </a:moveTo>
                      <a:lnTo>
                        <a:pt x="36" y="7"/>
                      </a:lnTo>
                      <a:lnTo>
                        <a:pt x="14" y="43"/>
                      </a:lnTo>
                      <a:lnTo>
                        <a:pt x="0" y="3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47"/>
                <p:cNvSpPr/>
                <p:nvPr/>
              </p:nvSpPr>
              <p:spPr>
                <a:xfrm>
                  <a:off x="8641080" y="3001680"/>
                  <a:ext cx="42840" cy="5328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17" h="22">
                      <a:moveTo>
                        <a:pt x="7" y="0"/>
                      </a:moveTo>
                      <a:lnTo>
                        <a:pt x="17" y="3"/>
                      </a:lnTo>
                      <a:lnTo>
                        <a:pt x="7" y="22"/>
                      </a:lnTo>
                      <a:lnTo>
                        <a:pt x="0" y="19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48"/>
                <p:cNvSpPr/>
                <p:nvPr/>
              </p:nvSpPr>
              <p:spPr>
                <a:xfrm>
                  <a:off x="8517240" y="2957400"/>
                  <a:ext cx="36720" cy="5148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5" h="22">
                      <a:moveTo>
                        <a:pt x="8" y="0"/>
                      </a:moveTo>
                      <a:lnTo>
                        <a:pt x="15" y="3"/>
                      </a:lnTo>
                      <a:lnTo>
                        <a:pt x="8" y="22"/>
                      </a:lnTo>
                      <a:lnTo>
                        <a:pt x="0" y="1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49"/>
                <p:cNvSpPr/>
                <p:nvPr/>
              </p:nvSpPr>
              <p:spPr>
                <a:xfrm>
                  <a:off x="8390880" y="2920320"/>
                  <a:ext cx="27720" cy="5688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1" h="22">
                      <a:moveTo>
                        <a:pt x="4" y="0"/>
                      </a:moveTo>
                      <a:lnTo>
                        <a:pt x="11" y="3"/>
                      </a:lnTo>
                      <a:lnTo>
                        <a:pt x="7" y="22"/>
                      </a:lnTo>
                      <a:lnTo>
                        <a:pt x="0" y="1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50"/>
                <p:cNvSpPr/>
                <p:nvPr/>
              </p:nvSpPr>
              <p:spPr>
                <a:xfrm>
                  <a:off x="8259480" y="2903400"/>
                  <a:ext cx="18360" cy="5364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9" h="21">
                      <a:moveTo>
                        <a:pt x="2" y="0"/>
                      </a:moveTo>
                      <a:lnTo>
                        <a:pt x="9" y="0"/>
                      </a:lnTo>
                      <a:lnTo>
                        <a:pt x="7" y="21"/>
                      </a:lnTo>
                      <a:lnTo>
                        <a:pt x="0" y="1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51"/>
                <p:cNvSpPr/>
                <p:nvPr/>
              </p:nvSpPr>
              <p:spPr>
                <a:xfrm>
                  <a:off x="9155160" y="3424320"/>
                  <a:ext cx="50040" cy="4968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17" y="0"/>
                      </a:moveTo>
                      <a:lnTo>
                        <a:pt x="21" y="8"/>
                      </a:lnTo>
                      <a:lnTo>
                        <a:pt x="7" y="19"/>
                      </a:lnTo>
                      <a:lnTo>
                        <a:pt x="0" y="1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52"/>
                <p:cNvSpPr/>
                <p:nvPr/>
              </p:nvSpPr>
              <p:spPr>
                <a:xfrm>
                  <a:off x="9069840" y="3320640"/>
                  <a:ext cx="51480" cy="4968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17" y="0"/>
                      </a:moveTo>
                      <a:lnTo>
                        <a:pt x="21" y="7"/>
                      </a:lnTo>
                      <a:lnTo>
                        <a:pt x="7" y="19"/>
                      </a:lnTo>
                      <a:lnTo>
                        <a:pt x="0" y="1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53"/>
                <p:cNvSpPr/>
                <p:nvPr/>
              </p:nvSpPr>
              <p:spPr>
                <a:xfrm>
                  <a:off x="8971200" y="3218400"/>
                  <a:ext cx="57600" cy="5580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22" h="21">
                      <a:moveTo>
                        <a:pt x="14" y="0"/>
                      </a:moveTo>
                      <a:lnTo>
                        <a:pt x="22" y="7"/>
                      </a:lnTo>
                      <a:lnTo>
                        <a:pt x="7" y="21"/>
                      </a:lnTo>
                      <a:lnTo>
                        <a:pt x="0" y="16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54"/>
                <p:cNvSpPr/>
                <p:nvPr/>
              </p:nvSpPr>
              <p:spPr>
                <a:xfrm>
                  <a:off x="8869680" y="3140640"/>
                  <a:ext cx="46080" cy="496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12" y="0"/>
                      </a:moveTo>
                      <a:lnTo>
                        <a:pt x="19" y="4"/>
                      </a:lnTo>
                      <a:lnTo>
                        <a:pt x="7" y="21"/>
                      </a:lnTo>
                      <a:lnTo>
                        <a:pt x="0" y="16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55"/>
                <p:cNvSpPr/>
                <p:nvPr/>
              </p:nvSpPr>
              <p:spPr>
                <a:xfrm>
                  <a:off x="9397800" y="4052880"/>
                  <a:ext cx="50040" cy="2772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19" y="0"/>
                      </a:moveTo>
                      <a:lnTo>
                        <a:pt x="21" y="10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56"/>
                <p:cNvSpPr/>
                <p:nvPr/>
              </p:nvSpPr>
              <p:spPr>
                <a:xfrm>
                  <a:off x="9375480" y="3919320"/>
                  <a:ext cx="55800" cy="2772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19" y="0"/>
                      </a:moveTo>
                      <a:lnTo>
                        <a:pt x="21" y="9"/>
                      </a:lnTo>
                      <a:lnTo>
                        <a:pt x="0" y="12"/>
                      </a:lnTo>
                      <a:lnTo>
                        <a:pt x="0" y="5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57"/>
                <p:cNvSpPr/>
                <p:nvPr/>
              </p:nvSpPr>
              <p:spPr>
                <a:xfrm>
                  <a:off x="9333000" y="3789720"/>
                  <a:ext cx="57600" cy="3852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2" h="14">
                      <a:moveTo>
                        <a:pt x="19" y="0"/>
                      </a:moveTo>
                      <a:lnTo>
                        <a:pt x="22" y="7"/>
                      </a:lnTo>
                      <a:lnTo>
                        <a:pt x="3" y="14"/>
                      </a:lnTo>
                      <a:lnTo>
                        <a:pt x="0" y="5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8"/>
                <p:cNvSpPr/>
                <p:nvPr/>
              </p:nvSpPr>
              <p:spPr>
                <a:xfrm>
                  <a:off x="9288360" y="3661560"/>
                  <a:ext cx="53640" cy="4068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21" h="17">
                      <a:moveTo>
                        <a:pt x="18" y="0"/>
                      </a:moveTo>
                      <a:lnTo>
                        <a:pt x="21" y="7"/>
                      </a:lnTo>
                      <a:lnTo>
                        <a:pt x="2" y="17"/>
                      </a:lnTo>
                      <a:lnTo>
                        <a:pt x="0" y="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59"/>
                <p:cNvSpPr/>
                <p:nvPr/>
              </p:nvSpPr>
              <p:spPr>
                <a:xfrm>
                  <a:off x="9288360" y="4705560"/>
                  <a:ext cx="57600" cy="388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3" h="16">
                      <a:moveTo>
                        <a:pt x="23" y="7"/>
                      </a:moveTo>
                      <a:lnTo>
                        <a:pt x="18" y="16"/>
                      </a:lnTo>
                      <a:lnTo>
                        <a:pt x="0" y="7"/>
                      </a:lnTo>
                      <a:lnTo>
                        <a:pt x="4" y="0"/>
                      </a:lnTo>
                      <a:lnTo>
                        <a:pt x="23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60"/>
                <p:cNvSpPr/>
                <p:nvPr/>
              </p:nvSpPr>
              <p:spPr>
                <a:xfrm>
                  <a:off x="9333000" y="4581360"/>
                  <a:ext cx="57600" cy="3672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2" h="14">
                      <a:moveTo>
                        <a:pt x="22" y="5"/>
                      </a:moveTo>
                      <a:lnTo>
                        <a:pt x="19" y="14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61"/>
                <p:cNvSpPr/>
                <p:nvPr/>
              </p:nvSpPr>
              <p:spPr>
                <a:xfrm>
                  <a:off x="9375480" y="4451400"/>
                  <a:ext cx="55800" cy="3132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21" y="5"/>
                      </a:moveTo>
                      <a:lnTo>
                        <a:pt x="19" y="12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1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62"/>
                <p:cNvSpPr/>
                <p:nvPr/>
              </p:nvSpPr>
              <p:spPr>
                <a:xfrm>
                  <a:off x="9397800" y="4323600"/>
                  <a:ext cx="50040" cy="2376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21" h="9">
                      <a:moveTo>
                        <a:pt x="21" y="2"/>
                      </a:moveTo>
                      <a:lnTo>
                        <a:pt x="19" y="9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63"/>
                <p:cNvSpPr/>
                <p:nvPr/>
              </p:nvSpPr>
              <p:spPr>
                <a:xfrm>
                  <a:off x="8869680" y="5209920"/>
                  <a:ext cx="46080" cy="532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19" y="16"/>
                      </a:moveTo>
                      <a:lnTo>
                        <a:pt x="12" y="21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9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64"/>
                <p:cNvSpPr/>
                <p:nvPr/>
              </p:nvSpPr>
              <p:spPr>
                <a:xfrm>
                  <a:off x="8971200" y="5130360"/>
                  <a:ext cx="57600" cy="496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2" h="21">
                      <a:moveTo>
                        <a:pt x="22" y="16"/>
                      </a:moveTo>
                      <a:lnTo>
                        <a:pt x="14" y="21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2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65"/>
                <p:cNvSpPr/>
                <p:nvPr/>
              </p:nvSpPr>
              <p:spPr>
                <a:xfrm>
                  <a:off x="9069840" y="5035680"/>
                  <a:ext cx="51480" cy="4968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1" h="21">
                      <a:moveTo>
                        <a:pt x="21" y="14"/>
                      </a:moveTo>
                      <a:lnTo>
                        <a:pt x="14" y="21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66"/>
                <p:cNvSpPr/>
                <p:nvPr/>
              </p:nvSpPr>
              <p:spPr>
                <a:xfrm>
                  <a:off x="9158400" y="4935600"/>
                  <a:ext cx="53640" cy="4824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21" y="12"/>
                      </a:moveTo>
                      <a:lnTo>
                        <a:pt x="14" y="19"/>
                      </a:lnTo>
                      <a:lnTo>
                        <a:pt x="0" y="7"/>
                      </a:lnTo>
                      <a:lnTo>
                        <a:pt x="4" y="0"/>
                      </a:lnTo>
                      <a:lnTo>
                        <a:pt x="21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67"/>
                <p:cNvSpPr/>
                <p:nvPr/>
              </p:nvSpPr>
              <p:spPr>
                <a:xfrm>
                  <a:off x="8259480" y="5451120"/>
                  <a:ext cx="18360" cy="4968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9" h="21">
                      <a:moveTo>
                        <a:pt x="9" y="19"/>
                      </a:moveTo>
                      <a:lnTo>
                        <a:pt x="2" y="21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68"/>
                <p:cNvSpPr/>
                <p:nvPr/>
              </p:nvSpPr>
              <p:spPr>
                <a:xfrm>
                  <a:off x="8390880" y="5434200"/>
                  <a:ext cx="27720" cy="5364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1" h="21">
                      <a:moveTo>
                        <a:pt x="11" y="18"/>
                      </a:moveTo>
                      <a:lnTo>
                        <a:pt x="4" y="21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1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69"/>
                <p:cNvSpPr/>
                <p:nvPr/>
              </p:nvSpPr>
              <p:spPr>
                <a:xfrm>
                  <a:off x="8517240" y="5394960"/>
                  <a:ext cx="36720" cy="48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5" h="21">
                      <a:moveTo>
                        <a:pt x="15" y="19"/>
                      </a:moveTo>
                      <a:lnTo>
                        <a:pt x="5" y="21"/>
                      </a:lnTo>
                      <a:lnTo>
                        <a:pt x="0" y="2"/>
                      </a:lnTo>
                      <a:lnTo>
                        <a:pt x="8" y="0"/>
                      </a:lnTo>
                      <a:lnTo>
                        <a:pt x="15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70"/>
                <p:cNvSpPr/>
                <p:nvPr/>
              </p:nvSpPr>
              <p:spPr>
                <a:xfrm>
                  <a:off x="8641080" y="5343480"/>
                  <a:ext cx="42840" cy="5364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17" y="19"/>
                      </a:moveTo>
                      <a:lnTo>
                        <a:pt x="7" y="21"/>
                      </a:lnTo>
                      <a:lnTo>
                        <a:pt x="0" y="2"/>
                      </a:lnTo>
                      <a:lnTo>
                        <a:pt x="7" y="0"/>
                      </a:lnTo>
                      <a:lnTo>
                        <a:pt x="17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71"/>
                <p:cNvSpPr/>
                <p:nvPr/>
              </p:nvSpPr>
              <p:spPr>
                <a:xfrm>
                  <a:off x="7587720" y="5343480"/>
                  <a:ext cx="38880" cy="6120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16" h="24">
                      <a:moveTo>
                        <a:pt x="7" y="24"/>
                      </a:moveTo>
                      <a:lnTo>
                        <a:pt x="0" y="19"/>
                      </a:lnTo>
                      <a:lnTo>
                        <a:pt x="7" y="0"/>
                      </a:lnTo>
                      <a:lnTo>
                        <a:pt x="16" y="5"/>
                      </a:lnTo>
                      <a:lnTo>
                        <a:pt x="7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72"/>
                <p:cNvSpPr/>
                <p:nvPr/>
              </p:nvSpPr>
              <p:spPr>
                <a:xfrm>
                  <a:off x="7710120" y="5394960"/>
                  <a:ext cx="44280" cy="4824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10" y="21"/>
                      </a:moveTo>
                      <a:lnTo>
                        <a:pt x="0" y="19"/>
                      </a:lnTo>
                      <a:lnTo>
                        <a:pt x="7" y="0"/>
                      </a:lnTo>
                      <a:lnTo>
                        <a:pt x="17" y="2"/>
                      </a:lnTo>
                      <a:lnTo>
                        <a:pt x="1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73"/>
                <p:cNvSpPr/>
                <p:nvPr/>
              </p:nvSpPr>
              <p:spPr>
                <a:xfrm>
                  <a:off x="7847640" y="5434200"/>
                  <a:ext cx="36720" cy="536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4" h="21">
                      <a:moveTo>
                        <a:pt x="9" y="21"/>
                      </a:moveTo>
                      <a:lnTo>
                        <a:pt x="0" y="18"/>
                      </a:lnTo>
                      <a:lnTo>
                        <a:pt x="4" y="0"/>
                      </a:lnTo>
                      <a:lnTo>
                        <a:pt x="14" y="0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74"/>
                <p:cNvSpPr/>
                <p:nvPr/>
              </p:nvSpPr>
              <p:spPr>
                <a:xfrm>
                  <a:off x="7984800" y="5451120"/>
                  <a:ext cx="31320" cy="4968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12" h="21">
                      <a:moveTo>
                        <a:pt x="9" y="21"/>
                      </a:moveTo>
                      <a:lnTo>
                        <a:pt x="0" y="19"/>
                      </a:lnTo>
                      <a:lnTo>
                        <a:pt x="2" y="0"/>
                      </a:lnTo>
                      <a:lnTo>
                        <a:pt x="12" y="0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75"/>
                <p:cNvSpPr/>
                <p:nvPr/>
              </p:nvSpPr>
              <p:spPr>
                <a:xfrm>
                  <a:off x="7057440" y="4930200"/>
                  <a:ext cx="57600" cy="478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47880"/>
                    <a:gd name="textAreaBottom" fmla="*/ 48240 h 47880"/>
                  </a:gdLst>
                  <a:ahLst/>
                  <a:rect l="textAreaLeft" t="textAreaTop" r="textAreaRight" b="textAreaBottom"/>
                  <a:pathLst>
                    <a:path w="22" h="19">
                      <a:moveTo>
                        <a:pt x="5" y="19"/>
                      </a:moveTo>
                      <a:lnTo>
                        <a:pt x="0" y="12"/>
                      </a:lnTo>
                      <a:lnTo>
                        <a:pt x="17" y="0"/>
                      </a:lnTo>
                      <a:lnTo>
                        <a:pt x="22" y="7"/>
                      </a:lnTo>
                      <a:lnTo>
                        <a:pt x="5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76"/>
                <p:cNvSpPr/>
                <p:nvPr/>
              </p:nvSpPr>
              <p:spPr>
                <a:xfrm>
                  <a:off x="7144920" y="5035680"/>
                  <a:ext cx="51480" cy="4968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1" h="21">
                      <a:moveTo>
                        <a:pt x="7" y="21"/>
                      </a:moveTo>
                      <a:lnTo>
                        <a:pt x="0" y="14"/>
                      </a:lnTo>
                      <a:lnTo>
                        <a:pt x="16" y="0"/>
                      </a:lnTo>
                      <a:lnTo>
                        <a:pt x="21" y="7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77"/>
                <p:cNvSpPr/>
                <p:nvPr/>
              </p:nvSpPr>
              <p:spPr>
                <a:xfrm>
                  <a:off x="7245000" y="5130360"/>
                  <a:ext cx="47880" cy="496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7" y="21"/>
                      </a:moveTo>
                      <a:lnTo>
                        <a:pt x="0" y="14"/>
                      </a:lnTo>
                      <a:lnTo>
                        <a:pt x="14" y="0"/>
                      </a:lnTo>
                      <a:lnTo>
                        <a:pt x="19" y="7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78"/>
                <p:cNvSpPr/>
                <p:nvPr/>
              </p:nvSpPr>
              <p:spPr>
                <a:xfrm>
                  <a:off x="7348680" y="5217120"/>
                  <a:ext cx="60840" cy="4968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1" h="21">
                      <a:moveTo>
                        <a:pt x="7" y="21"/>
                      </a:moveTo>
                      <a:lnTo>
                        <a:pt x="0" y="14"/>
                      </a:lnTo>
                      <a:lnTo>
                        <a:pt x="12" y="0"/>
                      </a:lnTo>
                      <a:lnTo>
                        <a:pt x="21" y="5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79"/>
                <p:cNvSpPr/>
                <p:nvPr/>
              </p:nvSpPr>
              <p:spPr>
                <a:xfrm>
                  <a:off x="6824160" y="4323600"/>
                  <a:ext cx="50040" cy="2376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21" h="9">
                      <a:moveTo>
                        <a:pt x="0" y="9"/>
                      </a:moveTo>
                      <a:lnTo>
                        <a:pt x="0" y="2"/>
                      </a:lnTo>
                      <a:lnTo>
                        <a:pt x="19" y="0"/>
                      </a:lnTo>
                      <a:lnTo>
                        <a:pt x="21" y="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80"/>
                <p:cNvSpPr/>
                <p:nvPr/>
              </p:nvSpPr>
              <p:spPr>
                <a:xfrm>
                  <a:off x="6840360" y="4451400"/>
                  <a:ext cx="53640" cy="3132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2" y="12"/>
                      </a:moveTo>
                      <a:lnTo>
                        <a:pt x="0" y="5"/>
                      </a:lnTo>
                      <a:lnTo>
                        <a:pt x="19" y="0"/>
                      </a:lnTo>
                      <a:lnTo>
                        <a:pt x="21" y="9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81"/>
                <p:cNvSpPr/>
                <p:nvPr/>
              </p:nvSpPr>
              <p:spPr>
                <a:xfrm>
                  <a:off x="6874200" y="4581360"/>
                  <a:ext cx="56880" cy="367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2" h="14">
                      <a:moveTo>
                        <a:pt x="3" y="14"/>
                      </a:moveTo>
                      <a:lnTo>
                        <a:pt x="0" y="5"/>
                      </a:lnTo>
                      <a:lnTo>
                        <a:pt x="19" y="0"/>
                      </a:lnTo>
                      <a:lnTo>
                        <a:pt x="22" y="7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82"/>
                <p:cNvSpPr/>
                <p:nvPr/>
              </p:nvSpPr>
              <p:spPr>
                <a:xfrm>
                  <a:off x="6924240" y="4705560"/>
                  <a:ext cx="60840" cy="3888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4" h="16">
                      <a:moveTo>
                        <a:pt x="5" y="16"/>
                      </a:moveTo>
                      <a:lnTo>
                        <a:pt x="0" y="7"/>
                      </a:lnTo>
                      <a:lnTo>
                        <a:pt x="19" y="0"/>
                      </a:lnTo>
                      <a:lnTo>
                        <a:pt x="24" y="7"/>
                      </a:lnTo>
                      <a:lnTo>
                        <a:pt x="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83"/>
                <p:cNvSpPr/>
                <p:nvPr/>
              </p:nvSpPr>
              <p:spPr>
                <a:xfrm>
                  <a:off x="6924240" y="3661560"/>
                  <a:ext cx="51480" cy="4068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21" h="17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21" y="7"/>
                      </a:lnTo>
                      <a:lnTo>
                        <a:pt x="19" y="1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84"/>
                <p:cNvSpPr/>
                <p:nvPr/>
              </p:nvSpPr>
              <p:spPr>
                <a:xfrm>
                  <a:off x="6874200" y="3786120"/>
                  <a:ext cx="56880" cy="38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2" h="16">
                      <a:moveTo>
                        <a:pt x="0" y="9"/>
                      </a:moveTo>
                      <a:lnTo>
                        <a:pt x="3" y="0"/>
                      </a:lnTo>
                      <a:lnTo>
                        <a:pt x="22" y="7"/>
                      </a:lnTo>
                      <a:lnTo>
                        <a:pt x="19" y="1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85"/>
                <p:cNvSpPr/>
                <p:nvPr/>
              </p:nvSpPr>
              <p:spPr>
                <a:xfrm>
                  <a:off x="6840360" y="3919320"/>
                  <a:ext cx="53640" cy="3348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21" h="14">
                      <a:moveTo>
                        <a:pt x="0" y="9"/>
                      </a:moveTo>
                      <a:lnTo>
                        <a:pt x="2" y="0"/>
                      </a:lnTo>
                      <a:lnTo>
                        <a:pt x="21" y="5"/>
                      </a:lnTo>
                      <a:lnTo>
                        <a:pt x="19" y="14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86"/>
                <p:cNvSpPr/>
                <p:nvPr/>
              </p:nvSpPr>
              <p:spPr>
                <a:xfrm>
                  <a:off x="6824160" y="4052880"/>
                  <a:ext cx="50040" cy="2772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21" y="3"/>
                      </a:lnTo>
                      <a:lnTo>
                        <a:pt x="1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87"/>
                <p:cNvSpPr/>
                <p:nvPr/>
              </p:nvSpPr>
              <p:spPr>
                <a:xfrm>
                  <a:off x="7348680" y="3140640"/>
                  <a:ext cx="50040" cy="4968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0" y="4"/>
                      </a:moveTo>
                      <a:lnTo>
                        <a:pt x="7" y="0"/>
                      </a:lnTo>
                      <a:lnTo>
                        <a:pt x="19" y="16"/>
                      </a:lnTo>
                      <a:lnTo>
                        <a:pt x="12" y="2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88"/>
                <p:cNvSpPr/>
                <p:nvPr/>
              </p:nvSpPr>
              <p:spPr>
                <a:xfrm>
                  <a:off x="7245000" y="3218400"/>
                  <a:ext cx="47880" cy="558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9" y="16"/>
                      </a:lnTo>
                      <a:lnTo>
                        <a:pt x="14" y="2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89"/>
                <p:cNvSpPr/>
                <p:nvPr/>
              </p:nvSpPr>
              <p:spPr>
                <a:xfrm>
                  <a:off x="7148160" y="3320640"/>
                  <a:ext cx="50040" cy="4968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19" h="19">
                      <a:moveTo>
                        <a:pt x="0" y="7"/>
                      </a:moveTo>
                      <a:lnTo>
                        <a:pt x="5" y="0"/>
                      </a:lnTo>
                      <a:lnTo>
                        <a:pt x="19" y="14"/>
                      </a:lnTo>
                      <a:lnTo>
                        <a:pt x="14" y="1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90"/>
                <p:cNvSpPr/>
                <p:nvPr/>
              </p:nvSpPr>
              <p:spPr>
                <a:xfrm>
                  <a:off x="7057440" y="3424320"/>
                  <a:ext cx="57600" cy="496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2" h="19">
                      <a:moveTo>
                        <a:pt x="0" y="8"/>
                      </a:moveTo>
                      <a:lnTo>
                        <a:pt x="5" y="0"/>
                      </a:lnTo>
                      <a:lnTo>
                        <a:pt x="22" y="12"/>
                      </a:lnTo>
                      <a:lnTo>
                        <a:pt x="17" y="1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91"/>
                <p:cNvSpPr/>
                <p:nvPr/>
              </p:nvSpPr>
              <p:spPr>
                <a:xfrm>
                  <a:off x="7984800" y="2903400"/>
                  <a:ext cx="31320" cy="5364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2" h="21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19"/>
                      </a:lnTo>
                      <a:lnTo>
                        <a:pt x="2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92"/>
                <p:cNvSpPr/>
                <p:nvPr/>
              </p:nvSpPr>
              <p:spPr>
                <a:xfrm>
                  <a:off x="7847640" y="2920320"/>
                  <a:ext cx="29160" cy="568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1" h="22">
                      <a:moveTo>
                        <a:pt x="0" y="3"/>
                      </a:moveTo>
                      <a:lnTo>
                        <a:pt x="9" y="0"/>
                      </a:lnTo>
                      <a:lnTo>
                        <a:pt x="11" y="19"/>
                      </a:lnTo>
                      <a:lnTo>
                        <a:pt x="4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93"/>
                <p:cNvSpPr/>
                <p:nvPr/>
              </p:nvSpPr>
              <p:spPr>
                <a:xfrm>
                  <a:off x="7717680" y="2957400"/>
                  <a:ext cx="36720" cy="5148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4" h="22">
                      <a:moveTo>
                        <a:pt x="0" y="3"/>
                      </a:moveTo>
                      <a:lnTo>
                        <a:pt x="7" y="0"/>
                      </a:lnTo>
                      <a:lnTo>
                        <a:pt x="14" y="19"/>
                      </a:lnTo>
                      <a:lnTo>
                        <a:pt x="4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94"/>
                <p:cNvSpPr/>
                <p:nvPr/>
              </p:nvSpPr>
              <p:spPr>
                <a:xfrm>
                  <a:off x="7587720" y="3001680"/>
                  <a:ext cx="38880" cy="6084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6" h="24">
                      <a:moveTo>
                        <a:pt x="0" y="5"/>
                      </a:moveTo>
                      <a:lnTo>
                        <a:pt x="7" y="0"/>
                      </a:lnTo>
                      <a:lnTo>
                        <a:pt x="16" y="19"/>
                      </a:lnTo>
                      <a:lnTo>
                        <a:pt x="7" y="2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95"/>
              <p:cNvGrpSpPr/>
              <p:nvPr/>
            </p:nvGrpSpPr>
            <p:grpSpPr>
              <a:xfrm>
                <a:off x="6893640" y="2970360"/>
                <a:ext cx="2498400" cy="2448360"/>
                <a:chOff x="6893640" y="2970360"/>
                <a:chExt cx="2498400" cy="2448360"/>
              </a:xfrm>
            </p:grpSpPr>
            <p:sp>
              <p:nvSpPr>
                <p:cNvPr id="341" name="Text Box 96"/>
                <p:cNvSpPr/>
                <p:nvPr/>
              </p:nvSpPr>
              <p:spPr>
                <a:xfrm>
                  <a:off x="8000640" y="511164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6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97"/>
                <p:cNvSpPr/>
                <p:nvPr/>
              </p:nvSpPr>
              <p:spPr>
                <a:xfrm>
                  <a:off x="7443000" y="496152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7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98"/>
                <p:cNvSpPr/>
                <p:nvPr/>
              </p:nvSpPr>
              <p:spPr>
                <a:xfrm>
                  <a:off x="7052760" y="45630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8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 Box 99"/>
                <p:cNvSpPr/>
                <p:nvPr/>
              </p:nvSpPr>
              <p:spPr>
                <a:xfrm>
                  <a:off x="7952400" y="297036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1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00"/>
                <p:cNvSpPr/>
                <p:nvPr/>
              </p:nvSpPr>
              <p:spPr>
                <a:xfrm>
                  <a:off x="8540640" y="310932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Text Box 101"/>
                <p:cNvSpPr/>
                <p:nvPr/>
              </p:nvSpPr>
              <p:spPr>
                <a:xfrm>
                  <a:off x="8940960" y="350784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02"/>
                <p:cNvSpPr/>
                <p:nvPr/>
              </p:nvSpPr>
              <p:spPr>
                <a:xfrm>
                  <a:off x="9078840" y="4045680"/>
                  <a:ext cx="313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3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Text Box 103"/>
                <p:cNvSpPr/>
                <p:nvPr/>
              </p:nvSpPr>
              <p:spPr>
                <a:xfrm>
                  <a:off x="8940960" y="458136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4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104"/>
                <p:cNvSpPr/>
                <p:nvPr/>
              </p:nvSpPr>
              <p:spPr>
                <a:xfrm>
                  <a:off x="8559000" y="495396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5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Text Box 105"/>
                <p:cNvSpPr/>
                <p:nvPr/>
              </p:nvSpPr>
              <p:spPr>
                <a:xfrm>
                  <a:off x="6893640" y="403272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9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06"/>
                <p:cNvSpPr/>
                <p:nvPr/>
              </p:nvSpPr>
              <p:spPr>
                <a:xfrm>
                  <a:off x="7061760" y="35002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1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107"/>
                <p:cNvSpPr/>
                <p:nvPr/>
              </p:nvSpPr>
              <p:spPr>
                <a:xfrm>
                  <a:off x="7445880" y="31222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11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3" name="Gruppieren 128"/>
          <p:cNvGrpSpPr/>
          <p:nvPr/>
        </p:nvGrpSpPr>
        <p:grpSpPr>
          <a:xfrm>
            <a:off x="8061480" y="3398760"/>
            <a:ext cx="168120" cy="1673280"/>
            <a:chOff x="8061480" y="3398760"/>
            <a:chExt cx="168120" cy="1673280"/>
          </a:xfrm>
        </p:grpSpPr>
        <p:sp>
          <p:nvSpPr>
            <p:cNvPr id="354" name="Rectangle 108"/>
            <p:cNvSpPr/>
            <p:nvPr/>
          </p:nvSpPr>
          <p:spPr>
            <a:xfrm>
              <a:off x="8061480" y="3398760"/>
              <a:ext cx="168120" cy="16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09"/>
            <p:cNvSpPr/>
            <p:nvPr/>
          </p:nvSpPr>
          <p:spPr>
            <a:xfrm flipH="1">
              <a:off x="8107560" y="3476520"/>
              <a:ext cx="61920" cy="77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10"/>
          <p:cNvGrpSpPr/>
          <p:nvPr/>
        </p:nvGrpSpPr>
        <p:grpSpPr>
          <a:xfrm>
            <a:off x="6974280" y="4165560"/>
            <a:ext cx="2341080" cy="139320"/>
            <a:chOff x="6974280" y="4165560"/>
            <a:chExt cx="2341080" cy="139320"/>
          </a:xfrm>
        </p:grpSpPr>
        <p:sp>
          <p:nvSpPr>
            <p:cNvPr id="357" name="Rectangle 111"/>
            <p:cNvSpPr/>
            <p:nvPr/>
          </p:nvSpPr>
          <p:spPr>
            <a:xfrm rot="5400000">
              <a:off x="8075160" y="3064680"/>
              <a:ext cx="139320" cy="23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12"/>
            <p:cNvSpPr/>
            <p:nvPr/>
          </p:nvSpPr>
          <p:spPr>
            <a:xfrm flipH="1" rot="5400000">
              <a:off x="8624520" y="3712680"/>
              <a:ext cx="53280" cy="104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13"/>
            <p:cNvSpPr/>
            <p:nvPr/>
          </p:nvSpPr>
          <p:spPr>
            <a:xfrm rot="5400000">
              <a:off x="8079840" y="4163760"/>
              <a:ext cx="139320" cy="142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14"/>
            <p:cNvSpPr/>
            <p:nvPr/>
          </p:nvSpPr>
          <p:spPr>
            <a:xfrm rot="5400000">
              <a:off x="8105400" y="4193640"/>
              <a:ext cx="82800" cy="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5"/>
            <p:cNvSpPr/>
            <p:nvPr/>
          </p:nvSpPr>
          <p:spPr>
            <a:xfrm rot="5400000">
              <a:off x="8130960" y="4217760"/>
              <a:ext cx="349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112"/>
          <p:cNvSpPr/>
          <p:nvPr/>
        </p:nvSpPr>
        <p:spPr>
          <a:xfrm>
            <a:off x="6416280" y="15573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b2f1"/>
                </a:solidFill>
                <a:latin typeface="Arial"/>
              </a:rPr>
              <a:t>三十不豪，四十不富，五十临近寻死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69" dur="13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00000">
                                      <p:cBhvr>
                                        <p:cTn id="71" dur="13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80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0:28:3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41:02Z</dcterms:modified>
  <cp:revision>6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