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43.png" ContentType="image/png"/>
  <Override PartName="/ppt/media/image44.png" ContentType="image/png"/>
  <Override PartName="/ppt/media/image46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45.png" ContentType="image/png"/>
  <Override PartName="/ppt/media/image51.jpeg" ContentType="image/jpeg"/>
  <Override PartName="/ppt/media/image40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7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4A1-09B6-426D-AC37-4E71216C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AD4-C268-4DF6-A5C3-6BDB6F40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BD8-AD02-4708-833A-B47DB2F7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051-05F8-44B5-B1A3-EE84D1BB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F8E-B7EC-4365-AD45-3D2D5937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B3A-2019-45AD-9F77-5901678C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F60-45A6-48D7-93AB-AED790A3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5A4-5405-4E02-BFF4-6CF371A4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9C9-A4F4-4D3B-B3A5-34EAE630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D77-EC6C-48C8-B70F-16AAB83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436-8523-4F8C-8E9E-457625E2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F50-3619-414B-9ECF-00D4361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DC2C-075D-4D08-B751-29773764D8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image" Target="../media/image42.png"/><Relationship Id="rId27" Type="http://schemas.openxmlformats.org/officeDocument/2006/relationships/image" Target="../media/image43.png"/><Relationship Id="rId28" Type="http://schemas.openxmlformats.org/officeDocument/2006/relationships/image" Target="../media/image44.png"/><Relationship Id="rId29" Type="http://schemas.openxmlformats.org/officeDocument/2006/relationships/image" Target="../media/image45.png"/><Relationship Id="rId30" Type="http://schemas.openxmlformats.org/officeDocument/2006/relationships/image" Target="../media/image46.png"/><Relationship Id="rId31" Type="http://schemas.openxmlformats.org/officeDocument/2006/relationships/image" Target="../media/image47.png"/><Relationship Id="rId32" Type="http://schemas.openxmlformats.org/officeDocument/2006/relationships/image" Target="../media/image48.png"/><Relationship Id="rId33" Type="http://schemas.openxmlformats.org/officeDocument/2006/relationships/image" Target="../media/image49.png"/><Relationship Id="rId34" Type="http://schemas.openxmlformats.org/officeDocument/2006/relationships/image" Target="../media/image50.png"/><Relationship Id="rId35" Type="http://schemas.openxmlformats.org/officeDocument/2006/relationships/image" Target="../media/image51.jpeg"/><Relationship Id="rId36" Type="http://schemas.openxmlformats.org/officeDocument/2006/relationships/image" Target="../media/image52.png"/><Relationship Id="rId37" Type="http://schemas.openxmlformats.org/officeDocument/2006/relationships/image" Target="../media/image53.png"/><Relationship Id="rId3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7" descr=""/>
          <p:cNvPicPr/>
          <p:nvPr/>
        </p:nvPicPr>
        <p:blipFill>
          <a:blip r:embed="rId1"/>
          <a:stretch/>
        </p:blipFill>
        <p:spPr>
          <a:xfrm>
            <a:off x="-1401840" y="1347840"/>
            <a:ext cx="9436320" cy="3894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468760" y="-651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Calibri"/>
              </a:rPr>
              <a:t>WOR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466092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016280" y="484200"/>
            <a:ext cx="36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演讲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5"/>
          <p:cNvSpPr/>
          <p:nvPr/>
        </p:nvSpPr>
        <p:spPr>
          <a:xfrm>
            <a:off x="595440" y="-20520"/>
            <a:ext cx="25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客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TextBox 34" descr=""/>
          <p:cNvPicPr/>
          <p:nvPr/>
        </p:nvPicPr>
        <p:blipFill>
          <a:blip r:embed="rId1"/>
          <a:stretch/>
        </p:blipFill>
        <p:spPr>
          <a:xfrm>
            <a:off x="-858960" y="493560"/>
            <a:ext cx="10977840" cy="3237120"/>
          </a:xfrm>
          <a:prstGeom prst="rect">
            <a:avLst/>
          </a:prstGeom>
          <a:ln w="0">
            <a:noFill/>
          </a:ln>
        </p:spPr>
      </p:pic>
      <p:sp>
        <p:nvSpPr>
          <p:cNvPr id="241" name="矩形 1"/>
          <p:cNvSpPr/>
          <p:nvPr/>
        </p:nvSpPr>
        <p:spPr>
          <a:xfrm>
            <a:off x="1739880" y="1836720"/>
            <a:ext cx="1054080" cy="911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3298680" y="2452680"/>
            <a:ext cx="1648080" cy="746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5272200" y="3056040"/>
            <a:ext cx="1006200" cy="78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5522760" y="1544760"/>
            <a:ext cx="1528920" cy="691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5"/>
          <p:cNvSpPr/>
          <p:nvPr/>
        </p:nvSpPr>
        <p:spPr>
          <a:xfrm>
            <a:off x="1879560" y="3106800"/>
            <a:ext cx="1706760" cy="720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5753160" y="2960640"/>
            <a:ext cx="1909800" cy="6364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7"/>
          <p:cNvSpPr/>
          <p:nvPr/>
        </p:nvSpPr>
        <p:spPr>
          <a:xfrm>
            <a:off x="2533680" y="2222640"/>
            <a:ext cx="1338120" cy="66024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8"/>
          <p:cNvSpPr/>
          <p:nvPr/>
        </p:nvSpPr>
        <p:spPr>
          <a:xfrm>
            <a:off x="4529160" y="2108160"/>
            <a:ext cx="1674720" cy="6732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9"/>
          <p:cNvSpPr/>
          <p:nvPr/>
        </p:nvSpPr>
        <p:spPr>
          <a:xfrm>
            <a:off x="2997360" y="2982960"/>
            <a:ext cx="1485720" cy="749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0"/>
          <p:cNvSpPr/>
          <p:nvPr/>
        </p:nvSpPr>
        <p:spPr>
          <a:xfrm>
            <a:off x="4716360" y="1300320"/>
            <a:ext cx="1082880" cy="88884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1"/>
          <p:cNvSpPr/>
          <p:nvPr/>
        </p:nvSpPr>
        <p:spPr>
          <a:xfrm>
            <a:off x="3397320" y="1581120"/>
            <a:ext cx="1319040" cy="40788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6126120" y="2165400"/>
            <a:ext cx="1746360" cy="6411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13"/>
          <p:cNvSpPr/>
          <p:nvPr/>
        </p:nvSpPr>
        <p:spPr>
          <a:xfrm>
            <a:off x="3805200" y="3368520"/>
            <a:ext cx="1717560" cy="7509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5676840" y="2486160"/>
            <a:ext cx="1600200" cy="62064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5"/>
          <p:cNvSpPr/>
          <p:nvPr/>
        </p:nvSpPr>
        <p:spPr>
          <a:xfrm>
            <a:off x="3740040" y="1935000"/>
            <a:ext cx="946440" cy="81756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6"/>
          <p:cNvSpPr/>
          <p:nvPr/>
        </p:nvSpPr>
        <p:spPr>
          <a:xfrm>
            <a:off x="1679400" y="2843280"/>
            <a:ext cx="1708200" cy="74592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7"/>
          <p:cNvSpPr/>
          <p:nvPr/>
        </p:nvSpPr>
        <p:spPr>
          <a:xfrm>
            <a:off x="4910040" y="3803760"/>
            <a:ext cx="1413000" cy="64116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8"/>
          <p:cNvSpPr/>
          <p:nvPr/>
        </p:nvSpPr>
        <p:spPr>
          <a:xfrm>
            <a:off x="4478400" y="2682720"/>
            <a:ext cx="1388880" cy="68580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19"/>
          <p:cNvSpPr/>
          <p:nvPr/>
        </p:nvSpPr>
        <p:spPr>
          <a:xfrm>
            <a:off x="3071880" y="3657600"/>
            <a:ext cx="1235160" cy="609480"/>
          </a:xfrm>
          <a:prstGeom prst="rect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0"/>
          <p:cNvSpPr/>
          <p:nvPr/>
        </p:nvSpPr>
        <p:spPr>
          <a:xfrm>
            <a:off x="5983200" y="3532320"/>
            <a:ext cx="1397160" cy="507960"/>
          </a:xfrm>
          <a:prstGeom prst="rect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1"/>
          <p:cNvSpPr/>
          <p:nvPr/>
        </p:nvSpPr>
        <p:spPr>
          <a:xfrm>
            <a:off x="2712960" y="1325520"/>
            <a:ext cx="1176480" cy="531720"/>
          </a:xfrm>
          <a:prstGeom prst="rect">
            <a:avLst/>
          </a:prstGeom>
          <a:blipFill rotWithShape="0">
            <a:blip r:embed="rId22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22"/>
          <p:cNvSpPr/>
          <p:nvPr/>
        </p:nvSpPr>
        <p:spPr>
          <a:xfrm>
            <a:off x="4686480" y="1631880"/>
            <a:ext cx="1039680" cy="1022400"/>
          </a:xfrm>
          <a:prstGeom prst="rect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23"/>
          <p:cNvSpPr/>
          <p:nvPr/>
        </p:nvSpPr>
        <p:spPr>
          <a:xfrm>
            <a:off x="4830840" y="2855880"/>
            <a:ext cx="1517400" cy="625680"/>
          </a:xfrm>
          <a:prstGeom prst="rect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24"/>
          <p:cNvSpPr/>
          <p:nvPr/>
        </p:nvSpPr>
        <p:spPr>
          <a:xfrm>
            <a:off x="2840040" y="2855880"/>
            <a:ext cx="1370160" cy="741240"/>
          </a:xfrm>
          <a:prstGeom prst="rect">
            <a:avLst/>
          </a:prstGeom>
          <a:blipFill rotWithShape="0">
            <a:blip r:embed="rId25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25"/>
          <p:cNvSpPr/>
          <p:nvPr/>
        </p:nvSpPr>
        <p:spPr>
          <a:xfrm>
            <a:off x="762120" y="2414520"/>
            <a:ext cx="1657080" cy="743040"/>
          </a:xfrm>
          <a:prstGeom prst="rect">
            <a:avLst/>
          </a:prstGeom>
          <a:blipFill rotWithShape="0">
            <a:blip r:embed="rId26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26"/>
          <p:cNvSpPr/>
          <p:nvPr/>
        </p:nvSpPr>
        <p:spPr>
          <a:xfrm>
            <a:off x="7058160" y="2482920"/>
            <a:ext cx="1388880" cy="623880"/>
          </a:xfrm>
          <a:prstGeom prst="rect">
            <a:avLst/>
          </a:prstGeom>
          <a:blipFill rotWithShape="0">
            <a:blip r:embed="rId27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7"/>
          <p:cNvSpPr/>
          <p:nvPr/>
        </p:nvSpPr>
        <p:spPr>
          <a:xfrm>
            <a:off x="3900600" y="700200"/>
            <a:ext cx="1157040" cy="868320"/>
          </a:xfrm>
          <a:prstGeom prst="rect">
            <a:avLst/>
          </a:prstGeom>
          <a:blipFill rotWithShape="0">
            <a:blip r:embed="rId28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28"/>
          <p:cNvSpPr/>
          <p:nvPr/>
        </p:nvSpPr>
        <p:spPr>
          <a:xfrm>
            <a:off x="4056120" y="2314440"/>
            <a:ext cx="988920" cy="944640"/>
          </a:xfrm>
          <a:prstGeom prst="rect">
            <a:avLst/>
          </a:prstGeom>
          <a:blipFill rotWithShape="0">
            <a:blip r:embed="rId29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29"/>
          <p:cNvSpPr/>
          <p:nvPr/>
        </p:nvSpPr>
        <p:spPr>
          <a:xfrm>
            <a:off x="5724360" y="1822320"/>
            <a:ext cx="1484640" cy="649440"/>
          </a:xfrm>
          <a:prstGeom prst="rect">
            <a:avLst/>
          </a:prstGeom>
          <a:blipFill rotWithShape="0">
            <a:blip r:embed="rId30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30"/>
          <p:cNvSpPr/>
          <p:nvPr/>
        </p:nvSpPr>
        <p:spPr>
          <a:xfrm>
            <a:off x="2313000" y="1736640"/>
            <a:ext cx="1536840" cy="500040"/>
          </a:xfrm>
          <a:prstGeom prst="rect">
            <a:avLst/>
          </a:prstGeom>
          <a:blipFill rotWithShape="0">
            <a:blip r:embed="rId31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31"/>
          <p:cNvSpPr/>
          <p:nvPr/>
        </p:nvSpPr>
        <p:spPr>
          <a:xfrm>
            <a:off x="3740040" y="4027320"/>
            <a:ext cx="1517760" cy="876600"/>
          </a:xfrm>
          <a:prstGeom prst="rect">
            <a:avLst/>
          </a:prstGeom>
          <a:blipFill rotWithShape="0">
            <a:blip r:embed="rId32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32"/>
          <p:cNvSpPr/>
          <p:nvPr/>
        </p:nvSpPr>
        <p:spPr>
          <a:xfrm>
            <a:off x="1547640" y="2344680"/>
            <a:ext cx="1548000" cy="569880"/>
          </a:xfrm>
          <a:prstGeom prst="rect">
            <a:avLst/>
          </a:prstGeom>
          <a:blipFill rotWithShape="0">
            <a:blip r:embed="rId33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33"/>
          <p:cNvSpPr/>
          <p:nvPr/>
        </p:nvSpPr>
        <p:spPr>
          <a:xfrm>
            <a:off x="2712960" y="3230640"/>
            <a:ext cx="1648080" cy="501480"/>
          </a:xfrm>
          <a:prstGeom prst="rect">
            <a:avLst/>
          </a:prstGeom>
          <a:blipFill rotWithShape="0">
            <a:blip r:embed="rId34"/>
            <a:srcRect/>
            <a:stretch/>
          </a:blipFill>
          <a:ln w="93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8" descr="C:\Documents and Settings\Administrator\桌面\图片7.jpg"/>
          <p:cNvPicPr/>
          <p:nvPr/>
        </p:nvPicPr>
        <p:blipFill>
          <a:blip r:embed="rId35"/>
          <a:stretch/>
        </p:blipFill>
        <p:spPr>
          <a:xfrm>
            <a:off x="-2146320" y="-957240"/>
            <a:ext cx="12450960" cy="7067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C:\Documents and Settings\Administrator\桌面\图片1SD.png"/>
          <p:cNvPicPr/>
          <p:nvPr/>
        </p:nvPicPr>
        <p:blipFill>
          <a:blip r:embed="rId36"/>
          <a:stretch/>
        </p:blipFill>
        <p:spPr>
          <a:xfrm>
            <a:off x="-2073240" y="-987480"/>
            <a:ext cx="12202920" cy="7004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37"/>
          <a:stretch/>
        </p:blipFill>
        <p:spPr>
          <a:xfrm>
            <a:off x="-1886040" y="-950760"/>
            <a:ext cx="1219068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8.64198E-007 L 0.02309 -8.64198E-007 E">
                                      <p:cBhvr>
                                        <p:cTn id="425" dur="4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09 -8.64198E-007 L 0.05764 -8.64198E-007 E">
                                      <p:cBhvr>
                                        <p:cTn id="428" dur="4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900"/>
                            </p:stCondLst>
                            <p:childTnLst>
                              <p:par>
                                <p:cTn id="4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3457E-007 L 0.63334 -1.23457E-007 E">
                                      <p:cBhvr>
                                        <p:cTn id="431" dur="2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092 L -0.41354 -0.00092 E">
                                      <p:cBhvr>
                                        <p:cTn id="433" dur="2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2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1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300"/>
                            </p:stCondLst>
                            <p:childTnLst>
                              <p:par>
                                <p:cTn id="4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100" fill="hold"/>
                                        <p:tgtEl>
                                          <p:spTgt spid="24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600"/>
                            </p:stCondLst>
                            <p:childTnLst>
                              <p:par>
                                <p:cTn id="4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700"/>
                            </p:stCondLst>
                            <p:childTnLst>
                              <p:par>
                                <p:cTn id="4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100" fill="hold"/>
                                        <p:tgtEl>
                                          <p:spTgt spid="24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0" dur="1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100"/>
                            </p:stCondLst>
                            <p:childTnLst>
                              <p:par>
                                <p:cTn id="4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3" dur="100" fill="hold"/>
                                        <p:tgtEl>
                                          <p:spTgt spid="24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200"/>
                            </p:stCondLst>
                            <p:childTnLst>
                              <p:par>
                                <p:cTn id="4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0" dur="1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3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100" fill="hold"/>
                                        <p:tgtEl>
                                          <p:spTgt spid="24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600"/>
                            </p:stCondLst>
                            <p:childTnLst>
                              <p:par>
                                <p:cTn id="4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0" dur="1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700"/>
                            </p:stCondLst>
                            <p:childTnLst>
                              <p:par>
                                <p:cTn id="4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3" dur="100" fill="hold"/>
                                        <p:tgtEl>
                                          <p:spTgt spid="24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0" dur="1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100"/>
                            </p:stCondLst>
                            <p:childTnLst>
                              <p:par>
                                <p:cTn id="4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100" fill="hold"/>
                                        <p:tgtEl>
                                          <p:spTgt spid="24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4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1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100" fill="hold"/>
                                        <p:tgtEl>
                                          <p:spTgt spid="24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80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900"/>
                            </p:stCondLst>
                            <p:childTnLst>
                              <p:par>
                                <p:cTn id="5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200"/>
                            </p:stCondLst>
                            <p:childTnLst>
                              <p:par>
                                <p:cTn id="5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1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300"/>
                            </p:stCondLst>
                            <p:childTnLst>
                              <p:par>
                                <p:cTn id="5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" fill="hold"/>
                                        <p:tgtEl>
                                          <p:spTgt spid="24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600"/>
                            </p:stCondLst>
                            <p:childTnLst>
                              <p:par>
                                <p:cTn id="5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1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700"/>
                            </p:stCondLst>
                            <p:childTnLst>
                              <p:par>
                                <p:cTn id="5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3" dur="100" fill="hold"/>
                                        <p:tgtEl>
                                          <p:spTgt spid="25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100"/>
                            </p:stCondLst>
                            <p:childTnLst>
                              <p:par>
                                <p:cTn id="5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3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400"/>
                            </p:stCondLst>
                            <p:childTnLst>
                              <p:par>
                                <p:cTn id="5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0" dur="1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100" fill="hold"/>
                                        <p:tgtEl>
                                          <p:spTgt spid="25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800"/>
                            </p:stCondLst>
                            <p:childTnLst>
                              <p:par>
                                <p:cTn id="5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0" dur="1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900"/>
                            </p:stCondLst>
                            <p:childTnLst>
                              <p:par>
                                <p:cTn id="5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3" dur="100" fill="hold"/>
                                        <p:tgtEl>
                                          <p:spTgt spid="25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200"/>
                            </p:stCondLst>
                            <p:childTnLst>
                              <p:par>
                                <p:cTn id="5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0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300"/>
                            </p:stCondLst>
                            <p:childTnLst>
                              <p:par>
                                <p:cTn id="5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3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6600"/>
                            </p:stCondLst>
                            <p:childTnLst>
                              <p:par>
                                <p:cTn id="5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0" dur="1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700"/>
                            </p:stCondLst>
                            <p:childTnLst>
                              <p:par>
                                <p:cTn id="5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3" dur="100" fill="hold"/>
                                        <p:tgtEl>
                                          <p:spTgt spid="25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000"/>
                            </p:stCondLst>
                            <p:childTnLst>
                              <p:par>
                                <p:cTn id="5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0" dur="1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100"/>
                            </p:stCondLst>
                            <p:childTnLst>
                              <p:par>
                                <p:cTn id="5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3" dur="100" fill="hold"/>
                                        <p:tgtEl>
                                          <p:spTgt spid="25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400"/>
                            </p:stCondLst>
                            <p:childTnLst>
                              <p:par>
                                <p:cTn id="5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500"/>
                            </p:stCondLst>
                            <p:childTnLst>
                              <p:par>
                                <p:cTn id="6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3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800"/>
                            </p:stCondLst>
                            <p:childTnLst>
                              <p:par>
                                <p:cTn id="6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0" dur="1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900"/>
                            </p:stCondLst>
                            <p:childTnLst>
                              <p:par>
                                <p:cTn id="6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100" fill="hold"/>
                                        <p:tgtEl>
                                          <p:spTgt spid="25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8200"/>
                            </p:stCondLst>
                            <p:childTnLst>
                              <p:par>
                                <p:cTn id="6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0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8300"/>
                            </p:stCondLst>
                            <p:childTnLst>
                              <p:par>
                                <p:cTn id="6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8600"/>
                            </p:stCondLst>
                            <p:childTnLst>
                              <p:par>
                                <p:cTn id="6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8700"/>
                            </p:stCondLst>
                            <p:childTnLst>
                              <p:par>
                                <p:cTn id="6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6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0" dur="1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100"/>
                            </p:stCondLst>
                            <p:childTnLst>
                              <p:par>
                                <p:cTn id="6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100" fill="hold"/>
                                        <p:tgtEl>
                                          <p:spTgt spid="26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400"/>
                            </p:stCondLst>
                            <p:childTnLst>
                              <p:par>
                                <p:cTn id="6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0" dur="1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9500"/>
                            </p:stCondLst>
                            <p:childTnLst>
                              <p:par>
                                <p:cTn id="6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100" fill="hold"/>
                                        <p:tgtEl>
                                          <p:spTgt spid="26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9800"/>
                            </p:stCondLst>
                            <p:childTnLst>
                              <p:par>
                                <p:cTn id="6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0" dur="1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900"/>
                            </p:stCondLst>
                            <p:childTnLst>
                              <p:par>
                                <p:cTn id="6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3" dur="100" fill="hold"/>
                                        <p:tgtEl>
                                          <p:spTgt spid="26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200"/>
                            </p:stCondLst>
                            <p:childTnLst>
                              <p:par>
                                <p:cTn id="6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0" dur="1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300"/>
                            </p:stCondLst>
                            <p:childTnLst>
                              <p:par>
                                <p:cTn id="6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3" dur="100" fill="hold"/>
                                        <p:tgtEl>
                                          <p:spTgt spid="26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600"/>
                            </p:stCondLst>
                            <p:childTnLst>
                              <p:par>
                                <p:cTn id="6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0" dur="1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700"/>
                            </p:stCondLst>
                            <p:childTnLst>
                              <p:par>
                                <p:cTn id="6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3" dur="100" fill="hold"/>
                                        <p:tgtEl>
                                          <p:spTgt spid="26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1100"/>
                            </p:stCondLst>
                            <p:childTnLst>
                              <p:par>
                                <p:cTn id="6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3" dur="100" fill="hold"/>
                                        <p:tgtEl>
                                          <p:spTgt spid="26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1400"/>
                            </p:stCondLst>
                            <p:childTnLst>
                              <p:par>
                                <p:cTn id="6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1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1500"/>
                            </p:stCondLst>
                            <p:childTnLst>
                              <p:par>
                                <p:cTn id="7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3" dur="100" fill="hold"/>
                                        <p:tgtEl>
                                          <p:spTgt spid="26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1800"/>
                            </p:stCondLst>
                            <p:childTnLst>
                              <p:par>
                                <p:cTn id="7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0" dur="1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1900"/>
                            </p:stCondLst>
                            <p:childTnLst>
                              <p:par>
                                <p:cTn id="7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3" dur="100" fill="hold"/>
                                        <p:tgtEl>
                                          <p:spTgt spid="26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2200"/>
                            </p:stCondLst>
                            <p:childTnLst>
                              <p:par>
                                <p:cTn id="7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0" dur="1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2300"/>
                            </p:stCondLst>
                            <p:childTnLst>
                              <p:par>
                                <p:cTn id="7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3" dur="100" fill="hold"/>
                                        <p:tgtEl>
                                          <p:spTgt spid="26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2600"/>
                            </p:stCondLst>
                            <p:childTnLst>
                              <p:par>
                                <p:cTn id="7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1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700"/>
                            </p:stCondLst>
                            <p:childTnLst>
                              <p:par>
                                <p:cTn id="7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3" dur="100" fill="hold"/>
                                        <p:tgtEl>
                                          <p:spTgt spid="27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0" dur="1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3100"/>
                            </p:stCondLst>
                            <p:childTnLst>
                              <p:par>
                                <p:cTn id="7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3" dur="100" fill="hold"/>
                                        <p:tgtEl>
                                          <p:spTgt spid="27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0" dur="1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3" dur="100" fill="hold"/>
                                        <p:tgtEl>
                                          <p:spTgt spid="27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3800"/>
                            </p:stCondLst>
                            <p:childTnLst>
                              <p:par>
                                <p:cTn id="7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0" dur="1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3900"/>
                            </p:stCondLst>
                            <p:childTnLst>
                              <p:par>
                                <p:cTn id="7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3" dur="100" fill="hold"/>
                                        <p:tgtEl>
                                          <p:spTgt spid="27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6"/>
          <p:cNvSpPr/>
          <p:nvPr/>
        </p:nvSpPr>
        <p:spPr>
          <a:xfrm>
            <a:off x="1692360" y="3003480"/>
            <a:ext cx="547560" cy="93672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7"/>
          <p:cNvSpPr/>
          <p:nvPr/>
        </p:nvSpPr>
        <p:spPr>
          <a:xfrm>
            <a:off x="2340000" y="3003480"/>
            <a:ext cx="71280" cy="115272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2511360" y="3003480"/>
            <a:ext cx="547920" cy="165600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3276720" y="3003480"/>
            <a:ext cx="44280" cy="144000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0"/>
          <p:cNvSpPr/>
          <p:nvPr/>
        </p:nvSpPr>
        <p:spPr>
          <a:xfrm>
            <a:off x="3419640" y="3003480"/>
            <a:ext cx="55440" cy="244800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1"/>
          <p:cNvSpPr/>
          <p:nvPr/>
        </p:nvSpPr>
        <p:spPr>
          <a:xfrm>
            <a:off x="4859280" y="3003480"/>
            <a:ext cx="384120" cy="36684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2"/>
          <p:cNvSpPr/>
          <p:nvPr/>
        </p:nvSpPr>
        <p:spPr>
          <a:xfrm>
            <a:off x="5400720" y="3003480"/>
            <a:ext cx="382680" cy="3668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3"/>
          <p:cNvSpPr/>
          <p:nvPr/>
        </p:nvSpPr>
        <p:spPr>
          <a:xfrm>
            <a:off x="5940360" y="3003480"/>
            <a:ext cx="382680" cy="36684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4"/>
          <p:cNvSpPr/>
          <p:nvPr/>
        </p:nvSpPr>
        <p:spPr>
          <a:xfrm>
            <a:off x="6480000" y="3003480"/>
            <a:ext cx="382680" cy="36684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5"/>
          <p:cNvSpPr/>
          <p:nvPr/>
        </p:nvSpPr>
        <p:spPr>
          <a:xfrm>
            <a:off x="7020000" y="3003480"/>
            <a:ext cx="468360" cy="936720"/>
          </a:xfrm>
          <a:prstGeom prst="rect">
            <a:avLst/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699200" y="221148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3074400" y="2211480"/>
            <a:ext cx="2137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requirement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18"/>
          <p:cNvGrpSpPr/>
          <p:nvPr/>
        </p:nvGrpSpPr>
        <p:grpSpPr>
          <a:xfrm>
            <a:off x="983880" y="1635120"/>
            <a:ext cx="1512360" cy="2743200"/>
            <a:chOff x="983880" y="1635120"/>
            <a:chExt cx="1512360" cy="2743200"/>
          </a:xfrm>
        </p:grpSpPr>
        <p:sp>
          <p:nvSpPr>
            <p:cNvPr id="290" name="TextBox 28"/>
            <p:cNvSpPr/>
            <p:nvPr/>
          </p:nvSpPr>
          <p:spPr>
            <a:xfrm>
              <a:off x="1218240" y="16351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c000"/>
                  </a:solidFill>
                  <a:latin typeface="Adobe 黑体 Std R"/>
                  <a:ea typeface="Adobe 黑体 Std R"/>
                </a:rPr>
                <a:t>岗位需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20"/>
            <p:cNvSpPr/>
            <p:nvPr/>
          </p:nvSpPr>
          <p:spPr>
            <a:xfrm>
              <a:off x="983880" y="2938320"/>
              <a:ext cx="506520" cy="1440000"/>
            </a:xfrm>
            <a:prstGeom prst="rect">
              <a:avLst/>
            </a:prstGeom>
            <a:solidFill>
              <a:srgbClr val="595959"/>
            </a:solidFill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"/>
                            </p:stCondLst>
                            <p:childTnLst>
                              <p:par>
                                <p:cTn id="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600"/>
                            </p:stCondLst>
                            <p:childTnLst>
                              <p:par>
                                <p:cTn id="7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700"/>
                            </p:stCondLst>
                            <p:childTnLst>
                              <p:par>
                                <p:cTn id="7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34568E-006 L 0.01198 2.34568E-006 E">
                                      <p:cBhvr>
                                        <p:cTn id="793" dur="3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17 2.22045E-016 L -4.16667E-006 2.22045E-016 E">
                                      <p:cBhvr>
                                        <p:cTn id="795" dur="2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3.08642E-006 L 0.01128 -3.08642E-006 E">
                                      <p:cBhvr>
                                        <p:cTn id="801" dur="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2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2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1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2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2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2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2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12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12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2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2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22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1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1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-1619280" y="27655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1219320" y="1635120"/>
            <a:ext cx="78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业务部储备经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晋升途径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储备经理→客户经理→客户总监→分公司副总经理→分公司总经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8"/>
          <p:cNvSpPr/>
          <p:nvPr/>
        </p:nvSpPr>
        <p:spPr>
          <a:xfrm>
            <a:off x="1314360" y="1643040"/>
            <a:ext cx="649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设计师助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晋升途径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制作设计部：设计师助理→设计师→高级设计师→设计总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程设计部：设计师助理→设计师→高级设计师→设计总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师助理→项目专员→项目经理→项目总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9"/>
          <p:cNvSpPr/>
          <p:nvPr/>
        </p:nvSpPr>
        <p:spPr>
          <a:xfrm>
            <a:off x="2195640" y="1492200"/>
            <a:ext cx="56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动策划及执行专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晋升途径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策划专员→策划经理→策划总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执行专员→执行经理→执行总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执行专员→策划文案→策划总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40"/>
          <p:cNvSpPr/>
          <p:nvPr/>
        </p:nvSpPr>
        <p:spPr>
          <a:xfrm>
            <a:off x="2819520" y="1635120"/>
            <a:ext cx="3504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人事专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晋升途径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行政专员→行政经理→行政总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人事专员→人事经理→人事总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42"/>
          <p:cNvSpPr/>
          <p:nvPr/>
        </p:nvSpPr>
        <p:spPr>
          <a:xfrm>
            <a:off x="3211560" y="1609560"/>
            <a:ext cx="287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会计文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晋升途径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会计文员→主办会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8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5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4"/>
          <p:cNvSpPr/>
          <p:nvPr/>
        </p:nvSpPr>
        <p:spPr>
          <a:xfrm>
            <a:off x="166680" y="2397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我们能提供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657520" y="520524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与时俱进的专业技能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6"/>
          <p:cNvGrpSpPr/>
          <p:nvPr/>
        </p:nvGrpSpPr>
        <p:grpSpPr>
          <a:xfrm>
            <a:off x="4349520" y="526320"/>
            <a:ext cx="3978720" cy="6037920"/>
            <a:chOff x="4349520" y="526320"/>
            <a:chExt cx="3978720" cy="6037920"/>
          </a:xfrm>
        </p:grpSpPr>
        <p:grpSp>
          <p:nvGrpSpPr>
            <p:cNvPr id="302" name="组合 7"/>
            <p:cNvGrpSpPr/>
            <p:nvPr/>
          </p:nvGrpSpPr>
          <p:grpSpPr>
            <a:xfrm>
              <a:off x="4349520" y="526320"/>
              <a:ext cx="3412440" cy="5140800"/>
              <a:chOff x="4349520" y="526320"/>
              <a:chExt cx="3412440" cy="5140800"/>
            </a:xfrm>
          </p:grpSpPr>
          <p:grpSp>
            <p:nvGrpSpPr>
              <p:cNvPr id="303" name="组合 100"/>
              <p:cNvGrpSpPr/>
              <p:nvPr/>
            </p:nvGrpSpPr>
            <p:grpSpPr>
              <a:xfrm>
                <a:off x="4349520" y="3152160"/>
                <a:ext cx="1710000" cy="2514960"/>
                <a:chOff x="4349520" y="3152160"/>
                <a:chExt cx="1710000" cy="2514960"/>
              </a:xfrm>
            </p:grpSpPr>
            <p:grpSp>
              <p:nvGrpSpPr>
                <p:cNvPr id="304" name="组合 112"/>
                <p:cNvGrpSpPr/>
                <p:nvPr/>
              </p:nvGrpSpPr>
              <p:grpSpPr>
                <a:xfrm>
                  <a:off x="4349520" y="4474800"/>
                  <a:ext cx="860040" cy="1192320"/>
                  <a:chOff x="4349520" y="4474800"/>
                  <a:chExt cx="860040" cy="1192320"/>
                </a:xfrm>
              </p:grpSpPr>
              <p:sp>
                <p:nvSpPr>
                  <p:cNvPr id="305" name="泪滴形 19"/>
                  <p:cNvSpPr/>
                  <p:nvPr/>
                </p:nvSpPr>
                <p:spPr>
                  <a:xfrm rot="19578600">
                    <a:off x="4998600" y="4525920"/>
                    <a:ext cx="207720" cy="741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6" name="泪滴形 19"/>
                  <p:cNvSpPr/>
                  <p:nvPr/>
                </p:nvSpPr>
                <p:spPr>
                  <a:xfrm rot="19578600">
                    <a:off x="4782600" y="4863960"/>
                    <a:ext cx="207720" cy="741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7" name="泪滴形 19"/>
                  <p:cNvSpPr/>
                  <p:nvPr/>
                </p:nvSpPr>
                <p:spPr>
                  <a:xfrm rot="19578600">
                    <a:off x="4568400" y="5202000"/>
                    <a:ext cx="207720" cy="741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8" name="泪滴形 19"/>
                  <p:cNvSpPr/>
                  <p:nvPr/>
                </p:nvSpPr>
                <p:spPr>
                  <a:xfrm rot="19578600">
                    <a:off x="4352400" y="5541480"/>
                    <a:ext cx="207720" cy="741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9" name="组合 113"/>
                <p:cNvGrpSpPr/>
                <p:nvPr/>
              </p:nvGrpSpPr>
              <p:grpSpPr>
                <a:xfrm>
                  <a:off x="5198400" y="3152160"/>
                  <a:ext cx="861120" cy="1193400"/>
                  <a:chOff x="5198400" y="3152160"/>
                  <a:chExt cx="861120" cy="1193400"/>
                </a:xfrm>
              </p:grpSpPr>
              <p:sp>
                <p:nvSpPr>
                  <p:cNvPr id="310" name="泪滴形 19"/>
                  <p:cNvSpPr/>
                  <p:nvPr/>
                </p:nvSpPr>
                <p:spPr>
                  <a:xfrm rot="19578600">
                    <a:off x="5848200" y="3203280"/>
                    <a:ext cx="207720" cy="759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1" name="泪滴形 19"/>
                  <p:cNvSpPr/>
                  <p:nvPr/>
                </p:nvSpPr>
                <p:spPr>
                  <a:xfrm rot="19578600">
                    <a:off x="5632920" y="3541320"/>
                    <a:ext cx="207720" cy="759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2" name="泪滴形 19"/>
                  <p:cNvSpPr/>
                  <p:nvPr/>
                </p:nvSpPr>
                <p:spPr>
                  <a:xfrm rot="19578600">
                    <a:off x="5418720" y="3880080"/>
                    <a:ext cx="207720" cy="759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3" name="泪滴形 19"/>
                  <p:cNvSpPr/>
                  <p:nvPr/>
                </p:nvSpPr>
                <p:spPr>
                  <a:xfrm rot="19578600">
                    <a:off x="5201640" y="421920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14" name="组合 101"/>
              <p:cNvGrpSpPr/>
              <p:nvPr/>
            </p:nvGrpSpPr>
            <p:grpSpPr>
              <a:xfrm>
                <a:off x="6051600" y="526320"/>
                <a:ext cx="1710360" cy="2515680"/>
                <a:chOff x="6051600" y="526320"/>
                <a:chExt cx="1710360" cy="2515680"/>
              </a:xfrm>
            </p:grpSpPr>
            <p:grpSp>
              <p:nvGrpSpPr>
                <p:cNvPr id="315" name="组合 102"/>
                <p:cNvGrpSpPr/>
                <p:nvPr/>
              </p:nvGrpSpPr>
              <p:grpSpPr>
                <a:xfrm>
                  <a:off x="6051600" y="1848600"/>
                  <a:ext cx="862560" cy="1193400"/>
                  <a:chOff x="6051600" y="1848600"/>
                  <a:chExt cx="862560" cy="1193400"/>
                </a:xfrm>
              </p:grpSpPr>
              <p:sp>
                <p:nvSpPr>
                  <p:cNvPr id="316" name="泪滴形 19"/>
                  <p:cNvSpPr/>
                  <p:nvPr/>
                </p:nvSpPr>
                <p:spPr>
                  <a:xfrm rot="19578600">
                    <a:off x="6702120" y="1899720"/>
                    <a:ext cx="208080" cy="766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7" name="泪滴形 19"/>
                  <p:cNvSpPr/>
                  <p:nvPr/>
                </p:nvSpPr>
                <p:spPr>
                  <a:xfrm rot="19578600">
                    <a:off x="6484680" y="2238120"/>
                    <a:ext cx="208080" cy="766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8" name="泪滴形 19"/>
                  <p:cNvSpPr/>
                  <p:nvPr/>
                </p:nvSpPr>
                <p:spPr>
                  <a:xfrm rot="19578600">
                    <a:off x="6270840" y="2576520"/>
                    <a:ext cx="208080" cy="766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9" name="泪滴形 19"/>
                  <p:cNvSpPr/>
                  <p:nvPr/>
                </p:nvSpPr>
                <p:spPr>
                  <a:xfrm rot="19578600">
                    <a:off x="6054840" y="2915280"/>
                    <a:ext cx="208080" cy="752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20" name="组合 103"/>
                <p:cNvGrpSpPr/>
                <p:nvPr/>
              </p:nvGrpSpPr>
              <p:grpSpPr>
                <a:xfrm>
                  <a:off x="6900480" y="526320"/>
                  <a:ext cx="861480" cy="1193400"/>
                  <a:chOff x="6900480" y="526320"/>
                  <a:chExt cx="861480" cy="1193400"/>
                </a:xfrm>
              </p:grpSpPr>
              <p:sp>
                <p:nvSpPr>
                  <p:cNvPr id="321" name="泪滴形 19"/>
                  <p:cNvSpPr/>
                  <p:nvPr/>
                </p:nvSpPr>
                <p:spPr>
                  <a:xfrm rot="19578600">
                    <a:off x="7550280" y="577800"/>
                    <a:ext cx="208080" cy="752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2" name="泪滴形 19"/>
                  <p:cNvSpPr/>
                  <p:nvPr/>
                </p:nvSpPr>
                <p:spPr>
                  <a:xfrm rot="19578600">
                    <a:off x="7336080" y="916200"/>
                    <a:ext cx="208080" cy="752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3" name="泪滴形 19"/>
                  <p:cNvSpPr/>
                  <p:nvPr/>
                </p:nvSpPr>
                <p:spPr>
                  <a:xfrm rot="19578600">
                    <a:off x="7121520" y="1254600"/>
                    <a:ext cx="208080" cy="752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4" name="泪滴形 19"/>
                  <p:cNvSpPr/>
                  <p:nvPr/>
                </p:nvSpPr>
                <p:spPr>
                  <a:xfrm rot="19578600">
                    <a:off x="6903720" y="1593000"/>
                    <a:ext cx="208080" cy="752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25" name="组合 8"/>
            <p:cNvGrpSpPr/>
            <p:nvPr/>
          </p:nvGrpSpPr>
          <p:grpSpPr>
            <a:xfrm>
              <a:off x="4563720" y="655560"/>
              <a:ext cx="3324960" cy="5199120"/>
              <a:chOff x="4563720" y="655560"/>
              <a:chExt cx="3324960" cy="5199120"/>
            </a:xfrm>
          </p:grpSpPr>
          <p:grpSp>
            <p:nvGrpSpPr>
              <p:cNvPr id="326" name="组合 78"/>
              <p:cNvGrpSpPr/>
              <p:nvPr/>
            </p:nvGrpSpPr>
            <p:grpSpPr>
              <a:xfrm>
                <a:off x="4563720" y="3311280"/>
                <a:ext cx="1668240" cy="2543400"/>
                <a:chOff x="4563720" y="3311280"/>
                <a:chExt cx="1668240" cy="2543400"/>
              </a:xfrm>
            </p:grpSpPr>
            <p:grpSp>
              <p:nvGrpSpPr>
                <p:cNvPr id="327" name="组合 90"/>
                <p:cNvGrpSpPr/>
                <p:nvPr/>
              </p:nvGrpSpPr>
              <p:grpSpPr>
                <a:xfrm>
                  <a:off x="4563720" y="4647960"/>
                  <a:ext cx="843120" cy="1206720"/>
                  <a:chOff x="4563720" y="4647960"/>
                  <a:chExt cx="843120" cy="1206720"/>
                </a:xfrm>
              </p:grpSpPr>
              <p:sp>
                <p:nvSpPr>
                  <p:cNvPr id="328" name="泪滴形 19"/>
                  <p:cNvSpPr/>
                  <p:nvPr/>
                </p:nvSpPr>
                <p:spPr>
                  <a:xfrm rot="19518600">
                    <a:off x="5195880" y="4699800"/>
                    <a:ext cx="207720" cy="7632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9" name="泪滴形 19"/>
                  <p:cNvSpPr/>
                  <p:nvPr/>
                </p:nvSpPr>
                <p:spPr>
                  <a:xfrm rot="19518600">
                    <a:off x="4986720" y="5042520"/>
                    <a:ext cx="207720" cy="7632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0" name="泪滴形 19"/>
                  <p:cNvSpPr/>
                  <p:nvPr/>
                </p:nvSpPr>
                <p:spPr>
                  <a:xfrm rot="19518600">
                    <a:off x="4777560" y="5383800"/>
                    <a:ext cx="207720" cy="7632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1" name="泪滴形 19"/>
                  <p:cNvSpPr/>
                  <p:nvPr/>
                </p:nvSpPr>
                <p:spPr>
                  <a:xfrm rot="19518600">
                    <a:off x="4566240" y="572724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2" name="组合 91"/>
                <p:cNvGrpSpPr/>
                <p:nvPr/>
              </p:nvGrpSpPr>
              <p:grpSpPr>
                <a:xfrm>
                  <a:off x="5388840" y="3311280"/>
                  <a:ext cx="843120" cy="1206720"/>
                  <a:chOff x="5388840" y="3311280"/>
                  <a:chExt cx="843120" cy="1206720"/>
                </a:xfrm>
              </p:grpSpPr>
              <p:sp>
                <p:nvSpPr>
                  <p:cNvPr id="333" name="泪滴形 19"/>
                  <p:cNvSpPr/>
                  <p:nvPr/>
                </p:nvSpPr>
                <p:spPr>
                  <a:xfrm rot="19518600">
                    <a:off x="6021000" y="3363480"/>
                    <a:ext cx="207720" cy="756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4" name="泪滴形 19"/>
                  <p:cNvSpPr/>
                  <p:nvPr/>
                </p:nvSpPr>
                <p:spPr>
                  <a:xfrm rot="19518600">
                    <a:off x="5811840" y="3706200"/>
                    <a:ext cx="207720" cy="756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5" name="泪滴形 19"/>
                  <p:cNvSpPr/>
                  <p:nvPr/>
                </p:nvSpPr>
                <p:spPr>
                  <a:xfrm rot="19518600">
                    <a:off x="5600880" y="4047120"/>
                    <a:ext cx="207720" cy="756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6" name="泪滴形 19"/>
                  <p:cNvSpPr/>
                  <p:nvPr/>
                </p:nvSpPr>
                <p:spPr>
                  <a:xfrm rot="19518600">
                    <a:off x="5391720" y="4389840"/>
                    <a:ext cx="207720" cy="756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37" name="组合 79"/>
              <p:cNvGrpSpPr/>
              <p:nvPr/>
            </p:nvGrpSpPr>
            <p:grpSpPr>
              <a:xfrm>
                <a:off x="6221160" y="655560"/>
                <a:ext cx="1667520" cy="2543400"/>
                <a:chOff x="6221160" y="655560"/>
                <a:chExt cx="1667520" cy="2543400"/>
              </a:xfrm>
            </p:grpSpPr>
            <p:grpSp>
              <p:nvGrpSpPr>
                <p:cNvPr id="338" name="组合 80"/>
                <p:cNvGrpSpPr/>
                <p:nvPr/>
              </p:nvGrpSpPr>
              <p:grpSpPr>
                <a:xfrm>
                  <a:off x="6221160" y="1992960"/>
                  <a:ext cx="840600" cy="1206000"/>
                  <a:chOff x="6221160" y="1992960"/>
                  <a:chExt cx="840600" cy="1206000"/>
                </a:xfrm>
              </p:grpSpPr>
              <p:sp>
                <p:nvSpPr>
                  <p:cNvPr id="339" name="泪滴形 19"/>
                  <p:cNvSpPr/>
                  <p:nvPr/>
                </p:nvSpPr>
                <p:spPr>
                  <a:xfrm rot="19518600">
                    <a:off x="6851520" y="204516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0" name="泪滴形 19"/>
                  <p:cNvSpPr/>
                  <p:nvPr/>
                </p:nvSpPr>
                <p:spPr>
                  <a:xfrm rot="19518600">
                    <a:off x="6642360" y="238752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泪滴形 19"/>
                  <p:cNvSpPr/>
                  <p:nvPr/>
                </p:nvSpPr>
                <p:spPr>
                  <a:xfrm rot="19518600">
                    <a:off x="6432840" y="273024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泪滴形 19"/>
                  <p:cNvSpPr/>
                  <p:nvPr/>
                </p:nvSpPr>
                <p:spPr>
                  <a:xfrm rot="19518600">
                    <a:off x="6223680" y="307224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43" name="组合 81"/>
                <p:cNvGrpSpPr/>
                <p:nvPr/>
              </p:nvGrpSpPr>
              <p:grpSpPr>
                <a:xfrm>
                  <a:off x="7045560" y="655560"/>
                  <a:ext cx="843120" cy="1206720"/>
                  <a:chOff x="7045560" y="655560"/>
                  <a:chExt cx="843120" cy="1206720"/>
                </a:xfrm>
              </p:grpSpPr>
              <p:sp>
                <p:nvSpPr>
                  <p:cNvPr id="344" name="泪滴形 19"/>
                  <p:cNvSpPr/>
                  <p:nvPr/>
                </p:nvSpPr>
                <p:spPr>
                  <a:xfrm rot="19518600">
                    <a:off x="7677720" y="707760"/>
                    <a:ext cx="207720" cy="756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5" name="泪滴形 19"/>
                  <p:cNvSpPr/>
                  <p:nvPr/>
                </p:nvSpPr>
                <p:spPr>
                  <a:xfrm rot="19518600">
                    <a:off x="7468560" y="1050480"/>
                    <a:ext cx="207720" cy="756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6" name="泪滴形 19"/>
                  <p:cNvSpPr/>
                  <p:nvPr/>
                </p:nvSpPr>
                <p:spPr>
                  <a:xfrm rot="19518600">
                    <a:off x="7257600" y="1391400"/>
                    <a:ext cx="207720" cy="756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7" name="泪滴形 19"/>
                  <p:cNvSpPr/>
                  <p:nvPr/>
                </p:nvSpPr>
                <p:spPr>
                  <a:xfrm rot="19518600">
                    <a:off x="7048440" y="1734120"/>
                    <a:ext cx="207720" cy="756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48" name="组合 9"/>
            <p:cNvGrpSpPr/>
            <p:nvPr/>
          </p:nvGrpSpPr>
          <p:grpSpPr>
            <a:xfrm>
              <a:off x="4944960" y="767880"/>
              <a:ext cx="3052800" cy="5360040"/>
              <a:chOff x="4944960" y="767880"/>
              <a:chExt cx="3052800" cy="5360040"/>
            </a:xfrm>
          </p:grpSpPr>
          <p:grpSp>
            <p:nvGrpSpPr>
              <p:cNvPr id="349" name="组合 56"/>
              <p:cNvGrpSpPr/>
              <p:nvPr/>
            </p:nvGrpSpPr>
            <p:grpSpPr>
              <a:xfrm>
                <a:off x="4944960" y="3505680"/>
                <a:ext cx="1538280" cy="2622240"/>
                <a:chOff x="4944960" y="3505680"/>
                <a:chExt cx="1538280" cy="2622240"/>
              </a:xfrm>
            </p:grpSpPr>
            <p:grpSp>
              <p:nvGrpSpPr>
                <p:cNvPr id="350" name="组合 68"/>
                <p:cNvGrpSpPr/>
                <p:nvPr/>
              </p:nvGrpSpPr>
              <p:grpSpPr>
                <a:xfrm>
                  <a:off x="4944960" y="4884120"/>
                  <a:ext cx="782280" cy="1243800"/>
                  <a:chOff x="4944960" y="4884120"/>
                  <a:chExt cx="782280" cy="1243800"/>
                </a:xfrm>
              </p:grpSpPr>
              <p:sp>
                <p:nvSpPr>
                  <p:cNvPr id="351" name="泪滴形 19"/>
                  <p:cNvSpPr/>
                  <p:nvPr/>
                </p:nvSpPr>
                <p:spPr>
                  <a:xfrm rot="19338600">
                    <a:off x="5518800" y="4939920"/>
                    <a:ext cx="207720" cy="734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2" name="泪滴形 19"/>
                  <p:cNvSpPr/>
                  <p:nvPr/>
                </p:nvSpPr>
                <p:spPr>
                  <a:xfrm rot="19338600">
                    <a:off x="5328360" y="5294520"/>
                    <a:ext cx="207720" cy="734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3" name="泪滴形 19"/>
                  <p:cNvSpPr/>
                  <p:nvPr/>
                </p:nvSpPr>
                <p:spPr>
                  <a:xfrm rot="19338600">
                    <a:off x="5137920" y="5643720"/>
                    <a:ext cx="207720" cy="734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4" name="泪滴形 19"/>
                  <p:cNvSpPr/>
                  <p:nvPr/>
                </p:nvSpPr>
                <p:spPr>
                  <a:xfrm rot="19338600">
                    <a:off x="4945680" y="5998680"/>
                    <a:ext cx="207720" cy="734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55" name="组合 69"/>
                <p:cNvGrpSpPr/>
                <p:nvPr/>
              </p:nvGrpSpPr>
              <p:grpSpPr>
                <a:xfrm>
                  <a:off x="5700240" y="3505680"/>
                  <a:ext cx="783000" cy="1244160"/>
                  <a:chOff x="5700240" y="3505680"/>
                  <a:chExt cx="783000" cy="1244160"/>
                </a:xfrm>
              </p:grpSpPr>
              <p:sp>
                <p:nvSpPr>
                  <p:cNvPr id="356" name="泪滴形 19"/>
                  <p:cNvSpPr/>
                  <p:nvPr/>
                </p:nvSpPr>
                <p:spPr>
                  <a:xfrm rot="19338600">
                    <a:off x="6274080" y="356112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7" name="泪滴形 19"/>
                  <p:cNvSpPr/>
                  <p:nvPr/>
                </p:nvSpPr>
                <p:spPr>
                  <a:xfrm rot="19338600">
                    <a:off x="6084000" y="391500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8" name="泪滴形 19"/>
                  <p:cNvSpPr/>
                  <p:nvPr/>
                </p:nvSpPr>
                <p:spPr>
                  <a:xfrm rot="19338600">
                    <a:off x="5891760" y="426636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9" name="泪滴形 19"/>
                  <p:cNvSpPr/>
                  <p:nvPr/>
                </p:nvSpPr>
                <p:spPr>
                  <a:xfrm rot="19338600">
                    <a:off x="5700600" y="4620600"/>
                    <a:ext cx="207720" cy="730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60" name="组合 57"/>
              <p:cNvGrpSpPr/>
              <p:nvPr/>
            </p:nvGrpSpPr>
            <p:grpSpPr>
              <a:xfrm>
                <a:off x="6460560" y="767880"/>
                <a:ext cx="1537200" cy="2621880"/>
                <a:chOff x="6460560" y="767880"/>
                <a:chExt cx="1537200" cy="2621880"/>
              </a:xfrm>
            </p:grpSpPr>
            <p:grpSp>
              <p:nvGrpSpPr>
                <p:cNvPr id="361" name="组合 58"/>
                <p:cNvGrpSpPr/>
                <p:nvPr/>
              </p:nvGrpSpPr>
              <p:grpSpPr>
                <a:xfrm>
                  <a:off x="6460560" y="2145600"/>
                  <a:ext cx="782640" cy="1244160"/>
                  <a:chOff x="6460560" y="2145600"/>
                  <a:chExt cx="782640" cy="1244160"/>
                </a:xfrm>
              </p:grpSpPr>
              <p:sp>
                <p:nvSpPr>
                  <p:cNvPr id="362" name="泪滴形 19"/>
                  <p:cNvSpPr/>
                  <p:nvPr/>
                </p:nvSpPr>
                <p:spPr>
                  <a:xfrm rot="19338600">
                    <a:off x="7034400" y="220140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3" name="泪滴形 19"/>
                  <p:cNvSpPr/>
                  <p:nvPr/>
                </p:nvSpPr>
                <p:spPr>
                  <a:xfrm rot="19338600">
                    <a:off x="6843960" y="255528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4" name="泪滴形 19"/>
                  <p:cNvSpPr/>
                  <p:nvPr/>
                </p:nvSpPr>
                <p:spPr>
                  <a:xfrm rot="19338600">
                    <a:off x="6651720" y="290628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5" name="泪滴形 19"/>
                  <p:cNvSpPr/>
                  <p:nvPr/>
                </p:nvSpPr>
                <p:spPr>
                  <a:xfrm rot="19338600">
                    <a:off x="6461280" y="326016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6" name="组合 59"/>
                <p:cNvGrpSpPr/>
                <p:nvPr/>
              </p:nvGrpSpPr>
              <p:grpSpPr>
                <a:xfrm>
                  <a:off x="7215480" y="767880"/>
                  <a:ext cx="782280" cy="1243800"/>
                  <a:chOff x="7215480" y="767880"/>
                  <a:chExt cx="782280" cy="1243800"/>
                </a:xfrm>
              </p:grpSpPr>
              <p:sp>
                <p:nvSpPr>
                  <p:cNvPr id="367" name="泪滴形 19"/>
                  <p:cNvSpPr/>
                  <p:nvPr/>
                </p:nvSpPr>
                <p:spPr>
                  <a:xfrm rot="19338600">
                    <a:off x="7788600" y="823680"/>
                    <a:ext cx="208080" cy="730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8" name="泪滴形 19"/>
                  <p:cNvSpPr/>
                  <p:nvPr/>
                </p:nvSpPr>
                <p:spPr>
                  <a:xfrm rot="19338600">
                    <a:off x="7599240" y="1179000"/>
                    <a:ext cx="208080" cy="730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9" name="泪滴形 19"/>
                  <p:cNvSpPr/>
                  <p:nvPr/>
                </p:nvSpPr>
                <p:spPr>
                  <a:xfrm rot="19338600">
                    <a:off x="7407000" y="1530000"/>
                    <a:ext cx="208080" cy="730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0" name="泪滴形 19"/>
                  <p:cNvSpPr/>
                  <p:nvPr/>
                </p:nvSpPr>
                <p:spPr>
                  <a:xfrm rot="19338600">
                    <a:off x="7215840" y="1882440"/>
                    <a:ext cx="208080" cy="730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71" name="组合 10"/>
            <p:cNvGrpSpPr/>
            <p:nvPr/>
          </p:nvGrpSpPr>
          <p:grpSpPr>
            <a:xfrm>
              <a:off x="5272920" y="924120"/>
              <a:ext cx="2868840" cy="5461200"/>
              <a:chOff x="5272920" y="924120"/>
              <a:chExt cx="2868840" cy="5461200"/>
            </a:xfrm>
          </p:grpSpPr>
          <p:grpSp>
            <p:nvGrpSpPr>
              <p:cNvPr id="372" name="组合 34"/>
              <p:cNvGrpSpPr/>
              <p:nvPr/>
            </p:nvGrpSpPr>
            <p:grpSpPr>
              <a:xfrm>
                <a:off x="5272920" y="3713760"/>
                <a:ext cx="1450080" cy="2671560"/>
                <a:chOff x="5272920" y="3713760"/>
                <a:chExt cx="1450080" cy="2671560"/>
              </a:xfrm>
            </p:grpSpPr>
            <p:grpSp>
              <p:nvGrpSpPr>
                <p:cNvPr id="373" name="组合 46"/>
                <p:cNvGrpSpPr/>
                <p:nvPr/>
              </p:nvGrpSpPr>
              <p:grpSpPr>
                <a:xfrm>
                  <a:off x="5272920" y="5118120"/>
                  <a:ext cx="743040" cy="1267200"/>
                  <a:chOff x="5272920" y="5118120"/>
                  <a:chExt cx="743040" cy="1267200"/>
                </a:xfrm>
              </p:grpSpPr>
              <p:sp>
                <p:nvSpPr>
                  <p:cNvPr id="374" name="泪滴形 19"/>
                  <p:cNvSpPr/>
                  <p:nvPr/>
                </p:nvSpPr>
                <p:spPr>
                  <a:xfrm rot="19218600">
                    <a:off x="5808240" y="517572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5" name="泪滴形 19"/>
                  <p:cNvSpPr/>
                  <p:nvPr/>
                </p:nvSpPr>
                <p:spPr>
                  <a:xfrm rot="19218600">
                    <a:off x="5628960" y="553716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6" name="泪滴形 19"/>
                  <p:cNvSpPr/>
                  <p:nvPr/>
                </p:nvSpPr>
                <p:spPr>
                  <a:xfrm rot="19218600">
                    <a:off x="5450040" y="589392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7" name="泪滴形 19"/>
                  <p:cNvSpPr/>
                  <p:nvPr/>
                </p:nvSpPr>
                <p:spPr>
                  <a:xfrm rot="19218600">
                    <a:off x="5272200" y="625356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78" name="组合 47"/>
                <p:cNvGrpSpPr/>
                <p:nvPr/>
              </p:nvGrpSpPr>
              <p:grpSpPr>
                <a:xfrm>
                  <a:off x="5978520" y="3713760"/>
                  <a:ext cx="744480" cy="1267920"/>
                  <a:chOff x="5978520" y="3713760"/>
                  <a:chExt cx="744480" cy="1267920"/>
                </a:xfrm>
              </p:grpSpPr>
              <p:sp>
                <p:nvSpPr>
                  <p:cNvPr id="379" name="泪滴形 19"/>
                  <p:cNvSpPr/>
                  <p:nvPr/>
                </p:nvSpPr>
                <p:spPr>
                  <a:xfrm rot="19218600">
                    <a:off x="6514920" y="377100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0" name="泪滴形 19"/>
                  <p:cNvSpPr/>
                  <p:nvPr/>
                </p:nvSpPr>
                <p:spPr>
                  <a:xfrm rot="19218600">
                    <a:off x="6335640" y="413136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1" name="泪滴形 19"/>
                  <p:cNvSpPr/>
                  <p:nvPr/>
                </p:nvSpPr>
                <p:spPr>
                  <a:xfrm rot="19218600">
                    <a:off x="6156360" y="449028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2" name="泪滴形 19"/>
                  <p:cNvSpPr/>
                  <p:nvPr/>
                </p:nvSpPr>
                <p:spPr>
                  <a:xfrm rot="19218600">
                    <a:off x="5978160" y="484884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83" name="组合 35"/>
              <p:cNvGrpSpPr/>
              <p:nvPr/>
            </p:nvGrpSpPr>
            <p:grpSpPr>
              <a:xfrm>
                <a:off x="6691320" y="924120"/>
                <a:ext cx="1450440" cy="2671560"/>
                <a:chOff x="6691320" y="924120"/>
                <a:chExt cx="1450440" cy="2671560"/>
              </a:xfrm>
            </p:grpSpPr>
            <p:grpSp>
              <p:nvGrpSpPr>
                <p:cNvPr id="384" name="组合 36"/>
                <p:cNvGrpSpPr/>
                <p:nvPr/>
              </p:nvGrpSpPr>
              <p:grpSpPr>
                <a:xfrm>
                  <a:off x="6691320" y="2327760"/>
                  <a:ext cx="744480" cy="1267920"/>
                  <a:chOff x="6691320" y="2327760"/>
                  <a:chExt cx="744480" cy="1267920"/>
                </a:xfrm>
              </p:grpSpPr>
              <p:sp>
                <p:nvSpPr>
                  <p:cNvPr id="385" name="泪滴形 19"/>
                  <p:cNvSpPr/>
                  <p:nvPr/>
                </p:nvSpPr>
                <p:spPr>
                  <a:xfrm rot="19218600">
                    <a:off x="7227720" y="238500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6" name="泪滴形 19"/>
                  <p:cNvSpPr/>
                  <p:nvPr/>
                </p:nvSpPr>
                <p:spPr>
                  <a:xfrm rot="19218600">
                    <a:off x="7050240" y="274536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7" name="泪滴形 19"/>
                  <p:cNvSpPr/>
                  <p:nvPr/>
                </p:nvSpPr>
                <p:spPr>
                  <a:xfrm rot="19218600">
                    <a:off x="6870600" y="310248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8" name="泪滴形 19"/>
                  <p:cNvSpPr/>
                  <p:nvPr/>
                </p:nvSpPr>
                <p:spPr>
                  <a:xfrm rot="19218600">
                    <a:off x="6690960" y="346284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89" name="组合 37"/>
                <p:cNvGrpSpPr/>
                <p:nvPr/>
              </p:nvGrpSpPr>
              <p:grpSpPr>
                <a:xfrm>
                  <a:off x="7397280" y="924120"/>
                  <a:ext cx="744480" cy="1267560"/>
                  <a:chOff x="7397280" y="924120"/>
                  <a:chExt cx="744480" cy="1267560"/>
                </a:xfrm>
              </p:grpSpPr>
              <p:sp>
                <p:nvSpPr>
                  <p:cNvPr id="390" name="泪滴形 19"/>
                  <p:cNvSpPr/>
                  <p:nvPr/>
                </p:nvSpPr>
                <p:spPr>
                  <a:xfrm rot="19218600">
                    <a:off x="7933680" y="98136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1" name="泪滴形 19"/>
                  <p:cNvSpPr/>
                  <p:nvPr/>
                </p:nvSpPr>
                <p:spPr>
                  <a:xfrm rot="19218600">
                    <a:off x="7756200" y="134136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2" name="泪滴形 19"/>
                  <p:cNvSpPr/>
                  <p:nvPr/>
                </p:nvSpPr>
                <p:spPr>
                  <a:xfrm rot="19218600">
                    <a:off x="7576920" y="169884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3" name="泪滴形 19"/>
                  <p:cNvSpPr/>
                  <p:nvPr/>
                </p:nvSpPr>
                <p:spPr>
                  <a:xfrm rot="19218600">
                    <a:off x="7396920" y="205884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394" name="组合 11"/>
            <p:cNvGrpSpPr/>
            <p:nvPr/>
          </p:nvGrpSpPr>
          <p:grpSpPr>
            <a:xfrm>
              <a:off x="5552640" y="1055160"/>
              <a:ext cx="2775600" cy="5509080"/>
              <a:chOff x="5552640" y="1055160"/>
              <a:chExt cx="2775600" cy="5509080"/>
            </a:xfrm>
          </p:grpSpPr>
          <p:grpSp>
            <p:nvGrpSpPr>
              <p:cNvPr id="395" name="组合 12"/>
              <p:cNvGrpSpPr/>
              <p:nvPr/>
            </p:nvGrpSpPr>
            <p:grpSpPr>
              <a:xfrm>
                <a:off x="5552640" y="3869280"/>
                <a:ext cx="1406520" cy="2694960"/>
                <a:chOff x="5552640" y="3869280"/>
                <a:chExt cx="1406520" cy="2694960"/>
              </a:xfrm>
            </p:grpSpPr>
            <p:grpSp>
              <p:nvGrpSpPr>
                <p:cNvPr id="396" name="组合 24"/>
                <p:cNvGrpSpPr/>
                <p:nvPr/>
              </p:nvGrpSpPr>
              <p:grpSpPr>
                <a:xfrm>
                  <a:off x="5552640" y="5285520"/>
                  <a:ext cx="725040" cy="1278720"/>
                  <a:chOff x="5552640" y="5285520"/>
                  <a:chExt cx="725040" cy="1278720"/>
                </a:xfrm>
              </p:grpSpPr>
              <p:sp>
                <p:nvSpPr>
                  <p:cNvPr id="397" name="泪滴形 19"/>
                  <p:cNvSpPr/>
                  <p:nvPr/>
                </p:nvSpPr>
                <p:spPr>
                  <a:xfrm rot="19158600">
                    <a:off x="6070320" y="5343840"/>
                    <a:ext cx="207720" cy="752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8" name="泪滴形 19"/>
                  <p:cNvSpPr/>
                  <p:nvPr/>
                </p:nvSpPr>
                <p:spPr>
                  <a:xfrm rot="19158600">
                    <a:off x="5896080" y="5710320"/>
                    <a:ext cx="207720" cy="7380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9" name="泪滴形 19"/>
                  <p:cNvSpPr/>
                  <p:nvPr/>
                </p:nvSpPr>
                <p:spPr>
                  <a:xfrm rot="19158600">
                    <a:off x="5723280" y="6068880"/>
                    <a:ext cx="207720" cy="752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0" name="泪滴形 19"/>
                  <p:cNvSpPr/>
                  <p:nvPr/>
                </p:nvSpPr>
                <p:spPr>
                  <a:xfrm rot="19158600">
                    <a:off x="5551920" y="6430320"/>
                    <a:ext cx="207720" cy="7524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01" name="组合 25"/>
                <p:cNvGrpSpPr/>
                <p:nvPr/>
              </p:nvGrpSpPr>
              <p:grpSpPr>
                <a:xfrm>
                  <a:off x="6234840" y="3869280"/>
                  <a:ext cx="724320" cy="1279440"/>
                  <a:chOff x="6234840" y="3869280"/>
                  <a:chExt cx="724320" cy="1279440"/>
                </a:xfrm>
              </p:grpSpPr>
              <p:sp>
                <p:nvSpPr>
                  <p:cNvPr id="402" name="泪滴形 19"/>
                  <p:cNvSpPr/>
                  <p:nvPr/>
                </p:nvSpPr>
                <p:spPr>
                  <a:xfrm rot="19158600">
                    <a:off x="6751800" y="3927600"/>
                    <a:ext cx="207720" cy="759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3" name="泪滴形 19"/>
                  <p:cNvSpPr/>
                  <p:nvPr/>
                </p:nvSpPr>
                <p:spPr>
                  <a:xfrm rot="19158600">
                    <a:off x="6580800" y="4291200"/>
                    <a:ext cx="207720" cy="759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4" name="泪滴形 19"/>
                  <p:cNvSpPr/>
                  <p:nvPr/>
                </p:nvSpPr>
                <p:spPr>
                  <a:xfrm rot="19158600">
                    <a:off x="6408000" y="4651560"/>
                    <a:ext cx="207720" cy="759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5" name="泪滴形 19"/>
                  <p:cNvSpPr/>
                  <p:nvPr/>
                </p:nvSpPr>
                <p:spPr>
                  <a:xfrm rot="19158600">
                    <a:off x="6234120" y="5014800"/>
                    <a:ext cx="20772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06" name="组合 13"/>
              <p:cNvGrpSpPr/>
              <p:nvPr/>
            </p:nvGrpSpPr>
            <p:grpSpPr>
              <a:xfrm>
                <a:off x="6923160" y="1055160"/>
                <a:ext cx="1405080" cy="2695680"/>
                <a:chOff x="6923160" y="1055160"/>
                <a:chExt cx="1405080" cy="2695680"/>
              </a:xfrm>
            </p:grpSpPr>
            <p:grpSp>
              <p:nvGrpSpPr>
                <p:cNvPr id="407" name="组合 14"/>
                <p:cNvGrpSpPr/>
                <p:nvPr/>
              </p:nvGrpSpPr>
              <p:grpSpPr>
                <a:xfrm>
                  <a:off x="6923160" y="2471400"/>
                  <a:ext cx="724320" cy="1279440"/>
                  <a:chOff x="6923160" y="2471400"/>
                  <a:chExt cx="724320" cy="1279440"/>
                </a:xfrm>
              </p:grpSpPr>
              <p:sp>
                <p:nvSpPr>
                  <p:cNvPr id="408" name="泪滴形 19"/>
                  <p:cNvSpPr/>
                  <p:nvPr/>
                </p:nvSpPr>
                <p:spPr>
                  <a:xfrm rot="19158600">
                    <a:off x="7440840" y="2530080"/>
                    <a:ext cx="20736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9" name="泪滴形 19"/>
                  <p:cNvSpPr/>
                  <p:nvPr/>
                </p:nvSpPr>
                <p:spPr>
                  <a:xfrm rot="19158600">
                    <a:off x="7268040" y="2892960"/>
                    <a:ext cx="20736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0" name="泪滴形 19"/>
                  <p:cNvSpPr/>
                  <p:nvPr/>
                </p:nvSpPr>
                <p:spPr>
                  <a:xfrm rot="19158600">
                    <a:off x="7095240" y="3252600"/>
                    <a:ext cx="20736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1" name="泪滴形 19"/>
                  <p:cNvSpPr/>
                  <p:nvPr/>
                </p:nvSpPr>
                <p:spPr>
                  <a:xfrm rot="19158600">
                    <a:off x="6922440" y="3617280"/>
                    <a:ext cx="207360" cy="7488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12" name="组合 15"/>
                <p:cNvGrpSpPr/>
                <p:nvPr/>
              </p:nvGrpSpPr>
              <p:grpSpPr>
                <a:xfrm>
                  <a:off x="7604640" y="1055160"/>
                  <a:ext cx="723600" cy="1278360"/>
                  <a:chOff x="7604640" y="1055160"/>
                  <a:chExt cx="723600" cy="1278360"/>
                </a:xfrm>
              </p:grpSpPr>
              <p:sp>
                <p:nvSpPr>
                  <p:cNvPr id="413" name="泪滴形 19"/>
                  <p:cNvSpPr/>
                  <p:nvPr/>
                </p:nvSpPr>
                <p:spPr>
                  <a:xfrm rot="19158600">
                    <a:off x="8121240" y="1113840"/>
                    <a:ext cx="207720" cy="741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4" name="泪滴形 19"/>
                  <p:cNvSpPr/>
                  <p:nvPr/>
                </p:nvSpPr>
                <p:spPr>
                  <a:xfrm rot="19158600">
                    <a:off x="7948440" y="1478520"/>
                    <a:ext cx="207720" cy="741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5" name="泪滴形 19"/>
                  <p:cNvSpPr/>
                  <p:nvPr/>
                </p:nvSpPr>
                <p:spPr>
                  <a:xfrm rot="19158600">
                    <a:off x="7776720" y="1837440"/>
                    <a:ext cx="207720" cy="741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6" name="泪滴形 19"/>
                  <p:cNvSpPr/>
                  <p:nvPr/>
                </p:nvSpPr>
                <p:spPr>
                  <a:xfrm rot="19158600">
                    <a:off x="7603560" y="2200680"/>
                    <a:ext cx="207720" cy="74160"/>
                  </a:xfrm>
                  <a:prstGeom prst="pi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417" name="组合 122"/>
          <p:cNvGrpSpPr/>
          <p:nvPr/>
        </p:nvGrpSpPr>
        <p:grpSpPr>
          <a:xfrm>
            <a:off x="7809480" y="-121680"/>
            <a:ext cx="1043640" cy="915840"/>
            <a:chOff x="7809480" y="-121680"/>
            <a:chExt cx="1043640" cy="915840"/>
          </a:xfrm>
        </p:grpSpPr>
        <p:sp>
          <p:nvSpPr>
            <p:cNvPr id="418" name="直接连接符 123"/>
            <p:cNvSpPr/>
            <p:nvPr/>
          </p:nvSpPr>
          <p:spPr>
            <a:xfrm flipH="1">
              <a:off x="8363880" y="-107640"/>
              <a:ext cx="330120" cy="43488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124"/>
            <p:cNvGrpSpPr/>
            <p:nvPr/>
          </p:nvGrpSpPr>
          <p:grpSpPr>
            <a:xfrm>
              <a:off x="7809480" y="-121680"/>
              <a:ext cx="1043640" cy="915840"/>
              <a:chOff x="7809480" y="-121680"/>
              <a:chExt cx="1043640" cy="915840"/>
            </a:xfrm>
          </p:grpSpPr>
          <p:pic>
            <p:nvPicPr>
              <p:cNvPr id="420" name="Picture 2" descr=""/>
              <p:cNvPicPr/>
              <p:nvPr/>
            </p:nvPicPr>
            <p:blipFill>
              <a:blip r:embed="rId1"/>
              <a:srcRect l="-1870" t="0" r="0" b="61613"/>
              <a:stretch/>
            </p:blipFill>
            <p:spPr>
              <a:xfrm rot="2312400">
                <a:off x="7771680" y="197280"/>
                <a:ext cx="111924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矩形 126"/>
              <p:cNvSpPr/>
              <p:nvPr/>
            </p:nvSpPr>
            <p:spPr>
              <a:xfrm rot="2313000">
                <a:off x="7802280" y="414360"/>
                <a:ext cx="811440" cy="142560"/>
              </a:xfrm>
              <a:prstGeom prst="rect">
                <a:avLst/>
              </a:prstGeom>
              <a:solidFill>
                <a:srgbClr val="404040"/>
              </a:solidFill>
              <a:ln cap="rnd" w="3240">
                <a:solidFill>
                  <a:srgbClr val="eeece1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TextBox 127"/>
          <p:cNvSpPr/>
          <p:nvPr/>
        </p:nvSpPr>
        <p:spPr>
          <a:xfrm>
            <a:off x="422280" y="519588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快速成长，增强竞争力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28"/>
          <p:cNvSpPr/>
          <p:nvPr/>
        </p:nvSpPr>
        <p:spPr>
          <a:xfrm>
            <a:off x="2487600" y="5170320"/>
            <a:ext cx="35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高层次的人脉平台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29"/>
          <p:cNvSpPr/>
          <p:nvPr/>
        </p:nvSpPr>
        <p:spPr>
          <a:xfrm>
            <a:off x="3306600" y="52052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各类兴趣活动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30"/>
          <p:cNvSpPr/>
          <p:nvPr/>
        </p:nvSpPr>
        <p:spPr>
          <a:xfrm>
            <a:off x="4815000" y="5157720"/>
            <a:ext cx="43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公平、激励的薪酬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31"/>
          <p:cNvSpPr/>
          <p:nvPr/>
        </p:nvSpPr>
        <p:spPr>
          <a:xfrm>
            <a:off x="1728720" y="5167440"/>
            <a:ext cx="38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享受内外部培训机会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4723 L 1.38889E-006 3.33333E-006 E">
                                      <p:cBhvr>
                                        <p:cTn id="883" dur="2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3812E-006 C -0.00833 -0.01916 -0.00382 -0.00742 -0.01424 -0.04325 C -0.0158 -0.0485 -0.01893 -0.05993 -0.01893 -0.05932 C -0.02813 -0.14304 -0.00972 -0.23232 0.00642 -0.28947 C 0.00816 -0.30677 0.01094 -0.32067 0.01267 -0.33766 C 0.01389 -0.38493 0.01614 -0.42941 0.01267 -0.4773 C 0.01094 -0.50016 0.00208 -0.53352 -0.00313 -0.55206 C -0.00747 -0.59654 -0.0191 -0.63176 -0.02535 -0.67501 C -0.02413 -0.71517 -0.02518 -0.73031 -0.01893 -0.76027 C -0.01632 -0.78746 -0.01302 -0.80476 -0.00625 -0.81959 C -0.00261 -0.85759 -0.00504 -0.84245 1.66667E-006 -0.86716 C 0.00382 -0.90701 0.00642 -0.94285 0.00798 -0.98425 C 0.00746 -1.02719 0.00937 -1.07136 0.00642 -1.11276 C 0.00538 -1.12697 -0.00313 -1.14551 -0.00313 -1.14427 E">
                                      <p:cBhvr>
                                        <p:cTn id="885" dur="8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61111E-006 -2.05128E-006 C -0.00833 -0.01946 -0.00382 -0.00741 -0.01423 -0.04356 C -0.01579 -0.04881 -0.01892 -0.06024 -0.01892 -0.05962 C -0.02812 -0.14396 -0.00972 -0.23386 0.00643 -0.29132 C 0.00816 -0.30862 0.01094 -0.32283 0.01268 -0.33982 C 0.01389 -0.3877 0.01615 -0.4325 0.01268 -0.48038 C 0.01094 -0.50355 0.00209 -0.53722 -0.00312 -0.55576 C -0.00746 -0.60055 -0.01909 -0.63608 -0.02534 -0.67933 C -0.02413 -0.72011 -0.02517 -0.73525 -0.01892 -0.76521 C -0.01632 -0.79271 -0.01302 -0.81032 -0.00625 -0.82514 C -0.0026 -0.86314 -0.00503 -0.84801 -3.61111E-006 -0.87303 C 0.00382 -0.91319 0.00643 -0.94902 0.00799 -0.99104 C 0.00747 -1.03398 0.00938 -1.07847 0.00643 -1.12017 C 0.00539 -1.13469 -0.00312 -1.15323 -0.00312 -1.15199 E">
                                      <p:cBhvr>
                                        <p:cTn id="890" dur="8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1.11111E-006 4.01297E-006 C -0.00833 -0.01916 -0.00382 -0.00742 -0.01424 -0.04295 C -0.0158 -0.04789 -0.01892 -0.05932 -0.01892 -0.0587 C -0.02813 -0.14149 -0.00972 -0.23016 0.00642 -0.287 C 0.00816 -0.30399 0.01094 -0.31789 0.01267 -0.33457 C 0.01389 -0.38153 0.01614 -0.42571 0.01267 -0.47297 C 0.01094 -0.49552 0.00208 -0.52889 -0.00313 -0.54712 C -0.00747 -0.59129 -0.0191 -0.6262 -0.02535 -0.66883 C -0.02413 -0.70899 -0.02517 -0.72382 -0.01892 -0.75348 C -0.01632 -0.78036 -0.01302 -0.79766 -0.00625 -0.81218 C -0.00261 -0.84986 -0.00504 -0.83504 1.11111E-006 -0.85944 C 0.00382 -0.89898 0.00642 -0.9342 0.00799 -0.9756 C 0.00746 -1.01792 0.00937 -1.06179 0.00642 -1.10288 C 0.00538 -1.11709 -0.00313 -1.13531 -0.00313 -1.13408 E">
                                      <p:cBhvr>
                                        <p:cTn id="895" dur="8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3.88889E-006 -6.4257E-007 C -0.00833 -0.01946 -0.00382 -0.00772 -0.01423 -0.04356 C -0.01579 -0.04881 -0.01892 -0.06024 -0.01892 -0.05993 C -0.02812 -0.14427 -0.00972 -0.23448 0.00643 -0.29225 C 0.00816 -0.30955 0.01094 -0.32376 0.01268 -0.34075 C 0.01389 -0.38863 0.01615 -0.43343 0.01268 -0.48162 C 0.01094 -0.50479 0.00209 -0.53846 -0.00312 -0.55731 C -0.00746 -0.6021 -0.01909 -0.63794 -0.02534 -0.68119 C -0.02413 -0.72196 -0.02517 -0.7371 -0.01892 -0.76738 C -0.01632 -0.79487 -0.01302 -0.81248 -0.00625 -0.82731 C -0.0026 -0.86562 -0.00503 -0.85048 -3.88889E-006 -0.8755 C 0.00382 -0.91566 0.00643 -0.9515 0.00799 -0.99382 C 0.00747 -1.03676 0.00938 -1.08125 0.00643 -1.12326 C 0.00539 -1.13778 -0.00312 -1.15632 -0.00312 -1.15508 E">
                                      <p:cBhvr>
                                        <p:cTn id="900" dur="8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2.5E-006 -6.4257E-007 C -0.00834 -0.01915 -0.00382 -0.00741 -0.01424 -0.04294 C -0.0158 -0.04819 -0.01893 -0.05962 -0.01893 -0.059 C -0.02813 -0.14242 -0.00972 -0.2317 0.00642 -0.28854 C 0.00816 -0.30584 0.01094 -0.31974 0.01267 -0.33673 C 0.01389 -0.384 0.01614 -0.42817 0.01267 -0.47575 C 0.01094 -0.49861 0.00208 -0.53197 -0.00313 -0.55051 C -0.00747 -0.59469 -0.0191 -0.6299 -0.02535 -0.67284 C -0.02413 -0.71301 -0.02518 -0.72814 -0.01893 -0.7578 C -0.01632 -0.78499 -0.01302 -0.80259 -0.00625 -0.81711 C -0.00261 -0.8548 -0.00504 -0.83997 2.5E-006 -0.86469 C 0.00382 -0.90423 0.00642 -0.94007 0.00798 -0.98146 C 0.00746 -1.0241 0.00937 -1.06796 0.00642 -1.10936 C 0.00538 -1.12388 -0.00313 -1.14211 -0.00313 -1.14087 E">
                                      <p:cBhvr>
                                        <p:cTn id="905" dur="8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1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path" presetID="0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3.61111E-006 -1.82268E-007 C -0.00834 -0.02008 -0.00382 -0.00772 -0.01424 -0.0451 C -0.0158 -0.05066 -0.01893 -0.06271 -0.01893 -0.06209 C -0.02813 -0.14952 -0.00973 -0.24313 0.00642 -0.30306 C 0.00816 -0.32128 0.01093 -0.33611 0.01267 -0.35372 C 0.01389 -0.40346 0.01614 -0.4498 0.01267 -0.49985 C 0.01093 -0.52363 0.00208 -0.55885 -0.00313 -0.57831 C -0.00747 -0.62465 -0.0191 -0.66172 -0.02535 -0.70683 C -0.02414 -0.74915 -0.02518 -0.76491 -0.01893 -0.79642 C -0.01632 -0.82484 -0.01302 -0.84306 -0.00625 -0.85851 C -0.00261 -0.89805 -0.00504 -0.8823 3.61111E-006 -0.90856 C 0.00382 -0.94995 0.00642 -0.98733 0.00798 -1.0312 C 0.00746 -1.076 0.00937 -1.12203 0.00642 -1.16559 C 0.00538 -1.18072 -0.00313 -1.19988 -0.00313 -1.19864 E">
                                      <p:cBhvr>
                                        <p:cTn id="910" dur="8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2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4"/>
          <p:cNvSpPr/>
          <p:nvPr/>
        </p:nvSpPr>
        <p:spPr>
          <a:xfrm>
            <a:off x="3575160" y="2224080"/>
            <a:ext cx="19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追求卓越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·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创造完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2513160" y="27957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期待你的加入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10"/>
          <p:cNvSpPr/>
          <p:nvPr/>
        </p:nvSpPr>
        <p:spPr>
          <a:xfrm>
            <a:off x="6554880" y="1090440"/>
            <a:ext cx="65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Calibri"/>
                <a:ea typeface="Arial Unicode MS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1389240" y="479520"/>
            <a:ext cx="65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Calibri"/>
                <a:ea typeface="Arial Unicode MS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236520" y="1486080"/>
            <a:ext cx="6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Calibri"/>
                <a:ea typeface="Arial Unicode MS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551480" y="311040"/>
            <a:ext cx="65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Calibri"/>
                <a:ea typeface="Arial Unicode MS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10"/>
          <p:cNvSpPr/>
          <p:nvPr/>
        </p:nvSpPr>
        <p:spPr>
          <a:xfrm>
            <a:off x="4275000" y="1206360"/>
            <a:ext cx="6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Calibri"/>
                <a:ea typeface="Arial Unicode MS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5607E-007 L 0.05469 0.00208 E">
                                      <p:cBhvr>
                                        <p:cTn id="927" dur="1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5607E-007 L 0.05469 0.00208 E">
                                      <p:cBhvr>
                                        <p:cTn id="943" dur="1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6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4500"/>
                            </p:stCondLst>
                            <p:childTnLst>
                              <p:par>
                                <p:cTn id="9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5607E-007 L 0.05469 0.00208 E">
                                      <p:cBhvr>
                                        <p:cTn id="959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500"/>
                            </p:stCondLst>
                            <p:childTnLst>
                              <p:par>
                                <p:cTn id="96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6500"/>
                            </p:stCondLst>
                            <p:childTnLst>
                              <p:par>
                                <p:cTn id="9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5607E-007 L 0.05469 0.00208 E">
                                      <p:cBhvr>
                                        <p:cTn id="975" dur="1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7500"/>
                            </p:stCondLst>
                            <p:childTnLst>
                              <p:par>
                                <p:cTn id="97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8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8000"/>
                            </p:stCondLst>
                            <p:childTnLst>
                              <p:par>
                                <p:cTn id="9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5607E-007 L 0.05469 0.00208 E">
                                      <p:cBhvr>
                                        <p:cTn id="991" dur="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9500"/>
                            </p:stCondLst>
                            <p:childTnLst>
                              <p:par>
                                <p:cTn id="99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4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8B2-2260-4F15-8E8A-5883193CAD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2484360" y="1162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毕业人数逐年升高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1165320" y="182232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本科毕业率逐年降低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0" y="843120"/>
            <a:ext cx="59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平均每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人就有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6.5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找不到工作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985680" y="254304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今年的毕业季，你准备好了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431640" y="27576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年毕业率创历史新低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接连接符 34"/>
          <p:cNvSpPr/>
          <p:nvPr/>
        </p:nvSpPr>
        <p:spPr>
          <a:xfrm flipV="1">
            <a:off x="6475320" y="1058760"/>
            <a:ext cx="617760" cy="465120"/>
          </a:xfrm>
          <a:prstGeom prst="line">
            <a:avLst/>
          </a:prstGeom>
          <a:ln w="3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35"/>
          <p:cNvSpPr/>
          <p:nvPr/>
        </p:nvSpPr>
        <p:spPr>
          <a:xfrm flipV="1">
            <a:off x="2019240" y="3811680"/>
            <a:ext cx="671400" cy="450720"/>
          </a:xfrm>
          <a:prstGeom prst="line">
            <a:avLst/>
          </a:prstGeom>
          <a:ln w="3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36"/>
          <p:cNvSpPr/>
          <p:nvPr/>
        </p:nvSpPr>
        <p:spPr>
          <a:xfrm>
            <a:off x="6305400" y="4075200"/>
            <a:ext cx="335160" cy="298440"/>
          </a:xfrm>
          <a:prstGeom prst="line">
            <a:avLst/>
          </a:prstGeom>
          <a:ln w="3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37"/>
          <p:cNvSpPr/>
          <p:nvPr/>
        </p:nvSpPr>
        <p:spPr>
          <a:xfrm>
            <a:off x="2085840" y="1317600"/>
            <a:ext cx="617760" cy="500040"/>
          </a:xfrm>
          <a:prstGeom prst="line">
            <a:avLst/>
          </a:prstGeom>
          <a:ln w="3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38"/>
          <p:cNvSpPr/>
          <p:nvPr/>
        </p:nvSpPr>
        <p:spPr>
          <a:xfrm>
            <a:off x="1476360" y="2787480"/>
            <a:ext cx="252360" cy="0"/>
          </a:xfrm>
          <a:prstGeom prst="line">
            <a:avLst/>
          </a:prstGeom>
          <a:ln w="3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39"/>
          <p:cNvSpPr/>
          <p:nvPr/>
        </p:nvSpPr>
        <p:spPr>
          <a:xfrm>
            <a:off x="6829560" y="2762280"/>
            <a:ext cx="252360" cy="0"/>
          </a:xfrm>
          <a:prstGeom prst="line">
            <a:avLst/>
          </a:prstGeom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40"/>
          <p:cNvSpPr/>
          <p:nvPr/>
        </p:nvSpPr>
        <p:spPr>
          <a:xfrm flipV="1">
            <a:off x="4280040" y="807840"/>
            <a:ext cx="0" cy="231480"/>
          </a:xfrm>
          <a:prstGeom prst="line">
            <a:avLst/>
          </a:prstGeom>
          <a:ln w="3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41"/>
          <p:cNvSpPr/>
          <p:nvPr/>
        </p:nvSpPr>
        <p:spPr>
          <a:xfrm flipH="1">
            <a:off x="4423680" y="816120"/>
            <a:ext cx="52200" cy="75960"/>
          </a:xfrm>
          <a:prstGeom prst="ellipse">
            <a:avLst/>
          </a:prstGeom>
          <a:solidFill>
            <a:srgbClr val="2626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 42"/>
          <p:cNvSpPr/>
          <p:nvPr/>
        </p:nvSpPr>
        <p:spPr>
          <a:xfrm>
            <a:off x="6673680" y="1611360"/>
            <a:ext cx="70200" cy="77760"/>
          </a:xfrm>
          <a:prstGeom prst="ellipse">
            <a:avLst/>
          </a:prstGeom>
          <a:solidFill>
            <a:srgbClr val="2626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43"/>
          <p:cNvSpPr/>
          <p:nvPr/>
        </p:nvSpPr>
        <p:spPr>
          <a:xfrm>
            <a:off x="6553080" y="3763800"/>
            <a:ext cx="68400" cy="76320"/>
          </a:xfrm>
          <a:prstGeom prst="ellipse">
            <a:avLst/>
          </a:prstGeom>
          <a:solidFill>
            <a:srgbClr val="2626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椭圆 44"/>
          <p:cNvSpPr/>
          <p:nvPr/>
        </p:nvSpPr>
        <p:spPr>
          <a:xfrm flipH="1">
            <a:off x="4713120" y="4476600"/>
            <a:ext cx="44640" cy="51120"/>
          </a:xfrm>
          <a:prstGeom prst="ellipse">
            <a:avLst/>
          </a:prstGeom>
          <a:solidFill>
            <a:srgbClr val="2626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2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2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2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2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2">
                                  <p:stCondLst>
                                    <p:cond delay="5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2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3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12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" presetSubtype="6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9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" presetSubtype="8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2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1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1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3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3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6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" presetSubtype="4" repeatCount="indefinite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 repeatCount="indefinite">
                                  <p:stCondLst>
                                    <p:cond delay="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123"/>
          <p:cNvGrpSpPr/>
          <p:nvPr/>
        </p:nvGrpSpPr>
        <p:grpSpPr>
          <a:xfrm>
            <a:off x="5454360" y="3265560"/>
            <a:ext cx="2203560" cy="565200"/>
            <a:chOff x="5454360" y="3265560"/>
            <a:chExt cx="2203560" cy="565200"/>
          </a:xfrm>
        </p:grpSpPr>
        <p:sp>
          <p:nvSpPr>
            <p:cNvPr id="62" name="Freeform 21"/>
            <p:cNvSpPr/>
            <p:nvPr/>
          </p:nvSpPr>
          <p:spPr>
            <a:xfrm rot="5400000">
              <a:off x="5248800" y="3470760"/>
              <a:ext cx="565200" cy="1544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 rot="5400000">
              <a:off x="5475600" y="3476520"/>
              <a:ext cx="565200" cy="14328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 rot="5400000">
              <a:off x="5703120" y="3470760"/>
              <a:ext cx="565200" cy="1544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 rot="5400000">
              <a:off x="5929920" y="3476520"/>
              <a:ext cx="565200" cy="14328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 rot="5400000">
              <a:off x="6157440" y="3470760"/>
              <a:ext cx="565200" cy="1544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 rot="5400000">
              <a:off x="6384240" y="3476520"/>
              <a:ext cx="565200" cy="14328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 rot="5400000">
              <a:off x="6611400" y="3470040"/>
              <a:ext cx="565200" cy="1562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 rot="5400000">
              <a:off x="6843600" y="3470760"/>
              <a:ext cx="565200" cy="15444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9"/>
            <p:cNvSpPr/>
            <p:nvPr/>
          </p:nvSpPr>
          <p:spPr>
            <a:xfrm rot="5400000">
              <a:off x="7070760" y="3475440"/>
              <a:ext cx="565200" cy="14508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0"/>
            <p:cNvSpPr/>
            <p:nvPr/>
          </p:nvSpPr>
          <p:spPr>
            <a:xfrm rot="5400000">
              <a:off x="7297920" y="3470760"/>
              <a:ext cx="565200" cy="15444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组合 99"/>
          <p:cNvGrpSpPr/>
          <p:nvPr/>
        </p:nvGrpSpPr>
        <p:grpSpPr>
          <a:xfrm>
            <a:off x="1666440" y="3265560"/>
            <a:ext cx="2203560" cy="565200"/>
            <a:chOff x="1666440" y="3265560"/>
            <a:chExt cx="2203560" cy="565200"/>
          </a:xfrm>
        </p:grpSpPr>
        <p:sp>
          <p:nvSpPr>
            <p:cNvPr id="73" name="Freeform 21"/>
            <p:cNvSpPr/>
            <p:nvPr/>
          </p:nvSpPr>
          <p:spPr>
            <a:xfrm rot="5400000">
              <a:off x="1460880" y="3470760"/>
              <a:ext cx="565200" cy="1544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 rot="5400000">
              <a:off x="1687680" y="3476520"/>
              <a:ext cx="565200" cy="14328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 rot="5400000">
              <a:off x="1915200" y="3470760"/>
              <a:ext cx="565200" cy="1544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 rot="5400000">
              <a:off x="2142000" y="3476520"/>
              <a:ext cx="565200" cy="14328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 rot="5400000">
              <a:off x="2369520" y="3470760"/>
              <a:ext cx="565200" cy="1544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 rot="5400000">
              <a:off x="2596320" y="3476520"/>
              <a:ext cx="565200" cy="14328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 rot="5400000">
              <a:off x="2823480" y="3470040"/>
              <a:ext cx="565200" cy="15624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8"/>
            <p:cNvSpPr/>
            <p:nvPr/>
          </p:nvSpPr>
          <p:spPr>
            <a:xfrm rot="5400000">
              <a:off x="3055680" y="3470760"/>
              <a:ext cx="565200" cy="15444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9"/>
            <p:cNvSpPr/>
            <p:nvPr/>
          </p:nvSpPr>
          <p:spPr>
            <a:xfrm rot="5400000">
              <a:off x="3282840" y="3475440"/>
              <a:ext cx="565200" cy="14508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0"/>
            <p:cNvSpPr/>
            <p:nvPr/>
          </p:nvSpPr>
          <p:spPr>
            <a:xfrm rot="5400000">
              <a:off x="3510000" y="3470760"/>
              <a:ext cx="565200" cy="15444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63"/>
            <p:cNvSpPr/>
            <p:nvPr/>
          </p:nvSpPr>
          <p:spPr>
            <a:xfrm rot="5400000">
              <a:off x="2818440" y="3469680"/>
              <a:ext cx="565200" cy="15696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Freeform 57"/>
          <p:cNvSpPr/>
          <p:nvPr/>
        </p:nvSpPr>
        <p:spPr>
          <a:xfrm rot="5400000">
            <a:off x="1461240" y="3471120"/>
            <a:ext cx="565200" cy="15408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58"/>
          <p:cNvSpPr/>
          <p:nvPr/>
        </p:nvSpPr>
        <p:spPr>
          <a:xfrm rot="5400000">
            <a:off x="1686960" y="3476520"/>
            <a:ext cx="565200" cy="14292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59"/>
          <p:cNvSpPr/>
          <p:nvPr/>
        </p:nvSpPr>
        <p:spPr>
          <a:xfrm rot="5400000">
            <a:off x="1915560" y="3470040"/>
            <a:ext cx="565200" cy="15588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60"/>
          <p:cNvSpPr/>
          <p:nvPr/>
        </p:nvSpPr>
        <p:spPr>
          <a:xfrm rot="5400000">
            <a:off x="2140920" y="3476520"/>
            <a:ext cx="565200" cy="14292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61"/>
          <p:cNvSpPr/>
          <p:nvPr/>
        </p:nvSpPr>
        <p:spPr>
          <a:xfrm rot="5400000">
            <a:off x="2370240" y="3470400"/>
            <a:ext cx="565200" cy="15552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62"/>
          <p:cNvSpPr/>
          <p:nvPr/>
        </p:nvSpPr>
        <p:spPr>
          <a:xfrm rot="5400000">
            <a:off x="2596320" y="3475800"/>
            <a:ext cx="565200" cy="14472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7"/>
          <p:cNvSpPr/>
          <p:nvPr/>
        </p:nvSpPr>
        <p:spPr>
          <a:xfrm rot="5400000">
            <a:off x="3686040" y="3362040"/>
            <a:ext cx="671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39720" y="40640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国营、外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7"/>
          <p:cNvSpPr/>
          <p:nvPr/>
        </p:nvSpPr>
        <p:spPr>
          <a:xfrm rot="5400000">
            <a:off x="5249160" y="3471120"/>
            <a:ext cx="565200" cy="15408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8"/>
          <p:cNvSpPr/>
          <p:nvPr/>
        </p:nvSpPr>
        <p:spPr>
          <a:xfrm rot="5400000">
            <a:off x="5474880" y="3476520"/>
            <a:ext cx="565200" cy="14292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59"/>
          <p:cNvSpPr/>
          <p:nvPr/>
        </p:nvSpPr>
        <p:spPr>
          <a:xfrm rot="5400000">
            <a:off x="5703840" y="3470400"/>
            <a:ext cx="565200" cy="15552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60"/>
          <p:cNvSpPr/>
          <p:nvPr/>
        </p:nvSpPr>
        <p:spPr>
          <a:xfrm rot="5400000">
            <a:off x="5928840" y="3476520"/>
            <a:ext cx="565200" cy="14292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61"/>
          <p:cNvSpPr/>
          <p:nvPr/>
        </p:nvSpPr>
        <p:spPr>
          <a:xfrm rot="5400000">
            <a:off x="6157800" y="3470400"/>
            <a:ext cx="565200" cy="15552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62"/>
          <p:cNvSpPr/>
          <p:nvPr/>
        </p:nvSpPr>
        <p:spPr>
          <a:xfrm rot="5400000">
            <a:off x="6383520" y="3475800"/>
            <a:ext cx="565200" cy="14436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3"/>
          <p:cNvSpPr/>
          <p:nvPr/>
        </p:nvSpPr>
        <p:spPr>
          <a:xfrm rot="5400000">
            <a:off x="6610680" y="3469320"/>
            <a:ext cx="565200" cy="157320"/>
          </a:xfrm>
          <a:prstGeom prst="pie">
            <a:avLst/>
          </a:prstGeom>
          <a:solidFill>
            <a:srgbClr val="58b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8"/>
          <p:cNvSpPr/>
          <p:nvPr/>
        </p:nvSpPr>
        <p:spPr>
          <a:xfrm rot="5400000">
            <a:off x="7473600" y="3362400"/>
            <a:ext cx="671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45"/>
          <p:cNvGrpSpPr/>
          <p:nvPr/>
        </p:nvGrpSpPr>
        <p:grpSpPr>
          <a:xfrm>
            <a:off x="2148120" y="2007360"/>
            <a:ext cx="1191240" cy="1191240"/>
            <a:chOff x="2148120" y="2007360"/>
            <a:chExt cx="1191240" cy="1191240"/>
          </a:xfrm>
        </p:grpSpPr>
        <p:sp>
          <p:nvSpPr>
            <p:cNvPr id="101" name="泪滴形 46"/>
            <p:cNvSpPr/>
            <p:nvPr/>
          </p:nvSpPr>
          <p:spPr>
            <a:xfrm rot="8254800">
              <a:off x="2322000" y="2181240"/>
              <a:ext cx="843120" cy="843120"/>
            </a:xfrm>
            <a:prstGeom prst="pie">
              <a:avLst/>
            </a:prstGeom>
            <a:solidFill>
              <a:srgbClr val="00b0f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73728"/>
            <p:cNvSpPr/>
            <p:nvPr/>
          </p:nvSpPr>
          <p:spPr>
            <a:xfrm>
              <a:off x="2252520" y="2469960"/>
              <a:ext cx="85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18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40</a:t>
              </a:r>
              <a:r>
                <a:rPr b="1" lang="zh-CN" sz="18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组合 48"/>
          <p:cNvGrpSpPr/>
          <p:nvPr/>
        </p:nvGrpSpPr>
        <p:grpSpPr>
          <a:xfrm>
            <a:off x="6162840" y="2007360"/>
            <a:ext cx="1191240" cy="1191240"/>
            <a:chOff x="6162840" y="2007360"/>
            <a:chExt cx="1191240" cy="1191240"/>
          </a:xfrm>
        </p:grpSpPr>
        <p:sp>
          <p:nvSpPr>
            <p:cNvPr id="104" name="泪滴形 49"/>
            <p:cNvSpPr/>
            <p:nvPr/>
          </p:nvSpPr>
          <p:spPr>
            <a:xfrm rot="8254800">
              <a:off x="6336720" y="2181240"/>
              <a:ext cx="843120" cy="843120"/>
            </a:xfrm>
            <a:prstGeom prst="pie">
              <a:avLst/>
            </a:prstGeom>
            <a:solidFill>
              <a:srgbClr val="00b0f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56"/>
            <p:cNvSpPr/>
            <p:nvPr/>
          </p:nvSpPr>
          <p:spPr>
            <a:xfrm>
              <a:off x="6283440" y="2437920"/>
              <a:ext cx="85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18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60</a:t>
              </a:r>
              <a:r>
                <a:rPr b="1" lang="zh-CN" sz="18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51"/>
          <p:cNvGrpSpPr/>
          <p:nvPr/>
        </p:nvGrpSpPr>
        <p:grpSpPr>
          <a:xfrm>
            <a:off x="125280" y="1409760"/>
            <a:ext cx="2349720" cy="368280"/>
            <a:chOff x="125280" y="1409760"/>
            <a:chExt cx="2349720" cy="368280"/>
          </a:xfrm>
        </p:grpSpPr>
        <p:sp>
          <p:nvSpPr>
            <p:cNvPr id="107" name="TextBox 73731"/>
            <p:cNvSpPr/>
            <p:nvPr/>
          </p:nvSpPr>
          <p:spPr>
            <a:xfrm>
              <a:off x="125280" y="1409760"/>
              <a:ext cx="234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    </a:t>
              </a:r>
              <a:r>
                <a:rPr b="1" lang="en-US" sz="1800" spc="-1" strike="noStrike">
                  <a:solidFill>
                    <a:srgbClr val="58bbb4"/>
                  </a:solidFill>
                  <a:latin typeface="微软雅黑"/>
                  <a:ea typeface="微软雅黑"/>
                </a:rPr>
                <a:t>AVERGE 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矩形 53"/>
            <p:cNvSpPr/>
            <p:nvPr/>
          </p:nvSpPr>
          <p:spPr>
            <a:xfrm>
              <a:off x="269640" y="1461960"/>
              <a:ext cx="71280" cy="214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TextBox 66" descr=""/>
          <p:cNvPicPr/>
          <p:nvPr/>
        </p:nvPicPr>
        <p:blipFill>
          <a:blip r:embed="rId1"/>
          <a:stretch/>
        </p:blipFill>
        <p:spPr>
          <a:xfrm>
            <a:off x="195120" y="2889360"/>
            <a:ext cx="335160" cy="95076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98"/>
          <p:cNvGrpSpPr/>
          <p:nvPr/>
        </p:nvGrpSpPr>
        <p:grpSpPr>
          <a:xfrm>
            <a:off x="1092600" y="2852280"/>
            <a:ext cx="411120" cy="981000"/>
            <a:chOff x="1092600" y="2852280"/>
            <a:chExt cx="411120" cy="981000"/>
          </a:xfrm>
        </p:grpSpPr>
        <p:sp>
          <p:nvSpPr>
            <p:cNvPr id="111" name="流程图: 手动操作 95"/>
            <p:cNvSpPr/>
            <p:nvPr/>
          </p:nvSpPr>
          <p:spPr>
            <a:xfrm rot="10600800">
              <a:off x="1299600" y="3403440"/>
              <a:ext cx="106200" cy="426960"/>
            </a:xfrm>
            <a:prstGeom prst="flowChartManualOperation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流程图: 手动操作 96"/>
            <p:cNvSpPr/>
            <p:nvPr/>
          </p:nvSpPr>
          <p:spPr>
            <a:xfrm rot="11050800">
              <a:off x="1199520" y="3401640"/>
              <a:ext cx="106200" cy="426960"/>
            </a:xfrm>
            <a:prstGeom prst="flowChartManualOperation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3" name="组合 94"/>
            <p:cNvGrpSpPr/>
            <p:nvPr/>
          </p:nvGrpSpPr>
          <p:grpSpPr>
            <a:xfrm>
              <a:off x="1092600" y="2852280"/>
              <a:ext cx="411120" cy="603720"/>
              <a:chOff x="1092600" y="2852280"/>
              <a:chExt cx="411120" cy="603720"/>
            </a:xfrm>
          </p:grpSpPr>
          <p:grpSp>
            <p:nvGrpSpPr>
              <p:cNvPr id="114" name="组合 67"/>
              <p:cNvGrpSpPr/>
              <p:nvPr/>
            </p:nvGrpSpPr>
            <p:grpSpPr>
              <a:xfrm>
                <a:off x="1092600" y="2852280"/>
                <a:ext cx="394560" cy="348480"/>
                <a:chOff x="1092600" y="2852280"/>
                <a:chExt cx="394560" cy="348480"/>
              </a:xfrm>
            </p:grpSpPr>
            <p:grpSp>
              <p:nvGrpSpPr>
                <p:cNvPr id="115" name="组合 68"/>
                <p:cNvGrpSpPr/>
                <p:nvPr/>
              </p:nvGrpSpPr>
              <p:grpSpPr>
                <a:xfrm>
                  <a:off x="1092600" y="2852280"/>
                  <a:ext cx="394560" cy="348480"/>
                  <a:chOff x="1092600" y="2852280"/>
                  <a:chExt cx="394560" cy="348480"/>
                </a:xfrm>
              </p:grpSpPr>
              <p:sp>
                <p:nvSpPr>
                  <p:cNvPr id="116" name="椭圆 71"/>
                  <p:cNvSpPr/>
                  <p:nvPr/>
                </p:nvSpPr>
                <p:spPr>
                  <a:xfrm rot="20875800">
                    <a:off x="1148040" y="2902680"/>
                    <a:ext cx="294840" cy="270360"/>
                  </a:xfrm>
                  <a:prstGeom prst="ellipse">
                    <a:avLst/>
                  </a:prstGeom>
                  <a:solidFill>
                    <a:srgbClr val="fde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" name="任意多边形 72"/>
                  <p:cNvSpPr/>
                  <p:nvPr/>
                </p:nvSpPr>
                <p:spPr>
                  <a:xfrm rot="20875800">
                    <a:off x="1143000" y="2913840"/>
                    <a:ext cx="169920" cy="160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新月形 73"/>
                  <p:cNvSpPr/>
                  <p:nvPr/>
                </p:nvSpPr>
                <p:spPr>
                  <a:xfrm rot="1902000">
                    <a:off x="1146240" y="2871360"/>
                    <a:ext cx="8820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1938"/>
                          <a:pt x="10800" y="5080"/>
                          <a:pt x="10800" y="10800"/>
                        </a:cubicBezTo>
                        <a:cubicBezTo>
                          <a:pt x="10800" y="16520"/>
                          <a:pt x="16200" y="19662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弦形 74"/>
                  <p:cNvSpPr/>
                  <p:nvPr/>
                </p:nvSpPr>
                <p:spPr>
                  <a:xfrm rot="7773600">
                    <a:off x="1257120" y="2877120"/>
                    <a:ext cx="173160" cy="228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20" name="新月形 69"/>
                <p:cNvSpPr/>
                <p:nvPr/>
              </p:nvSpPr>
              <p:spPr>
                <a:xfrm rot="2953800">
                  <a:off x="1272600" y="2857320"/>
                  <a:ext cx="39600" cy="7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新月形 70"/>
                <p:cNvSpPr/>
                <p:nvPr/>
              </p:nvSpPr>
              <p:spPr>
                <a:xfrm rot="5820000">
                  <a:off x="1236600" y="2868120"/>
                  <a:ext cx="25200" cy="5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2" name="圆角矩形 75"/>
              <p:cNvSpPr/>
              <p:nvPr/>
            </p:nvSpPr>
            <p:spPr>
              <a:xfrm>
                <a:off x="1193760" y="3178080"/>
                <a:ext cx="206280" cy="277920"/>
              </a:xfrm>
              <a:custGeom>
                <a:avLst/>
                <a:gdLst>
                  <a:gd name="textAreaLeft" fmla="*/ 10080 w 206280"/>
                  <a:gd name="textAreaRight" fmla="*/ 196200 w 206280"/>
                  <a:gd name="textAreaTop" fmla="*/ 10080 h 277920"/>
                  <a:gd name="textAreaBottom" fmla="*/ 267840 h 277920"/>
                </a:gdLst>
                <a:ahLst/>
                <a:rect l="textAreaLeft" t="textAreaTop" r="textAreaRight" b="textAreaBottom"/>
                <a:pathLst>
                  <a:path w="21600" h="29089">
                    <a:moveTo>
                      <a:pt x="3600" y="0"/>
                    </a:moveTo>
                    <a:arcTo wR="3600" hR="3600" stAng="16200000" swAng="-5400000"/>
                    <a:lnTo>
                      <a:pt x="0" y="25489"/>
                    </a:lnTo>
                    <a:arcTo wR="3600" hR="3600" stAng="10800000" swAng="-5400000"/>
                    <a:lnTo>
                      <a:pt x="18000" y="2908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3" name="组合 7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55680" y="3182040"/>
                <a:ext cx="79200" cy="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梯形 79"/>
              <p:cNvSpPr/>
              <p:nvPr/>
            </p:nvSpPr>
            <p:spPr>
              <a:xfrm>
                <a:off x="1284480" y="3240000"/>
                <a:ext cx="2520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任意多边形 80"/>
              <p:cNvSpPr/>
              <p:nvPr/>
            </p:nvSpPr>
            <p:spPr>
              <a:xfrm>
                <a:off x="1227240" y="3178080"/>
                <a:ext cx="146160" cy="37800"/>
              </a:xfrm>
              <a:prstGeom prst="pie">
                <a:avLst/>
              </a:prstGeom>
              <a:solidFill>
                <a:srgbClr val="fde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直角三角形 81"/>
              <p:cNvSpPr/>
              <p:nvPr/>
            </p:nvSpPr>
            <p:spPr>
              <a:xfrm rot="18819000">
                <a:off x="1312200" y="3189960"/>
                <a:ext cx="66600" cy="14040"/>
              </a:xfrm>
              <a:prstGeom prst="rtTriangl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角三角形 82"/>
              <p:cNvSpPr/>
              <p:nvPr/>
            </p:nvSpPr>
            <p:spPr>
              <a:xfrm rot="12985800">
                <a:off x="1214280" y="3193560"/>
                <a:ext cx="61920" cy="14040"/>
              </a:xfrm>
              <a:prstGeom prst="rtTriangl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椭圆 83"/>
              <p:cNvSpPr/>
              <p:nvPr/>
            </p:nvSpPr>
            <p:spPr>
              <a:xfrm rot="962400">
                <a:off x="1137960" y="3176280"/>
                <a:ext cx="68040" cy="249120"/>
              </a:xfrm>
              <a:prstGeom prst="ellipse">
                <a:avLst/>
              </a:prstGeom>
              <a:solidFill>
                <a:srgbClr val="fdeada"/>
              </a:solidFill>
              <a:ln w="3240">
                <a:solidFill>
                  <a:srgbClr val="d9d9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椭圆 84"/>
              <p:cNvSpPr/>
              <p:nvPr/>
            </p:nvSpPr>
            <p:spPr>
              <a:xfrm rot="20367000">
                <a:off x="1396800" y="3176640"/>
                <a:ext cx="66600" cy="241200"/>
              </a:xfrm>
              <a:prstGeom prst="ellipse">
                <a:avLst/>
              </a:prstGeom>
              <a:solidFill>
                <a:srgbClr val="fdeada"/>
              </a:solidFill>
              <a:ln w="3240">
                <a:solidFill>
                  <a:srgbClr val="d9d9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30" name="TextBox 100" descr=""/>
          <p:cNvPicPr/>
          <p:nvPr/>
        </p:nvPicPr>
        <p:blipFill>
          <a:blip r:embed="rId3"/>
          <a:stretch/>
        </p:blipFill>
        <p:spPr>
          <a:xfrm>
            <a:off x="4035600" y="2895480"/>
            <a:ext cx="341280" cy="95112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合 101"/>
          <p:cNvGrpSpPr/>
          <p:nvPr/>
        </p:nvGrpSpPr>
        <p:grpSpPr>
          <a:xfrm>
            <a:off x="4935600" y="2858040"/>
            <a:ext cx="410040" cy="981360"/>
            <a:chOff x="4935600" y="2858040"/>
            <a:chExt cx="410040" cy="981360"/>
          </a:xfrm>
        </p:grpSpPr>
        <p:sp>
          <p:nvSpPr>
            <p:cNvPr id="132" name="流程图: 手动操作 102"/>
            <p:cNvSpPr/>
            <p:nvPr/>
          </p:nvSpPr>
          <p:spPr>
            <a:xfrm rot="10600800">
              <a:off x="5141160" y="3409560"/>
              <a:ext cx="106200" cy="426960"/>
            </a:xfrm>
            <a:prstGeom prst="flowChartManualOperation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流程图: 手动操作 103"/>
            <p:cNvSpPr/>
            <p:nvPr/>
          </p:nvSpPr>
          <p:spPr>
            <a:xfrm rot="11050800">
              <a:off x="5042880" y="3408120"/>
              <a:ext cx="106200" cy="426960"/>
            </a:xfrm>
            <a:prstGeom prst="flowChartManualOperation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组合 104"/>
            <p:cNvGrpSpPr/>
            <p:nvPr/>
          </p:nvGrpSpPr>
          <p:grpSpPr>
            <a:xfrm>
              <a:off x="4935600" y="2858040"/>
              <a:ext cx="410040" cy="604440"/>
              <a:chOff x="4935600" y="2858040"/>
              <a:chExt cx="410040" cy="604440"/>
            </a:xfrm>
          </p:grpSpPr>
          <p:grpSp>
            <p:nvGrpSpPr>
              <p:cNvPr id="135" name="组合 105"/>
              <p:cNvGrpSpPr/>
              <p:nvPr/>
            </p:nvGrpSpPr>
            <p:grpSpPr>
              <a:xfrm>
                <a:off x="4935600" y="2858040"/>
                <a:ext cx="394200" cy="349200"/>
                <a:chOff x="4935600" y="2858040"/>
                <a:chExt cx="394200" cy="349200"/>
              </a:xfrm>
            </p:grpSpPr>
            <p:grpSp>
              <p:nvGrpSpPr>
                <p:cNvPr id="136" name="组合 116"/>
                <p:cNvGrpSpPr/>
                <p:nvPr/>
              </p:nvGrpSpPr>
              <p:grpSpPr>
                <a:xfrm>
                  <a:off x="4935600" y="2858040"/>
                  <a:ext cx="394200" cy="349200"/>
                  <a:chOff x="4935600" y="2858040"/>
                  <a:chExt cx="394200" cy="349200"/>
                </a:xfrm>
              </p:grpSpPr>
              <p:sp>
                <p:nvSpPr>
                  <p:cNvPr id="137" name="椭圆 119"/>
                  <p:cNvSpPr/>
                  <p:nvPr/>
                </p:nvSpPr>
                <p:spPr>
                  <a:xfrm rot="20875800">
                    <a:off x="4991400" y="2909520"/>
                    <a:ext cx="293400" cy="270000"/>
                  </a:xfrm>
                  <a:prstGeom prst="ellipse">
                    <a:avLst/>
                  </a:prstGeom>
                  <a:solidFill>
                    <a:srgbClr val="fde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8" name="任意多边形 120"/>
                  <p:cNvSpPr/>
                  <p:nvPr/>
                </p:nvSpPr>
                <p:spPr>
                  <a:xfrm rot="20875800">
                    <a:off x="4986360" y="2920320"/>
                    <a:ext cx="169560" cy="160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9" name="新月形 121"/>
                  <p:cNvSpPr/>
                  <p:nvPr/>
                </p:nvSpPr>
                <p:spPr>
                  <a:xfrm rot="1902000">
                    <a:off x="4989240" y="2877480"/>
                    <a:ext cx="8712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1938"/>
                          <a:pt x="10800" y="5080"/>
                          <a:pt x="10800" y="10800"/>
                        </a:cubicBezTo>
                        <a:cubicBezTo>
                          <a:pt x="10800" y="16520"/>
                          <a:pt x="16200" y="19662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" name="弦形 122"/>
                  <p:cNvSpPr/>
                  <p:nvPr/>
                </p:nvSpPr>
                <p:spPr>
                  <a:xfrm rot="7773600">
                    <a:off x="5099760" y="2882880"/>
                    <a:ext cx="172800" cy="228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41" name="新月形 117"/>
                <p:cNvSpPr/>
                <p:nvPr/>
              </p:nvSpPr>
              <p:spPr>
                <a:xfrm rot="2953800">
                  <a:off x="5115960" y="2863800"/>
                  <a:ext cx="39600" cy="7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新月形 118"/>
                <p:cNvSpPr/>
                <p:nvPr/>
              </p:nvSpPr>
              <p:spPr>
                <a:xfrm rot="5820000">
                  <a:off x="5079960" y="2874600"/>
                  <a:ext cx="25200" cy="5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3" name="圆角矩形 106"/>
              <p:cNvSpPr/>
              <p:nvPr/>
            </p:nvSpPr>
            <p:spPr>
              <a:xfrm>
                <a:off x="5037120" y="3184560"/>
                <a:ext cx="204840" cy="277920"/>
              </a:xfrm>
              <a:custGeom>
                <a:avLst/>
                <a:gdLst>
                  <a:gd name="textAreaLeft" fmla="*/ 9720 w 204840"/>
                  <a:gd name="textAreaRight" fmla="*/ 195120 w 204840"/>
                  <a:gd name="textAreaTop" fmla="*/ 9720 h 277920"/>
                  <a:gd name="textAreaBottom" fmla="*/ 268200 h 277920"/>
                </a:gdLst>
                <a:ahLst/>
                <a:rect l="textAreaLeft" t="textAreaTop" r="textAreaRight" b="textAreaBottom"/>
                <a:pathLst>
                  <a:path w="21600" h="29293">
                    <a:moveTo>
                      <a:pt x="3600" y="0"/>
                    </a:moveTo>
                    <a:arcTo wR="3600" hR="3600" stAng="16200000" swAng="-5400000"/>
                    <a:lnTo>
                      <a:pt x="0" y="25693"/>
                    </a:lnTo>
                    <a:arcTo wR="3600" hR="3600" stAng="10800000" swAng="-5400000"/>
                    <a:lnTo>
                      <a:pt x="18000" y="2929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4" name="组合 10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02280" y="3194640"/>
                <a:ext cx="73080" cy="7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梯形 108"/>
              <p:cNvSpPr/>
              <p:nvPr/>
            </p:nvSpPr>
            <p:spPr>
              <a:xfrm>
                <a:off x="5127480" y="3246480"/>
                <a:ext cx="237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任意多边形 109"/>
              <p:cNvSpPr/>
              <p:nvPr/>
            </p:nvSpPr>
            <p:spPr>
              <a:xfrm>
                <a:off x="5070600" y="3184560"/>
                <a:ext cx="144360" cy="37800"/>
              </a:xfrm>
              <a:prstGeom prst="pie">
                <a:avLst/>
              </a:prstGeom>
              <a:solidFill>
                <a:srgbClr val="fde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直角三角形 110"/>
              <p:cNvSpPr/>
              <p:nvPr/>
            </p:nvSpPr>
            <p:spPr>
              <a:xfrm rot="18819000">
                <a:off x="5154840" y="3195360"/>
                <a:ext cx="66600" cy="15840"/>
              </a:xfrm>
              <a:prstGeom prst="rtTriangl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直角三角形 111"/>
              <p:cNvSpPr/>
              <p:nvPr/>
            </p:nvSpPr>
            <p:spPr>
              <a:xfrm rot="12985800">
                <a:off x="5057640" y="3200040"/>
                <a:ext cx="61920" cy="14040"/>
              </a:xfrm>
              <a:prstGeom prst="rtTriangl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椭圆 112"/>
              <p:cNvSpPr/>
              <p:nvPr/>
            </p:nvSpPr>
            <p:spPr>
              <a:xfrm rot="962400">
                <a:off x="4981320" y="3182760"/>
                <a:ext cx="68040" cy="249120"/>
              </a:xfrm>
              <a:prstGeom prst="ellipse">
                <a:avLst/>
              </a:prstGeom>
              <a:solidFill>
                <a:srgbClr val="fdeada"/>
              </a:solidFill>
              <a:ln w="3240">
                <a:solidFill>
                  <a:srgbClr val="d9d9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椭圆 113"/>
              <p:cNvSpPr/>
              <p:nvPr/>
            </p:nvSpPr>
            <p:spPr>
              <a:xfrm rot="20367000">
                <a:off x="5240160" y="3183120"/>
                <a:ext cx="64800" cy="241200"/>
              </a:xfrm>
              <a:prstGeom prst="ellipse">
                <a:avLst/>
              </a:prstGeom>
              <a:solidFill>
                <a:srgbClr val="fdeada"/>
              </a:solidFill>
              <a:ln w="3240">
                <a:solidFill>
                  <a:srgbClr val="d9d9d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1" name="TextBox 7"/>
          <p:cNvSpPr/>
          <p:nvPr/>
        </p:nvSpPr>
        <p:spPr>
          <a:xfrm>
            <a:off x="4881600" y="40640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民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25"/>
          <p:cNvSpPr/>
          <p:nvPr/>
        </p:nvSpPr>
        <p:spPr>
          <a:xfrm>
            <a:off x="5176800" y="13032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为什么选择民企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8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2.83951E-006 L 0.09409 -2.83951E-006 E">
                                      <p:cBhvr>
                                        <p:cTn id="180" dur="3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100"/>
                            </p:stCondLst>
                            <p:childTnLst>
                              <p:par>
                                <p:cTn id="1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6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1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10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202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303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04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5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606"/>
                            </p:stCondLst>
                            <p:childTnLst>
                              <p:par>
                                <p:cTn id="2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106"/>
                            </p:stCondLst>
                            <p:childTnLst>
                              <p:par>
                                <p:cTn id="218" nodeType="afterEffect" fill="hold" presetClass="entr" presetID="1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2.83951E-006 L 0.09409 -2.83951E-006 E">
                                      <p:cBhvr>
                                        <p:cTn id="221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106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206"/>
                            </p:stCondLst>
                            <p:childTnLst>
                              <p:par>
                                <p:cTn id="2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706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206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307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408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509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61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711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812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913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22"/>
          <p:cNvGrpSpPr/>
          <p:nvPr/>
        </p:nvGrpSpPr>
        <p:grpSpPr>
          <a:xfrm>
            <a:off x="1619280" y="1878120"/>
            <a:ext cx="2007360" cy="1912680"/>
            <a:chOff x="1619280" y="1878120"/>
            <a:chExt cx="2007360" cy="1912680"/>
          </a:xfrm>
        </p:grpSpPr>
        <p:sp>
          <p:nvSpPr>
            <p:cNvPr id="154" name="泪滴形 2"/>
            <p:cNvSpPr/>
            <p:nvPr/>
          </p:nvSpPr>
          <p:spPr>
            <a:xfrm>
              <a:off x="1619280" y="2146320"/>
              <a:ext cx="1646280" cy="16444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1"/>
            <p:cNvSpPr/>
            <p:nvPr/>
          </p:nvSpPr>
          <p:spPr>
            <a:xfrm>
              <a:off x="2003040" y="265644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eeece1"/>
                  </a:solidFill>
                  <a:uFillTx/>
                  <a:latin typeface="微软雅黑"/>
                  <a:ea typeface="微软雅黑"/>
                </a:rPr>
                <a:t>正积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斜纹 4"/>
            <p:cNvSpPr/>
            <p:nvPr/>
          </p:nvSpPr>
          <p:spPr>
            <a:xfrm rot="3765000">
              <a:off x="2590560" y="2441520"/>
              <a:ext cx="134460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斜纹 5"/>
            <p:cNvSpPr/>
            <p:nvPr/>
          </p:nvSpPr>
          <p:spPr>
            <a:xfrm rot="3765000">
              <a:off x="2318400" y="2699280"/>
              <a:ext cx="1622520" cy="15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6"/>
          <p:cNvGrpSpPr/>
          <p:nvPr/>
        </p:nvGrpSpPr>
        <p:grpSpPr>
          <a:xfrm>
            <a:off x="3529080" y="1882800"/>
            <a:ext cx="2007360" cy="1913040"/>
            <a:chOff x="3529080" y="1882800"/>
            <a:chExt cx="2007360" cy="1913040"/>
          </a:xfrm>
        </p:grpSpPr>
        <p:sp>
          <p:nvSpPr>
            <p:cNvPr id="159" name="TextBox 16"/>
            <p:cNvSpPr/>
            <p:nvPr/>
          </p:nvSpPr>
          <p:spPr>
            <a:xfrm>
              <a:off x="3936960" y="265608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eeece1"/>
                  </a:solidFill>
                  <a:uFillTx/>
                  <a:latin typeface="微软雅黑"/>
                  <a:ea typeface="微软雅黑"/>
                </a:rPr>
                <a:t>零影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组合 30"/>
            <p:cNvGrpSpPr/>
            <p:nvPr/>
          </p:nvGrpSpPr>
          <p:grpSpPr>
            <a:xfrm>
              <a:off x="3529080" y="1882800"/>
              <a:ext cx="2007360" cy="1913040"/>
              <a:chOff x="3529080" y="1882800"/>
              <a:chExt cx="2007360" cy="1913040"/>
            </a:xfrm>
          </p:grpSpPr>
          <p:sp>
            <p:nvSpPr>
              <p:cNvPr id="161" name="泪滴形 9"/>
              <p:cNvSpPr/>
              <p:nvPr/>
            </p:nvSpPr>
            <p:spPr>
              <a:xfrm>
                <a:off x="3529080" y="2151000"/>
                <a:ext cx="1646280" cy="164484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Box 32"/>
              <p:cNvSpPr/>
              <p:nvPr/>
            </p:nvSpPr>
            <p:spPr>
              <a:xfrm>
                <a:off x="3912840" y="2661480"/>
                <a:ext cx="93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 u="sng">
                    <a:solidFill>
                      <a:srgbClr val="eeece1"/>
                    </a:solidFill>
                    <a:uFillTx/>
                    <a:latin typeface="微软雅黑"/>
                    <a:ea typeface="微软雅黑"/>
                  </a:rPr>
                  <a:t>零积累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斜纹 11"/>
              <p:cNvSpPr/>
              <p:nvPr/>
            </p:nvSpPr>
            <p:spPr>
              <a:xfrm rot="3765000">
                <a:off x="4500360" y="2446200"/>
                <a:ext cx="1344600" cy="12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斜纹 12"/>
              <p:cNvSpPr/>
              <p:nvPr/>
            </p:nvSpPr>
            <p:spPr>
              <a:xfrm rot="3765000">
                <a:off x="4228200" y="2703960"/>
                <a:ext cx="1622520" cy="15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5" name="组合 28"/>
          <p:cNvGrpSpPr/>
          <p:nvPr/>
        </p:nvGrpSpPr>
        <p:grpSpPr>
          <a:xfrm>
            <a:off x="5472000" y="1870200"/>
            <a:ext cx="2005920" cy="1912680"/>
            <a:chOff x="5472000" y="1870200"/>
            <a:chExt cx="2005920" cy="1912680"/>
          </a:xfrm>
        </p:grpSpPr>
        <p:sp>
          <p:nvSpPr>
            <p:cNvPr id="166" name="TextBox 17"/>
            <p:cNvSpPr/>
            <p:nvPr/>
          </p:nvSpPr>
          <p:spPr>
            <a:xfrm>
              <a:off x="5871240" y="2655720"/>
              <a:ext cx="9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eeece1"/>
                  </a:solidFill>
                  <a:uFillTx/>
                  <a:latin typeface="微软雅黑"/>
                  <a:ea typeface="微软雅黑"/>
                </a:rPr>
                <a:t>负影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组合 36"/>
            <p:cNvGrpSpPr/>
            <p:nvPr/>
          </p:nvGrpSpPr>
          <p:grpSpPr>
            <a:xfrm>
              <a:off x="5472000" y="1870200"/>
              <a:ext cx="2005920" cy="1912680"/>
              <a:chOff x="5472000" y="1870200"/>
              <a:chExt cx="2005920" cy="1912680"/>
            </a:xfrm>
          </p:grpSpPr>
          <p:sp>
            <p:nvSpPr>
              <p:cNvPr id="168" name="泪滴形 16"/>
              <p:cNvSpPr/>
              <p:nvPr/>
            </p:nvSpPr>
            <p:spPr>
              <a:xfrm>
                <a:off x="5472000" y="2138400"/>
                <a:ext cx="1644840" cy="164448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Box 38"/>
              <p:cNvSpPr/>
              <p:nvPr/>
            </p:nvSpPr>
            <p:spPr>
              <a:xfrm>
                <a:off x="5855400" y="2648520"/>
                <a:ext cx="93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 u="sng">
                    <a:solidFill>
                      <a:srgbClr val="eeece1"/>
                    </a:solidFill>
                    <a:uFillTx/>
                    <a:latin typeface="微软雅黑"/>
                    <a:ea typeface="微软雅黑"/>
                  </a:rPr>
                  <a:t>负积累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斜纹 18"/>
              <p:cNvSpPr/>
              <p:nvPr/>
            </p:nvSpPr>
            <p:spPr>
              <a:xfrm rot="3765000">
                <a:off x="6441840" y="2433600"/>
                <a:ext cx="1344600" cy="12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斜纹 19"/>
              <p:cNvSpPr/>
              <p:nvPr/>
            </p:nvSpPr>
            <p:spPr>
              <a:xfrm rot="3765000">
                <a:off x="6170400" y="2692080"/>
                <a:ext cx="1622520" cy="155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2" name="矩形 20"/>
          <p:cNvSpPr/>
          <p:nvPr/>
        </p:nvSpPr>
        <p:spPr>
          <a:xfrm>
            <a:off x="2861640" y="11509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择业情况不同的三种影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2"/>
          <p:cNvSpPr/>
          <p:nvPr/>
        </p:nvSpPr>
        <p:spPr>
          <a:xfrm>
            <a:off x="6256440" y="1550880"/>
            <a:ext cx="25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我们是谁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165"/>
          <p:cNvGrpSpPr/>
          <p:nvPr/>
        </p:nvGrpSpPr>
        <p:grpSpPr>
          <a:xfrm>
            <a:off x="3059280" y="563400"/>
            <a:ext cx="5497200" cy="4456440"/>
            <a:chOff x="3059280" y="563400"/>
            <a:chExt cx="5497200" cy="4456440"/>
          </a:xfrm>
        </p:grpSpPr>
        <p:sp>
          <p:nvSpPr>
            <p:cNvPr id="175" name="Freeform 6"/>
            <p:cNvSpPr/>
            <p:nvPr/>
          </p:nvSpPr>
          <p:spPr>
            <a:xfrm>
              <a:off x="3059280" y="563400"/>
              <a:ext cx="5497200" cy="42134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6445440" y="4779360"/>
              <a:ext cx="307080" cy="2404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7740720" y="4044960"/>
              <a:ext cx="229320" cy="4737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218"/>
          <p:cNvGrpSpPr/>
          <p:nvPr/>
        </p:nvGrpSpPr>
        <p:grpSpPr>
          <a:xfrm>
            <a:off x="2313000" y="1650240"/>
            <a:ext cx="3003480" cy="960120"/>
            <a:chOff x="2313000" y="1650240"/>
            <a:chExt cx="3003480" cy="960120"/>
          </a:xfrm>
        </p:grpSpPr>
        <p:grpSp>
          <p:nvGrpSpPr>
            <p:cNvPr id="179" name="组合 219"/>
            <p:cNvGrpSpPr/>
            <p:nvPr/>
          </p:nvGrpSpPr>
          <p:grpSpPr>
            <a:xfrm>
              <a:off x="2313000" y="1650240"/>
              <a:ext cx="960120" cy="960120"/>
              <a:chOff x="2313000" y="1650240"/>
              <a:chExt cx="960120" cy="960120"/>
            </a:xfrm>
          </p:grpSpPr>
          <p:sp>
            <p:nvSpPr>
              <p:cNvPr id="180" name="泪滴形 222"/>
              <p:cNvSpPr/>
              <p:nvPr/>
            </p:nvSpPr>
            <p:spPr>
              <a:xfrm rot="8158800">
                <a:off x="2453760" y="1790280"/>
                <a:ext cx="678600" cy="67932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椭圆 223"/>
              <p:cNvSpPr/>
              <p:nvPr/>
            </p:nvSpPr>
            <p:spPr>
              <a:xfrm>
                <a:off x="2569680" y="1893600"/>
                <a:ext cx="447120" cy="4474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2" name="矩形 220"/>
            <p:cNvSpPr/>
            <p:nvPr/>
          </p:nvSpPr>
          <p:spPr>
            <a:xfrm>
              <a:off x="3217680" y="1981080"/>
              <a:ext cx="2098800" cy="598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Box 221"/>
            <p:cNvSpPr/>
            <p:nvPr/>
          </p:nvSpPr>
          <p:spPr>
            <a:xfrm>
              <a:off x="3205080" y="1978200"/>
              <a:ext cx="209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告诉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4" name="组合 1" descr=""/>
          <p:cNvPicPr/>
          <p:nvPr/>
        </p:nvPicPr>
        <p:blipFill>
          <a:blip r:embed="rId1"/>
          <a:stretch/>
        </p:blipFill>
        <p:spPr>
          <a:xfrm>
            <a:off x="1000080" y="1109520"/>
            <a:ext cx="6815160" cy="359568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175"/>
          <p:cNvGrpSpPr/>
          <p:nvPr/>
        </p:nvGrpSpPr>
        <p:grpSpPr>
          <a:xfrm>
            <a:off x="2286000" y="1610640"/>
            <a:ext cx="3003480" cy="960120"/>
            <a:chOff x="2286000" y="1610640"/>
            <a:chExt cx="3003480" cy="960120"/>
          </a:xfrm>
        </p:grpSpPr>
        <p:grpSp>
          <p:nvGrpSpPr>
            <p:cNvPr id="186" name="组合 176"/>
            <p:cNvGrpSpPr/>
            <p:nvPr/>
          </p:nvGrpSpPr>
          <p:grpSpPr>
            <a:xfrm>
              <a:off x="2286000" y="1610640"/>
              <a:ext cx="960120" cy="960120"/>
              <a:chOff x="2286000" y="1610640"/>
              <a:chExt cx="960120" cy="960120"/>
            </a:xfrm>
          </p:grpSpPr>
          <p:sp>
            <p:nvSpPr>
              <p:cNvPr id="187" name="泪滴形 179"/>
              <p:cNvSpPr/>
              <p:nvPr/>
            </p:nvSpPr>
            <p:spPr>
              <a:xfrm rot="8158800">
                <a:off x="2426760" y="1750680"/>
                <a:ext cx="678600" cy="67932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80"/>
              <p:cNvSpPr/>
              <p:nvPr/>
            </p:nvSpPr>
            <p:spPr>
              <a:xfrm>
                <a:off x="2542680" y="1854000"/>
                <a:ext cx="447120" cy="447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矩形 177"/>
            <p:cNvSpPr/>
            <p:nvPr/>
          </p:nvSpPr>
          <p:spPr>
            <a:xfrm>
              <a:off x="3190680" y="1941480"/>
              <a:ext cx="2098800" cy="598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178"/>
            <p:cNvSpPr/>
            <p:nvPr/>
          </p:nvSpPr>
          <p:spPr>
            <a:xfrm>
              <a:off x="3178080" y="1938600"/>
              <a:ext cx="209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就是不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94"/>
          <p:cNvGrpSpPr/>
          <p:nvPr/>
        </p:nvGrpSpPr>
        <p:grpSpPr>
          <a:xfrm>
            <a:off x="2255760" y="1595160"/>
            <a:ext cx="3003480" cy="960840"/>
            <a:chOff x="2255760" y="1595160"/>
            <a:chExt cx="3003480" cy="960840"/>
          </a:xfrm>
        </p:grpSpPr>
        <p:grpSp>
          <p:nvGrpSpPr>
            <p:cNvPr id="192" name="组合 195"/>
            <p:cNvGrpSpPr/>
            <p:nvPr/>
          </p:nvGrpSpPr>
          <p:grpSpPr>
            <a:xfrm>
              <a:off x="2255760" y="1595160"/>
              <a:ext cx="960840" cy="960840"/>
              <a:chOff x="2255760" y="1595160"/>
              <a:chExt cx="960840" cy="960840"/>
            </a:xfrm>
          </p:grpSpPr>
          <p:sp>
            <p:nvSpPr>
              <p:cNvPr id="193" name="泪滴形 198"/>
              <p:cNvSpPr/>
              <p:nvPr/>
            </p:nvSpPr>
            <p:spPr>
              <a:xfrm rot="8158800">
                <a:off x="2396880" y="1735200"/>
                <a:ext cx="678600" cy="68040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椭圆 199"/>
              <p:cNvSpPr/>
              <p:nvPr/>
            </p:nvSpPr>
            <p:spPr>
              <a:xfrm>
                <a:off x="2512800" y="1838520"/>
                <a:ext cx="447120" cy="448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矩形 196"/>
            <p:cNvSpPr/>
            <p:nvPr/>
          </p:nvSpPr>
          <p:spPr>
            <a:xfrm>
              <a:off x="3160800" y="1926000"/>
              <a:ext cx="2098440" cy="5997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97"/>
            <p:cNvSpPr/>
            <p:nvPr/>
          </p:nvSpPr>
          <p:spPr>
            <a:xfrm>
              <a:off x="3148200" y="1923120"/>
              <a:ext cx="209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还是不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组合 200"/>
          <p:cNvGrpSpPr/>
          <p:nvPr/>
        </p:nvGrpSpPr>
        <p:grpSpPr>
          <a:xfrm>
            <a:off x="2302560" y="1668240"/>
            <a:ext cx="3002760" cy="959760"/>
            <a:chOff x="2302560" y="1668240"/>
            <a:chExt cx="3002760" cy="959760"/>
          </a:xfrm>
        </p:grpSpPr>
        <p:grpSp>
          <p:nvGrpSpPr>
            <p:cNvPr id="198" name="组合 201"/>
            <p:cNvGrpSpPr/>
            <p:nvPr/>
          </p:nvGrpSpPr>
          <p:grpSpPr>
            <a:xfrm>
              <a:off x="2302560" y="1668240"/>
              <a:ext cx="959760" cy="959760"/>
              <a:chOff x="2302560" y="1668240"/>
              <a:chExt cx="959760" cy="959760"/>
            </a:xfrm>
          </p:grpSpPr>
          <p:sp>
            <p:nvSpPr>
              <p:cNvPr id="199" name="泪滴形 204"/>
              <p:cNvSpPr/>
              <p:nvPr/>
            </p:nvSpPr>
            <p:spPr>
              <a:xfrm rot="8158800">
                <a:off x="2442960" y="1808280"/>
                <a:ext cx="678600" cy="67896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205"/>
              <p:cNvSpPr/>
              <p:nvPr/>
            </p:nvSpPr>
            <p:spPr>
              <a:xfrm>
                <a:off x="2558880" y="1911240"/>
                <a:ext cx="447120" cy="447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矩形 202"/>
            <p:cNvSpPr/>
            <p:nvPr/>
          </p:nvSpPr>
          <p:spPr>
            <a:xfrm>
              <a:off x="3206880" y="1998720"/>
              <a:ext cx="2098440" cy="598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203"/>
            <p:cNvSpPr/>
            <p:nvPr/>
          </p:nvSpPr>
          <p:spPr>
            <a:xfrm>
              <a:off x="3194280" y="1995840"/>
              <a:ext cx="209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嘛</a:t>
              </a: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06"/>
          <p:cNvGrpSpPr/>
          <p:nvPr/>
        </p:nvGrpSpPr>
        <p:grpSpPr>
          <a:xfrm>
            <a:off x="2292840" y="1652400"/>
            <a:ext cx="3003120" cy="959760"/>
            <a:chOff x="2292840" y="1652400"/>
            <a:chExt cx="3003120" cy="959760"/>
          </a:xfrm>
        </p:grpSpPr>
        <p:grpSp>
          <p:nvGrpSpPr>
            <p:cNvPr id="204" name="组合 207"/>
            <p:cNvGrpSpPr/>
            <p:nvPr/>
          </p:nvGrpSpPr>
          <p:grpSpPr>
            <a:xfrm>
              <a:off x="2292840" y="1652400"/>
              <a:ext cx="959760" cy="959760"/>
              <a:chOff x="2292840" y="1652400"/>
              <a:chExt cx="959760" cy="959760"/>
            </a:xfrm>
          </p:grpSpPr>
          <p:sp>
            <p:nvSpPr>
              <p:cNvPr id="205" name="泪滴形 210"/>
              <p:cNvSpPr/>
              <p:nvPr/>
            </p:nvSpPr>
            <p:spPr>
              <a:xfrm rot="8158800">
                <a:off x="2433240" y="1792440"/>
                <a:ext cx="678600" cy="67896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椭圆 211"/>
              <p:cNvSpPr/>
              <p:nvPr/>
            </p:nvSpPr>
            <p:spPr>
              <a:xfrm>
                <a:off x="2549160" y="1895400"/>
                <a:ext cx="447120" cy="447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7" name="矩形 208"/>
            <p:cNvSpPr/>
            <p:nvPr/>
          </p:nvSpPr>
          <p:spPr>
            <a:xfrm>
              <a:off x="3197160" y="1982880"/>
              <a:ext cx="2098800" cy="598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209"/>
            <p:cNvSpPr/>
            <p:nvPr/>
          </p:nvSpPr>
          <p:spPr>
            <a:xfrm>
              <a:off x="3184560" y="1980000"/>
              <a:ext cx="209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要啦</a:t>
              </a: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212"/>
          <p:cNvGrpSpPr/>
          <p:nvPr/>
        </p:nvGrpSpPr>
        <p:grpSpPr>
          <a:xfrm>
            <a:off x="2256480" y="1600920"/>
            <a:ext cx="3001320" cy="959760"/>
            <a:chOff x="2256480" y="1600920"/>
            <a:chExt cx="3001320" cy="959760"/>
          </a:xfrm>
        </p:grpSpPr>
        <p:grpSp>
          <p:nvGrpSpPr>
            <p:cNvPr id="210" name="组合 213"/>
            <p:cNvGrpSpPr/>
            <p:nvPr/>
          </p:nvGrpSpPr>
          <p:grpSpPr>
            <a:xfrm>
              <a:off x="2256480" y="1600920"/>
              <a:ext cx="959760" cy="959760"/>
              <a:chOff x="2256480" y="1600920"/>
              <a:chExt cx="959760" cy="959760"/>
            </a:xfrm>
          </p:grpSpPr>
          <p:sp>
            <p:nvSpPr>
              <p:cNvPr id="211" name="泪滴形 216"/>
              <p:cNvSpPr/>
              <p:nvPr/>
            </p:nvSpPr>
            <p:spPr>
              <a:xfrm rot="8158800">
                <a:off x="2396880" y="1740960"/>
                <a:ext cx="678240" cy="67932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椭圆 217"/>
              <p:cNvSpPr/>
              <p:nvPr/>
            </p:nvSpPr>
            <p:spPr>
              <a:xfrm>
                <a:off x="2513160" y="1844280"/>
                <a:ext cx="446400" cy="447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矩形 214"/>
            <p:cNvSpPr/>
            <p:nvPr/>
          </p:nvSpPr>
          <p:spPr>
            <a:xfrm>
              <a:off x="3159000" y="1931760"/>
              <a:ext cx="2098800" cy="598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215"/>
            <p:cNvSpPr/>
            <p:nvPr/>
          </p:nvSpPr>
          <p:spPr>
            <a:xfrm>
              <a:off x="3147840" y="1928880"/>
              <a:ext cx="209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哼</a:t>
              </a: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矩形 161"/>
          <p:cNvSpPr/>
          <p:nvPr/>
        </p:nvSpPr>
        <p:spPr>
          <a:xfrm>
            <a:off x="166680" y="2397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我们的战略区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1500" fill="hold"/>
                                        <p:tgtEl>
                                          <p:spTgt spid="18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7958E-006 L -0.35174 0.49521 E">
                                      <p:cBhvr>
                                        <p:cTn id="30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4" dur="1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1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1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100" fill="hold"/>
                                        <p:tgtEl>
                                          <p:spTgt spid="17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95521E-006 L 0.4375 0.1313 E">
                                      <p:cBhvr>
                                        <p:cTn id="328" dur="6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6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7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" dur="1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3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100" fill="hold"/>
                                        <p:tgtEl>
                                          <p:spTgt spid="1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10689E-006 L 0.4684 0.20637 E">
                                      <p:cBhvr>
                                        <p:cTn id="344" dur="6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600" fill="hold"/>
                                        <p:tgtEl>
                                          <p:spTgt spid="19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9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4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1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100" fill="hold"/>
                                        <p:tgtEl>
                                          <p:spTgt spid="18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10689E-006 L 0.38299 0.10844 E">
                                      <p:cBhvr>
                                        <p:cTn id="360" dur="6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600" fill="hold"/>
                                        <p:tgtEl>
                                          <p:spTgt spid="185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1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60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700"/>
                            </p:stCondLst>
                            <p:childTnLst>
                              <p:par>
                                <p:cTn id="3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100" fill="hold"/>
                                        <p:tgtEl>
                                          <p:spTgt spid="19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95521E-006 L 0.41406 0.24344 E">
                                      <p:cBhvr>
                                        <p:cTn id="376" dur="6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6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3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8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1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900"/>
                            </p:stCondLst>
                            <p:childTnLst>
                              <p:par>
                                <p:cTn id="3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100" fill="hold"/>
                                        <p:tgtEl>
                                          <p:spTgt spid="20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5907E-006 L 0.36875 0.5119 E">
                                      <p:cBhvr>
                                        <p:cTn id="392" dur="6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600" fill="hold"/>
                                        <p:tgtEl>
                                          <p:spTgt spid="203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1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100"/>
                            </p:stCondLst>
                            <p:childTnLst>
                              <p:par>
                                <p:cTn id="4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100" fill="hold"/>
                                        <p:tgtEl>
                                          <p:spTgt spid="20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5301E-006 L 0.41163 0.16589 E">
                                      <p:cBhvr>
                                        <p:cTn id="408" dur="6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0" dur="600" fill="hold"/>
                                        <p:tgtEl>
                                          <p:spTgt spid="209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Administrator\桌面\核心服务\展厅设计\4S展厅.jpg"/>
          <p:cNvPicPr/>
          <p:nvPr/>
        </p:nvPicPr>
        <p:blipFill>
          <a:blip r:embed="rId1"/>
          <a:stretch/>
        </p:blipFill>
        <p:spPr>
          <a:xfrm>
            <a:off x="5737320" y="3147840"/>
            <a:ext cx="2328840" cy="1511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Documents and Settings\Administrator\桌面\核心服务\展厅设计\渤海银行.jpg"/>
          <p:cNvPicPr/>
          <p:nvPr/>
        </p:nvPicPr>
        <p:blipFill>
          <a:blip r:embed="rId2"/>
          <a:stretch/>
        </p:blipFill>
        <p:spPr>
          <a:xfrm>
            <a:off x="3124080" y="1131840"/>
            <a:ext cx="2584440" cy="198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Documents and Settings\Administrator\桌面\核心服务\展厅设计\东山照明.jpg"/>
          <p:cNvPicPr/>
          <p:nvPr/>
        </p:nvPicPr>
        <p:blipFill>
          <a:blip r:embed="rId3"/>
          <a:stretch/>
        </p:blipFill>
        <p:spPr>
          <a:xfrm>
            <a:off x="755640" y="3147840"/>
            <a:ext cx="2340000" cy="1511640"/>
          </a:xfrm>
          <a:prstGeom prst="rect">
            <a:avLst/>
          </a:prstGeom>
          <a:ln w="0">
            <a:noFill/>
          </a:ln>
        </p:spPr>
      </p:pic>
      <p:sp>
        <p:nvSpPr>
          <p:cNvPr id="219" name="矩形 2"/>
          <p:cNvSpPr/>
          <p:nvPr/>
        </p:nvSpPr>
        <p:spPr>
          <a:xfrm>
            <a:off x="755640" y="1122480"/>
            <a:ext cx="2340000" cy="1996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6"/>
          <p:cNvSpPr/>
          <p:nvPr/>
        </p:nvSpPr>
        <p:spPr>
          <a:xfrm>
            <a:off x="5737320" y="1131840"/>
            <a:ext cx="2328840" cy="1987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3124080" y="3147840"/>
            <a:ext cx="2584440" cy="1490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6618240" y="2728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展厅设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1"/>
          <p:cNvGrpSpPr/>
          <p:nvPr/>
        </p:nvGrpSpPr>
        <p:grpSpPr>
          <a:xfrm>
            <a:off x="611280" y="1484280"/>
            <a:ext cx="7431120" cy="3009960"/>
            <a:chOff x="611280" y="1484280"/>
            <a:chExt cx="7431120" cy="3009960"/>
          </a:xfrm>
        </p:grpSpPr>
        <p:pic>
          <p:nvPicPr>
            <p:cNvPr id="224" name="Picture 5" descr=""/>
            <p:cNvPicPr/>
            <p:nvPr/>
          </p:nvPicPr>
          <p:blipFill>
            <a:blip r:embed="rId1"/>
            <a:stretch/>
          </p:blipFill>
          <p:spPr>
            <a:xfrm>
              <a:off x="611280" y="1484280"/>
              <a:ext cx="3012120" cy="22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6" descr=""/>
            <p:cNvPicPr/>
            <p:nvPr/>
          </p:nvPicPr>
          <p:blipFill>
            <a:blip r:embed="rId2"/>
            <a:stretch/>
          </p:blipFill>
          <p:spPr>
            <a:xfrm>
              <a:off x="1584720" y="3768120"/>
              <a:ext cx="1019520" cy="72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" descr=""/>
            <p:cNvPicPr/>
            <p:nvPr/>
          </p:nvPicPr>
          <p:blipFill>
            <a:blip r:embed="rId3"/>
            <a:stretch/>
          </p:blipFill>
          <p:spPr>
            <a:xfrm>
              <a:off x="2622600" y="3766680"/>
              <a:ext cx="1001520" cy="72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" descr=""/>
            <p:cNvPicPr/>
            <p:nvPr/>
          </p:nvPicPr>
          <p:blipFill>
            <a:blip r:embed="rId4"/>
            <a:stretch/>
          </p:blipFill>
          <p:spPr>
            <a:xfrm>
              <a:off x="611280" y="3762360"/>
              <a:ext cx="9550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9" descr=""/>
            <p:cNvPicPr/>
            <p:nvPr/>
          </p:nvPicPr>
          <p:blipFill>
            <a:blip r:embed="rId5"/>
            <a:stretch/>
          </p:blipFill>
          <p:spPr>
            <a:xfrm>
              <a:off x="3650040" y="1491840"/>
              <a:ext cx="4392360" cy="299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矩形 11"/>
          <p:cNvSpPr/>
          <p:nvPr/>
        </p:nvSpPr>
        <p:spPr>
          <a:xfrm rot="5400000">
            <a:off x="-169560" y="401400"/>
            <a:ext cx="461880" cy="16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2"/>
          <p:cNvSpPr/>
          <p:nvPr/>
        </p:nvSpPr>
        <p:spPr>
          <a:xfrm>
            <a:off x="611280" y="4508640"/>
            <a:ext cx="7431120" cy="223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13"/>
          <p:cNvSpPr/>
          <p:nvPr/>
        </p:nvSpPr>
        <p:spPr>
          <a:xfrm>
            <a:off x="6659640" y="41112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活动策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组合 2"/>
          <p:cNvGrpSpPr/>
          <p:nvPr/>
        </p:nvGrpSpPr>
        <p:grpSpPr>
          <a:xfrm>
            <a:off x="900000" y="1247760"/>
            <a:ext cx="6681960" cy="3340080"/>
            <a:chOff x="900000" y="1247760"/>
            <a:chExt cx="6681960" cy="3340080"/>
          </a:xfrm>
        </p:grpSpPr>
        <p:pic>
          <p:nvPicPr>
            <p:cNvPr id="233" name="Picture 2" descr="C:\Documents and Settings\Administrator\桌面\核心服务\印刷品\嘉年华国际.jpg"/>
            <p:cNvPicPr/>
            <p:nvPr/>
          </p:nvPicPr>
          <p:blipFill>
            <a:blip r:embed="rId1"/>
            <a:stretch/>
          </p:blipFill>
          <p:spPr>
            <a:xfrm>
              <a:off x="3628800" y="1969920"/>
              <a:ext cx="3572640" cy="26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3" descr="C:\Documents and Settings\Administrator\桌面\核心服务\印刷品\嘉年华国际2.jpg"/>
            <p:cNvPicPr/>
            <p:nvPr/>
          </p:nvPicPr>
          <p:blipFill>
            <a:blip r:embed="rId2"/>
            <a:stretch/>
          </p:blipFill>
          <p:spPr>
            <a:xfrm>
              <a:off x="900000" y="1247760"/>
              <a:ext cx="2716920" cy="203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矩形 3"/>
            <p:cNvSpPr/>
            <p:nvPr/>
          </p:nvSpPr>
          <p:spPr>
            <a:xfrm>
              <a:off x="3627360" y="1247760"/>
              <a:ext cx="3573720" cy="706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4"/>
            <p:cNvSpPr/>
            <p:nvPr/>
          </p:nvSpPr>
          <p:spPr>
            <a:xfrm>
              <a:off x="900000" y="3284640"/>
              <a:ext cx="2716200" cy="1303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矩形 6"/>
            <p:cNvSpPr/>
            <p:nvPr/>
          </p:nvSpPr>
          <p:spPr>
            <a:xfrm>
              <a:off x="7216920" y="1247760"/>
              <a:ext cx="365040" cy="3340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矩形 8"/>
          <p:cNvSpPr/>
          <p:nvPr/>
        </p:nvSpPr>
        <p:spPr>
          <a:xfrm>
            <a:off x="6545160" y="3906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印刷设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8:46:5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59:23Z</dcterms:modified>
  <cp:revision>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