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D52-1087-45B1-A4B0-F3AE0994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0EB-53A2-4A8F-A916-E77B4E9A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F24-7CB6-4CE2-AD88-1EC6A378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4CE-3F27-46ED-97A7-3C83AD99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1960-DFCB-4890-9068-C92C6637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1D22-5CDD-41A8-B4D7-731DAA54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648B-45FA-4BC1-9328-30F5322D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B4D7-43F0-4230-970B-C1C7F7CA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CB59-0D6C-485F-9203-B8FF583E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D700-E693-4B7B-97D7-C568F403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03C9-17F8-43ED-A195-8C5456BC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403-EA18-400E-92C0-2B9E64B6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1C01-AF7C-474B-BA45-FB7DBBCC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C793-298C-43E0-B687-F4069CEB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3BDE-F033-4479-BB0F-7C476958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2D0D-3E04-4113-B859-99B4E570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9E9-8CDA-4AAE-A48B-476B364E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D62-30A9-4B66-817C-F42C1B1A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7EB-3748-4E0C-A54A-06917414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357-65D8-4165-ACD7-723A9008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8EA-167A-4FCB-8137-3AE0D47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A9B-FEDE-453B-A10D-EA9C254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074-1EBD-4304-B3A6-901FC91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2E4-ECFD-4638-84F6-16EEFC3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AED6-C404-4FA2-AE9A-660BC6483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3AD0-C962-4AB5-907E-6BF835A2E7E8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沈从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03360" y="119700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云南的歌会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54064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正月里那个说媒，二月里定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三月里交大钱，四月里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三班子那个吹来，两班子打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撇下我的情哥哥，抬进了周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602136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935-91A7-47A9-827B-890490C55A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1908000" y="486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一、介绍作者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310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沈从文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190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988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苗族，湖南凤凰人，历任武汉大学、青岛大学、西南联大、北京大学教授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大公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艺副刊编辑，中国历史博物馆文物研究员，中国社会科学院历史研究所研究员。在散文、小说创作和古代服饰研究方面均取得很大成绩，代表作有小说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边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散文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湘行散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论著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国古代服饰研究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理解下列词语的意思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蹲踞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蹲着、坐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酬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用诗词应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熹微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形容阳光不强（多指清晨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淳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诚实、朴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龙吟凤哕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龙凤鸣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三、整体感知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朗读课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精读讨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述三个场面的各自的内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一部分：山野对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具有对抗的性质 情歌为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二部分：山路漫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着力描写唱歌人所处的优美的环境 随心所欲 山歌为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三部分：村寨传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场面描写较多 教歌 内容丰富不受限制 突出云南歌会的特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广泛 参与人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小结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章字里行间洋溢着对自然、对人、对艺术的品味和赞赏。生活的美好，人生的美好在作者抒情的笔调中汩汩流淌而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四、问题研究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课后练习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一段以工笔描绘为主，刻画细腻真实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二段着力描写人物的神韵气度，流露出作者的情感倾向。运用了比喻、拟人等手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后练习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课文第四段，用许多笔墨描写由呈贡进城时一路的景色，写“开满杂花的小山坡”，“各种山鸟呼朋唤侣”，还有戴胜鸟和云雀的歌唱。这些内容和“赶马女孩子的歌唱”有什么关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你觉得作者写这些有什么用意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对“赶马女孩的歌唱”的真实写照，又是对主脑的铺垫，还是一种烘托映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07:39:22Z</dcterms:created>
  <dc:creator/>
  <dc:description/>
  <cp:keywords>幻灯片之家 http:/www.eeppt.com</cp:keywords>
  <dc:language>en-US</dc:language>
  <cp:lastModifiedBy/>
  <dcterms:modified xsi:type="dcterms:W3CDTF">2015-07-03T13:33:51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