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60.png" ContentType="image/png"/>
  <Override PartName="/ppt/media/image29.png" ContentType="image/png"/>
  <Override PartName="/ppt/media/image13.png" ContentType="image/png"/>
  <Override PartName="/ppt/media/image8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28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9.gif" ContentType="image/gif"/>
  <Override PartName="/ppt/media/image54.png" ContentType="image/png"/>
  <Override PartName="/ppt/media/image24.png" ContentType="image/png"/>
  <Override PartName="/ppt/media/image1.gif" ContentType="image/gif"/>
  <Override PartName="/ppt/media/image5.png" ContentType="image/png"/>
  <Override PartName="/ppt/media/image17.png" ContentType="image/png"/>
  <Override PartName="/ppt/media/image51.png" ContentType="image/png"/>
  <Override PartName="/ppt/media/image27.png" ContentType="image/png"/>
  <Override PartName="/ppt/media/image18.png" ContentType="image/png"/>
  <Override PartName="/ppt/media/image42.jpeg" ContentType="image/jpe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6.gif" ContentType="image/gif"/>
  <Override PartName="/ppt/media/image4.gif" ContentType="image/gif"/>
  <Override PartName="/ppt/media/image7.png" ContentType="image/png"/>
  <Override PartName="/ppt/media/image37.png" ContentType="image/png"/>
  <Override PartName="/ppt/media/image12.png" ContentType="image/png"/>
  <Override PartName="/ppt/media/image2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0.png" ContentType="image/png"/>
  <Override PartName="/ppt/media/image31.png" ContentType="image/png"/>
  <Override PartName="/ppt/media/image34.png" ContentType="image/png"/>
  <Override PartName="/ppt/media/image39.png" ContentType="image/png"/>
  <Override PartName="/ppt/media/image43.png" ContentType="image/pn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9.jpeg" ContentType="image/jpeg"/>
  <Override PartName="/ppt/media/image50.png" ContentType="image/png"/>
  <Override PartName="/ppt/media/image52.png" ContentType="image/png"/>
  <Override PartName="/ppt/media/image53.png" ContentType="image/png"/>
  <Override PartName="/ppt/media/image20.jpeg" ContentType="image/jpeg"/>
  <Override PartName="/ppt/media/image5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040C-4628-4B7C-9F5F-119B2599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7244-53A6-4655-A057-CB52D3A8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9EF3-C429-4B0F-A5AC-A3A9EF53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3F0B-E319-4D0B-8061-78CE32EF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FDD3-6D26-433D-A4B6-49E8FDE5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96E2-12F0-4382-AE0D-DA63ED92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A4FD-DE51-4461-BA1B-F856E71A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C52-9E7D-434E-AF78-E0F86FBF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EA3-A0AE-48F2-B64E-45292DFE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03C-5125-4EDF-B0F3-5BE036B4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ADA7-FFC0-41D0-9FF7-56060953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5B7-7FCB-48CF-A1FE-BFFAFDFB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6078-4A60-4234-BF43-29587E018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projctor.wav" TargetMode="External"/><Relationship Id="rId3" Type="http://schemas.microsoft.com/office/2007/relationships/media" Target="file:///tmp/home/.config/libreoffice/4/user/gallery/projctor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audio" Target="file:///tmp/home/.config/libreoffice/4/user/gallery/wind.wav" TargetMode="External"/><Relationship Id="rId5" Type="http://schemas.microsoft.com/office/2007/relationships/media" Target="file:///tmp/home/.config/libreoffice/4/user/gallery/wind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audio" Target="file:///tmp/home/.config/libreoffice/4/user/gallery/voltage.wav" TargetMode="External"/><Relationship Id="rId6" Type="http://schemas.microsoft.com/office/2007/relationships/media" Target="file:///tmp/home/.config/libreoffice/4/user/gallery/voltage.wav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audio" Target="file:///usr/lib/libreoffice/share/gallery/sounds/laser.wav" TargetMode="External"/><Relationship Id="rId5" Type="http://schemas.microsoft.com/office/2007/relationships/media" Target="file:///usr/lib/libreoffice/share/gallery/sounds/laser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26.png"/><Relationship Id="rId16" Type="http://schemas.openxmlformats.org/officeDocument/2006/relationships/image" Target="../media/image36.png"/><Relationship Id="rId1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3.png"/><Relationship Id="rId10" Type="http://schemas.openxmlformats.org/officeDocument/2006/relationships/image" Target="../media/image40.png"/><Relationship Id="rId11" Type="http://schemas.openxmlformats.org/officeDocument/2006/relationships/image" Target="../media/image28.png"/><Relationship Id="rId12" Type="http://schemas.openxmlformats.org/officeDocument/2006/relationships/image" Target="../media/image41.png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43.png"/><Relationship Id="rId5" Type="http://schemas.openxmlformats.org/officeDocument/2006/relationships/image" Target="../media/image33.png"/><Relationship Id="rId6" Type="http://schemas.openxmlformats.org/officeDocument/2006/relationships/image" Target="../media/image40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4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31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jpeg"/><Relationship Id="rId5" Type="http://schemas.openxmlformats.org/officeDocument/2006/relationships/image" Target="../media/image47.png"/><Relationship Id="rId6" Type="http://schemas.openxmlformats.org/officeDocument/2006/relationships/image" Target="../media/image29.png"/><Relationship Id="rId7" Type="http://schemas.openxmlformats.org/officeDocument/2006/relationships/image" Target="../media/image50.png"/><Relationship Id="rId8" Type="http://schemas.openxmlformats.org/officeDocument/2006/relationships/image" Target="../media/image30.png"/><Relationship Id="rId9" Type="http://schemas.openxmlformats.org/officeDocument/2006/relationships/image" Target="../media/image51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image" Target="../media/image31.png"/><Relationship Id="rId18" Type="http://schemas.openxmlformats.org/officeDocument/2006/relationships/image" Target="../media/image52.png"/><Relationship Id="rId19" Type="http://schemas.openxmlformats.org/officeDocument/2006/relationships/image" Target="../media/image53.png"/><Relationship Id="rId2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audio" Target="file:///tmp/home/.config/libreoffice/4/user/gallery/arrow.wav" TargetMode="External"/><Relationship Id="rId6" Type="http://schemas.microsoft.com/office/2007/relationships/media" Target="file:///tmp/home/.config/libreoffice/4/user/gallery/arrow.wav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6.png"/><Relationship Id="rId3" Type="http://schemas.openxmlformats.org/officeDocument/2006/relationships/image" Target="../media/image52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51.png"/><Relationship Id="rId5" Type="http://schemas.openxmlformats.org/officeDocument/2006/relationships/image" Target="../media/image33.png"/><Relationship Id="rId6" Type="http://schemas.openxmlformats.org/officeDocument/2006/relationships/image" Target="../media/image35.png"/><Relationship Id="rId7" Type="http://schemas.openxmlformats.org/officeDocument/2006/relationships/image" Target="../media/image40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audio" Target="file:///tmp/home/.config/libreoffice/4/user/gallery/chimes.wav" TargetMode="External"/><Relationship Id="rId6" Type="http://schemas.microsoft.com/office/2007/relationships/media" Target="file:///tmp/home/.config/libreoffice/4/user/gallery/chimes.wav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391520" cy="435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590920" y="1676520"/>
            <a:ext cx="5257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执教及课件制作</a:t>
            </a: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:</a:t>
            </a: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列海娴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           </a:t>
            </a: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2005/5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91520" y="990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2286000"/>
            <a:ext cx="8839080" cy="4572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838080" y="1676520"/>
            <a:ext cx="590760" cy="647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03120" y="5335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英语教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0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2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821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379440" y="0"/>
            <a:ext cx="9523440" cy="7143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295280" y="304920"/>
            <a:ext cx="5943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Can you read it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198108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</a:rPr>
              <a:t>草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379440" y="0"/>
            <a:ext cx="9523440" cy="7143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295280" y="304920"/>
            <a:ext cx="5943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Can you read it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981080"/>
            <a:ext cx="236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60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6000" spc="-1" strike="noStrike">
                <a:solidFill>
                  <a:srgbClr val="cc33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</a:rPr>
              <a:t>希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79440" y="0"/>
            <a:ext cx="9523440" cy="714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09680" y="1600200"/>
            <a:ext cx="2514600" cy="25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80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单足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95280" y="304920"/>
            <a:ext cx="5943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Can you read it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79440" y="0"/>
            <a:ext cx="9523440" cy="7143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295280" y="304920"/>
            <a:ext cx="5943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Can you read it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1905120"/>
            <a:ext cx="2590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u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哑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字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379440" y="0"/>
            <a:ext cx="9523440" cy="7143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295280" y="304920"/>
            <a:ext cx="5943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Can you read it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21337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7200" spc="-1" strike="noStrike">
                <a:solidFill>
                  <a:srgbClr val="cc3300"/>
                </a:solidFill>
                <a:latin typeface="Arial"/>
              </a:rPr>
              <a:t>u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c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cc3300"/>
                </a:solidFill>
                <a:latin typeface="Arial"/>
              </a:rPr>
              <a:t>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79440" y="0"/>
            <a:ext cx="9523440" cy="7143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295280" y="304920"/>
            <a:ext cx="5943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Can you read it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2133720"/>
            <a:ext cx="2819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66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6600" spc="-1" strike="noStrike">
                <a:solidFill>
                  <a:srgbClr val="cc3300"/>
                </a:solidFill>
                <a:latin typeface="Arial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00"/>
                </a:solidFill>
                <a:latin typeface="Arial"/>
              </a:rPr>
              <a:t>远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379440" y="0"/>
            <a:ext cx="9523440" cy="7143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295280" y="304920"/>
            <a:ext cx="5943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Can you read it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1905120"/>
            <a:ext cx="2895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60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</a:rPr>
              <a:t>用具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379440" y="0"/>
            <a:ext cx="9523440" cy="7143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1295280" y="304920"/>
            <a:ext cx="5943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Can you read it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1981080"/>
            <a:ext cx="259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1" lang="en-US" sz="72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Arial"/>
              </a:rPr>
              <a:t>撕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79440" y="0"/>
            <a:ext cx="9523440" cy="7143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1295280" y="304920"/>
            <a:ext cx="5943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Can you read it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190512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72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cc3300"/>
                </a:solidFill>
                <a:latin typeface="Arial"/>
              </a:rPr>
              <a:t>湿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379440" y="0"/>
            <a:ext cx="9523440" cy="714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295280" y="304920"/>
            <a:ext cx="5943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Can you read it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133720"/>
            <a:ext cx="2590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66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6600" spc="-1" strike="noStrike">
                <a:solidFill>
                  <a:srgbClr val="cc3300"/>
                </a:solidFill>
                <a:latin typeface="Arial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</a:rPr>
              <a:t>伙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03a1"/>
                </a:solidFill>
                <a:latin typeface="Times New Roman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3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447920"/>
            <a:ext cx="7467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371600"/>
            <a:ext cx="6400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day is col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se is in the boa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wants to have a coa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on your coa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know you have a cold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9320" y="464832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创作者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:</a:t>
            </a: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五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(1)</a:t>
            </a: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班  梁嘉欣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838080"/>
            <a:ext cx="2133720" cy="155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hat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憎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838080"/>
            <a:ext cx="2057400" cy="1739880"/>
          </a:xfrm>
          <a:prstGeom prst="rect">
            <a:avLst/>
          </a:prstGeom>
          <a:solidFill>
            <a:srgbClr val="d3d0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.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草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71800" y="4876920"/>
            <a:ext cx="2133720" cy="1434600"/>
          </a:xfrm>
          <a:prstGeom prst="rect">
            <a:avLst/>
          </a:prstGeom>
          <a:solidFill>
            <a:srgbClr val="a6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.h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希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724280"/>
            <a:ext cx="1905120" cy="1434600"/>
          </a:xfrm>
          <a:prstGeom prst="rect">
            <a:avLst/>
          </a:prstGeom>
          <a:solidFill>
            <a:srgbClr val="d6c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.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单足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4952880"/>
            <a:ext cx="2362320" cy="1434600"/>
          </a:xfrm>
          <a:prstGeom prst="rect">
            <a:avLst/>
          </a:prstGeom>
          <a:solidFill>
            <a:srgbClr val="b5e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su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2819520"/>
            <a:ext cx="2133360" cy="1434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h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远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3124080"/>
            <a:ext cx="1981080" cy="143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.k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用具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666880"/>
            <a:ext cx="1904760" cy="1739880"/>
          </a:xfrm>
          <a:prstGeom prst="rect">
            <a:avLst/>
          </a:prstGeom>
          <a:solidFill>
            <a:srgbClr val="d6c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.sl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撕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914400"/>
            <a:ext cx="2666880" cy="192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.m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伙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981080" y="0"/>
            <a:ext cx="5257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Let's read together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912960" y="0"/>
            <a:ext cx="11047680" cy="7315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99036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600200" y="914400"/>
            <a:ext cx="1257480" cy="1104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752480" y="3200400"/>
            <a:ext cx="1752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Round 3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52480" y="4191120"/>
            <a:ext cx="1752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Round 2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752480" y="2286000"/>
            <a:ext cx="1752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Round 4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8120" y="1219320"/>
            <a:ext cx="1752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Round 5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39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7696080" y="4800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809880" y="2209680"/>
            <a:ext cx="2819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归纳字母组合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962520" y="3124080"/>
            <a:ext cx="2819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拼读音标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6200" y="4114800"/>
            <a:ext cx="2819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认读</a:t>
            </a: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8</a:t>
            </a: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个音素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105520" y="1219320"/>
            <a:ext cx="2819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听录音</a:t>
            </a: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找出押韵音素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457200" y="38862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045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912960" y="0"/>
            <a:ext cx="11047680" cy="7315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990360" cy="952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010280" y="3048120"/>
            <a:ext cx="1295640" cy="728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600200" y="914400"/>
            <a:ext cx="1257480" cy="1104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752480" y="3200400"/>
            <a:ext cx="1752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Round 3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52480" y="2286000"/>
            <a:ext cx="1752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Round 4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8120" y="1219320"/>
            <a:ext cx="1752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Round 5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53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7696080" y="4800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3809880" y="2209680"/>
            <a:ext cx="2819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归纳字母组合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62520" y="3124080"/>
            <a:ext cx="2819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拼读音标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105520" y="1219320"/>
            <a:ext cx="2819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听录音</a:t>
            </a: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找出押韵音素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045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076960" cy="5791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143000" y="228600"/>
            <a:ext cx="6858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Let's read together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912960" y="0"/>
            <a:ext cx="11047680" cy="7315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990360" cy="952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600200" y="914400"/>
            <a:ext cx="1257480" cy="1104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752480" y="2286000"/>
            <a:ext cx="1752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Round 4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8120" y="1219320"/>
            <a:ext cx="1752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Round 5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64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7696080" y="4800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3809880" y="2209680"/>
            <a:ext cx="2819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归纳字母组合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105520" y="1219320"/>
            <a:ext cx="2819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听录音</a:t>
            </a: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找出押韵音素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380880" y="20574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045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3520" y="304920"/>
            <a:ext cx="71625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 “  ”出该单词的正确音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peach         (   ),        (   )   2.former        (   ),        (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matter        (   ),        (   )  4.large          (   ),         (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 cloudy      (   ),          (   )  6.strange       (   ),       (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.thousand     (   ),        (   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. weather        (   ),       (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971800" y="1143000"/>
            <a:ext cx="561960" cy="466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561960" cy="466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029200" y="2438280"/>
            <a:ext cx="685800" cy="466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2971800" y="2362320"/>
            <a:ext cx="561960" cy="466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5105520" y="2971800"/>
            <a:ext cx="561960" cy="466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2895480" y="2895480"/>
            <a:ext cx="561960" cy="457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5486400" y="5410080"/>
            <a:ext cx="561960" cy="466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2971800" y="1752480"/>
            <a:ext cx="609480" cy="466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5029200" y="1752480"/>
            <a:ext cx="609480" cy="466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5105520" y="4114800"/>
            <a:ext cx="561960" cy="466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3124080" y="3505320"/>
            <a:ext cx="561960" cy="466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2"/>
          <a:stretch/>
        </p:blipFill>
        <p:spPr>
          <a:xfrm>
            <a:off x="3124080" y="4114800"/>
            <a:ext cx="561960" cy="466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3"/>
          <a:stretch/>
        </p:blipFill>
        <p:spPr>
          <a:xfrm>
            <a:off x="5257800" y="3581280"/>
            <a:ext cx="561960" cy="466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4"/>
          <a:stretch/>
        </p:blipFill>
        <p:spPr>
          <a:xfrm>
            <a:off x="5181480" y="4724280"/>
            <a:ext cx="561960" cy="466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5"/>
          <a:stretch/>
        </p:blipFill>
        <p:spPr>
          <a:xfrm>
            <a:off x="3276720" y="5334120"/>
            <a:ext cx="685800" cy="466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6"/>
          <a:stretch/>
        </p:blipFill>
        <p:spPr>
          <a:xfrm>
            <a:off x="3352680" y="4724280"/>
            <a:ext cx="561960" cy="46692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962520" y="1066680"/>
            <a:ext cx="685800" cy="533520"/>
            <a:chOff x="3962520" y="1066680"/>
            <a:chExt cx="685800" cy="533520"/>
          </a:xfrm>
        </p:grpSpPr>
        <p:sp>
          <p:nvSpPr>
            <p:cNvPr id="186" name=""/>
            <p:cNvSpPr/>
            <p:nvPr/>
          </p:nvSpPr>
          <p:spPr>
            <a:xfrm>
              <a:off x="3962520" y="1295280"/>
              <a:ext cx="152280" cy="3049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114800" y="1066680"/>
              <a:ext cx="533520" cy="5335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133720" y="228600"/>
            <a:ext cx="685800" cy="533520"/>
            <a:chOff x="2133720" y="228600"/>
            <a:chExt cx="685800" cy="533520"/>
          </a:xfrm>
        </p:grpSpPr>
        <p:sp>
          <p:nvSpPr>
            <p:cNvPr id="189" name=""/>
            <p:cNvSpPr/>
            <p:nvPr/>
          </p:nvSpPr>
          <p:spPr>
            <a:xfrm>
              <a:off x="2133720" y="457200"/>
              <a:ext cx="152280" cy="3049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286000" y="228600"/>
              <a:ext cx="533520" cy="5335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943600" y="1600200"/>
            <a:ext cx="685800" cy="533520"/>
            <a:chOff x="5943600" y="1600200"/>
            <a:chExt cx="685800" cy="533520"/>
          </a:xfrm>
        </p:grpSpPr>
        <p:sp>
          <p:nvSpPr>
            <p:cNvPr id="192" name=""/>
            <p:cNvSpPr/>
            <p:nvPr/>
          </p:nvSpPr>
          <p:spPr>
            <a:xfrm>
              <a:off x="5943600" y="1828800"/>
              <a:ext cx="152280" cy="3049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095880" y="1600200"/>
              <a:ext cx="533520" cy="5335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038480" y="2209680"/>
            <a:ext cx="685800" cy="533520"/>
            <a:chOff x="4038480" y="2209680"/>
            <a:chExt cx="685800" cy="533520"/>
          </a:xfrm>
        </p:grpSpPr>
        <p:sp>
          <p:nvSpPr>
            <p:cNvPr id="195" name=""/>
            <p:cNvSpPr/>
            <p:nvPr/>
          </p:nvSpPr>
          <p:spPr>
            <a:xfrm>
              <a:off x="4038480" y="2438280"/>
              <a:ext cx="152280" cy="3049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190760" y="2209680"/>
              <a:ext cx="533520" cy="5335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095880" y="2743200"/>
            <a:ext cx="685800" cy="533520"/>
            <a:chOff x="6095880" y="2743200"/>
            <a:chExt cx="685800" cy="533520"/>
          </a:xfrm>
        </p:grpSpPr>
        <p:sp>
          <p:nvSpPr>
            <p:cNvPr id="198" name=""/>
            <p:cNvSpPr/>
            <p:nvPr/>
          </p:nvSpPr>
          <p:spPr>
            <a:xfrm>
              <a:off x="6095880" y="2971800"/>
              <a:ext cx="152280" cy="3049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248160" y="2743200"/>
              <a:ext cx="533520" cy="5335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095880" y="3352680"/>
            <a:ext cx="685800" cy="533520"/>
            <a:chOff x="6095880" y="3352680"/>
            <a:chExt cx="685800" cy="533520"/>
          </a:xfrm>
        </p:grpSpPr>
        <p:sp>
          <p:nvSpPr>
            <p:cNvPr id="201" name=""/>
            <p:cNvSpPr/>
            <p:nvPr/>
          </p:nvSpPr>
          <p:spPr>
            <a:xfrm>
              <a:off x="6095880" y="3581280"/>
              <a:ext cx="152280" cy="3049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248160" y="3352680"/>
              <a:ext cx="533520" cy="5335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095880" y="4038480"/>
            <a:ext cx="685800" cy="533520"/>
            <a:chOff x="6095880" y="4038480"/>
            <a:chExt cx="685800" cy="533520"/>
          </a:xfrm>
        </p:grpSpPr>
        <p:sp>
          <p:nvSpPr>
            <p:cNvPr id="204" name=""/>
            <p:cNvSpPr/>
            <p:nvPr/>
          </p:nvSpPr>
          <p:spPr>
            <a:xfrm>
              <a:off x="6095880" y="4267080"/>
              <a:ext cx="152280" cy="3049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248160" y="4038480"/>
              <a:ext cx="533520" cy="5335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191120" y="4647960"/>
            <a:ext cx="685800" cy="533160"/>
            <a:chOff x="4191120" y="4647960"/>
            <a:chExt cx="685800" cy="533160"/>
          </a:xfrm>
        </p:grpSpPr>
        <p:sp>
          <p:nvSpPr>
            <p:cNvPr id="207" name=""/>
            <p:cNvSpPr/>
            <p:nvPr/>
          </p:nvSpPr>
          <p:spPr>
            <a:xfrm>
              <a:off x="4191120" y="4876560"/>
              <a:ext cx="152280" cy="30456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4343400" y="4647960"/>
              <a:ext cx="533520" cy="53316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343400" y="5181480"/>
            <a:ext cx="685800" cy="533520"/>
            <a:chOff x="4343400" y="5181480"/>
            <a:chExt cx="685800" cy="533520"/>
          </a:xfrm>
        </p:grpSpPr>
        <p:sp>
          <p:nvSpPr>
            <p:cNvPr id="210" name=""/>
            <p:cNvSpPr/>
            <p:nvPr/>
          </p:nvSpPr>
          <p:spPr>
            <a:xfrm>
              <a:off x="4343400" y="5410080"/>
              <a:ext cx="152280" cy="3049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495680" y="5181480"/>
              <a:ext cx="533520" cy="5335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2819520" cy="1466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2666880" cy="2381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638680" y="2427120"/>
            <a:ext cx="2590920" cy="13924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0" y="1295280"/>
            <a:ext cx="3352680" cy="1474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5715000" y="1143000"/>
            <a:ext cx="3429000" cy="12286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3276720" y="3613320"/>
            <a:ext cx="4190760" cy="1720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371600" y="304920"/>
            <a:ext cx="2895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字母组合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38080" y="16765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al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8320" y="1295280"/>
            <a:ext cx="228600" cy="152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343400" y="3962520"/>
            <a:ext cx="2286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162920" y="1066680"/>
            <a:ext cx="228600" cy="152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2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086600" y="2438280"/>
            <a:ext cx="228600" cy="152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657600" y="1828800"/>
            <a:ext cx="990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ay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324480" y="14479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ar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248520" y="2819520"/>
            <a:ext cx="99036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air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724280" y="4191120"/>
            <a:ext cx="99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ass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7467480" y="1447920"/>
            <a:ext cx="99072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1981080" y="1662120"/>
            <a:ext cx="1067040" cy="7761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4648320" y="1905120"/>
            <a:ext cx="838080" cy="6253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0"/>
          <a:stretch/>
        </p:blipFill>
        <p:spPr>
          <a:xfrm>
            <a:off x="7391520" y="2819520"/>
            <a:ext cx="838080" cy="618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1"/>
          <a:stretch/>
        </p:blipFill>
        <p:spPr>
          <a:xfrm>
            <a:off x="5943600" y="4267080"/>
            <a:ext cx="990720" cy="609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2"/>
          <a:stretch/>
        </p:blipFill>
        <p:spPr>
          <a:xfrm>
            <a:off x="6858000" y="4343400"/>
            <a:ext cx="76212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248520" y="2971800"/>
            <a:ext cx="2895480" cy="2836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2743200"/>
            <a:ext cx="1523880" cy="914400"/>
          </a:xfrm>
          <a:prstGeom prst="ellipse">
            <a:avLst/>
          </a:prstGeom>
          <a:solidFill>
            <a:srgbClr val="d3d0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2590920"/>
            <a:ext cx="1523880" cy="914400"/>
          </a:xfrm>
          <a:prstGeom prst="ellipse">
            <a:avLst/>
          </a:prstGeom>
          <a:solidFill>
            <a:srgbClr val="d3d0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2666880"/>
            <a:ext cx="1524240" cy="914400"/>
          </a:xfrm>
          <a:prstGeom prst="ellipse">
            <a:avLst/>
          </a:prstGeom>
          <a:solidFill>
            <a:srgbClr val="d3d0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4495680"/>
            <a:ext cx="1524240" cy="914400"/>
          </a:xfrm>
          <a:prstGeom prst="ellipse">
            <a:avLst/>
          </a:prstGeom>
          <a:solidFill>
            <a:srgbClr val="d3d0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4495680"/>
            <a:ext cx="1523880" cy="914400"/>
          </a:xfrm>
          <a:prstGeom prst="ellipse">
            <a:avLst/>
          </a:prstGeom>
          <a:solidFill>
            <a:srgbClr val="d3d0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2666880"/>
            <a:ext cx="1524240" cy="914400"/>
          </a:xfrm>
          <a:prstGeom prst="ellipse">
            <a:avLst/>
          </a:prstGeom>
          <a:solidFill>
            <a:srgbClr val="d3d0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685800"/>
            <a:ext cx="1523880" cy="914400"/>
          </a:xfrm>
          <a:prstGeom prst="ellipse">
            <a:avLst/>
          </a:prstGeom>
          <a:solidFill>
            <a:srgbClr val="d3d0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685800"/>
            <a:ext cx="1524240" cy="914400"/>
          </a:xfrm>
          <a:prstGeom prst="ellipse">
            <a:avLst/>
          </a:prstGeom>
          <a:solidFill>
            <a:srgbClr val="d3d0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762120"/>
            <a:ext cx="1523880" cy="914400"/>
          </a:xfrm>
          <a:prstGeom prst="ellipse">
            <a:avLst/>
          </a:prstGeom>
          <a:solidFill>
            <a:srgbClr val="d3d0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4495680"/>
            <a:ext cx="1523880" cy="914400"/>
          </a:xfrm>
          <a:prstGeom prst="ellipse">
            <a:avLst/>
          </a:prstGeom>
          <a:solidFill>
            <a:srgbClr val="d3d0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38080" y="990720"/>
            <a:ext cx="84780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ea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114800" y="914400"/>
            <a:ext cx="8478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ea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14600" y="990720"/>
            <a:ext cx="84780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ee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514600" y="2895480"/>
            <a:ext cx="8380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ea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48320" y="4648320"/>
            <a:ext cx="84744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er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172200" y="2743200"/>
            <a:ext cx="8478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ear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895480"/>
            <a:ext cx="8478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ea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343400" y="2819520"/>
            <a:ext cx="84780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ear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4572000"/>
            <a:ext cx="6951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ere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666880" y="4724280"/>
            <a:ext cx="6192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er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715000" y="304920"/>
            <a:ext cx="3200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字母组合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219320"/>
            <a:ext cx="2286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3124080"/>
            <a:ext cx="304920" cy="152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133720" y="3048120"/>
            <a:ext cx="2286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5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962520" y="4800600"/>
            <a:ext cx="68580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3068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0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286000" y="4876920"/>
            <a:ext cx="2286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9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4876920"/>
            <a:ext cx="2286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8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962520" y="2971800"/>
            <a:ext cx="2286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6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133720" y="1143000"/>
            <a:ext cx="2286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2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9880" y="1066680"/>
            <a:ext cx="228600" cy="152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91320" y="3048120"/>
            <a:ext cx="2286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7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90560" cy="6094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838440" cy="6858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3962520" y="3505320"/>
            <a:ext cx="1295280" cy="761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380880" y="3581280"/>
            <a:ext cx="866880" cy="6858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5943600" y="350532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2362320" y="1600200"/>
            <a:ext cx="790560" cy="6094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>
            <a:off x="2286000" y="3581280"/>
            <a:ext cx="990720" cy="6858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9"/>
          <a:stretch/>
        </p:blipFill>
        <p:spPr>
          <a:xfrm>
            <a:off x="533520" y="541008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0"/>
          <a:stretch/>
        </p:blipFill>
        <p:spPr>
          <a:xfrm>
            <a:off x="4267080" y="5486400"/>
            <a:ext cx="1247760" cy="6825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1"/>
          <a:stretch/>
        </p:blipFill>
        <p:spPr>
          <a:xfrm>
            <a:off x="2209680" y="5562720"/>
            <a:ext cx="1219320" cy="65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3886200" cy="2660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276720" y="2209680"/>
            <a:ext cx="2286000" cy="15004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762120" y="838080"/>
            <a:ext cx="1828800" cy="1219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3962520" y="2514600"/>
            <a:ext cx="990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gh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029200" y="304920"/>
            <a:ext cx="2895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字母组合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295280" y="1066680"/>
            <a:ext cx="838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r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057400" y="685800"/>
            <a:ext cx="2286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191120" y="1752480"/>
            <a:ext cx="228600" cy="152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2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2362320" y="99072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5181480" y="2590920"/>
            <a:ext cx="13716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120" y="990720"/>
            <a:ext cx="7162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2208240" y="0"/>
            <a:ext cx="115808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24080" y="2743200"/>
            <a:ext cx="3962520" cy="32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2743200"/>
            <a:ext cx="4724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omorrow is my birthday.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ut I have a stomachache.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y parents always say: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on't eat too much cake.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on't forget. Kate!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k.Ok.Ok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836640" y="3733920"/>
            <a:ext cx="35035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创作者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:</a:t>
            </a: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五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(1)</a:t>
            </a: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班  袁丽金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1752480"/>
            <a:ext cx="762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2362320" cy="22748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1447560" cy="12193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3200400" y="4343400"/>
            <a:ext cx="1752480" cy="12477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6934320" y="4419720"/>
            <a:ext cx="1904760" cy="10332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80880" y="2362320"/>
            <a:ext cx="1295640" cy="838080"/>
          </a:xfrm>
          <a:prstGeom prst="cloudCallout">
            <a:avLst>
              <a:gd name="adj1" fmla="val -31046"/>
              <a:gd name="adj2" fmla="val 561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9745200">
            <a:off x="3276720" y="1218960"/>
            <a:ext cx="1295280" cy="838080"/>
          </a:xfrm>
          <a:prstGeom prst="cloudCallout">
            <a:avLst>
              <a:gd name="adj1" fmla="val -34837"/>
              <a:gd name="adj2" fmla="val 5194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21105000">
            <a:off x="1752480" y="1752120"/>
            <a:ext cx="1295640" cy="685800"/>
          </a:xfrm>
          <a:prstGeom prst="cloudCallout">
            <a:avLst>
              <a:gd name="adj1" fmla="val -29208"/>
              <a:gd name="adj2" fmla="val 6312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0800000">
            <a:off x="4572000" y="685080"/>
            <a:ext cx="1295280" cy="685800"/>
          </a:xfrm>
          <a:prstGeom prst="cloudCallout">
            <a:avLst>
              <a:gd name="adj1" fmla="val -22796"/>
              <a:gd name="adj2" fmla="val 5555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o</a:t>
            </a: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字母组合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6248520" y="380160"/>
            <a:ext cx="1295280" cy="685800"/>
          </a:xfrm>
          <a:prstGeom prst="cloudCallout">
            <a:avLst>
              <a:gd name="adj1" fmla="val -93384"/>
              <a:gd name="adj2" fmla="val 2221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0800000">
            <a:off x="4191120" y="2819160"/>
            <a:ext cx="1295280" cy="685800"/>
          </a:xfrm>
          <a:prstGeom prst="cloudCallout">
            <a:avLst>
              <a:gd name="adj1" fmla="val -22796"/>
              <a:gd name="adj2" fmla="val 5555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0800000">
            <a:off x="2666520" y="3123720"/>
            <a:ext cx="1295640" cy="685800"/>
          </a:xfrm>
          <a:prstGeom prst="cloudCallout">
            <a:avLst>
              <a:gd name="adj1" fmla="val -52208"/>
              <a:gd name="adj2" fmla="val 9999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10800000">
            <a:off x="5866920" y="2285640"/>
            <a:ext cx="1295640" cy="685800"/>
          </a:xfrm>
          <a:prstGeom prst="cloudCallout">
            <a:avLst>
              <a:gd name="adj1" fmla="val -22796"/>
              <a:gd name="adj2" fmla="val 5555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10800000">
            <a:off x="7315200" y="1447560"/>
            <a:ext cx="1295280" cy="685800"/>
          </a:xfrm>
          <a:prstGeom prst="cloudCallout">
            <a:avLst>
              <a:gd name="adj1" fmla="val -22796"/>
              <a:gd name="adj2" fmla="val 5555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600200" y="4191120"/>
            <a:ext cx="83808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3068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0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391520" y="1828800"/>
            <a:ext cx="2286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9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943600" y="2590920"/>
            <a:ext cx="2286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8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2133720"/>
            <a:ext cx="2286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876920" y="533520"/>
            <a:ext cx="2286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400800" y="228600"/>
            <a:ext cx="2286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5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666880" y="3429000"/>
            <a:ext cx="2286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6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981080" y="1523880"/>
            <a:ext cx="228600" cy="152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2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657600" y="990720"/>
            <a:ext cx="2286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191120" y="3200400"/>
            <a:ext cx="2286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7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6200" y="4343400"/>
            <a:ext cx="685800" cy="76320"/>
          </a:xfrm>
          <a:prstGeom prst="rect">
            <a:avLst/>
          </a:prstGeom>
        </p:spPr>
        <p:txBody>
          <a:bodyPr wrap="none" fromWordArt="1" lIns="90000" rIns="90000" tIns="29520" bIns="2952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1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5638680" y="4114800"/>
            <a:ext cx="1067040" cy="1219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3491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2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7772400" y="4191120"/>
            <a:ext cx="6858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573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3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2590920"/>
            <a:ext cx="84780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oy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477120" y="533520"/>
            <a:ext cx="84744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ou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800600" y="838080"/>
            <a:ext cx="8478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ow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581280" y="1447920"/>
            <a:ext cx="84780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ow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057400" y="1828800"/>
            <a:ext cx="8478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oa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324480" y="2362320"/>
            <a:ext cx="84780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or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0" y="2895480"/>
            <a:ext cx="8478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our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971800" y="3200400"/>
            <a:ext cx="8478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ou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657600" y="4648320"/>
            <a:ext cx="84780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oo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057400" y="4724280"/>
            <a:ext cx="8478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oor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696080" y="1447920"/>
            <a:ext cx="99072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or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5334120" y="4343400"/>
            <a:ext cx="1676160" cy="12193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7543800" y="4648320"/>
            <a:ext cx="83808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ong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867280" y="4648320"/>
            <a:ext cx="84780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oo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4495680" y="3505320"/>
            <a:ext cx="990720" cy="4572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7"/>
          <a:stretch/>
        </p:blipFill>
        <p:spPr>
          <a:xfrm>
            <a:off x="5638680" y="5410080"/>
            <a:ext cx="1219320" cy="6858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8"/>
          <a:stretch/>
        </p:blipFill>
        <p:spPr>
          <a:xfrm>
            <a:off x="3429000" y="5334120"/>
            <a:ext cx="1295280" cy="7189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9"/>
          <a:stretch/>
        </p:blipFill>
        <p:spPr>
          <a:xfrm>
            <a:off x="2971800" y="3809880"/>
            <a:ext cx="914400" cy="4669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10"/>
          <a:stretch/>
        </p:blipFill>
        <p:spPr>
          <a:xfrm>
            <a:off x="2057400" y="2438280"/>
            <a:ext cx="866880" cy="5335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11"/>
          <a:stretch/>
        </p:blipFill>
        <p:spPr>
          <a:xfrm>
            <a:off x="3657600" y="2133720"/>
            <a:ext cx="914400" cy="4665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12"/>
          <a:stretch/>
        </p:blipFill>
        <p:spPr>
          <a:xfrm>
            <a:off x="609480" y="3200400"/>
            <a:ext cx="914400" cy="466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3"/>
          <a:stretch/>
        </p:blipFill>
        <p:spPr>
          <a:xfrm>
            <a:off x="4952880" y="1447920"/>
            <a:ext cx="914400" cy="5094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14"/>
          <a:stretch/>
        </p:blipFill>
        <p:spPr>
          <a:xfrm>
            <a:off x="6477120" y="1066680"/>
            <a:ext cx="990360" cy="533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15"/>
          <a:stretch/>
        </p:blipFill>
        <p:spPr>
          <a:xfrm>
            <a:off x="6172200" y="2971800"/>
            <a:ext cx="914400" cy="5335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6"/>
          <a:stretch/>
        </p:blipFill>
        <p:spPr>
          <a:xfrm>
            <a:off x="1752480" y="5410080"/>
            <a:ext cx="1171800" cy="6858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7"/>
          <a:stretch/>
        </p:blipFill>
        <p:spPr>
          <a:xfrm>
            <a:off x="7696080" y="2133720"/>
            <a:ext cx="866880" cy="6188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8"/>
          <a:stretch/>
        </p:blipFill>
        <p:spPr>
          <a:xfrm>
            <a:off x="7315200" y="5334120"/>
            <a:ext cx="685800" cy="5601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9"/>
          <a:stretch/>
        </p:blipFill>
        <p:spPr>
          <a:xfrm>
            <a:off x="8001000" y="5334120"/>
            <a:ext cx="68580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8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6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6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6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6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6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6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6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6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6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6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6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6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8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8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8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8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8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8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8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8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8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8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6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6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6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6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6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6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6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6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6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6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6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6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6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6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6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6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6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6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6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6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6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6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6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6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6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6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6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6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6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6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6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6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6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6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496040" cy="35049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 rot="13438200">
            <a:off x="1447920" y="1600200"/>
            <a:ext cx="2657520" cy="1766880"/>
          </a:xfrm>
          <a:prstGeom prst="cloudCallout">
            <a:avLst>
              <a:gd name="adj1" fmla="val -75685"/>
              <a:gd name="adj2" fmla="val 3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286000" y="2133720"/>
            <a:ext cx="137160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ur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371600" y="3808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u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字母组合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4038480" y="2057400"/>
            <a:ext cx="1295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-912960" y="0"/>
            <a:ext cx="11047680" cy="73152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990360" cy="9525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7924680" y="1143000"/>
            <a:ext cx="914400" cy="7286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600200" y="914400"/>
            <a:ext cx="1257480" cy="11048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2895480" y="1143000"/>
            <a:ext cx="1752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Round 5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353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7696080" y="4800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876920" y="1143000"/>
            <a:ext cx="2819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听录音</a:t>
            </a: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找出押韵音素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961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4" dur="1045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33520" y="-227160"/>
            <a:ext cx="6933960" cy="38084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523880" y="3429000"/>
            <a:ext cx="6782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e is a little b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e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ing from the apple tr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e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ying in the flow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 can’t s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e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754380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7086600" y="3352680"/>
            <a:ext cx="7905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7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0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3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6" dur="1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988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1" dur="8045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5867280" cy="304812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609480" y="350532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br</a:t>
            </a: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ow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 c</a:t>
            </a: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ow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 n</a:t>
            </a: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ow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93432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7086600" y="3048120"/>
            <a:ext cx="914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8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1" dur="2325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4800600" cy="29718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981080" y="42670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3048120"/>
            <a:ext cx="739116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a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.B</a:t>
            </a: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a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.B</a:t>
            </a: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a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dog is b</a:t>
            </a: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a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ing </a:t>
            </a: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ter the c</a:t>
            </a: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a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701028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6553080" y="3429000"/>
            <a:ext cx="990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8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8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8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8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0" dur="4154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4876920" cy="33526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7162920" y="1295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990720" y="358128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.This is little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h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es to bed with his trousers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shoe off and one shoe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.This is little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h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6705720" y="2362320"/>
            <a:ext cx="685800" cy="5601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0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0" dur="10815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5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8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1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4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16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16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6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6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915400" cy="62866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133720" y="1447920"/>
            <a:ext cx="4495680" cy="32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752480" y="2133720"/>
            <a:ext cx="54104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Our Works!</a:t>
            </a: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我们的作品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!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0" y="533520"/>
            <a:ext cx="8763120" cy="5214600"/>
          </a:xfrm>
          <a:prstGeom prst="rect">
            <a:avLst/>
          </a:prstGeom>
          <a:solidFill>
            <a:srgbClr val="f4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The baby and the lady are playing by the lake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梁家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The four tall reporter are talking about sports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卢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I like the toy bear.I often brush its hair.I have a                pear near the chair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袁丽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Today is cold.Don’t forget to put on your coat.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go to school by boat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袁玲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Kate often makes birthday cakes on holiday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David is saying”Maybe Kate can’t skate.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杨晓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)The ugly man has one hundred ducks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蔡怡婕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)The farmer has a large farm and a car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蔡怡婕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) After art class we put down  sunglasses and sit on the      grass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朱嘉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) Miss Mo, She’s tall.She has a dog, it’s small.She likes walking and riding a horse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卢惠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7238880" y="3962520"/>
            <a:ext cx="561960" cy="3902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8582040" y="990720"/>
            <a:ext cx="561960" cy="4572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7238880" y="3505320"/>
            <a:ext cx="561960" cy="3902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8582040" y="533520"/>
            <a:ext cx="561960" cy="4665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6"/>
          <a:stretch/>
        </p:blipFill>
        <p:spPr>
          <a:xfrm>
            <a:off x="5486400" y="2362320"/>
            <a:ext cx="561960" cy="4665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7"/>
          <a:stretch/>
        </p:blipFill>
        <p:spPr>
          <a:xfrm>
            <a:off x="4572000" y="1600200"/>
            <a:ext cx="561960" cy="4665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8"/>
          <a:stretch/>
        </p:blipFill>
        <p:spPr>
          <a:xfrm>
            <a:off x="8001000" y="2666880"/>
            <a:ext cx="561960" cy="4669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9"/>
          <a:stretch/>
        </p:blipFill>
        <p:spPr>
          <a:xfrm>
            <a:off x="8001000" y="3200400"/>
            <a:ext cx="561960" cy="4665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0"/>
          <a:stretch/>
        </p:blipFill>
        <p:spPr>
          <a:xfrm>
            <a:off x="2514600" y="4572000"/>
            <a:ext cx="561960" cy="3906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11"/>
          <a:stretch/>
        </p:blipFill>
        <p:spPr>
          <a:xfrm>
            <a:off x="5562720" y="5334120"/>
            <a:ext cx="5619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A254-1F0F-4587-9FBB-F8258EF071C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30312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43000" y="0"/>
            <a:ext cx="6858000" cy="442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lo Kate,hello M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playing by the la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vid ,David .You are so l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e on ,Davi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make a birthday c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0" y="3657600"/>
            <a:ext cx="3733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创作者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:</a:t>
            </a: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五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(1)</a:t>
            </a: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班  杨晓莹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99760" cy="7316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24000" y="1413000"/>
            <a:ext cx="5327640" cy="412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1557360"/>
            <a:ext cx="4859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s fast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 or me?No,no,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ll me,tell me ,pl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eetahs,teetah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you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s,Thank you ,R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s the ugli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? You or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,no,no. Tell me,tell me ,pl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rocodiles,crocod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you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s.Thank you,J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5562720"/>
            <a:ext cx="957240" cy="1295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478560" y="1773360"/>
            <a:ext cx="2665440" cy="1871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408720" y="3789360"/>
            <a:ext cx="2735280" cy="1579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04920" y="533520"/>
            <a:ext cx="3733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创作者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:Miss Lie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912960" y="-303120"/>
            <a:ext cx="11352240" cy="7618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990360" cy="952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543800" y="4986360"/>
            <a:ext cx="1295280" cy="728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600200" y="914400"/>
            <a:ext cx="1257480" cy="1104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600200" y="5105520"/>
            <a:ext cx="1752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Round 1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733920" y="5029200"/>
            <a:ext cx="2819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开闭音节歌</a:t>
            </a: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\</a:t>
            </a: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拼读单词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752480" y="3200400"/>
            <a:ext cx="1752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Round 3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52480" y="4191120"/>
            <a:ext cx="1752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Round 2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52480" y="2286000"/>
            <a:ext cx="1752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Round 4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8120" y="1219320"/>
            <a:ext cx="1752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Round 5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78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7696080" y="4800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3809880" y="2209680"/>
            <a:ext cx="2819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归纳字母组合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62520" y="3124080"/>
            <a:ext cx="2819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拼读音标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86200" y="4114800"/>
            <a:ext cx="2819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认读</a:t>
            </a: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8</a:t>
            </a: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个音素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105520" y="1219320"/>
            <a:ext cx="2819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听录音</a:t>
            </a: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找出押韵音素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045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752480" y="1447920"/>
            <a:ext cx="5334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Round 1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09680" y="3733920"/>
            <a:ext cx="4419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an you sing?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85880" y="3276720"/>
            <a:ext cx="1195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106668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5972040"/>
            <a:ext cx="66294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79440" y="0"/>
            <a:ext cx="9523440" cy="7143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295280" y="304920"/>
            <a:ext cx="5943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Can you read it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1981080"/>
            <a:ext cx="297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66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6600" spc="-1" strike="noStrike">
                <a:solidFill>
                  <a:srgbClr val="cc3300"/>
                </a:solidFill>
                <a:latin typeface="Arial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00"/>
                </a:solidFill>
                <a:latin typeface="Arial"/>
              </a:rPr>
              <a:t>憎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3T02:51:1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08:01Z</dcterms:modified>
  <cp:revision>2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