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.gif" ContentType="image/gif"/>
  <Override PartName="/ppt/media/image6.jpeg" ContentType="image/jpeg"/>
  <Override PartName="/ppt/media/image10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744-B3FD-44A3-ADB2-FF95B056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641-4640-455A-8A73-7D2C081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7DB-AE32-4623-A6D1-EEA3CFB5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20A-5C17-4038-9405-4D78F668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182E-2CE2-45FD-BDDF-0E6DE01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B4E4-BE2D-43AB-A2E6-2C0D658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B73-F805-4694-ADC1-9262AFA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1D01-86BB-4732-95F9-3D90B32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975-2711-4C42-B179-4F78F550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EC7-352F-49FE-917B-13BD570C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F30-5ACF-4B3A-AC1F-ACD19DB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4DB-B41D-471F-B354-8E934875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1EF-B2BB-4613-91DA-8880FB1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1B50-5D1C-4A68-BE69-ED2E804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07BF-B194-46CE-BAB4-3626E57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DB8-1224-4A60-982E-9C1A9B12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7EB-0254-4E79-9B47-42192553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4E8F-A22E-43B9-B2E8-2FD23DD5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8A40-D9A6-4BE0-AFB1-AE15673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11C2-4EA4-47CD-A4B2-08B8577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4D6F-CB44-43B2-A4B3-A65217A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2950-CF2E-456A-9D56-19A11432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AFA-8ECA-46FA-B897-373A46C8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F714-F885-469F-8BCB-3784254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03DF-CC93-4E5A-8662-A45BEEE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CB1E-3EA4-42E9-A4C7-589C5D1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7F7D-D7E3-4169-AB5F-ACDE494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E479-B0AE-4A80-BA34-B4C976AC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A975-E77C-46E5-971C-F84C2C60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9B9B-C235-47CB-86E1-DBE6D763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4BF-76F2-41BA-874C-2246AB9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54B-6593-4A05-B87D-72AA604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1A6-4AE7-41B3-BB73-E9111D2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385-B9B2-4193-872B-ED89A71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512-D533-455A-8C50-F0122AD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55F-186A-4E0F-9E07-A0C87DC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4817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34818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34819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34820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34821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任意多边形 34822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任意多边形 34823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34824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34825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34826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34827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34828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34829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34830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34831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34832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34833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34834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任意多边形 34835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任意多边形 34836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任意多边形 34837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34838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34839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34840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34841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34842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任意多边形 34843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任意多边形 34844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任意多边形 34845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任意多边形 34846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任意多边形 34847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任意多边形 34848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任意多边形 34849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任意多边形 34850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任意多边形 34851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任意多边形 34852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矩形 34853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矩形 34854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任意多边形 34855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34856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34857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34858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34859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34860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34861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34862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34863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4864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4865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4866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34867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34868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4869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34870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34871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34872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34873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34874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34875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34876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4877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4878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34879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34880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34881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34882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34883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34884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34885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34886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34887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34888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4889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4890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34891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34892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34893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34894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34895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34896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34897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34898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34899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34900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4901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34902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34903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34904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905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4906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4907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34908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34909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34910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34911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34912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4913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34914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34915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34916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4917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4918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4919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34920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34921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4922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34923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34924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4925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4926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34927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34928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34929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34930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34931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34932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34933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34934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34935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34936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4937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34938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34939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34940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34941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4942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4943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4944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34945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4946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34947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4948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4949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4950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34951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34952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34953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34954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34955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34956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34957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34958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34959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34960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4961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34962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34963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34964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34965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34966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34967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34968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34969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34970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4971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34972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34973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4974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34975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34976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4977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34978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34979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34980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34981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34982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34983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34984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4985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4986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987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4988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4989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4990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34991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34992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34993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34994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34995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34996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34997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4998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4999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5000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35001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35002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35003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35004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35005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35006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35007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35008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5009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35010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35011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5012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35013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35014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35015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35016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5017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35018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35019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35020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5021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35022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35023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35024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35025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35026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35027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35028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35029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35030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35031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35032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35033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35034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35035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35036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35037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35038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5039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35040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5041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5042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5043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35044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35045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35046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35047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35048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35049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35050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35051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35052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35053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35054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35055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35056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任意多边形 35057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35058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35059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35060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35061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35062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D00-2F1C-4A3A-91D4-F77AA1C6BB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EAD4-B7BD-496D-96AE-F28B9A6C7E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6B7-DDF2-4026-AA38-D5BDCD1E7B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任意多边形 35841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35842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任意多边形 35843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35844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5845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5846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35847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35848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35849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35850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35851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35852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35853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35854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35855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35856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矩形 35857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35858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35859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35860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35861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5862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35863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35864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35865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35866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35867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35868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35869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35870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5871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5872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35873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35874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任意多边形 35875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5876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5877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35878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35879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880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35881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35882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35883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35884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35885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35886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35887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35888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35889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35890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5891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35892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35893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35894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35895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35896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35897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35898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899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35900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35901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35902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35903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5904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35905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35906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35907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35908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909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5910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5911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35912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35913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35914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35915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35916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917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35918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5919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35920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35921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35922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35923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35924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35925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35926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35927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35928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35929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35930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35931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35932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35933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35934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35935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35936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35937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35938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35939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35940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35941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35942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35943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35944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35945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35946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35947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35948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35949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35950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35951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35952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35953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35954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35955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35956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35957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35958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任意多边形 35959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35960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任意多边形 35961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35962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35963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35964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35965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35966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35967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35968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35969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35970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35971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35972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35973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35974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任意多边形 35975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35976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35977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35978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35979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980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35981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35982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35983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984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35985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35986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987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35988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35989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35990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35991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35992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35993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35994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35995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任意多边形 35996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任意多边形 35997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任意多边形 35998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35999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6000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36001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组合 36007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任意多边形 36008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36009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任意多边形 36010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任意多边形 36011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任意多边形 36012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任意多边形 36013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36014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36015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36016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36017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36018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任意多边形 36019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36020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745-8FC2-48EB-B756-1BB11DC99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bjz.ebigchina.com/cws.phtml?page=pd&amp;cid=58435&amp;view=&amp;StyleID=8&amp;ColorID=2&amp;pt=&amp;pid=158793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xbjz.ebigchina.com/cws.phtml?page=pd&amp;cid=58435&amp;view=&amp;StyleID=8&amp;ColorID=2&amp;pt=&amp;pid=141074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tjzh.nease.net/newproduct/cais/no-jz0167.JP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6.jpeg"/><Relationship Id="rId8" Type="http://schemas.openxmlformats.org/officeDocument/2006/relationships/image" Target="../media/image15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tjzh.nease.net/newproduct/cais/no-jz0168.jpg" TargetMode="External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2051" descr="dunhuang8"/>
          <p:cNvPicPr/>
          <p:nvPr/>
        </p:nvPicPr>
        <p:blipFill>
          <a:blip r:embed="rId1"/>
          <a:stretch/>
        </p:blipFill>
        <p:spPr>
          <a:xfrm>
            <a:off x="539640" y="260280"/>
            <a:ext cx="1851120" cy="19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  <a:ea typeface="黑体"/>
              </a:rPr>
              <a:t>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主讲人：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  <a:ea typeface="黑体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055"/>
          <p:cNvSpPr txBox="1"/>
          <p:nvPr/>
        </p:nvSpPr>
        <p:spPr>
          <a:xfrm>
            <a:off x="2124000" y="2276640"/>
            <a:ext cx="54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质朴的民间剪纸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47" name="日期占位符 1"/>
          <p:cNvSpPr/>
          <p:nvPr/>
        </p:nvSpPr>
        <p:spPr>
          <a:xfrm>
            <a:off x="301680" y="62485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民间剪纸的渊源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文本框 36877"/>
          <p:cNvSpPr/>
          <p:nvPr/>
        </p:nvSpPr>
        <p:spPr>
          <a:xfrm>
            <a:off x="250920" y="105264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66cc"/>
                </a:solidFill>
                <a:latin typeface="宋体"/>
              </a:rPr>
              <a:t>剪纸是中国最为流行的民间艺术之一，根据考古其历史可追朔到公元六世纪，但人们认为它的实际开始时间比这还要早几百年。剪纸常用于宗教仪式，装饰和造型艺术等方面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66cc"/>
                </a:solidFill>
                <a:latin typeface="宋体"/>
              </a:rPr>
              <a:t>　　在过去，人们经常用纸做成形态各异的物像和人像，与死者一起下葬或葬礼上燃烧，这一习俗在中国境外有时仍可见到。剪纸艺术一般都有象征意义，也是这种仪式的一部分；此外剪纸还被用作祭祀祖先和神仙所用供品的装饰物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66cc"/>
                </a:solidFill>
                <a:latin typeface="宋体"/>
              </a:rPr>
              <a:t>　　现在，剪纸更多地是用于装饰。剪纸可用于点缀墙壁、门窗、房柱、镜子、灯和灯笼等，也可为礼品作点缀之用，甚至剪纸本身也可作为礼物赠送他人。人们以前还常把剪纸作绣花和喷漆艺术的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模型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内容占位符 36899" descr="RY_149"/>
          <p:cNvPicPr/>
          <p:nvPr/>
        </p:nvPicPr>
        <p:blipFill>
          <a:blip r:embed="rId1"/>
          <a:stretch/>
        </p:blipFill>
        <p:spPr>
          <a:xfrm>
            <a:off x="8101080" y="4797360"/>
            <a:ext cx="788760" cy="1670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36901" descr="RY_203"/>
          <p:cNvPicPr/>
          <p:nvPr/>
        </p:nvPicPr>
        <p:blipFill>
          <a:blip r:embed="rId2"/>
          <a:stretch/>
        </p:blipFill>
        <p:spPr>
          <a:xfrm rot="20931000">
            <a:off x="684360" y="260280"/>
            <a:ext cx="1245960" cy="9972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-757080" y="2997000"/>
            <a:ext cx="431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1116000" y="2997360"/>
            <a:ext cx="647640" cy="1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内容占位符 36905" descr="十二生肖，5"/>
          <p:cNvPicPr/>
          <p:nvPr/>
        </p:nvPicPr>
        <p:blipFill>
          <a:blip r:embed="rId3"/>
          <a:stretch/>
        </p:blipFill>
        <p:spPr>
          <a:xfrm>
            <a:off x="-1068480" y="2997360"/>
            <a:ext cx="336600" cy="344160"/>
          </a:xfrm>
          <a:prstGeom prst="rect">
            <a:avLst/>
          </a:prstGeom>
          <a:ln w="0">
            <a:noFill/>
          </a:ln>
        </p:spPr>
      </p:pic>
      <p:sp>
        <p:nvSpPr>
          <p:cNvPr id="555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民间剪纸的内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10600" y="1484280"/>
            <a:ext cx="400068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民间剪纸的内容包括动物、植物、人物、民间故事和现实生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内容占位符 37895" descr="1035998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484280"/>
            <a:ext cx="1727280" cy="131616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37898" descr="10359985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4149720"/>
            <a:ext cx="1800360" cy="159696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37899" descr="12sh1"/>
          <p:cNvPicPr/>
          <p:nvPr/>
        </p:nvPicPr>
        <p:blipFill>
          <a:blip r:embed="rId5"/>
          <a:stretch/>
        </p:blipFill>
        <p:spPr>
          <a:xfrm>
            <a:off x="530280" y="4149720"/>
            <a:ext cx="1593720" cy="17272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37905" descr="hlj2"/>
          <p:cNvPicPr/>
          <p:nvPr/>
        </p:nvPicPr>
        <p:blipFill>
          <a:blip r:embed="rId6"/>
          <a:stretch/>
        </p:blipFill>
        <p:spPr>
          <a:xfrm>
            <a:off x="7093080" y="1268280"/>
            <a:ext cx="1457280" cy="1724040"/>
          </a:xfrm>
          <a:prstGeom prst="rect">
            <a:avLst/>
          </a:prstGeom>
          <a:ln w="0">
            <a:noFill/>
          </a:ln>
        </p:spPr>
      </p:pic>
      <p:pic>
        <p:nvPicPr>
          <p:cNvPr id="562" name="内容占位符 37907" descr="js1"/>
          <p:cNvPicPr/>
          <p:nvPr/>
        </p:nvPicPr>
        <p:blipFill>
          <a:blip r:embed="rId7"/>
          <a:stretch/>
        </p:blipFill>
        <p:spPr>
          <a:xfrm>
            <a:off x="3276720" y="4149720"/>
            <a:ext cx="2449440" cy="1774800"/>
          </a:xfrm>
          <a:prstGeom prst="rect">
            <a:avLst/>
          </a:prstGeom>
          <a:ln w="0">
            <a:noFill/>
          </a:ln>
        </p:spPr>
      </p:pic>
      <p:sp>
        <p:nvSpPr>
          <p:cNvPr id="563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57349"/>
          <p:cNvSpPr txBox="1"/>
          <p:nvPr/>
        </p:nvSpPr>
        <p:spPr>
          <a:xfrm>
            <a:off x="826920" y="1268280"/>
            <a:ext cx="37515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剪纸有折纸剪和随意剪两种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剪纸的形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66" name="内容占位符 57347" descr="RY_203"/>
          <p:cNvPicPr/>
          <p:nvPr/>
        </p:nvPicPr>
        <p:blipFill>
          <a:blip r:embed="rId1"/>
          <a:stretch/>
        </p:blipFill>
        <p:spPr>
          <a:xfrm rot="19898400">
            <a:off x="1619280" y="404280"/>
            <a:ext cx="1008000" cy="806760"/>
          </a:xfrm>
          <a:prstGeom prst="rect">
            <a:avLst/>
          </a:prstGeom>
          <a:ln w="0">
            <a:noFill/>
          </a:ln>
        </p:spPr>
      </p:pic>
      <p:pic>
        <p:nvPicPr>
          <p:cNvPr id="567" name="内容占位符 57358" descr="no-jz016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4581360"/>
            <a:ext cx="2305080" cy="1668600"/>
          </a:xfrm>
          <a:prstGeom prst="rect">
            <a:avLst/>
          </a:prstGeom>
          <a:ln w="0">
            <a:noFill/>
          </a:ln>
        </p:spPr>
      </p:pic>
      <p:pic>
        <p:nvPicPr>
          <p:cNvPr id="568" name="内容占位符 57360" descr="no-jz0069"/>
          <p:cNvPicPr/>
          <p:nvPr/>
        </p:nvPicPr>
        <p:blipFill>
          <a:blip r:embed="rId4"/>
          <a:stretch/>
        </p:blipFill>
        <p:spPr>
          <a:xfrm>
            <a:off x="6586560" y="1773360"/>
            <a:ext cx="2557440" cy="5084640"/>
          </a:xfrm>
          <a:prstGeom prst="rect">
            <a:avLst/>
          </a:prstGeom>
          <a:ln w="0">
            <a:noFill/>
          </a:ln>
        </p:spPr>
      </p:pic>
      <p:pic>
        <p:nvPicPr>
          <p:cNvPr id="569" name="内容占位符 57363" descr="no-jz0076"/>
          <p:cNvPicPr/>
          <p:nvPr/>
        </p:nvPicPr>
        <p:blipFill>
          <a:blip r:embed="rId5"/>
          <a:stretch/>
        </p:blipFill>
        <p:spPr>
          <a:xfrm>
            <a:off x="0" y="1916280"/>
            <a:ext cx="3562200" cy="49417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57366" descr="no-jz0082"/>
          <p:cNvPicPr/>
          <p:nvPr/>
        </p:nvPicPr>
        <p:blipFill>
          <a:blip r:embed="rId6"/>
          <a:stretch/>
        </p:blipFill>
        <p:spPr>
          <a:xfrm>
            <a:off x="4175280" y="1989000"/>
            <a:ext cx="1765080" cy="2592360"/>
          </a:xfrm>
          <a:prstGeom prst="rect">
            <a:avLst/>
          </a:prstGeom>
          <a:ln w="0">
            <a:noFill/>
          </a:ln>
        </p:spPr>
      </p:pic>
      <p:sp>
        <p:nvSpPr>
          <p:cNvPr id="57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剪纸的制作过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73" name="内容占位符 50251" descr="步骤222"/>
          <p:cNvPicPr/>
          <p:nvPr/>
        </p:nvPicPr>
        <p:blipFill>
          <a:blip r:embed="rId1"/>
          <a:stretch/>
        </p:blipFill>
        <p:spPr>
          <a:xfrm>
            <a:off x="2556000" y="4653000"/>
            <a:ext cx="2016000" cy="16812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50183" descr="十二生肖，5"/>
          <p:cNvPicPr/>
          <p:nvPr/>
        </p:nvPicPr>
        <p:blipFill>
          <a:blip r:embed="rId2"/>
          <a:stretch/>
        </p:blipFill>
        <p:spPr>
          <a:xfrm>
            <a:off x="324000" y="333360"/>
            <a:ext cx="110484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"/>
          <p:cNvGraphicFramePr/>
          <p:nvPr/>
        </p:nvGraphicFramePr>
        <p:xfrm>
          <a:off x="9145440" y="-2403360"/>
          <a:ext cx="755640" cy="116697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116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6" name="图片 50221" descr="步骤111"/>
          <p:cNvPicPr/>
          <p:nvPr/>
        </p:nvPicPr>
        <p:blipFill>
          <a:blip r:embed="rId3"/>
          <a:stretch/>
        </p:blipFill>
        <p:spPr>
          <a:xfrm>
            <a:off x="3786120" y="-208440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50223" descr="步骤222"/>
          <p:cNvPicPr/>
          <p:nvPr/>
        </p:nvPicPr>
        <p:blipFill>
          <a:blip r:embed="rId4"/>
          <a:stretch/>
        </p:blipFill>
        <p:spPr>
          <a:xfrm>
            <a:off x="3968640" y="-20844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50225" descr="步骤333"/>
          <p:cNvPicPr/>
          <p:nvPr/>
        </p:nvPicPr>
        <p:blipFill>
          <a:blip r:embed="rId5"/>
          <a:stretch/>
        </p:blipFill>
        <p:spPr>
          <a:xfrm>
            <a:off x="4151160" y="-20844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50227" descr="步骤444"/>
          <p:cNvPicPr/>
          <p:nvPr/>
        </p:nvPicPr>
        <p:blipFill>
          <a:blip r:embed="rId6"/>
          <a:stretch/>
        </p:blipFill>
        <p:spPr>
          <a:xfrm>
            <a:off x="4334040" y="-1795320"/>
            <a:ext cx="1114200" cy="117144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50249" descr="步骤333"/>
          <p:cNvPicPr/>
          <p:nvPr/>
        </p:nvPicPr>
        <p:blipFill>
          <a:blip r:embed="rId7"/>
          <a:stretch/>
        </p:blipFill>
        <p:spPr>
          <a:xfrm>
            <a:off x="4643280" y="465300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581" name="内容占位符 50255" descr="步骤111"/>
          <p:cNvPicPr/>
          <p:nvPr/>
        </p:nvPicPr>
        <p:blipFill>
          <a:blip r:embed="rId8"/>
          <a:stretch/>
        </p:blipFill>
        <p:spPr>
          <a:xfrm>
            <a:off x="611280" y="4641840"/>
            <a:ext cx="1873080" cy="164484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50263" descr="步骤444"/>
          <p:cNvPicPr/>
          <p:nvPr/>
        </p:nvPicPr>
        <p:blipFill>
          <a:blip r:embed="rId9"/>
          <a:stretch/>
        </p:blipFill>
        <p:spPr>
          <a:xfrm>
            <a:off x="6732720" y="4653000"/>
            <a:ext cx="2016000" cy="16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3" name=""/>
          <p:cNvGraphicFramePr/>
          <p:nvPr/>
        </p:nvGraphicFramePr>
        <p:xfrm>
          <a:off x="539640" y="1628640"/>
          <a:ext cx="8209080" cy="2238480"/>
        </p:xfrm>
        <a:graphic>
          <a:graphicData uri="http://schemas.openxmlformats.org/drawingml/2006/table">
            <a:tbl>
              <a:tblPr/>
              <a:tblGrid>
                <a:gridCol w="7778880"/>
                <a:gridCol w="43020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在彩纸背面画出所剪图案的草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自内而外刻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到阴线相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阳线相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剪刀剪出外轮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后把剪刻好的作品压平粘贴在白纸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-0.54561 C -0.05712 -0.58125 -0.03368 -0.57662 -0.00921 -0.57894 C 0.04982 -0.57547 0.10451 -0.56783 0.15902 -0.53635 C 0.17812 -0.44838 0.18958 -0.29422 0.11128 -0.25162 C 0.09097 -0.24051 0.00191 -0.23496 -0.01598 -0.23334 C -0.03768 -0.23588 -0.08039 -0.23449 -0.10226 -0.25463 C -0.10625 -0.25834 -0.10521 -0.2669 -0.10677 -0.27292 C -0.10643 -0.28079 -0.10539 -0.4125 -0.09098 -0.43635 C -0.07882 -0.45625 -0.00886 -0.46227 4.72222E-006 -0.46366 C 0.03055 -0.46227 0.0967 -0.46412 0.12725 -0.44561 C 0.14201 -0.43681 0.15139 -0.41713 0.16354 -0.40301 C 0.17604 -0.3051 0.18194 -0.21297 0.13402 -0.13033 C 0.12083 -0.10764 0.10711 -0.0838 0.08854 -0.06968 C 0.06666 -0.05301 0.00868 -0.05301 -0.01598 -0.05162 C -0.02657 -0.05463 -0.03785 -0.05486 -0.04775 -0.06065 C -0.05851 -0.06713 -0.06059 -0.09676 -0.06372 -0.10926 C -0.06181 -0.16019 -0.07986 -0.21713 -0.04775 -0.24561 C -0.04236 -0.23102 -0.03629 -0.21644 -0.02952 -0.20301 C -0.02292 -0.17639 -0.03403 -0.21899 -0.02049 -0.17894 C -0.01407 -0.15973 -0.01372 -0.13889 -0.00452 -0.1213 C -0.00382 -0.11736 -0.00313 -0.1132 -0.00226 -0.10926 C -0.00087 -0.10301 0.00225 -0.09098 0.00225 -0.09098 C -0.00018 -0.00811000000000001 4.72222E-006 -0.03843 4.72222E-006 2.96296E-006 E">
                                      <p:cBhvr>
                                        <p:cTn id="142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5 -0.39398 C -0.26789 -0.40324 -0.24844 -0.41435 -0.22726 -0.4213 C -0.22188 -0.42315 -0.1731 -0.42732 -0.17275 -0.42732 C -0.13942 -0.42639 -0.10608 -0.42662 -0.07275 -0.42431 C -0.01112 -0.42014 -0.06199 -0.42176 -0.02726 -0.41204 C 0.06475 -0.38635 -0.03751 -0.42199 0.05451 -0.38797 C 0.0677 -0.37732 0.08385 -0.36459 0.09097 -0.34537 C 0.09496 -0.33449 0.096 -0.3206 0.09774 -0.30903 C 0.09704 -0.29885 0.09739 -0.27454 0.09097 -0.26366 C 0.07517 -0.23635 0.05642 -0.22477 0.03176 -0.21829 C 0.00763 -0.21922 -0.01667 -0.21852 -0.0408 -0.2213 C -0.05886 -0.22338 -0.05921 -0.2625 -0.06129 -0.27871 C -0.05834 -0.30695 -0.05851 -0.33635 -0.05226 -0.36366 C -0.04844 -0.38079 -0.01008 -0.39005 -0.00678 -0.39097 C 0.0302 -0.40023 0.06926 -0.39954 0.10676 -0.40301 C 0.13697 -0.40047 0.17864 -0.4044 0.20225 -0.37269 C 0.20676 -0.36644 0.20972 -0.35857 0.21371 -0.35162 C 0.22656 -0.29977 0.22152 -0.32801 0.22725 -0.26667 C 0.22569 -0.23241 0.22586 -0.19769 0.22274 -0.16366 C 0.22117 -0.14676 0.21163 -0.1419 0.20451 -0.13033 C 0.18506 -0.09885 0.17604 -0.0831 0.14548 -0.06968 C 0.12795 -0.07107 0.09149 -0.07199 0.07274 -0.07871 C 0.0651 -0.08148 0.0592 -0.08935 0.05225 -0.09398 C 0.03697 -0.12454 0.01406 -0.14838 0.00676 -0.18496 C 0.00902 -0.20463 0.0085 -0.21204 0.02274 -0.21829 C 0.02569 -0.21736 0.02916 -0.2176 0.03176 -0.21528 C 0.03836 -0.20903 0.04392 -0.19306 0.04999 -0.18496 C 0.05364 -0.17477 0.05468 -0.17361 0.05676 -0.16366 C 0.0585 -0.15556 0.06145 -0.13935 0.06145 -0.13935 C 0.06006 -0.10139 0.06562 -0.06806 0.04097 -0.04537 C 0.03437 -0.03241 0.02361 -0.02709 0.01371 -0.01829 C 0.00833 -0.01343 0.00451 -0.00602 -6.94444E-006 -1.48148E-006 E">
                                      <p:cBhvr>
                                        <p:cTn id="145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72 -0.36366 C -0.53646 -0.3757 -0.53472 -0.38357 -0.52951 -0.39398 C -0.52622 -0.41181 -0.51649 -0.42083 -0.50695 -0.43333 C -0.49531 -0.44884 -0.48333 -0.46875 -0.46823 -0.47871 C -0.46545 -0.48056 -0.46215 -0.48033 -0.4592 -0.48171 C -0.44375 -0.48935 -0.42986 -0.49352 -0.41372 -0.49699 C -0.39097 -0.49607 -0.36823 -0.49653 -0.34549 -0.49398 C -0.3408 -0.49352 -0.33195 -0.48773 -0.33195 -0.48773 C -0.32656 -0.48079 -0.31372 -0.46968 -0.31372 -0.46968 C -0.3059 -0.45417 -0.29879 -0.4456 -0.29323 -0.42732 C -0.29445 -0.39722 -0.28802 -0.37246 -0.30451 -0.35139 C -0.31024 -0.34421 -0.30799 -0.34537 -0.31597 -0.34236 C -0.32205 -0.34028 -0.3342 -0.33634 -0.3342 -0.33634 C -0.35017 -0.3375 -0.37257 -0.32801 -0.38195 -0.34537 C -0.38438 -0.34977 -0.38507 -0.35556 -0.38646 -0.36065 C -0.38889 -0.36968 -0.39323 -0.38773 -0.39323 -0.38773 C -0.39306 -0.39074 -0.39063 -0.42824 -0.38872 -0.43634 C -0.38663 -0.44491 -0.38333 -0.44514 -0.37951 -0.45139 C -0.37778 -0.45417 -0.37691 -0.45787 -0.375 -0.46065 C -0.36927 -0.46898 -0.36302 -0.47662 -0.35695 -0.48472 C -0.35017 -0.49375 -0.35087 -0.48889 -0.34323 -0.49398 C -0.32847 -0.50371 -0.31875 -0.50533 -0.30226 -0.50903 C -0.25833 -0.5081 -0.21441 -0.50833 -0.17049 -0.50602 C -0.15833 -0.50533 -0.14618 -0.50347 -0.1342 -0.5 C -0.12483 -0.49722 -0.10695 -0.48773 -0.10695 -0.48773 C -0.10278 -0.48218 -0.09705 -0.47871 -0.09323 -0.47269 C -0.08594 -0.46134 -0.07778 -0.44352 -0.07274 -0.43033 C -0.06754 -0.39583 -0.07014 -0.40996 -0.06597 -0.38773 C -0.06754 -0.36667 -0.06806 -0.34537 -0.07049 -0.32431 C -0.07205 -0.31134 -0.08629 -0.29722 -0.09097 -0.29097 C -0.0941 -0.28681 -0.09861 -0.28519 -0.10226 -0.28171 C -0.10625 -0.27801 -0.10938 -0.27269 -0.11372 -0.26968 C -0.1224 -0.26343 -0.13385 -0.26181 -0.14323 -0.25764 C -0.15382 -0.25972 -0.16476 -0.25972 -0.175 -0.26366 C -0.18472 -0.26736 -0.18872 -0.3 -0.18872 -0.3 C -0.19149 -0.33009 -0.19306 -0.33357 -0.18872 -0.36968 C -0.18524 -0.39884 -0.14375 -0.41621 -0.125 -0.42107 C -0.08872 -0.41621 -0.05226 -0.41204 -0.01597 -0.40602 C 0.00069 -0.40324 0.01805 -0.40116 0.03403 -0.39398 C 0.04965 -0.37315 0.05694 -0.35371 0.06128 -0.32431 C 0.0599 -0.26134 0.06476 -0.20671 0.03854 -0.1544 C 0.03142 -0.14005 0.02448 -0.12477 0.0158 -0.11204 C 0.01146 -0.10579 0.00226 -0.09398 0.00226 -0.09398 C -0.00156 -0.07871 -0.00556 -0.06366 -0.0092 -0.04838 C -0.00816 -0.02986 -0.0125 -2.59259E-006 -3.61111E-006 -2.59259E-006 E">
                                      <p:cBhvr>
                                        <p:cTn id="148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 -0.29375 C -0.7691 -0.29931 -0.78611 -0.29375 -0.80452 -0.28773 C -0.81771 -0.27593 -0.80504 -0.28866 -0.81806 -0.26968 C -0.81806 -0.26968 -0.83629 -0.24514 -0.8408 -0.23935 C -0.84844 -0.22894 -0.85452 -0.21482 -0.86129 -0.20301 C -0.86493 -0.17801 -0.86459 -0.1875 -0.86129 -0.15139 C -0.86094 -0.14723 -0.86094 -0.1426 -0.85903 -0.13935 C -0.85452 -0.13125 -0.84844 -0.12523 -0.84306 -0.11806 C -0.83577 -0.10834 -0.82292 -0.10209 -0.81354 -0.09699 C -0.80903 -0.09468 -0.8 -0.09074 -0.8 -0.09074 C -0.77639 -0.09422 -0.78125 -0.09445 -0.76354 -0.10602 C -0.75868 -0.11574 -0.75504 -0.12523 -0.75226 -0.13635 C -0.75434 -0.16181 -0.74983 -0.15996 -0.76129 -0.17269 C -0.76806 -0.18033 -0.78629 -0.18473 -0.78629 -0.18473 C -0.81285 -0.18195 -0.81441 -0.18681 -0.82952 -0.16667 C -0.83733 -0.13449 -0.82518 -0.18195 -0.83629 -0.14838 C -0.83802 -0.1426 -0.83906 -0.13635 -0.8408 -0.13033 C -0.84601 -0.10903 -0.85729 -0.09051 -0.86354 -0.06968 C -0.86667 -0.04468 -0.86771 -0.04422 -0.86354 -0.01204 C -0.86146 0.00347 -0.85035 0.01643 -0.84306 0.02731 C -0.83143 0.0449 -0.82118 0.06088 -0.80452 0.06967 C -0.78854 0.09166 -0.75556 0.08981 -0.73403 0.09398 C -0.69879 0.10949 -0.66163 0.10162 -0.625 0.1 C -0.60538 0.08287 -0.60938 0.08541 -0.59775 0.05463 C -0.59618 0.05069 -0.59306 0.04259 -0.59306 0.04259 C -0.59063 0.01643 -0.5882 0.00208 -0.59306 -0.02709 C -0.59375 -0.03172 -0.604 -0.03982 -0.60677 -0.04236 C -0.61823 -0.04074 -0.63056 -0.04329 -0.6408 -0.03635 C -0.64375 -0.03449 -0.64531 -0.02986 -0.64775 -0.02709 C -0.65573 -0.01783 -0.66215 -0.01181 -0.66806 4.07407E-006 C -0.67031 0.01227 -0.67309 0.02384 -0.675 0.03634 C -0.67431 0.05555 -0.67413 0.07477 -0.67275 0.09398 C -0.67188 0.10578 -0.66493 0.11759 -0.66129 0.12731 C -0.65834 0.13495 -0.65712 0.14375 -0.65452 0.15162 C -0.64913 0.16782 -0.64063 0.18379 -0.63177 0.19699 C -0.61354 0.2243 -0.59254 0.24282 -0.57031 0.26365 C -0.56632 0.26736 -0.5632 0.27268 -0.55903 0.27592 C -0.55625 0.27801 -0.55295 0.27754 -0.55 0.27893 C -0.53872 0.28449 -0.5283 0.29514 -0.51806 0.30301 C -0.50816 0.31065 -0.49722 0.31342 -0.48629 0.31828 C -0.4724 0.3243 -0.45938 0.33402 -0.44531 0.33958 C -0.44306 0.34051 -0.4408 0.34166 -0.43854 0.34259 C -0.43247 0.34467 -0.42639 0.34652 -0.42031 0.34861 C -0.41736 0.34953 -0.41129 0.35162 -0.41129 0.35162 C -0.37188 0.35 -0.34775 0.35162 -0.31354 0.34259 C -0.30104 0.33102 -0.31302 0.34027 -0.29531 0.33333 C -0.2849 0.32916 -0.27639 0.32176 -0.2658 0.31828 C -0.2559 0.30949 -0.24427 0.3074 -0.23403 0.3 C -0.22917 0.29652 -0.22535 0.29074 -0.22031 0.28796 C -0.21163 0.28333 -0.19375 0.27639 -0.18403 0.26967 C -0.16806 0.25879 -0.18629 0.26759 -0.17031 0.26065 C -0.16285 0.25416 -0.1599 0.2456 -0.15226 0.23958 C -0.1434 0.23264 -0.13281 0.22754 -0.125 0.21828 C -0.11459 0.20602 -0.10695 0.1919 -0.09531 0.18194 C -0.08802 0.16736 -0.07483 0.15463 -0.0658 0.14259 C -0.05382 0.12662 -0.0434 0.10671 -0.03403 0.08796 C -0.01927 0.0581 -1.73472E-018 0.03796 -1.73472E-018 4.07407E-006 E">
                                      <p:cBhvr>
                                        <p:cTn id="151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剪纸作品欣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89" name="内容占位符 60422" descr="RY_203"/>
          <p:cNvPicPr/>
          <p:nvPr/>
        </p:nvPicPr>
        <p:blipFill>
          <a:blip r:embed="rId1"/>
          <a:stretch/>
        </p:blipFill>
        <p:spPr>
          <a:xfrm rot="19392600">
            <a:off x="1541520" y="438120"/>
            <a:ext cx="954000" cy="763560"/>
          </a:xfrm>
          <a:prstGeom prst="rect">
            <a:avLst/>
          </a:prstGeom>
          <a:ln w="0">
            <a:noFill/>
          </a:ln>
        </p:spPr>
      </p:pic>
      <p:pic>
        <p:nvPicPr>
          <p:cNvPr id="590" name="内容占位符 60424" descr="t9-1"/>
          <p:cNvPicPr/>
          <p:nvPr/>
        </p:nvPicPr>
        <p:blipFill>
          <a:blip r:embed="rId2"/>
          <a:stretch/>
        </p:blipFill>
        <p:spPr>
          <a:xfrm>
            <a:off x="468360" y="4221000"/>
            <a:ext cx="2546280" cy="2173320"/>
          </a:xfrm>
          <a:prstGeom prst="rect">
            <a:avLst/>
          </a:prstGeom>
          <a:ln w="0">
            <a:noFill/>
          </a:ln>
        </p:spPr>
      </p:pic>
      <p:sp>
        <p:nvSpPr>
          <p:cNvPr id="591" name="矩形 60428"/>
          <p:cNvSpPr/>
          <p:nvPr/>
        </p:nvSpPr>
        <p:spPr>
          <a:xfrm>
            <a:off x="609480" y="1600200"/>
            <a:ext cx="40006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0429"/>
          <p:cNvSpPr/>
          <p:nvPr/>
        </p:nvSpPr>
        <p:spPr>
          <a:xfrm>
            <a:off x="825480" y="1816200"/>
            <a:ext cx="40006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图片 60432" descr="t9-2"/>
          <p:cNvPicPr/>
          <p:nvPr/>
        </p:nvPicPr>
        <p:blipFill>
          <a:blip r:embed="rId3"/>
          <a:stretch/>
        </p:blipFill>
        <p:spPr>
          <a:xfrm>
            <a:off x="395280" y="1563840"/>
            <a:ext cx="2664000" cy="2112840"/>
          </a:xfrm>
          <a:prstGeom prst="rect">
            <a:avLst/>
          </a:prstGeom>
          <a:ln w="0">
            <a:noFill/>
          </a:ln>
        </p:spPr>
      </p:pic>
      <p:sp>
        <p:nvSpPr>
          <p:cNvPr id="594" name="矩形 6043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60440" descr="no-jz0072"/>
          <p:cNvPicPr/>
          <p:nvPr/>
        </p:nvPicPr>
        <p:blipFill>
          <a:blip r:embed="rId4"/>
          <a:stretch/>
        </p:blipFill>
        <p:spPr>
          <a:xfrm>
            <a:off x="6156360" y="1413000"/>
            <a:ext cx="3230640" cy="50781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60430" descr="bz1"/>
          <p:cNvPicPr/>
          <p:nvPr/>
        </p:nvPicPr>
        <p:blipFill>
          <a:blip r:embed="rId5"/>
          <a:stretch/>
        </p:blipFill>
        <p:spPr>
          <a:xfrm>
            <a:off x="3348000" y="1557360"/>
            <a:ext cx="3024360" cy="2100240"/>
          </a:xfrm>
          <a:prstGeom prst="rect">
            <a:avLst/>
          </a:prstGeom>
          <a:ln w="0">
            <a:noFill/>
          </a:ln>
        </p:spPr>
      </p:pic>
      <p:pic>
        <p:nvPicPr>
          <p:cNvPr id="597" name="内容占位符 60419" descr="no-jz016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4292640"/>
            <a:ext cx="2879640" cy="2084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3850920" y="0"/>
            <a:ext cx="12286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3:01Z</dcterms:created>
  <dc:creator/>
  <dc:description/>
  <cp:keywords>民间 剪纸</cp:keywords>
  <dc:language>en-US</dc:language>
  <cp:lastModifiedBy>An</cp:lastModifiedBy>
  <dcterms:modified xsi:type="dcterms:W3CDTF">2016-05-01T01:03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