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74A-5B26-4B14-B840-63FBA985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AE9-3453-4D32-A001-D7BA2503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054-7925-45D0-B7AC-539668AF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1B5-744A-4121-99B1-61297453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E5EB-B13D-4416-B23C-0DE7C3AE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0550-0814-4A61-B43F-EF0C365D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CA0-5771-4FCD-AD3C-596D6118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562E-C05B-4C18-8DFF-490090A9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BF6A-DD93-4C99-94D8-8207DFE6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0C14-3BAC-4DF6-98D9-6014319B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8034-4EE8-4ABB-9915-890B803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B5E-EB27-41C5-AF5B-94E73676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A1B9-826E-42D7-8CE1-2920EA98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1780-76F2-48C9-B902-7784183C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34D1-0886-4AB6-AFA4-A7B1C7A5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30E6-293E-4A15-8FC3-F4F268EC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697C-8A40-456A-9204-A0BBB881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2D3-A2D2-4276-BD25-7A29E6E4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EA8-F31F-4B5E-AC68-CA7E2E13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A0C-A349-4CE4-B63A-F15C34BB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028-031E-4ED7-81A1-7F01E630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2F1-9291-4F2D-AEDC-A4244A9D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A23-6415-4AED-A0D4-77893D5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EBA-0131-49AA-B306-2C1A6996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BDAC-1989-4D5B-B3A4-8E2AA8239C8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837D-3823-44E6-B5C7-F8C539729E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AFC7-FE11-440A-995A-BF79C747C5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316D-DA70-4BB3-ACA0-B02E0B8EFC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图片 3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2093760" y="331920"/>
            <a:ext cx="48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汉真广标"/>
                <a:ea typeface="汉真广标"/>
              </a:rPr>
              <a:t>爱心医疗诊疗幻灯片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CA6A-A4D4-4EEF-93AB-9F133E8DBD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12:0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