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B665-DB81-4FCC-ACA8-8CC4B729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AE1C-9702-4909-AF2E-6D3A56E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FE2F-2ABF-4A81-8716-4DDDE2C1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EE06-F464-46BD-B4B2-9A0DA107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B3909-CBE2-42DD-8C3C-C6B90204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D7C83-F3E0-4E1B-A81C-C4554CE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3E493-8C8C-476D-BF8A-504824CD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4685E-6FB6-42EF-8BA3-E86738A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F76D1-7BB6-4C4C-800E-E4625514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65D30-8E87-48C5-9105-E1132F5B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9639-420F-4463-93CC-20AB1BB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3260-071C-4566-AF32-E614CD94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8BF08-7191-4DEE-A0E9-9E1DF3B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9138E-99AA-4314-AA2B-8B6731A4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C28D-19A5-41A8-A223-CE4B2D3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921BA-5E27-4506-86B0-F54E22C3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E4650-02CF-44D2-AE6C-0BC09594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57CEB-874D-41B0-AF87-A85631F0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6D95F-6FBE-42A8-992C-1BBD70D5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0B7FF-BBFB-4BCB-A027-A37CD38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DFB95-58ED-4807-B7CA-BEEFF37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4BE80-1E2B-419D-8EA4-C0613E3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06E9-2E57-46ED-A24D-AE3E531D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91DE7-DF18-482E-ADAC-822174F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F9D51-7E9B-455E-9423-9B99BFBF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B6B4D-B3F2-4EA5-9387-BB903AB6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E2B02-796E-42A9-B983-833E15F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E3A55-2E80-4022-A6CC-9A0C4CF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F6E72-AC10-4633-9E10-118AAD09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9AE0D-EA57-4894-A776-4F8374C8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5A32-F821-46DA-A507-07266D4F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D5CE-9F49-4199-A69C-7327AA69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AE2C-E3EB-4A7F-BB0E-AC6019D8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CF8C-4B27-4747-8739-B212CCD1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FCDC-E378-4EE9-B2C4-7FCE1E7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6BF3-C729-40D5-AB97-71226A3C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1C2E-5A87-46F1-BEFD-CEBF485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3A40-3201-4841-B528-74735AE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C598-DBCE-42A8-A341-A94E716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F45F-74FD-4261-8F50-FA2D5F2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6FCF-51A1-4C58-9902-5AA9918D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48B2-CF50-44D8-A2D4-1655DAEE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7676-92D7-4972-BD9E-8558F80C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A251E-B950-4F40-9173-280A1A37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A05F-5B82-4E5D-8320-4E233F2E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EBCB0-0C6E-45C4-B431-8BEF9D1C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B6B3E-5948-4C74-A571-D1B17126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301AB-DCA2-4A3E-A3D5-4A85CAE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4CD1A-D87A-4953-89F4-84361140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677F2-339B-447D-B4B8-D4A97944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CE0CC4-43A1-4E28-AAF2-3425C56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00349-3F1E-4508-85EF-5926F24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391BF-611B-44AE-B94D-84FCE67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52A58-0D40-400F-B0A4-B7AD33AD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B0A71-2713-4F20-AADD-064717BC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5196-B158-47FA-BFE1-2A713B24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B7397-A822-4952-9B47-81169CCB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9802-569F-4332-AC5E-E0B6008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16C6-650F-4AE3-B7F5-F000CA8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F1AE-206F-4F49-902B-1A46636A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M62GB&amp;F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50560" y="741240"/>
            <a:ext cx="8691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F37B-8FC3-445F-A013-98CFA6C5B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8520" y="13140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7" name="直接连接符 1031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073" descr="M62GB&amp;F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250560" y="741240"/>
            <a:ext cx="8691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28520" y="13140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49" name="直接连接符 3076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E25E-A554-4972-B57D-24369B137D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097" descr="M62GB&amp;F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7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8696-284A-4251-BD71-4351E02C79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8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8EAD-34E4-4B08-A82F-73DE416BDC5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5E4A-EC89-4213-8185-414A473131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2049" descr="M62GB&amp;F006 (title slid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8520" y="13140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50560" y="741240"/>
            <a:ext cx="8691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3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5177-9955-4853-8A89-A6FE4F9895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4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5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401472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741e"/>
              </a:solidFill>
              <a:latin typeface="Arial"/>
            </a:endParaRPr>
          </a:p>
        </p:txBody>
      </p:sp>
      <p:sp>
        <p:nvSpPr>
          <p:cNvPr id="2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1716840" y="981000"/>
            <a:ext cx="55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Arial"/>
                <a:ea typeface="Arial"/>
              </a:rPr>
              <a:t>橙黄色背景报告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椭圆 15362"/>
          <p:cNvSpPr/>
          <p:nvPr/>
        </p:nvSpPr>
        <p:spPr>
          <a:xfrm>
            <a:off x="682560" y="4941720"/>
            <a:ext cx="7921800" cy="360360"/>
          </a:xfrm>
          <a:prstGeom prst="ellipse">
            <a:avLst/>
          </a:prstGeom>
          <a:gradFill rotWithShape="0">
            <a:gsLst>
              <a:gs pos="0">
                <a:srgbClr val="f39e69"/>
              </a:gs>
              <a:gs pos="100000">
                <a:srgbClr val="70493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等腰三角形 15363"/>
          <p:cNvSpPr/>
          <p:nvPr/>
        </p:nvSpPr>
        <p:spPr>
          <a:xfrm>
            <a:off x="3429000" y="3733920"/>
            <a:ext cx="2114640" cy="1346040"/>
          </a:xfrm>
          <a:prstGeom prst="triangle">
            <a:avLst>
              <a:gd name="adj" fmla="val 50000"/>
            </a:avLst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椭圆 15364"/>
          <p:cNvSpPr/>
          <p:nvPr/>
        </p:nvSpPr>
        <p:spPr>
          <a:xfrm>
            <a:off x="4284720" y="3716280"/>
            <a:ext cx="355680" cy="343080"/>
          </a:xfrm>
          <a:prstGeom prst="ellipse">
            <a:avLst/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组合 15365"/>
          <p:cNvGrpSpPr/>
          <p:nvPr/>
        </p:nvGrpSpPr>
        <p:grpSpPr>
          <a:xfrm>
            <a:off x="4275000" y="3703680"/>
            <a:ext cx="368280" cy="357120"/>
            <a:chOff x="4275000" y="3703680"/>
            <a:chExt cx="368280" cy="357120"/>
          </a:xfrm>
        </p:grpSpPr>
        <p:sp>
          <p:nvSpPr>
            <p:cNvPr id="257" name="椭圆 15366"/>
            <p:cNvSpPr/>
            <p:nvPr/>
          </p:nvSpPr>
          <p:spPr>
            <a:xfrm>
              <a:off x="4275000" y="3703680"/>
              <a:ext cx="368280" cy="357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椭圆 15367"/>
            <p:cNvSpPr/>
            <p:nvPr/>
          </p:nvSpPr>
          <p:spPr>
            <a:xfrm>
              <a:off x="4292640" y="3719520"/>
              <a:ext cx="333360" cy="3240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组合 15368"/>
          <p:cNvGrpSpPr/>
          <p:nvPr/>
        </p:nvGrpSpPr>
        <p:grpSpPr>
          <a:xfrm>
            <a:off x="711360" y="3614760"/>
            <a:ext cx="7561080" cy="144360"/>
            <a:chOff x="711360" y="3614760"/>
            <a:chExt cx="7561080" cy="144360"/>
          </a:xfrm>
        </p:grpSpPr>
        <p:sp>
          <p:nvSpPr>
            <p:cNvPr id="260" name="矩形 15369"/>
            <p:cNvSpPr/>
            <p:nvPr/>
          </p:nvSpPr>
          <p:spPr>
            <a:xfrm>
              <a:off x="711360" y="3687840"/>
              <a:ext cx="756108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圆角矩形 15370"/>
            <p:cNvSpPr/>
            <p:nvPr/>
          </p:nvSpPr>
          <p:spPr>
            <a:xfrm>
              <a:off x="798480" y="3616200"/>
              <a:ext cx="732960" cy="6984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圆角矩形 15371"/>
            <p:cNvSpPr/>
            <p:nvPr/>
          </p:nvSpPr>
          <p:spPr>
            <a:xfrm>
              <a:off x="7465680" y="3614760"/>
              <a:ext cx="726840" cy="7128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椭圆 16386"/>
          <p:cNvSpPr/>
          <p:nvPr/>
        </p:nvSpPr>
        <p:spPr>
          <a:xfrm>
            <a:off x="-395280" y="4941720"/>
            <a:ext cx="7920000" cy="360360"/>
          </a:xfrm>
          <a:prstGeom prst="ellipse">
            <a:avLst/>
          </a:prstGeom>
          <a:gradFill rotWithShape="0">
            <a:gsLst>
              <a:gs pos="0">
                <a:srgbClr val="f39e69"/>
              </a:gs>
              <a:gs pos="100000">
                <a:srgbClr val="70493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等腰三角形 16387"/>
          <p:cNvSpPr/>
          <p:nvPr/>
        </p:nvSpPr>
        <p:spPr>
          <a:xfrm>
            <a:off x="3417840" y="3733920"/>
            <a:ext cx="2114640" cy="1346040"/>
          </a:xfrm>
          <a:prstGeom prst="triangle">
            <a:avLst>
              <a:gd name="adj" fmla="val 50000"/>
            </a:avLst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椭圆 16388"/>
          <p:cNvSpPr/>
          <p:nvPr/>
        </p:nvSpPr>
        <p:spPr>
          <a:xfrm>
            <a:off x="4305240" y="3716280"/>
            <a:ext cx="355680" cy="343080"/>
          </a:xfrm>
          <a:prstGeom prst="ellipse">
            <a:avLst/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组合 16389"/>
          <p:cNvGrpSpPr/>
          <p:nvPr/>
        </p:nvGrpSpPr>
        <p:grpSpPr>
          <a:xfrm>
            <a:off x="4313160" y="3703680"/>
            <a:ext cx="368280" cy="357120"/>
            <a:chOff x="4313160" y="3703680"/>
            <a:chExt cx="368280" cy="357120"/>
          </a:xfrm>
        </p:grpSpPr>
        <p:sp>
          <p:nvSpPr>
            <p:cNvPr id="268" name="椭圆 16390"/>
            <p:cNvSpPr/>
            <p:nvPr/>
          </p:nvSpPr>
          <p:spPr>
            <a:xfrm>
              <a:off x="4313160" y="3703680"/>
              <a:ext cx="368280" cy="357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椭圆 16391"/>
            <p:cNvSpPr/>
            <p:nvPr/>
          </p:nvSpPr>
          <p:spPr>
            <a:xfrm>
              <a:off x="4330800" y="3719520"/>
              <a:ext cx="333360" cy="3240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组合 16392"/>
          <p:cNvGrpSpPr/>
          <p:nvPr/>
        </p:nvGrpSpPr>
        <p:grpSpPr>
          <a:xfrm>
            <a:off x="876960" y="2457360"/>
            <a:ext cx="7229520" cy="2397600"/>
            <a:chOff x="876960" y="2457360"/>
            <a:chExt cx="7229520" cy="2397600"/>
          </a:xfrm>
        </p:grpSpPr>
        <p:sp>
          <p:nvSpPr>
            <p:cNvPr id="271" name="矩形 16393"/>
            <p:cNvSpPr/>
            <p:nvPr/>
          </p:nvSpPr>
          <p:spPr>
            <a:xfrm rot="20545800">
              <a:off x="711000" y="3643200"/>
              <a:ext cx="756108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角矩形 16394"/>
            <p:cNvSpPr/>
            <p:nvPr/>
          </p:nvSpPr>
          <p:spPr>
            <a:xfrm rot="20545800">
              <a:off x="931680" y="4579560"/>
              <a:ext cx="732960" cy="6984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圆角矩形 16395"/>
            <p:cNvSpPr/>
            <p:nvPr/>
          </p:nvSpPr>
          <p:spPr>
            <a:xfrm rot="20545800">
              <a:off x="7287480" y="2565360"/>
              <a:ext cx="726840" cy="7128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2b2b2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2595600" y="1773360"/>
            <a:ext cx="3948120" cy="3827520"/>
          </a:xfrm>
          <a:custGeom>
            <a:avLst/>
            <a:gdLst/>
            <a:ahLst/>
            <a:rect l="l" t="t" r="r" b="b"/>
            <a:pathLst>
              <a:path w="2487" h="2411">
                <a:moveTo>
                  <a:pt x="533" y="379"/>
                </a:moveTo>
                <a:lnTo>
                  <a:pt x="533" y="379"/>
                </a:lnTo>
                <a:lnTo>
                  <a:pt x="481" y="426"/>
                </a:lnTo>
                <a:lnTo>
                  <a:pt x="431" y="474"/>
                </a:lnTo>
                <a:lnTo>
                  <a:pt x="385" y="522"/>
                </a:lnTo>
                <a:lnTo>
                  <a:pt x="341" y="574"/>
                </a:lnTo>
                <a:lnTo>
                  <a:pt x="300" y="626"/>
                </a:lnTo>
                <a:lnTo>
                  <a:pt x="261" y="678"/>
                </a:lnTo>
                <a:lnTo>
                  <a:pt x="224" y="731"/>
                </a:lnTo>
                <a:lnTo>
                  <a:pt x="190" y="787"/>
                </a:lnTo>
                <a:lnTo>
                  <a:pt x="161" y="842"/>
                </a:lnTo>
                <a:lnTo>
                  <a:pt x="131" y="898"/>
                </a:lnTo>
                <a:lnTo>
                  <a:pt x="105" y="955"/>
                </a:lnTo>
                <a:lnTo>
                  <a:pt x="83" y="1011"/>
                </a:lnTo>
                <a:lnTo>
                  <a:pt x="63" y="1068"/>
                </a:lnTo>
                <a:lnTo>
                  <a:pt x="46" y="1128"/>
                </a:lnTo>
                <a:lnTo>
                  <a:pt x="31" y="1185"/>
                </a:lnTo>
                <a:lnTo>
                  <a:pt x="18" y="1243"/>
                </a:lnTo>
                <a:lnTo>
                  <a:pt x="9" y="1300"/>
                </a:lnTo>
                <a:lnTo>
                  <a:pt x="3" y="1357"/>
                </a:lnTo>
                <a:lnTo>
                  <a:pt x="0" y="1415"/>
                </a:lnTo>
                <a:lnTo>
                  <a:pt x="0" y="1472"/>
                </a:lnTo>
                <a:lnTo>
                  <a:pt x="2" y="1528"/>
                </a:lnTo>
                <a:lnTo>
                  <a:pt x="7" y="1583"/>
                </a:lnTo>
                <a:lnTo>
                  <a:pt x="15" y="1639"/>
                </a:lnTo>
                <a:lnTo>
                  <a:pt x="26" y="1693"/>
                </a:lnTo>
                <a:lnTo>
                  <a:pt x="39" y="1746"/>
                </a:lnTo>
                <a:lnTo>
                  <a:pt x="57" y="1798"/>
                </a:lnTo>
                <a:lnTo>
                  <a:pt x="76" y="1850"/>
                </a:lnTo>
                <a:lnTo>
                  <a:pt x="100" y="1900"/>
                </a:lnTo>
                <a:lnTo>
                  <a:pt x="126" y="1948"/>
                </a:lnTo>
                <a:lnTo>
                  <a:pt x="155" y="1995"/>
                </a:lnTo>
                <a:lnTo>
                  <a:pt x="187" y="2041"/>
                </a:lnTo>
                <a:lnTo>
                  <a:pt x="222" y="2083"/>
                </a:lnTo>
                <a:lnTo>
                  <a:pt x="222" y="2083"/>
                </a:lnTo>
                <a:lnTo>
                  <a:pt x="259" y="2124"/>
                </a:lnTo>
                <a:lnTo>
                  <a:pt x="300" y="2163"/>
                </a:lnTo>
                <a:lnTo>
                  <a:pt x="342" y="2200"/>
                </a:lnTo>
                <a:lnTo>
                  <a:pt x="385" y="2232"/>
                </a:lnTo>
                <a:lnTo>
                  <a:pt x="431" y="2263"/>
                </a:lnTo>
                <a:lnTo>
                  <a:pt x="479" y="2289"/>
                </a:lnTo>
                <a:lnTo>
                  <a:pt x="528" y="2315"/>
                </a:lnTo>
                <a:lnTo>
                  <a:pt x="578" y="2335"/>
                </a:lnTo>
                <a:lnTo>
                  <a:pt x="629" y="2356"/>
                </a:lnTo>
                <a:lnTo>
                  <a:pt x="683" y="2371"/>
                </a:lnTo>
                <a:lnTo>
                  <a:pt x="739" y="2385"/>
                </a:lnTo>
                <a:lnTo>
                  <a:pt x="792" y="2395"/>
                </a:lnTo>
                <a:lnTo>
                  <a:pt x="850" y="2404"/>
                </a:lnTo>
                <a:lnTo>
                  <a:pt x="907" y="2408"/>
                </a:lnTo>
                <a:lnTo>
                  <a:pt x="965" y="2411"/>
                </a:lnTo>
                <a:lnTo>
                  <a:pt x="1024" y="2409"/>
                </a:lnTo>
                <a:lnTo>
                  <a:pt x="1081" y="2408"/>
                </a:lnTo>
                <a:lnTo>
                  <a:pt x="1141" y="2400"/>
                </a:lnTo>
                <a:lnTo>
                  <a:pt x="1202" y="2393"/>
                </a:lnTo>
                <a:lnTo>
                  <a:pt x="1261" y="2382"/>
                </a:lnTo>
                <a:lnTo>
                  <a:pt x="1320" y="2367"/>
                </a:lnTo>
                <a:lnTo>
                  <a:pt x="1381" y="2350"/>
                </a:lnTo>
                <a:lnTo>
                  <a:pt x="1441" y="2330"/>
                </a:lnTo>
                <a:lnTo>
                  <a:pt x="1500" y="2308"/>
                </a:lnTo>
                <a:lnTo>
                  <a:pt x="1559" y="2283"/>
                </a:lnTo>
                <a:lnTo>
                  <a:pt x="1617" y="2254"/>
                </a:lnTo>
                <a:lnTo>
                  <a:pt x="1676" y="2224"/>
                </a:lnTo>
                <a:lnTo>
                  <a:pt x="1733" y="2191"/>
                </a:lnTo>
                <a:lnTo>
                  <a:pt x="1789" y="2156"/>
                </a:lnTo>
                <a:lnTo>
                  <a:pt x="1845" y="2117"/>
                </a:lnTo>
                <a:lnTo>
                  <a:pt x="1900" y="2074"/>
                </a:lnTo>
                <a:lnTo>
                  <a:pt x="1954" y="2030"/>
                </a:lnTo>
                <a:lnTo>
                  <a:pt x="1954" y="2030"/>
                </a:lnTo>
                <a:lnTo>
                  <a:pt x="2006" y="1983"/>
                </a:lnTo>
                <a:lnTo>
                  <a:pt x="2054" y="1937"/>
                </a:lnTo>
                <a:lnTo>
                  <a:pt x="2100" y="1887"/>
                </a:lnTo>
                <a:lnTo>
                  <a:pt x="2145" y="1837"/>
                </a:lnTo>
                <a:lnTo>
                  <a:pt x="2185" y="1785"/>
                </a:lnTo>
                <a:lnTo>
                  <a:pt x="2224" y="1732"/>
                </a:lnTo>
                <a:lnTo>
                  <a:pt x="2261" y="1678"/>
                </a:lnTo>
                <a:lnTo>
                  <a:pt x="2295" y="1624"/>
                </a:lnTo>
                <a:lnTo>
                  <a:pt x="2326" y="1569"/>
                </a:lnTo>
                <a:lnTo>
                  <a:pt x="2354" y="1513"/>
                </a:lnTo>
                <a:lnTo>
                  <a:pt x="2380" y="1456"/>
                </a:lnTo>
                <a:lnTo>
                  <a:pt x="2402" y="1398"/>
                </a:lnTo>
                <a:lnTo>
                  <a:pt x="2422" y="1341"/>
                </a:lnTo>
                <a:lnTo>
                  <a:pt x="2441" y="1283"/>
                </a:lnTo>
                <a:lnTo>
                  <a:pt x="2456" y="1226"/>
                </a:lnTo>
                <a:lnTo>
                  <a:pt x="2467" y="1168"/>
                </a:lnTo>
                <a:lnTo>
                  <a:pt x="2476" y="1109"/>
                </a:lnTo>
                <a:lnTo>
                  <a:pt x="2484" y="1052"/>
                </a:lnTo>
                <a:lnTo>
                  <a:pt x="2485" y="994"/>
                </a:lnTo>
                <a:lnTo>
                  <a:pt x="2487" y="939"/>
                </a:lnTo>
                <a:lnTo>
                  <a:pt x="2485" y="881"/>
                </a:lnTo>
                <a:lnTo>
                  <a:pt x="2480" y="826"/>
                </a:lnTo>
                <a:lnTo>
                  <a:pt x="2471" y="770"/>
                </a:lnTo>
                <a:lnTo>
                  <a:pt x="2460" y="717"/>
                </a:lnTo>
                <a:lnTo>
                  <a:pt x="2447" y="663"/>
                </a:lnTo>
                <a:lnTo>
                  <a:pt x="2430" y="611"/>
                </a:lnTo>
                <a:lnTo>
                  <a:pt x="2410" y="561"/>
                </a:lnTo>
                <a:lnTo>
                  <a:pt x="2387" y="511"/>
                </a:lnTo>
                <a:lnTo>
                  <a:pt x="2361" y="463"/>
                </a:lnTo>
                <a:lnTo>
                  <a:pt x="2332" y="415"/>
                </a:lnTo>
                <a:lnTo>
                  <a:pt x="2300" y="370"/>
                </a:lnTo>
                <a:lnTo>
                  <a:pt x="2265" y="326"/>
                </a:lnTo>
                <a:lnTo>
                  <a:pt x="2265" y="326"/>
                </a:lnTo>
                <a:lnTo>
                  <a:pt x="2226" y="285"/>
                </a:lnTo>
                <a:lnTo>
                  <a:pt x="2185" y="246"/>
                </a:lnTo>
                <a:lnTo>
                  <a:pt x="2145" y="211"/>
                </a:lnTo>
                <a:lnTo>
                  <a:pt x="2100" y="178"/>
                </a:lnTo>
                <a:lnTo>
                  <a:pt x="2054" y="148"/>
                </a:lnTo>
                <a:lnTo>
                  <a:pt x="2008" y="120"/>
                </a:lnTo>
                <a:lnTo>
                  <a:pt x="1958" y="96"/>
                </a:lnTo>
                <a:lnTo>
                  <a:pt x="1908" y="74"/>
                </a:lnTo>
                <a:lnTo>
                  <a:pt x="1856" y="55"/>
                </a:lnTo>
                <a:lnTo>
                  <a:pt x="1802" y="39"/>
                </a:lnTo>
                <a:lnTo>
                  <a:pt x="1748" y="26"/>
                </a:lnTo>
                <a:lnTo>
                  <a:pt x="1693" y="15"/>
                </a:lnTo>
                <a:lnTo>
                  <a:pt x="1637" y="7"/>
                </a:lnTo>
                <a:lnTo>
                  <a:pt x="1580" y="2"/>
                </a:lnTo>
                <a:lnTo>
                  <a:pt x="1520" y="0"/>
                </a:lnTo>
                <a:lnTo>
                  <a:pt x="1463" y="0"/>
                </a:lnTo>
                <a:lnTo>
                  <a:pt x="1404" y="3"/>
                </a:lnTo>
                <a:lnTo>
                  <a:pt x="1344" y="9"/>
                </a:lnTo>
                <a:lnTo>
                  <a:pt x="1285" y="18"/>
                </a:lnTo>
                <a:lnTo>
                  <a:pt x="1224" y="29"/>
                </a:lnTo>
                <a:lnTo>
                  <a:pt x="1165" y="44"/>
                </a:lnTo>
                <a:lnTo>
                  <a:pt x="1106" y="61"/>
                </a:lnTo>
                <a:lnTo>
                  <a:pt x="1046" y="79"/>
                </a:lnTo>
                <a:lnTo>
                  <a:pt x="985" y="102"/>
                </a:lnTo>
                <a:lnTo>
                  <a:pt x="928" y="128"/>
                </a:lnTo>
                <a:lnTo>
                  <a:pt x="868" y="155"/>
                </a:lnTo>
                <a:lnTo>
                  <a:pt x="811" y="187"/>
                </a:lnTo>
                <a:lnTo>
                  <a:pt x="754" y="220"/>
                </a:lnTo>
                <a:lnTo>
                  <a:pt x="696" y="255"/>
                </a:lnTo>
                <a:lnTo>
                  <a:pt x="641" y="294"/>
                </a:lnTo>
                <a:lnTo>
                  <a:pt x="587" y="335"/>
                </a:lnTo>
                <a:lnTo>
                  <a:pt x="533" y="379"/>
                </a:lnTo>
                <a:lnTo>
                  <a:pt x="533" y="3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椭圆 17411"/>
          <p:cNvSpPr/>
          <p:nvPr/>
        </p:nvSpPr>
        <p:spPr>
          <a:xfrm>
            <a:off x="2760840" y="5527800"/>
            <a:ext cx="3601800" cy="342720"/>
          </a:xfrm>
          <a:prstGeom prst="ellipse">
            <a:avLst/>
          </a:prstGeom>
          <a:gradFill rotWithShape="0">
            <a:gsLst>
              <a:gs pos="0">
                <a:srgbClr val="a65b1b">
                  <a:alpha val="82352"/>
                </a:srgbClr>
              </a:gs>
              <a:gs pos="100000">
                <a:srgbClr val="4d2a0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2476440" y="1692360"/>
            <a:ext cx="4167360" cy="4024080"/>
          </a:xfrm>
          <a:custGeom>
            <a:avLst/>
            <a:gdLst/>
            <a:ahLst/>
            <a:rect l="l" t="t" r="r" b="b"/>
            <a:pathLst>
              <a:path w="2892" h="2802">
                <a:moveTo>
                  <a:pt x="2634" y="380"/>
                </a:moveTo>
                <a:lnTo>
                  <a:pt x="2634" y="380"/>
                </a:lnTo>
                <a:lnTo>
                  <a:pt x="2674" y="430"/>
                </a:lnTo>
                <a:lnTo>
                  <a:pt x="2712" y="484"/>
                </a:lnTo>
                <a:lnTo>
                  <a:pt x="2746" y="538"/>
                </a:lnTo>
                <a:lnTo>
                  <a:pt x="2776" y="594"/>
                </a:lnTo>
                <a:lnTo>
                  <a:pt x="2802" y="652"/>
                </a:lnTo>
                <a:lnTo>
                  <a:pt x="2826" y="712"/>
                </a:lnTo>
                <a:lnTo>
                  <a:pt x="2846" y="772"/>
                </a:lnTo>
                <a:lnTo>
                  <a:pt x="2862" y="834"/>
                </a:lnTo>
                <a:lnTo>
                  <a:pt x="2874" y="896"/>
                </a:lnTo>
                <a:lnTo>
                  <a:pt x="2884" y="960"/>
                </a:lnTo>
                <a:lnTo>
                  <a:pt x="2890" y="1026"/>
                </a:lnTo>
                <a:lnTo>
                  <a:pt x="2892" y="1092"/>
                </a:lnTo>
                <a:lnTo>
                  <a:pt x="2892" y="1158"/>
                </a:lnTo>
                <a:lnTo>
                  <a:pt x="2888" y="1224"/>
                </a:lnTo>
                <a:lnTo>
                  <a:pt x="2880" y="1290"/>
                </a:lnTo>
                <a:lnTo>
                  <a:pt x="2870" y="1358"/>
                </a:lnTo>
                <a:lnTo>
                  <a:pt x="2856" y="1426"/>
                </a:lnTo>
                <a:lnTo>
                  <a:pt x="2838" y="1492"/>
                </a:lnTo>
                <a:lnTo>
                  <a:pt x="2818" y="1560"/>
                </a:lnTo>
                <a:lnTo>
                  <a:pt x="2794" y="1626"/>
                </a:lnTo>
                <a:lnTo>
                  <a:pt x="2768" y="1692"/>
                </a:lnTo>
                <a:lnTo>
                  <a:pt x="2738" y="1758"/>
                </a:lnTo>
                <a:lnTo>
                  <a:pt x="2706" y="1824"/>
                </a:lnTo>
                <a:lnTo>
                  <a:pt x="2670" y="1888"/>
                </a:lnTo>
                <a:lnTo>
                  <a:pt x="2630" y="1952"/>
                </a:lnTo>
                <a:lnTo>
                  <a:pt x="2588" y="2014"/>
                </a:lnTo>
                <a:lnTo>
                  <a:pt x="2542" y="2076"/>
                </a:lnTo>
                <a:lnTo>
                  <a:pt x="2494" y="2136"/>
                </a:lnTo>
                <a:lnTo>
                  <a:pt x="2444" y="2194"/>
                </a:lnTo>
                <a:lnTo>
                  <a:pt x="2390" y="2252"/>
                </a:lnTo>
                <a:lnTo>
                  <a:pt x="2332" y="2308"/>
                </a:lnTo>
                <a:lnTo>
                  <a:pt x="2272" y="2362"/>
                </a:lnTo>
                <a:lnTo>
                  <a:pt x="2272" y="2362"/>
                </a:lnTo>
                <a:lnTo>
                  <a:pt x="2210" y="2412"/>
                </a:lnTo>
                <a:lnTo>
                  <a:pt x="2146" y="2460"/>
                </a:lnTo>
                <a:lnTo>
                  <a:pt x="2082" y="2506"/>
                </a:lnTo>
                <a:lnTo>
                  <a:pt x="2016" y="2548"/>
                </a:lnTo>
                <a:lnTo>
                  <a:pt x="1950" y="2586"/>
                </a:lnTo>
                <a:lnTo>
                  <a:pt x="1882" y="2622"/>
                </a:lnTo>
                <a:lnTo>
                  <a:pt x="1814" y="2654"/>
                </a:lnTo>
                <a:lnTo>
                  <a:pt x="1746" y="2684"/>
                </a:lnTo>
                <a:lnTo>
                  <a:pt x="1676" y="2710"/>
                </a:lnTo>
                <a:lnTo>
                  <a:pt x="1606" y="2732"/>
                </a:lnTo>
                <a:lnTo>
                  <a:pt x="1536" y="2752"/>
                </a:lnTo>
                <a:lnTo>
                  <a:pt x="1468" y="2768"/>
                </a:lnTo>
                <a:lnTo>
                  <a:pt x="1398" y="2782"/>
                </a:lnTo>
                <a:lnTo>
                  <a:pt x="1328" y="2792"/>
                </a:lnTo>
                <a:lnTo>
                  <a:pt x="1260" y="2798"/>
                </a:lnTo>
                <a:lnTo>
                  <a:pt x="1190" y="2802"/>
                </a:lnTo>
                <a:lnTo>
                  <a:pt x="1122" y="2802"/>
                </a:lnTo>
                <a:lnTo>
                  <a:pt x="1056" y="2800"/>
                </a:lnTo>
                <a:lnTo>
                  <a:pt x="990" y="2794"/>
                </a:lnTo>
                <a:lnTo>
                  <a:pt x="924" y="2784"/>
                </a:lnTo>
                <a:lnTo>
                  <a:pt x="860" y="2772"/>
                </a:lnTo>
                <a:lnTo>
                  <a:pt x="796" y="2756"/>
                </a:lnTo>
                <a:lnTo>
                  <a:pt x="734" y="2738"/>
                </a:lnTo>
                <a:lnTo>
                  <a:pt x="674" y="2716"/>
                </a:lnTo>
                <a:lnTo>
                  <a:pt x="616" y="2690"/>
                </a:lnTo>
                <a:lnTo>
                  <a:pt x="558" y="2662"/>
                </a:lnTo>
                <a:lnTo>
                  <a:pt x="504" y="2630"/>
                </a:lnTo>
                <a:lnTo>
                  <a:pt x="450" y="2596"/>
                </a:lnTo>
                <a:lnTo>
                  <a:pt x="398" y="2558"/>
                </a:lnTo>
                <a:lnTo>
                  <a:pt x="350" y="2516"/>
                </a:lnTo>
                <a:lnTo>
                  <a:pt x="304" y="2470"/>
                </a:lnTo>
                <a:lnTo>
                  <a:pt x="260" y="2422"/>
                </a:lnTo>
                <a:lnTo>
                  <a:pt x="260" y="2422"/>
                </a:lnTo>
                <a:lnTo>
                  <a:pt x="218" y="2372"/>
                </a:lnTo>
                <a:lnTo>
                  <a:pt x="182" y="2320"/>
                </a:lnTo>
                <a:lnTo>
                  <a:pt x="148" y="2264"/>
                </a:lnTo>
                <a:lnTo>
                  <a:pt x="118" y="2208"/>
                </a:lnTo>
                <a:lnTo>
                  <a:pt x="90" y="2150"/>
                </a:lnTo>
                <a:lnTo>
                  <a:pt x="68" y="2092"/>
                </a:lnTo>
                <a:lnTo>
                  <a:pt x="48" y="2030"/>
                </a:lnTo>
                <a:lnTo>
                  <a:pt x="32" y="1970"/>
                </a:lnTo>
                <a:lnTo>
                  <a:pt x="18" y="1906"/>
                </a:lnTo>
                <a:lnTo>
                  <a:pt x="10" y="1842"/>
                </a:lnTo>
                <a:lnTo>
                  <a:pt x="4" y="1778"/>
                </a:lnTo>
                <a:lnTo>
                  <a:pt x="0" y="1712"/>
                </a:lnTo>
                <a:lnTo>
                  <a:pt x="2" y="1646"/>
                </a:lnTo>
                <a:lnTo>
                  <a:pt x="6" y="1580"/>
                </a:lnTo>
                <a:lnTo>
                  <a:pt x="12" y="1512"/>
                </a:lnTo>
                <a:lnTo>
                  <a:pt x="24" y="1446"/>
                </a:lnTo>
                <a:lnTo>
                  <a:pt x="38" y="1378"/>
                </a:lnTo>
                <a:lnTo>
                  <a:pt x="54" y="1310"/>
                </a:lnTo>
                <a:lnTo>
                  <a:pt x="74" y="1244"/>
                </a:lnTo>
                <a:lnTo>
                  <a:pt x="98" y="1176"/>
                </a:lnTo>
                <a:lnTo>
                  <a:pt x="124" y="1110"/>
                </a:lnTo>
                <a:lnTo>
                  <a:pt x="154" y="1044"/>
                </a:lnTo>
                <a:lnTo>
                  <a:pt x="188" y="980"/>
                </a:lnTo>
                <a:lnTo>
                  <a:pt x="224" y="914"/>
                </a:lnTo>
                <a:lnTo>
                  <a:pt x="262" y="852"/>
                </a:lnTo>
                <a:lnTo>
                  <a:pt x="304" y="788"/>
                </a:lnTo>
                <a:lnTo>
                  <a:pt x="350" y="728"/>
                </a:lnTo>
                <a:lnTo>
                  <a:pt x="398" y="668"/>
                </a:lnTo>
                <a:lnTo>
                  <a:pt x="450" y="608"/>
                </a:lnTo>
                <a:lnTo>
                  <a:pt x="504" y="552"/>
                </a:lnTo>
                <a:lnTo>
                  <a:pt x="560" y="496"/>
                </a:lnTo>
                <a:lnTo>
                  <a:pt x="620" y="442"/>
                </a:lnTo>
                <a:lnTo>
                  <a:pt x="620" y="442"/>
                </a:lnTo>
                <a:lnTo>
                  <a:pt x="682" y="390"/>
                </a:lnTo>
                <a:lnTo>
                  <a:pt x="746" y="342"/>
                </a:lnTo>
                <a:lnTo>
                  <a:pt x="812" y="298"/>
                </a:lnTo>
                <a:lnTo>
                  <a:pt x="876" y="256"/>
                </a:lnTo>
                <a:lnTo>
                  <a:pt x="944" y="216"/>
                </a:lnTo>
                <a:lnTo>
                  <a:pt x="1010" y="182"/>
                </a:lnTo>
                <a:lnTo>
                  <a:pt x="1080" y="148"/>
                </a:lnTo>
                <a:lnTo>
                  <a:pt x="1148" y="120"/>
                </a:lnTo>
                <a:lnTo>
                  <a:pt x="1216" y="94"/>
                </a:lnTo>
                <a:lnTo>
                  <a:pt x="1286" y="70"/>
                </a:lnTo>
                <a:lnTo>
                  <a:pt x="1356" y="52"/>
                </a:lnTo>
                <a:lnTo>
                  <a:pt x="1426" y="34"/>
                </a:lnTo>
                <a:lnTo>
                  <a:pt x="1496" y="22"/>
                </a:lnTo>
                <a:lnTo>
                  <a:pt x="1564" y="12"/>
                </a:lnTo>
                <a:lnTo>
                  <a:pt x="1634" y="4"/>
                </a:lnTo>
                <a:lnTo>
                  <a:pt x="1702" y="0"/>
                </a:lnTo>
                <a:lnTo>
                  <a:pt x="1770" y="0"/>
                </a:lnTo>
                <a:lnTo>
                  <a:pt x="1838" y="4"/>
                </a:lnTo>
                <a:lnTo>
                  <a:pt x="1904" y="8"/>
                </a:lnTo>
                <a:lnTo>
                  <a:pt x="1970" y="18"/>
                </a:lnTo>
                <a:lnTo>
                  <a:pt x="2034" y="30"/>
                </a:lnTo>
                <a:lnTo>
                  <a:pt x="2096" y="46"/>
                </a:lnTo>
                <a:lnTo>
                  <a:pt x="2158" y="64"/>
                </a:lnTo>
                <a:lnTo>
                  <a:pt x="2218" y="86"/>
                </a:lnTo>
                <a:lnTo>
                  <a:pt x="2278" y="112"/>
                </a:lnTo>
                <a:lnTo>
                  <a:pt x="2334" y="140"/>
                </a:lnTo>
                <a:lnTo>
                  <a:pt x="2390" y="172"/>
                </a:lnTo>
                <a:lnTo>
                  <a:pt x="2442" y="208"/>
                </a:lnTo>
                <a:lnTo>
                  <a:pt x="2494" y="246"/>
                </a:lnTo>
                <a:lnTo>
                  <a:pt x="2542" y="288"/>
                </a:lnTo>
                <a:lnTo>
                  <a:pt x="2590" y="332"/>
                </a:lnTo>
                <a:lnTo>
                  <a:pt x="2634" y="380"/>
                </a:lnTo>
                <a:lnTo>
                  <a:pt x="2634" y="380"/>
                </a:lnTo>
                <a:close/>
                <a:moveTo>
                  <a:pt x="680" y="510"/>
                </a:moveTo>
                <a:lnTo>
                  <a:pt x="680" y="510"/>
                </a:lnTo>
                <a:lnTo>
                  <a:pt x="624" y="560"/>
                </a:lnTo>
                <a:lnTo>
                  <a:pt x="570" y="612"/>
                </a:lnTo>
                <a:lnTo>
                  <a:pt x="520" y="664"/>
                </a:lnTo>
                <a:lnTo>
                  <a:pt x="472" y="720"/>
                </a:lnTo>
                <a:lnTo>
                  <a:pt x="428" y="776"/>
                </a:lnTo>
                <a:lnTo>
                  <a:pt x="386" y="832"/>
                </a:lnTo>
                <a:lnTo>
                  <a:pt x="346" y="890"/>
                </a:lnTo>
                <a:lnTo>
                  <a:pt x="310" y="950"/>
                </a:lnTo>
                <a:lnTo>
                  <a:pt x="278" y="1010"/>
                </a:lnTo>
                <a:lnTo>
                  <a:pt x="246" y="1070"/>
                </a:lnTo>
                <a:lnTo>
                  <a:pt x="218" y="1132"/>
                </a:lnTo>
                <a:lnTo>
                  <a:pt x="194" y="1192"/>
                </a:lnTo>
                <a:lnTo>
                  <a:pt x="172" y="1254"/>
                </a:lnTo>
                <a:lnTo>
                  <a:pt x="154" y="1318"/>
                </a:lnTo>
                <a:lnTo>
                  <a:pt x="138" y="1380"/>
                </a:lnTo>
                <a:lnTo>
                  <a:pt x="124" y="1442"/>
                </a:lnTo>
                <a:lnTo>
                  <a:pt x="114" y="1504"/>
                </a:lnTo>
                <a:lnTo>
                  <a:pt x="108" y="1566"/>
                </a:lnTo>
                <a:lnTo>
                  <a:pt x="104" y="1628"/>
                </a:lnTo>
                <a:lnTo>
                  <a:pt x="104" y="1690"/>
                </a:lnTo>
                <a:lnTo>
                  <a:pt x="106" y="1750"/>
                </a:lnTo>
                <a:lnTo>
                  <a:pt x="112" y="1810"/>
                </a:lnTo>
                <a:lnTo>
                  <a:pt x="120" y="1870"/>
                </a:lnTo>
                <a:lnTo>
                  <a:pt x="132" y="1928"/>
                </a:lnTo>
                <a:lnTo>
                  <a:pt x="146" y="1986"/>
                </a:lnTo>
                <a:lnTo>
                  <a:pt x="166" y="2042"/>
                </a:lnTo>
                <a:lnTo>
                  <a:pt x="186" y="2098"/>
                </a:lnTo>
                <a:lnTo>
                  <a:pt x="212" y="2152"/>
                </a:lnTo>
                <a:lnTo>
                  <a:pt x="240" y="2204"/>
                </a:lnTo>
                <a:lnTo>
                  <a:pt x="272" y="2254"/>
                </a:lnTo>
                <a:lnTo>
                  <a:pt x="306" y="2304"/>
                </a:lnTo>
                <a:lnTo>
                  <a:pt x="344" y="2350"/>
                </a:lnTo>
                <a:lnTo>
                  <a:pt x="344" y="2350"/>
                </a:lnTo>
                <a:lnTo>
                  <a:pt x="384" y="2394"/>
                </a:lnTo>
                <a:lnTo>
                  <a:pt x="428" y="2436"/>
                </a:lnTo>
                <a:lnTo>
                  <a:pt x="474" y="2476"/>
                </a:lnTo>
                <a:lnTo>
                  <a:pt x="520" y="2510"/>
                </a:lnTo>
                <a:lnTo>
                  <a:pt x="570" y="2544"/>
                </a:lnTo>
                <a:lnTo>
                  <a:pt x="622" y="2572"/>
                </a:lnTo>
                <a:lnTo>
                  <a:pt x="674" y="2600"/>
                </a:lnTo>
                <a:lnTo>
                  <a:pt x="728" y="2622"/>
                </a:lnTo>
                <a:lnTo>
                  <a:pt x="784" y="2644"/>
                </a:lnTo>
                <a:lnTo>
                  <a:pt x="842" y="2660"/>
                </a:lnTo>
                <a:lnTo>
                  <a:pt x="902" y="2676"/>
                </a:lnTo>
                <a:lnTo>
                  <a:pt x="960" y="2686"/>
                </a:lnTo>
                <a:lnTo>
                  <a:pt x="1022" y="2696"/>
                </a:lnTo>
                <a:lnTo>
                  <a:pt x="1084" y="2700"/>
                </a:lnTo>
                <a:lnTo>
                  <a:pt x="1146" y="2704"/>
                </a:lnTo>
                <a:lnTo>
                  <a:pt x="1210" y="2702"/>
                </a:lnTo>
                <a:lnTo>
                  <a:pt x="1272" y="2700"/>
                </a:lnTo>
                <a:lnTo>
                  <a:pt x="1336" y="2692"/>
                </a:lnTo>
                <a:lnTo>
                  <a:pt x="1402" y="2684"/>
                </a:lnTo>
                <a:lnTo>
                  <a:pt x="1466" y="2672"/>
                </a:lnTo>
                <a:lnTo>
                  <a:pt x="1530" y="2656"/>
                </a:lnTo>
                <a:lnTo>
                  <a:pt x="1596" y="2638"/>
                </a:lnTo>
                <a:lnTo>
                  <a:pt x="1660" y="2616"/>
                </a:lnTo>
                <a:lnTo>
                  <a:pt x="1724" y="2592"/>
                </a:lnTo>
                <a:lnTo>
                  <a:pt x="1788" y="2566"/>
                </a:lnTo>
                <a:lnTo>
                  <a:pt x="1850" y="2534"/>
                </a:lnTo>
                <a:lnTo>
                  <a:pt x="1914" y="2502"/>
                </a:lnTo>
                <a:lnTo>
                  <a:pt x="1976" y="2466"/>
                </a:lnTo>
                <a:lnTo>
                  <a:pt x="2036" y="2428"/>
                </a:lnTo>
                <a:lnTo>
                  <a:pt x="2096" y="2386"/>
                </a:lnTo>
                <a:lnTo>
                  <a:pt x="2156" y="2340"/>
                </a:lnTo>
                <a:lnTo>
                  <a:pt x="2214" y="2292"/>
                </a:lnTo>
                <a:lnTo>
                  <a:pt x="2214" y="2292"/>
                </a:lnTo>
                <a:lnTo>
                  <a:pt x="2270" y="2242"/>
                </a:lnTo>
                <a:lnTo>
                  <a:pt x="2322" y="2192"/>
                </a:lnTo>
                <a:lnTo>
                  <a:pt x="2372" y="2138"/>
                </a:lnTo>
                <a:lnTo>
                  <a:pt x="2420" y="2084"/>
                </a:lnTo>
                <a:lnTo>
                  <a:pt x="2464" y="2028"/>
                </a:lnTo>
                <a:lnTo>
                  <a:pt x="2506" y="1970"/>
                </a:lnTo>
                <a:lnTo>
                  <a:pt x="2546" y="1912"/>
                </a:lnTo>
                <a:lnTo>
                  <a:pt x="2582" y="1854"/>
                </a:lnTo>
                <a:lnTo>
                  <a:pt x="2616" y="1794"/>
                </a:lnTo>
                <a:lnTo>
                  <a:pt x="2646" y="1734"/>
                </a:lnTo>
                <a:lnTo>
                  <a:pt x="2674" y="1672"/>
                </a:lnTo>
                <a:lnTo>
                  <a:pt x="2698" y="1610"/>
                </a:lnTo>
                <a:lnTo>
                  <a:pt x="2720" y="1548"/>
                </a:lnTo>
                <a:lnTo>
                  <a:pt x="2740" y="1486"/>
                </a:lnTo>
                <a:lnTo>
                  <a:pt x="2756" y="1424"/>
                </a:lnTo>
                <a:lnTo>
                  <a:pt x="2768" y="1362"/>
                </a:lnTo>
                <a:lnTo>
                  <a:pt x="2778" y="1298"/>
                </a:lnTo>
                <a:lnTo>
                  <a:pt x="2786" y="1236"/>
                </a:lnTo>
                <a:lnTo>
                  <a:pt x="2788" y="1174"/>
                </a:lnTo>
                <a:lnTo>
                  <a:pt x="2790" y="1114"/>
                </a:lnTo>
                <a:lnTo>
                  <a:pt x="2788" y="1052"/>
                </a:lnTo>
                <a:lnTo>
                  <a:pt x="2782" y="992"/>
                </a:lnTo>
                <a:lnTo>
                  <a:pt x="2772" y="932"/>
                </a:lnTo>
                <a:lnTo>
                  <a:pt x="2760" y="874"/>
                </a:lnTo>
                <a:lnTo>
                  <a:pt x="2746" y="816"/>
                </a:lnTo>
                <a:lnTo>
                  <a:pt x="2728" y="760"/>
                </a:lnTo>
                <a:lnTo>
                  <a:pt x="2706" y="706"/>
                </a:lnTo>
                <a:lnTo>
                  <a:pt x="2682" y="652"/>
                </a:lnTo>
                <a:lnTo>
                  <a:pt x="2654" y="600"/>
                </a:lnTo>
                <a:lnTo>
                  <a:pt x="2622" y="548"/>
                </a:lnTo>
                <a:lnTo>
                  <a:pt x="2588" y="500"/>
                </a:lnTo>
                <a:lnTo>
                  <a:pt x="2550" y="452"/>
                </a:lnTo>
                <a:lnTo>
                  <a:pt x="2550" y="452"/>
                </a:lnTo>
                <a:lnTo>
                  <a:pt x="2508" y="408"/>
                </a:lnTo>
                <a:lnTo>
                  <a:pt x="2464" y="366"/>
                </a:lnTo>
                <a:lnTo>
                  <a:pt x="2420" y="328"/>
                </a:lnTo>
                <a:lnTo>
                  <a:pt x="2372" y="292"/>
                </a:lnTo>
                <a:lnTo>
                  <a:pt x="2322" y="260"/>
                </a:lnTo>
                <a:lnTo>
                  <a:pt x="2272" y="230"/>
                </a:lnTo>
                <a:lnTo>
                  <a:pt x="2218" y="204"/>
                </a:lnTo>
                <a:lnTo>
                  <a:pt x="2164" y="180"/>
                </a:lnTo>
                <a:lnTo>
                  <a:pt x="2108" y="160"/>
                </a:lnTo>
                <a:lnTo>
                  <a:pt x="2050" y="142"/>
                </a:lnTo>
                <a:lnTo>
                  <a:pt x="1992" y="128"/>
                </a:lnTo>
                <a:lnTo>
                  <a:pt x="1932" y="116"/>
                </a:lnTo>
                <a:lnTo>
                  <a:pt x="1872" y="108"/>
                </a:lnTo>
                <a:lnTo>
                  <a:pt x="1810" y="102"/>
                </a:lnTo>
                <a:lnTo>
                  <a:pt x="1746" y="100"/>
                </a:lnTo>
                <a:lnTo>
                  <a:pt x="1684" y="100"/>
                </a:lnTo>
                <a:lnTo>
                  <a:pt x="1620" y="104"/>
                </a:lnTo>
                <a:lnTo>
                  <a:pt x="1556" y="110"/>
                </a:lnTo>
                <a:lnTo>
                  <a:pt x="1492" y="120"/>
                </a:lnTo>
                <a:lnTo>
                  <a:pt x="1426" y="132"/>
                </a:lnTo>
                <a:lnTo>
                  <a:pt x="1362" y="148"/>
                </a:lnTo>
                <a:lnTo>
                  <a:pt x="1298" y="166"/>
                </a:lnTo>
                <a:lnTo>
                  <a:pt x="1234" y="186"/>
                </a:lnTo>
                <a:lnTo>
                  <a:pt x="1168" y="210"/>
                </a:lnTo>
                <a:lnTo>
                  <a:pt x="1106" y="238"/>
                </a:lnTo>
                <a:lnTo>
                  <a:pt x="1042" y="268"/>
                </a:lnTo>
                <a:lnTo>
                  <a:pt x="980" y="302"/>
                </a:lnTo>
                <a:lnTo>
                  <a:pt x="918" y="338"/>
                </a:lnTo>
                <a:lnTo>
                  <a:pt x="856" y="376"/>
                </a:lnTo>
                <a:lnTo>
                  <a:pt x="796" y="418"/>
                </a:lnTo>
                <a:lnTo>
                  <a:pt x="738" y="462"/>
                </a:lnTo>
                <a:lnTo>
                  <a:pt x="680" y="510"/>
                </a:lnTo>
                <a:lnTo>
                  <a:pt x="680" y="510"/>
                </a:lnTo>
                <a:close/>
              </a:path>
            </a:pathLst>
          </a:custGeom>
          <a:gradFill rotWithShape="0">
            <a:gsLst>
              <a:gs pos="0">
                <a:srgbClr val="f39e69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f074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280" name="直接连接符 17413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6214-7CB7-4D3C-A6E0-CBC43C2BD4A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组合 18433"/>
          <p:cNvGrpSpPr/>
          <p:nvPr/>
        </p:nvGrpSpPr>
        <p:grpSpPr>
          <a:xfrm>
            <a:off x="1441440" y="1104840"/>
            <a:ext cx="6261120" cy="4645800"/>
            <a:chOff x="1441440" y="1104840"/>
            <a:chExt cx="6261120" cy="4645800"/>
          </a:xfrm>
        </p:grpSpPr>
        <p:grpSp>
          <p:nvGrpSpPr>
            <p:cNvPr id="287" name="组合 18434"/>
            <p:cNvGrpSpPr/>
            <p:nvPr/>
          </p:nvGrpSpPr>
          <p:grpSpPr>
            <a:xfrm>
              <a:off x="3058200" y="2371680"/>
              <a:ext cx="3055320" cy="2046960"/>
              <a:chOff x="3058200" y="2371680"/>
              <a:chExt cx="3055320" cy="2046960"/>
            </a:xfrm>
          </p:grpSpPr>
          <p:sp>
            <p:nvSpPr>
              <p:cNvPr id="288" name="未知"/>
              <p:cNvSpPr/>
              <p:nvPr/>
            </p:nvSpPr>
            <p:spPr>
              <a:xfrm>
                <a:off x="3063960" y="2371680"/>
                <a:ext cx="3049200" cy="1915920"/>
              </a:xfrm>
              <a:custGeom>
                <a:avLst/>
                <a:gdLst/>
                <a:ahLst/>
                <a:rect l="l" t="t" r="r" b="b"/>
                <a:pathLst>
                  <a:path w="2142" h="1346">
                    <a:moveTo>
                      <a:pt x="2142" y="672"/>
                    </a:moveTo>
                    <a:lnTo>
                      <a:pt x="2142" y="672"/>
                    </a:lnTo>
                    <a:lnTo>
                      <a:pt x="2140" y="708"/>
                    </a:lnTo>
                    <a:lnTo>
                      <a:pt x="2136" y="742"/>
                    </a:lnTo>
                    <a:lnTo>
                      <a:pt x="2128" y="776"/>
                    </a:lnTo>
                    <a:lnTo>
                      <a:pt x="2120" y="808"/>
                    </a:lnTo>
                    <a:lnTo>
                      <a:pt x="2108" y="840"/>
                    </a:lnTo>
                    <a:lnTo>
                      <a:pt x="2094" y="872"/>
                    </a:lnTo>
                    <a:lnTo>
                      <a:pt x="2076" y="904"/>
                    </a:lnTo>
                    <a:lnTo>
                      <a:pt x="2058" y="934"/>
                    </a:lnTo>
                    <a:lnTo>
                      <a:pt x="2036" y="964"/>
                    </a:lnTo>
                    <a:lnTo>
                      <a:pt x="2012" y="994"/>
                    </a:lnTo>
                    <a:lnTo>
                      <a:pt x="1986" y="1022"/>
                    </a:lnTo>
                    <a:lnTo>
                      <a:pt x="1958" y="1050"/>
                    </a:lnTo>
                    <a:lnTo>
                      <a:pt x="1928" y="1076"/>
                    </a:lnTo>
                    <a:lnTo>
                      <a:pt x="1896" y="1100"/>
                    </a:lnTo>
                    <a:lnTo>
                      <a:pt x="1864" y="1126"/>
                    </a:lnTo>
                    <a:lnTo>
                      <a:pt x="1828" y="1148"/>
                    </a:lnTo>
                    <a:lnTo>
                      <a:pt x="1790" y="1172"/>
                    </a:lnTo>
                    <a:lnTo>
                      <a:pt x="1752" y="1192"/>
                    </a:lnTo>
                    <a:lnTo>
                      <a:pt x="1712" y="1212"/>
                    </a:lnTo>
                    <a:lnTo>
                      <a:pt x="1670" y="1232"/>
                    </a:lnTo>
                    <a:lnTo>
                      <a:pt x="1626" y="1248"/>
                    </a:lnTo>
                    <a:lnTo>
                      <a:pt x="1582" y="1264"/>
                    </a:lnTo>
                    <a:lnTo>
                      <a:pt x="1534" y="1280"/>
                    </a:lnTo>
                    <a:lnTo>
                      <a:pt x="1488" y="1294"/>
                    </a:lnTo>
                    <a:lnTo>
                      <a:pt x="1438" y="1306"/>
                    </a:lnTo>
                    <a:lnTo>
                      <a:pt x="1390" y="1316"/>
                    </a:lnTo>
                    <a:lnTo>
                      <a:pt x="1338" y="1324"/>
                    </a:lnTo>
                    <a:lnTo>
                      <a:pt x="1286" y="1332"/>
                    </a:lnTo>
                    <a:lnTo>
                      <a:pt x="1234" y="1338"/>
                    </a:lnTo>
                    <a:lnTo>
                      <a:pt x="1180" y="1342"/>
                    </a:lnTo>
                    <a:lnTo>
                      <a:pt x="1126" y="1346"/>
                    </a:lnTo>
                    <a:lnTo>
                      <a:pt x="1070" y="1346"/>
                    </a:lnTo>
                    <a:lnTo>
                      <a:pt x="1070" y="1346"/>
                    </a:lnTo>
                    <a:lnTo>
                      <a:pt x="1016" y="1346"/>
                    </a:lnTo>
                    <a:lnTo>
                      <a:pt x="962" y="1342"/>
                    </a:lnTo>
                    <a:lnTo>
                      <a:pt x="908" y="1338"/>
                    </a:lnTo>
                    <a:lnTo>
                      <a:pt x="854" y="1332"/>
                    </a:lnTo>
                    <a:lnTo>
                      <a:pt x="804" y="1324"/>
                    </a:lnTo>
                    <a:lnTo>
                      <a:pt x="752" y="1316"/>
                    </a:lnTo>
                    <a:lnTo>
                      <a:pt x="702" y="1306"/>
                    </a:lnTo>
                    <a:lnTo>
                      <a:pt x="654" y="1294"/>
                    </a:lnTo>
                    <a:lnTo>
                      <a:pt x="606" y="1280"/>
                    </a:lnTo>
                    <a:lnTo>
                      <a:pt x="560" y="1264"/>
                    </a:lnTo>
                    <a:lnTo>
                      <a:pt x="516" y="1248"/>
                    </a:lnTo>
                    <a:lnTo>
                      <a:pt x="472" y="1232"/>
                    </a:lnTo>
                    <a:lnTo>
                      <a:pt x="430" y="1212"/>
                    </a:lnTo>
                    <a:lnTo>
                      <a:pt x="390" y="1192"/>
                    </a:lnTo>
                    <a:lnTo>
                      <a:pt x="350" y="1172"/>
                    </a:lnTo>
                    <a:lnTo>
                      <a:pt x="314" y="1148"/>
                    </a:lnTo>
                    <a:lnTo>
                      <a:pt x="278" y="1126"/>
                    </a:lnTo>
                    <a:lnTo>
                      <a:pt x="244" y="1100"/>
                    </a:lnTo>
                    <a:lnTo>
                      <a:pt x="212" y="1076"/>
                    </a:lnTo>
                    <a:lnTo>
                      <a:pt x="182" y="1050"/>
                    </a:lnTo>
                    <a:lnTo>
                      <a:pt x="156" y="1022"/>
                    </a:lnTo>
                    <a:lnTo>
                      <a:pt x="130" y="994"/>
                    </a:lnTo>
                    <a:lnTo>
                      <a:pt x="106" y="964"/>
                    </a:lnTo>
                    <a:lnTo>
                      <a:pt x="84" y="934"/>
                    </a:lnTo>
                    <a:lnTo>
                      <a:pt x="64" y="904"/>
                    </a:lnTo>
                    <a:lnTo>
                      <a:pt x="48" y="872"/>
                    </a:lnTo>
                    <a:lnTo>
                      <a:pt x="34" y="840"/>
                    </a:lnTo>
                    <a:lnTo>
                      <a:pt x="22" y="808"/>
                    </a:lnTo>
                    <a:lnTo>
                      <a:pt x="12" y="776"/>
                    </a:lnTo>
                    <a:lnTo>
                      <a:pt x="6" y="742"/>
                    </a:lnTo>
                    <a:lnTo>
                      <a:pt x="2" y="708"/>
                    </a:lnTo>
                    <a:lnTo>
                      <a:pt x="0" y="672"/>
                    </a:lnTo>
                    <a:lnTo>
                      <a:pt x="0" y="672"/>
                    </a:lnTo>
                    <a:lnTo>
                      <a:pt x="2" y="638"/>
                    </a:lnTo>
                    <a:lnTo>
                      <a:pt x="6" y="604"/>
                    </a:lnTo>
                    <a:lnTo>
                      <a:pt x="12" y="570"/>
                    </a:lnTo>
                    <a:lnTo>
                      <a:pt x="22" y="536"/>
                    </a:lnTo>
                    <a:lnTo>
                      <a:pt x="34" y="504"/>
                    </a:lnTo>
                    <a:lnTo>
                      <a:pt x="48" y="472"/>
                    </a:lnTo>
                    <a:lnTo>
                      <a:pt x="64" y="442"/>
                    </a:lnTo>
                    <a:lnTo>
                      <a:pt x="84" y="410"/>
                    </a:lnTo>
                    <a:lnTo>
                      <a:pt x="106" y="380"/>
                    </a:lnTo>
                    <a:lnTo>
                      <a:pt x="130" y="352"/>
                    </a:lnTo>
                    <a:lnTo>
                      <a:pt x="156" y="324"/>
                    </a:lnTo>
                    <a:lnTo>
                      <a:pt x="182" y="296"/>
                    </a:lnTo>
                    <a:lnTo>
                      <a:pt x="212" y="270"/>
                    </a:lnTo>
                    <a:lnTo>
                      <a:pt x="244" y="244"/>
                    </a:lnTo>
                    <a:lnTo>
                      <a:pt x="278" y="220"/>
                    </a:lnTo>
                    <a:lnTo>
                      <a:pt x="314" y="196"/>
                    </a:lnTo>
                    <a:lnTo>
                      <a:pt x="350" y="174"/>
                    </a:lnTo>
                    <a:lnTo>
                      <a:pt x="390" y="154"/>
                    </a:lnTo>
                    <a:lnTo>
                      <a:pt x="430" y="134"/>
                    </a:lnTo>
                    <a:lnTo>
                      <a:pt x="472" y="114"/>
                    </a:lnTo>
                    <a:lnTo>
                      <a:pt x="516" y="96"/>
                    </a:lnTo>
                    <a:lnTo>
                      <a:pt x="560" y="80"/>
                    </a:lnTo>
                    <a:lnTo>
                      <a:pt x="606" y="66"/>
                    </a:lnTo>
                    <a:lnTo>
                      <a:pt x="654" y="52"/>
                    </a:lnTo>
                    <a:lnTo>
                      <a:pt x="702" y="40"/>
                    </a:lnTo>
                    <a:lnTo>
                      <a:pt x="752" y="30"/>
                    </a:lnTo>
                    <a:lnTo>
                      <a:pt x="804" y="20"/>
                    </a:lnTo>
                    <a:lnTo>
                      <a:pt x="854" y="14"/>
                    </a:lnTo>
                    <a:lnTo>
                      <a:pt x="908" y="8"/>
                    </a:lnTo>
                    <a:lnTo>
                      <a:pt x="962" y="2"/>
                    </a:lnTo>
                    <a:lnTo>
                      <a:pt x="1016" y="0"/>
                    </a:lnTo>
                    <a:lnTo>
                      <a:pt x="1070" y="0"/>
                    </a:lnTo>
                    <a:lnTo>
                      <a:pt x="1070" y="0"/>
                    </a:lnTo>
                    <a:lnTo>
                      <a:pt x="1126" y="0"/>
                    </a:lnTo>
                    <a:lnTo>
                      <a:pt x="1180" y="2"/>
                    </a:lnTo>
                    <a:lnTo>
                      <a:pt x="1234" y="8"/>
                    </a:lnTo>
                    <a:lnTo>
                      <a:pt x="1286" y="14"/>
                    </a:lnTo>
                    <a:lnTo>
                      <a:pt x="1338" y="20"/>
                    </a:lnTo>
                    <a:lnTo>
                      <a:pt x="1390" y="30"/>
                    </a:lnTo>
                    <a:lnTo>
                      <a:pt x="1438" y="40"/>
                    </a:lnTo>
                    <a:lnTo>
                      <a:pt x="1488" y="52"/>
                    </a:lnTo>
                    <a:lnTo>
                      <a:pt x="1534" y="66"/>
                    </a:lnTo>
                    <a:lnTo>
                      <a:pt x="1582" y="80"/>
                    </a:lnTo>
                    <a:lnTo>
                      <a:pt x="1626" y="96"/>
                    </a:lnTo>
                    <a:lnTo>
                      <a:pt x="1670" y="114"/>
                    </a:lnTo>
                    <a:lnTo>
                      <a:pt x="1712" y="134"/>
                    </a:lnTo>
                    <a:lnTo>
                      <a:pt x="1752" y="154"/>
                    </a:lnTo>
                    <a:lnTo>
                      <a:pt x="1790" y="174"/>
                    </a:lnTo>
                    <a:lnTo>
                      <a:pt x="1828" y="196"/>
                    </a:lnTo>
                    <a:lnTo>
                      <a:pt x="1864" y="220"/>
                    </a:lnTo>
                    <a:lnTo>
                      <a:pt x="1896" y="244"/>
                    </a:lnTo>
                    <a:lnTo>
                      <a:pt x="1928" y="270"/>
                    </a:lnTo>
                    <a:lnTo>
                      <a:pt x="1958" y="296"/>
                    </a:lnTo>
                    <a:lnTo>
                      <a:pt x="1986" y="324"/>
                    </a:lnTo>
                    <a:lnTo>
                      <a:pt x="2012" y="352"/>
                    </a:lnTo>
                    <a:lnTo>
                      <a:pt x="2036" y="380"/>
                    </a:lnTo>
                    <a:lnTo>
                      <a:pt x="2058" y="410"/>
                    </a:lnTo>
                    <a:lnTo>
                      <a:pt x="2076" y="442"/>
                    </a:lnTo>
                    <a:lnTo>
                      <a:pt x="2094" y="472"/>
                    </a:lnTo>
                    <a:lnTo>
                      <a:pt x="2108" y="504"/>
                    </a:lnTo>
                    <a:lnTo>
                      <a:pt x="2120" y="536"/>
                    </a:lnTo>
                    <a:lnTo>
                      <a:pt x="2128" y="570"/>
                    </a:lnTo>
                    <a:lnTo>
                      <a:pt x="2136" y="604"/>
                    </a:lnTo>
                    <a:lnTo>
                      <a:pt x="2140" y="638"/>
                    </a:lnTo>
                    <a:lnTo>
                      <a:pt x="2142" y="672"/>
                    </a:lnTo>
                    <a:lnTo>
                      <a:pt x="2142" y="6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3058200" y="3331080"/>
                <a:ext cx="3055320" cy="1087560"/>
              </a:xfrm>
              <a:custGeom>
                <a:avLst/>
                <a:gdLst/>
                <a:ahLst/>
                <a:rect l="l" t="t" r="r" b="b"/>
                <a:pathLst>
                  <a:path w="2146" h="764">
                    <a:moveTo>
                      <a:pt x="2146" y="0"/>
                    </a:moveTo>
                    <a:lnTo>
                      <a:pt x="2146" y="0"/>
                    </a:lnTo>
                    <a:lnTo>
                      <a:pt x="2144" y="34"/>
                    </a:lnTo>
                    <a:lnTo>
                      <a:pt x="2140" y="68"/>
                    </a:lnTo>
                    <a:lnTo>
                      <a:pt x="2132" y="102"/>
                    </a:lnTo>
                    <a:lnTo>
                      <a:pt x="2124" y="136"/>
                    </a:lnTo>
                    <a:lnTo>
                      <a:pt x="2112" y="168"/>
                    </a:lnTo>
                    <a:lnTo>
                      <a:pt x="2098" y="200"/>
                    </a:lnTo>
                    <a:lnTo>
                      <a:pt x="2080" y="232"/>
                    </a:lnTo>
                    <a:lnTo>
                      <a:pt x="2062" y="262"/>
                    </a:lnTo>
                    <a:lnTo>
                      <a:pt x="2040" y="292"/>
                    </a:lnTo>
                    <a:lnTo>
                      <a:pt x="2016" y="320"/>
                    </a:lnTo>
                    <a:lnTo>
                      <a:pt x="1990" y="350"/>
                    </a:lnTo>
                    <a:lnTo>
                      <a:pt x="1962" y="376"/>
                    </a:lnTo>
                    <a:lnTo>
                      <a:pt x="1932" y="402"/>
                    </a:lnTo>
                    <a:lnTo>
                      <a:pt x="1900" y="428"/>
                    </a:lnTo>
                    <a:lnTo>
                      <a:pt x="1868" y="452"/>
                    </a:lnTo>
                    <a:lnTo>
                      <a:pt x="1832" y="476"/>
                    </a:lnTo>
                    <a:lnTo>
                      <a:pt x="1794" y="498"/>
                    </a:lnTo>
                    <a:lnTo>
                      <a:pt x="1756" y="520"/>
                    </a:lnTo>
                    <a:lnTo>
                      <a:pt x="1716" y="540"/>
                    </a:lnTo>
                    <a:lnTo>
                      <a:pt x="1674" y="558"/>
                    </a:lnTo>
                    <a:lnTo>
                      <a:pt x="1630" y="576"/>
                    </a:lnTo>
                    <a:lnTo>
                      <a:pt x="1586" y="592"/>
                    </a:lnTo>
                    <a:lnTo>
                      <a:pt x="1538" y="606"/>
                    </a:lnTo>
                    <a:lnTo>
                      <a:pt x="1492" y="620"/>
                    </a:lnTo>
                    <a:lnTo>
                      <a:pt x="1442" y="632"/>
                    </a:lnTo>
                    <a:lnTo>
                      <a:pt x="1394" y="644"/>
                    </a:lnTo>
                    <a:lnTo>
                      <a:pt x="1342" y="652"/>
                    </a:lnTo>
                    <a:lnTo>
                      <a:pt x="1290" y="660"/>
                    </a:lnTo>
                    <a:lnTo>
                      <a:pt x="1238" y="666"/>
                    </a:lnTo>
                    <a:lnTo>
                      <a:pt x="1184" y="670"/>
                    </a:lnTo>
                    <a:lnTo>
                      <a:pt x="1130" y="672"/>
                    </a:lnTo>
                    <a:lnTo>
                      <a:pt x="1074" y="674"/>
                    </a:lnTo>
                    <a:lnTo>
                      <a:pt x="1074" y="674"/>
                    </a:lnTo>
                    <a:lnTo>
                      <a:pt x="1020" y="672"/>
                    </a:lnTo>
                    <a:lnTo>
                      <a:pt x="966" y="670"/>
                    </a:lnTo>
                    <a:lnTo>
                      <a:pt x="912" y="666"/>
                    </a:lnTo>
                    <a:lnTo>
                      <a:pt x="860" y="660"/>
                    </a:lnTo>
                    <a:lnTo>
                      <a:pt x="808" y="652"/>
                    </a:lnTo>
                    <a:lnTo>
                      <a:pt x="758" y="644"/>
                    </a:lnTo>
                    <a:lnTo>
                      <a:pt x="708" y="632"/>
                    </a:lnTo>
                    <a:lnTo>
                      <a:pt x="660" y="620"/>
                    </a:lnTo>
                    <a:lnTo>
                      <a:pt x="612" y="608"/>
                    </a:lnTo>
                    <a:lnTo>
                      <a:pt x="566" y="592"/>
                    </a:lnTo>
                    <a:lnTo>
                      <a:pt x="522" y="576"/>
                    </a:lnTo>
                    <a:lnTo>
                      <a:pt x="478" y="560"/>
                    </a:lnTo>
                    <a:lnTo>
                      <a:pt x="436" y="540"/>
                    </a:lnTo>
                    <a:lnTo>
                      <a:pt x="396" y="520"/>
                    </a:lnTo>
                    <a:lnTo>
                      <a:pt x="356" y="500"/>
                    </a:lnTo>
                    <a:lnTo>
                      <a:pt x="320" y="478"/>
                    </a:lnTo>
                    <a:lnTo>
                      <a:pt x="284" y="454"/>
                    </a:lnTo>
                    <a:lnTo>
                      <a:pt x="250" y="430"/>
                    </a:lnTo>
                    <a:lnTo>
                      <a:pt x="218" y="404"/>
                    </a:lnTo>
                    <a:lnTo>
                      <a:pt x="188" y="378"/>
                    </a:lnTo>
                    <a:lnTo>
                      <a:pt x="162" y="352"/>
                    </a:lnTo>
                    <a:lnTo>
                      <a:pt x="136" y="324"/>
                    </a:lnTo>
                    <a:lnTo>
                      <a:pt x="112" y="294"/>
                    </a:lnTo>
                    <a:lnTo>
                      <a:pt x="90" y="264"/>
                    </a:lnTo>
                    <a:lnTo>
                      <a:pt x="70" y="234"/>
                    </a:lnTo>
                    <a:lnTo>
                      <a:pt x="54" y="204"/>
                    </a:lnTo>
                    <a:lnTo>
                      <a:pt x="38" y="172"/>
                    </a:lnTo>
                    <a:lnTo>
                      <a:pt x="26" y="138"/>
                    </a:lnTo>
                    <a:lnTo>
                      <a:pt x="18" y="106"/>
                    </a:lnTo>
                    <a:lnTo>
                      <a:pt x="10" y="72"/>
                    </a:lnTo>
                    <a:lnTo>
                      <a:pt x="6" y="3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126"/>
                    </a:lnTo>
                    <a:lnTo>
                      <a:pt x="6" y="160"/>
                    </a:lnTo>
                    <a:lnTo>
                      <a:pt x="12" y="194"/>
                    </a:lnTo>
                    <a:lnTo>
                      <a:pt x="22" y="226"/>
                    </a:lnTo>
                    <a:lnTo>
                      <a:pt x="34" y="258"/>
                    </a:lnTo>
                    <a:lnTo>
                      <a:pt x="48" y="290"/>
                    </a:lnTo>
                    <a:lnTo>
                      <a:pt x="64" y="322"/>
                    </a:lnTo>
                    <a:lnTo>
                      <a:pt x="84" y="352"/>
                    </a:lnTo>
                    <a:lnTo>
                      <a:pt x="106" y="382"/>
                    </a:lnTo>
                    <a:lnTo>
                      <a:pt x="130" y="412"/>
                    </a:lnTo>
                    <a:lnTo>
                      <a:pt x="156" y="440"/>
                    </a:lnTo>
                    <a:lnTo>
                      <a:pt x="182" y="468"/>
                    </a:lnTo>
                    <a:lnTo>
                      <a:pt x="212" y="494"/>
                    </a:lnTo>
                    <a:lnTo>
                      <a:pt x="244" y="518"/>
                    </a:lnTo>
                    <a:lnTo>
                      <a:pt x="278" y="544"/>
                    </a:lnTo>
                    <a:lnTo>
                      <a:pt x="314" y="566"/>
                    </a:lnTo>
                    <a:lnTo>
                      <a:pt x="350" y="590"/>
                    </a:lnTo>
                    <a:lnTo>
                      <a:pt x="390" y="610"/>
                    </a:lnTo>
                    <a:lnTo>
                      <a:pt x="430" y="630"/>
                    </a:lnTo>
                    <a:lnTo>
                      <a:pt x="472" y="650"/>
                    </a:lnTo>
                    <a:lnTo>
                      <a:pt x="516" y="666"/>
                    </a:lnTo>
                    <a:lnTo>
                      <a:pt x="560" y="682"/>
                    </a:lnTo>
                    <a:lnTo>
                      <a:pt x="606" y="698"/>
                    </a:lnTo>
                    <a:lnTo>
                      <a:pt x="654" y="712"/>
                    </a:lnTo>
                    <a:lnTo>
                      <a:pt x="702" y="724"/>
                    </a:lnTo>
                    <a:lnTo>
                      <a:pt x="752" y="734"/>
                    </a:lnTo>
                    <a:lnTo>
                      <a:pt x="804" y="742"/>
                    </a:lnTo>
                    <a:lnTo>
                      <a:pt x="854" y="750"/>
                    </a:lnTo>
                    <a:lnTo>
                      <a:pt x="908" y="756"/>
                    </a:lnTo>
                    <a:lnTo>
                      <a:pt x="962" y="760"/>
                    </a:lnTo>
                    <a:lnTo>
                      <a:pt x="1016" y="764"/>
                    </a:lnTo>
                    <a:lnTo>
                      <a:pt x="1070" y="764"/>
                    </a:lnTo>
                    <a:lnTo>
                      <a:pt x="1070" y="764"/>
                    </a:lnTo>
                    <a:lnTo>
                      <a:pt x="1126" y="764"/>
                    </a:lnTo>
                    <a:lnTo>
                      <a:pt x="1180" y="760"/>
                    </a:lnTo>
                    <a:lnTo>
                      <a:pt x="1234" y="756"/>
                    </a:lnTo>
                    <a:lnTo>
                      <a:pt x="1286" y="750"/>
                    </a:lnTo>
                    <a:lnTo>
                      <a:pt x="1338" y="742"/>
                    </a:lnTo>
                    <a:lnTo>
                      <a:pt x="1390" y="734"/>
                    </a:lnTo>
                    <a:lnTo>
                      <a:pt x="1438" y="724"/>
                    </a:lnTo>
                    <a:lnTo>
                      <a:pt x="1488" y="712"/>
                    </a:lnTo>
                    <a:lnTo>
                      <a:pt x="1534" y="698"/>
                    </a:lnTo>
                    <a:lnTo>
                      <a:pt x="1582" y="682"/>
                    </a:lnTo>
                    <a:lnTo>
                      <a:pt x="1626" y="666"/>
                    </a:lnTo>
                    <a:lnTo>
                      <a:pt x="1670" y="650"/>
                    </a:lnTo>
                    <a:lnTo>
                      <a:pt x="1712" y="630"/>
                    </a:lnTo>
                    <a:lnTo>
                      <a:pt x="1752" y="610"/>
                    </a:lnTo>
                    <a:lnTo>
                      <a:pt x="1790" y="590"/>
                    </a:lnTo>
                    <a:lnTo>
                      <a:pt x="1828" y="566"/>
                    </a:lnTo>
                    <a:lnTo>
                      <a:pt x="1864" y="544"/>
                    </a:lnTo>
                    <a:lnTo>
                      <a:pt x="1896" y="518"/>
                    </a:lnTo>
                    <a:lnTo>
                      <a:pt x="1928" y="494"/>
                    </a:lnTo>
                    <a:lnTo>
                      <a:pt x="1958" y="468"/>
                    </a:lnTo>
                    <a:lnTo>
                      <a:pt x="1986" y="440"/>
                    </a:lnTo>
                    <a:lnTo>
                      <a:pt x="2012" y="412"/>
                    </a:lnTo>
                    <a:lnTo>
                      <a:pt x="2036" y="382"/>
                    </a:lnTo>
                    <a:lnTo>
                      <a:pt x="2058" y="352"/>
                    </a:lnTo>
                    <a:lnTo>
                      <a:pt x="2076" y="322"/>
                    </a:lnTo>
                    <a:lnTo>
                      <a:pt x="2094" y="290"/>
                    </a:lnTo>
                    <a:lnTo>
                      <a:pt x="2108" y="258"/>
                    </a:lnTo>
                    <a:lnTo>
                      <a:pt x="2120" y="226"/>
                    </a:lnTo>
                    <a:lnTo>
                      <a:pt x="2128" y="194"/>
                    </a:lnTo>
                    <a:lnTo>
                      <a:pt x="2136" y="160"/>
                    </a:lnTo>
                    <a:lnTo>
                      <a:pt x="2140" y="126"/>
                    </a:lnTo>
                    <a:lnTo>
                      <a:pt x="2142" y="90"/>
                    </a:lnTo>
                    <a:lnTo>
                      <a:pt x="21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42800" y="3331080"/>
              <a:ext cx="1080" cy="1080"/>
              <a:chOff x="7642800" y="3331080"/>
              <a:chExt cx="1080" cy="1080"/>
            </a:xfrm>
          </p:grpSpPr>
          <p:sp>
            <p:nvSpPr>
              <p:cNvPr id="291" name="直接连接符 18437"/>
              <p:cNvSpPr/>
              <p:nvPr/>
            </p:nvSpPr>
            <p:spPr>
              <a:xfrm>
                <a:off x="7642800" y="3331080"/>
                <a:ext cx="1080" cy="1080"/>
              </a:xfrm>
              <a:prstGeom prst="line">
                <a:avLst/>
              </a:prstGeom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7642800" y="3331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组合 18438"/>
            <p:cNvGrpSpPr/>
            <p:nvPr/>
          </p:nvGrpSpPr>
          <p:grpSpPr>
            <a:xfrm>
              <a:off x="1609200" y="1104840"/>
              <a:ext cx="2867400" cy="1975680"/>
              <a:chOff x="1609200" y="1104840"/>
              <a:chExt cx="2867400" cy="1975680"/>
            </a:xfrm>
          </p:grpSpPr>
          <p:sp>
            <p:nvSpPr>
              <p:cNvPr id="294" name="未知"/>
              <p:cNvSpPr/>
              <p:nvPr/>
            </p:nvSpPr>
            <p:spPr>
              <a:xfrm>
                <a:off x="1614960" y="1104840"/>
                <a:ext cx="2861280" cy="1833480"/>
              </a:xfrm>
              <a:custGeom>
                <a:avLst/>
                <a:gdLst/>
                <a:ahLst/>
                <a:rect l="l" t="t" r="r" b="b"/>
                <a:pathLst>
                  <a:path w="2010" h="1288">
                    <a:moveTo>
                      <a:pt x="0" y="1064"/>
                    </a:moveTo>
                    <a:lnTo>
                      <a:pt x="0" y="1064"/>
                    </a:lnTo>
                    <a:lnTo>
                      <a:pt x="28" y="1006"/>
                    </a:lnTo>
                    <a:lnTo>
                      <a:pt x="60" y="952"/>
                    </a:lnTo>
                    <a:lnTo>
                      <a:pt x="94" y="896"/>
                    </a:lnTo>
                    <a:lnTo>
                      <a:pt x="130" y="844"/>
                    </a:lnTo>
                    <a:lnTo>
                      <a:pt x="170" y="792"/>
                    </a:lnTo>
                    <a:lnTo>
                      <a:pt x="212" y="740"/>
                    </a:lnTo>
                    <a:lnTo>
                      <a:pt x="258" y="690"/>
                    </a:lnTo>
                    <a:lnTo>
                      <a:pt x="304" y="642"/>
                    </a:lnTo>
                    <a:lnTo>
                      <a:pt x="354" y="596"/>
                    </a:lnTo>
                    <a:lnTo>
                      <a:pt x="406" y="550"/>
                    </a:lnTo>
                    <a:lnTo>
                      <a:pt x="460" y="506"/>
                    </a:lnTo>
                    <a:lnTo>
                      <a:pt x="516" y="464"/>
                    </a:lnTo>
                    <a:lnTo>
                      <a:pt x="574" y="422"/>
                    </a:lnTo>
                    <a:lnTo>
                      <a:pt x="636" y="382"/>
                    </a:lnTo>
                    <a:lnTo>
                      <a:pt x="698" y="344"/>
                    </a:lnTo>
                    <a:lnTo>
                      <a:pt x="762" y="308"/>
                    </a:lnTo>
                    <a:lnTo>
                      <a:pt x="830" y="274"/>
                    </a:lnTo>
                    <a:lnTo>
                      <a:pt x="898" y="242"/>
                    </a:lnTo>
                    <a:lnTo>
                      <a:pt x="968" y="212"/>
                    </a:lnTo>
                    <a:lnTo>
                      <a:pt x="1040" y="182"/>
                    </a:lnTo>
                    <a:lnTo>
                      <a:pt x="1112" y="156"/>
                    </a:lnTo>
                    <a:lnTo>
                      <a:pt x="1188" y="130"/>
                    </a:lnTo>
                    <a:lnTo>
                      <a:pt x="1264" y="108"/>
                    </a:lnTo>
                    <a:lnTo>
                      <a:pt x="1342" y="86"/>
                    </a:lnTo>
                    <a:lnTo>
                      <a:pt x="1422" y="68"/>
                    </a:lnTo>
                    <a:lnTo>
                      <a:pt x="1502" y="50"/>
                    </a:lnTo>
                    <a:lnTo>
                      <a:pt x="1584" y="36"/>
                    </a:lnTo>
                    <a:lnTo>
                      <a:pt x="1668" y="24"/>
                    </a:lnTo>
                    <a:lnTo>
                      <a:pt x="1752" y="14"/>
                    </a:lnTo>
                    <a:lnTo>
                      <a:pt x="1836" y="6"/>
                    </a:lnTo>
                    <a:lnTo>
                      <a:pt x="1922" y="2"/>
                    </a:lnTo>
                    <a:lnTo>
                      <a:pt x="2010" y="0"/>
                    </a:lnTo>
                    <a:lnTo>
                      <a:pt x="2010" y="812"/>
                    </a:lnTo>
                    <a:lnTo>
                      <a:pt x="2010" y="812"/>
                    </a:lnTo>
                    <a:lnTo>
                      <a:pt x="1922" y="818"/>
                    </a:lnTo>
                    <a:lnTo>
                      <a:pt x="1838" y="826"/>
                    </a:lnTo>
                    <a:lnTo>
                      <a:pt x="1754" y="838"/>
                    </a:lnTo>
                    <a:lnTo>
                      <a:pt x="1674" y="856"/>
                    </a:lnTo>
                    <a:lnTo>
                      <a:pt x="1596" y="876"/>
                    </a:lnTo>
                    <a:lnTo>
                      <a:pt x="1520" y="898"/>
                    </a:lnTo>
                    <a:lnTo>
                      <a:pt x="1448" y="926"/>
                    </a:lnTo>
                    <a:lnTo>
                      <a:pt x="1380" y="956"/>
                    </a:lnTo>
                    <a:lnTo>
                      <a:pt x="1314" y="988"/>
                    </a:lnTo>
                    <a:lnTo>
                      <a:pt x="1254" y="1024"/>
                    </a:lnTo>
                    <a:lnTo>
                      <a:pt x="1198" y="1062"/>
                    </a:lnTo>
                    <a:lnTo>
                      <a:pt x="1144" y="1104"/>
                    </a:lnTo>
                    <a:lnTo>
                      <a:pt x="1120" y="1124"/>
                    </a:lnTo>
                    <a:lnTo>
                      <a:pt x="1098" y="1146"/>
                    </a:lnTo>
                    <a:lnTo>
                      <a:pt x="1076" y="1168"/>
                    </a:lnTo>
                    <a:lnTo>
                      <a:pt x="1054" y="1192"/>
                    </a:lnTo>
                    <a:lnTo>
                      <a:pt x="1034" y="1216"/>
                    </a:lnTo>
                    <a:lnTo>
                      <a:pt x="1016" y="1240"/>
                    </a:lnTo>
                    <a:lnTo>
                      <a:pt x="1000" y="1264"/>
                    </a:lnTo>
                    <a:lnTo>
                      <a:pt x="984" y="1288"/>
                    </a:lnTo>
                    <a:lnTo>
                      <a:pt x="0" y="10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1609200" y="2260800"/>
                <a:ext cx="2867400" cy="819720"/>
              </a:xfrm>
              <a:custGeom>
                <a:avLst/>
                <a:gdLst/>
                <a:ahLst/>
                <a:rect l="l" t="t" r="r" b="b"/>
                <a:pathLst>
                  <a:path w="2014" h="576">
                    <a:moveTo>
                      <a:pt x="2014" y="82"/>
                    </a:moveTo>
                    <a:lnTo>
                      <a:pt x="2014" y="82"/>
                    </a:lnTo>
                    <a:lnTo>
                      <a:pt x="1946" y="86"/>
                    </a:lnTo>
                    <a:lnTo>
                      <a:pt x="1882" y="92"/>
                    </a:lnTo>
                    <a:lnTo>
                      <a:pt x="1820" y="102"/>
                    </a:lnTo>
                    <a:lnTo>
                      <a:pt x="1760" y="112"/>
                    </a:lnTo>
                    <a:lnTo>
                      <a:pt x="1704" y="124"/>
                    </a:lnTo>
                    <a:lnTo>
                      <a:pt x="1648" y="138"/>
                    </a:lnTo>
                    <a:lnTo>
                      <a:pt x="1596" y="154"/>
                    </a:lnTo>
                    <a:lnTo>
                      <a:pt x="1546" y="172"/>
                    </a:lnTo>
                    <a:lnTo>
                      <a:pt x="1498" y="190"/>
                    </a:lnTo>
                    <a:lnTo>
                      <a:pt x="1452" y="210"/>
                    </a:lnTo>
                    <a:lnTo>
                      <a:pt x="1410" y="230"/>
                    </a:lnTo>
                    <a:lnTo>
                      <a:pt x="1368" y="250"/>
                    </a:lnTo>
                    <a:lnTo>
                      <a:pt x="1330" y="272"/>
                    </a:lnTo>
                    <a:lnTo>
                      <a:pt x="1292" y="294"/>
                    </a:lnTo>
                    <a:lnTo>
                      <a:pt x="1258" y="318"/>
                    </a:lnTo>
                    <a:lnTo>
                      <a:pt x="1226" y="340"/>
                    </a:lnTo>
                    <a:lnTo>
                      <a:pt x="1168" y="384"/>
                    </a:lnTo>
                    <a:lnTo>
                      <a:pt x="1118" y="428"/>
                    </a:lnTo>
                    <a:lnTo>
                      <a:pt x="1076" y="468"/>
                    </a:lnTo>
                    <a:lnTo>
                      <a:pt x="1044" y="502"/>
                    </a:lnTo>
                    <a:lnTo>
                      <a:pt x="1018" y="532"/>
                    </a:lnTo>
                    <a:lnTo>
                      <a:pt x="1000" y="556"/>
                    </a:lnTo>
                    <a:lnTo>
                      <a:pt x="984" y="576"/>
                    </a:lnTo>
                    <a:lnTo>
                      <a:pt x="0" y="342"/>
                    </a:lnTo>
                    <a:lnTo>
                      <a:pt x="4" y="252"/>
                    </a:lnTo>
                    <a:lnTo>
                      <a:pt x="988" y="476"/>
                    </a:lnTo>
                    <a:lnTo>
                      <a:pt x="988" y="476"/>
                    </a:lnTo>
                    <a:lnTo>
                      <a:pt x="1004" y="452"/>
                    </a:lnTo>
                    <a:lnTo>
                      <a:pt x="1020" y="428"/>
                    </a:lnTo>
                    <a:lnTo>
                      <a:pt x="1038" y="404"/>
                    </a:lnTo>
                    <a:lnTo>
                      <a:pt x="1058" y="380"/>
                    </a:lnTo>
                    <a:lnTo>
                      <a:pt x="1080" y="356"/>
                    </a:lnTo>
                    <a:lnTo>
                      <a:pt x="1102" y="334"/>
                    </a:lnTo>
                    <a:lnTo>
                      <a:pt x="1124" y="312"/>
                    </a:lnTo>
                    <a:lnTo>
                      <a:pt x="1148" y="292"/>
                    </a:lnTo>
                    <a:lnTo>
                      <a:pt x="1202" y="250"/>
                    </a:lnTo>
                    <a:lnTo>
                      <a:pt x="1258" y="212"/>
                    </a:lnTo>
                    <a:lnTo>
                      <a:pt x="1318" y="176"/>
                    </a:lnTo>
                    <a:lnTo>
                      <a:pt x="1384" y="144"/>
                    </a:lnTo>
                    <a:lnTo>
                      <a:pt x="1452" y="114"/>
                    </a:lnTo>
                    <a:lnTo>
                      <a:pt x="1524" y="86"/>
                    </a:lnTo>
                    <a:lnTo>
                      <a:pt x="1600" y="64"/>
                    </a:lnTo>
                    <a:lnTo>
                      <a:pt x="1678" y="44"/>
                    </a:lnTo>
                    <a:lnTo>
                      <a:pt x="1758" y="26"/>
                    </a:lnTo>
                    <a:lnTo>
                      <a:pt x="1842" y="14"/>
                    </a:lnTo>
                    <a:lnTo>
                      <a:pt x="1926" y="6"/>
                    </a:lnTo>
                    <a:lnTo>
                      <a:pt x="2014" y="0"/>
                    </a:lnTo>
                    <a:lnTo>
                      <a:pt x="2014" y="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653960" y="3351240"/>
              <a:ext cx="1080" cy="1080"/>
              <a:chOff x="7653960" y="3351240"/>
              <a:chExt cx="1080" cy="1080"/>
            </a:xfrm>
          </p:grpSpPr>
          <p:sp>
            <p:nvSpPr>
              <p:cNvPr id="297" name="直接连接符 18441"/>
              <p:cNvSpPr/>
              <p:nvPr/>
            </p:nvSpPr>
            <p:spPr>
              <a:xfrm>
                <a:off x="7653960" y="3351240"/>
                <a:ext cx="1080" cy="1080"/>
              </a:xfrm>
              <a:prstGeom prst="line">
                <a:avLst/>
              </a:prstGeom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7653960" y="335124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组合 18442"/>
            <p:cNvGrpSpPr/>
            <p:nvPr/>
          </p:nvGrpSpPr>
          <p:grpSpPr>
            <a:xfrm>
              <a:off x="1441440" y="2719080"/>
              <a:ext cx="2180520" cy="2556360"/>
              <a:chOff x="1441440" y="2719080"/>
              <a:chExt cx="2180520" cy="2556360"/>
            </a:xfrm>
          </p:grpSpPr>
          <p:sp>
            <p:nvSpPr>
              <p:cNvPr id="300" name="未知"/>
              <p:cNvSpPr/>
              <p:nvPr/>
            </p:nvSpPr>
            <p:spPr>
              <a:xfrm>
                <a:off x="1461240" y="2719080"/>
                <a:ext cx="2160720" cy="2405160"/>
              </a:xfrm>
              <a:custGeom>
                <a:avLst/>
                <a:gdLst/>
                <a:ahLst/>
                <a:rect l="l" t="t" r="r" b="b"/>
                <a:pathLst>
                  <a:path w="1518" h="1690">
                    <a:moveTo>
                      <a:pt x="840" y="1690"/>
                    </a:moveTo>
                    <a:lnTo>
                      <a:pt x="840" y="1690"/>
                    </a:lnTo>
                    <a:lnTo>
                      <a:pt x="792" y="1664"/>
                    </a:lnTo>
                    <a:lnTo>
                      <a:pt x="746" y="1634"/>
                    </a:lnTo>
                    <a:lnTo>
                      <a:pt x="702" y="1606"/>
                    </a:lnTo>
                    <a:lnTo>
                      <a:pt x="658" y="1576"/>
                    </a:lnTo>
                    <a:lnTo>
                      <a:pt x="614" y="1544"/>
                    </a:lnTo>
                    <a:lnTo>
                      <a:pt x="572" y="1512"/>
                    </a:lnTo>
                    <a:lnTo>
                      <a:pt x="532" y="1480"/>
                    </a:lnTo>
                    <a:lnTo>
                      <a:pt x="494" y="1446"/>
                    </a:lnTo>
                    <a:lnTo>
                      <a:pt x="456" y="1412"/>
                    </a:lnTo>
                    <a:lnTo>
                      <a:pt x="418" y="1376"/>
                    </a:lnTo>
                    <a:lnTo>
                      <a:pt x="384" y="1342"/>
                    </a:lnTo>
                    <a:lnTo>
                      <a:pt x="350" y="1304"/>
                    </a:lnTo>
                    <a:lnTo>
                      <a:pt x="318" y="1268"/>
                    </a:lnTo>
                    <a:lnTo>
                      <a:pt x="286" y="1230"/>
                    </a:lnTo>
                    <a:lnTo>
                      <a:pt x="256" y="1190"/>
                    </a:lnTo>
                    <a:lnTo>
                      <a:pt x="228" y="1152"/>
                    </a:lnTo>
                    <a:lnTo>
                      <a:pt x="202" y="1112"/>
                    </a:lnTo>
                    <a:lnTo>
                      <a:pt x="178" y="1070"/>
                    </a:lnTo>
                    <a:lnTo>
                      <a:pt x="154" y="1030"/>
                    </a:lnTo>
                    <a:lnTo>
                      <a:pt x="132" y="988"/>
                    </a:lnTo>
                    <a:lnTo>
                      <a:pt x="112" y="946"/>
                    </a:lnTo>
                    <a:lnTo>
                      <a:pt x="92" y="904"/>
                    </a:lnTo>
                    <a:lnTo>
                      <a:pt x="76" y="860"/>
                    </a:lnTo>
                    <a:lnTo>
                      <a:pt x="60" y="816"/>
                    </a:lnTo>
                    <a:lnTo>
                      <a:pt x="46" y="772"/>
                    </a:lnTo>
                    <a:lnTo>
                      <a:pt x="34" y="728"/>
                    </a:lnTo>
                    <a:lnTo>
                      <a:pt x="24" y="682"/>
                    </a:lnTo>
                    <a:lnTo>
                      <a:pt x="16" y="636"/>
                    </a:lnTo>
                    <a:lnTo>
                      <a:pt x="10" y="590"/>
                    </a:lnTo>
                    <a:lnTo>
                      <a:pt x="4" y="544"/>
                    </a:lnTo>
                    <a:lnTo>
                      <a:pt x="2" y="498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2" y="392"/>
                    </a:lnTo>
                    <a:lnTo>
                      <a:pt x="6" y="334"/>
                    </a:lnTo>
                    <a:lnTo>
                      <a:pt x="14" y="276"/>
                    </a:lnTo>
                    <a:lnTo>
                      <a:pt x="24" y="220"/>
                    </a:lnTo>
                    <a:lnTo>
                      <a:pt x="36" y="164"/>
                    </a:lnTo>
                    <a:lnTo>
                      <a:pt x="52" y="108"/>
                    </a:lnTo>
                    <a:lnTo>
                      <a:pt x="70" y="54"/>
                    </a:lnTo>
                    <a:lnTo>
                      <a:pt x="92" y="0"/>
                    </a:lnTo>
                    <a:lnTo>
                      <a:pt x="1066" y="236"/>
                    </a:lnTo>
                    <a:lnTo>
                      <a:pt x="1066" y="236"/>
                    </a:lnTo>
                    <a:lnTo>
                      <a:pt x="1050" y="282"/>
                    </a:lnTo>
                    <a:lnTo>
                      <a:pt x="1042" y="306"/>
                    </a:lnTo>
                    <a:lnTo>
                      <a:pt x="1038" y="328"/>
                    </a:lnTo>
                    <a:lnTo>
                      <a:pt x="1032" y="352"/>
                    </a:lnTo>
                    <a:lnTo>
                      <a:pt x="1030" y="378"/>
                    </a:lnTo>
                    <a:lnTo>
                      <a:pt x="1028" y="402"/>
                    </a:lnTo>
                    <a:lnTo>
                      <a:pt x="1028" y="426"/>
                    </a:lnTo>
                    <a:lnTo>
                      <a:pt x="1028" y="426"/>
                    </a:lnTo>
                    <a:lnTo>
                      <a:pt x="1030" y="472"/>
                    </a:lnTo>
                    <a:lnTo>
                      <a:pt x="1036" y="518"/>
                    </a:lnTo>
                    <a:lnTo>
                      <a:pt x="1048" y="562"/>
                    </a:lnTo>
                    <a:lnTo>
                      <a:pt x="1062" y="606"/>
                    </a:lnTo>
                    <a:lnTo>
                      <a:pt x="1082" y="648"/>
                    </a:lnTo>
                    <a:lnTo>
                      <a:pt x="1104" y="690"/>
                    </a:lnTo>
                    <a:lnTo>
                      <a:pt x="1130" y="730"/>
                    </a:lnTo>
                    <a:lnTo>
                      <a:pt x="1162" y="770"/>
                    </a:lnTo>
                    <a:lnTo>
                      <a:pt x="1194" y="808"/>
                    </a:lnTo>
                    <a:lnTo>
                      <a:pt x="1232" y="844"/>
                    </a:lnTo>
                    <a:lnTo>
                      <a:pt x="1272" y="880"/>
                    </a:lnTo>
                    <a:lnTo>
                      <a:pt x="1316" y="912"/>
                    </a:lnTo>
                    <a:lnTo>
                      <a:pt x="1362" y="944"/>
                    </a:lnTo>
                    <a:lnTo>
                      <a:pt x="1412" y="974"/>
                    </a:lnTo>
                    <a:lnTo>
                      <a:pt x="1464" y="1002"/>
                    </a:lnTo>
                    <a:lnTo>
                      <a:pt x="1518" y="1028"/>
                    </a:lnTo>
                    <a:lnTo>
                      <a:pt x="840" y="16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1441440" y="2719080"/>
                <a:ext cx="2178000" cy="2556360"/>
              </a:xfrm>
              <a:custGeom>
                <a:avLst/>
                <a:gdLst/>
                <a:ahLst/>
                <a:rect l="l" t="t" r="r" b="b"/>
                <a:pathLst>
                  <a:path w="1530" h="1796">
                    <a:moveTo>
                      <a:pt x="850" y="1796"/>
                    </a:moveTo>
                    <a:lnTo>
                      <a:pt x="1522" y="1144"/>
                    </a:lnTo>
                    <a:lnTo>
                      <a:pt x="1530" y="1028"/>
                    </a:lnTo>
                    <a:lnTo>
                      <a:pt x="852" y="1690"/>
                    </a:lnTo>
                    <a:lnTo>
                      <a:pt x="852" y="1690"/>
                    </a:lnTo>
                    <a:lnTo>
                      <a:pt x="806" y="1664"/>
                    </a:lnTo>
                    <a:lnTo>
                      <a:pt x="758" y="1634"/>
                    </a:lnTo>
                    <a:lnTo>
                      <a:pt x="714" y="1606"/>
                    </a:lnTo>
                    <a:lnTo>
                      <a:pt x="670" y="1576"/>
                    </a:lnTo>
                    <a:lnTo>
                      <a:pt x="628" y="1544"/>
                    </a:lnTo>
                    <a:lnTo>
                      <a:pt x="586" y="1512"/>
                    </a:lnTo>
                    <a:lnTo>
                      <a:pt x="546" y="1480"/>
                    </a:lnTo>
                    <a:lnTo>
                      <a:pt x="506" y="1446"/>
                    </a:lnTo>
                    <a:lnTo>
                      <a:pt x="468" y="1412"/>
                    </a:lnTo>
                    <a:lnTo>
                      <a:pt x="432" y="1376"/>
                    </a:lnTo>
                    <a:lnTo>
                      <a:pt x="396" y="1342"/>
                    </a:lnTo>
                    <a:lnTo>
                      <a:pt x="362" y="1304"/>
                    </a:lnTo>
                    <a:lnTo>
                      <a:pt x="330" y="1268"/>
                    </a:lnTo>
                    <a:lnTo>
                      <a:pt x="300" y="1230"/>
                    </a:lnTo>
                    <a:lnTo>
                      <a:pt x="270" y="1190"/>
                    </a:lnTo>
                    <a:lnTo>
                      <a:pt x="242" y="1152"/>
                    </a:lnTo>
                    <a:lnTo>
                      <a:pt x="214" y="1112"/>
                    </a:lnTo>
                    <a:lnTo>
                      <a:pt x="190" y="1070"/>
                    </a:lnTo>
                    <a:lnTo>
                      <a:pt x="166" y="1030"/>
                    </a:lnTo>
                    <a:lnTo>
                      <a:pt x="144" y="988"/>
                    </a:lnTo>
                    <a:lnTo>
                      <a:pt x="124" y="946"/>
                    </a:lnTo>
                    <a:lnTo>
                      <a:pt x="106" y="904"/>
                    </a:lnTo>
                    <a:lnTo>
                      <a:pt x="88" y="860"/>
                    </a:lnTo>
                    <a:lnTo>
                      <a:pt x="72" y="816"/>
                    </a:lnTo>
                    <a:lnTo>
                      <a:pt x="58" y="772"/>
                    </a:lnTo>
                    <a:lnTo>
                      <a:pt x="48" y="728"/>
                    </a:lnTo>
                    <a:lnTo>
                      <a:pt x="36" y="682"/>
                    </a:lnTo>
                    <a:lnTo>
                      <a:pt x="28" y="636"/>
                    </a:lnTo>
                    <a:lnTo>
                      <a:pt x="22" y="590"/>
                    </a:lnTo>
                    <a:lnTo>
                      <a:pt x="18" y="544"/>
                    </a:lnTo>
                    <a:lnTo>
                      <a:pt x="14" y="498"/>
                    </a:lnTo>
                    <a:lnTo>
                      <a:pt x="14" y="450"/>
                    </a:lnTo>
                    <a:lnTo>
                      <a:pt x="14" y="450"/>
                    </a:lnTo>
                    <a:lnTo>
                      <a:pt x="14" y="392"/>
                    </a:lnTo>
                    <a:lnTo>
                      <a:pt x="20" y="334"/>
                    </a:lnTo>
                    <a:lnTo>
                      <a:pt x="26" y="276"/>
                    </a:lnTo>
                    <a:lnTo>
                      <a:pt x="36" y="220"/>
                    </a:lnTo>
                    <a:lnTo>
                      <a:pt x="50" y="164"/>
                    </a:lnTo>
                    <a:lnTo>
                      <a:pt x="64" y="108"/>
                    </a:lnTo>
                    <a:lnTo>
                      <a:pt x="82" y="54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98" y="14"/>
                    </a:lnTo>
                    <a:lnTo>
                      <a:pt x="84" y="52"/>
                    </a:lnTo>
                    <a:lnTo>
                      <a:pt x="64" y="114"/>
                    </a:lnTo>
                    <a:lnTo>
                      <a:pt x="54" y="152"/>
                    </a:lnTo>
                    <a:lnTo>
                      <a:pt x="42" y="194"/>
                    </a:lnTo>
                    <a:lnTo>
                      <a:pt x="32" y="242"/>
                    </a:lnTo>
                    <a:lnTo>
                      <a:pt x="22" y="294"/>
                    </a:lnTo>
                    <a:lnTo>
                      <a:pt x="14" y="348"/>
                    </a:lnTo>
                    <a:lnTo>
                      <a:pt x="8" y="408"/>
                    </a:lnTo>
                    <a:lnTo>
                      <a:pt x="2" y="468"/>
                    </a:lnTo>
                    <a:lnTo>
                      <a:pt x="0" y="534"/>
                    </a:lnTo>
                    <a:lnTo>
                      <a:pt x="0" y="600"/>
                    </a:lnTo>
                    <a:lnTo>
                      <a:pt x="4" y="668"/>
                    </a:lnTo>
                    <a:lnTo>
                      <a:pt x="10" y="740"/>
                    </a:lnTo>
                    <a:lnTo>
                      <a:pt x="22" y="812"/>
                    </a:lnTo>
                    <a:lnTo>
                      <a:pt x="38" y="884"/>
                    </a:lnTo>
                    <a:lnTo>
                      <a:pt x="48" y="922"/>
                    </a:lnTo>
                    <a:lnTo>
                      <a:pt x="60" y="958"/>
                    </a:lnTo>
                    <a:lnTo>
                      <a:pt x="72" y="996"/>
                    </a:lnTo>
                    <a:lnTo>
                      <a:pt x="86" y="1034"/>
                    </a:lnTo>
                    <a:lnTo>
                      <a:pt x="100" y="1070"/>
                    </a:lnTo>
                    <a:lnTo>
                      <a:pt x="118" y="1108"/>
                    </a:lnTo>
                    <a:lnTo>
                      <a:pt x="136" y="1146"/>
                    </a:lnTo>
                    <a:lnTo>
                      <a:pt x="156" y="1184"/>
                    </a:lnTo>
                    <a:lnTo>
                      <a:pt x="178" y="1220"/>
                    </a:lnTo>
                    <a:lnTo>
                      <a:pt x="200" y="1258"/>
                    </a:lnTo>
                    <a:lnTo>
                      <a:pt x="226" y="1294"/>
                    </a:lnTo>
                    <a:lnTo>
                      <a:pt x="252" y="1330"/>
                    </a:lnTo>
                    <a:lnTo>
                      <a:pt x="282" y="1366"/>
                    </a:lnTo>
                    <a:lnTo>
                      <a:pt x="312" y="1402"/>
                    </a:lnTo>
                    <a:lnTo>
                      <a:pt x="344" y="1438"/>
                    </a:lnTo>
                    <a:lnTo>
                      <a:pt x="380" y="1474"/>
                    </a:lnTo>
                    <a:lnTo>
                      <a:pt x="416" y="1508"/>
                    </a:lnTo>
                    <a:lnTo>
                      <a:pt x="456" y="1542"/>
                    </a:lnTo>
                    <a:lnTo>
                      <a:pt x="496" y="1576"/>
                    </a:lnTo>
                    <a:lnTo>
                      <a:pt x="540" y="1610"/>
                    </a:lnTo>
                    <a:lnTo>
                      <a:pt x="586" y="1642"/>
                    </a:lnTo>
                    <a:lnTo>
                      <a:pt x="634" y="1674"/>
                    </a:lnTo>
                    <a:lnTo>
                      <a:pt x="684" y="1706"/>
                    </a:lnTo>
                    <a:lnTo>
                      <a:pt x="736" y="1736"/>
                    </a:lnTo>
                    <a:lnTo>
                      <a:pt x="792" y="1766"/>
                    </a:lnTo>
                    <a:lnTo>
                      <a:pt x="850" y="1796"/>
                    </a:lnTo>
                    <a:lnTo>
                      <a:pt x="850" y="179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18445"/>
            <p:cNvGrpSpPr/>
            <p:nvPr/>
          </p:nvGrpSpPr>
          <p:grpSpPr>
            <a:xfrm>
              <a:off x="4647240" y="1121760"/>
              <a:ext cx="2846880" cy="1938600"/>
              <a:chOff x="4647240" y="1121760"/>
              <a:chExt cx="2846880" cy="1938600"/>
            </a:xfrm>
          </p:grpSpPr>
          <p:sp>
            <p:nvSpPr>
              <p:cNvPr id="303" name="未知"/>
              <p:cNvSpPr/>
              <p:nvPr/>
            </p:nvSpPr>
            <p:spPr>
              <a:xfrm>
                <a:off x="4648320" y="2251800"/>
                <a:ext cx="2842920" cy="808560"/>
              </a:xfrm>
              <a:custGeom>
                <a:avLst/>
                <a:gdLst/>
                <a:ahLst/>
                <a:rect l="l" t="t" r="r" b="b"/>
                <a:pathLst>
                  <a:path w="2000" h="568">
                    <a:moveTo>
                      <a:pt x="0" y="76"/>
                    </a:moveTo>
                    <a:lnTo>
                      <a:pt x="0" y="76"/>
                    </a:lnTo>
                    <a:lnTo>
                      <a:pt x="64" y="76"/>
                    </a:lnTo>
                    <a:lnTo>
                      <a:pt x="124" y="82"/>
                    </a:lnTo>
                    <a:lnTo>
                      <a:pt x="184" y="88"/>
                    </a:lnTo>
                    <a:lnTo>
                      <a:pt x="240" y="96"/>
                    </a:lnTo>
                    <a:lnTo>
                      <a:pt x="296" y="108"/>
                    </a:lnTo>
                    <a:lnTo>
                      <a:pt x="348" y="120"/>
                    </a:lnTo>
                    <a:lnTo>
                      <a:pt x="400" y="136"/>
                    </a:lnTo>
                    <a:lnTo>
                      <a:pt x="448" y="152"/>
                    </a:lnTo>
                    <a:lnTo>
                      <a:pt x="496" y="170"/>
                    </a:lnTo>
                    <a:lnTo>
                      <a:pt x="540" y="190"/>
                    </a:lnTo>
                    <a:lnTo>
                      <a:pt x="584" y="210"/>
                    </a:lnTo>
                    <a:lnTo>
                      <a:pt x="624" y="232"/>
                    </a:lnTo>
                    <a:lnTo>
                      <a:pt x="664" y="254"/>
                    </a:lnTo>
                    <a:lnTo>
                      <a:pt x="700" y="276"/>
                    </a:lnTo>
                    <a:lnTo>
                      <a:pt x="736" y="298"/>
                    </a:lnTo>
                    <a:lnTo>
                      <a:pt x="768" y="322"/>
                    </a:lnTo>
                    <a:lnTo>
                      <a:pt x="828" y="368"/>
                    </a:lnTo>
                    <a:lnTo>
                      <a:pt x="880" y="412"/>
                    </a:lnTo>
                    <a:lnTo>
                      <a:pt x="924" y="454"/>
                    </a:lnTo>
                    <a:lnTo>
                      <a:pt x="960" y="492"/>
                    </a:lnTo>
                    <a:lnTo>
                      <a:pt x="988" y="522"/>
                    </a:lnTo>
                    <a:lnTo>
                      <a:pt x="1008" y="546"/>
                    </a:lnTo>
                    <a:lnTo>
                      <a:pt x="1024" y="568"/>
                    </a:lnTo>
                    <a:lnTo>
                      <a:pt x="2000" y="356"/>
                    </a:lnTo>
                    <a:lnTo>
                      <a:pt x="2000" y="244"/>
                    </a:lnTo>
                    <a:lnTo>
                      <a:pt x="1040" y="464"/>
                    </a:lnTo>
                    <a:lnTo>
                      <a:pt x="1040" y="464"/>
                    </a:lnTo>
                    <a:lnTo>
                      <a:pt x="1024" y="440"/>
                    </a:lnTo>
                    <a:lnTo>
                      <a:pt x="1008" y="414"/>
                    </a:lnTo>
                    <a:lnTo>
                      <a:pt x="990" y="390"/>
                    </a:lnTo>
                    <a:lnTo>
                      <a:pt x="970" y="368"/>
                    </a:lnTo>
                    <a:lnTo>
                      <a:pt x="948" y="346"/>
                    </a:lnTo>
                    <a:lnTo>
                      <a:pt x="926" y="322"/>
                    </a:lnTo>
                    <a:lnTo>
                      <a:pt x="902" y="302"/>
                    </a:lnTo>
                    <a:lnTo>
                      <a:pt x="876" y="280"/>
                    </a:lnTo>
                    <a:lnTo>
                      <a:pt x="850" y="260"/>
                    </a:lnTo>
                    <a:lnTo>
                      <a:pt x="824" y="240"/>
                    </a:lnTo>
                    <a:lnTo>
                      <a:pt x="766" y="204"/>
                    </a:lnTo>
                    <a:lnTo>
                      <a:pt x="704" y="168"/>
                    </a:lnTo>
                    <a:lnTo>
                      <a:pt x="636" y="136"/>
                    </a:lnTo>
                    <a:lnTo>
                      <a:pt x="568" y="108"/>
                    </a:lnTo>
                    <a:lnTo>
                      <a:pt x="494" y="82"/>
                    </a:lnTo>
                    <a:lnTo>
                      <a:pt x="418" y="60"/>
                    </a:lnTo>
                    <a:lnTo>
                      <a:pt x="338" y="40"/>
                    </a:lnTo>
                    <a:lnTo>
                      <a:pt x="256" y="26"/>
                    </a:lnTo>
                    <a:lnTo>
                      <a:pt x="174" y="12"/>
                    </a:lnTo>
                    <a:lnTo>
                      <a:pt x="88" y="4"/>
                    </a:lnTo>
                    <a:lnTo>
                      <a:pt x="0" y="0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4647240" y="1121760"/>
                <a:ext cx="2846880" cy="1798920"/>
              </a:xfrm>
              <a:custGeom>
                <a:avLst/>
                <a:gdLst/>
                <a:ahLst/>
                <a:rect l="l" t="t" r="r" b="b"/>
                <a:pathLst>
                  <a:path w="2000" h="1264">
                    <a:moveTo>
                      <a:pt x="2000" y="1040"/>
                    </a:moveTo>
                    <a:lnTo>
                      <a:pt x="1040" y="1264"/>
                    </a:lnTo>
                    <a:lnTo>
                      <a:pt x="1040" y="1264"/>
                    </a:lnTo>
                    <a:lnTo>
                      <a:pt x="1024" y="1240"/>
                    </a:lnTo>
                    <a:lnTo>
                      <a:pt x="1008" y="1214"/>
                    </a:lnTo>
                    <a:lnTo>
                      <a:pt x="990" y="1190"/>
                    </a:lnTo>
                    <a:lnTo>
                      <a:pt x="970" y="1168"/>
                    </a:lnTo>
                    <a:lnTo>
                      <a:pt x="948" y="1144"/>
                    </a:lnTo>
                    <a:lnTo>
                      <a:pt x="926" y="1122"/>
                    </a:lnTo>
                    <a:lnTo>
                      <a:pt x="902" y="1100"/>
                    </a:lnTo>
                    <a:lnTo>
                      <a:pt x="876" y="1080"/>
                    </a:lnTo>
                    <a:lnTo>
                      <a:pt x="850" y="1060"/>
                    </a:lnTo>
                    <a:lnTo>
                      <a:pt x="824" y="1040"/>
                    </a:lnTo>
                    <a:lnTo>
                      <a:pt x="766" y="1002"/>
                    </a:lnTo>
                    <a:lnTo>
                      <a:pt x="704" y="966"/>
                    </a:lnTo>
                    <a:lnTo>
                      <a:pt x="636" y="934"/>
                    </a:lnTo>
                    <a:lnTo>
                      <a:pt x="568" y="904"/>
                    </a:lnTo>
                    <a:lnTo>
                      <a:pt x="494" y="878"/>
                    </a:lnTo>
                    <a:lnTo>
                      <a:pt x="418" y="856"/>
                    </a:lnTo>
                    <a:lnTo>
                      <a:pt x="338" y="836"/>
                    </a:lnTo>
                    <a:lnTo>
                      <a:pt x="256" y="820"/>
                    </a:lnTo>
                    <a:lnTo>
                      <a:pt x="174" y="808"/>
                    </a:lnTo>
                    <a:lnTo>
                      <a:pt x="88" y="798"/>
                    </a:lnTo>
                    <a:lnTo>
                      <a:pt x="0" y="79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2" y="0"/>
                    </a:lnTo>
                    <a:lnTo>
                      <a:pt x="136" y="0"/>
                    </a:lnTo>
                    <a:lnTo>
                      <a:pt x="232" y="6"/>
                    </a:lnTo>
                    <a:lnTo>
                      <a:pt x="288" y="12"/>
                    </a:lnTo>
                    <a:lnTo>
                      <a:pt x="348" y="18"/>
                    </a:lnTo>
                    <a:lnTo>
                      <a:pt x="412" y="26"/>
                    </a:lnTo>
                    <a:lnTo>
                      <a:pt x="482" y="36"/>
                    </a:lnTo>
                    <a:lnTo>
                      <a:pt x="554" y="50"/>
                    </a:lnTo>
                    <a:lnTo>
                      <a:pt x="628" y="64"/>
                    </a:lnTo>
                    <a:lnTo>
                      <a:pt x="706" y="84"/>
                    </a:lnTo>
                    <a:lnTo>
                      <a:pt x="784" y="104"/>
                    </a:lnTo>
                    <a:lnTo>
                      <a:pt x="866" y="128"/>
                    </a:lnTo>
                    <a:lnTo>
                      <a:pt x="948" y="156"/>
                    </a:lnTo>
                    <a:lnTo>
                      <a:pt x="1032" y="188"/>
                    </a:lnTo>
                    <a:lnTo>
                      <a:pt x="1114" y="224"/>
                    </a:lnTo>
                    <a:lnTo>
                      <a:pt x="1198" y="264"/>
                    </a:lnTo>
                    <a:lnTo>
                      <a:pt x="1282" y="308"/>
                    </a:lnTo>
                    <a:lnTo>
                      <a:pt x="1364" y="356"/>
                    </a:lnTo>
                    <a:lnTo>
                      <a:pt x="1404" y="382"/>
                    </a:lnTo>
                    <a:lnTo>
                      <a:pt x="1446" y="410"/>
                    </a:lnTo>
                    <a:lnTo>
                      <a:pt x="1486" y="438"/>
                    </a:lnTo>
                    <a:lnTo>
                      <a:pt x="1524" y="468"/>
                    </a:lnTo>
                    <a:lnTo>
                      <a:pt x="1564" y="500"/>
                    </a:lnTo>
                    <a:lnTo>
                      <a:pt x="1602" y="532"/>
                    </a:lnTo>
                    <a:lnTo>
                      <a:pt x="1640" y="566"/>
                    </a:lnTo>
                    <a:lnTo>
                      <a:pt x="1678" y="602"/>
                    </a:lnTo>
                    <a:lnTo>
                      <a:pt x="1714" y="638"/>
                    </a:lnTo>
                    <a:lnTo>
                      <a:pt x="1750" y="676"/>
                    </a:lnTo>
                    <a:lnTo>
                      <a:pt x="1784" y="716"/>
                    </a:lnTo>
                    <a:lnTo>
                      <a:pt x="1818" y="758"/>
                    </a:lnTo>
                    <a:lnTo>
                      <a:pt x="1852" y="800"/>
                    </a:lnTo>
                    <a:lnTo>
                      <a:pt x="1884" y="846"/>
                    </a:lnTo>
                    <a:lnTo>
                      <a:pt x="1914" y="892"/>
                    </a:lnTo>
                    <a:lnTo>
                      <a:pt x="1944" y="940"/>
                    </a:lnTo>
                    <a:lnTo>
                      <a:pt x="1972" y="988"/>
                    </a:lnTo>
                    <a:lnTo>
                      <a:pt x="2000" y="1040"/>
                    </a:lnTo>
                    <a:lnTo>
                      <a:pt x="2000" y="10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189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7548840" y="2727720"/>
              <a:ext cx="1080" cy="1080"/>
              <a:chOff x="7548840" y="2727720"/>
              <a:chExt cx="1080" cy="1080"/>
            </a:xfrm>
          </p:grpSpPr>
          <p:sp>
            <p:nvSpPr>
              <p:cNvPr id="306" name="直接连接符 18448"/>
              <p:cNvSpPr/>
              <p:nvPr/>
            </p:nvSpPr>
            <p:spPr>
              <a:xfrm>
                <a:off x="7548840" y="2727720"/>
                <a:ext cx="1080" cy="1080"/>
              </a:xfrm>
              <a:prstGeom prst="line">
                <a:avLst/>
              </a:prstGeom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548840" y="272772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8449"/>
            <p:cNvGrpSpPr/>
            <p:nvPr/>
          </p:nvGrpSpPr>
          <p:grpSpPr>
            <a:xfrm>
              <a:off x="5510160" y="2730600"/>
              <a:ext cx="2192400" cy="2550600"/>
              <a:chOff x="5510160" y="2730600"/>
              <a:chExt cx="2192400" cy="2550600"/>
            </a:xfrm>
          </p:grpSpPr>
          <p:sp>
            <p:nvSpPr>
              <p:cNvPr id="309" name="未知"/>
              <p:cNvSpPr/>
              <p:nvPr/>
            </p:nvSpPr>
            <p:spPr>
              <a:xfrm>
                <a:off x="5518440" y="2730600"/>
                <a:ext cx="2149560" cy="2394360"/>
              </a:xfrm>
              <a:custGeom>
                <a:avLst/>
                <a:gdLst/>
                <a:ahLst/>
                <a:rect l="l" t="t" r="r" b="b"/>
                <a:pathLst>
                  <a:path w="1510" h="1682">
                    <a:moveTo>
                      <a:pt x="438" y="236"/>
                    </a:moveTo>
                    <a:lnTo>
                      <a:pt x="438" y="236"/>
                    </a:lnTo>
                    <a:lnTo>
                      <a:pt x="456" y="282"/>
                    </a:lnTo>
                    <a:lnTo>
                      <a:pt x="468" y="330"/>
                    </a:lnTo>
                    <a:lnTo>
                      <a:pt x="472" y="354"/>
                    </a:lnTo>
                    <a:lnTo>
                      <a:pt x="474" y="378"/>
                    </a:lnTo>
                    <a:lnTo>
                      <a:pt x="476" y="402"/>
                    </a:lnTo>
                    <a:lnTo>
                      <a:pt x="478" y="426"/>
                    </a:lnTo>
                    <a:lnTo>
                      <a:pt x="478" y="426"/>
                    </a:lnTo>
                    <a:lnTo>
                      <a:pt x="476" y="472"/>
                    </a:lnTo>
                    <a:lnTo>
                      <a:pt x="468" y="516"/>
                    </a:lnTo>
                    <a:lnTo>
                      <a:pt x="458" y="560"/>
                    </a:lnTo>
                    <a:lnTo>
                      <a:pt x="444" y="604"/>
                    </a:lnTo>
                    <a:lnTo>
                      <a:pt x="424" y="646"/>
                    </a:lnTo>
                    <a:lnTo>
                      <a:pt x="402" y="686"/>
                    </a:lnTo>
                    <a:lnTo>
                      <a:pt x="376" y="726"/>
                    </a:lnTo>
                    <a:lnTo>
                      <a:pt x="348" y="766"/>
                    </a:lnTo>
                    <a:lnTo>
                      <a:pt x="314" y="804"/>
                    </a:lnTo>
                    <a:lnTo>
                      <a:pt x="278" y="840"/>
                    </a:lnTo>
                    <a:lnTo>
                      <a:pt x="238" y="874"/>
                    </a:lnTo>
                    <a:lnTo>
                      <a:pt x="196" y="906"/>
                    </a:lnTo>
                    <a:lnTo>
                      <a:pt x="152" y="938"/>
                    </a:lnTo>
                    <a:lnTo>
                      <a:pt x="104" y="968"/>
                    </a:lnTo>
                    <a:lnTo>
                      <a:pt x="52" y="996"/>
                    </a:lnTo>
                    <a:lnTo>
                      <a:pt x="0" y="1022"/>
                    </a:lnTo>
                    <a:lnTo>
                      <a:pt x="656" y="1682"/>
                    </a:lnTo>
                    <a:lnTo>
                      <a:pt x="656" y="1682"/>
                    </a:lnTo>
                    <a:lnTo>
                      <a:pt x="704" y="1656"/>
                    </a:lnTo>
                    <a:lnTo>
                      <a:pt x="752" y="1628"/>
                    </a:lnTo>
                    <a:lnTo>
                      <a:pt x="798" y="1598"/>
                    </a:lnTo>
                    <a:lnTo>
                      <a:pt x="842" y="1568"/>
                    </a:lnTo>
                    <a:lnTo>
                      <a:pt x="886" y="1536"/>
                    </a:lnTo>
                    <a:lnTo>
                      <a:pt x="928" y="1504"/>
                    </a:lnTo>
                    <a:lnTo>
                      <a:pt x="970" y="1472"/>
                    </a:lnTo>
                    <a:lnTo>
                      <a:pt x="1010" y="1438"/>
                    </a:lnTo>
                    <a:lnTo>
                      <a:pt x="1048" y="1404"/>
                    </a:lnTo>
                    <a:lnTo>
                      <a:pt x="1084" y="1368"/>
                    </a:lnTo>
                    <a:lnTo>
                      <a:pt x="1120" y="1332"/>
                    </a:lnTo>
                    <a:lnTo>
                      <a:pt x="1154" y="1296"/>
                    </a:lnTo>
                    <a:lnTo>
                      <a:pt x="1188" y="1258"/>
                    </a:lnTo>
                    <a:lnTo>
                      <a:pt x="1220" y="1220"/>
                    </a:lnTo>
                    <a:lnTo>
                      <a:pt x="1250" y="1182"/>
                    </a:lnTo>
                    <a:lnTo>
                      <a:pt x="1278" y="1142"/>
                    </a:lnTo>
                    <a:lnTo>
                      <a:pt x="1306" y="1102"/>
                    </a:lnTo>
                    <a:lnTo>
                      <a:pt x="1330" y="1060"/>
                    </a:lnTo>
                    <a:lnTo>
                      <a:pt x="1354" y="1020"/>
                    </a:lnTo>
                    <a:lnTo>
                      <a:pt x="1378" y="978"/>
                    </a:lnTo>
                    <a:lnTo>
                      <a:pt x="1398" y="934"/>
                    </a:lnTo>
                    <a:lnTo>
                      <a:pt x="1418" y="892"/>
                    </a:lnTo>
                    <a:lnTo>
                      <a:pt x="1434" y="848"/>
                    </a:lnTo>
                    <a:lnTo>
                      <a:pt x="1450" y="804"/>
                    </a:lnTo>
                    <a:lnTo>
                      <a:pt x="1464" y="758"/>
                    </a:lnTo>
                    <a:lnTo>
                      <a:pt x="1476" y="714"/>
                    </a:lnTo>
                    <a:lnTo>
                      <a:pt x="1486" y="668"/>
                    </a:lnTo>
                    <a:lnTo>
                      <a:pt x="1496" y="622"/>
                    </a:lnTo>
                    <a:lnTo>
                      <a:pt x="1502" y="576"/>
                    </a:lnTo>
                    <a:lnTo>
                      <a:pt x="1506" y="528"/>
                    </a:lnTo>
                    <a:lnTo>
                      <a:pt x="1510" y="482"/>
                    </a:lnTo>
                    <a:lnTo>
                      <a:pt x="1510" y="434"/>
                    </a:lnTo>
                    <a:lnTo>
                      <a:pt x="1510" y="434"/>
                    </a:lnTo>
                    <a:lnTo>
                      <a:pt x="1510" y="378"/>
                    </a:lnTo>
                    <a:lnTo>
                      <a:pt x="1506" y="322"/>
                    </a:lnTo>
                    <a:lnTo>
                      <a:pt x="1498" y="268"/>
                    </a:lnTo>
                    <a:lnTo>
                      <a:pt x="1490" y="212"/>
                    </a:lnTo>
                    <a:lnTo>
                      <a:pt x="1478" y="158"/>
                    </a:lnTo>
                    <a:lnTo>
                      <a:pt x="1464" y="106"/>
                    </a:lnTo>
                    <a:lnTo>
                      <a:pt x="1446" y="52"/>
                    </a:lnTo>
                    <a:lnTo>
                      <a:pt x="1428" y="0"/>
                    </a:lnTo>
                    <a:lnTo>
                      <a:pt x="438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5510160" y="2736360"/>
                <a:ext cx="2192400" cy="2544840"/>
              </a:xfrm>
              <a:custGeom>
                <a:avLst/>
                <a:gdLst/>
                <a:ahLst/>
                <a:rect l="l" t="t" r="r" b="b"/>
                <a:pathLst>
                  <a:path w="1540" h="1788">
                    <a:moveTo>
                      <a:pt x="1434" y="0"/>
                    </a:moveTo>
                    <a:lnTo>
                      <a:pt x="1434" y="0"/>
                    </a:lnTo>
                    <a:lnTo>
                      <a:pt x="1438" y="10"/>
                    </a:lnTo>
                    <a:lnTo>
                      <a:pt x="1450" y="42"/>
                    </a:lnTo>
                    <a:lnTo>
                      <a:pt x="1466" y="90"/>
                    </a:lnTo>
                    <a:lnTo>
                      <a:pt x="1476" y="122"/>
                    </a:lnTo>
                    <a:lnTo>
                      <a:pt x="1484" y="158"/>
                    </a:lnTo>
                    <a:lnTo>
                      <a:pt x="1494" y="196"/>
                    </a:lnTo>
                    <a:lnTo>
                      <a:pt x="1502" y="240"/>
                    </a:lnTo>
                    <a:lnTo>
                      <a:pt x="1508" y="286"/>
                    </a:lnTo>
                    <a:lnTo>
                      <a:pt x="1512" y="334"/>
                    </a:lnTo>
                    <a:lnTo>
                      <a:pt x="1514" y="388"/>
                    </a:lnTo>
                    <a:lnTo>
                      <a:pt x="1516" y="442"/>
                    </a:lnTo>
                    <a:lnTo>
                      <a:pt x="1512" y="500"/>
                    </a:lnTo>
                    <a:lnTo>
                      <a:pt x="1508" y="560"/>
                    </a:lnTo>
                    <a:lnTo>
                      <a:pt x="1498" y="624"/>
                    </a:lnTo>
                    <a:lnTo>
                      <a:pt x="1484" y="688"/>
                    </a:lnTo>
                    <a:lnTo>
                      <a:pt x="1466" y="754"/>
                    </a:lnTo>
                    <a:lnTo>
                      <a:pt x="1444" y="822"/>
                    </a:lnTo>
                    <a:lnTo>
                      <a:pt x="1418" y="890"/>
                    </a:lnTo>
                    <a:lnTo>
                      <a:pt x="1402" y="926"/>
                    </a:lnTo>
                    <a:lnTo>
                      <a:pt x="1384" y="960"/>
                    </a:lnTo>
                    <a:lnTo>
                      <a:pt x="1366" y="996"/>
                    </a:lnTo>
                    <a:lnTo>
                      <a:pt x="1344" y="1032"/>
                    </a:lnTo>
                    <a:lnTo>
                      <a:pt x="1324" y="1068"/>
                    </a:lnTo>
                    <a:lnTo>
                      <a:pt x="1300" y="1104"/>
                    </a:lnTo>
                    <a:lnTo>
                      <a:pt x="1274" y="1140"/>
                    </a:lnTo>
                    <a:lnTo>
                      <a:pt x="1248" y="1176"/>
                    </a:lnTo>
                    <a:lnTo>
                      <a:pt x="1218" y="1212"/>
                    </a:lnTo>
                    <a:lnTo>
                      <a:pt x="1188" y="1250"/>
                    </a:lnTo>
                    <a:lnTo>
                      <a:pt x="1156" y="1286"/>
                    </a:lnTo>
                    <a:lnTo>
                      <a:pt x="1122" y="1322"/>
                    </a:lnTo>
                    <a:lnTo>
                      <a:pt x="1086" y="1358"/>
                    </a:lnTo>
                    <a:lnTo>
                      <a:pt x="1048" y="1396"/>
                    </a:lnTo>
                    <a:lnTo>
                      <a:pt x="1006" y="1432"/>
                    </a:lnTo>
                    <a:lnTo>
                      <a:pt x="964" y="1468"/>
                    </a:lnTo>
                    <a:lnTo>
                      <a:pt x="920" y="1504"/>
                    </a:lnTo>
                    <a:lnTo>
                      <a:pt x="872" y="1540"/>
                    </a:lnTo>
                    <a:lnTo>
                      <a:pt x="824" y="1576"/>
                    </a:lnTo>
                    <a:lnTo>
                      <a:pt x="772" y="1612"/>
                    </a:lnTo>
                    <a:lnTo>
                      <a:pt x="718" y="1646"/>
                    </a:lnTo>
                    <a:lnTo>
                      <a:pt x="662" y="1682"/>
                    </a:lnTo>
                    <a:lnTo>
                      <a:pt x="6" y="1020"/>
                    </a:lnTo>
                    <a:lnTo>
                      <a:pt x="0" y="1136"/>
                    </a:lnTo>
                    <a:lnTo>
                      <a:pt x="660" y="1788"/>
                    </a:lnTo>
                    <a:lnTo>
                      <a:pt x="660" y="1788"/>
                    </a:lnTo>
                    <a:lnTo>
                      <a:pt x="674" y="1782"/>
                    </a:lnTo>
                    <a:lnTo>
                      <a:pt x="714" y="1762"/>
                    </a:lnTo>
                    <a:lnTo>
                      <a:pt x="772" y="1728"/>
                    </a:lnTo>
                    <a:lnTo>
                      <a:pt x="848" y="1680"/>
                    </a:lnTo>
                    <a:lnTo>
                      <a:pt x="890" y="1652"/>
                    </a:lnTo>
                    <a:lnTo>
                      <a:pt x="936" y="1620"/>
                    </a:lnTo>
                    <a:lnTo>
                      <a:pt x="982" y="1584"/>
                    </a:lnTo>
                    <a:lnTo>
                      <a:pt x="1030" y="1544"/>
                    </a:lnTo>
                    <a:lnTo>
                      <a:pt x="1078" y="1502"/>
                    </a:lnTo>
                    <a:lnTo>
                      <a:pt x="1128" y="1456"/>
                    </a:lnTo>
                    <a:lnTo>
                      <a:pt x="1176" y="1406"/>
                    </a:lnTo>
                    <a:lnTo>
                      <a:pt x="1224" y="1352"/>
                    </a:lnTo>
                    <a:lnTo>
                      <a:pt x="1270" y="1294"/>
                    </a:lnTo>
                    <a:lnTo>
                      <a:pt x="1316" y="1234"/>
                    </a:lnTo>
                    <a:lnTo>
                      <a:pt x="1358" y="1170"/>
                    </a:lnTo>
                    <a:lnTo>
                      <a:pt x="1396" y="1102"/>
                    </a:lnTo>
                    <a:lnTo>
                      <a:pt x="1414" y="1066"/>
                    </a:lnTo>
                    <a:lnTo>
                      <a:pt x="1432" y="1030"/>
                    </a:lnTo>
                    <a:lnTo>
                      <a:pt x="1448" y="994"/>
                    </a:lnTo>
                    <a:lnTo>
                      <a:pt x="1464" y="956"/>
                    </a:lnTo>
                    <a:lnTo>
                      <a:pt x="1478" y="916"/>
                    </a:lnTo>
                    <a:lnTo>
                      <a:pt x="1490" y="876"/>
                    </a:lnTo>
                    <a:lnTo>
                      <a:pt x="1502" y="836"/>
                    </a:lnTo>
                    <a:lnTo>
                      <a:pt x="1512" y="794"/>
                    </a:lnTo>
                    <a:lnTo>
                      <a:pt x="1520" y="752"/>
                    </a:lnTo>
                    <a:lnTo>
                      <a:pt x="1528" y="708"/>
                    </a:lnTo>
                    <a:lnTo>
                      <a:pt x="1534" y="664"/>
                    </a:lnTo>
                    <a:lnTo>
                      <a:pt x="1538" y="618"/>
                    </a:lnTo>
                    <a:lnTo>
                      <a:pt x="1540" y="572"/>
                    </a:lnTo>
                    <a:lnTo>
                      <a:pt x="1540" y="524"/>
                    </a:lnTo>
                    <a:lnTo>
                      <a:pt x="1538" y="476"/>
                    </a:lnTo>
                    <a:lnTo>
                      <a:pt x="1536" y="428"/>
                    </a:lnTo>
                    <a:lnTo>
                      <a:pt x="1530" y="376"/>
                    </a:lnTo>
                    <a:lnTo>
                      <a:pt x="1524" y="326"/>
                    </a:lnTo>
                    <a:lnTo>
                      <a:pt x="1514" y="274"/>
                    </a:lnTo>
                    <a:lnTo>
                      <a:pt x="1502" y="220"/>
                    </a:lnTo>
                    <a:lnTo>
                      <a:pt x="1488" y="166"/>
                    </a:lnTo>
                    <a:lnTo>
                      <a:pt x="1472" y="112"/>
                    </a:lnTo>
                    <a:lnTo>
                      <a:pt x="1454" y="56"/>
                    </a:lnTo>
                    <a:lnTo>
                      <a:pt x="143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18452"/>
            <p:cNvGrpSpPr/>
            <p:nvPr/>
          </p:nvGrpSpPr>
          <p:grpSpPr>
            <a:xfrm>
              <a:off x="2799360" y="4239360"/>
              <a:ext cx="3521880" cy="1511280"/>
              <a:chOff x="2799360" y="4239360"/>
              <a:chExt cx="3521880" cy="1511280"/>
            </a:xfrm>
          </p:grpSpPr>
          <p:sp>
            <p:nvSpPr>
              <p:cNvPr id="312" name="未知"/>
              <p:cNvSpPr/>
              <p:nvPr/>
            </p:nvSpPr>
            <p:spPr>
              <a:xfrm>
                <a:off x="2805120" y="4239360"/>
                <a:ext cx="3515760" cy="1346400"/>
              </a:xfrm>
              <a:custGeom>
                <a:avLst/>
                <a:gdLst/>
                <a:ahLst/>
                <a:rect l="l" t="t" r="r" b="b"/>
                <a:pathLst>
                  <a:path w="2470" h="946">
                    <a:moveTo>
                      <a:pt x="1814" y="0"/>
                    </a:moveTo>
                    <a:lnTo>
                      <a:pt x="1814" y="0"/>
                    </a:lnTo>
                    <a:lnTo>
                      <a:pt x="1748" y="22"/>
                    </a:lnTo>
                    <a:lnTo>
                      <a:pt x="1682" y="42"/>
                    </a:lnTo>
                    <a:lnTo>
                      <a:pt x="1612" y="58"/>
                    </a:lnTo>
                    <a:lnTo>
                      <a:pt x="1540" y="72"/>
                    </a:lnTo>
                    <a:lnTo>
                      <a:pt x="1468" y="84"/>
                    </a:lnTo>
                    <a:lnTo>
                      <a:pt x="1392" y="92"/>
                    </a:lnTo>
                    <a:lnTo>
                      <a:pt x="1316" y="96"/>
                    </a:lnTo>
                    <a:lnTo>
                      <a:pt x="1238" y="98"/>
                    </a:lnTo>
                    <a:lnTo>
                      <a:pt x="1238" y="98"/>
                    </a:lnTo>
                    <a:lnTo>
                      <a:pt x="1160" y="96"/>
                    </a:lnTo>
                    <a:lnTo>
                      <a:pt x="1082" y="92"/>
                    </a:lnTo>
                    <a:lnTo>
                      <a:pt x="1008" y="84"/>
                    </a:lnTo>
                    <a:lnTo>
                      <a:pt x="934" y="72"/>
                    </a:lnTo>
                    <a:lnTo>
                      <a:pt x="862" y="58"/>
                    </a:lnTo>
                    <a:lnTo>
                      <a:pt x="792" y="42"/>
                    </a:lnTo>
                    <a:lnTo>
                      <a:pt x="726" y="22"/>
                    </a:lnTo>
                    <a:lnTo>
                      <a:pt x="660" y="0"/>
                    </a:lnTo>
                    <a:lnTo>
                      <a:pt x="0" y="672"/>
                    </a:lnTo>
                    <a:lnTo>
                      <a:pt x="0" y="672"/>
                    </a:lnTo>
                    <a:lnTo>
                      <a:pt x="66" y="702"/>
                    </a:lnTo>
                    <a:lnTo>
                      <a:pt x="134" y="732"/>
                    </a:lnTo>
                    <a:lnTo>
                      <a:pt x="204" y="760"/>
                    </a:lnTo>
                    <a:lnTo>
                      <a:pt x="276" y="788"/>
                    </a:lnTo>
                    <a:lnTo>
                      <a:pt x="348" y="812"/>
                    </a:lnTo>
                    <a:lnTo>
                      <a:pt x="422" y="834"/>
                    </a:lnTo>
                    <a:lnTo>
                      <a:pt x="498" y="854"/>
                    </a:lnTo>
                    <a:lnTo>
                      <a:pt x="576" y="874"/>
                    </a:lnTo>
                    <a:lnTo>
                      <a:pt x="654" y="890"/>
                    </a:lnTo>
                    <a:lnTo>
                      <a:pt x="732" y="904"/>
                    </a:lnTo>
                    <a:lnTo>
                      <a:pt x="812" y="918"/>
                    </a:lnTo>
                    <a:lnTo>
                      <a:pt x="894" y="928"/>
                    </a:lnTo>
                    <a:lnTo>
                      <a:pt x="978" y="936"/>
                    </a:lnTo>
                    <a:lnTo>
                      <a:pt x="1060" y="942"/>
                    </a:lnTo>
                    <a:lnTo>
                      <a:pt x="1144" y="944"/>
                    </a:lnTo>
                    <a:lnTo>
                      <a:pt x="1230" y="946"/>
                    </a:lnTo>
                    <a:lnTo>
                      <a:pt x="1230" y="946"/>
                    </a:lnTo>
                    <a:lnTo>
                      <a:pt x="1316" y="944"/>
                    </a:lnTo>
                    <a:lnTo>
                      <a:pt x="1402" y="942"/>
                    </a:lnTo>
                    <a:lnTo>
                      <a:pt x="1486" y="936"/>
                    </a:lnTo>
                    <a:lnTo>
                      <a:pt x="1568" y="928"/>
                    </a:lnTo>
                    <a:lnTo>
                      <a:pt x="1650" y="916"/>
                    </a:lnTo>
                    <a:lnTo>
                      <a:pt x="1732" y="904"/>
                    </a:lnTo>
                    <a:lnTo>
                      <a:pt x="1812" y="890"/>
                    </a:lnTo>
                    <a:lnTo>
                      <a:pt x="1890" y="872"/>
                    </a:lnTo>
                    <a:lnTo>
                      <a:pt x="1968" y="854"/>
                    </a:lnTo>
                    <a:lnTo>
                      <a:pt x="2044" y="832"/>
                    </a:lnTo>
                    <a:lnTo>
                      <a:pt x="2118" y="810"/>
                    </a:lnTo>
                    <a:lnTo>
                      <a:pt x="2192" y="784"/>
                    </a:lnTo>
                    <a:lnTo>
                      <a:pt x="2264" y="758"/>
                    </a:lnTo>
                    <a:lnTo>
                      <a:pt x="2334" y="728"/>
                    </a:lnTo>
                    <a:lnTo>
                      <a:pt x="2402" y="698"/>
                    </a:lnTo>
                    <a:lnTo>
                      <a:pt x="2470" y="666"/>
                    </a:lnTo>
                    <a:lnTo>
                      <a:pt x="18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2799360" y="5187240"/>
                <a:ext cx="3521880" cy="563400"/>
              </a:xfrm>
              <a:custGeom>
                <a:avLst/>
                <a:gdLst/>
                <a:ahLst/>
                <a:rect l="l" t="t" r="r" b="b"/>
                <a:pathLst>
                  <a:path w="2474" h="396">
                    <a:moveTo>
                      <a:pt x="2474" y="0"/>
                    </a:moveTo>
                    <a:lnTo>
                      <a:pt x="2472" y="100"/>
                    </a:lnTo>
                    <a:lnTo>
                      <a:pt x="2472" y="100"/>
                    </a:lnTo>
                    <a:lnTo>
                      <a:pt x="2412" y="130"/>
                    </a:lnTo>
                    <a:lnTo>
                      <a:pt x="2350" y="158"/>
                    </a:lnTo>
                    <a:lnTo>
                      <a:pt x="2290" y="184"/>
                    </a:lnTo>
                    <a:lnTo>
                      <a:pt x="2230" y="210"/>
                    </a:lnTo>
                    <a:lnTo>
                      <a:pt x="2170" y="232"/>
                    </a:lnTo>
                    <a:lnTo>
                      <a:pt x="2110" y="252"/>
                    </a:lnTo>
                    <a:lnTo>
                      <a:pt x="2050" y="272"/>
                    </a:lnTo>
                    <a:lnTo>
                      <a:pt x="1992" y="290"/>
                    </a:lnTo>
                    <a:lnTo>
                      <a:pt x="1934" y="306"/>
                    </a:lnTo>
                    <a:lnTo>
                      <a:pt x="1874" y="320"/>
                    </a:lnTo>
                    <a:lnTo>
                      <a:pt x="1818" y="334"/>
                    </a:lnTo>
                    <a:lnTo>
                      <a:pt x="1760" y="346"/>
                    </a:lnTo>
                    <a:lnTo>
                      <a:pt x="1704" y="356"/>
                    </a:lnTo>
                    <a:lnTo>
                      <a:pt x="1646" y="366"/>
                    </a:lnTo>
                    <a:lnTo>
                      <a:pt x="1536" y="380"/>
                    </a:lnTo>
                    <a:lnTo>
                      <a:pt x="1428" y="390"/>
                    </a:lnTo>
                    <a:lnTo>
                      <a:pt x="1322" y="394"/>
                    </a:lnTo>
                    <a:lnTo>
                      <a:pt x="1218" y="396"/>
                    </a:lnTo>
                    <a:lnTo>
                      <a:pt x="1118" y="394"/>
                    </a:lnTo>
                    <a:lnTo>
                      <a:pt x="1020" y="388"/>
                    </a:lnTo>
                    <a:lnTo>
                      <a:pt x="926" y="378"/>
                    </a:lnTo>
                    <a:lnTo>
                      <a:pt x="834" y="368"/>
                    </a:lnTo>
                    <a:lnTo>
                      <a:pt x="748" y="354"/>
                    </a:lnTo>
                    <a:lnTo>
                      <a:pt x="664" y="338"/>
                    </a:lnTo>
                    <a:lnTo>
                      <a:pt x="584" y="320"/>
                    </a:lnTo>
                    <a:lnTo>
                      <a:pt x="510" y="302"/>
                    </a:lnTo>
                    <a:lnTo>
                      <a:pt x="438" y="282"/>
                    </a:lnTo>
                    <a:lnTo>
                      <a:pt x="372" y="262"/>
                    </a:lnTo>
                    <a:lnTo>
                      <a:pt x="310" y="244"/>
                    </a:lnTo>
                    <a:lnTo>
                      <a:pt x="254" y="224"/>
                    </a:lnTo>
                    <a:lnTo>
                      <a:pt x="202" y="204"/>
                    </a:lnTo>
                    <a:lnTo>
                      <a:pt x="116" y="168"/>
                    </a:lnTo>
                    <a:lnTo>
                      <a:pt x="52" y="140"/>
                    </a:lnTo>
                    <a:lnTo>
                      <a:pt x="14" y="122"/>
                    </a:lnTo>
                    <a:lnTo>
                      <a:pt x="0" y="11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8" y="12"/>
                    </a:lnTo>
                    <a:lnTo>
                      <a:pt x="56" y="30"/>
                    </a:lnTo>
                    <a:lnTo>
                      <a:pt x="118" y="58"/>
                    </a:lnTo>
                    <a:lnTo>
                      <a:pt x="204" y="94"/>
                    </a:lnTo>
                    <a:lnTo>
                      <a:pt x="256" y="112"/>
                    </a:lnTo>
                    <a:lnTo>
                      <a:pt x="310" y="132"/>
                    </a:lnTo>
                    <a:lnTo>
                      <a:pt x="372" y="150"/>
                    </a:lnTo>
                    <a:lnTo>
                      <a:pt x="438" y="170"/>
                    </a:lnTo>
                    <a:lnTo>
                      <a:pt x="508" y="190"/>
                    </a:lnTo>
                    <a:lnTo>
                      <a:pt x="582" y="208"/>
                    </a:lnTo>
                    <a:lnTo>
                      <a:pt x="660" y="224"/>
                    </a:lnTo>
                    <a:lnTo>
                      <a:pt x="744" y="240"/>
                    </a:lnTo>
                    <a:lnTo>
                      <a:pt x="830" y="254"/>
                    </a:lnTo>
                    <a:lnTo>
                      <a:pt x="920" y="264"/>
                    </a:lnTo>
                    <a:lnTo>
                      <a:pt x="1014" y="274"/>
                    </a:lnTo>
                    <a:lnTo>
                      <a:pt x="1112" y="280"/>
                    </a:lnTo>
                    <a:lnTo>
                      <a:pt x="1212" y="282"/>
                    </a:lnTo>
                    <a:lnTo>
                      <a:pt x="1316" y="282"/>
                    </a:lnTo>
                    <a:lnTo>
                      <a:pt x="1422" y="276"/>
                    </a:lnTo>
                    <a:lnTo>
                      <a:pt x="1530" y="268"/>
                    </a:lnTo>
                    <a:lnTo>
                      <a:pt x="1642" y="254"/>
                    </a:lnTo>
                    <a:lnTo>
                      <a:pt x="1756" y="236"/>
                    </a:lnTo>
                    <a:lnTo>
                      <a:pt x="1812" y="224"/>
                    </a:lnTo>
                    <a:lnTo>
                      <a:pt x="1870" y="212"/>
                    </a:lnTo>
                    <a:lnTo>
                      <a:pt x="1930" y="198"/>
                    </a:lnTo>
                    <a:lnTo>
                      <a:pt x="1988" y="182"/>
                    </a:lnTo>
                    <a:lnTo>
                      <a:pt x="2048" y="164"/>
                    </a:lnTo>
                    <a:lnTo>
                      <a:pt x="2108" y="146"/>
                    </a:lnTo>
                    <a:lnTo>
                      <a:pt x="2168" y="126"/>
                    </a:lnTo>
                    <a:lnTo>
                      <a:pt x="2228" y="104"/>
                    </a:lnTo>
                    <a:lnTo>
                      <a:pt x="2290" y="82"/>
                    </a:lnTo>
                    <a:lnTo>
                      <a:pt x="2350" y="56"/>
                    </a:lnTo>
                    <a:lnTo>
                      <a:pt x="2412" y="28"/>
                    </a:lnTo>
                    <a:lnTo>
                      <a:pt x="2474" y="0"/>
                    </a:lnTo>
                    <a:lnTo>
                      <a:pt x="24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文本框 18455"/>
          <p:cNvSpPr/>
          <p:nvPr/>
        </p:nvSpPr>
        <p:spPr>
          <a:xfrm>
            <a:off x="5110200" y="17438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文本框 18456"/>
          <p:cNvSpPr/>
          <p:nvPr/>
        </p:nvSpPr>
        <p:spPr>
          <a:xfrm>
            <a:off x="6068880" y="358236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文本框 18457"/>
          <p:cNvSpPr/>
          <p:nvPr/>
        </p:nvSpPr>
        <p:spPr>
          <a:xfrm>
            <a:off x="3772080" y="459180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文本框 18458"/>
          <p:cNvSpPr/>
          <p:nvPr/>
        </p:nvSpPr>
        <p:spPr>
          <a:xfrm>
            <a:off x="1479600" y="357120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文本框 18459"/>
          <p:cNvSpPr/>
          <p:nvPr/>
        </p:nvSpPr>
        <p:spPr>
          <a:xfrm>
            <a:off x="2449440" y="174240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文本框 18460"/>
          <p:cNvSpPr/>
          <p:nvPr/>
        </p:nvSpPr>
        <p:spPr>
          <a:xfrm>
            <a:off x="3789360" y="300420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1692360" y="2789280"/>
            <a:ext cx="240984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 flipH="1">
            <a:off x="5508720" y="2789280"/>
            <a:ext cx="240984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未知"/>
          <p:cNvSpPr/>
          <p:nvPr/>
        </p:nvSpPr>
        <p:spPr>
          <a:xfrm flipH="1" rot="16200000">
            <a:off x="3646440" y="1338120"/>
            <a:ext cx="240948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 flipH="1" flipV="1" rot="5400000">
            <a:off x="3646440" y="3992760"/>
            <a:ext cx="240984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圆角矩形 8193"/>
          <p:cNvSpPr/>
          <p:nvPr/>
        </p:nvSpPr>
        <p:spPr>
          <a:xfrm>
            <a:off x="338040" y="1093680"/>
            <a:ext cx="8555040" cy="4824360"/>
          </a:xfrm>
          <a:prstGeom prst="roundRect">
            <a:avLst>
              <a:gd name="adj" fmla="val 3486"/>
            </a:avLst>
          </a:prstGeom>
          <a:solidFill>
            <a:srgbClr val="ffffff">
              <a:alpha val="65000"/>
            </a:srgbClr>
          </a:solidFill>
          <a:ln w="9360">
            <a:solidFill>
              <a:srgbClr val="f074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对象 8194" descr=""/>
          <p:cNvPicPr/>
          <p:nvPr/>
        </p:nvPicPr>
        <p:blipFill>
          <a:blip r:embed="rId1"/>
          <a:stretch/>
        </p:blipFill>
        <p:spPr>
          <a:xfrm>
            <a:off x="1143000" y="1406520"/>
            <a:ext cx="6943680" cy="42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对象 9218" descr=""/>
          <p:cNvPicPr/>
          <p:nvPr/>
        </p:nvPicPr>
        <p:blipFill>
          <a:blip r:embed="rId1"/>
          <a:stretch/>
        </p:blipFill>
        <p:spPr>
          <a:xfrm>
            <a:off x="1503360" y="168444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2b2b2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组合 10242"/>
          <p:cNvGrpSpPr/>
          <p:nvPr/>
        </p:nvGrpSpPr>
        <p:grpSpPr>
          <a:xfrm>
            <a:off x="2032920" y="808560"/>
            <a:ext cx="5022720" cy="5023080"/>
            <a:chOff x="2032920" y="808560"/>
            <a:chExt cx="5022720" cy="5023080"/>
          </a:xfrm>
        </p:grpSpPr>
        <p:sp>
          <p:nvSpPr>
            <p:cNvPr id="230" name="椭圆 10243"/>
            <p:cNvSpPr/>
            <p:nvPr/>
          </p:nvSpPr>
          <p:spPr>
            <a:xfrm flipV="1">
              <a:off x="2762280" y="4181400"/>
              <a:ext cx="3672000" cy="1571760"/>
            </a:xfrm>
            <a:prstGeom prst="ellipse">
              <a:avLst/>
            </a:prstGeom>
            <a:gradFill rotWithShape="0">
              <a:gsLst>
                <a:gs pos="0">
                  <a:srgbClr val="a65b1b">
                    <a:alpha val="85098"/>
                  </a:srgbClr>
                </a:gs>
                <a:gs pos="100000">
                  <a:srgbClr val="693a1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椭圆 10244"/>
            <p:cNvSpPr/>
            <p:nvPr/>
          </p:nvSpPr>
          <p:spPr>
            <a:xfrm>
              <a:off x="2708280" y="1484280"/>
              <a:ext cx="3672000" cy="3672000"/>
            </a:xfrm>
            <a:prstGeom prst="ellipse">
              <a:avLst/>
            </a:prstGeom>
            <a:gradFill rotWithShape="0">
              <a:gsLst>
                <a:gs pos="0">
                  <a:srgbClr val="f39e69"/>
                </a:gs>
                <a:gs pos="50000">
                  <a:srgbClr val="f0741e"/>
                </a:gs>
                <a:gs pos="100000">
                  <a:srgbClr val="f39e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椭圆 10245"/>
            <p:cNvSpPr/>
            <p:nvPr/>
          </p:nvSpPr>
          <p:spPr>
            <a:xfrm rot="8982600">
              <a:off x="2707920" y="1483920"/>
              <a:ext cx="3672000" cy="3672000"/>
            </a:xfrm>
            <a:prstGeom prst="ellipse">
              <a:avLst/>
            </a:prstGeom>
            <a:gradFill rotWithShape="0">
              <a:gsLst>
                <a:gs pos="0">
                  <a:srgbClr val="fadac6"/>
                </a:gs>
                <a:gs pos="100000">
                  <a:srgbClr val="74655c">
                    <a:alpha val="0"/>
                  </a:srgbClr>
                </a:gs>
              </a:gsLst>
              <a:lin ang="180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椭圆 10246"/>
            <p:cNvSpPr/>
            <p:nvPr/>
          </p:nvSpPr>
          <p:spPr>
            <a:xfrm>
              <a:off x="3025800" y="1784160"/>
              <a:ext cx="3097080" cy="2506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椭圆 10247"/>
            <p:cNvSpPr/>
            <p:nvPr/>
          </p:nvSpPr>
          <p:spPr>
            <a:xfrm>
              <a:off x="3500280" y="3355920"/>
              <a:ext cx="2233800" cy="1808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311800" y="2830320"/>
              <a:ext cx="1440" cy="1800"/>
              <a:chOff x="5311800" y="2830320"/>
              <a:chExt cx="1440" cy="1800"/>
            </a:xfrm>
          </p:grpSpPr>
          <p:sp>
            <p:nvSpPr>
              <p:cNvPr id="236" name="直接连接符 10248"/>
              <p:cNvSpPr/>
              <p:nvPr/>
            </p:nvSpPr>
            <p:spPr>
              <a:xfrm>
                <a:off x="5311800" y="2830320"/>
                <a:ext cx="144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5311800" y="28303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324400" y="2852640"/>
              <a:ext cx="1800" cy="1800"/>
              <a:chOff x="5324400" y="2852640"/>
              <a:chExt cx="1800" cy="1800"/>
            </a:xfrm>
          </p:grpSpPr>
          <p:sp>
            <p:nvSpPr>
              <p:cNvPr id="239" name="直接连接符 10249"/>
              <p:cNvSpPr/>
              <p:nvPr/>
            </p:nvSpPr>
            <p:spPr>
              <a:xfrm>
                <a:off x="5324400" y="2852640"/>
                <a:ext cx="180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324400" y="285264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207040" y="2157480"/>
              <a:ext cx="1440" cy="1440"/>
              <a:chOff x="5207040" y="2157480"/>
              <a:chExt cx="1440" cy="1440"/>
            </a:xfrm>
          </p:grpSpPr>
          <p:sp>
            <p:nvSpPr>
              <p:cNvPr id="242" name="直接连接符 10250"/>
              <p:cNvSpPr/>
              <p:nvPr/>
            </p:nvSpPr>
            <p:spPr>
              <a:xfrm>
                <a:off x="5207040" y="2157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5207040" y="21574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文本框 10251"/>
          <p:cNvSpPr/>
          <p:nvPr/>
        </p:nvSpPr>
        <p:spPr>
          <a:xfrm>
            <a:off x="3728880" y="300924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248" name="直接连接符 11267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0560" y="274680"/>
            <a:ext cx="869148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0:1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