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B46-1D5D-4C81-9937-064DEE16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388-C7BA-4319-93C7-AD8C73C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EBA-040B-4740-825A-3D7886B5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BCF-8594-4695-AF74-C00A5B5B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DD6-107F-4BA9-AA57-6AC88548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3D9-8E04-43DD-A28C-7ABA2C63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41F-EBBE-4AB4-827E-09D7157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4968-AC89-4129-9ED6-DFD91044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F342-F975-41E4-B45D-0D4847F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ECB9-B03A-4DC8-A354-72778AEE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4F9-C668-438F-8DC0-AAA8DB0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51D-E05F-41C3-B628-71B34C01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9D42-400D-4C82-80E9-F71BD56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D45F-9DE8-438B-8B10-511B8F5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C1CC-3CCC-4289-948F-F00ABF39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7BA-8885-45EC-8FCD-4556F7ED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7314-5950-4B19-BF04-745FD869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316-F54D-40A4-A71C-D2C47BE3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5D2-7B75-4677-8FB7-1703A64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244-4164-47CC-8057-DD15C79C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2E8-B096-44CB-9B11-18F49651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F83-0AEB-4016-9E6C-A075ED7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FAD-4285-4807-ADF3-748A2E8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8B9-BA3C-4360-87D0-0DAD608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604-14C6-447E-BB62-14DB7D6CA6C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F16-4632-4E08-A965-3AB567B8F8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5580-FA7F-4B79-9C60-0FC48B3BAC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5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SENTATION 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4720" y="2349000"/>
            <a:ext cx="496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881360" y="105264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橙色简洁工作</a:t>
            </a:r>
            <a:r>
              <a:rPr b="1" lang="en-US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990033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5120" y="615600"/>
            <a:ext cx="7005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707920"/>
            <a:ext cx="7139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430"/>
                </a:solidFill>
                <a:latin typeface="Arial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198"/>
          <p:cNvSpPr/>
          <p:nvPr/>
        </p:nvSpPr>
        <p:spPr>
          <a:xfrm>
            <a:off x="684360" y="112536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1D7-248C-4EAA-BAAB-914118DD56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" y="5876640"/>
            <a:ext cx="91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2007 Your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3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7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