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6A0-5693-4066-A12F-52DC33A1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561-FBC7-46DD-854A-17B83135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12AF2-94EC-405B-9659-D0E1B3D9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98857-6070-4605-8760-E0C1803B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B993-C28B-49F2-AC47-81BFC036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99AB0-4183-4AE4-8F6D-D774C31F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B6FB3-D5DB-4729-8665-7EAE0EE4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A53DC-6130-461F-BE10-D96CBCEF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938AE-F240-4915-A056-70BB9D78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57059-252E-4CD8-BC9C-862B8AFB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4A31A-E9E2-4E6B-BC0C-17337225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8C6A6-7070-4668-BCC7-E613F9F1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A5E-5DCD-41C8-8512-467A4335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56C20-EF52-4385-94E2-8E3E7728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84243-7D36-41CD-8683-FC175B6B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D0F83-DCDB-43AF-AF45-C2582898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F305E-58B6-45C0-B139-512A912A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7C662-9352-4E41-B3DA-A93C2558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AE428-A011-4823-A5DC-1909DC0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9B671-5734-4060-A998-8AEE5039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09A82-55B9-4B7A-A876-8C51057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3A9A8-B8C3-477B-A628-24BB804D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B9D85-15BA-4A50-B8AB-079C452C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146-6D37-4DCA-AED4-CD83CBB8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59A78-7A5F-4EBE-9AF5-36E40214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D4DD2-7394-49DE-8402-40BE2371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6EFA8-681C-4AAB-AC92-C3CDF9A1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8C5CC-8408-4E03-A0AA-8F6FBF0F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EE46E-F541-46F5-8C2F-9685ECC2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A3E58-7FD0-48F3-898D-89AB27C2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0D374-96E9-40AA-A2E2-7AA59E96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88F7D-5102-4BE4-B2A4-9D4BD71A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C150A-2C46-4F04-9D65-77BE01D5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B7BAC-3ADC-424E-8E01-3DD97B7C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5B63-939B-4723-B016-70021537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F9FEC-CFC8-4540-AB30-84917940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F7756-4740-4A52-8695-59697763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C0520-C007-45FB-892B-FDCD5941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DED34-4874-4162-AF8E-140E2A9E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5A3E3-47E2-434D-BE56-0F8E62E0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F14AD-24F1-437C-A900-A09B3723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D6AAC-0289-4B31-BBA6-9F334730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41669-8DA8-4E2C-B54F-B7C48007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B7B58-B10B-4ABE-8547-18DEE23C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60E2B-6C94-4216-8063-F4E12924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44CB-7F41-4841-8252-2AC5A080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783AB-3CA1-4B84-B757-28A69D25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CE426-E06A-4692-B3AE-48D30026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3CEFA-A37D-4B1D-B539-44F39C2A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B1EFA-CF33-4547-9946-D42F8A7C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8B159-C75D-444D-B4A6-70B61111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C5BA5-D0B0-497A-990C-F8E37646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10A3C-F32E-4433-AAE5-9ADFCED5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9CB5C-A967-452A-8ECD-F21E4939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1AE0E-14E9-4C02-9A4F-7E12F906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072BB-6949-4E2C-9FD2-6CADAF99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6ECF-0873-445C-BE63-F65F7341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FB076-4F8A-4AA0-9B51-559C9B0A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9ECC6-16C1-451B-BCC3-87F5A474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6A6F9-ACCA-4AC7-A9BD-05F1C64F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D389A-BF18-4E08-B7B4-19775C96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BDD24-F93D-4A4D-98AF-97F47B2F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2999F-2211-4545-BAD7-3EBAD6FA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533C8-9327-4465-BA80-ABDF49D5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747C-A032-4C55-99F8-2445F0EC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F8D-F737-4294-8ABA-2556F9CD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9BA6-B2E3-45E2-AAC6-DD6E2E1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AB94-68D6-44F0-A53F-98E65A3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314-4D32-4BF0-B3F3-EE2BEC9C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2AD3-3632-455B-AE5F-13AF344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35B9-7211-4488-8F4E-5BF1F31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4164-38A5-45EE-B83A-71F09C3B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B339-7918-4349-8A6B-3E50D649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625C-E70B-4B2A-9C47-96E3024F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5B4C-A747-4BB4-ACB3-816FD967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DB26-E3C2-4CFE-9658-04113519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22D46-9FBA-443C-912C-0C8314BA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05522-4EFF-4660-BF37-AC3C9570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9089-870B-4A1D-8114-ED7960B6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333-5953-4DD7-AF3C-44A4D8BF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A980-A0DE-4825-9C01-570D69BD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BB7F-CC94-4F11-A5F1-D2D208CB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E0CC-D205-4DCF-AE9A-E550C409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35D24-F912-4071-A7F2-FFAE505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FACB-92BC-4E97-9514-F22BC477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96D0-26D4-4E75-90B7-A659DBF4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3D473-5AB5-45CB-8423-6017462D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51D5-B6CE-4C80-9BA7-1F979882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FB70F-5154-4618-8365-552B998F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3FDAB-0C6A-4CCB-85A5-8B79FAAB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A01-B200-4FC4-B003-57F4D316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3433-B2F3-4E0A-818E-934BE26D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E300-1FBA-44C9-BFE3-CF703E1C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9EC6-41F7-41CF-A4AD-B4F8FCCB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6F00E-270A-45DC-BD5E-44CECDA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91AB1-7A7C-4476-9E12-C8CE6B62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B9CE-C52D-4D54-9480-093968F5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C158F-E979-4584-B697-83E34437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B2FF5-6FB9-4144-85C6-2DB01571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1BD2-2819-4D66-AF63-A8C8DD72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EC09C-6C64-498E-9C91-628813C1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CB7-2CA0-4E15-A007-D3AE6A04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B12DF-7374-4186-8F5D-0B8388FB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C238F-35BA-4B61-9808-C0F67458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A26D9-FD2F-4A1A-BE33-A5B28887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100BD-3988-4087-9E0E-391F55C8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6D658-49EF-4536-BF51-CA9F2883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D7C9A-E6E0-4281-81C8-CAB268BA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3D23-7D82-4FC8-9269-6523D4F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7783C-F65D-4877-AC02-C890F0D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E68E6-26CC-478A-8742-C8BEAE53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16B3B-FA70-4749-BF15-92BEB548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E3A-265F-4489-867C-A87C0BB2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CFB3A-2C14-470E-94CA-1A6975B9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4F777-53F5-4AFE-900A-8E362C13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D118-3698-4102-96A2-4558369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CD2A8-AB1D-4AAA-A849-CD0F67C2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81878-5B9D-4B42-A219-D0486391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1821-755F-4051-9A66-72953064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81836-3099-4374-B69A-7E12C3D4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AC228-1868-437B-B923-F8E96DA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6A7E-086A-4DBE-8888-E5EDF63E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7DAE9-9D74-47C6-8C36-EC7CF6F3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878-1C16-4C0F-B708-74105EB0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52FD1-C54D-47F3-9D6D-8980F26E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7D081-E243-4648-BCC9-9A648F20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812FC-A326-4CB0-B8EC-35B0EE07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F137A-808D-4730-8146-32A9F04E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05C4D-4816-4222-B21F-55FCBF33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CC95E-A673-4A27-A027-C2F15BBF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C6A28-C3CC-4526-AC36-89DB6510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FCB0-98F0-4D55-818E-0768E5B0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49407-1D53-4A90-98A7-C90423D5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5AEE3-44FE-42F9-8A47-FE4F10A7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794-B869-4973-96F8-38B48EAC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61BC8-274E-43A1-914C-597126F7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F42E7-D43A-4BDE-A150-C6F053DF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E5287-B741-434F-B638-F82DFD20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A8C92-0265-46B6-B48B-47830F15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6C275-1A81-4CEF-A7C9-83B52BCD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DE3CC-2B86-4A35-8D95-D239C5C8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B6EC3-64AB-49B9-926B-3A1A991B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9547C-131C-42AC-971D-C3105A00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25B3A-9FEC-45AA-890A-E3EC0803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B2955-37EF-461F-B9ED-E4199D09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EB1-FA38-496B-8252-438A4DF4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1B028-EE88-4D00-A0F9-D73C255F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F8F0-818E-4F67-A92B-28AAA2BC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B3EDA-23C0-423E-8D90-B189650A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32DC7-1D9F-43C3-BB00-63B7D3F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197AF-EB37-4D73-8BEE-CC37EA9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46CB6-AA52-4FEE-A1BA-770C796E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8249D-EFFB-42C7-8235-646667AD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539E4-9202-4ADC-B648-D3D366FC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CAA96-A941-44D2-91E3-4DC6CDBF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66A91-B2BA-43E8-9F29-18D5E55A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4710-2A8F-4980-BFC6-6F779F17B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2091-E43E-4914-BA0C-3D4057CBD6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B4E7-4E2D-4E2D-AAFE-73636190F3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DC5D-D3F8-4C68-BEDC-73D9B514B8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83AF-B25E-4207-8D7D-4465EFB0FB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678E-909D-4E3C-BC84-DDED26A51B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25BA-6438-41F6-89AE-2153E8633D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23A6-041D-4221-ABA6-EDE9AD131C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1FD4-CED1-41C7-8AEC-2BE0F48E3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9EA-FE27-4587-B5D6-09C74CE8B6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EE5B-EFBF-4121-BA94-4A8B2E563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5A29-FA9E-4D2C-9345-3ADA217948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A054-CF0E-47B0-BA15-9249705BA8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C7FA-B95D-4597-A6E0-CE0CB9B767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A014-390C-42BD-A7EC-42792453B4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C774-986B-41A9-B654-E61E582A79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7E6F-F86A-410A-8F33-3C5D8B40BC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C454-7FB6-4611-A0E7-F2298F6F7CB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8D6E-0531-4390-8B31-3D77DF5AA5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A41F-C02C-4BD8-A160-79F36DCC03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F1B4-3796-4957-AFD5-6AE67096E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DBE3-A9AB-4538-BB82-B263D899E3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0FBD-9B9F-4F9D-ADD7-A045514E4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F34E-E106-47EE-A456-0359DE7766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FBC0-DB3C-4A61-ABB6-88A095491C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1403280" y="836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节   从生物圈到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181080" y="1484640"/>
            <a:ext cx="878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举例说出生命活动建立在细胞的基础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举例说明生命系统的结构层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细胞→组织→器官→系统→个体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种群→群落→生态系统→生物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认同细胞是基本的生命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是构成生物体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功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95280" y="4724280"/>
            <a:ext cx="61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重点和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理解生命系统的结构层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同细胞是基本的生命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005"/>
          <p:cNvPicPr/>
          <p:nvPr/>
        </p:nvPicPr>
        <p:blipFill>
          <a:blip r:embed="rId1"/>
          <a:stretch/>
        </p:blipFill>
        <p:spPr>
          <a:xfrm>
            <a:off x="1476360" y="-828720"/>
            <a:ext cx="6191280" cy="851544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611280" y="404640"/>
            <a:ext cx="64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1835640" y="1267200"/>
            <a:ext cx="5504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关于病毒的叙述中，正确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 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属于无成形细胞核的原核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是无细胞结构的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寄生于活细胞的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在高倍显微镜下才可以看到病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1696680" y="36900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题解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1804680" y="3940560"/>
            <a:ext cx="567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毒没有细胞结构，其结构甚至比原核细胞要简单得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数病毒由蛋白质外壳组成衣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遗传物质核酸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被包围在其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的病毒营寄生生活，离开宿主细胞，就难以长久生活和繁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病毒大小以纳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,10-9 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计，因而光学显微镜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难以观察到，只有借助于电子显微镜才能观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7596360" y="1341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1872000" y="691200"/>
            <a:ext cx="555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片草原上的全部黄羊和一片草原上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部生物，在生命系统中分别属于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群和群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群和生态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群落和种群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群落和生态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360360" y="3429000"/>
            <a:ext cx="85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一片草原上的全部黄羊可构成一个种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片草原上的全部生物，包括着这个草原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所有植物、动物和微生物，即各个种群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和，应构成群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7597440" y="1203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1725840" y="627480"/>
            <a:ext cx="580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环境中的生物，属于种群的是（ 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公园中的花卉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牧场里的家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条河里的鱼   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蜂巢里的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人体结构中，属于组织的是（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脏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经元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腔上皮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皮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1518120" y="4051800"/>
            <a:ext cx="611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浅海中，牡蛎与鱼类、节肢动物、棘皮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生物生活在一起。这些生物构成了（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群落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群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态系统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物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7524720" y="62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7021440" y="2565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7093080" y="458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4"/>
          <p:cNvSpPr/>
          <p:nvPr/>
        </p:nvSpPr>
        <p:spPr>
          <a:xfrm>
            <a:off x="-3240" y="646920"/>
            <a:ext cx="9112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组成生物体的化学成分中，蛋白质是生命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主要承担者，核酸是遗传信息的携带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地球上最基本的生命系统是（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核酸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的胚胎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物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关于细胞与生命活动的叙述，错误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生命活动都离不开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病毒不具有细胞结构，所以它的生命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细胞无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细胞是生物体结构和功能的基本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多细胞生物依赖高度分化的细胞密切协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能完成生命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6084720" y="1341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396720" y="292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4"/>
          <p:cNvSpPr/>
          <p:nvPr/>
        </p:nvSpPr>
        <p:spPr>
          <a:xfrm>
            <a:off x="2195640" y="1773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完成课后练习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SARS"/>
          <p:cNvPicPr/>
          <p:nvPr/>
        </p:nvPicPr>
        <p:blipFill>
          <a:blip r:embed="rId1"/>
          <a:stretch/>
        </p:blipFill>
        <p:spPr>
          <a:xfrm>
            <a:off x="468360" y="1781280"/>
            <a:ext cx="3843360" cy="3232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SARS图2"/>
          <p:cNvPicPr/>
          <p:nvPr/>
        </p:nvPicPr>
        <p:blipFill>
          <a:blip r:embed="rId2"/>
          <a:stretch/>
        </p:blipFill>
        <p:spPr>
          <a:xfrm>
            <a:off x="5148360" y="1739880"/>
            <a:ext cx="3744720" cy="3297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7"/>
          <p:cNvSpPr/>
          <p:nvPr/>
        </p:nvSpPr>
        <p:spPr>
          <a:xfrm>
            <a:off x="1587600" y="35640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学引领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生命活动离不开细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1692360" y="55897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模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5"/>
          <p:cNvSpPr/>
          <p:nvPr/>
        </p:nvSpPr>
        <p:spPr>
          <a:xfrm>
            <a:off x="147636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没有细胞结构，它还能完成各项生命活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9054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105520" cy="44960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1042920" y="486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你和父母之间，什么细胞充当遗传物质的“桥梁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3059280" y="5661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精子和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5761080" cy="349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900000" y="400536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一次缩手反射，需要哪些细胞的参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进行的学习活动，需要哪些细胞的参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2556000" y="4508640"/>
            <a:ext cx="39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神经细胞和骨骼肌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2916360" y="573408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要是神经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艾滋病病毒图1"/>
          <p:cNvPicPr/>
          <p:nvPr/>
        </p:nvPicPr>
        <p:blipFill>
          <a:blip r:embed="rId1"/>
          <a:stretch/>
        </p:blipFill>
        <p:spPr>
          <a:xfrm>
            <a:off x="6659640" y="3141720"/>
            <a:ext cx="2004840" cy="1693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艾滋病病毒图2"/>
          <p:cNvPicPr/>
          <p:nvPr/>
        </p:nvPicPr>
        <p:blipFill>
          <a:blip r:embed="rId2"/>
          <a:stretch/>
        </p:blipFill>
        <p:spPr>
          <a:xfrm>
            <a:off x="0" y="260280"/>
            <a:ext cx="6350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艾滋病病毒图4"/>
          <p:cNvPicPr/>
          <p:nvPr/>
        </p:nvPicPr>
        <p:blipFill>
          <a:blip r:embed="rId1"/>
          <a:stretch/>
        </p:blipFill>
        <p:spPr>
          <a:xfrm>
            <a:off x="2627280" y="765000"/>
            <a:ext cx="3238560" cy="28832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"/>
          <p:cNvSpPr/>
          <p:nvPr/>
        </p:nvSpPr>
        <p:spPr>
          <a:xfrm>
            <a:off x="755640" y="4437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获得性免疫缺陷综合症）是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感染淋巴细胞引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684360" y="13190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细胞是生物体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结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位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功能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病毒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没有细胞结构的生物，但必须依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活细胞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才能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单细胞生物的生命活动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细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基本单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多细胞生物依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各种分化的细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合作，共同完成一系列的生命活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468360" y="333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1116000" y="1125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生命系统的结构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95280" y="2205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找出生命系统的层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611280" y="342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 “ 思考与讨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0:54:00Z</dcterms:created>
  <dc:creator>eway--sxp</dc:creator>
  <dc:description/>
  <dc:language>en-US</dc:language>
  <cp:lastModifiedBy>a</cp:lastModifiedBy>
  <dcterms:modified xsi:type="dcterms:W3CDTF">2015-03-17T06:09:13Z</dcterms:modified>
  <cp:revision>9</cp:revision>
  <dc:subject/>
  <dc:title>幻灯片 1</dc:title>
</cp:coreProperties>
</file>