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A6-3357-45C2-93A3-C4FFEF30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A03-237D-428A-AD52-9C03622B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A72-5F1B-4DE0-A9A7-630B414F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71B-9B8B-4BCF-A0B4-993D698B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CEB-BA6A-4EB5-9196-EC2F0F70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A143-F8E2-4B8A-835F-215AF801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AE7-8FE7-426B-840B-14973E4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353B-ACB4-402C-8178-87F4D9B0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C74-67FF-42D9-A4D6-9FFDF688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D49-9B95-4438-A57C-D94F3062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417D-EBDE-40B6-914C-F7F44A5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618-CB18-42A1-A9DA-D0637EA1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4B75-A17B-4936-99E8-5D9CD606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03AE-47A3-487C-9AB1-B912893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8FDF-B929-4EDD-BA3C-1BFB328F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22CD-7DF4-44DE-A8F1-B5BD535D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ED2-5944-436F-85A6-606B417C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9A5-1A8A-4A09-BEED-7B65557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068-6D84-4C78-AC10-22A18FE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27E-C5C8-435D-A85B-0165ED1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51A-5E05-40CA-B3FD-7EB189D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627-9C3A-4D63-85F5-49F8AC2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2E8-FE49-4856-BE62-A64B9046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91F-AC2E-4255-AD7E-C126CA87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1BEE-9EFF-4F53-A6E9-87210BECBA9A}" type="slidenum">
              <a:rPr b="0" lang="ko-KR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762B-97C7-41D3-809F-56F45DC8E215}" type="datetime">
              <a:rPr b="0" lang="zh-CN" sz="1400" spc="-1" strike="noStrike">
                <a:solidFill>
                  <a:srgbClr val="000000"/>
                </a:solidFill>
                <a:latin typeface="Gulim"/>
                <a:ea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216-36EE-497A-8E7B-9D39A79E5E10}" type="slidenum">
              <a:rPr b="0" lang="zh-CN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2681"/>
          <p:cNvSpPr/>
          <p:nvPr/>
        </p:nvSpPr>
        <p:spPr>
          <a:xfrm rot="5400000">
            <a:off x="5738400" y="546264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3" name="组合 2663"/>
          <p:cNvGrpSpPr/>
          <p:nvPr/>
        </p:nvGrpSpPr>
        <p:grpSpPr>
          <a:xfrm>
            <a:off x="2133720" y="4190760"/>
            <a:ext cx="693360" cy="230400"/>
            <a:chOff x="2133720" y="4190760"/>
            <a:chExt cx="693360" cy="230400"/>
          </a:xfrm>
        </p:grpSpPr>
        <p:sp>
          <p:nvSpPr>
            <p:cNvPr id="84" name="任意多边形 2664"/>
            <p:cNvSpPr/>
            <p:nvPr/>
          </p:nvSpPr>
          <p:spPr>
            <a:xfrm rot="5400000">
              <a:off x="2560320" y="4154400"/>
              <a:ext cx="228600" cy="30492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任意多边形 2665"/>
            <p:cNvSpPr/>
            <p:nvPr/>
          </p:nvSpPr>
          <p:spPr>
            <a:xfrm rot="16200000">
              <a:off x="2171520" y="4152600"/>
              <a:ext cx="228600" cy="3045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" name="任意多边形 2666"/>
            <p:cNvSpPr/>
            <p:nvPr/>
          </p:nvSpPr>
          <p:spPr>
            <a:xfrm rot="5400000">
              <a:off x="2596320" y="4206240"/>
              <a:ext cx="130320" cy="17280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任意多边形 2667"/>
            <p:cNvSpPr/>
            <p:nvPr/>
          </p:nvSpPr>
          <p:spPr>
            <a:xfrm rot="16200000">
              <a:off x="2235960" y="4204800"/>
              <a:ext cx="130320" cy="17280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8" name="组合 2668"/>
            <p:cNvGrpSpPr/>
            <p:nvPr/>
          </p:nvGrpSpPr>
          <p:grpSpPr>
            <a:xfrm>
              <a:off x="2343240" y="4257720"/>
              <a:ext cx="313560" cy="77760"/>
              <a:chOff x="2343240" y="4257720"/>
              <a:chExt cx="313560" cy="77760"/>
            </a:xfrm>
          </p:grpSpPr>
          <p:sp>
            <p:nvSpPr>
              <p:cNvPr id="89" name="任意多边形 2669"/>
              <p:cNvSpPr/>
              <p:nvPr/>
            </p:nvSpPr>
            <p:spPr>
              <a:xfrm rot="5400000">
                <a:off x="2567160" y="4245840"/>
                <a:ext cx="77040" cy="10188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" name="任意多边形 2670"/>
              <p:cNvSpPr/>
              <p:nvPr/>
            </p:nvSpPr>
            <p:spPr>
              <a:xfrm rot="16200000">
                <a:off x="2355480" y="4245120"/>
                <a:ext cx="77040" cy="10188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4952880" y="2371680"/>
            <a:ext cx="3886200" cy="360"/>
            <a:chOff x="4952880" y="2371680"/>
            <a:chExt cx="3886200" cy="360"/>
          </a:xfrm>
        </p:grpSpPr>
        <p:sp>
          <p:nvSpPr>
            <p:cNvPr id="92" name="直接连接符 2661"/>
            <p:cNvSpPr/>
            <p:nvPr/>
          </p:nvSpPr>
          <p:spPr>
            <a:xfrm>
              <a:off x="4952880" y="237168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952880" y="2371680"/>
              <a:ext cx="3886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2286000"/>
            <a:ext cx="5181480" cy="360"/>
            <a:chOff x="0" y="2286000"/>
            <a:chExt cx="5181480" cy="360"/>
          </a:xfrm>
        </p:grpSpPr>
        <p:sp>
          <p:nvSpPr>
            <p:cNvPr id="95" name="直接连接符 2662"/>
            <p:cNvSpPr/>
            <p:nvPr/>
          </p:nvSpPr>
          <p:spPr>
            <a:xfrm>
              <a:off x="0" y="2286000"/>
              <a:ext cx="51814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0" y="22860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7" name="任意多边形 2051"/>
          <p:cNvSpPr/>
          <p:nvPr/>
        </p:nvSpPr>
        <p:spPr>
          <a:xfrm flipH="1">
            <a:off x="0" y="5373720"/>
            <a:ext cx="9144000" cy="1484280"/>
          </a:xfrm>
          <a:custGeom>
            <a:avLst/>
            <a:gdLst/>
            <a:ahLst/>
            <a:rect l="l" t="t" r="r" b="b"/>
            <a:pathLst>
              <a:path w="4166" h="1382">
                <a:moveTo>
                  <a:pt x="2185" y="500"/>
                </a:moveTo>
                <a:lnTo>
                  <a:pt x="2185" y="500"/>
                </a:lnTo>
                <a:lnTo>
                  <a:pt x="1974" y="431"/>
                </a:lnTo>
                <a:lnTo>
                  <a:pt x="1767" y="369"/>
                </a:lnTo>
                <a:lnTo>
                  <a:pt x="1562" y="312"/>
                </a:lnTo>
                <a:lnTo>
                  <a:pt x="1365" y="260"/>
                </a:lnTo>
                <a:lnTo>
                  <a:pt x="1176" y="214"/>
                </a:lnTo>
                <a:lnTo>
                  <a:pt x="995" y="171"/>
                </a:lnTo>
                <a:lnTo>
                  <a:pt x="825" y="136"/>
                </a:lnTo>
                <a:lnTo>
                  <a:pt x="667" y="105"/>
                </a:lnTo>
                <a:lnTo>
                  <a:pt x="523" y="78"/>
                </a:lnTo>
                <a:lnTo>
                  <a:pt x="393" y="57"/>
                </a:lnTo>
                <a:lnTo>
                  <a:pt x="181" y="24"/>
                </a:lnTo>
                <a:lnTo>
                  <a:pt x="46" y="7"/>
                </a:lnTo>
                <a:lnTo>
                  <a:pt x="0" y="0"/>
                </a:lnTo>
                <a:lnTo>
                  <a:pt x="0" y="1382"/>
                </a:lnTo>
                <a:lnTo>
                  <a:pt x="4166" y="1382"/>
                </a:lnTo>
                <a:lnTo>
                  <a:pt x="4166" y="1382"/>
                </a:lnTo>
                <a:lnTo>
                  <a:pt x="4127" y="1361"/>
                </a:lnTo>
                <a:lnTo>
                  <a:pt x="4018" y="1301"/>
                </a:lnTo>
                <a:lnTo>
                  <a:pt x="3839" y="1206"/>
                </a:lnTo>
                <a:lnTo>
                  <a:pt x="3727" y="1151"/>
                </a:lnTo>
                <a:lnTo>
                  <a:pt x="3601" y="1089"/>
                </a:lnTo>
                <a:lnTo>
                  <a:pt x="3462" y="1022"/>
                </a:lnTo>
                <a:lnTo>
                  <a:pt x="3311" y="951"/>
                </a:lnTo>
                <a:lnTo>
                  <a:pt x="3148" y="879"/>
                </a:lnTo>
                <a:lnTo>
                  <a:pt x="2974" y="803"/>
                </a:lnTo>
                <a:lnTo>
                  <a:pt x="2790" y="727"/>
                </a:lnTo>
                <a:lnTo>
                  <a:pt x="2597" y="650"/>
                </a:lnTo>
                <a:lnTo>
                  <a:pt x="2395" y="577"/>
                </a:lnTo>
                <a:lnTo>
                  <a:pt x="2185" y="500"/>
                </a:lnTo>
                <a:lnTo>
                  <a:pt x="2185" y="500"/>
                </a:lnTo>
                <a:close/>
              </a:path>
            </a:pathLst>
          </a:custGeom>
          <a:solidFill>
            <a:srgbClr val="003d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8" name="组合 2052"/>
          <p:cNvGrpSpPr/>
          <p:nvPr/>
        </p:nvGrpSpPr>
        <p:grpSpPr>
          <a:xfrm>
            <a:off x="6400800" y="5105520"/>
            <a:ext cx="2286000" cy="838080"/>
            <a:chOff x="6400800" y="5105520"/>
            <a:chExt cx="2286000" cy="838080"/>
          </a:xfrm>
        </p:grpSpPr>
        <p:sp>
          <p:nvSpPr>
            <p:cNvPr id="99" name="任意多边形 2053"/>
            <p:cNvSpPr/>
            <p:nvPr/>
          </p:nvSpPr>
          <p:spPr>
            <a:xfrm>
              <a:off x="7696080" y="5240160"/>
              <a:ext cx="656280" cy="70308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任意多边形 2054"/>
            <p:cNvSpPr/>
            <p:nvPr/>
          </p:nvSpPr>
          <p:spPr>
            <a:xfrm>
              <a:off x="7194600" y="5105520"/>
              <a:ext cx="781560" cy="83808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任意多边形 2055"/>
            <p:cNvSpPr/>
            <p:nvPr/>
          </p:nvSpPr>
          <p:spPr>
            <a:xfrm>
              <a:off x="6818400" y="5329440"/>
              <a:ext cx="572400" cy="6141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任意多边形 2056"/>
            <p:cNvSpPr/>
            <p:nvPr/>
          </p:nvSpPr>
          <p:spPr>
            <a:xfrm>
              <a:off x="6400800" y="5329440"/>
              <a:ext cx="572760" cy="6141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任意多边形 2057"/>
            <p:cNvSpPr/>
            <p:nvPr/>
          </p:nvSpPr>
          <p:spPr>
            <a:xfrm>
              <a:off x="8155800" y="5374080"/>
              <a:ext cx="531000" cy="5695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组合 2058"/>
          <p:cNvGrpSpPr/>
          <p:nvPr/>
        </p:nvGrpSpPr>
        <p:grpSpPr>
          <a:xfrm>
            <a:off x="3390840" y="5027760"/>
            <a:ext cx="2239200" cy="1362240"/>
            <a:chOff x="3390840" y="5027760"/>
            <a:chExt cx="2239200" cy="1362240"/>
          </a:xfrm>
        </p:grpSpPr>
        <p:sp>
          <p:nvSpPr>
            <p:cNvPr id="105" name="任意多边形 2059"/>
            <p:cNvSpPr/>
            <p:nvPr/>
          </p:nvSpPr>
          <p:spPr>
            <a:xfrm rot="21049200">
              <a:off x="4637160" y="5195520"/>
              <a:ext cx="612360" cy="9590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任意多边形 2060"/>
            <p:cNvSpPr/>
            <p:nvPr/>
          </p:nvSpPr>
          <p:spPr>
            <a:xfrm rot="21049200">
              <a:off x="4159800" y="5078520"/>
              <a:ext cx="729360" cy="11430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任意多边形 2061"/>
            <p:cNvSpPr/>
            <p:nvPr/>
          </p:nvSpPr>
          <p:spPr>
            <a:xfrm rot="21049200">
              <a:off x="3839040" y="5452920"/>
              <a:ext cx="534240" cy="8373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" name="任意多边形 2062"/>
            <p:cNvSpPr/>
            <p:nvPr/>
          </p:nvSpPr>
          <p:spPr>
            <a:xfrm rot="21049200">
              <a:off x="3454200" y="5515200"/>
              <a:ext cx="534600" cy="8373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任意多边形 2063"/>
            <p:cNvSpPr/>
            <p:nvPr/>
          </p:nvSpPr>
          <p:spPr>
            <a:xfrm rot="21049200">
              <a:off x="5076000" y="5317560"/>
              <a:ext cx="495360" cy="7765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0" name="组合 2064"/>
          <p:cNvGrpSpPr/>
          <p:nvPr/>
        </p:nvGrpSpPr>
        <p:grpSpPr>
          <a:xfrm>
            <a:off x="5105520" y="5029200"/>
            <a:ext cx="2286000" cy="838080"/>
            <a:chOff x="5105520" y="5029200"/>
            <a:chExt cx="2286000" cy="838080"/>
          </a:xfrm>
        </p:grpSpPr>
        <p:sp>
          <p:nvSpPr>
            <p:cNvPr id="111" name="任意多边形 2065"/>
            <p:cNvSpPr/>
            <p:nvPr/>
          </p:nvSpPr>
          <p:spPr>
            <a:xfrm>
              <a:off x="6400800" y="5163840"/>
              <a:ext cx="656280" cy="70308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任意多边形 2066"/>
            <p:cNvSpPr/>
            <p:nvPr/>
          </p:nvSpPr>
          <p:spPr>
            <a:xfrm>
              <a:off x="5899320" y="5029200"/>
              <a:ext cx="781560" cy="83808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" name="任意多边形 2067"/>
            <p:cNvSpPr/>
            <p:nvPr/>
          </p:nvSpPr>
          <p:spPr>
            <a:xfrm>
              <a:off x="5523120" y="5253120"/>
              <a:ext cx="572400" cy="6141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" name="任意多边形 2068"/>
            <p:cNvSpPr/>
            <p:nvPr/>
          </p:nvSpPr>
          <p:spPr>
            <a:xfrm>
              <a:off x="5105520" y="5253120"/>
              <a:ext cx="572760" cy="6141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" name="任意多边形 2069"/>
            <p:cNvSpPr/>
            <p:nvPr/>
          </p:nvSpPr>
          <p:spPr>
            <a:xfrm>
              <a:off x="6860520" y="5297760"/>
              <a:ext cx="531000" cy="5695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00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6" name="组合 2070"/>
          <p:cNvGrpSpPr/>
          <p:nvPr/>
        </p:nvGrpSpPr>
        <p:grpSpPr>
          <a:xfrm>
            <a:off x="6629400" y="2101680"/>
            <a:ext cx="1905120" cy="270000"/>
            <a:chOff x="6629400" y="2101680"/>
            <a:chExt cx="1905120" cy="270000"/>
          </a:xfrm>
        </p:grpSpPr>
        <p:sp>
          <p:nvSpPr>
            <p:cNvPr id="117" name="任意多边形 2071"/>
            <p:cNvSpPr/>
            <p:nvPr/>
          </p:nvSpPr>
          <p:spPr>
            <a:xfrm>
              <a:off x="7709040" y="2144880"/>
              <a:ext cx="546840" cy="2268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" name="任意多边形 2072"/>
            <p:cNvSpPr/>
            <p:nvPr/>
          </p:nvSpPr>
          <p:spPr>
            <a:xfrm>
              <a:off x="7291080" y="2101680"/>
              <a:ext cx="651240" cy="2700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" name="任意多边形 2073"/>
            <p:cNvSpPr/>
            <p:nvPr/>
          </p:nvSpPr>
          <p:spPr>
            <a:xfrm>
              <a:off x="6977520" y="2173680"/>
              <a:ext cx="477000" cy="1980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" name="任意多边形 2074"/>
            <p:cNvSpPr/>
            <p:nvPr/>
          </p:nvSpPr>
          <p:spPr>
            <a:xfrm>
              <a:off x="6629400" y="2173680"/>
              <a:ext cx="477360" cy="1980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" name="任意多边形 2075"/>
            <p:cNvSpPr/>
            <p:nvPr/>
          </p:nvSpPr>
          <p:spPr>
            <a:xfrm>
              <a:off x="8092080" y="2188080"/>
              <a:ext cx="442440" cy="1836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" name="组合 2076"/>
          <p:cNvGrpSpPr/>
          <p:nvPr/>
        </p:nvGrpSpPr>
        <p:grpSpPr>
          <a:xfrm>
            <a:off x="3124080" y="1962000"/>
            <a:ext cx="2286000" cy="324000"/>
            <a:chOff x="3124080" y="1962000"/>
            <a:chExt cx="2286000" cy="324000"/>
          </a:xfrm>
        </p:grpSpPr>
        <p:sp>
          <p:nvSpPr>
            <p:cNvPr id="123" name="任意多边形 2077"/>
            <p:cNvSpPr/>
            <p:nvPr/>
          </p:nvSpPr>
          <p:spPr>
            <a:xfrm>
              <a:off x="4419360" y="2013840"/>
              <a:ext cx="656280" cy="2718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" name="任意多边形 2078"/>
            <p:cNvSpPr/>
            <p:nvPr/>
          </p:nvSpPr>
          <p:spPr>
            <a:xfrm>
              <a:off x="3917880" y="1962000"/>
              <a:ext cx="781560" cy="3240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任意多边形 2079"/>
            <p:cNvSpPr/>
            <p:nvPr/>
          </p:nvSpPr>
          <p:spPr>
            <a:xfrm>
              <a:off x="3541680" y="2048400"/>
              <a:ext cx="572400" cy="2376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" name="任意多边形 2080"/>
            <p:cNvSpPr/>
            <p:nvPr/>
          </p:nvSpPr>
          <p:spPr>
            <a:xfrm>
              <a:off x="3124080" y="2048400"/>
              <a:ext cx="572760" cy="2376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任意多边形 2081"/>
            <p:cNvSpPr/>
            <p:nvPr/>
          </p:nvSpPr>
          <p:spPr>
            <a:xfrm>
              <a:off x="4879080" y="2065680"/>
              <a:ext cx="531000" cy="2203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8" name="组合 2082"/>
          <p:cNvGrpSpPr/>
          <p:nvPr/>
        </p:nvGrpSpPr>
        <p:grpSpPr>
          <a:xfrm>
            <a:off x="0" y="1209600"/>
            <a:ext cx="2286000" cy="1067040"/>
            <a:chOff x="0" y="1209600"/>
            <a:chExt cx="2286000" cy="1067040"/>
          </a:xfrm>
        </p:grpSpPr>
        <p:sp>
          <p:nvSpPr>
            <p:cNvPr id="129" name="任意多边形 2083"/>
            <p:cNvSpPr/>
            <p:nvPr/>
          </p:nvSpPr>
          <p:spPr>
            <a:xfrm>
              <a:off x="1295280" y="1380960"/>
              <a:ext cx="656280" cy="8953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任意多边形 2084"/>
            <p:cNvSpPr/>
            <p:nvPr/>
          </p:nvSpPr>
          <p:spPr>
            <a:xfrm>
              <a:off x="793800" y="1209600"/>
              <a:ext cx="781560" cy="10670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任意多边形 2085"/>
            <p:cNvSpPr/>
            <p:nvPr/>
          </p:nvSpPr>
          <p:spPr>
            <a:xfrm>
              <a:off x="417600" y="1494360"/>
              <a:ext cx="572400" cy="7819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" name="任意多边形 2086"/>
            <p:cNvSpPr/>
            <p:nvPr/>
          </p:nvSpPr>
          <p:spPr>
            <a:xfrm>
              <a:off x="0" y="1494360"/>
              <a:ext cx="572760" cy="7819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任意多边形 2087"/>
            <p:cNvSpPr/>
            <p:nvPr/>
          </p:nvSpPr>
          <p:spPr>
            <a:xfrm>
              <a:off x="1755000" y="1551600"/>
              <a:ext cx="531000" cy="7250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" name="组合 2088"/>
          <p:cNvGrpSpPr/>
          <p:nvPr/>
        </p:nvGrpSpPr>
        <p:grpSpPr>
          <a:xfrm>
            <a:off x="5105520" y="2048040"/>
            <a:ext cx="2286000" cy="323640"/>
            <a:chOff x="5105520" y="2048040"/>
            <a:chExt cx="2286000" cy="323640"/>
          </a:xfrm>
        </p:grpSpPr>
        <p:sp>
          <p:nvSpPr>
            <p:cNvPr id="135" name="任意多边形 2089"/>
            <p:cNvSpPr/>
            <p:nvPr/>
          </p:nvSpPr>
          <p:spPr>
            <a:xfrm>
              <a:off x="6400800" y="2099880"/>
              <a:ext cx="656280" cy="27180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任意多边形 2090"/>
            <p:cNvSpPr/>
            <p:nvPr/>
          </p:nvSpPr>
          <p:spPr>
            <a:xfrm>
              <a:off x="5899320" y="2048040"/>
              <a:ext cx="781560" cy="3236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任意多边形 2091"/>
            <p:cNvSpPr/>
            <p:nvPr/>
          </p:nvSpPr>
          <p:spPr>
            <a:xfrm>
              <a:off x="5523120" y="2134440"/>
              <a:ext cx="572400" cy="2372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" name="任意多边形 2092"/>
            <p:cNvSpPr/>
            <p:nvPr/>
          </p:nvSpPr>
          <p:spPr>
            <a:xfrm>
              <a:off x="5105520" y="2134440"/>
              <a:ext cx="572760" cy="2372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任意多边形 2093"/>
            <p:cNvSpPr/>
            <p:nvPr/>
          </p:nvSpPr>
          <p:spPr>
            <a:xfrm>
              <a:off x="6860520" y="2151720"/>
              <a:ext cx="531000" cy="2199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" name="组合 2094"/>
          <p:cNvGrpSpPr/>
          <p:nvPr/>
        </p:nvGrpSpPr>
        <p:grpSpPr>
          <a:xfrm>
            <a:off x="1066680" y="1752480"/>
            <a:ext cx="2286000" cy="533520"/>
            <a:chOff x="1066680" y="1752480"/>
            <a:chExt cx="2286000" cy="533520"/>
          </a:xfrm>
        </p:grpSpPr>
        <p:sp>
          <p:nvSpPr>
            <p:cNvPr id="141" name="任意多边形 2095"/>
            <p:cNvSpPr/>
            <p:nvPr/>
          </p:nvSpPr>
          <p:spPr>
            <a:xfrm>
              <a:off x="2361960" y="1838160"/>
              <a:ext cx="656280" cy="44784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" name="任意多边形 2096"/>
            <p:cNvSpPr/>
            <p:nvPr/>
          </p:nvSpPr>
          <p:spPr>
            <a:xfrm>
              <a:off x="1860480" y="1752480"/>
              <a:ext cx="781560" cy="5335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任意多边形 2097"/>
            <p:cNvSpPr/>
            <p:nvPr/>
          </p:nvSpPr>
          <p:spPr>
            <a:xfrm>
              <a:off x="1484280" y="1895040"/>
              <a:ext cx="572400" cy="3909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" name="任意多边形 2098"/>
            <p:cNvSpPr/>
            <p:nvPr/>
          </p:nvSpPr>
          <p:spPr>
            <a:xfrm>
              <a:off x="1066680" y="1895040"/>
              <a:ext cx="572760" cy="39096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" name="任意多边形 2099"/>
            <p:cNvSpPr/>
            <p:nvPr/>
          </p:nvSpPr>
          <p:spPr>
            <a:xfrm>
              <a:off x="2821680" y="1923480"/>
              <a:ext cx="531000" cy="362520"/>
            </a:xfrm>
            <a:custGeom>
              <a:avLst/>
              <a:gdLst/>
              <a:ahLst/>
              <a:rect l="l" t="t" r="r" b="b"/>
              <a:pathLst>
                <a:path w="898" h="808">
                  <a:moveTo>
                    <a:pt x="50" y="294"/>
                  </a:moveTo>
                  <a:lnTo>
                    <a:pt x="50" y="294"/>
                  </a:lnTo>
                  <a:lnTo>
                    <a:pt x="66" y="266"/>
                  </a:lnTo>
                  <a:lnTo>
                    <a:pt x="86" y="240"/>
                  </a:lnTo>
                  <a:lnTo>
                    <a:pt x="108" y="214"/>
                  </a:lnTo>
                  <a:lnTo>
                    <a:pt x="132" y="188"/>
                  </a:lnTo>
                  <a:lnTo>
                    <a:pt x="158" y="164"/>
                  </a:lnTo>
                  <a:lnTo>
                    <a:pt x="184" y="140"/>
                  </a:lnTo>
                  <a:lnTo>
                    <a:pt x="238" y="96"/>
                  </a:lnTo>
                  <a:lnTo>
                    <a:pt x="286" y="58"/>
                  </a:lnTo>
                  <a:lnTo>
                    <a:pt x="328" y="3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40" y="40"/>
                  </a:lnTo>
                  <a:lnTo>
                    <a:pt x="278" y="122"/>
                  </a:lnTo>
                  <a:lnTo>
                    <a:pt x="242" y="172"/>
                  </a:lnTo>
                  <a:lnTo>
                    <a:pt x="210" y="222"/>
                  </a:lnTo>
                  <a:lnTo>
                    <a:pt x="184" y="268"/>
                  </a:lnTo>
                  <a:lnTo>
                    <a:pt x="174" y="288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48" y="358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80" y="344"/>
                  </a:lnTo>
                  <a:lnTo>
                    <a:pt x="218" y="284"/>
                  </a:lnTo>
                  <a:lnTo>
                    <a:pt x="258" y="224"/>
                  </a:lnTo>
                  <a:lnTo>
                    <a:pt x="258" y="224"/>
                  </a:lnTo>
                  <a:lnTo>
                    <a:pt x="282" y="194"/>
                  </a:lnTo>
                  <a:lnTo>
                    <a:pt x="310" y="164"/>
                  </a:lnTo>
                  <a:lnTo>
                    <a:pt x="340" y="136"/>
                  </a:lnTo>
                  <a:lnTo>
                    <a:pt x="370" y="110"/>
                  </a:lnTo>
                  <a:lnTo>
                    <a:pt x="420" y="68"/>
                  </a:lnTo>
                  <a:lnTo>
                    <a:pt x="442" y="50"/>
                  </a:lnTo>
                  <a:lnTo>
                    <a:pt x="442" y="50"/>
                  </a:lnTo>
                  <a:lnTo>
                    <a:pt x="424" y="80"/>
                  </a:lnTo>
                  <a:lnTo>
                    <a:pt x="386" y="148"/>
                  </a:lnTo>
                  <a:lnTo>
                    <a:pt x="364" y="190"/>
                  </a:lnTo>
                  <a:lnTo>
                    <a:pt x="344" y="230"/>
                  </a:lnTo>
                  <a:lnTo>
                    <a:pt x="328" y="268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268" y="492"/>
                  </a:lnTo>
                  <a:lnTo>
                    <a:pt x="268" y="492"/>
                  </a:lnTo>
                  <a:lnTo>
                    <a:pt x="336" y="370"/>
                  </a:lnTo>
                  <a:lnTo>
                    <a:pt x="390" y="274"/>
                  </a:lnTo>
                  <a:lnTo>
                    <a:pt x="416" y="232"/>
                  </a:lnTo>
                  <a:lnTo>
                    <a:pt x="436" y="202"/>
                  </a:lnTo>
                  <a:lnTo>
                    <a:pt x="436" y="202"/>
                  </a:lnTo>
                  <a:lnTo>
                    <a:pt x="458" y="180"/>
                  </a:lnTo>
                  <a:lnTo>
                    <a:pt x="482" y="156"/>
                  </a:lnTo>
                  <a:lnTo>
                    <a:pt x="510" y="132"/>
                  </a:lnTo>
                  <a:lnTo>
                    <a:pt x="538" y="108"/>
                  </a:lnTo>
                  <a:lnTo>
                    <a:pt x="586" y="72"/>
                  </a:lnTo>
                  <a:lnTo>
                    <a:pt x="606" y="58"/>
                  </a:lnTo>
                  <a:lnTo>
                    <a:pt x="606" y="58"/>
                  </a:lnTo>
                  <a:lnTo>
                    <a:pt x="584" y="90"/>
                  </a:lnTo>
                  <a:lnTo>
                    <a:pt x="534" y="162"/>
                  </a:lnTo>
                  <a:lnTo>
                    <a:pt x="506" y="206"/>
                  </a:lnTo>
                  <a:lnTo>
                    <a:pt x="480" y="250"/>
                  </a:lnTo>
                  <a:lnTo>
                    <a:pt x="458" y="290"/>
                  </a:lnTo>
                  <a:lnTo>
                    <a:pt x="450" y="308"/>
                  </a:lnTo>
                  <a:lnTo>
                    <a:pt x="444" y="324"/>
                  </a:lnTo>
                  <a:lnTo>
                    <a:pt x="444" y="324"/>
                  </a:lnTo>
                  <a:lnTo>
                    <a:pt x="434" y="362"/>
                  </a:lnTo>
                  <a:lnTo>
                    <a:pt x="428" y="388"/>
                  </a:lnTo>
                  <a:lnTo>
                    <a:pt x="426" y="406"/>
                  </a:lnTo>
                  <a:lnTo>
                    <a:pt x="426" y="416"/>
                  </a:lnTo>
                  <a:lnTo>
                    <a:pt x="430" y="420"/>
                  </a:lnTo>
                  <a:lnTo>
                    <a:pt x="432" y="420"/>
                  </a:lnTo>
                  <a:lnTo>
                    <a:pt x="436" y="420"/>
                  </a:lnTo>
                  <a:lnTo>
                    <a:pt x="436" y="420"/>
                  </a:lnTo>
                  <a:lnTo>
                    <a:pt x="444" y="402"/>
                  </a:lnTo>
                  <a:lnTo>
                    <a:pt x="462" y="358"/>
                  </a:lnTo>
                  <a:lnTo>
                    <a:pt x="492" y="296"/>
                  </a:lnTo>
                  <a:lnTo>
                    <a:pt x="512" y="262"/>
                  </a:lnTo>
                  <a:lnTo>
                    <a:pt x="534" y="226"/>
                  </a:lnTo>
                  <a:lnTo>
                    <a:pt x="534" y="226"/>
                  </a:lnTo>
                  <a:lnTo>
                    <a:pt x="548" y="208"/>
                  </a:lnTo>
                  <a:lnTo>
                    <a:pt x="562" y="188"/>
                  </a:lnTo>
                  <a:lnTo>
                    <a:pt x="598" y="150"/>
                  </a:lnTo>
                  <a:lnTo>
                    <a:pt x="640" y="112"/>
                  </a:lnTo>
                  <a:lnTo>
                    <a:pt x="680" y="76"/>
                  </a:lnTo>
                  <a:lnTo>
                    <a:pt x="718" y="46"/>
                  </a:lnTo>
                  <a:lnTo>
                    <a:pt x="750" y="22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60" y="24"/>
                  </a:lnTo>
                  <a:lnTo>
                    <a:pt x="714" y="88"/>
                  </a:lnTo>
                  <a:lnTo>
                    <a:pt x="688" y="128"/>
                  </a:lnTo>
                  <a:lnTo>
                    <a:pt x="662" y="168"/>
                  </a:lnTo>
                  <a:lnTo>
                    <a:pt x="638" y="210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14" y="266"/>
                  </a:lnTo>
                  <a:lnTo>
                    <a:pt x="610" y="290"/>
                  </a:lnTo>
                  <a:lnTo>
                    <a:pt x="604" y="344"/>
                  </a:lnTo>
                  <a:lnTo>
                    <a:pt x="598" y="414"/>
                  </a:lnTo>
                  <a:lnTo>
                    <a:pt x="614" y="510"/>
                  </a:lnTo>
                  <a:lnTo>
                    <a:pt x="614" y="510"/>
                  </a:lnTo>
                  <a:lnTo>
                    <a:pt x="618" y="484"/>
                  </a:lnTo>
                  <a:lnTo>
                    <a:pt x="624" y="454"/>
                  </a:lnTo>
                  <a:lnTo>
                    <a:pt x="632" y="418"/>
                  </a:lnTo>
                  <a:lnTo>
                    <a:pt x="642" y="378"/>
                  </a:lnTo>
                  <a:lnTo>
                    <a:pt x="656" y="336"/>
                  </a:lnTo>
                  <a:lnTo>
                    <a:pt x="672" y="298"/>
                  </a:lnTo>
                  <a:lnTo>
                    <a:pt x="682" y="280"/>
                  </a:lnTo>
                  <a:lnTo>
                    <a:pt x="692" y="262"/>
                  </a:lnTo>
                  <a:lnTo>
                    <a:pt x="692" y="262"/>
                  </a:lnTo>
                  <a:lnTo>
                    <a:pt x="716" y="228"/>
                  </a:lnTo>
                  <a:lnTo>
                    <a:pt x="748" y="194"/>
                  </a:lnTo>
                  <a:lnTo>
                    <a:pt x="782" y="160"/>
                  </a:lnTo>
                  <a:lnTo>
                    <a:pt x="816" y="128"/>
                  </a:lnTo>
                  <a:lnTo>
                    <a:pt x="874" y="76"/>
                  </a:lnTo>
                  <a:lnTo>
                    <a:pt x="898" y="56"/>
                  </a:lnTo>
                  <a:lnTo>
                    <a:pt x="898" y="56"/>
                  </a:lnTo>
                  <a:lnTo>
                    <a:pt x="874" y="92"/>
                  </a:lnTo>
                  <a:lnTo>
                    <a:pt x="850" y="132"/>
                  </a:lnTo>
                  <a:lnTo>
                    <a:pt x="820" y="180"/>
                  </a:lnTo>
                  <a:lnTo>
                    <a:pt x="790" y="232"/>
                  </a:lnTo>
                  <a:lnTo>
                    <a:pt x="764" y="286"/>
                  </a:lnTo>
                  <a:lnTo>
                    <a:pt x="752" y="312"/>
                  </a:lnTo>
                  <a:lnTo>
                    <a:pt x="744" y="338"/>
                  </a:lnTo>
                  <a:lnTo>
                    <a:pt x="736" y="360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30" y="428"/>
                  </a:lnTo>
                  <a:lnTo>
                    <a:pt x="730" y="492"/>
                  </a:lnTo>
                  <a:lnTo>
                    <a:pt x="732" y="562"/>
                  </a:lnTo>
                  <a:lnTo>
                    <a:pt x="736" y="634"/>
                  </a:lnTo>
                  <a:lnTo>
                    <a:pt x="744" y="756"/>
                  </a:lnTo>
                  <a:lnTo>
                    <a:pt x="748" y="80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4" y="746"/>
                  </a:lnTo>
                  <a:lnTo>
                    <a:pt x="2" y="682"/>
                  </a:lnTo>
                  <a:lnTo>
                    <a:pt x="0" y="602"/>
                  </a:lnTo>
                  <a:lnTo>
                    <a:pt x="2" y="518"/>
                  </a:lnTo>
                  <a:lnTo>
                    <a:pt x="6" y="476"/>
                  </a:lnTo>
                  <a:lnTo>
                    <a:pt x="10" y="434"/>
                  </a:lnTo>
                  <a:lnTo>
                    <a:pt x="18" y="394"/>
                  </a:lnTo>
                  <a:lnTo>
                    <a:pt x="26" y="356"/>
                  </a:lnTo>
                  <a:lnTo>
                    <a:pt x="36" y="322"/>
                  </a:lnTo>
                  <a:lnTo>
                    <a:pt x="50" y="294"/>
                  </a:lnTo>
                  <a:lnTo>
                    <a:pt x="50" y="29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6" name="组合 2100"/>
          <p:cNvGrpSpPr/>
          <p:nvPr/>
        </p:nvGrpSpPr>
        <p:grpSpPr>
          <a:xfrm>
            <a:off x="685800" y="3545640"/>
            <a:ext cx="3200400" cy="1672200"/>
            <a:chOff x="685800" y="3545640"/>
            <a:chExt cx="3200400" cy="1672200"/>
          </a:xfrm>
        </p:grpSpPr>
        <p:grpSp>
          <p:nvGrpSpPr>
            <p:cNvPr id="147" name="组合 2101"/>
            <p:cNvGrpSpPr/>
            <p:nvPr/>
          </p:nvGrpSpPr>
          <p:grpSpPr>
            <a:xfrm>
              <a:off x="756720" y="3545640"/>
              <a:ext cx="3129480" cy="1672200"/>
              <a:chOff x="756720" y="3545640"/>
              <a:chExt cx="3129480" cy="1672200"/>
            </a:xfrm>
          </p:grpSpPr>
          <p:grpSp>
            <p:nvGrpSpPr>
              <p:cNvPr id="148" name="组合 2102"/>
              <p:cNvGrpSpPr/>
              <p:nvPr/>
            </p:nvGrpSpPr>
            <p:grpSpPr>
              <a:xfrm>
                <a:off x="756720" y="3723480"/>
                <a:ext cx="3129480" cy="1494360"/>
                <a:chOff x="756720" y="3723480"/>
                <a:chExt cx="3129480" cy="1494360"/>
              </a:xfrm>
            </p:grpSpPr>
            <p:sp>
              <p:nvSpPr>
                <p:cNvPr id="149" name="任意多边形 2103"/>
                <p:cNvSpPr/>
                <p:nvPr/>
              </p:nvSpPr>
              <p:spPr>
                <a:xfrm>
                  <a:off x="756720" y="3723480"/>
                  <a:ext cx="3129480" cy="1494360"/>
                </a:xfrm>
                <a:custGeom>
                  <a:avLst/>
                  <a:gdLst/>
                  <a:ahLst/>
                  <a:rect l="l" t="t" r="r" b="b"/>
                  <a:pathLst>
                    <a:path fill="none" w="43135" h="43200">
                      <a:moveTo>
                        <a:pt x="42692" y="26254"/>
                      </a:moveTo>
                      <a:cubicBezTo>
                        <a:pt x="40561" y="35952"/>
                        <a:pt x="31927" y="43200"/>
                        <a:pt x="21599" y="43200"/>
                      </a:cubicBezTo>
                      <a:cubicBezTo>
                        <a:pt x="9670" y="43200"/>
                        <a:pt x="-1" y="3352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2962" y="0"/>
                        <a:pt x="42276" y="8775"/>
                        <a:pt x="43134" y="19912"/>
                      </a:cubicBezTo>
                    </a:path>
                    <a:path stroke="0" w="43135" h="43200">
                      <a:moveTo>
                        <a:pt x="43134" y="19919"/>
                      </a:moveTo>
                      <a:cubicBezTo>
                        <a:pt x="43043" y="18632"/>
                        <a:pt x="42979" y="15623"/>
                        <a:pt x="42979" y="12117"/>
                      </a:cubicBezTo>
                      <a:cubicBezTo>
                        <a:pt x="42979" y="7437"/>
                        <a:pt x="43093" y="3644"/>
                        <a:pt x="43233" y="3644"/>
                      </a:cubicBezTo>
                      <a:cubicBezTo>
                        <a:pt x="43373" y="3644"/>
                        <a:pt x="43487" y="7437"/>
                        <a:pt x="43487" y="12117"/>
                      </a:cubicBezTo>
                      <a:cubicBezTo>
                        <a:pt x="43487" y="12186"/>
                        <a:pt x="43487" y="12255"/>
                        <a:pt x="43487" y="12322"/>
                      </a:cubicBezTo>
                      <a:lnTo>
                        <a:pt x="42692" y="2625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5e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89604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0" name="任意多边形 2104"/>
                <p:cNvSpPr/>
                <p:nvPr/>
              </p:nvSpPr>
              <p:spPr>
                <a:xfrm rot="5400000">
                  <a:off x="2783520" y="4604400"/>
                  <a:ext cx="192600" cy="413280"/>
                </a:xfrm>
                <a:custGeom>
                  <a:avLst/>
                  <a:gdLst/>
                  <a:ahLst/>
                  <a:rect l="l" t="t" r="r" b="b"/>
                  <a:pathLst>
                    <a:path w="1195" h="2472">
                      <a:moveTo>
                        <a:pt x="572" y="0"/>
                      </a:moveTo>
                      <a:cubicBezTo>
                        <a:pt x="532" y="60"/>
                        <a:pt x="501" y="125"/>
                        <a:pt x="464" y="186"/>
                      </a:cubicBezTo>
                      <a:cubicBezTo>
                        <a:pt x="444" y="220"/>
                        <a:pt x="424" y="254"/>
                        <a:pt x="404" y="288"/>
                      </a:cubicBezTo>
                      <a:cubicBezTo>
                        <a:pt x="397" y="300"/>
                        <a:pt x="385" y="311"/>
                        <a:pt x="380" y="324"/>
                      </a:cubicBezTo>
                      <a:cubicBezTo>
                        <a:pt x="364" y="364"/>
                        <a:pt x="341" y="401"/>
                        <a:pt x="320" y="438"/>
                      </a:cubicBezTo>
                      <a:cubicBezTo>
                        <a:pt x="294" y="483"/>
                        <a:pt x="277" y="532"/>
                        <a:pt x="248" y="576"/>
                      </a:cubicBezTo>
                      <a:cubicBezTo>
                        <a:pt x="234" y="645"/>
                        <a:pt x="198" y="710"/>
                        <a:pt x="170" y="774"/>
                      </a:cubicBezTo>
                      <a:cubicBezTo>
                        <a:pt x="154" y="810"/>
                        <a:pt x="150" y="849"/>
                        <a:pt x="128" y="882"/>
                      </a:cubicBezTo>
                      <a:cubicBezTo>
                        <a:pt x="114" y="951"/>
                        <a:pt x="89" y="1017"/>
                        <a:pt x="74" y="1086"/>
                      </a:cubicBezTo>
                      <a:cubicBezTo>
                        <a:pt x="60" y="1148"/>
                        <a:pt x="56" y="1241"/>
                        <a:pt x="38" y="1296"/>
                      </a:cubicBezTo>
                      <a:cubicBezTo>
                        <a:pt x="23" y="1432"/>
                        <a:pt x="0" y="1591"/>
                        <a:pt x="44" y="1722"/>
                      </a:cubicBezTo>
                      <a:cubicBezTo>
                        <a:pt x="52" y="1775"/>
                        <a:pt x="68" y="1839"/>
                        <a:pt x="98" y="1884"/>
                      </a:cubicBezTo>
                      <a:cubicBezTo>
                        <a:pt x="105" y="1912"/>
                        <a:pt x="113" y="1923"/>
                        <a:pt x="134" y="1944"/>
                      </a:cubicBezTo>
                      <a:cubicBezTo>
                        <a:pt x="151" y="2013"/>
                        <a:pt x="127" y="1928"/>
                        <a:pt x="152" y="1986"/>
                      </a:cubicBezTo>
                      <a:cubicBezTo>
                        <a:pt x="167" y="2021"/>
                        <a:pt x="170" y="2050"/>
                        <a:pt x="194" y="2082"/>
                      </a:cubicBezTo>
                      <a:cubicBezTo>
                        <a:pt x="203" y="2109"/>
                        <a:pt x="212" y="2118"/>
                        <a:pt x="236" y="2136"/>
                      </a:cubicBezTo>
                      <a:cubicBezTo>
                        <a:pt x="250" y="2178"/>
                        <a:pt x="315" y="2247"/>
                        <a:pt x="350" y="2274"/>
                      </a:cubicBezTo>
                      <a:cubicBezTo>
                        <a:pt x="365" y="2304"/>
                        <a:pt x="391" y="2315"/>
                        <a:pt x="416" y="2340"/>
                      </a:cubicBezTo>
                      <a:cubicBezTo>
                        <a:pt x="442" y="2366"/>
                        <a:pt x="465" y="2406"/>
                        <a:pt x="500" y="2418"/>
                      </a:cubicBezTo>
                      <a:cubicBezTo>
                        <a:pt x="528" y="2446"/>
                        <a:pt x="511" y="2431"/>
                        <a:pt x="554" y="2460"/>
                      </a:cubicBezTo>
                      <a:cubicBezTo>
                        <a:pt x="560" y="2464"/>
                        <a:pt x="572" y="2472"/>
                        <a:pt x="572" y="2472"/>
                      </a:cubicBezTo>
                      <a:cubicBezTo>
                        <a:pt x="618" y="2457"/>
                        <a:pt x="596" y="2462"/>
                        <a:pt x="638" y="2454"/>
                      </a:cubicBezTo>
                      <a:cubicBezTo>
                        <a:pt x="656" y="2442"/>
                        <a:pt x="674" y="2430"/>
                        <a:pt x="692" y="2418"/>
                      </a:cubicBezTo>
                      <a:cubicBezTo>
                        <a:pt x="698" y="2414"/>
                        <a:pt x="710" y="2406"/>
                        <a:pt x="710" y="2406"/>
                      </a:cubicBezTo>
                      <a:cubicBezTo>
                        <a:pt x="745" y="2353"/>
                        <a:pt x="809" y="2319"/>
                        <a:pt x="854" y="2274"/>
                      </a:cubicBezTo>
                      <a:cubicBezTo>
                        <a:pt x="890" y="2238"/>
                        <a:pt x="857" y="2263"/>
                        <a:pt x="884" y="2232"/>
                      </a:cubicBezTo>
                      <a:cubicBezTo>
                        <a:pt x="884" y="2232"/>
                        <a:pt x="929" y="2187"/>
                        <a:pt x="938" y="2178"/>
                      </a:cubicBezTo>
                      <a:cubicBezTo>
                        <a:pt x="974" y="2142"/>
                        <a:pt x="942" y="2206"/>
                        <a:pt x="992" y="2130"/>
                      </a:cubicBezTo>
                      <a:cubicBezTo>
                        <a:pt x="1017" y="2092"/>
                        <a:pt x="1048" y="2059"/>
                        <a:pt x="1076" y="2022"/>
                      </a:cubicBezTo>
                      <a:cubicBezTo>
                        <a:pt x="1082" y="2014"/>
                        <a:pt x="1088" y="2006"/>
                        <a:pt x="1094" y="1998"/>
                      </a:cubicBezTo>
                      <a:cubicBezTo>
                        <a:pt x="1100" y="1990"/>
                        <a:pt x="1112" y="1974"/>
                        <a:pt x="1112" y="1974"/>
                      </a:cubicBezTo>
                      <a:cubicBezTo>
                        <a:pt x="1120" y="1949"/>
                        <a:pt x="1134" y="1924"/>
                        <a:pt x="1148" y="1902"/>
                      </a:cubicBezTo>
                      <a:cubicBezTo>
                        <a:pt x="1160" y="1852"/>
                        <a:pt x="1168" y="1802"/>
                        <a:pt x="1178" y="1752"/>
                      </a:cubicBezTo>
                      <a:cubicBezTo>
                        <a:pt x="1190" y="1579"/>
                        <a:pt x="1195" y="1401"/>
                        <a:pt x="1166" y="1230"/>
                      </a:cubicBezTo>
                      <a:cubicBezTo>
                        <a:pt x="1158" y="1185"/>
                        <a:pt x="1156" y="1125"/>
                        <a:pt x="1130" y="1086"/>
                      </a:cubicBezTo>
                      <a:cubicBezTo>
                        <a:pt x="1110" y="988"/>
                        <a:pt x="1066" y="888"/>
                        <a:pt x="1010" y="804"/>
                      </a:cubicBezTo>
                      <a:cubicBezTo>
                        <a:pt x="1000" y="789"/>
                        <a:pt x="995" y="766"/>
                        <a:pt x="986" y="750"/>
                      </a:cubicBezTo>
                      <a:cubicBezTo>
                        <a:pt x="954" y="692"/>
                        <a:pt x="919" y="623"/>
                        <a:pt x="872" y="576"/>
                      </a:cubicBezTo>
                      <a:cubicBezTo>
                        <a:pt x="864" y="551"/>
                        <a:pt x="846" y="520"/>
                        <a:pt x="830" y="498"/>
                      </a:cubicBezTo>
                      <a:cubicBezTo>
                        <a:pt x="808" y="467"/>
                        <a:pt x="816" y="494"/>
                        <a:pt x="800" y="462"/>
                      </a:cubicBezTo>
                      <a:cubicBezTo>
                        <a:pt x="788" y="438"/>
                        <a:pt x="784" y="422"/>
                        <a:pt x="764" y="402"/>
                      </a:cubicBezTo>
                      <a:cubicBezTo>
                        <a:pt x="752" y="354"/>
                        <a:pt x="724" y="314"/>
                        <a:pt x="704" y="270"/>
                      </a:cubicBezTo>
                      <a:cubicBezTo>
                        <a:pt x="696" y="253"/>
                        <a:pt x="697" y="232"/>
                        <a:pt x="686" y="216"/>
                      </a:cubicBezTo>
                      <a:cubicBezTo>
                        <a:pt x="663" y="182"/>
                        <a:pt x="646" y="144"/>
                        <a:pt x="626" y="108"/>
                      </a:cubicBezTo>
                      <a:cubicBezTo>
                        <a:pt x="607" y="74"/>
                        <a:pt x="572" y="40"/>
                        <a:pt x="572" y="0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50766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1" name="椭圆 2105"/>
                <p:cNvSpPr/>
                <p:nvPr/>
              </p:nvSpPr>
              <p:spPr>
                <a:xfrm>
                  <a:off x="2037240" y="4790880"/>
                  <a:ext cx="284400" cy="18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0074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2" name="任意多边形 2106"/>
                <p:cNvSpPr/>
                <p:nvPr/>
              </p:nvSpPr>
              <p:spPr>
                <a:xfrm flipH="1" rot="5626200">
                  <a:off x="1757160" y="4001400"/>
                  <a:ext cx="211680" cy="10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6531">
                      <a:moveTo>
                        <a:pt x="19805" y="0"/>
                      </a:moveTo>
                      <a:cubicBezTo>
                        <a:pt x="20961" y="2637"/>
                        <a:pt x="21600" y="5554"/>
                        <a:pt x="21600" y="8620"/>
                      </a:cubicBezTo>
                      <a:cubicBezTo>
                        <a:pt x="21600" y="16077"/>
                        <a:pt x="17822" y="22651"/>
                        <a:pt x="12076" y="26532"/>
                      </a:cubicBezTo>
                    </a:path>
                    <a:path stroke="0" w="21600" h="26531">
                      <a:moveTo>
                        <a:pt x="12073" y="26530"/>
                      </a:moveTo>
                      <a:cubicBezTo>
                        <a:pt x="12075" y="26919"/>
                        <a:pt x="12076" y="27314"/>
                        <a:pt x="12076" y="27713"/>
                      </a:cubicBezTo>
                      <a:cubicBezTo>
                        <a:pt x="12076" y="27913"/>
                        <a:pt x="12076" y="28113"/>
                        <a:pt x="12075" y="28308"/>
                      </a:cubicBezTo>
                      <a:lnTo>
                        <a:pt x="19805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85b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3" name="任意多边形 2107"/>
                <p:cNvSpPr/>
                <p:nvPr/>
              </p:nvSpPr>
              <p:spPr>
                <a:xfrm flipH="1" rot="6889200">
                  <a:off x="2014560" y="4146840"/>
                  <a:ext cx="211680" cy="534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028">
                      <a:moveTo>
                        <a:pt x="19805" y="0"/>
                      </a:moveTo>
                      <a:cubicBezTo>
                        <a:pt x="20961" y="2637"/>
                        <a:pt x="21600" y="5554"/>
                        <a:pt x="21600" y="8620"/>
                      </a:cubicBezTo>
                      <a:cubicBezTo>
                        <a:pt x="21600" y="11994"/>
                        <a:pt x="20826" y="15188"/>
                        <a:pt x="19447" y="18031"/>
                      </a:cubicBezTo>
                    </a:path>
                    <a:path stroke="0" w="21600" h="18028">
                      <a:moveTo>
                        <a:pt x="19443" y="18027"/>
                      </a:moveTo>
                      <a:cubicBezTo>
                        <a:pt x="19448" y="18699"/>
                        <a:pt x="19451" y="19387"/>
                        <a:pt x="19451" y="20086"/>
                      </a:cubicBezTo>
                      <a:cubicBezTo>
                        <a:pt x="19451" y="20286"/>
                        <a:pt x="19451" y="20486"/>
                        <a:pt x="19450" y="20681"/>
                      </a:cubicBezTo>
                      <a:lnTo>
                        <a:pt x="19805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869c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4" name="任意多边形 2108"/>
                <p:cNvSpPr/>
                <p:nvPr/>
              </p:nvSpPr>
              <p:spPr>
                <a:xfrm flipH="1" rot="4128600">
                  <a:off x="1950480" y="4286880"/>
                  <a:ext cx="212040" cy="886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9879">
                      <a:moveTo>
                        <a:pt x="19805" y="0"/>
                      </a:moveTo>
                      <a:cubicBezTo>
                        <a:pt x="20961" y="2637"/>
                        <a:pt x="21600" y="5554"/>
                        <a:pt x="21600" y="8620"/>
                      </a:cubicBezTo>
                      <a:cubicBezTo>
                        <a:pt x="21600" y="19244"/>
                        <a:pt x="13929" y="28077"/>
                        <a:pt x="3831" y="29881"/>
                      </a:cubicBezTo>
                    </a:path>
                    <a:path stroke="0" w="21600" h="29879">
                      <a:moveTo>
                        <a:pt x="3820" y="29879"/>
                      </a:moveTo>
                      <a:cubicBezTo>
                        <a:pt x="3821" y="30139"/>
                        <a:pt x="3821" y="30400"/>
                        <a:pt x="3821" y="30663"/>
                      </a:cubicBezTo>
                      <a:cubicBezTo>
                        <a:pt x="3821" y="30863"/>
                        <a:pt x="3821" y="31063"/>
                        <a:pt x="3820" y="31258"/>
                      </a:cubicBezTo>
                      <a:lnTo>
                        <a:pt x="19805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85b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5" name="任意多边形 2109"/>
                <p:cNvSpPr/>
                <p:nvPr/>
              </p:nvSpPr>
              <p:spPr>
                <a:xfrm flipH="1" rot="1821600">
                  <a:off x="2321280" y="4542480"/>
                  <a:ext cx="212040" cy="283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9561">
                      <a:moveTo>
                        <a:pt x="19805" y="0"/>
                      </a:moveTo>
                      <a:cubicBezTo>
                        <a:pt x="20961" y="2637"/>
                        <a:pt x="21600" y="5554"/>
                        <a:pt x="21600" y="8620"/>
                      </a:cubicBezTo>
                      <a:cubicBezTo>
                        <a:pt x="21600" y="8936"/>
                        <a:pt x="21593" y="9251"/>
                        <a:pt x="21580" y="9560"/>
                      </a:cubicBezTo>
                    </a:path>
                    <a:path stroke="0" w="21600" h="9561">
                      <a:moveTo>
                        <a:pt x="21579" y="9560"/>
                      </a:moveTo>
                      <a:cubicBezTo>
                        <a:pt x="21542" y="7909"/>
                        <a:pt x="21522" y="6117"/>
                        <a:pt x="21522" y="4246"/>
                      </a:cubicBezTo>
                      <a:cubicBezTo>
                        <a:pt x="21522" y="-4099"/>
                        <a:pt x="21924" y="-10864"/>
                        <a:pt x="22419" y="-10864"/>
                      </a:cubicBezTo>
                      <a:cubicBezTo>
                        <a:pt x="22914" y="-10864"/>
                        <a:pt x="23316" y="-4099"/>
                        <a:pt x="23316" y="4246"/>
                      </a:cubicBezTo>
                      <a:cubicBezTo>
                        <a:pt x="23316" y="4446"/>
                        <a:pt x="23316" y="4646"/>
                        <a:pt x="23315" y="4841"/>
                      </a:cubicBezTo>
                      <a:lnTo>
                        <a:pt x="19805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85b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6" name="任意多边形 2110"/>
                <p:cNvSpPr/>
                <p:nvPr/>
              </p:nvSpPr>
              <p:spPr>
                <a:xfrm flipH="1" rot="1821600">
                  <a:off x="2484000" y="4256640"/>
                  <a:ext cx="211680" cy="282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9561">
                      <a:moveTo>
                        <a:pt x="19805" y="0"/>
                      </a:moveTo>
                      <a:cubicBezTo>
                        <a:pt x="20961" y="2637"/>
                        <a:pt x="21600" y="5554"/>
                        <a:pt x="21600" y="8620"/>
                      </a:cubicBezTo>
                      <a:cubicBezTo>
                        <a:pt x="21600" y="8936"/>
                        <a:pt x="21593" y="9251"/>
                        <a:pt x="21580" y="9560"/>
                      </a:cubicBezTo>
                    </a:path>
                    <a:path stroke="0" w="21600" h="9561">
                      <a:moveTo>
                        <a:pt x="21579" y="9560"/>
                      </a:moveTo>
                      <a:cubicBezTo>
                        <a:pt x="21542" y="7909"/>
                        <a:pt x="21522" y="6117"/>
                        <a:pt x="21522" y="4246"/>
                      </a:cubicBezTo>
                      <a:cubicBezTo>
                        <a:pt x="21522" y="-4099"/>
                        <a:pt x="21924" y="-10864"/>
                        <a:pt x="22419" y="-10864"/>
                      </a:cubicBezTo>
                      <a:cubicBezTo>
                        <a:pt x="22914" y="-10864"/>
                        <a:pt x="23316" y="-4099"/>
                        <a:pt x="23316" y="4246"/>
                      </a:cubicBezTo>
                      <a:cubicBezTo>
                        <a:pt x="23316" y="4446"/>
                        <a:pt x="23316" y="4646"/>
                        <a:pt x="23315" y="4841"/>
                      </a:cubicBezTo>
                      <a:lnTo>
                        <a:pt x="19805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869c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7" name="任意多边形 2111"/>
                <p:cNvSpPr/>
                <p:nvPr/>
              </p:nvSpPr>
              <p:spPr>
                <a:xfrm flipH="1" rot="20405400">
                  <a:off x="2474280" y="4452480"/>
                  <a:ext cx="212040" cy="282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9561">
                      <a:moveTo>
                        <a:pt x="19805" y="0"/>
                      </a:moveTo>
                      <a:cubicBezTo>
                        <a:pt x="20961" y="2637"/>
                        <a:pt x="21600" y="5554"/>
                        <a:pt x="21600" y="8620"/>
                      </a:cubicBezTo>
                      <a:cubicBezTo>
                        <a:pt x="21600" y="8936"/>
                        <a:pt x="21593" y="9251"/>
                        <a:pt x="21580" y="9560"/>
                      </a:cubicBezTo>
                    </a:path>
                    <a:path stroke="0" w="21600" h="9561">
                      <a:moveTo>
                        <a:pt x="21579" y="9560"/>
                      </a:moveTo>
                      <a:cubicBezTo>
                        <a:pt x="21542" y="7909"/>
                        <a:pt x="21522" y="6117"/>
                        <a:pt x="21522" y="4246"/>
                      </a:cubicBezTo>
                      <a:cubicBezTo>
                        <a:pt x="21522" y="-4099"/>
                        <a:pt x="21924" y="-10864"/>
                        <a:pt x="22419" y="-10864"/>
                      </a:cubicBezTo>
                      <a:cubicBezTo>
                        <a:pt x="22914" y="-10864"/>
                        <a:pt x="23316" y="-4099"/>
                        <a:pt x="23316" y="4246"/>
                      </a:cubicBezTo>
                      <a:cubicBezTo>
                        <a:pt x="23316" y="4446"/>
                        <a:pt x="23316" y="4646"/>
                        <a:pt x="23315" y="4841"/>
                      </a:cubicBezTo>
                      <a:lnTo>
                        <a:pt x="1980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85b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8" name="椭圆 2112"/>
                <p:cNvSpPr/>
                <p:nvPr/>
              </p:nvSpPr>
              <p:spPr>
                <a:xfrm>
                  <a:off x="1610280" y="4648680"/>
                  <a:ext cx="426600" cy="28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0074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59" name="组合 2113"/>
              <p:cNvGrpSpPr/>
              <p:nvPr/>
            </p:nvGrpSpPr>
            <p:grpSpPr>
              <a:xfrm>
                <a:off x="2011680" y="3545640"/>
                <a:ext cx="1809000" cy="1135080"/>
                <a:chOff x="2011680" y="3545640"/>
                <a:chExt cx="1809000" cy="1135080"/>
              </a:xfrm>
            </p:grpSpPr>
            <p:grpSp>
              <p:nvGrpSpPr>
                <p:cNvPr id="160" name="组合 2114"/>
                <p:cNvGrpSpPr/>
                <p:nvPr/>
              </p:nvGrpSpPr>
              <p:grpSpPr>
                <a:xfrm>
                  <a:off x="2838600" y="3593880"/>
                  <a:ext cx="734040" cy="881280"/>
                  <a:chOff x="2838600" y="3593880"/>
                  <a:chExt cx="734040" cy="881280"/>
                </a:xfrm>
              </p:grpSpPr>
              <p:sp>
                <p:nvSpPr>
                  <p:cNvPr id="161" name="任意多边形 2115"/>
                  <p:cNvSpPr/>
                  <p:nvPr/>
                </p:nvSpPr>
                <p:spPr>
                  <a:xfrm rot="1922400">
                    <a:off x="3028320" y="3625200"/>
                    <a:ext cx="354240" cy="81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2" name="任意多边形 2116"/>
                  <p:cNvSpPr/>
                  <p:nvPr/>
                </p:nvSpPr>
                <p:spPr>
                  <a:xfrm rot="1922400">
                    <a:off x="3036240" y="3690360"/>
                    <a:ext cx="293400" cy="74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3" name="任意多边形 2117"/>
                  <p:cNvSpPr/>
                  <p:nvPr/>
                </p:nvSpPr>
                <p:spPr>
                  <a:xfrm rot="1922400">
                    <a:off x="3034800" y="3794760"/>
                    <a:ext cx="250920" cy="63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4" name="任意多边形 2118"/>
                  <p:cNvSpPr/>
                  <p:nvPr/>
                </p:nvSpPr>
                <p:spPr>
                  <a:xfrm rot="1922400">
                    <a:off x="3024720" y="3929400"/>
                    <a:ext cx="19296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5" name="任意多边形 2119"/>
                  <p:cNvSpPr/>
                  <p:nvPr/>
                </p:nvSpPr>
                <p:spPr>
                  <a:xfrm rot="1922400">
                    <a:off x="3055680" y="4031640"/>
                    <a:ext cx="77400" cy="3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66" name="组合 2120"/>
                <p:cNvGrpSpPr/>
                <p:nvPr/>
              </p:nvGrpSpPr>
              <p:grpSpPr>
                <a:xfrm>
                  <a:off x="2737080" y="3556440"/>
                  <a:ext cx="494280" cy="867960"/>
                  <a:chOff x="2737080" y="3556440"/>
                  <a:chExt cx="494280" cy="867960"/>
                </a:xfrm>
              </p:grpSpPr>
              <p:sp>
                <p:nvSpPr>
                  <p:cNvPr id="167" name="任意多边形 2121"/>
                  <p:cNvSpPr/>
                  <p:nvPr/>
                </p:nvSpPr>
                <p:spPr>
                  <a:xfrm rot="618000">
                    <a:off x="2806920" y="3581280"/>
                    <a:ext cx="353880" cy="81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8" name="任意多边形 2122"/>
                  <p:cNvSpPr/>
                  <p:nvPr/>
                </p:nvSpPr>
                <p:spPr>
                  <a:xfrm rot="618000">
                    <a:off x="2827440" y="3652560"/>
                    <a:ext cx="293040" cy="74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9" name="任意多边形 2123"/>
                  <p:cNvSpPr/>
                  <p:nvPr/>
                </p:nvSpPr>
                <p:spPr>
                  <a:xfrm rot="618000">
                    <a:off x="2845800" y="3762000"/>
                    <a:ext cx="250920" cy="63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0" name="任意多边形 2124"/>
                  <p:cNvSpPr/>
                  <p:nvPr/>
                </p:nvSpPr>
                <p:spPr>
                  <a:xfrm rot="618000">
                    <a:off x="2861280" y="3906000"/>
                    <a:ext cx="19260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1" name="任意多边形 2125"/>
                  <p:cNvSpPr/>
                  <p:nvPr/>
                </p:nvSpPr>
                <p:spPr>
                  <a:xfrm rot="618000">
                    <a:off x="2911680" y="4014720"/>
                    <a:ext cx="77040" cy="3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72" name="组合 2126"/>
                <p:cNvGrpSpPr/>
                <p:nvPr/>
              </p:nvGrpSpPr>
              <p:grpSpPr>
                <a:xfrm>
                  <a:off x="2415240" y="3545640"/>
                  <a:ext cx="606240" cy="889200"/>
                  <a:chOff x="2415240" y="3545640"/>
                  <a:chExt cx="606240" cy="889200"/>
                </a:xfrm>
              </p:grpSpPr>
              <p:sp>
                <p:nvSpPr>
                  <p:cNvPr id="173" name="任意多边形 2127"/>
                  <p:cNvSpPr/>
                  <p:nvPr/>
                </p:nvSpPr>
                <p:spPr>
                  <a:xfrm rot="20431200">
                    <a:off x="2541240" y="3581280"/>
                    <a:ext cx="353880" cy="81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4" name="任意多边形 2128"/>
                  <p:cNvSpPr/>
                  <p:nvPr/>
                </p:nvSpPr>
                <p:spPr>
                  <a:xfrm rot="20431200">
                    <a:off x="2580120" y="3652920"/>
                    <a:ext cx="293040" cy="74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5" name="任意多边形 2129"/>
                  <p:cNvSpPr/>
                  <p:nvPr/>
                </p:nvSpPr>
                <p:spPr>
                  <a:xfrm rot="20431200">
                    <a:off x="2626560" y="3756240"/>
                    <a:ext cx="250920" cy="63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6" name="任意多边形 2130"/>
                  <p:cNvSpPr/>
                  <p:nvPr/>
                </p:nvSpPr>
                <p:spPr>
                  <a:xfrm rot="20431200">
                    <a:off x="2679120" y="3897720"/>
                    <a:ext cx="19260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7" name="任意多边形 2131"/>
                  <p:cNvSpPr/>
                  <p:nvPr/>
                </p:nvSpPr>
                <p:spPr>
                  <a:xfrm rot="20431200">
                    <a:off x="2757600" y="4002840"/>
                    <a:ext cx="77040" cy="3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78" name="组合 2132"/>
                <p:cNvGrpSpPr/>
                <p:nvPr/>
              </p:nvGrpSpPr>
              <p:grpSpPr>
                <a:xfrm>
                  <a:off x="2085840" y="3705480"/>
                  <a:ext cx="822240" cy="834480"/>
                  <a:chOff x="2085840" y="3705480"/>
                  <a:chExt cx="822240" cy="834480"/>
                </a:xfrm>
              </p:grpSpPr>
              <p:sp>
                <p:nvSpPr>
                  <p:cNvPr id="179" name="任意多边形 2133"/>
                  <p:cNvSpPr/>
                  <p:nvPr/>
                </p:nvSpPr>
                <p:spPr>
                  <a:xfrm rot="18963600">
                    <a:off x="2319840" y="3713400"/>
                    <a:ext cx="353880" cy="81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0" name="任意多边形 2134"/>
                  <p:cNvSpPr/>
                  <p:nvPr/>
                </p:nvSpPr>
                <p:spPr>
                  <a:xfrm rot="18963600">
                    <a:off x="2372760" y="3778200"/>
                    <a:ext cx="293040" cy="74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1" name="任意多边形 2135"/>
                  <p:cNvSpPr/>
                  <p:nvPr/>
                </p:nvSpPr>
                <p:spPr>
                  <a:xfrm rot="18963600">
                    <a:off x="2436840" y="3866760"/>
                    <a:ext cx="250920" cy="63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2" name="任意多边形 2136"/>
                  <p:cNvSpPr/>
                  <p:nvPr/>
                </p:nvSpPr>
                <p:spPr>
                  <a:xfrm rot="18963600">
                    <a:off x="2516400" y="3992760"/>
                    <a:ext cx="19260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3" name="任意多边形 2137"/>
                  <p:cNvSpPr/>
                  <p:nvPr/>
                </p:nvSpPr>
                <p:spPr>
                  <a:xfrm rot="18963600">
                    <a:off x="2613240" y="4085280"/>
                    <a:ext cx="77040" cy="3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84" name="组合 2138"/>
                <p:cNvGrpSpPr/>
                <p:nvPr/>
              </p:nvGrpSpPr>
              <p:grpSpPr>
                <a:xfrm>
                  <a:off x="2926800" y="3904560"/>
                  <a:ext cx="893880" cy="766080"/>
                  <a:chOff x="2926800" y="3904560"/>
                  <a:chExt cx="893880" cy="766080"/>
                </a:xfrm>
              </p:grpSpPr>
              <p:sp>
                <p:nvSpPr>
                  <p:cNvPr id="185" name="任意多边形 2139"/>
                  <p:cNvSpPr/>
                  <p:nvPr/>
                </p:nvSpPr>
                <p:spPr>
                  <a:xfrm rot="3340800">
                    <a:off x="3196800" y="3867120"/>
                    <a:ext cx="353520" cy="84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6" name="任意多边形 2140"/>
                  <p:cNvSpPr/>
                  <p:nvPr/>
                </p:nvSpPr>
                <p:spPr>
                  <a:xfrm rot="3340800">
                    <a:off x="3194280" y="3922200"/>
                    <a:ext cx="292680" cy="76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7" name="任意多边形 2141"/>
                  <p:cNvSpPr/>
                  <p:nvPr/>
                </p:nvSpPr>
                <p:spPr>
                  <a:xfrm rot="3340800">
                    <a:off x="3172680" y="4016160"/>
                    <a:ext cx="25056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8" name="任意多边形 2142"/>
                  <p:cNvSpPr/>
                  <p:nvPr/>
                </p:nvSpPr>
                <p:spPr>
                  <a:xfrm rot="3340800">
                    <a:off x="3139920" y="4132440"/>
                    <a:ext cx="192600" cy="50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89" name="任意多边形 2143"/>
                  <p:cNvSpPr/>
                  <p:nvPr/>
                </p:nvSpPr>
                <p:spPr>
                  <a:xfrm rot="3340800">
                    <a:off x="3152880" y="4222080"/>
                    <a:ext cx="77040" cy="39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90" name="组合 2144"/>
                <p:cNvGrpSpPr/>
                <p:nvPr/>
              </p:nvGrpSpPr>
              <p:grpSpPr>
                <a:xfrm>
                  <a:off x="2011680" y="3911760"/>
                  <a:ext cx="869760" cy="768960"/>
                  <a:chOff x="2011680" y="3911760"/>
                  <a:chExt cx="869760" cy="768960"/>
                </a:xfrm>
              </p:grpSpPr>
              <p:sp>
                <p:nvSpPr>
                  <p:cNvPr id="191" name="任意多边形 2145"/>
                  <p:cNvSpPr/>
                  <p:nvPr/>
                </p:nvSpPr>
                <p:spPr>
                  <a:xfrm rot="18372000">
                    <a:off x="2269440" y="3886560"/>
                    <a:ext cx="353520" cy="81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92" name="任意多边形 2146"/>
                  <p:cNvSpPr/>
                  <p:nvPr/>
                </p:nvSpPr>
                <p:spPr>
                  <a:xfrm rot="18372000">
                    <a:off x="2327040" y="3947040"/>
                    <a:ext cx="292680" cy="74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93" name="任意多边形 2147"/>
                  <p:cNvSpPr/>
                  <p:nvPr/>
                </p:nvSpPr>
                <p:spPr>
                  <a:xfrm rot="18372000">
                    <a:off x="2396520" y="4028040"/>
                    <a:ext cx="250560" cy="63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94" name="任意多边形 2148"/>
                  <p:cNvSpPr/>
                  <p:nvPr/>
                </p:nvSpPr>
                <p:spPr>
                  <a:xfrm rot="18372000">
                    <a:off x="2484360" y="4144320"/>
                    <a:ext cx="1926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95" name="任意多边形 2149"/>
                  <p:cNvSpPr/>
                  <p:nvPr/>
                </p:nvSpPr>
                <p:spPr>
                  <a:xfrm rot="18372000">
                    <a:off x="2587320" y="4229280"/>
                    <a:ext cx="77040" cy="38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96" name="组合 2150"/>
                <p:cNvGrpSpPr/>
                <p:nvPr/>
              </p:nvGrpSpPr>
              <p:grpSpPr>
                <a:xfrm>
                  <a:off x="2249640" y="3673440"/>
                  <a:ext cx="738360" cy="923760"/>
                  <a:chOff x="2249640" y="3673440"/>
                  <a:chExt cx="738360" cy="923760"/>
                </a:xfrm>
              </p:grpSpPr>
              <p:sp>
                <p:nvSpPr>
                  <p:cNvPr id="197" name="任意多边形 2151"/>
                  <p:cNvSpPr/>
                  <p:nvPr/>
                </p:nvSpPr>
                <p:spPr>
                  <a:xfrm rot="19795800">
                    <a:off x="2441520" y="3704040"/>
                    <a:ext cx="353880" cy="86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98" name="任意多边形 2152"/>
                  <p:cNvSpPr/>
                  <p:nvPr/>
                </p:nvSpPr>
                <p:spPr>
                  <a:xfrm rot="19795800">
                    <a:off x="2487960" y="3777480"/>
                    <a:ext cx="293040" cy="78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99" name="任意多边形 2153"/>
                  <p:cNvSpPr/>
                  <p:nvPr/>
                </p:nvSpPr>
                <p:spPr>
                  <a:xfrm rot="19795800">
                    <a:off x="2544120" y="3881160"/>
                    <a:ext cx="250920" cy="67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00" name="任意多边形 2154"/>
                  <p:cNvSpPr/>
                  <p:nvPr/>
                </p:nvSpPr>
                <p:spPr>
                  <a:xfrm rot="19795800">
                    <a:off x="2611440" y="4024440"/>
                    <a:ext cx="19260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01" name="任意多边形 2155"/>
                  <p:cNvSpPr/>
                  <p:nvPr/>
                </p:nvSpPr>
                <p:spPr>
                  <a:xfrm rot="19795800">
                    <a:off x="2699640" y="4130280"/>
                    <a:ext cx="7704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202" name="组合 2156"/>
                <p:cNvGrpSpPr/>
                <p:nvPr/>
              </p:nvGrpSpPr>
              <p:grpSpPr>
                <a:xfrm>
                  <a:off x="2652120" y="3669840"/>
                  <a:ext cx="353880" cy="817920"/>
                  <a:chOff x="2652120" y="3669840"/>
                  <a:chExt cx="353880" cy="817920"/>
                </a:xfrm>
              </p:grpSpPr>
              <p:sp>
                <p:nvSpPr>
                  <p:cNvPr id="203" name="任意多边形 2157"/>
                  <p:cNvSpPr/>
                  <p:nvPr/>
                </p:nvSpPr>
                <p:spPr>
                  <a:xfrm>
                    <a:off x="2652120" y="3669840"/>
                    <a:ext cx="353880" cy="81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04" name="任意多边形 2158"/>
                  <p:cNvSpPr/>
                  <p:nvPr/>
                </p:nvSpPr>
                <p:spPr>
                  <a:xfrm>
                    <a:off x="2678760" y="3742200"/>
                    <a:ext cx="293040" cy="74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05" name="任意多边形 2159"/>
                  <p:cNvSpPr/>
                  <p:nvPr/>
                </p:nvSpPr>
                <p:spPr>
                  <a:xfrm>
                    <a:off x="2707200" y="3851280"/>
                    <a:ext cx="250920" cy="63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06" name="任意多边形 2160"/>
                  <p:cNvSpPr/>
                  <p:nvPr/>
                </p:nvSpPr>
                <p:spPr>
                  <a:xfrm>
                    <a:off x="2735640" y="3997080"/>
                    <a:ext cx="19260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07" name="任意多边形 2161"/>
                  <p:cNvSpPr/>
                  <p:nvPr/>
                </p:nvSpPr>
                <p:spPr>
                  <a:xfrm>
                    <a:off x="2795760" y="4106160"/>
                    <a:ext cx="77040" cy="3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208" name="组合 2162"/>
                <p:cNvGrpSpPr/>
                <p:nvPr/>
              </p:nvGrpSpPr>
              <p:grpSpPr>
                <a:xfrm>
                  <a:off x="2714040" y="3629160"/>
                  <a:ext cx="663480" cy="932040"/>
                  <a:chOff x="2714040" y="3629160"/>
                  <a:chExt cx="663480" cy="932040"/>
                </a:xfrm>
              </p:grpSpPr>
              <p:sp>
                <p:nvSpPr>
                  <p:cNvPr id="209" name="任意多边形 2163"/>
                  <p:cNvSpPr/>
                  <p:nvPr/>
                </p:nvSpPr>
                <p:spPr>
                  <a:xfrm rot="1381200">
                    <a:off x="2868480" y="3664080"/>
                    <a:ext cx="354240" cy="86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0" name="任意多边形 2164"/>
                  <p:cNvSpPr/>
                  <p:nvPr/>
                </p:nvSpPr>
                <p:spPr>
                  <a:xfrm rot="1381200">
                    <a:off x="2880360" y="3735720"/>
                    <a:ext cx="293400" cy="78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1" name="任意多边形 2165"/>
                  <p:cNvSpPr/>
                  <p:nvPr/>
                </p:nvSpPr>
                <p:spPr>
                  <a:xfrm rot="1381200">
                    <a:off x="2885760" y="3849120"/>
                    <a:ext cx="250920" cy="67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2" name="任意多边形 2166"/>
                  <p:cNvSpPr/>
                  <p:nvPr/>
                </p:nvSpPr>
                <p:spPr>
                  <a:xfrm rot="1381200">
                    <a:off x="2884680" y="3996360"/>
                    <a:ext cx="19296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3" name="任意多边形 2167"/>
                  <p:cNvSpPr/>
                  <p:nvPr/>
                </p:nvSpPr>
                <p:spPr>
                  <a:xfrm rot="1381200">
                    <a:off x="2922480" y="4107600"/>
                    <a:ext cx="7740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214" name="组合 2168"/>
                <p:cNvGrpSpPr/>
                <p:nvPr/>
              </p:nvGrpSpPr>
              <p:grpSpPr>
                <a:xfrm>
                  <a:off x="2779200" y="3742920"/>
                  <a:ext cx="888480" cy="885240"/>
                  <a:chOff x="2779200" y="3742920"/>
                  <a:chExt cx="888480" cy="885240"/>
                </a:xfrm>
              </p:grpSpPr>
              <p:sp>
                <p:nvSpPr>
                  <p:cNvPr id="215" name="任意多边形 2169"/>
                  <p:cNvSpPr/>
                  <p:nvPr/>
                </p:nvSpPr>
                <p:spPr>
                  <a:xfrm rot="2715600">
                    <a:off x="3046680" y="3735000"/>
                    <a:ext cx="353520" cy="90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6" name="任意多边形 2170"/>
                  <p:cNvSpPr/>
                  <p:nvPr/>
                </p:nvSpPr>
                <p:spPr>
                  <a:xfrm rot="2715600">
                    <a:off x="3045600" y="3800160"/>
                    <a:ext cx="29268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c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7" name="任意多边形 2171"/>
                  <p:cNvSpPr/>
                  <p:nvPr/>
                </p:nvSpPr>
                <p:spPr>
                  <a:xfrm rot="2715600">
                    <a:off x="3029400" y="3907800"/>
                    <a:ext cx="250560" cy="70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8" name="任意多边形 2172"/>
                  <p:cNvSpPr/>
                  <p:nvPr/>
                </p:nvSpPr>
                <p:spPr>
                  <a:xfrm rot="2715600">
                    <a:off x="3000960" y="4043880"/>
                    <a:ext cx="192600" cy="54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ff69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219" name="任意多边形 2173"/>
                  <p:cNvSpPr/>
                  <p:nvPr/>
                </p:nvSpPr>
                <p:spPr>
                  <a:xfrm rot="2715600">
                    <a:off x="3017880" y="4147920"/>
                    <a:ext cx="77040" cy="42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5" h="2472">
                        <a:moveTo>
                          <a:pt x="572" y="0"/>
                        </a:moveTo>
                        <a:cubicBezTo>
                          <a:pt x="532" y="60"/>
                          <a:pt x="501" y="125"/>
                          <a:pt x="464" y="186"/>
                        </a:cubicBezTo>
                        <a:cubicBezTo>
                          <a:pt x="444" y="220"/>
                          <a:pt x="424" y="254"/>
                          <a:pt x="404" y="288"/>
                        </a:cubicBezTo>
                        <a:cubicBezTo>
                          <a:pt x="397" y="300"/>
                          <a:pt x="385" y="311"/>
                          <a:pt x="380" y="324"/>
                        </a:cubicBezTo>
                        <a:cubicBezTo>
                          <a:pt x="364" y="364"/>
                          <a:pt x="341" y="401"/>
                          <a:pt x="320" y="438"/>
                        </a:cubicBezTo>
                        <a:cubicBezTo>
                          <a:pt x="294" y="483"/>
                          <a:pt x="277" y="532"/>
                          <a:pt x="248" y="576"/>
                        </a:cubicBezTo>
                        <a:cubicBezTo>
                          <a:pt x="234" y="645"/>
                          <a:pt x="198" y="710"/>
                          <a:pt x="170" y="774"/>
                        </a:cubicBezTo>
                        <a:cubicBezTo>
                          <a:pt x="154" y="810"/>
                          <a:pt x="150" y="849"/>
                          <a:pt x="128" y="882"/>
                        </a:cubicBezTo>
                        <a:cubicBezTo>
                          <a:pt x="114" y="951"/>
                          <a:pt x="89" y="1017"/>
                          <a:pt x="74" y="1086"/>
                        </a:cubicBezTo>
                        <a:cubicBezTo>
                          <a:pt x="60" y="1148"/>
                          <a:pt x="56" y="1241"/>
                          <a:pt x="38" y="1296"/>
                        </a:cubicBezTo>
                        <a:cubicBezTo>
                          <a:pt x="23" y="1432"/>
                          <a:pt x="0" y="1591"/>
                          <a:pt x="44" y="1722"/>
                        </a:cubicBezTo>
                        <a:cubicBezTo>
                          <a:pt x="52" y="1775"/>
                          <a:pt x="68" y="1839"/>
                          <a:pt x="98" y="1884"/>
                        </a:cubicBezTo>
                        <a:cubicBezTo>
                          <a:pt x="105" y="1912"/>
                          <a:pt x="113" y="1923"/>
                          <a:pt x="134" y="1944"/>
                        </a:cubicBezTo>
                        <a:cubicBezTo>
                          <a:pt x="151" y="2013"/>
                          <a:pt x="127" y="1928"/>
                          <a:pt x="152" y="1986"/>
                        </a:cubicBezTo>
                        <a:cubicBezTo>
                          <a:pt x="167" y="2021"/>
                          <a:pt x="170" y="2050"/>
                          <a:pt x="194" y="2082"/>
                        </a:cubicBezTo>
                        <a:cubicBezTo>
                          <a:pt x="203" y="2109"/>
                          <a:pt x="212" y="2118"/>
                          <a:pt x="236" y="2136"/>
                        </a:cubicBezTo>
                        <a:cubicBezTo>
                          <a:pt x="250" y="2178"/>
                          <a:pt x="315" y="2247"/>
                          <a:pt x="350" y="2274"/>
                        </a:cubicBezTo>
                        <a:cubicBezTo>
                          <a:pt x="365" y="2304"/>
                          <a:pt x="391" y="2315"/>
                          <a:pt x="416" y="2340"/>
                        </a:cubicBezTo>
                        <a:cubicBezTo>
                          <a:pt x="442" y="2366"/>
                          <a:pt x="465" y="2406"/>
                          <a:pt x="500" y="2418"/>
                        </a:cubicBezTo>
                        <a:cubicBezTo>
                          <a:pt x="528" y="2446"/>
                          <a:pt x="511" y="2431"/>
                          <a:pt x="554" y="2460"/>
                        </a:cubicBezTo>
                        <a:cubicBezTo>
                          <a:pt x="560" y="2464"/>
                          <a:pt x="572" y="2472"/>
                          <a:pt x="572" y="2472"/>
                        </a:cubicBezTo>
                        <a:cubicBezTo>
                          <a:pt x="618" y="2457"/>
                          <a:pt x="596" y="2462"/>
                          <a:pt x="638" y="2454"/>
                        </a:cubicBezTo>
                        <a:cubicBezTo>
                          <a:pt x="656" y="2442"/>
                          <a:pt x="674" y="2430"/>
                          <a:pt x="692" y="2418"/>
                        </a:cubicBezTo>
                        <a:cubicBezTo>
                          <a:pt x="698" y="2414"/>
                          <a:pt x="710" y="2406"/>
                          <a:pt x="710" y="2406"/>
                        </a:cubicBezTo>
                        <a:cubicBezTo>
                          <a:pt x="745" y="2353"/>
                          <a:pt x="809" y="2319"/>
                          <a:pt x="854" y="2274"/>
                        </a:cubicBezTo>
                        <a:cubicBezTo>
                          <a:pt x="890" y="2238"/>
                          <a:pt x="857" y="2263"/>
                          <a:pt x="884" y="2232"/>
                        </a:cubicBezTo>
                        <a:cubicBezTo>
                          <a:pt x="884" y="2232"/>
                          <a:pt x="929" y="2187"/>
                          <a:pt x="938" y="2178"/>
                        </a:cubicBezTo>
                        <a:cubicBezTo>
                          <a:pt x="974" y="2142"/>
                          <a:pt x="942" y="2206"/>
                          <a:pt x="992" y="2130"/>
                        </a:cubicBezTo>
                        <a:cubicBezTo>
                          <a:pt x="1017" y="2092"/>
                          <a:pt x="1048" y="2059"/>
                          <a:pt x="1076" y="2022"/>
                        </a:cubicBezTo>
                        <a:cubicBezTo>
                          <a:pt x="1082" y="2014"/>
                          <a:pt x="1088" y="2006"/>
                          <a:pt x="1094" y="1998"/>
                        </a:cubicBezTo>
                        <a:cubicBezTo>
                          <a:pt x="1100" y="1990"/>
                          <a:pt x="1112" y="1974"/>
                          <a:pt x="1112" y="1974"/>
                        </a:cubicBezTo>
                        <a:cubicBezTo>
                          <a:pt x="1120" y="1949"/>
                          <a:pt x="1134" y="1924"/>
                          <a:pt x="1148" y="1902"/>
                        </a:cubicBezTo>
                        <a:cubicBezTo>
                          <a:pt x="1160" y="1852"/>
                          <a:pt x="1168" y="1802"/>
                          <a:pt x="1178" y="1752"/>
                        </a:cubicBezTo>
                        <a:cubicBezTo>
                          <a:pt x="1190" y="1579"/>
                          <a:pt x="1195" y="1401"/>
                          <a:pt x="1166" y="1230"/>
                        </a:cubicBezTo>
                        <a:cubicBezTo>
                          <a:pt x="1158" y="1185"/>
                          <a:pt x="1156" y="1125"/>
                          <a:pt x="1130" y="1086"/>
                        </a:cubicBezTo>
                        <a:cubicBezTo>
                          <a:pt x="1110" y="988"/>
                          <a:pt x="1066" y="888"/>
                          <a:pt x="1010" y="804"/>
                        </a:cubicBezTo>
                        <a:cubicBezTo>
                          <a:pt x="1000" y="789"/>
                          <a:pt x="995" y="766"/>
                          <a:pt x="986" y="750"/>
                        </a:cubicBezTo>
                        <a:cubicBezTo>
                          <a:pt x="954" y="692"/>
                          <a:pt x="919" y="623"/>
                          <a:pt x="872" y="576"/>
                        </a:cubicBezTo>
                        <a:cubicBezTo>
                          <a:pt x="864" y="551"/>
                          <a:pt x="846" y="520"/>
                          <a:pt x="830" y="498"/>
                        </a:cubicBezTo>
                        <a:cubicBezTo>
                          <a:pt x="808" y="467"/>
                          <a:pt x="816" y="494"/>
                          <a:pt x="800" y="462"/>
                        </a:cubicBezTo>
                        <a:cubicBezTo>
                          <a:pt x="788" y="438"/>
                          <a:pt x="784" y="422"/>
                          <a:pt x="764" y="402"/>
                        </a:cubicBezTo>
                        <a:cubicBezTo>
                          <a:pt x="752" y="354"/>
                          <a:pt x="724" y="314"/>
                          <a:pt x="704" y="270"/>
                        </a:cubicBezTo>
                        <a:cubicBezTo>
                          <a:pt x="696" y="253"/>
                          <a:pt x="697" y="232"/>
                          <a:pt x="686" y="216"/>
                        </a:cubicBezTo>
                        <a:cubicBezTo>
                          <a:pt x="663" y="182"/>
                          <a:pt x="646" y="144"/>
                          <a:pt x="626" y="108"/>
                        </a:cubicBezTo>
                        <a:cubicBezTo>
                          <a:pt x="607" y="74"/>
                          <a:pt x="572" y="40"/>
                          <a:pt x="572" y="0"/>
                        </a:cubicBezTo>
                        <a:close/>
                      </a:path>
                    </a:pathLst>
                  </a:custGeom>
                  <a:solidFill>
                    <a:srgbClr val="ec0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220" name="组合 2174"/>
            <p:cNvGrpSpPr/>
            <p:nvPr/>
          </p:nvGrpSpPr>
          <p:grpSpPr>
            <a:xfrm>
              <a:off x="685800" y="3865680"/>
              <a:ext cx="782280" cy="401040"/>
              <a:chOff x="685800" y="3865680"/>
              <a:chExt cx="782280" cy="401040"/>
            </a:xfrm>
          </p:grpSpPr>
          <p:sp>
            <p:nvSpPr>
              <p:cNvPr id="221" name="任意多边形 2175"/>
              <p:cNvSpPr/>
              <p:nvPr/>
            </p:nvSpPr>
            <p:spPr>
              <a:xfrm>
                <a:off x="685800" y="3865680"/>
                <a:ext cx="782280" cy="3916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2692" y="26254"/>
                    </a:moveTo>
                    <a:cubicBezTo>
                      <a:pt x="40561" y="35952"/>
                      <a:pt x="31927" y="43200"/>
                      <a:pt x="21599" y="43200"/>
                    </a:cubicBezTo>
                    <a:cubicBezTo>
                      <a:pt x="9670" y="43200"/>
                      <a:pt x="-1" y="33529"/>
                      <a:pt x="-1" y="21600"/>
                    </a:cubicBezTo>
                    <a:cubicBezTo>
                      <a:pt x="-1" y="9671"/>
                      <a:pt x="9670" y="0"/>
                      <a:pt x="21599" y="0"/>
                    </a:cubicBezTo>
                    <a:cubicBezTo>
                      <a:pt x="33528" y="0"/>
                      <a:pt x="43199" y="9671"/>
                      <a:pt x="43199" y="21600"/>
                    </a:cubicBezTo>
                  </a:path>
                  <a:path stroke="0" w="43200" h="43200">
                    <a:moveTo>
                      <a:pt x="43200" y="21600"/>
                    </a:moveTo>
                    <a:cubicBezTo>
                      <a:pt x="43130" y="20091"/>
                      <a:pt x="43084" y="17466"/>
                      <a:pt x="43084" y="14481"/>
                    </a:cubicBezTo>
                    <a:cubicBezTo>
                      <a:pt x="43084" y="9801"/>
                      <a:pt x="43198" y="6008"/>
                      <a:pt x="43338" y="6008"/>
                    </a:cubicBezTo>
                    <a:cubicBezTo>
                      <a:pt x="43478" y="6008"/>
                      <a:pt x="43592" y="9801"/>
                      <a:pt x="43592" y="14481"/>
                    </a:cubicBezTo>
                    <a:cubicBezTo>
                      <a:pt x="43592" y="14550"/>
                      <a:pt x="43592" y="14619"/>
                      <a:pt x="43592" y="14686"/>
                    </a:cubicBezTo>
                    <a:lnTo>
                      <a:pt x="42692" y="262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9c00"/>
                  </a:gs>
                  <a:gs pos="100000">
                    <a:srgbClr val="cc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52300" dir="4563564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2" name="任意多边形 2176"/>
              <p:cNvSpPr/>
              <p:nvPr/>
            </p:nvSpPr>
            <p:spPr>
              <a:xfrm flipH="1" rot="5626200">
                <a:off x="894600" y="3900240"/>
                <a:ext cx="116280" cy="374760"/>
              </a:xfrm>
              <a:custGeom>
                <a:avLst/>
                <a:gdLst/>
                <a:ahLst/>
                <a:rect l="l" t="t" r="r" b="b"/>
                <a:pathLst>
                  <a:path fill="none" w="21600" h="23006">
                    <a:moveTo>
                      <a:pt x="19805" y="0"/>
                    </a:moveTo>
                    <a:cubicBezTo>
                      <a:pt x="20961" y="2637"/>
                      <a:pt x="21600" y="5554"/>
                      <a:pt x="21600" y="8620"/>
                    </a:cubicBezTo>
                    <a:cubicBezTo>
                      <a:pt x="21600" y="14145"/>
                      <a:pt x="19525" y="19186"/>
                      <a:pt x="16113" y="23006"/>
                    </a:cubicBezTo>
                  </a:path>
                  <a:path stroke="0" w="21600" h="23006">
                    <a:moveTo>
                      <a:pt x="16112" y="23005"/>
                    </a:moveTo>
                    <a:cubicBezTo>
                      <a:pt x="16115" y="23509"/>
                      <a:pt x="16117" y="24021"/>
                      <a:pt x="16117" y="24540"/>
                    </a:cubicBezTo>
                    <a:cubicBezTo>
                      <a:pt x="16117" y="24740"/>
                      <a:pt x="16117" y="24940"/>
                      <a:pt x="16116" y="25135"/>
                    </a:cubicBezTo>
                    <a:lnTo>
                      <a:pt x="19805" y="0"/>
                    </a:lnTo>
                    <a:close/>
                  </a:path>
                </a:pathLst>
              </a:custGeom>
              <a:noFill/>
              <a:ln w="19080">
                <a:solidFill>
                  <a:srgbClr val="dac3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3" name="任意多边形 2177"/>
              <p:cNvSpPr/>
              <p:nvPr/>
            </p:nvSpPr>
            <p:spPr>
              <a:xfrm flipH="1" rot="6889200">
                <a:off x="932400" y="3869280"/>
                <a:ext cx="116640" cy="294120"/>
              </a:xfrm>
              <a:custGeom>
                <a:avLst/>
                <a:gdLst/>
                <a:ahLst/>
                <a:rect l="l" t="t" r="r" b="b"/>
                <a:pathLst>
                  <a:path fill="none" w="21600" h="18028">
                    <a:moveTo>
                      <a:pt x="19805" y="0"/>
                    </a:moveTo>
                    <a:cubicBezTo>
                      <a:pt x="20961" y="2637"/>
                      <a:pt x="21600" y="5554"/>
                      <a:pt x="21600" y="8620"/>
                    </a:cubicBezTo>
                    <a:cubicBezTo>
                      <a:pt x="21600" y="11994"/>
                      <a:pt x="20826" y="15188"/>
                      <a:pt x="19447" y="18031"/>
                    </a:cubicBezTo>
                  </a:path>
                  <a:path stroke="0" w="21600" h="18028">
                    <a:moveTo>
                      <a:pt x="19443" y="18027"/>
                    </a:moveTo>
                    <a:cubicBezTo>
                      <a:pt x="19448" y="18699"/>
                      <a:pt x="19451" y="19387"/>
                      <a:pt x="19451" y="20086"/>
                    </a:cubicBezTo>
                    <a:cubicBezTo>
                      <a:pt x="19451" y="20286"/>
                      <a:pt x="19451" y="20486"/>
                      <a:pt x="19450" y="20681"/>
                    </a:cubicBezTo>
                    <a:lnTo>
                      <a:pt x="19805" y="0"/>
                    </a:lnTo>
                    <a:close/>
                  </a:path>
                </a:pathLst>
              </a:custGeom>
              <a:noFill/>
              <a:ln w="19080">
                <a:solidFill>
                  <a:srgbClr val="dac3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4" name="任意多边形 2178"/>
              <p:cNvSpPr/>
              <p:nvPr/>
            </p:nvSpPr>
            <p:spPr>
              <a:xfrm flipH="1" rot="4128600">
                <a:off x="984600" y="4006440"/>
                <a:ext cx="116280" cy="294120"/>
              </a:xfrm>
              <a:custGeom>
                <a:avLst/>
                <a:gdLst/>
                <a:ahLst/>
                <a:rect l="l" t="t" r="r" b="b"/>
                <a:pathLst>
                  <a:path fill="none" w="21600" h="18035">
                    <a:moveTo>
                      <a:pt x="19805" y="0"/>
                    </a:moveTo>
                    <a:cubicBezTo>
                      <a:pt x="20961" y="2637"/>
                      <a:pt x="21600" y="5554"/>
                      <a:pt x="21600" y="8620"/>
                    </a:cubicBezTo>
                    <a:cubicBezTo>
                      <a:pt x="21600" y="11998"/>
                      <a:pt x="20825" y="15194"/>
                      <a:pt x="19444" y="18039"/>
                    </a:cubicBezTo>
                  </a:path>
                  <a:path stroke="0" w="21600" h="18035">
                    <a:moveTo>
                      <a:pt x="19439" y="18035"/>
                    </a:moveTo>
                    <a:cubicBezTo>
                      <a:pt x="19444" y="18707"/>
                      <a:pt x="19447" y="19394"/>
                      <a:pt x="19447" y="20093"/>
                    </a:cubicBezTo>
                    <a:cubicBezTo>
                      <a:pt x="19447" y="20293"/>
                      <a:pt x="19447" y="20493"/>
                      <a:pt x="19446" y="20688"/>
                    </a:cubicBezTo>
                    <a:lnTo>
                      <a:pt x="19805" y="0"/>
                    </a:lnTo>
                    <a:close/>
                  </a:path>
                </a:pathLst>
              </a:custGeom>
              <a:noFill/>
              <a:ln w="19080">
                <a:solidFill>
                  <a:srgbClr val="dac3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5" name="任意多边形 2179"/>
              <p:cNvSpPr/>
              <p:nvPr/>
            </p:nvSpPr>
            <p:spPr>
              <a:xfrm flipH="1" rot="1821600">
                <a:off x="1095480" y="4092480"/>
                <a:ext cx="116280" cy="155520"/>
              </a:xfrm>
              <a:custGeom>
                <a:avLst/>
                <a:gdLst/>
                <a:ahLst/>
                <a:rect l="l" t="t" r="r" b="b"/>
                <a:pathLst>
                  <a:path fill="none" w="21600" h="9561">
                    <a:moveTo>
                      <a:pt x="19805" y="0"/>
                    </a:moveTo>
                    <a:cubicBezTo>
                      <a:pt x="20961" y="2637"/>
                      <a:pt x="21600" y="5554"/>
                      <a:pt x="21600" y="8620"/>
                    </a:cubicBezTo>
                    <a:cubicBezTo>
                      <a:pt x="21600" y="8936"/>
                      <a:pt x="21593" y="9251"/>
                      <a:pt x="21580" y="9560"/>
                    </a:cubicBezTo>
                  </a:path>
                  <a:path stroke="0" w="21600" h="9561">
                    <a:moveTo>
                      <a:pt x="21579" y="9560"/>
                    </a:moveTo>
                    <a:cubicBezTo>
                      <a:pt x="21542" y="7909"/>
                      <a:pt x="21522" y="6117"/>
                      <a:pt x="21522" y="4246"/>
                    </a:cubicBezTo>
                    <a:cubicBezTo>
                      <a:pt x="21522" y="-4099"/>
                      <a:pt x="21924" y="-10864"/>
                      <a:pt x="22419" y="-10864"/>
                    </a:cubicBezTo>
                    <a:cubicBezTo>
                      <a:pt x="22914" y="-10864"/>
                      <a:pt x="23316" y="-4099"/>
                      <a:pt x="23316" y="4246"/>
                    </a:cubicBezTo>
                    <a:cubicBezTo>
                      <a:pt x="23316" y="4446"/>
                      <a:pt x="23316" y="4646"/>
                      <a:pt x="23315" y="4841"/>
                    </a:cubicBezTo>
                    <a:lnTo>
                      <a:pt x="19805" y="0"/>
                    </a:lnTo>
                    <a:close/>
                  </a:path>
                </a:pathLst>
              </a:custGeom>
              <a:noFill/>
              <a:ln w="9360">
                <a:solidFill>
                  <a:srgbClr val="dac3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6" name="任意多边形 2180"/>
              <p:cNvSpPr/>
              <p:nvPr/>
            </p:nvSpPr>
            <p:spPr>
              <a:xfrm flipH="1" rot="1821600">
                <a:off x="1189080" y="3930120"/>
                <a:ext cx="116280" cy="155520"/>
              </a:xfrm>
              <a:custGeom>
                <a:avLst/>
                <a:gdLst/>
                <a:ahLst/>
                <a:rect l="l" t="t" r="r" b="b"/>
                <a:pathLst>
                  <a:path fill="none" w="21600" h="9561">
                    <a:moveTo>
                      <a:pt x="19805" y="0"/>
                    </a:moveTo>
                    <a:cubicBezTo>
                      <a:pt x="20961" y="2637"/>
                      <a:pt x="21600" y="5554"/>
                      <a:pt x="21600" y="8620"/>
                    </a:cubicBezTo>
                    <a:cubicBezTo>
                      <a:pt x="21600" y="8936"/>
                      <a:pt x="21593" y="9251"/>
                      <a:pt x="21580" y="9560"/>
                    </a:cubicBezTo>
                  </a:path>
                  <a:path stroke="0" w="21600" h="9561">
                    <a:moveTo>
                      <a:pt x="21579" y="9560"/>
                    </a:moveTo>
                    <a:cubicBezTo>
                      <a:pt x="21542" y="7909"/>
                      <a:pt x="21522" y="6117"/>
                      <a:pt x="21522" y="4246"/>
                    </a:cubicBezTo>
                    <a:cubicBezTo>
                      <a:pt x="21522" y="-4099"/>
                      <a:pt x="21924" y="-10864"/>
                      <a:pt x="22419" y="-10864"/>
                    </a:cubicBezTo>
                    <a:cubicBezTo>
                      <a:pt x="22914" y="-10864"/>
                      <a:pt x="23316" y="-4099"/>
                      <a:pt x="23316" y="4246"/>
                    </a:cubicBezTo>
                    <a:cubicBezTo>
                      <a:pt x="23316" y="4446"/>
                      <a:pt x="23316" y="4646"/>
                      <a:pt x="23315" y="4841"/>
                    </a:cubicBezTo>
                    <a:lnTo>
                      <a:pt x="19805" y="0"/>
                    </a:lnTo>
                    <a:close/>
                  </a:path>
                </a:pathLst>
              </a:custGeom>
              <a:noFill/>
              <a:ln w="19080">
                <a:solidFill>
                  <a:srgbClr val="dac3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7" name="任意多边形 2181"/>
              <p:cNvSpPr/>
              <p:nvPr/>
            </p:nvSpPr>
            <p:spPr>
              <a:xfrm flipH="1" rot="20405400">
                <a:off x="1174320" y="4052520"/>
                <a:ext cx="116280" cy="155520"/>
              </a:xfrm>
              <a:custGeom>
                <a:avLst/>
                <a:gdLst/>
                <a:ahLst/>
                <a:rect l="l" t="t" r="r" b="b"/>
                <a:pathLst>
                  <a:path fill="none" w="21600" h="9561">
                    <a:moveTo>
                      <a:pt x="19805" y="0"/>
                    </a:moveTo>
                    <a:cubicBezTo>
                      <a:pt x="20961" y="2637"/>
                      <a:pt x="21600" y="5554"/>
                      <a:pt x="21600" y="8620"/>
                    </a:cubicBezTo>
                    <a:cubicBezTo>
                      <a:pt x="21600" y="8936"/>
                      <a:pt x="21593" y="9251"/>
                      <a:pt x="21580" y="9560"/>
                    </a:cubicBezTo>
                  </a:path>
                  <a:path stroke="0" w="21600" h="9561">
                    <a:moveTo>
                      <a:pt x="21579" y="9560"/>
                    </a:moveTo>
                    <a:cubicBezTo>
                      <a:pt x="21542" y="7909"/>
                      <a:pt x="21522" y="6117"/>
                      <a:pt x="21522" y="4246"/>
                    </a:cubicBezTo>
                    <a:cubicBezTo>
                      <a:pt x="21522" y="-4099"/>
                      <a:pt x="21924" y="-10864"/>
                      <a:pt x="22419" y="-10864"/>
                    </a:cubicBezTo>
                    <a:cubicBezTo>
                      <a:pt x="22914" y="-10864"/>
                      <a:pt x="23316" y="-4099"/>
                      <a:pt x="23316" y="4246"/>
                    </a:cubicBezTo>
                    <a:cubicBezTo>
                      <a:pt x="23316" y="4446"/>
                      <a:pt x="23316" y="4646"/>
                      <a:pt x="23315" y="4841"/>
                    </a:cubicBezTo>
                    <a:lnTo>
                      <a:pt x="19805" y="0"/>
                    </a:lnTo>
                    <a:close/>
                  </a:path>
                </a:pathLst>
              </a:custGeom>
              <a:noFill/>
              <a:ln w="9360">
                <a:solidFill>
                  <a:srgbClr val="dac3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28" name="组合 2182"/>
          <p:cNvGrpSpPr/>
          <p:nvPr/>
        </p:nvGrpSpPr>
        <p:grpSpPr>
          <a:xfrm>
            <a:off x="5562720" y="3657600"/>
            <a:ext cx="1828800" cy="838080"/>
            <a:chOff x="5562720" y="3657600"/>
            <a:chExt cx="1828800" cy="838080"/>
          </a:xfrm>
        </p:grpSpPr>
        <p:sp>
          <p:nvSpPr>
            <p:cNvPr id="229" name="任意多边形 2183"/>
            <p:cNvSpPr/>
            <p:nvPr/>
          </p:nvSpPr>
          <p:spPr>
            <a:xfrm>
              <a:off x="5562720" y="3657600"/>
              <a:ext cx="1828800" cy="8380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2692" y="26254"/>
                  </a:moveTo>
                  <a:cubicBezTo>
                    <a:pt x="40561" y="35952"/>
                    <a:pt x="31927" y="43200"/>
                    <a:pt x="21599" y="43200"/>
                  </a:cubicBezTo>
                  <a:cubicBezTo>
                    <a:pt x="9670" y="43200"/>
                    <a:pt x="-1" y="33529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130" y="20091"/>
                    <a:pt x="43084" y="17466"/>
                    <a:pt x="43084" y="14481"/>
                  </a:cubicBezTo>
                  <a:cubicBezTo>
                    <a:pt x="43084" y="9801"/>
                    <a:pt x="43198" y="6008"/>
                    <a:pt x="43338" y="6008"/>
                  </a:cubicBezTo>
                  <a:cubicBezTo>
                    <a:pt x="43478" y="6008"/>
                    <a:pt x="43592" y="9801"/>
                    <a:pt x="43592" y="14481"/>
                  </a:cubicBezTo>
                  <a:cubicBezTo>
                    <a:pt x="43592" y="14550"/>
                    <a:pt x="43592" y="14619"/>
                    <a:pt x="43592" y="14686"/>
                  </a:cubicBezTo>
                  <a:lnTo>
                    <a:pt x="42692" y="26254"/>
                  </a:lnTo>
                  <a:close/>
                </a:path>
              </a:pathLst>
            </a:custGeom>
            <a:gradFill rotWithShape="0">
              <a:gsLst>
                <a:gs pos="0">
                  <a:srgbClr val="446500"/>
                </a:gs>
                <a:gs pos="100000">
                  <a:srgbClr val="66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任意多边形 2184"/>
            <p:cNvSpPr/>
            <p:nvPr/>
          </p:nvSpPr>
          <p:spPr>
            <a:xfrm flipH="1" rot="5626200">
              <a:off x="6054480" y="3692520"/>
              <a:ext cx="208080" cy="896760"/>
            </a:xfrm>
            <a:custGeom>
              <a:avLst/>
              <a:gdLst/>
              <a:ahLst/>
              <a:rect l="l" t="t" r="r" b="b"/>
              <a:pathLst>
                <a:path fill="none" w="21600" h="28254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7334"/>
                    <a:pt x="16440" y="24843"/>
                    <a:pt x="9011" y="28256"/>
                  </a:cubicBezTo>
                </a:path>
                <a:path stroke="0" w="21600" h="28254">
                  <a:moveTo>
                    <a:pt x="9004" y="28253"/>
                  </a:moveTo>
                  <a:cubicBezTo>
                    <a:pt x="9005" y="28585"/>
                    <a:pt x="9006" y="28921"/>
                    <a:pt x="9006" y="29259"/>
                  </a:cubicBezTo>
                  <a:cubicBezTo>
                    <a:pt x="9006" y="29459"/>
                    <a:pt x="9006" y="29659"/>
                    <a:pt x="9005" y="29854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任意多边形 2185"/>
            <p:cNvSpPr/>
            <p:nvPr/>
          </p:nvSpPr>
          <p:spPr>
            <a:xfrm flipH="1" rot="6889200">
              <a:off x="6214680" y="3736080"/>
              <a:ext cx="208440" cy="573120"/>
            </a:xfrm>
            <a:custGeom>
              <a:avLst/>
              <a:gdLst/>
              <a:ahLst/>
              <a:rect l="l" t="t" r="r" b="b"/>
              <a:pathLst>
                <a:path fill="none" w="21600" h="18028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4"/>
                    <a:pt x="20826" y="15188"/>
                    <a:pt x="19447" y="18031"/>
                  </a:cubicBezTo>
                </a:path>
                <a:path stroke="0" w="21600" h="18028">
                  <a:moveTo>
                    <a:pt x="19443" y="18027"/>
                  </a:moveTo>
                  <a:cubicBezTo>
                    <a:pt x="19448" y="18699"/>
                    <a:pt x="19451" y="19387"/>
                    <a:pt x="19451" y="20086"/>
                  </a:cubicBezTo>
                  <a:cubicBezTo>
                    <a:pt x="19451" y="20286"/>
                    <a:pt x="19451" y="20486"/>
                    <a:pt x="19450" y="2068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2" name="任意多边形 2186"/>
            <p:cNvSpPr/>
            <p:nvPr/>
          </p:nvSpPr>
          <p:spPr>
            <a:xfrm flipH="1" rot="4128600">
              <a:off x="6318000" y="3981240"/>
              <a:ext cx="208080" cy="572760"/>
            </a:xfrm>
            <a:custGeom>
              <a:avLst/>
              <a:gdLst/>
              <a:ahLst/>
              <a:rect l="l" t="t" r="r" b="b"/>
              <a:pathLst>
                <a:path fill="none" w="21600" h="18035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8"/>
                    <a:pt x="20825" y="15194"/>
                    <a:pt x="19444" y="18039"/>
                  </a:cubicBezTo>
                </a:path>
                <a:path stroke="0" w="21600" h="18035">
                  <a:moveTo>
                    <a:pt x="19439" y="18035"/>
                  </a:moveTo>
                  <a:cubicBezTo>
                    <a:pt x="19444" y="18707"/>
                    <a:pt x="19447" y="19394"/>
                    <a:pt x="19447" y="20093"/>
                  </a:cubicBezTo>
                  <a:cubicBezTo>
                    <a:pt x="19447" y="20293"/>
                    <a:pt x="19447" y="20493"/>
                    <a:pt x="19446" y="20688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3" name="任意多边形 2187"/>
            <p:cNvSpPr/>
            <p:nvPr/>
          </p:nvSpPr>
          <p:spPr>
            <a:xfrm flipH="1" rot="1821600">
              <a:off x="6534000" y="4149000"/>
              <a:ext cx="227160" cy="27756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" name="任意多边形 2188"/>
            <p:cNvSpPr/>
            <p:nvPr/>
          </p:nvSpPr>
          <p:spPr>
            <a:xfrm flipH="1" rot="1821600">
              <a:off x="6707160" y="3868200"/>
              <a:ext cx="227160" cy="27756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" name="任意多边形 2189"/>
            <p:cNvSpPr/>
            <p:nvPr/>
          </p:nvSpPr>
          <p:spPr>
            <a:xfrm flipH="1" rot="20405400">
              <a:off x="6696720" y="4060800"/>
              <a:ext cx="226800" cy="27720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6" name="组合 2190"/>
          <p:cNvGrpSpPr/>
          <p:nvPr/>
        </p:nvGrpSpPr>
        <p:grpSpPr>
          <a:xfrm>
            <a:off x="6477120" y="2971800"/>
            <a:ext cx="1066680" cy="546120"/>
            <a:chOff x="6477120" y="2971800"/>
            <a:chExt cx="1066680" cy="546120"/>
          </a:xfrm>
        </p:grpSpPr>
        <p:sp>
          <p:nvSpPr>
            <p:cNvPr id="237" name="任意多边形 2191"/>
            <p:cNvSpPr/>
            <p:nvPr/>
          </p:nvSpPr>
          <p:spPr>
            <a:xfrm>
              <a:off x="6477120" y="2971800"/>
              <a:ext cx="1066680" cy="533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2692" y="26254"/>
                  </a:moveTo>
                  <a:cubicBezTo>
                    <a:pt x="40561" y="35952"/>
                    <a:pt x="31927" y="43200"/>
                    <a:pt x="21599" y="43200"/>
                  </a:cubicBezTo>
                  <a:cubicBezTo>
                    <a:pt x="9670" y="43200"/>
                    <a:pt x="-1" y="33529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130" y="20091"/>
                    <a:pt x="43084" y="17466"/>
                    <a:pt x="43084" y="14481"/>
                  </a:cubicBezTo>
                  <a:cubicBezTo>
                    <a:pt x="43084" y="9801"/>
                    <a:pt x="43198" y="6008"/>
                    <a:pt x="43338" y="6008"/>
                  </a:cubicBezTo>
                  <a:cubicBezTo>
                    <a:pt x="43478" y="6008"/>
                    <a:pt x="43592" y="9801"/>
                    <a:pt x="43592" y="14481"/>
                  </a:cubicBezTo>
                  <a:cubicBezTo>
                    <a:pt x="43592" y="14550"/>
                    <a:pt x="43592" y="14619"/>
                    <a:pt x="43592" y="14686"/>
                  </a:cubicBezTo>
                  <a:lnTo>
                    <a:pt x="42692" y="26254"/>
                  </a:lnTo>
                  <a:close/>
                </a:path>
              </a:pathLst>
            </a:custGeom>
            <a:gradFill rotWithShape="0">
              <a:gsLst>
                <a:gs pos="0">
                  <a:srgbClr val="9c9c00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52300" dir="4563564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任意多边形 2192"/>
            <p:cNvSpPr/>
            <p:nvPr/>
          </p:nvSpPr>
          <p:spPr>
            <a:xfrm flipH="1" rot="5626200">
              <a:off x="6761880" y="3018600"/>
              <a:ext cx="158760" cy="511200"/>
            </a:xfrm>
            <a:custGeom>
              <a:avLst/>
              <a:gdLst/>
              <a:ahLst/>
              <a:rect l="l" t="t" r="r" b="b"/>
              <a:pathLst>
                <a:path fill="none" w="21600" h="23006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4145"/>
                    <a:pt x="19525" y="19186"/>
                    <a:pt x="16113" y="23006"/>
                  </a:cubicBezTo>
                </a:path>
                <a:path stroke="0" w="21600" h="23006">
                  <a:moveTo>
                    <a:pt x="16112" y="23005"/>
                  </a:moveTo>
                  <a:cubicBezTo>
                    <a:pt x="16115" y="23509"/>
                    <a:pt x="16117" y="24021"/>
                    <a:pt x="16117" y="24540"/>
                  </a:cubicBezTo>
                  <a:cubicBezTo>
                    <a:pt x="16117" y="24740"/>
                    <a:pt x="16117" y="24940"/>
                    <a:pt x="16116" y="25135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任意多边形 2193"/>
            <p:cNvSpPr/>
            <p:nvPr/>
          </p:nvSpPr>
          <p:spPr>
            <a:xfrm flipH="1" rot="6889200">
              <a:off x="6813360" y="2976840"/>
              <a:ext cx="158760" cy="401040"/>
            </a:xfrm>
            <a:custGeom>
              <a:avLst/>
              <a:gdLst/>
              <a:ahLst/>
              <a:rect l="l" t="t" r="r" b="b"/>
              <a:pathLst>
                <a:path fill="none" w="21600" h="18028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4"/>
                    <a:pt x="20826" y="15188"/>
                    <a:pt x="19447" y="18031"/>
                  </a:cubicBezTo>
                </a:path>
                <a:path stroke="0" w="21600" h="18028">
                  <a:moveTo>
                    <a:pt x="19443" y="18027"/>
                  </a:moveTo>
                  <a:cubicBezTo>
                    <a:pt x="19448" y="18699"/>
                    <a:pt x="19451" y="19387"/>
                    <a:pt x="19451" y="20086"/>
                  </a:cubicBezTo>
                  <a:cubicBezTo>
                    <a:pt x="19451" y="20286"/>
                    <a:pt x="19451" y="20486"/>
                    <a:pt x="19450" y="2068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任意多边形 2194"/>
            <p:cNvSpPr/>
            <p:nvPr/>
          </p:nvSpPr>
          <p:spPr>
            <a:xfrm flipH="1" rot="4128600">
              <a:off x="6885720" y="3163680"/>
              <a:ext cx="158760" cy="401040"/>
            </a:xfrm>
            <a:custGeom>
              <a:avLst/>
              <a:gdLst/>
              <a:ahLst/>
              <a:rect l="l" t="t" r="r" b="b"/>
              <a:pathLst>
                <a:path fill="none" w="21600" h="18035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8"/>
                    <a:pt x="20825" y="15194"/>
                    <a:pt x="19444" y="18039"/>
                  </a:cubicBezTo>
                </a:path>
                <a:path stroke="0" w="21600" h="18035">
                  <a:moveTo>
                    <a:pt x="19439" y="18035"/>
                  </a:moveTo>
                  <a:cubicBezTo>
                    <a:pt x="19444" y="18707"/>
                    <a:pt x="19447" y="19394"/>
                    <a:pt x="19447" y="20093"/>
                  </a:cubicBezTo>
                  <a:cubicBezTo>
                    <a:pt x="19447" y="20293"/>
                    <a:pt x="19447" y="20493"/>
                    <a:pt x="19446" y="20688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任意多边形 2195"/>
            <p:cNvSpPr/>
            <p:nvPr/>
          </p:nvSpPr>
          <p:spPr>
            <a:xfrm flipH="1" rot="1821600">
              <a:off x="7037280" y="3280680"/>
              <a:ext cx="158760" cy="21168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任意多边形 2196"/>
            <p:cNvSpPr/>
            <p:nvPr/>
          </p:nvSpPr>
          <p:spPr>
            <a:xfrm flipH="1" rot="1821600">
              <a:off x="7165080" y="3059640"/>
              <a:ext cx="158760" cy="21168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任意多边形 2197"/>
            <p:cNvSpPr/>
            <p:nvPr/>
          </p:nvSpPr>
          <p:spPr>
            <a:xfrm flipH="1" rot="20405400">
              <a:off x="7143840" y="3226320"/>
              <a:ext cx="158760" cy="21204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4" name="组合 2198"/>
          <p:cNvGrpSpPr/>
          <p:nvPr/>
        </p:nvGrpSpPr>
        <p:grpSpPr>
          <a:xfrm>
            <a:off x="2590920" y="2800440"/>
            <a:ext cx="1752480" cy="666720"/>
            <a:chOff x="2590920" y="2800440"/>
            <a:chExt cx="1752480" cy="666720"/>
          </a:xfrm>
        </p:grpSpPr>
        <p:sp>
          <p:nvSpPr>
            <p:cNvPr id="245" name="任意多边形 2199"/>
            <p:cNvSpPr/>
            <p:nvPr/>
          </p:nvSpPr>
          <p:spPr>
            <a:xfrm>
              <a:off x="2590920" y="2800440"/>
              <a:ext cx="1752480" cy="6667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2692" y="26254"/>
                  </a:moveTo>
                  <a:cubicBezTo>
                    <a:pt x="40561" y="35952"/>
                    <a:pt x="31927" y="43200"/>
                    <a:pt x="21599" y="43200"/>
                  </a:cubicBezTo>
                  <a:cubicBezTo>
                    <a:pt x="9670" y="43200"/>
                    <a:pt x="-1" y="33529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130" y="20091"/>
                    <a:pt x="43084" y="17466"/>
                    <a:pt x="43084" y="14481"/>
                  </a:cubicBezTo>
                  <a:cubicBezTo>
                    <a:pt x="43084" y="9801"/>
                    <a:pt x="43198" y="6008"/>
                    <a:pt x="43338" y="6008"/>
                  </a:cubicBezTo>
                  <a:cubicBezTo>
                    <a:pt x="43478" y="6008"/>
                    <a:pt x="43592" y="9801"/>
                    <a:pt x="43592" y="14481"/>
                  </a:cubicBezTo>
                  <a:cubicBezTo>
                    <a:pt x="43592" y="14550"/>
                    <a:pt x="43592" y="14619"/>
                    <a:pt x="43592" y="14686"/>
                  </a:cubicBezTo>
                  <a:lnTo>
                    <a:pt x="42692" y="26254"/>
                  </a:lnTo>
                  <a:close/>
                </a:path>
              </a:pathLst>
            </a:custGeom>
            <a:gradFill rotWithShape="0">
              <a:gsLst>
                <a:gs pos="0">
                  <a:srgbClr val="446500"/>
                </a:gs>
                <a:gs pos="100000">
                  <a:srgbClr val="66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任意多边形 2200"/>
            <p:cNvSpPr/>
            <p:nvPr/>
          </p:nvSpPr>
          <p:spPr>
            <a:xfrm flipH="1" rot="5626200">
              <a:off x="3079080" y="2755080"/>
              <a:ext cx="165240" cy="859320"/>
            </a:xfrm>
            <a:custGeom>
              <a:avLst/>
              <a:gdLst/>
              <a:ahLst/>
              <a:rect l="l" t="t" r="r" b="b"/>
              <a:pathLst>
                <a:path fill="none" w="21600" h="28254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7334"/>
                    <a:pt x="16440" y="24843"/>
                    <a:pt x="9011" y="28256"/>
                  </a:cubicBezTo>
                </a:path>
                <a:path stroke="0" w="21600" h="28254">
                  <a:moveTo>
                    <a:pt x="9004" y="28253"/>
                  </a:moveTo>
                  <a:cubicBezTo>
                    <a:pt x="9005" y="28585"/>
                    <a:pt x="9006" y="28921"/>
                    <a:pt x="9006" y="29259"/>
                  </a:cubicBezTo>
                  <a:cubicBezTo>
                    <a:pt x="9006" y="29459"/>
                    <a:pt x="9006" y="29659"/>
                    <a:pt x="9005" y="29854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7" name="任意多边形 2201"/>
            <p:cNvSpPr/>
            <p:nvPr/>
          </p:nvSpPr>
          <p:spPr>
            <a:xfrm flipH="1" rot="6889200">
              <a:off x="3231720" y="2817000"/>
              <a:ext cx="165600" cy="549000"/>
            </a:xfrm>
            <a:custGeom>
              <a:avLst/>
              <a:gdLst/>
              <a:ahLst/>
              <a:rect l="l" t="t" r="r" b="b"/>
              <a:pathLst>
                <a:path fill="none" w="21600" h="18028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4"/>
                    <a:pt x="20826" y="15188"/>
                    <a:pt x="19447" y="18031"/>
                  </a:cubicBezTo>
                </a:path>
                <a:path stroke="0" w="21600" h="18028">
                  <a:moveTo>
                    <a:pt x="19443" y="18027"/>
                  </a:moveTo>
                  <a:cubicBezTo>
                    <a:pt x="19448" y="18699"/>
                    <a:pt x="19451" y="19387"/>
                    <a:pt x="19451" y="20086"/>
                  </a:cubicBezTo>
                  <a:cubicBezTo>
                    <a:pt x="19451" y="20286"/>
                    <a:pt x="19451" y="20486"/>
                    <a:pt x="19450" y="2068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8" name="任意多边形 2202"/>
            <p:cNvSpPr/>
            <p:nvPr/>
          </p:nvSpPr>
          <p:spPr>
            <a:xfrm flipH="1" rot="4128600">
              <a:off x="3330360" y="3011040"/>
              <a:ext cx="165600" cy="548640"/>
            </a:xfrm>
            <a:custGeom>
              <a:avLst/>
              <a:gdLst/>
              <a:ahLst/>
              <a:rect l="l" t="t" r="r" b="b"/>
              <a:pathLst>
                <a:path fill="none" w="21600" h="18035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8"/>
                    <a:pt x="20825" y="15194"/>
                    <a:pt x="19444" y="18039"/>
                  </a:cubicBezTo>
                </a:path>
                <a:path stroke="0" w="21600" h="18035">
                  <a:moveTo>
                    <a:pt x="19439" y="18035"/>
                  </a:moveTo>
                  <a:cubicBezTo>
                    <a:pt x="19444" y="18707"/>
                    <a:pt x="19447" y="19394"/>
                    <a:pt x="19447" y="20093"/>
                  </a:cubicBezTo>
                  <a:cubicBezTo>
                    <a:pt x="19447" y="20293"/>
                    <a:pt x="19447" y="20493"/>
                    <a:pt x="19446" y="20688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任意多边形 2203"/>
            <p:cNvSpPr/>
            <p:nvPr/>
          </p:nvSpPr>
          <p:spPr>
            <a:xfrm flipH="1" rot="1821600">
              <a:off x="3521160" y="3191400"/>
              <a:ext cx="217440" cy="22140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任意多边形 2204"/>
            <p:cNvSpPr/>
            <p:nvPr/>
          </p:nvSpPr>
          <p:spPr>
            <a:xfrm flipH="1" rot="1821600">
              <a:off x="3687120" y="2967840"/>
              <a:ext cx="217440" cy="22140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任意多边形 2205"/>
            <p:cNvSpPr/>
            <p:nvPr/>
          </p:nvSpPr>
          <p:spPr>
            <a:xfrm flipH="1" rot="20405400">
              <a:off x="3678480" y="3120840"/>
              <a:ext cx="217080" cy="22140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2" name="组合 2206"/>
          <p:cNvGrpSpPr/>
          <p:nvPr/>
        </p:nvGrpSpPr>
        <p:grpSpPr>
          <a:xfrm>
            <a:off x="7238880" y="3276720"/>
            <a:ext cx="1676520" cy="838080"/>
            <a:chOff x="7238880" y="3276720"/>
            <a:chExt cx="1676520" cy="838080"/>
          </a:xfrm>
        </p:grpSpPr>
        <p:sp>
          <p:nvSpPr>
            <p:cNvPr id="253" name="任意多边形 2207"/>
            <p:cNvSpPr/>
            <p:nvPr/>
          </p:nvSpPr>
          <p:spPr>
            <a:xfrm>
              <a:off x="7238880" y="3276720"/>
              <a:ext cx="1676520" cy="8380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2692" y="26254"/>
                  </a:moveTo>
                  <a:cubicBezTo>
                    <a:pt x="40561" y="35952"/>
                    <a:pt x="31927" y="43200"/>
                    <a:pt x="21599" y="43200"/>
                  </a:cubicBezTo>
                  <a:cubicBezTo>
                    <a:pt x="9670" y="43200"/>
                    <a:pt x="-1" y="33529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130" y="20091"/>
                    <a:pt x="43084" y="17466"/>
                    <a:pt x="43084" y="14481"/>
                  </a:cubicBezTo>
                  <a:cubicBezTo>
                    <a:pt x="43084" y="9801"/>
                    <a:pt x="43198" y="6008"/>
                    <a:pt x="43338" y="6008"/>
                  </a:cubicBezTo>
                  <a:cubicBezTo>
                    <a:pt x="43478" y="6008"/>
                    <a:pt x="43592" y="9801"/>
                    <a:pt x="43592" y="14481"/>
                  </a:cubicBezTo>
                  <a:cubicBezTo>
                    <a:pt x="43592" y="14550"/>
                    <a:pt x="43592" y="14619"/>
                    <a:pt x="43592" y="14686"/>
                  </a:cubicBezTo>
                  <a:lnTo>
                    <a:pt x="42692" y="26254"/>
                  </a:lnTo>
                  <a:close/>
                </a:path>
              </a:pathLst>
            </a:custGeom>
            <a:gradFill rotWithShape="0">
              <a:gsLst>
                <a:gs pos="0">
                  <a:srgbClr val="446500"/>
                </a:gs>
                <a:gs pos="100000">
                  <a:srgbClr val="66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任意多边形 2208"/>
            <p:cNvSpPr/>
            <p:nvPr/>
          </p:nvSpPr>
          <p:spPr>
            <a:xfrm flipH="1" rot="5626200">
              <a:off x="7680600" y="3348360"/>
              <a:ext cx="207720" cy="821880"/>
            </a:xfrm>
            <a:custGeom>
              <a:avLst/>
              <a:gdLst/>
              <a:ahLst/>
              <a:rect l="l" t="t" r="r" b="b"/>
              <a:pathLst>
                <a:path fill="none" w="21600" h="28254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7334"/>
                    <a:pt x="16440" y="24843"/>
                    <a:pt x="9011" y="28256"/>
                  </a:cubicBezTo>
                </a:path>
                <a:path stroke="0" w="21600" h="28254">
                  <a:moveTo>
                    <a:pt x="9004" y="28253"/>
                  </a:moveTo>
                  <a:cubicBezTo>
                    <a:pt x="9005" y="28585"/>
                    <a:pt x="9006" y="28921"/>
                    <a:pt x="9006" y="29259"/>
                  </a:cubicBezTo>
                  <a:cubicBezTo>
                    <a:pt x="9006" y="29459"/>
                    <a:pt x="9006" y="29659"/>
                    <a:pt x="9005" y="29854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任意多边形 2209"/>
            <p:cNvSpPr/>
            <p:nvPr/>
          </p:nvSpPr>
          <p:spPr>
            <a:xfrm flipH="1" rot="6889200">
              <a:off x="7827120" y="3378600"/>
              <a:ext cx="208440" cy="525600"/>
            </a:xfrm>
            <a:custGeom>
              <a:avLst/>
              <a:gdLst/>
              <a:ahLst/>
              <a:rect l="l" t="t" r="r" b="b"/>
              <a:pathLst>
                <a:path fill="none" w="21600" h="18028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4"/>
                    <a:pt x="20826" y="15188"/>
                    <a:pt x="19447" y="18031"/>
                  </a:cubicBezTo>
                </a:path>
                <a:path stroke="0" w="21600" h="18028">
                  <a:moveTo>
                    <a:pt x="19443" y="18027"/>
                  </a:moveTo>
                  <a:cubicBezTo>
                    <a:pt x="19448" y="18699"/>
                    <a:pt x="19451" y="19387"/>
                    <a:pt x="19451" y="20086"/>
                  </a:cubicBezTo>
                  <a:cubicBezTo>
                    <a:pt x="19451" y="20286"/>
                    <a:pt x="19451" y="20486"/>
                    <a:pt x="19450" y="2068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任意多边形 2210"/>
            <p:cNvSpPr/>
            <p:nvPr/>
          </p:nvSpPr>
          <p:spPr>
            <a:xfrm flipH="1" rot="4128600">
              <a:off x="7922520" y="3624480"/>
              <a:ext cx="208080" cy="524880"/>
            </a:xfrm>
            <a:custGeom>
              <a:avLst/>
              <a:gdLst/>
              <a:ahLst/>
              <a:rect l="l" t="t" r="r" b="b"/>
              <a:pathLst>
                <a:path fill="none" w="21600" h="18035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8"/>
                    <a:pt x="20825" y="15194"/>
                    <a:pt x="19444" y="18039"/>
                  </a:cubicBezTo>
                </a:path>
                <a:path stroke="0" w="21600" h="18035">
                  <a:moveTo>
                    <a:pt x="19439" y="18035"/>
                  </a:moveTo>
                  <a:cubicBezTo>
                    <a:pt x="19444" y="18707"/>
                    <a:pt x="19447" y="19394"/>
                    <a:pt x="19447" y="20093"/>
                  </a:cubicBezTo>
                  <a:cubicBezTo>
                    <a:pt x="19447" y="20293"/>
                    <a:pt x="19447" y="20493"/>
                    <a:pt x="19446" y="20688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任意多边形 2211"/>
            <p:cNvSpPr/>
            <p:nvPr/>
          </p:nvSpPr>
          <p:spPr>
            <a:xfrm flipH="1" rot="1821600">
              <a:off x="8128800" y="3768120"/>
              <a:ext cx="208080" cy="27720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任意多边形 2212"/>
            <p:cNvSpPr/>
            <p:nvPr/>
          </p:nvSpPr>
          <p:spPr>
            <a:xfrm flipH="1" rot="1821600">
              <a:off x="8287560" y="3487320"/>
              <a:ext cx="208080" cy="27720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任意多边形 2213"/>
            <p:cNvSpPr/>
            <p:nvPr/>
          </p:nvSpPr>
          <p:spPr>
            <a:xfrm flipH="1" rot="20405400">
              <a:off x="8278200" y="3679560"/>
              <a:ext cx="207720" cy="27756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869c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0" name="任意多边形 2214"/>
          <p:cNvSpPr/>
          <p:nvPr/>
        </p:nvSpPr>
        <p:spPr>
          <a:xfrm>
            <a:off x="3886200" y="2971800"/>
            <a:ext cx="2362320" cy="990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2692" y="26254"/>
                </a:moveTo>
                <a:cubicBezTo>
                  <a:pt x="40561" y="35952"/>
                  <a:pt x="31927" y="43200"/>
                  <a:pt x="21599" y="43200"/>
                </a:cubicBezTo>
                <a:cubicBezTo>
                  <a:pt x="9670" y="43200"/>
                  <a:pt x="-1" y="33529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528" y="0"/>
                  <a:pt x="43199" y="9671"/>
                  <a:pt x="43199" y="21600"/>
                </a:cubicBezTo>
              </a:path>
              <a:path stroke="0" w="43200" h="43200">
                <a:moveTo>
                  <a:pt x="43200" y="21600"/>
                </a:moveTo>
                <a:cubicBezTo>
                  <a:pt x="43130" y="20091"/>
                  <a:pt x="43084" y="17466"/>
                  <a:pt x="43084" y="14481"/>
                </a:cubicBezTo>
                <a:cubicBezTo>
                  <a:pt x="43084" y="9801"/>
                  <a:pt x="43198" y="6008"/>
                  <a:pt x="43338" y="6008"/>
                </a:cubicBezTo>
                <a:cubicBezTo>
                  <a:pt x="43478" y="6008"/>
                  <a:pt x="43592" y="9801"/>
                  <a:pt x="43592" y="14481"/>
                </a:cubicBezTo>
                <a:cubicBezTo>
                  <a:pt x="43592" y="14550"/>
                  <a:pt x="43592" y="14619"/>
                  <a:pt x="43592" y="14686"/>
                </a:cubicBezTo>
                <a:lnTo>
                  <a:pt x="42692" y="26254"/>
                </a:lnTo>
                <a:close/>
              </a:path>
            </a:pathLst>
          </a:cu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2300" dir="4563564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任意多边形 2215"/>
          <p:cNvSpPr/>
          <p:nvPr/>
        </p:nvSpPr>
        <p:spPr>
          <a:xfrm>
            <a:off x="0" y="2895480"/>
            <a:ext cx="914400" cy="4003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2692" y="26254"/>
                </a:moveTo>
                <a:cubicBezTo>
                  <a:pt x="40561" y="35952"/>
                  <a:pt x="31927" y="43200"/>
                  <a:pt x="21599" y="43200"/>
                </a:cubicBezTo>
                <a:cubicBezTo>
                  <a:pt x="9670" y="43200"/>
                  <a:pt x="-1" y="33529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528" y="0"/>
                  <a:pt x="43199" y="9671"/>
                  <a:pt x="43199" y="21600"/>
                </a:cubicBezTo>
              </a:path>
              <a:path stroke="0" w="43200" h="43200">
                <a:moveTo>
                  <a:pt x="43200" y="21600"/>
                </a:moveTo>
                <a:cubicBezTo>
                  <a:pt x="43130" y="20091"/>
                  <a:pt x="43084" y="17466"/>
                  <a:pt x="43084" y="14481"/>
                </a:cubicBezTo>
                <a:cubicBezTo>
                  <a:pt x="43084" y="9801"/>
                  <a:pt x="43198" y="6008"/>
                  <a:pt x="43338" y="6008"/>
                </a:cubicBezTo>
                <a:cubicBezTo>
                  <a:pt x="43478" y="6008"/>
                  <a:pt x="43592" y="9801"/>
                  <a:pt x="43592" y="14481"/>
                </a:cubicBezTo>
                <a:cubicBezTo>
                  <a:pt x="43592" y="14550"/>
                  <a:pt x="43592" y="14619"/>
                  <a:pt x="43592" y="14686"/>
                </a:cubicBezTo>
                <a:lnTo>
                  <a:pt x="42692" y="26254"/>
                </a:lnTo>
                <a:close/>
              </a:path>
            </a:pathLst>
          </a:cu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718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任意多边形 2216"/>
          <p:cNvSpPr/>
          <p:nvPr/>
        </p:nvSpPr>
        <p:spPr>
          <a:xfrm>
            <a:off x="990720" y="3048120"/>
            <a:ext cx="914400" cy="3999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2692" y="26254"/>
                </a:moveTo>
                <a:cubicBezTo>
                  <a:pt x="40561" y="35952"/>
                  <a:pt x="31927" y="43200"/>
                  <a:pt x="21599" y="43200"/>
                </a:cubicBezTo>
                <a:cubicBezTo>
                  <a:pt x="9670" y="43200"/>
                  <a:pt x="-1" y="33529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528" y="0"/>
                  <a:pt x="43199" y="9671"/>
                  <a:pt x="43199" y="21600"/>
                </a:cubicBezTo>
              </a:path>
              <a:path stroke="0" w="43200" h="43200">
                <a:moveTo>
                  <a:pt x="43200" y="21600"/>
                </a:moveTo>
                <a:cubicBezTo>
                  <a:pt x="43130" y="20091"/>
                  <a:pt x="43084" y="17466"/>
                  <a:pt x="43084" y="14481"/>
                </a:cubicBezTo>
                <a:cubicBezTo>
                  <a:pt x="43084" y="9801"/>
                  <a:pt x="43198" y="6008"/>
                  <a:pt x="43338" y="6008"/>
                </a:cubicBezTo>
                <a:cubicBezTo>
                  <a:pt x="43478" y="6008"/>
                  <a:pt x="43592" y="9801"/>
                  <a:pt x="43592" y="14481"/>
                </a:cubicBezTo>
                <a:cubicBezTo>
                  <a:pt x="43592" y="14550"/>
                  <a:pt x="43592" y="14619"/>
                  <a:pt x="43592" y="14686"/>
                </a:cubicBezTo>
                <a:lnTo>
                  <a:pt x="42692" y="26254"/>
                </a:lnTo>
                <a:close/>
              </a:path>
            </a:pathLst>
          </a:cu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718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任意多边形 2217"/>
          <p:cNvSpPr/>
          <p:nvPr/>
        </p:nvSpPr>
        <p:spPr>
          <a:xfrm>
            <a:off x="1066680" y="2743200"/>
            <a:ext cx="533520" cy="2332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2692" y="26254"/>
                </a:moveTo>
                <a:cubicBezTo>
                  <a:pt x="40561" y="35952"/>
                  <a:pt x="31927" y="43200"/>
                  <a:pt x="21599" y="43200"/>
                </a:cubicBezTo>
                <a:cubicBezTo>
                  <a:pt x="9670" y="43200"/>
                  <a:pt x="-1" y="33529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528" y="0"/>
                  <a:pt x="43199" y="9671"/>
                  <a:pt x="43199" y="21600"/>
                </a:cubicBezTo>
              </a:path>
              <a:path stroke="0" w="43200" h="43200">
                <a:moveTo>
                  <a:pt x="43200" y="21600"/>
                </a:moveTo>
                <a:cubicBezTo>
                  <a:pt x="43130" y="20091"/>
                  <a:pt x="43084" y="17466"/>
                  <a:pt x="43084" y="14481"/>
                </a:cubicBezTo>
                <a:cubicBezTo>
                  <a:pt x="43084" y="9801"/>
                  <a:pt x="43198" y="6008"/>
                  <a:pt x="43338" y="6008"/>
                </a:cubicBezTo>
                <a:cubicBezTo>
                  <a:pt x="43478" y="6008"/>
                  <a:pt x="43592" y="9801"/>
                  <a:pt x="43592" y="14481"/>
                </a:cubicBezTo>
                <a:cubicBezTo>
                  <a:pt x="43592" y="14550"/>
                  <a:pt x="43592" y="14619"/>
                  <a:pt x="43592" y="14686"/>
                </a:cubicBezTo>
                <a:lnTo>
                  <a:pt x="42692" y="26254"/>
                </a:lnTo>
                <a:close/>
              </a:path>
            </a:pathLst>
          </a:cu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718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64" name="组合 2218"/>
          <p:cNvGrpSpPr/>
          <p:nvPr/>
        </p:nvGrpSpPr>
        <p:grpSpPr>
          <a:xfrm>
            <a:off x="1905120" y="3019320"/>
            <a:ext cx="1066680" cy="546120"/>
            <a:chOff x="1905120" y="3019320"/>
            <a:chExt cx="1066680" cy="546120"/>
          </a:xfrm>
        </p:grpSpPr>
        <p:sp>
          <p:nvSpPr>
            <p:cNvPr id="265" name="任意多边形 2219"/>
            <p:cNvSpPr/>
            <p:nvPr/>
          </p:nvSpPr>
          <p:spPr>
            <a:xfrm>
              <a:off x="1905120" y="3019320"/>
              <a:ext cx="1066680" cy="533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2692" y="26254"/>
                  </a:moveTo>
                  <a:cubicBezTo>
                    <a:pt x="40561" y="35952"/>
                    <a:pt x="31927" y="43200"/>
                    <a:pt x="21599" y="43200"/>
                  </a:cubicBezTo>
                  <a:cubicBezTo>
                    <a:pt x="9670" y="43200"/>
                    <a:pt x="-1" y="33529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130" y="20091"/>
                    <a:pt x="43084" y="17466"/>
                    <a:pt x="43084" y="14481"/>
                  </a:cubicBezTo>
                  <a:cubicBezTo>
                    <a:pt x="43084" y="9801"/>
                    <a:pt x="43198" y="6008"/>
                    <a:pt x="43338" y="6008"/>
                  </a:cubicBezTo>
                  <a:cubicBezTo>
                    <a:pt x="43478" y="6008"/>
                    <a:pt x="43592" y="9801"/>
                    <a:pt x="43592" y="14481"/>
                  </a:cubicBezTo>
                  <a:cubicBezTo>
                    <a:pt x="43592" y="14550"/>
                    <a:pt x="43592" y="14619"/>
                    <a:pt x="43592" y="14686"/>
                  </a:cubicBezTo>
                  <a:lnTo>
                    <a:pt x="42692" y="26254"/>
                  </a:lnTo>
                  <a:close/>
                </a:path>
              </a:pathLst>
            </a:custGeom>
            <a:gradFill rotWithShape="0">
              <a:gsLst>
                <a:gs pos="0">
                  <a:srgbClr val="9c9c00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52300" dir="4563564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任意多边形 2220"/>
            <p:cNvSpPr/>
            <p:nvPr/>
          </p:nvSpPr>
          <p:spPr>
            <a:xfrm flipH="1" rot="5626200">
              <a:off x="2189880" y="3066120"/>
              <a:ext cx="158760" cy="511200"/>
            </a:xfrm>
            <a:custGeom>
              <a:avLst/>
              <a:gdLst/>
              <a:ahLst/>
              <a:rect l="l" t="t" r="r" b="b"/>
              <a:pathLst>
                <a:path fill="none" w="21600" h="23006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4145"/>
                    <a:pt x="19525" y="19186"/>
                    <a:pt x="16113" y="23006"/>
                  </a:cubicBezTo>
                </a:path>
                <a:path stroke="0" w="21600" h="23006">
                  <a:moveTo>
                    <a:pt x="16112" y="23005"/>
                  </a:moveTo>
                  <a:cubicBezTo>
                    <a:pt x="16115" y="23509"/>
                    <a:pt x="16117" y="24021"/>
                    <a:pt x="16117" y="24540"/>
                  </a:cubicBezTo>
                  <a:cubicBezTo>
                    <a:pt x="16117" y="24740"/>
                    <a:pt x="16117" y="24940"/>
                    <a:pt x="16116" y="25135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任意多边形 2221"/>
            <p:cNvSpPr/>
            <p:nvPr/>
          </p:nvSpPr>
          <p:spPr>
            <a:xfrm flipH="1" rot="6889200">
              <a:off x="2241360" y="3024360"/>
              <a:ext cx="158760" cy="401040"/>
            </a:xfrm>
            <a:custGeom>
              <a:avLst/>
              <a:gdLst/>
              <a:ahLst/>
              <a:rect l="l" t="t" r="r" b="b"/>
              <a:pathLst>
                <a:path fill="none" w="21600" h="18028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4"/>
                    <a:pt x="20826" y="15188"/>
                    <a:pt x="19447" y="18031"/>
                  </a:cubicBezTo>
                </a:path>
                <a:path stroke="0" w="21600" h="18028">
                  <a:moveTo>
                    <a:pt x="19443" y="18027"/>
                  </a:moveTo>
                  <a:cubicBezTo>
                    <a:pt x="19448" y="18699"/>
                    <a:pt x="19451" y="19387"/>
                    <a:pt x="19451" y="20086"/>
                  </a:cubicBezTo>
                  <a:cubicBezTo>
                    <a:pt x="19451" y="20286"/>
                    <a:pt x="19451" y="20486"/>
                    <a:pt x="19450" y="2068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任意多边形 2222"/>
            <p:cNvSpPr/>
            <p:nvPr/>
          </p:nvSpPr>
          <p:spPr>
            <a:xfrm flipH="1" rot="4128600">
              <a:off x="2313720" y="3211200"/>
              <a:ext cx="158760" cy="401040"/>
            </a:xfrm>
            <a:custGeom>
              <a:avLst/>
              <a:gdLst/>
              <a:ahLst/>
              <a:rect l="l" t="t" r="r" b="b"/>
              <a:pathLst>
                <a:path fill="none" w="21600" h="18035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8"/>
                    <a:pt x="20825" y="15194"/>
                    <a:pt x="19444" y="18039"/>
                  </a:cubicBezTo>
                </a:path>
                <a:path stroke="0" w="21600" h="18035">
                  <a:moveTo>
                    <a:pt x="19439" y="18035"/>
                  </a:moveTo>
                  <a:cubicBezTo>
                    <a:pt x="19444" y="18707"/>
                    <a:pt x="19447" y="19394"/>
                    <a:pt x="19447" y="20093"/>
                  </a:cubicBezTo>
                  <a:cubicBezTo>
                    <a:pt x="19447" y="20293"/>
                    <a:pt x="19447" y="20493"/>
                    <a:pt x="19446" y="20688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任意多边形 2223"/>
            <p:cNvSpPr/>
            <p:nvPr/>
          </p:nvSpPr>
          <p:spPr>
            <a:xfrm flipH="1" rot="1821600">
              <a:off x="2465280" y="3328200"/>
              <a:ext cx="158760" cy="21168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任意多边形 2224"/>
            <p:cNvSpPr/>
            <p:nvPr/>
          </p:nvSpPr>
          <p:spPr>
            <a:xfrm flipH="1" rot="1821600">
              <a:off x="2593080" y="3107160"/>
              <a:ext cx="158760" cy="21168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1908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" name="任意多边形 2225"/>
            <p:cNvSpPr/>
            <p:nvPr/>
          </p:nvSpPr>
          <p:spPr>
            <a:xfrm flipH="1" rot="20405400">
              <a:off x="2571840" y="3273840"/>
              <a:ext cx="158760" cy="21204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dac3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72" name="椭圆 2287"/>
          <p:cNvSpPr/>
          <p:nvPr/>
        </p:nvSpPr>
        <p:spPr>
          <a:xfrm>
            <a:off x="4645080" y="3657600"/>
            <a:ext cx="304920" cy="203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74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73" name="组合 2294"/>
          <p:cNvGrpSpPr/>
          <p:nvPr/>
        </p:nvGrpSpPr>
        <p:grpSpPr>
          <a:xfrm>
            <a:off x="4293000" y="3187080"/>
            <a:ext cx="1112760" cy="698040"/>
            <a:chOff x="4293000" y="3187080"/>
            <a:chExt cx="1112760" cy="698040"/>
          </a:xfrm>
        </p:grpSpPr>
        <p:sp>
          <p:nvSpPr>
            <p:cNvPr id="274" name="任意多边形 2288"/>
            <p:cNvSpPr/>
            <p:nvPr/>
          </p:nvSpPr>
          <p:spPr>
            <a:xfrm flipH="1" rot="5626200">
              <a:off x="4631400" y="3091680"/>
              <a:ext cx="227160" cy="892440"/>
            </a:xfrm>
            <a:custGeom>
              <a:avLst/>
              <a:gdLst/>
              <a:ahLst/>
              <a:rect l="l" t="t" r="r" b="b"/>
              <a:pathLst>
                <a:path fill="none" w="21600" h="28254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7334"/>
                    <a:pt x="16440" y="24843"/>
                    <a:pt x="9011" y="28256"/>
                  </a:cubicBezTo>
                </a:path>
                <a:path stroke="0" w="21600" h="28254">
                  <a:moveTo>
                    <a:pt x="9004" y="28253"/>
                  </a:moveTo>
                  <a:cubicBezTo>
                    <a:pt x="9005" y="28585"/>
                    <a:pt x="9006" y="28921"/>
                    <a:pt x="9006" y="29259"/>
                  </a:cubicBezTo>
                  <a:cubicBezTo>
                    <a:pt x="9006" y="29459"/>
                    <a:pt x="9006" y="29659"/>
                    <a:pt x="9005" y="29854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任意多边形 2289"/>
            <p:cNvSpPr/>
            <p:nvPr/>
          </p:nvSpPr>
          <p:spPr>
            <a:xfrm flipH="1" rot="6889200">
              <a:off x="4790880" y="3124080"/>
              <a:ext cx="226800" cy="569880"/>
            </a:xfrm>
            <a:custGeom>
              <a:avLst/>
              <a:gdLst/>
              <a:ahLst/>
              <a:rect l="l" t="t" r="r" b="b"/>
              <a:pathLst>
                <a:path fill="none" w="21600" h="18028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4"/>
                    <a:pt x="20826" y="15188"/>
                    <a:pt x="19447" y="18031"/>
                  </a:cubicBezTo>
                </a:path>
                <a:path stroke="0" w="21600" h="18028">
                  <a:moveTo>
                    <a:pt x="19443" y="18027"/>
                  </a:moveTo>
                  <a:cubicBezTo>
                    <a:pt x="19448" y="18699"/>
                    <a:pt x="19451" y="19387"/>
                    <a:pt x="19451" y="20086"/>
                  </a:cubicBezTo>
                  <a:cubicBezTo>
                    <a:pt x="19451" y="20286"/>
                    <a:pt x="19451" y="20486"/>
                    <a:pt x="19450" y="2068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任意多边形 2290"/>
            <p:cNvSpPr/>
            <p:nvPr/>
          </p:nvSpPr>
          <p:spPr>
            <a:xfrm flipH="1" rot="4128600">
              <a:off x="4893480" y="3390840"/>
              <a:ext cx="226800" cy="570240"/>
            </a:xfrm>
            <a:custGeom>
              <a:avLst/>
              <a:gdLst/>
              <a:ahLst/>
              <a:rect l="l" t="t" r="r" b="b"/>
              <a:pathLst>
                <a:path fill="none" w="21600" h="18035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11998"/>
                    <a:pt x="20825" y="15194"/>
                    <a:pt x="19444" y="18039"/>
                  </a:cubicBezTo>
                </a:path>
                <a:path stroke="0" w="21600" h="18035">
                  <a:moveTo>
                    <a:pt x="19439" y="18035"/>
                  </a:moveTo>
                  <a:cubicBezTo>
                    <a:pt x="19444" y="18707"/>
                    <a:pt x="19447" y="19394"/>
                    <a:pt x="19447" y="20093"/>
                  </a:cubicBezTo>
                  <a:cubicBezTo>
                    <a:pt x="19447" y="20293"/>
                    <a:pt x="19447" y="20493"/>
                    <a:pt x="19446" y="20688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" name="任意多边形 2291"/>
            <p:cNvSpPr/>
            <p:nvPr/>
          </p:nvSpPr>
          <p:spPr>
            <a:xfrm flipH="1" rot="1821600">
              <a:off x="5118480" y="3460680"/>
              <a:ext cx="225720" cy="303480"/>
            </a:xfrm>
            <a:custGeom>
              <a:avLst/>
              <a:gdLst/>
              <a:ahLst/>
              <a:rect l="l" t="t" r="r" b="b"/>
              <a:pathLst>
                <a:path fill="none" w="21600" h="9561">
                  <a:moveTo>
                    <a:pt x="19805" y="0"/>
                  </a:moveTo>
                  <a:cubicBezTo>
                    <a:pt x="20961" y="2637"/>
                    <a:pt x="21600" y="5554"/>
                    <a:pt x="21600" y="8620"/>
                  </a:cubicBezTo>
                  <a:cubicBezTo>
                    <a:pt x="21600" y="8936"/>
                    <a:pt x="21593" y="9251"/>
                    <a:pt x="21580" y="9560"/>
                  </a:cubicBezTo>
                </a:path>
                <a:path stroke="0" w="21600" h="9561">
                  <a:moveTo>
                    <a:pt x="21579" y="9560"/>
                  </a:moveTo>
                  <a:cubicBezTo>
                    <a:pt x="21542" y="7909"/>
                    <a:pt x="21522" y="6117"/>
                    <a:pt x="21522" y="4246"/>
                  </a:cubicBezTo>
                  <a:cubicBezTo>
                    <a:pt x="21522" y="-4099"/>
                    <a:pt x="21924" y="-10864"/>
                    <a:pt x="22419" y="-10864"/>
                  </a:cubicBezTo>
                  <a:cubicBezTo>
                    <a:pt x="22914" y="-10864"/>
                    <a:pt x="23316" y="-4099"/>
                    <a:pt x="23316" y="4246"/>
                  </a:cubicBezTo>
                  <a:cubicBezTo>
                    <a:pt x="23316" y="4446"/>
                    <a:pt x="23316" y="4646"/>
                    <a:pt x="23315" y="4841"/>
                  </a:cubicBezTo>
                  <a:lnTo>
                    <a:pt x="19805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78" name="任意多边形 2292"/>
          <p:cNvSpPr/>
          <p:nvPr/>
        </p:nvSpPr>
        <p:spPr>
          <a:xfrm flipH="1" rot="1821600">
            <a:off x="5290920" y="3225960"/>
            <a:ext cx="226800" cy="302760"/>
          </a:xfrm>
          <a:custGeom>
            <a:avLst/>
            <a:gdLst/>
            <a:ahLst/>
            <a:rect l="l" t="t" r="r" b="b"/>
            <a:pathLst>
              <a:path fill="none" w="21600" h="9561">
                <a:moveTo>
                  <a:pt x="19805" y="0"/>
                </a:moveTo>
                <a:cubicBezTo>
                  <a:pt x="20961" y="2637"/>
                  <a:pt x="21600" y="5554"/>
                  <a:pt x="21600" y="8620"/>
                </a:cubicBezTo>
                <a:cubicBezTo>
                  <a:pt x="21600" y="8936"/>
                  <a:pt x="21593" y="9251"/>
                  <a:pt x="21580" y="9560"/>
                </a:cubicBezTo>
              </a:path>
              <a:path stroke="0" w="21600" h="9561">
                <a:moveTo>
                  <a:pt x="21579" y="9560"/>
                </a:moveTo>
                <a:cubicBezTo>
                  <a:pt x="21542" y="7909"/>
                  <a:pt x="21522" y="6117"/>
                  <a:pt x="21522" y="4246"/>
                </a:cubicBezTo>
                <a:cubicBezTo>
                  <a:pt x="21522" y="-4099"/>
                  <a:pt x="21924" y="-10864"/>
                  <a:pt x="22419" y="-10864"/>
                </a:cubicBezTo>
                <a:cubicBezTo>
                  <a:pt x="22914" y="-10864"/>
                  <a:pt x="23316" y="-4099"/>
                  <a:pt x="23316" y="4246"/>
                </a:cubicBezTo>
                <a:cubicBezTo>
                  <a:pt x="23316" y="4446"/>
                  <a:pt x="23316" y="4646"/>
                  <a:pt x="23315" y="4841"/>
                </a:cubicBezTo>
                <a:lnTo>
                  <a:pt x="19805" y="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任意多边形 2293"/>
          <p:cNvSpPr/>
          <p:nvPr/>
        </p:nvSpPr>
        <p:spPr>
          <a:xfrm flipH="1" rot="20405400">
            <a:off x="5281200" y="3435480"/>
            <a:ext cx="227160" cy="303120"/>
          </a:xfrm>
          <a:custGeom>
            <a:avLst/>
            <a:gdLst/>
            <a:ahLst/>
            <a:rect l="l" t="t" r="r" b="b"/>
            <a:pathLst>
              <a:path fill="none" w="21600" h="9561">
                <a:moveTo>
                  <a:pt x="19805" y="0"/>
                </a:moveTo>
                <a:cubicBezTo>
                  <a:pt x="20961" y="2637"/>
                  <a:pt x="21600" y="5554"/>
                  <a:pt x="21600" y="8620"/>
                </a:cubicBezTo>
                <a:cubicBezTo>
                  <a:pt x="21600" y="8936"/>
                  <a:pt x="21593" y="9251"/>
                  <a:pt x="21580" y="9560"/>
                </a:cubicBezTo>
              </a:path>
              <a:path stroke="0" w="21600" h="9561">
                <a:moveTo>
                  <a:pt x="21579" y="9560"/>
                </a:moveTo>
                <a:cubicBezTo>
                  <a:pt x="21542" y="7909"/>
                  <a:pt x="21522" y="6117"/>
                  <a:pt x="21522" y="4246"/>
                </a:cubicBezTo>
                <a:cubicBezTo>
                  <a:pt x="21522" y="-4099"/>
                  <a:pt x="21924" y="-10864"/>
                  <a:pt x="22419" y="-10864"/>
                </a:cubicBezTo>
                <a:cubicBezTo>
                  <a:pt x="22914" y="-10864"/>
                  <a:pt x="23316" y="-4099"/>
                  <a:pt x="23316" y="4246"/>
                </a:cubicBezTo>
                <a:cubicBezTo>
                  <a:pt x="23316" y="4446"/>
                  <a:pt x="23316" y="4646"/>
                  <a:pt x="23315" y="4841"/>
                </a:cubicBezTo>
                <a:lnTo>
                  <a:pt x="19805" y="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0" name="组合 2295"/>
          <p:cNvGrpSpPr/>
          <p:nvPr/>
        </p:nvGrpSpPr>
        <p:grpSpPr>
          <a:xfrm>
            <a:off x="4912560" y="2964600"/>
            <a:ext cx="1020960" cy="646560"/>
            <a:chOff x="4912560" y="2964600"/>
            <a:chExt cx="1020960" cy="646560"/>
          </a:xfrm>
        </p:grpSpPr>
        <p:grpSp>
          <p:nvGrpSpPr>
            <p:cNvPr id="281" name="组合 2296"/>
            <p:cNvGrpSpPr/>
            <p:nvPr/>
          </p:nvGrpSpPr>
          <p:grpSpPr>
            <a:xfrm>
              <a:off x="5377320" y="2992320"/>
              <a:ext cx="417600" cy="502560"/>
              <a:chOff x="5377320" y="2992320"/>
              <a:chExt cx="417600" cy="502560"/>
            </a:xfrm>
          </p:grpSpPr>
          <p:sp>
            <p:nvSpPr>
              <p:cNvPr id="282" name="任意多边形 2297"/>
              <p:cNvSpPr/>
              <p:nvPr/>
            </p:nvSpPr>
            <p:spPr>
              <a:xfrm rot="1922400">
                <a:off x="5486040" y="3009240"/>
                <a:ext cx="199440" cy="4680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83" name="任意多边形 2298"/>
              <p:cNvSpPr/>
              <p:nvPr/>
            </p:nvSpPr>
            <p:spPr>
              <a:xfrm rot="1922400">
                <a:off x="5490360" y="3046320"/>
                <a:ext cx="165240" cy="4266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84" name="任意多边形 2299"/>
              <p:cNvSpPr/>
              <p:nvPr/>
            </p:nvSpPr>
            <p:spPr>
              <a:xfrm rot="1922400">
                <a:off x="5489280" y="3106440"/>
                <a:ext cx="141480" cy="363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85" name="任意多边形 2300"/>
              <p:cNvSpPr/>
              <p:nvPr/>
            </p:nvSpPr>
            <p:spPr>
              <a:xfrm rot="1922400">
                <a:off x="5483520" y="3183120"/>
                <a:ext cx="108720" cy="2808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86" name="任意多边形 2301"/>
              <p:cNvSpPr/>
              <p:nvPr/>
            </p:nvSpPr>
            <p:spPr>
              <a:xfrm rot="1922400">
                <a:off x="5500800" y="3241440"/>
                <a:ext cx="43560" cy="2181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87" name="组合 2302"/>
            <p:cNvGrpSpPr/>
            <p:nvPr/>
          </p:nvGrpSpPr>
          <p:grpSpPr>
            <a:xfrm>
              <a:off x="5321880" y="2970360"/>
              <a:ext cx="279720" cy="496080"/>
              <a:chOff x="5321880" y="2970360"/>
              <a:chExt cx="279720" cy="496080"/>
            </a:xfrm>
          </p:grpSpPr>
          <p:sp>
            <p:nvSpPr>
              <p:cNvPr id="288" name="任意多边形 2303"/>
              <p:cNvSpPr/>
              <p:nvPr/>
            </p:nvSpPr>
            <p:spPr>
              <a:xfrm rot="618000">
                <a:off x="5361840" y="2984400"/>
                <a:ext cx="199440" cy="4680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89" name="任意多边形 2304"/>
              <p:cNvSpPr/>
              <p:nvPr/>
            </p:nvSpPr>
            <p:spPr>
              <a:xfrm rot="618000">
                <a:off x="5372640" y="3024720"/>
                <a:ext cx="165240" cy="4266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0" name="任意多边形 2305"/>
              <p:cNvSpPr/>
              <p:nvPr/>
            </p:nvSpPr>
            <p:spPr>
              <a:xfrm rot="618000">
                <a:off x="5383440" y="3087360"/>
                <a:ext cx="141480" cy="363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1" name="任意多边形 2306"/>
              <p:cNvSpPr/>
              <p:nvPr/>
            </p:nvSpPr>
            <p:spPr>
              <a:xfrm rot="618000">
                <a:off x="5392080" y="3170160"/>
                <a:ext cx="108720" cy="2808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2" name="任意多边形 2307"/>
              <p:cNvSpPr/>
              <p:nvPr/>
            </p:nvSpPr>
            <p:spPr>
              <a:xfrm rot="618000">
                <a:off x="5420160" y="3232080"/>
                <a:ext cx="43560" cy="2181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93" name="组合 2308"/>
            <p:cNvGrpSpPr/>
            <p:nvPr/>
          </p:nvGrpSpPr>
          <p:grpSpPr>
            <a:xfrm>
              <a:off x="5139720" y="2964600"/>
              <a:ext cx="344160" cy="507960"/>
              <a:chOff x="5139720" y="2964600"/>
              <a:chExt cx="344160" cy="507960"/>
            </a:xfrm>
          </p:grpSpPr>
          <p:sp>
            <p:nvSpPr>
              <p:cNvPr id="294" name="任意多边形 2309"/>
              <p:cNvSpPr/>
              <p:nvPr/>
            </p:nvSpPr>
            <p:spPr>
              <a:xfrm rot="20431200">
                <a:off x="5211720" y="2984400"/>
                <a:ext cx="199440" cy="4680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5" name="任意多边形 2310"/>
              <p:cNvSpPr/>
              <p:nvPr/>
            </p:nvSpPr>
            <p:spPr>
              <a:xfrm rot="20431200">
                <a:off x="5233680" y="3025080"/>
                <a:ext cx="165240" cy="4266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6" name="任意多边形 2311"/>
              <p:cNvSpPr/>
              <p:nvPr/>
            </p:nvSpPr>
            <p:spPr>
              <a:xfrm rot="20431200">
                <a:off x="5259960" y="3084120"/>
                <a:ext cx="141480" cy="363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7" name="任意多边形 2312"/>
              <p:cNvSpPr/>
              <p:nvPr/>
            </p:nvSpPr>
            <p:spPr>
              <a:xfrm rot="20431200">
                <a:off x="5290200" y="3165480"/>
                <a:ext cx="108720" cy="2808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8" name="任意多边形 2313"/>
              <p:cNvSpPr/>
              <p:nvPr/>
            </p:nvSpPr>
            <p:spPr>
              <a:xfrm rot="20431200">
                <a:off x="5334120" y="3225600"/>
                <a:ext cx="43560" cy="2181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99" name="组合 2314"/>
            <p:cNvGrpSpPr/>
            <p:nvPr/>
          </p:nvGrpSpPr>
          <p:grpSpPr>
            <a:xfrm>
              <a:off x="4952880" y="3056400"/>
              <a:ext cx="468360" cy="475200"/>
              <a:chOff x="4952880" y="3056400"/>
              <a:chExt cx="468360" cy="475200"/>
            </a:xfrm>
          </p:grpSpPr>
          <p:sp>
            <p:nvSpPr>
              <p:cNvPr id="300" name="任意多边形 2315"/>
              <p:cNvSpPr/>
              <p:nvPr/>
            </p:nvSpPr>
            <p:spPr>
              <a:xfrm rot="18963600">
                <a:off x="5087160" y="3059640"/>
                <a:ext cx="199440" cy="4680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1" name="任意多边形 2316"/>
              <p:cNvSpPr/>
              <p:nvPr/>
            </p:nvSpPr>
            <p:spPr>
              <a:xfrm rot="18963600">
                <a:off x="5116680" y="3097080"/>
                <a:ext cx="165240" cy="4266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2" name="任意多边形 2317"/>
              <p:cNvSpPr/>
              <p:nvPr/>
            </p:nvSpPr>
            <p:spPr>
              <a:xfrm rot="18963600">
                <a:off x="5153040" y="3147840"/>
                <a:ext cx="141480" cy="363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3" name="任意多边形 2318"/>
              <p:cNvSpPr/>
              <p:nvPr/>
            </p:nvSpPr>
            <p:spPr>
              <a:xfrm rot="18963600">
                <a:off x="5198760" y="3219840"/>
                <a:ext cx="108720" cy="2808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4" name="任意多边形 2319"/>
              <p:cNvSpPr/>
              <p:nvPr/>
            </p:nvSpPr>
            <p:spPr>
              <a:xfrm rot="18963600">
                <a:off x="5253480" y="3272400"/>
                <a:ext cx="43560" cy="2181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5" name="组合 2320"/>
            <p:cNvGrpSpPr/>
            <p:nvPr/>
          </p:nvGrpSpPr>
          <p:grpSpPr>
            <a:xfrm>
              <a:off x="5427720" y="3171240"/>
              <a:ext cx="505800" cy="434520"/>
              <a:chOff x="5427720" y="3171240"/>
              <a:chExt cx="505800" cy="434520"/>
            </a:xfrm>
          </p:grpSpPr>
          <p:sp>
            <p:nvSpPr>
              <p:cNvPr id="306" name="任意多边形 2321"/>
              <p:cNvSpPr/>
              <p:nvPr/>
            </p:nvSpPr>
            <p:spPr>
              <a:xfrm rot="3340800">
                <a:off x="5579280" y="3151080"/>
                <a:ext cx="202320" cy="47412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7" name="任意多边形 2322"/>
              <p:cNvSpPr/>
              <p:nvPr/>
            </p:nvSpPr>
            <p:spPr>
              <a:xfrm rot="3340800">
                <a:off x="5578200" y="3182400"/>
                <a:ext cx="167400" cy="4320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8" name="任意多边形 2323"/>
              <p:cNvSpPr/>
              <p:nvPr/>
            </p:nvSpPr>
            <p:spPr>
              <a:xfrm rot="3340800">
                <a:off x="5566680" y="3234960"/>
                <a:ext cx="143280" cy="36864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9" name="任意多边形 2324"/>
              <p:cNvSpPr/>
              <p:nvPr/>
            </p:nvSpPr>
            <p:spPr>
              <a:xfrm rot="3340800">
                <a:off x="5548320" y="3301200"/>
                <a:ext cx="110160" cy="2844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0" name="任意多边形 2325"/>
              <p:cNvSpPr/>
              <p:nvPr/>
            </p:nvSpPr>
            <p:spPr>
              <a:xfrm rot="3340800">
                <a:off x="5555880" y="3351240"/>
                <a:ext cx="43920" cy="22104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1" name="组合 2326"/>
            <p:cNvGrpSpPr/>
            <p:nvPr/>
          </p:nvGrpSpPr>
          <p:grpSpPr>
            <a:xfrm>
              <a:off x="4912560" y="3175200"/>
              <a:ext cx="491760" cy="435960"/>
              <a:chOff x="4912560" y="3175200"/>
              <a:chExt cx="491760" cy="435960"/>
            </a:xfrm>
          </p:grpSpPr>
          <p:sp>
            <p:nvSpPr>
              <p:cNvPr id="312" name="任意多边形 2327"/>
              <p:cNvSpPr/>
              <p:nvPr/>
            </p:nvSpPr>
            <p:spPr>
              <a:xfrm rot="18372000">
                <a:off x="5057280" y="3162240"/>
                <a:ext cx="202320" cy="46152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3" name="任意多边形 2328"/>
              <p:cNvSpPr/>
              <p:nvPr/>
            </p:nvSpPr>
            <p:spPr>
              <a:xfrm rot="18372000">
                <a:off x="5089680" y="3196800"/>
                <a:ext cx="167400" cy="42048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4" name="任意多边形 2329"/>
              <p:cNvSpPr/>
              <p:nvPr/>
            </p:nvSpPr>
            <p:spPr>
              <a:xfrm rot="18372000">
                <a:off x="5128560" y="3242520"/>
                <a:ext cx="143280" cy="35892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5" name="任意多边形 2330"/>
              <p:cNvSpPr/>
              <p:nvPr/>
            </p:nvSpPr>
            <p:spPr>
              <a:xfrm rot="18372000">
                <a:off x="5178600" y="3308040"/>
                <a:ext cx="110160" cy="27684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6" name="任意多边形 2331"/>
              <p:cNvSpPr/>
              <p:nvPr/>
            </p:nvSpPr>
            <p:spPr>
              <a:xfrm rot="18372000">
                <a:off x="5237280" y="3355920"/>
                <a:ext cx="43920" cy="21528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7" name="组合 2332"/>
            <p:cNvGrpSpPr/>
            <p:nvPr/>
          </p:nvGrpSpPr>
          <p:grpSpPr>
            <a:xfrm>
              <a:off x="5045760" y="3038040"/>
              <a:ext cx="419760" cy="527040"/>
              <a:chOff x="5045760" y="3038040"/>
              <a:chExt cx="419760" cy="527040"/>
            </a:xfrm>
          </p:grpSpPr>
          <p:sp>
            <p:nvSpPr>
              <p:cNvPr id="318" name="任意多边形 2333"/>
              <p:cNvSpPr/>
              <p:nvPr/>
            </p:nvSpPr>
            <p:spPr>
              <a:xfrm rot="19795800">
                <a:off x="5155560" y="3054960"/>
                <a:ext cx="199440" cy="4932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9" name="任意多边形 2334"/>
              <p:cNvSpPr/>
              <p:nvPr/>
            </p:nvSpPr>
            <p:spPr>
              <a:xfrm rot="19795800">
                <a:off x="5181480" y="3096720"/>
                <a:ext cx="165240" cy="44928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0" name="任意多边形 2335"/>
              <p:cNvSpPr/>
              <p:nvPr/>
            </p:nvSpPr>
            <p:spPr>
              <a:xfrm rot="19795800">
                <a:off x="5213880" y="3155760"/>
                <a:ext cx="141480" cy="3837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1" name="任意多边形 2336"/>
              <p:cNvSpPr/>
              <p:nvPr/>
            </p:nvSpPr>
            <p:spPr>
              <a:xfrm rot="19795800">
                <a:off x="5252040" y="3238200"/>
                <a:ext cx="108720" cy="29592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2" name="任意多边形 2337"/>
              <p:cNvSpPr/>
              <p:nvPr/>
            </p:nvSpPr>
            <p:spPr>
              <a:xfrm rot="19795800">
                <a:off x="5302080" y="3298680"/>
                <a:ext cx="43560" cy="23004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23" name="组合 2338"/>
            <p:cNvGrpSpPr/>
            <p:nvPr/>
          </p:nvGrpSpPr>
          <p:grpSpPr>
            <a:xfrm>
              <a:off x="5274360" y="3034800"/>
              <a:ext cx="199440" cy="468000"/>
              <a:chOff x="5274360" y="3034800"/>
              <a:chExt cx="199440" cy="468000"/>
            </a:xfrm>
          </p:grpSpPr>
          <p:sp>
            <p:nvSpPr>
              <p:cNvPr id="324" name="任意多边形 2339"/>
              <p:cNvSpPr/>
              <p:nvPr/>
            </p:nvSpPr>
            <p:spPr>
              <a:xfrm>
                <a:off x="5274360" y="3034800"/>
                <a:ext cx="199440" cy="4680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5" name="任意多边形 2340"/>
              <p:cNvSpPr/>
              <p:nvPr/>
            </p:nvSpPr>
            <p:spPr>
              <a:xfrm>
                <a:off x="5289120" y="3076200"/>
                <a:ext cx="165240" cy="4266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6" name="任意多边形 2341"/>
              <p:cNvSpPr/>
              <p:nvPr/>
            </p:nvSpPr>
            <p:spPr>
              <a:xfrm>
                <a:off x="5305320" y="3138480"/>
                <a:ext cx="141480" cy="363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7" name="任意多边形 2342"/>
              <p:cNvSpPr/>
              <p:nvPr/>
            </p:nvSpPr>
            <p:spPr>
              <a:xfrm>
                <a:off x="5321520" y="3222000"/>
                <a:ext cx="108720" cy="2808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28" name="任意多边形 2343"/>
              <p:cNvSpPr/>
              <p:nvPr/>
            </p:nvSpPr>
            <p:spPr>
              <a:xfrm>
                <a:off x="5355360" y="3284280"/>
                <a:ext cx="43560" cy="2181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29" name="组合 2344"/>
            <p:cNvGrpSpPr/>
            <p:nvPr/>
          </p:nvGrpSpPr>
          <p:grpSpPr>
            <a:xfrm>
              <a:off x="5307840" y="3012120"/>
              <a:ext cx="376560" cy="532080"/>
              <a:chOff x="5307840" y="3012120"/>
              <a:chExt cx="376560" cy="532080"/>
            </a:xfrm>
          </p:grpSpPr>
          <p:sp>
            <p:nvSpPr>
              <p:cNvPr id="330" name="任意多边形 2345"/>
              <p:cNvSpPr/>
              <p:nvPr/>
            </p:nvSpPr>
            <p:spPr>
              <a:xfrm rot="1381200">
                <a:off x="5396400" y="3031200"/>
                <a:ext cx="199440" cy="49320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1" name="任意多边形 2346"/>
              <p:cNvSpPr/>
              <p:nvPr/>
            </p:nvSpPr>
            <p:spPr>
              <a:xfrm rot="1381200">
                <a:off x="5402520" y="3072600"/>
                <a:ext cx="165240" cy="44928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2" name="任意多边形 2347"/>
              <p:cNvSpPr/>
              <p:nvPr/>
            </p:nvSpPr>
            <p:spPr>
              <a:xfrm rot="1381200">
                <a:off x="5405400" y="3137400"/>
                <a:ext cx="141480" cy="3837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3" name="任意多边形 2348"/>
              <p:cNvSpPr/>
              <p:nvPr/>
            </p:nvSpPr>
            <p:spPr>
              <a:xfrm rot="1381200">
                <a:off x="5404680" y="3221640"/>
                <a:ext cx="108720" cy="29592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4" name="任意多边形 2349"/>
              <p:cNvSpPr/>
              <p:nvPr/>
            </p:nvSpPr>
            <p:spPr>
              <a:xfrm rot="1381200">
                <a:off x="5425560" y="3285360"/>
                <a:ext cx="43560" cy="23004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35" name="组合 2350"/>
            <p:cNvGrpSpPr/>
            <p:nvPr/>
          </p:nvGrpSpPr>
          <p:grpSpPr>
            <a:xfrm>
              <a:off x="5344560" y="3079440"/>
              <a:ext cx="503280" cy="501120"/>
              <a:chOff x="5344560" y="3079440"/>
              <a:chExt cx="503280" cy="501120"/>
            </a:xfrm>
          </p:grpSpPr>
          <p:sp>
            <p:nvSpPr>
              <p:cNvPr id="336" name="任意多边形 2351"/>
              <p:cNvSpPr/>
              <p:nvPr/>
            </p:nvSpPr>
            <p:spPr>
              <a:xfrm rot="2715600">
                <a:off x="5494680" y="3075840"/>
                <a:ext cx="202320" cy="507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7" name="任意多边形 2352"/>
              <p:cNvSpPr/>
              <p:nvPr/>
            </p:nvSpPr>
            <p:spPr>
              <a:xfrm rot="2715600">
                <a:off x="5494680" y="3112560"/>
                <a:ext cx="167400" cy="4629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8" name="任意多边形 2353"/>
              <p:cNvSpPr/>
              <p:nvPr/>
            </p:nvSpPr>
            <p:spPr>
              <a:xfrm rot="2715600">
                <a:off x="5485680" y="3173040"/>
                <a:ext cx="143280" cy="39528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9" name="任意多边形 2354"/>
              <p:cNvSpPr/>
              <p:nvPr/>
            </p:nvSpPr>
            <p:spPr>
              <a:xfrm rot="2715600">
                <a:off x="5470200" y="3250440"/>
                <a:ext cx="110160" cy="30456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ff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0" name="任意多边形 2355"/>
              <p:cNvSpPr/>
              <p:nvPr/>
            </p:nvSpPr>
            <p:spPr>
              <a:xfrm rot="2715600">
                <a:off x="5479920" y="3308400"/>
                <a:ext cx="43920" cy="236880"/>
              </a:xfrm>
              <a:custGeom>
                <a:avLst/>
                <a:gdLst/>
                <a:ahLst/>
                <a:rect l="l" t="t" r="r" b="b"/>
                <a:pathLst>
                  <a:path w="1195" h="2472">
                    <a:moveTo>
                      <a:pt x="572" y="0"/>
                    </a:moveTo>
                    <a:cubicBezTo>
                      <a:pt x="532" y="60"/>
                      <a:pt x="501" y="125"/>
                      <a:pt x="464" y="186"/>
                    </a:cubicBezTo>
                    <a:cubicBezTo>
                      <a:pt x="444" y="220"/>
                      <a:pt x="424" y="254"/>
                      <a:pt x="404" y="288"/>
                    </a:cubicBezTo>
                    <a:cubicBezTo>
                      <a:pt x="397" y="300"/>
                      <a:pt x="385" y="311"/>
                      <a:pt x="380" y="324"/>
                    </a:cubicBezTo>
                    <a:cubicBezTo>
                      <a:pt x="364" y="364"/>
                      <a:pt x="341" y="401"/>
                      <a:pt x="320" y="438"/>
                    </a:cubicBezTo>
                    <a:cubicBezTo>
                      <a:pt x="294" y="483"/>
                      <a:pt x="277" y="532"/>
                      <a:pt x="248" y="576"/>
                    </a:cubicBezTo>
                    <a:cubicBezTo>
                      <a:pt x="234" y="645"/>
                      <a:pt x="198" y="710"/>
                      <a:pt x="170" y="774"/>
                    </a:cubicBezTo>
                    <a:cubicBezTo>
                      <a:pt x="154" y="810"/>
                      <a:pt x="150" y="849"/>
                      <a:pt x="128" y="882"/>
                    </a:cubicBezTo>
                    <a:cubicBezTo>
                      <a:pt x="114" y="951"/>
                      <a:pt x="89" y="1017"/>
                      <a:pt x="74" y="1086"/>
                    </a:cubicBezTo>
                    <a:cubicBezTo>
                      <a:pt x="60" y="1148"/>
                      <a:pt x="56" y="1241"/>
                      <a:pt x="38" y="1296"/>
                    </a:cubicBezTo>
                    <a:cubicBezTo>
                      <a:pt x="23" y="1432"/>
                      <a:pt x="0" y="1591"/>
                      <a:pt x="44" y="1722"/>
                    </a:cubicBezTo>
                    <a:cubicBezTo>
                      <a:pt x="52" y="1775"/>
                      <a:pt x="68" y="1839"/>
                      <a:pt x="98" y="1884"/>
                    </a:cubicBezTo>
                    <a:cubicBezTo>
                      <a:pt x="105" y="1912"/>
                      <a:pt x="113" y="1923"/>
                      <a:pt x="134" y="1944"/>
                    </a:cubicBezTo>
                    <a:cubicBezTo>
                      <a:pt x="151" y="2013"/>
                      <a:pt x="127" y="1928"/>
                      <a:pt x="152" y="1986"/>
                    </a:cubicBezTo>
                    <a:cubicBezTo>
                      <a:pt x="167" y="2021"/>
                      <a:pt x="170" y="2050"/>
                      <a:pt x="194" y="2082"/>
                    </a:cubicBezTo>
                    <a:cubicBezTo>
                      <a:pt x="203" y="2109"/>
                      <a:pt x="212" y="2118"/>
                      <a:pt x="236" y="2136"/>
                    </a:cubicBezTo>
                    <a:cubicBezTo>
                      <a:pt x="250" y="2178"/>
                      <a:pt x="315" y="2247"/>
                      <a:pt x="350" y="2274"/>
                    </a:cubicBezTo>
                    <a:cubicBezTo>
                      <a:pt x="365" y="2304"/>
                      <a:pt x="391" y="2315"/>
                      <a:pt x="416" y="2340"/>
                    </a:cubicBezTo>
                    <a:cubicBezTo>
                      <a:pt x="442" y="2366"/>
                      <a:pt x="465" y="2406"/>
                      <a:pt x="500" y="2418"/>
                    </a:cubicBezTo>
                    <a:cubicBezTo>
                      <a:pt x="528" y="2446"/>
                      <a:pt x="511" y="2431"/>
                      <a:pt x="554" y="2460"/>
                    </a:cubicBezTo>
                    <a:cubicBezTo>
                      <a:pt x="560" y="2464"/>
                      <a:pt x="572" y="2472"/>
                      <a:pt x="572" y="2472"/>
                    </a:cubicBezTo>
                    <a:cubicBezTo>
                      <a:pt x="618" y="2457"/>
                      <a:pt x="596" y="2462"/>
                      <a:pt x="638" y="2454"/>
                    </a:cubicBezTo>
                    <a:cubicBezTo>
                      <a:pt x="656" y="2442"/>
                      <a:pt x="674" y="2430"/>
                      <a:pt x="692" y="2418"/>
                    </a:cubicBezTo>
                    <a:cubicBezTo>
                      <a:pt x="698" y="2414"/>
                      <a:pt x="710" y="2406"/>
                      <a:pt x="710" y="2406"/>
                    </a:cubicBezTo>
                    <a:cubicBezTo>
                      <a:pt x="745" y="2353"/>
                      <a:pt x="809" y="2319"/>
                      <a:pt x="854" y="2274"/>
                    </a:cubicBezTo>
                    <a:cubicBezTo>
                      <a:pt x="890" y="2238"/>
                      <a:pt x="857" y="2263"/>
                      <a:pt x="884" y="2232"/>
                    </a:cubicBezTo>
                    <a:cubicBezTo>
                      <a:pt x="884" y="2232"/>
                      <a:pt x="929" y="2187"/>
                      <a:pt x="938" y="2178"/>
                    </a:cubicBezTo>
                    <a:cubicBezTo>
                      <a:pt x="974" y="2142"/>
                      <a:pt x="942" y="2206"/>
                      <a:pt x="992" y="2130"/>
                    </a:cubicBezTo>
                    <a:cubicBezTo>
                      <a:pt x="1017" y="2092"/>
                      <a:pt x="1048" y="2059"/>
                      <a:pt x="1076" y="2022"/>
                    </a:cubicBezTo>
                    <a:cubicBezTo>
                      <a:pt x="1082" y="2014"/>
                      <a:pt x="1088" y="2006"/>
                      <a:pt x="1094" y="1998"/>
                    </a:cubicBezTo>
                    <a:cubicBezTo>
                      <a:pt x="1100" y="1990"/>
                      <a:pt x="1112" y="1974"/>
                      <a:pt x="1112" y="1974"/>
                    </a:cubicBezTo>
                    <a:cubicBezTo>
                      <a:pt x="1120" y="1949"/>
                      <a:pt x="1134" y="1924"/>
                      <a:pt x="1148" y="1902"/>
                    </a:cubicBezTo>
                    <a:cubicBezTo>
                      <a:pt x="1160" y="1852"/>
                      <a:pt x="1168" y="1802"/>
                      <a:pt x="1178" y="1752"/>
                    </a:cubicBezTo>
                    <a:cubicBezTo>
                      <a:pt x="1190" y="1579"/>
                      <a:pt x="1195" y="1401"/>
                      <a:pt x="1166" y="1230"/>
                    </a:cubicBezTo>
                    <a:cubicBezTo>
                      <a:pt x="1158" y="1185"/>
                      <a:pt x="1156" y="1125"/>
                      <a:pt x="1130" y="1086"/>
                    </a:cubicBezTo>
                    <a:cubicBezTo>
                      <a:pt x="1110" y="988"/>
                      <a:pt x="1066" y="888"/>
                      <a:pt x="1010" y="804"/>
                    </a:cubicBezTo>
                    <a:cubicBezTo>
                      <a:pt x="1000" y="789"/>
                      <a:pt x="995" y="766"/>
                      <a:pt x="986" y="750"/>
                    </a:cubicBezTo>
                    <a:cubicBezTo>
                      <a:pt x="954" y="692"/>
                      <a:pt x="919" y="623"/>
                      <a:pt x="872" y="576"/>
                    </a:cubicBezTo>
                    <a:cubicBezTo>
                      <a:pt x="864" y="551"/>
                      <a:pt x="846" y="520"/>
                      <a:pt x="830" y="498"/>
                    </a:cubicBezTo>
                    <a:cubicBezTo>
                      <a:pt x="808" y="467"/>
                      <a:pt x="816" y="494"/>
                      <a:pt x="800" y="462"/>
                    </a:cubicBezTo>
                    <a:cubicBezTo>
                      <a:pt x="788" y="438"/>
                      <a:pt x="784" y="422"/>
                      <a:pt x="764" y="402"/>
                    </a:cubicBezTo>
                    <a:cubicBezTo>
                      <a:pt x="752" y="354"/>
                      <a:pt x="724" y="314"/>
                      <a:pt x="704" y="270"/>
                    </a:cubicBezTo>
                    <a:cubicBezTo>
                      <a:pt x="696" y="253"/>
                      <a:pt x="697" y="232"/>
                      <a:pt x="686" y="216"/>
                    </a:cubicBezTo>
                    <a:cubicBezTo>
                      <a:pt x="663" y="182"/>
                      <a:pt x="646" y="144"/>
                      <a:pt x="626" y="108"/>
                    </a:cubicBezTo>
                    <a:cubicBezTo>
                      <a:pt x="607" y="74"/>
                      <a:pt x="572" y="40"/>
                      <a:pt x="572" y="0"/>
                    </a:cubicBezTo>
                    <a:close/>
                  </a:path>
                </a:pathLst>
              </a:custGeom>
              <a:solidFill>
                <a:srgbClr val="ec0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341" name="组合 2356"/>
          <p:cNvGrpSpPr/>
          <p:nvPr/>
        </p:nvGrpSpPr>
        <p:grpSpPr>
          <a:xfrm>
            <a:off x="-13680" y="-41760"/>
            <a:ext cx="3006000" cy="1131120"/>
            <a:chOff x="-13680" y="-41760"/>
            <a:chExt cx="3006000" cy="1131120"/>
          </a:xfrm>
        </p:grpSpPr>
        <p:sp>
          <p:nvSpPr>
            <p:cNvPr id="342" name="椭圆 2357"/>
            <p:cNvSpPr/>
            <p:nvPr/>
          </p:nvSpPr>
          <p:spPr>
            <a:xfrm flipH="1" rot="1453200">
              <a:off x="2688840" y="363600"/>
              <a:ext cx="235080" cy="15588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矩形 2358"/>
            <p:cNvSpPr/>
            <p:nvPr/>
          </p:nvSpPr>
          <p:spPr>
            <a:xfrm flipH="1">
              <a:off x="0" y="0"/>
              <a:ext cx="2736000" cy="3636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44" name="组合 2359"/>
            <p:cNvGrpSpPr/>
            <p:nvPr/>
          </p:nvGrpSpPr>
          <p:grpSpPr>
            <a:xfrm>
              <a:off x="-13680" y="402840"/>
              <a:ext cx="1707840" cy="686520"/>
              <a:chOff x="-13680" y="402840"/>
              <a:chExt cx="1707840" cy="686520"/>
            </a:xfrm>
          </p:grpSpPr>
          <p:sp>
            <p:nvSpPr>
              <p:cNvPr id="345" name="椭圆 2360"/>
              <p:cNvSpPr/>
              <p:nvPr/>
            </p:nvSpPr>
            <p:spPr>
              <a:xfrm flipH="1" rot="705000">
                <a:off x="912240" y="680760"/>
                <a:ext cx="136800" cy="1386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6" name="椭圆 2361"/>
              <p:cNvSpPr/>
              <p:nvPr/>
            </p:nvSpPr>
            <p:spPr>
              <a:xfrm flipH="1" rot="705000">
                <a:off x="970560" y="714960"/>
                <a:ext cx="328680" cy="33264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7" name="椭圆 2362"/>
              <p:cNvSpPr/>
              <p:nvPr/>
            </p:nvSpPr>
            <p:spPr>
              <a:xfrm flipH="1" rot="705000">
                <a:off x="1198800" y="771480"/>
                <a:ext cx="164160" cy="16632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8" name="椭圆 2363"/>
              <p:cNvSpPr/>
              <p:nvPr/>
            </p:nvSpPr>
            <p:spPr>
              <a:xfrm flipH="1" rot="705000">
                <a:off x="1301760" y="679680"/>
                <a:ext cx="164160" cy="16632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9" name="椭圆 2364"/>
              <p:cNvSpPr/>
              <p:nvPr/>
            </p:nvSpPr>
            <p:spPr>
              <a:xfrm flipH="1" rot="705000">
                <a:off x="854280" y="813240"/>
                <a:ext cx="164160" cy="16632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0" name="椭圆 2365"/>
              <p:cNvSpPr/>
              <p:nvPr/>
            </p:nvSpPr>
            <p:spPr>
              <a:xfrm flipH="1" rot="705000">
                <a:off x="720360" y="785160"/>
                <a:ext cx="164160" cy="16632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1" name="椭圆 2366"/>
              <p:cNvSpPr/>
              <p:nvPr/>
            </p:nvSpPr>
            <p:spPr>
              <a:xfrm flipH="1" rot="705000">
                <a:off x="698760" y="567000"/>
                <a:ext cx="27360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2" name="椭圆 2367"/>
              <p:cNvSpPr/>
              <p:nvPr/>
            </p:nvSpPr>
            <p:spPr>
              <a:xfrm flipH="1" rot="705000">
                <a:off x="1212840" y="786960"/>
                <a:ext cx="27396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3" name="椭圆 2368"/>
              <p:cNvSpPr/>
              <p:nvPr/>
            </p:nvSpPr>
            <p:spPr>
              <a:xfrm flipH="1" rot="705000">
                <a:off x="1411920" y="793800"/>
                <a:ext cx="218880" cy="2217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4" name="椭圆 2369"/>
              <p:cNvSpPr/>
              <p:nvPr/>
            </p:nvSpPr>
            <p:spPr>
              <a:xfrm flipH="1" rot="705000">
                <a:off x="1400760" y="753480"/>
                <a:ext cx="136800" cy="1386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5" name="椭圆 2370"/>
              <p:cNvSpPr/>
              <p:nvPr/>
            </p:nvSpPr>
            <p:spPr>
              <a:xfrm flipH="1" rot="705000">
                <a:off x="1549800" y="869400"/>
                <a:ext cx="136800" cy="831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6" name="椭圆 2371"/>
              <p:cNvSpPr/>
              <p:nvPr/>
            </p:nvSpPr>
            <p:spPr>
              <a:xfrm flipH="1" rot="705000">
                <a:off x="1100880" y="650520"/>
                <a:ext cx="27360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7" name="椭圆 2372"/>
              <p:cNvSpPr/>
              <p:nvPr/>
            </p:nvSpPr>
            <p:spPr>
              <a:xfrm flipH="1" rot="705000">
                <a:off x="484200" y="522360"/>
                <a:ext cx="27396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8" name="椭圆 2373"/>
              <p:cNvSpPr/>
              <p:nvPr/>
            </p:nvSpPr>
            <p:spPr>
              <a:xfrm flipH="1" rot="705000">
                <a:off x="135720" y="450000"/>
                <a:ext cx="27360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59" name="椭圆 2374"/>
              <p:cNvSpPr/>
              <p:nvPr/>
            </p:nvSpPr>
            <p:spPr>
              <a:xfrm flipH="1" rot="705000">
                <a:off x="11520" y="509040"/>
                <a:ext cx="27396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0" name="椭圆 2375"/>
              <p:cNvSpPr/>
              <p:nvPr/>
            </p:nvSpPr>
            <p:spPr>
              <a:xfrm flipH="1" rot="705000">
                <a:off x="28440" y="427680"/>
                <a:ext cx="273960" cy="27720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61" name="组合 2376"/>
            <p:cNvGrpSpPr/>
            <p:nvPr/>
          </p:nvGrpSpPr>
          <p:grpSpPr>
            <a:xfrm>
              <a:off x="0" y="0"/>
              <a:ext cx="2924280" cy="779400"/>
              <a:chOff x="0" y="0"/>
              <a:chExt cx="2924280" cy="779400"/>
            </a:xfrm>
          </p:grpSpPr>
          <p:sp>
            <p:nvSpPr>
              <p:cNvPr id="362" name="椭圆 2377"/>
              <p:cNvSpPr/>
              <p:nvPr/>
            </p:nvSpPr>
            <p:spPr>
              <a:xfrm flipH="1">
                <a:off x="1555920" y="155880"/>
                <a:ext cx="235800" cy="2595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3" name="椭圆 2378"/>
              <p:cNvSpPr/>
              <p:nvPr/>
            </p:nvSpPr>
            <p:spPr>
              <a:xfrm flipH="1">
                <a:off x="1698120" y="155880"/>
                <a:ext cx="565920" cy="62352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4" name="椭圆 2379"/>
              <p:cNvSpPr/>
              <p:nvPr/>
            </p:nvSpPr>
            <p:spPr>
              <a:xfrm flipH="1">
                <a:off x="2075400" y="207720"/>
                <a:ext cx="282960" cy="3117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5" name="椭圆 2380"/>
              <p:cNvSpPr/>
              <p:nvPr/>
            </p:nvSpPr>
            <p:spPr>
              <a:xfrm flipH="1">
                <a:off x="2216880" y="0"/>
                <a:ext cx="282960" cy="3117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6" name="椭圆 2381"/>
              <p:cNvSpPr/>
              <p:nvPr/>
            </p:nvSpPr>
            <p:spPr>
              <a:xfrm flipH="1">
                <a:off x="1509120" y="415440"/>
                <a:ext cx="282960" cy="3117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7" name="椭圆 2382"/>
              <p:cNvSpPr/>
              <p:nvPr/>
            </p:nvSpPr>
            <p:spPr>
              <a:xfrm flipH="1">
                <a:off x="1273320" y="415440"/>
                <a:ext cx="282960" cy="31176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8" name="椭圆 2383"/>
              <p:cNvSpPr/>
              <p:nvPr/>
            </p:nvSpPr>
            <p:spPr>
              <a:xfrm flipH="1">
                <a:off x="1179000" y="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9" name="椭圆 2384"/>
              <p:cNvSpPr/>
              <p:nvPr/>
            </p:nvSpPr>
            <p:spPr>
              <a:xfrm flipH="1">
                <a:off x="2122920" y="20772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0" name="椭圆 2385"/>
              <p:cNvSpPr/>
              <p:nvPr/>
            </p:nvSpPr>
            <p:spPr>
              <a:xfrm flipH="1">
                <a:off x="2453040" y="155880"/>
                <a:ext cx="377280" cy="41544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1" name="椭圆 2386"/>
              <p:cNvSpPr/>
              <p:nvPr/>
            </p:nvSpPr>
            <p:spPr>
              <a:xfrm flipH="1">
                <a:off x="2405160" y="103680"/>
                <a:ext cx="235800" cy="25992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2" name="椭圆 2387"/>
              <p:cNvSpPr/>
              <p:nvPr/>
            </p:nvSpPr>
            <p:spPr>
              <a:xfrm flipH="1">
                <a:off x="2688120" y="259560"/>
                <a:ext cx="235800" cy="1558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3" name="椭圆 2388"/>
              <p:cNvSpPr/>
              <p:nvPr/>
            </p:nvSpPr>
            <p:spPr>
              <a:xfrm flipH="1">
                <a:off x="1886760" y="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4" name="椭圆 2389"/>
              <p:cNvSpPr/>
              <p:nvPr/>
            </p:nvSpPr>
            <p:spPr>
              <a:xfrm flipH="1">
                <a:off x="801720" y="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5" name="椭圆 2390"/>
              <p:cNvSpPr/>
              <p:nvPr/>
            </p:nvSpPr>
            <p:spPr>
              <a:xfrm flipH="1">
                <a:off x="188280" y="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6" name="椭圆 2391"/>
              <p:cNvSpPr/>
              <p:nvPr/>
            </p:nvSpPr>
            <p:spPr>
              <a:xfrm flipH="1">
                <a:off x="0" y="15588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7" name="椭圆 2392"/>
              <p:cNvSpPr/>
              <p:nvPr/>
            </p:nvSpPr>
            <p:spPr>
              <a:xfrm flipH="1">
                <a:off x="0" y="0"/>
                <a:ext cx="471600" cy="519480"/>
              </a:xfrm>
              <a:prstGeom prst="ellips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378" name="椭圆 2393"/>
            <p:cNvSpPr/>
            <p:nvPr/>
          </p:nvSpPr>
          <p:spPr>
            <a:xfrm flipH="1">
              <a:off x="1556640" y="0"/>
              <a:ext cx="23544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9" name="椭圆 2394"/>
            <p:cNvSpPr/>
            <p:nvPr/>
          </p:nvSpPr>
          <p:spPr>
            <a:xfrm flipH="1">
              <a:off x="1650960" y="0"/>
              <a:ext cx="471600" cy="51948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0" name="椭圆 2395"/>
            <p:cNvSpPr/>
            <p:nvPr/>
          </p:nvSpPr>
          <p:spPr>
            <a:xfrm flipH="1">
              <a:off x="2453040" y="0"/>
              <a:ext cx="23544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1" name="椭圆 2396"/>
            <p:cNvSpPr/>
            <p:nvPr/>
          </p:nvSpPr>
          <p:spPr>
            <a:xfrm flipH="1" rot="1453200">
              <a:off x="2641320" y="155520"/>
              <a:ext cx="235800" cy="15588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2" name="椭圆 2397"/>
            <p:cNvSpPr/>
            <p:nvPr/>
          </p:nvSpPr>
          <p:spPr>
            <a:xfrm flipH="1" rot="1453200">
              <a:off x="2641320" y="0"/>
              <a:ext cx="235800" cy="15588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3" name="椭圆 2398"/>
            <p:cNvSpPr/>
            <p:nvPr/>
          </p:nvSpPr>
          <p:spPr>
            <a:xfrm flipH="1" rot="19411200">
              <a:off x="2736000" y="467640"/>
              <a:ext cx="9396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4" name="椭圆 2399"/>
            <p:cNvSpPr/>
            <p:nvPr/>
          </p:nvSpPr>
          <p:spPr>
            <a:xfrm flipH="1" rot="19411200">
              <a:off x="2640600" y="467640"/>
              <a:ext cx="9432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椭圆 2400"/>
            <p:cNvSpPr/>
            <p:nvPr/>
          </p:nvSpPr>
          <p:spPr>
            <a:xfrm flipH="1" rot="19411200">
              <a:off x="2498760" y="571320"/>
              <a:ext cx="9432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椭圆 2401"/>
            <p:cNvSpPr/>
            <p:nvPr/>
          </p:nvSpPr>
          <p:spPr>
            <a:xfrm flipH="1" rot="19411200">
              <a:off x="2547000" y="415080"/>
              <a:ext cx="93960" cy="25992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椭圆 2402"/>
            <p:cNvSpPr/>
            <p:nvPr/>
          </p:nvSpPr>
          <p:spPr>
            <a:xfrm flipH="1" rot="19411200">
              <a:off x="2830320" y="155880"/>
              <a:ext cx="9396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椭圆 2403"/>
            <p:cNvSpPr/>
            <p:nvPr/>
          </p:nvSpPr>
          <p:spPr>
            <a:xfrm flipH="1" rot="17921400">
              <a:off x="2801160" y="-13680"/>
              <a:ext cx="103680" cy="23508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椭圆 2404"/>
            <p:cNvSpPr/>
            <p:nvPr/>
          </p:nvSpPr>
          <p:spPr>
            <a:xfrm flipH="1" rot="19411200">
              <a:off x="2215800" y="571320"/>
              <a:ext cx="9432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椭圆 2405"/>
            <p:cNvSpPr/>
            <p:nvPr/>
          </p:nvSpPr>
          <p:spPr>
            <a:xfrm flipH="1" rot="19411200">
              <a:off x="2311560" y="519480"/>
              <a:ext cx="93960" cy="259560"/>
            </a:xfrm>
            <a:prstGeom prst="ellips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1" name="任意多边形 2456"/>
          <p:cNvSpPr/>
          <p:nvPr/>
        </p:nvSpPr>
        <p:spPr>
          <a:xfrm flipH="1">
            <a:off x="380160" y="-57240"/>
            <a:ext cx="444600" cy="6934320"/>
          </a:xfrm>
          <a:custGeom>
            <a:avLst/>
            <a:gdLst/>
            <a:ahLst/>
            <a:rect l="l" t="t" r="r" b="b"/>
            <a:pathLst>
              <a:path w="104" h="4320">
                <a:moveTo>
                  <a:pt x="0" y="0"/>
                </a:moveTo>
                <a:cubicBezTo>
                  <a:pt x="44" y="748"/>
                  <a:pt x="88" y="1496"/>
                  <a:pt x="96" y="2112"/>
                </a:cubicBezTo>
                <a:cubicBezTo>
                  <a:pt x="104" y="2728"/>
                  <a:pt x="56" y="3328"/>
                  <a:pt x="48" y="3696"/>
                </a:cubicBezTo>
                <a:cubicBezTo>
                  <a:pt x="40" y="4064"/>
                  <a:pt x="48" y="4216"/>
                  <a:pt x="48" y="4320"/>
                </a:cubicBezTo>
              </a:path>
            </a:pathLst>
          </a:custGeom>
          <a:noFill/>
          <a:ln w="380880">
            <a:solidFill>
              <a:srgbClr val="442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2" name="组合 2457"/>
          <p:cNvGrpSpPr/>
          <p:nvPr/>
        </p:nvGrpSpPr>
        <p:grpSpPr>
          <a:xfrm>
            <a:off x="-152280" y="-322560"/>
            <a:ext cx="1757160" cy="2922840"/>
            <a:chOff x="-152280" y="-322560"/>
            <a:chExt cx="1757160" cy="2922840"/>
          </a:xfrm>
        </p:grpSpPr>
        <p:sp>
          <p:nvSpPr>
            <p:cNvPr id="393" name="任意多边形 2458"/>
            <p:cNvSpPr/>
            <p:nvPr/>
          </p:nvSpPr>
          <p:spPr>
            <a:xfrm flipH="1">
              <a:off x="-8280" y="-177840"/>
              <a:ext cx="647280" cy="2339280"/>
            </a:xfrm>
            <a:custGeom>
              <a:avLst/>
              <a:gdLst/>
              <a:ahLst/>
              <a:rect l="l" t="t" r="r" b="b"/>
              <a:pathLst>
                <a:path w="540" h="1662">
                  <a:moveTo>
                    <a:pt x="0" y="1662"/>
                  </a:moveTo>
                  <a:cubicBezTo>
                    <a:pt x="24" y="1650"/>
                    <a:pt x="38" y="1634"/>
                    <a:pt x="60" y="1620"/>
                  </a:cubicBezTo>
                  <a:cubicBezTo>
                    <a:pt x="88" y="1578"/>
                    <a:pt x="72" y="1592"/>
                    <a:pt x="102" y="1572"/>
                  </a:cubicBezTo>
                  <a:cubicBezTo>
                    <a:pt x="119" y="1547"/>
                    <a:pt x="135" y="1533"/>
                    <a:pt x="156" y="1512"/>
                  </a:cubicBezTo>
                  <a:cubicBezTo>
                    <a:pt x="201" y="1467"/>
                    <a:pt x="232" y="1406"/>
                    <a:pt x="270" y="1356"/>
                  </a:cubicBezTo>
                  <a:cubicBezTo>
                    <a:pt x="277" y="1334"/>
                    <a:pt x="330" y="1230"/>
                    <a:pt x="348" y="1206"/>
                  </a:cubicBezTo>
                  <a:cubicBezTo>
                    <a:pt x="361" y="1166"/>
                    <a:pt x="373" y="1133"/>
                    <a:pt x="396" y="1098"/>
                  </a:cubicBezTo>
                  <a:cubicBezTo>
                    <a:pt x="403" y="1087"/>
                    <a:pt x="403" y="1074"/>
                    <a:pt x="408" y="1062"/>
                  </a:cubicBezTo>
                  <a:cubicBezTo>
                    <a:pt x="428" y="1013"/>
                    <a:pt x="447" y="963"/>
                    <a:pt x="462" y="912"/>
                  </a:cubicBezTo>
                  <a:cubicBezTo>
                    <a:pt x="476" y="864"/>
                    <a:pt x="476" y="811"/>
                    <a:pt x="486" y="762"/>
                  </a:cubicBezTo>
                  <a:cubicBezTo>
                    <a:pt x="500" y="610"/>
                    <a:pt x="511" y="458"/>
                    <a:pt x="528" y="306"/>
                  </a:cubicBezTo>
                  <a:cubicBezTo>
                    <a:pt x="533" y="204"/>
                    <a:pt x="540" y="102"/>
                    <a:pt x="540" y="0"/>
                  </a:cubicBezTo>
                </a:path>
              </a:pathLst>
            </a:custGeom>
            <a:noFill/>
            <a:ln w="19044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4" name="任意多边形 2459"/>
            <p:cNvSpPr/>
            <p:nvPr/>
          </p:nvSpPr>
          <p:spPr>
            <a:xfrm flipH="1">
              <a:off x="664920" y="-110520"/>
              <a:ext cx="434160" cy="1342800"/>
            </a:xfrm>
            <a:custGeom>
              <a:avLst/>
              <a:gdLst/>
              <a:ahLst/>
              <a:rect l="l" t="t" r="r" b="b"/>
              <a:pathLst>
                <a:path w="362" h="954">
                  <a:moveTo>
                    <a:pt x="0" y="0"/>
                  </a:moveTo>
                  <a:cubicBezTo>
                    <a:pt x="18" y="54"/>
                    <a:pt x="12" y="118"/>
                    <a:pt x="18" y="174"/>
                  </a:cubicBezTo>
                  <a:cubicBezTo>
                    <a:pt x="25" y="240"/>
                    <a:pt x="50" y="308"/>
                    <a:pt x="66" y="372"/>
                  </a:cubicBezTo>
                  <a:cubicBezTo>
                    <a:pt x="86" y="453"/>
                    <a:pt x="100" y="537"/>
                    <a:pt x="138" y="612"/>
                  </a:cubicBezTo>
                  <a:cubicBezTo>
                    <a:pt x="182" y="699"/>
                    <a:pt x="244" y="776"/>
                    <a:pt x="288" y="864"/>
                  </a:cubicBezTo>
                  <a:cubicBezTo>
                    <a:pt x="291" y="870"/>
                    <a:pt x="334" y="922"/>
                    <a:pt x="342" y="930"/>
                  </a:cubicBezTo>
                  <a:cubicBezTo>
                    <a:pt x="347" y="935"/>
                    <a:pt x="357" y="936"/>
                    <a:pt x="360" y="942"/>
                  </a:cubicBezTo>
                  <a:cubicBezTo>
                    <a:pt x="362" y="946"/>
                    <a:pt x="356" y="950"/>
                    <a:pt x="354" y="954"/>
                  </a:cubicBezTo>
                </a:path>
              </a:pathLst>
            </a:custGeom>
            <a:noFill/>
            <a:ln w="12708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任意多边形 2460"/>
            <p:cNvSpPr/>
            <p:nvPr/>
          </p:nvSpPr>
          <p:spPr>
            <a:xfrm flipH="1">
              <a:off x="-152280" y="-110520"/>
              <a:ext cx="676080" cy="1216080"/>
            </a:xfrm>
            <a:custGeom>
              <a:avLst/>
              <a:gdLst/>
              <a:ahLst/>
              <a:rect l="l" t="t" r="r" b="b"/>
              <a:pathLst>
                <a:path w="564" h="864">
                  <a:moveTo>
                    <a:pt x="0" y="864"/>
                  </a:moveTo>
                  <a:cubicBezTo>
                    <a:pt x="8" y="863"/>
                    <a:pt x="49" y="857"/>
                    <a:pt x="60" y="852"/>
                  </a:cubicBezTo>
                  <a:cubicBezTo>
                    <a:pt x="89" y="840"/>
                    <a:pt x="114" y="820"/>
                    <a:pt x="144" y="810"/>
                  </a:cubicBezTo>
                  <a:cubicBezTo>
                    <a:pt x="180" y="783"/>
                    <a:pt x="160" y="798"/>
                    <a:pt x="204" y="768"/>
                  </a:cubicBezTo>
                  <a:cubicBezTo>
                    <a:pt x="212" y="762"/>
                    <a:pt x="215" y="752"/>
                    <a:pt x="222" y="744"/>
                  </a:cubicBezTo>
                  <a:cubicBezTo>
                    <a:pt x="244" y="718"/>
                    <a:pt x="266" y="711"/>
                    <a:pt x="282" y="672"/>
                  </a:cubicBezTo>
                  <a:cubicBezTo>
                    <a:pt x="286" y="662"/>
                    <a:pt x="288" y="651"/>
                    <a:pt x="294" y="642"/>
                  </a:cubicBezTo>
                  <a:cubicBezTo>
                    <a:pt x="300" y="633"/>
                    <a:pt x="311" y="627"/>
                    <a:pt x="318" y="618"/>
                  </a:cubicBezTo>
                  <a:cubicBezTo>
                    <a:pt x="337" y="593"/>
                    <a:pt x="324" y="599"/>
                    <a:pt x="336" y="576"/>
                  </a:cubicBezTo>
                  <a:cubicBezTo>
                    <a:pt x="349" y="550"/>
                    <a:pt x="347" y="564"/>
                    <a:pt x="366" y="540"/>
                  </a:cubicBezTo>
                  <a:cubicBezTo>
                    <a:pt x="385" y="515"/>
                    <a:pt x="401" y="487"/>
                    <a:pt x="420" y="462"/>
                  </a:cubicBezTo>
                  <a:cubicBezTo>
                    <a:pt x="430" y="432"/>
                    <a:pt x="444" y="404"/>
                    <a:pt x="462" y="378"/>
                  </a:cubicBezTo>
                  <a:cubicBezTo>
                    <a:pt x="469" y="344"/>
                    <a:pt x="486" y="333"/>
                    <a:pt x="498" y="300"/>
                  </a:cubicBezTo>
                  <a:cubicBezTo>
                    <a:pt x="521" y="238"/>
                    <a:pt x="535" y="167"/>
                    <a:pt x="546" y="102"/>
                  </a:cubicBezTo>
                  <a:cubicBezTo>
                    <a:pt x="552" y="67"/>
                    <a:pt x="564" y="36"/>
                    <a:pt x="564" y="0"/>
                  </a:cubicBezTo>
                </a:path>
              </a:pathLst>
            </a:custGeom>
            <a:noFill/>
            <a:ln w="7632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6" name="任意多边形 2461"/>
            <p:cNvSpPr/>
            <p:nvPr/>
          </p:nvSpPr>
          <p:spPr>
            <a:xfrm flipH="1">
              <a:off x="531360" y="902880"/>
              <a:ext cx="452880" cy="1697400"/>
            </a:xfrm>
            <a:custGeom>
              <a:avLst/>
              <a:gdLst/>
              <a:ahLst/>
              <a:rect l="l" t="t" r="r" b="b"/>
              <a:pathLst>
                <a:path w="282" h="1878">
                  <a:moveTo>
                    <a:pt x="0" y="0"/>
                  </a:moveTo>
                  <a:cubicBezTo>
                    <a:pt x="5" y="395"/>
                    <a:pt x="10" y="807"/>
                    <a:pt x="66" y="1200"/>
                  </a:cubicBezTo>
                  <a:cubicBezTo>
                    <a:pt x="73" y="1318"/>
                    <a:pt x="86" y="1430"/>
                    <a:pt x="120" y="1542"/>
                  </a:cubicBezTo>
                  <a:cubicBezTo>
                    <a:pt x="134" y="1589"/>
                    <a:pt x="146" y="1644"/>
                    <a:pt x="174" y="1686"/>
                  </a:cubicBezTo>
                  <a:cubicBezTo>
                    <a:pt x="185" y="1730"/>
                    <a:pt x="204" y="1760"/>
                    <a:pt x="222" y="1800"/>
                  </a:cubicBezTo>
                  <a:cubicBezTo>
                    <a:pt x="227" y="1812"/>
                    <a:pt x="227" y="1825"/>
                    <a:pt x="234" y="1836"/>
                  </a:cubicBezTo>
                  <a:cubicBezTo>
                    <a:pt x="246" y="1854"/>
                    <a:pt x="282" y="1878"/>
                    <a:pt x="282" y="1878"/>
                  </a:cubicBezTo>
                </a:path>
              </a:pathLst>
            </a:custGeom>
            <a:noFill/>
            <a:ln w="7632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7" name="任意多边形 2462"/>
            <p:cNvSpPr/>
            <p:nvPr/>
          </p:nvSpPr>
          <p:spPr>
            <a:xfrm flipH="1" rot="2207400">
              <a:off x="945000" y="-380880"/>
              <a:ext cx="268560" cy="1393560"/>
            </a:xfrm>
            <a:custGeom>
              <a:avLst/>
              <a:gdLst/>
              <a:ahLst/>
              <a:rect l="l" t="t" r="r" b="b"/>
              <a:pathLst>
                <a:path w="224" h="990">
                  <a:moveTo>
                    <a:pt x="36" y="0"/>
                  </a:moveTo>
                  <a:cubicBezTo>
                    <a:pt x="14" y="32"/>
                    <a:pt x="12" y="43"/>
                    <a:pt x="0" y="78"/>
                  </a:cubicBezTo>
                  <a:cubicBezTo>
                    <a:pt x="2" y="260"/>
                    <a:pt x="2" y="442"/>
                    <a:pt x="6" y="624"/>
                  </a:cubicBezTo>
                  <a:cubicBezTo>
                    <a:pt x="8" y="704"/>
                    <a:pt x="65" y="867"/>
                    <a:pt x="132" y="912"/>
                  </a:cubicBezTo>
                  <a:cubicBezTo>
                    <a:pt x="147" y="934"/>
                    <a:pt x="164" y="945"/>
                    <a:pt x="186" y="960"/>
                  </a:cubicBezTo>
                  <a:cubicBezTo>
                    <a:pt x="224" y="986"/>
                    <a:pt x="222" y="969"/>
                    <a:pt x="222" y="990"/>
                  </a:cubicBezTo>
                </a:path>
              </a:pathLst>
            </a:custGeom>
            <a:noFill/>
            <a:ln w="7632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任意多边形 2463"/>
            <p:cNvSpPr/>
            <p:nvPr/>
          </p:nvSpPr>
          <p:spPr>
            <a:xfrm flipH="1">
              <a:off x="946800" y="1240560"/>
              <a:ext cx="209520" cy="379800"/>
            </a:xfrm>
            <a:custGeom>
              <a:avLst/>
              <a:gdLst/>
              <a:ahLst/>
              <a:rect l="l" t="t" r="r" b="b"/>
              <a:pathLst>
                <a:path w="175" h="270">
                  <a:moveTo>
                    <a:pt x="0" y="0"/>
                  </a:moveTo>
                  <a:cubicBezTo>
                    <a:pt x="6" y="85"/>
                    <a:pt x="0" y="90"/>
                    <a:pt x="42" y="156"/>
                  </a:cubicBezTo>
                  <a:cubicBezTo>
                    <a:pt x="46" y="162"/>
                    <a:pt x="48" y="170"/>
                    <a:pt x="54" y="174"/>
                  </a:cubicBezTo>
                  <a:cubicBezTo>
                    <a:pt x="66" y="182"/>
                    <a:pt x="80" y="188"/>
                    <a:pt x="90" y="198"/>
                  </a:cubicBezTo>
                  <a:cubicBezTo>
                    <a:pt x="112" y="220"/>
                    <a:pt x="100" y="213"/>
                    <a:pt x="126" y="222"/>
                  </a:cubicBezTo>
                  <a:cubicBezTo>
                    <a:pt x="130" y="228"/>
                    <a:pt x="132" y="235"/>
                    <a:pt x="138" y="240"/>
                  </a:cubicBezTo>
                  <a:cubicBezTo>
                    <a:pt x="145" y="246"/>
                    <a:pt x="171" y="245"/>
                    <a:pt x="174" y="258"/>
                  </a:cubicBezTo>
                  <a:cubicBezTo>
                    <a:pt x="175" y="263"/>
                    <a:pt x="166" y="266"/>
                    <a:pt x="162" y="270"/>
                  </a:cubicBezTo>
                </a:path>
              </a:pathLst>
            </a:custGeom>
            <a:noFill/>
            <a:ln w="5724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9" name="任意多边形 2464"/>
            <p:cNvSpPr/>
            <p:nvPr/>
          </p:nvSpPr>
          <p:spPr>
            <a:xfrm flipH="1">
              <a:off x="1004760" y="429840"/>
              <a:ext cx="209520" cy="675360"/>
            </a:xfrm>
            <a:custGeom>
              <a:avLst/>
              <a:gdLst/>
              <a:ahLst/>
              <a:rect l="l" t="t" r="r" b="b"/>
              <a:pathLst>
                <a:path w="175" h="270">
                  <a:moveTo>
                    <a:pt x="0" y="0"/>
                  </a:moveTo>
                  <a:cubicBezTo>
                    <a:pt x="6" y="85"/>
                    <a:pt x="0" y="90"/>
                    <a:pt x="42" y="156"/>
                  </a:cubicBezTo>
                  <a:cubicBezTo>
                    <a:pt x="46" y="162"/>
                    <a:pt x="48" y="170"/>
                    <a:pt x="54" y="174"/>
                  </a:cubicBezTo>
                  <a:cubicBezTo>
                    <a:pt x="66" y="182"/>
                    <a:pt x="80" y="188"/>
                    <a:pt x="90" y="198"/>
                  </a:cubicBezTo>
                  <a:cubicBezTo>
                    <a:pt x="112" y="220"/>
                    <a:pt x="100" y="213"/>
                    <a:pt x="126" y="222"/>
                  </a:cubicBezTo>
                  <a:cubicBezTo>
                    <a:pt x="130" y="228"/>
                    <a:pt x="132" y="235"/>
                    <a:pt x="138" y="240"/>
                  </a:cubicBezTo>
                  <a:cubicBezTo>
                    <a:pt x="145" y="246"/>
                    <a:pt x="171" y="245"/>
                    <a:pt x="174" y="258"/>
                  </a:cubicBezTo>
                  <a:cubicBezTo>
                    <a:pt x="175" y="263"/>
                    <a:pt x="166" y="266"/>
                    <a:pt x="162" y="270"/>
                  </a:cubicBezTo>
                </a:path>
              </a:pathLst>
            </a:custGeom>
            <a:noFill/>
            <a:ln w="57240">
              <a:solidFill>
                <a:srgbClr val="442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00" name="任意多边形 2465"/>
          <p:cNvSpPr/>
          <p:nvPr/>
        </p:nvSpPr>
        <p:spPr>
          <a:xfrm>
            <a:off x="8020080" y="-76320"/>
            <a:ext cx="165240" cy="6934320"/>
          </a:xfrm>
          <a:custGeom>
            <a:avLst/>
            <a:gdLst/>
            <a:ahLst/>
            <a:rect l="l" t="t" r="r" b="b"/>
            <a:pathLst>
              <a:path w="104" h="4320">
                <a:moveTo>
                  <a:pt x="0" y="0"/>
                </a:moveTo>
                <a:cubicBezTo>
                  <a:pt x="44" y="748"/>
                  <a:pt x="88" y="1496"/>
                  <a:pt x="96" y="2112"/>
                </a:cubicBezTo>
                <a:cubicBezTo>
                  <a:pt x="104" y="2728"/>
                  <a:pt x="56" y="3328"/>
                  <a:pt x="48" y="3696"/>
                </a:cubicBezTo>
                <a:cubicBezTo>
                  <a:pt x="40" y="4064"/>
                  <a:pt x="48" y="4216"/>
                  <a:pt x="48" y="4320"/>
                </a:cubicBezTo>
              </a:path>
            </a:pathLst>
          </a:custGeom>
          <a:noFill/>
          <a:ln w="6350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01" name="组合 2466"/>
          <p:cNvGrpSpPr/>
          <p:nvPr/>
        </p:nvGrpSpPr>
        <p:grpSpPr>
          <a:xfrm>
            <a:off x="6670440" y="-254880"/>
            <a:ext cx="2244960" cy="3312360"/>
            <a:chOff x="6670440" y="-254880"/>
            <a:chExt cx="2244960" cy="3312360"/>
          </a:xfrm>
        </p:grpSpPr>
        <p:sp>
          <p:nvSpPr>
            <p:cNvPr id="402" name="任意多边形 2467"/>
            <p:cNvSpPr/>
            <p:nvPr/>
          </p:nvSpPr>
          <p:spPr>
            <a:xfrm>
              <a:off x="7867800" y="-76320"/>
              <a:ext cx="857160" cy="2638440"/>
            </a:xfrm>
            <a:custGeom>
              <a:avLst/>
              <a:gdLst/>
              <a:ahLst/>
              <a:rect l="l" t="t" r="r" b="b"/>
              <a:pathLst>
                <a:path w="540" h="1662">
                  <a:moveTo>
                    <a:pt x="0" y="1662"/>
                  </a:moveTo>
                  <a:cubicBezTo>
                    <a:pt x="24" y="1650"/>
                    <a:pt x="38" y="1634"/>
                    <a:pt x="60" y="1620"/>
                  </a:cubicBezTo>
                  <a:cubicBezTo>
                    <a:pt x="88" y="1578"/>
                    <a:pt x="72" y="1592"/>
                    <a:pt x="102" y="1572"/>
                  </a:cubicBezTo>
                  <a:cubicBezTo>
                    <a:pt x="119" y="1547"/>
                    <a:pt x="135" y="1533"/>
                    <a:pt x="156" y="1512"/>
                  </a:cubicBezTo>
                  <a:cubicBezTo>
                    <a:pt x="201" y="1467"/>
                    <a:pt x="232" y="1406"/>
                    <a:pt x="270" y="1356"/>
                  </a:cubicBezTo>
                  <a:cubicBezTo>
                    <a:pt x="277" y="1334"/>
                    <a:pt x="330" y="1230"/>
                    <a:pt x="348" y="1206"/>
                  </a:cubicBezTo>
                  <a:cubicBezTo>
                    <a:pt x="361" y="1166"/>
                    <a:pt x="373" y="1133"/>
                    <a:pt x="396" y="1098"/>
                  </a:cubicBezTo>
                  <a:cubicBezTo>
                    <a:pt x="403" y="1087"/>
                    <a:pt x="403" y="1074"/>
                    <a:pt x="408" y="1062"/>
                  </a:cubicBezTo>
                  <a:cubicBezTo>
                    <a:pt x="428" y="1013"/>
                    <a:pt x="447" y="963"/>
                    <a:pt x="462" y="912"/>
                  </a:cubicBezTo>
                  <a:cubicBezTo>
                    <a:pt x="476" y="864"/>
                    <a:pt x="476" y="811"/>
                    <a:pt x="486" y="762"/>
                  </a:cubicBezTo>
                  <a:cubicBezTo>
                    <a:pt x="500" y="610"/>
                    <a:pt x="511" y="458"/>
                    <a:pt x="528" y="306"/>
                  </a:cubicBezTo>
                  <a:cubicBezTo>
                    <a:pt x="533" y="204"/>
                    <a:pt x="540" y="102"/>
                    <a:pt x="540" y="0"/>
                  </a:cubicBezTo>
                </a:path>
              </a:pathLst>
            </a:custGeom>
            <a:noFill/>
            <a:ln w="190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3" name="任意多边形 2468"/>
            <p:cNvSpPr/>
            <p:nvPr/>
          </p:nvSpPr>
          <p:spPr>
            <a:xfrm>
              <a:off x="7257960" y="0"/>
              <a:ext cx="574920" cy="1514520"/>
            </a:xfrm>
            <a:custGeom>
              <a:avLst/>
              <a:gdLst/>
              <a:ahLst/>
              <a:rect l="l" t="t" r="r" b="b"/>
              <a:pathLst>
                <a:path w="362" h="954">
                  <a:moveTo>
                    <a:pt x="0" y="0"/>
                  </a:moveTo>
                  <a:cubicBezTo>
                    <a:pt x="18" y="54"/>
                    <a:pt x="12" y="118"/>
                    <a:pt x="18" y="174"/>
                  </a:cubicBezTo>
                  <a:cubicBezTo>
                    <a:pt x="25" y="240"/>
                    <a:pt x="50" y="308"/>
                    <a:pt x="66" y="372"/>
                  </a:cubicBezTo>
                  <a:cubicBezTo>
                    <a:pt x="86" y="453"/>
                    <a:pt x="100" y="537"/>
                    <a:pt x="138" y="612"/>
                  </a:cubicBezTo>
                  <a:cubicBezTo>
                    <a:pt x="182" y="699"/>
                    <a:pt x="244" y="776"/>
                    <a:pt x="288" y="864"/>
                  </a:cubicBezTo>
                  <a:cubicBezTo>
                    <a:pt x="291" y="870"/>
                    <a:pt x="334" y="922"/>
                    <a:pt x="342" y="930"/>
                  </a:cubicBezTo>
                  <a:cubicBezTo>
                    <a:pt x="347" y="935"/>
                    <a:pt x="357" y="936"/>
                    <a:pt x="360" y="942"/>
                  </a:cubicBezTo>
                  <a:cubicBezTo>
                    <a:pt x="362" y="946"/>
                    <a:pt x="356" y="950"/>
                    <a:pt x="354" y="954"/>
                  </a:cubicBezTo>
                </a:path>
              </a:pathLst>
            </a:custGeom>
            <a:noFill/>
            <a:ln w="12708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4" name="任意多边形 2469"/>
            <p:cNvSpPr/>
            <p:nvPr/>
          </p:nvSpPr>
          <p:spPr>
            <a:xfrm>
              <a:off x="8020080" y="0"/>
              <a:ext cx="895320" cy="1371600"/>
            </a:xfrm>
            <a:custGeom>
              <a:avLst/>
              <a:gdLst/>
              <a:ahLst/>
              <a:rect l="l" t="t" r="r" b="b"/>
              <a:pathLst>
                <a:path w="564" h="864">
                  <a:moveTo>
                    <a:pt x="0" y="864"/>
                  </a:moveTo>
                  <a:cubicBezTo>
                    <a:pt x="8" y="863"/>
                    <a:pt x="49" y="857"/>
                    <a:pt x="60" y="852"/>
                  </a:cubicBezTo>
                  <a:cubicBezTo>
                    <a:pt x="89" y="840"/>
                    <a:pt x="114" y="820"/>
                    <a:pt x="144" y="810"/>
                  </a:cubicBezTo>
                  <a:cubicBezTo>
                    <a:pt x="180" y="783"/>
                    <a:pt x="160" y="798"/>
                    <a:pt x="204" y="768"/>
                  </a:cubicBezTo>
                  <a:cubicBezTo>
                    <a:pt x="212" y="762"/>
                    <a:pt x="215" y="752"/>
                    <a:pt x="222" y="744"/>
                  </a:cubicBezTo>
                  <a:cubicBezTo>
                    <a:pt x="244" y="718"/>
                    <a:pt x="266" y="711"/>
                    <a:pt x="282" y="672"/>
                  </a:cubicBezTo>
                  <a:cubicBezTo>
                    <a:pt x="286" y="662"/>
                    <a:pt x="288" y="651"/>
                    <a:pt x="294" y="642"/>
                  </a:cubicBezTo>
                  <a:cubicBezTo>
                    <a:pt x="300" y="633"/>
                    <a:pt x="311" y="627"/>
                    <a:pt x="318" y="618"/>
                  </a:cubicBezTo>
                  <a:cubicBezTo>
                    <a:pt x="337" y="593"/>
                    <a:pt x="324" y="599"/>
                    <a:pt x="336" y="576"/>
                  </a:cubicBezTo>
                  <a:cubicBezTo>
                    <a:pt x="349" y="550"/>
                    <a:pt x="347" y="564"/>
                    <a:pt x="366" y="540"/>
                  </a:cubicBezTo>
                  <a:cubicBezTo>
                    <a:pt x="385" y="515"/>
                    <a:pt x="401" y="487"/>
                    <a:pt x="420" y="462"/>
                  </a:cubicBezTo>
                  <a:cubicBezTo>
                    <a:pt x="430" y="432"/>
                    <a:pt x="444" y="404"/>
                    <a:pt x="462" y="378"/>
                  </a:cubicBezTo>
                  <a:cubicBezTo>
                    <a:pt x="469" y="344"/>
                    <a:pt x="486" y="333"/>
                    <a:pt x="498" y="300"/>
                  </a:cubicBezTo>
                  <a:cubicBezTo>
                    <a:pt x="521" y="238"/>
                    <a:pt x="535" y="167"/>
                    <a:pt x="546" y="102"/>
                  </a:cubicBezTo>
                  <a:cubicBezTo>
                    <a:pt x="552" y="67"/>
                    <a:pt x="564" y="36"/>
                    <a:pt x="564" y="0"/>
                  </a:cubicBezTo>
                </a:path>
              </a:pathLst>
            </a:custGeom>
            <a:noFill/>
            <a:ln w="7632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5" name="任意多边形 2470"/>
            <p:cNvSpPr/>
            <p:nvPr/>
          </p:nvSpPr>
          <p:spPr>
            <a:xfrm>
              <a:off x="7410600" y="1143000"/>
              <a:ext cx="599760" cy="1914480"/>
            </a:xfrm>
            <a:custGeom>
              <a:avLst/>
              <a:gdLst/>
              <a:ahLst/>
              <a:rect l="l" t="t" r="r" b="b"/>
              <a:pathLst>
                <a:path w="282" h="1878">
                  <a:moveTo>
                    <a:pt x="0" y="0"/>
                  </a:moveTo>
                  <a:cubicBezTo>
                    <a:pt x="5" y="395"/>
                    <a:pt x="10" y="807"/>
                    <a:pt x="66" y="1200"/>
                  </a:cubicBezTo>
                  <a:cubicBezTo>
                    <a:pt x="73" y="1318"/>
                    <a:pt x="86" y="1430"/>
                    <a:pt x="120" y="1542"/>
                  </a:cubicBezTo>
                  <a:cubicBezTo>
                    <a:pt x="134" y="1589"/>
                    <a:pt x="146" y="1644"/>
                    <a:pt x="174" y="1686"/>
                  </a:cubicBezTo>
                  <a:cubicBezTo>
                    <a:pt x="185" y="1730"/>
                    <a:pt x="204" y="1760"/>
                    <a:pt x="222" y="1800"/>
                  </a:cubicBezTo>
                  <a:cubicBezTo>
                    <a:pt x="227" y="1812"/>
                    <a:pt x="227" y="1825"/>
                    <a:pt x="234" y="1836"/>
                  </a:cubicBezTo>
                  <a:cubicBezTo>
                    <a:pt x="246" y="1854"/>
                    <a:pt x="282" y="1878"/>
                    <a:pt x="282" y="1878"/>
                  </a:cubicBezTo>
                </a:path>
              </a:pathLst>
            </a:custGeom>
            <a:noFill/>
            <a:ln w="7632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6" name="任意多边形 2471"/>
            <p:cNvSpPr/>
            <p:nvPr/>
          </p:nvSpPr>
          <p:spPr>
            <a:xfrm rot="19392600">
              <a:off x="7105680" y="-304560"/>
              <a:ext cx="355680" cy="1571760"/>
            </a:xfrm>
            <a:custGeom>
              <a:avLst/>
              <a:gdLst/>
              <a:ahLst/>
              <a:rect l="l" t="t" r="r" b="b"/>
              <a:pathLst>
                <a:path w="224" h="990">
                  <a:moveTo>
                    <a:pt x="36" y="0"/>
                  </a:moveTo>
                  <a:cubicBezTo>
                    <a:pt x="14" y="32"/>
                    <a:pt x="12" y="43"/>
                    <a:pt x="0" y="78"/>
                  </a:cubicBezTo>
                  <a:cubicBezTo>
                    <a:pt x="2" y="260"/>
                    <a:pt x="2" y="442"/>
                    <a:pt x="6" y="624"/>
                  </a:cubicBezTo>
                  <a:cubicBezTo>
                    <a:pt x="8" y="704"/>
                    <a:pt x="65" y="867"/>
                    <a:pt x="132" y="912"/>
                  </a:cubicBezTo>
                  <a:cubicBezTo>
                    <a:pt x="147" y="934"/>
                    <a:pt x="164" y="945"/>
                    <a:pt x="186" y="960"/>
                  </a:cubicBezTo>
                  <a:cubicBezTo>
                    <a:pt x="224" y="986"/>
                    <a:pt x="222" y="969"/>
                    <a:pt x="222" y="990"/>
                  </a:cubicBezTo>
                </a:path>
              </a:pathLst>
            </a:custGeom>
            <a:noFill/>
            <a:ln w="7632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7" name="任意多边形 2472"/>
            <p:cNvSpPr/>
            <p:nvPr/>
          </p:nvSpPr>
          <p:spPr>
            <a:xfrm>
              <a:off x="7182000" y="1523880"/>
              <a:ext cx="277560" cy="428760"/>
            </a:xfrm>
            <a:custGeom>
              <a:avLst/>
              <a:gdLst/>
              <a:ahLst/>
              <a:rect l="l" t="t" r="r" b="b"/>
              <a:pathLst>
                <a:path w="175" h="270">
                  <a:moveTo>
                    <a:pt x="0" y="0"/>
                  </a:moveTo>
                  <a:cubicBezTo>
                    <a:pt x="6" y="85"/>
                    <a:pt x="0" y="90"/>
                    <a:pt x="42" y="156"/>
                  </a:cubicBezTo>
                  <a:cubicBezTo>
                    <a:pt x="46" y="162"/>
                    <a:pt x="48" y="170"/>
                    <a:pt x="54" y="174"/>
                  </a:cubicBezTo>
                  <a:cubicBezTo>
                    <a:pt x="66" y="182"/>
                    <a:pt x="80" y="188"/>
                    <a:pt x="90" y="198"/>
                  </a:cubicBezTo>
                  <a:cubicBezTo>
                    <a:pt x="112" y="220"/>
                    <a:pt x="100" y="213"/>
                    <a:pt x="126" y="222"/>
                  </a:cubicBezTo>
                  <a:cubicBezTo>
                    <a:pt x="130" y="228"/>
                    <a:pt x="132" y="235"/>
                    <a:pt x="138" y="240"/>
                  </a:cubicBezTo>
                  <a:cubicBezTo>
                    <a:pt x="145" y="246"/>
                    <a:pt x="171" y="245"/>
                    <a:pt x="174" y="258"/>
                  </a:cubicBezTo>
                  <a:cubicBezTo>
                    <a:pt x="175" y="263"/>
                    <a:pt x="166" y="266"/>
                    <a:pt x="162" y="270"/>
                  </a:cubicBezTo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8" name="任意多边形 2473"/>
            <p:cNvSpPr/>
            <p:nvPr/>
          </p:nvSpPr>
          <p:spPr>
            <a:xfrm>
              <a:off x="7105680" y="609480"/>
              <a:ext cx="277920" cy="762120"/>
            </a:xfrm>
            <a:custGeom>
              <a:avLst/>
              <a:gdLst/>
              <a:ahLst/>
              <a:rect l="l" t="t" r="r" b="b"/>
              <a:pathLst>
                <a:path w="175" h="270">
                  <a:moveTo>
                    <a:pt x="0" y="0"/>
                  </a:moveTo>
                  <a:cubicBezTo>
                    <a:pt x="6" y="85"/>
                    <a:pt x="0" y="90"/>
                    <a:pt x="42" y="156"/>
                  </a:cubicBezTo>
                  <a:cubicBezTo>
                    <a:pt x="46" y="162"/>
                    <a:pt x="48" y="170"/>
                    <a:pt x="54" y="174"/>
                  </a:cubicBezTo>
                  <a:cubicBezTo>
                    <a:pt x="66" y="182"/>
                    <a:pt x="80" y="188"/>
                    <a:pt x="90" y="198"/>
                  </a:cubicBezTo>
                  <a:cubicBezTo>
                    <a:pt x="112" y="220"/>
                    <a:pt x="100" y="213"/>
                    <a:pt x="126" y="222"/>
                  </a:cubicBezTo>
                  <a:cubicBezTo>
                    <a:pt x="130" y="228"/>
                    <a:pt x="132" y="235"/>
                    <a:pt x="138" y="240"/>
                  </a:cubicBezTo>
                  <a:cubicBezTo>
                    <a:pt x="145" y="246"/>
                    <a:pt x="171" y="245"/>
                    <a:pt x="174" y="258"/>
                  </a:cubicBezTo>
                  <a:cubicBezTo>
                    <a:pt x="175" y="263"/>
                    <a:pt x="166" y="266"/>
                    <a:pt x="162" y="270"/>
                  </a:cubicBezTo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09" name="组合 2474"/>
          <p:cNvGrpSpPr/>
          <p:nvPr/>
        </p:nvGrpSpPr>
        <p:grpSpPr>
          <a:xfrm>
            <a:off x="8353440" y="1743120"/>
            <a:ext cx="685800" cy="2104920"/>
            <a:chOff x="8353440" y="1743120"/>
            <a:chExt cx="685800" cy="2104920"/>
          </a:xfrm>
        </p:grpSpPr>
        <p:sp>
          <p:nvSpPr>
            <p:cNvPr id="410" name="任意多边形 2475"/>
            <p:cNvSpPr/>
            <p:nvPr/>
          </p:nvSpPr>
          <p:spPr>
            <a:xfrm>
              <a:off x="8353440" y="2076480"/>
              <a:ext cx="495360" cy="1771560"/>
            </a:xfrm>
            <a:custGeom>
              <a:avLst/>
              <a:gdLst/>
              <a:ahLst/>
              <a:rect l="l" t="t" r="r" b="b"/>
              <a:pathLst>
                <a:path w="312" h="1116">
                  <a:moveTo>
                    <a:pt x="0" y="1116"/>
                  </a:moveTo>
                  <a:cubicBezTo>
                    <a:pt x="49" y="1083"/>
                    <a:pt x="89" y="1016"/>
                    <a:pt x="120" y="966"/>
                  </a:cubicBezTo>
                  <a:cubicBezTo>
                    <a:pt x="135" y="942"/>
                    <a:pt x="139" y="923"/>
                    <a:pt x="156" y="900"/>
                  </a:cubicBezTo>
                  <a:cubicBezTo>
                    <a:pt x="172" y="853"/>
                    <a:pt x="194" y="807"/>
                    <a:pt x="216" y="762"/>
                  </a:cubicBezTo>
                  <a:cubicBezTo>
                    <a:pt x="229" y="684"/>
                    <a:pt x="251" y="607"/>
                    <a:pt x="264" y="528"/>
                  </a:cubicBezTo>
                  <a:cubicBezTo>
                    <a:pt x="268" y="428"/>
                    <a:pt x="274" y="328"/>
                    <a:pt x="282" y="228"/>
                  </a:cubicBezTo>
                  <a:cubicBezTo>
                    <a:pt x="284" y="208"/>
                    <a:pt x="285" y="188"/>
                    <a:pt x="288" y="168"/>
                  </a:cubicBezTo>
                  <a:cubicBezTo>
                    <a:pt x="291" y="152"/>
                    <a:pt x="300" y="120"/>
                    <a:pt x="300" y="120"/>
                  </a:cubicBezTo>
                  <a:cubicBezTo>
                    <a:pt x="304" y="80"/>
                    <a:pt x="312" y="40"/>
                    <a:pt x="312" y="0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1" name="任意多边形 2476"/>
            <p:cNvSpPr/>
            <p:nvPr/>
          </p:nvSpPr>
          <p:spPr>
            <a:xfrm>
              <a:off x="8791560" y="1743120"/>
              <a:ext cx="247680" cy="780840"/>
            </a:xfrm>
            <a:custGeom>
              <a:avLst/>
              <a:gdLst/>
              <a:ahLst/>
              <a:rect l="l" t="t" r="r" b="b"/>
              <a:pathLst>
                <a:path w="156" h="492">
                  <a:moveTo>
                    <a:pt x="0" y="492"/>
                  </a:moveTo>
                  <a:cubicBezTo>
                    <a:pt x="22" y="478"/>
                    <a:pt x="23" y="463"/>
                    <a:pt x="42" y="444"/>
                  </a:cubicBezTo>
                  <a:cubicBezTo>
                    <a:pt x="53" y="412"/>
                    <a:pt x="65" y="382"/>
                    <a:pt x="84" y="354"/>
                  </a:cubicBezTo>
                  <a:cubicBezTo>
                    <a:pt x="98" y="285"/>
                    <a:pt x="121" y="218"/>
                    <a:pt x="138" y="150"/>
                  </a:cubicBezTo>
                  <a:cubicBezTo>
                    <a:pt x="143" y="100"/>
                    <a:pt x="156" y="50"/>
                    <a:pt x="156" y="0"/>
                  </a:cubicBezTo>
                </a:path>
              </a:pathLst>
            </a:custGeom>
            <a:noFill/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2" name="任意多边形 2477"/>
            <p:cNvSpPr/>
            <p:nvPr/>
          </p:nvSpPr>
          <p:spPr>
            <a:xfrm>
              <a:off x="8690040" y="1743120"/>
              <a:ext cx="149040" cy="476280"/>
            </a:xfrm>
            <a:custGeom>
              <a:avLst/>
              <a:gdLst/>
              <a:ahLst/>
              <a:rect l="l" t="t" r="r" b="b"/>
              <a:pathLst>
                <a:path w="94" h="300">
                  <a:moveTo>
                    <a:pt x="94" y="300"/>
                  </a:moveTo>
                  <a:cubicBezTo>
                    <a:pt x="50" y="289"/>
                    <a:pt x="48" y="285"/>
                    <a:pt x="22" y="246"/>
                  </a:cubicBezTo>
                  <a:cubicBezTo>
                    <a:pt x="0" y="117"/>
                    <a:pt x="10" y="198"/>
                    <a:pt x="10" y="0"/>
                  </a:cubicBezTo>
                </a:path>
              </a:pathLst>
            </a:custGeom>
            <a:noFill/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13" name="组合 2528"/>
          <p:cNvGrpSpPr/>
          <p:nvPr/>
        </p:nvGrpSpPr>
        <p:grpSpPr>
          <a:xfrm>
            <a:off x="4321440" y="-68040"/>
            <a:ext cx="4839120" cy="1685880"/>
            <a:chOff x="4321440" y="-68040"/>
            <a:chExt cx="4839120" cy="1685880"/>
          </a:xfrm>
        </p:grpSpPr>
        <p:sp>
          <p:nvSpPr>
            <p:cNvPr id="414" name="椭圆 2529"/>
            <p:cNvSpPr/>
            <p:nvPr/>
          </p:nvSpPr>
          <p:spPr>
            <a:xfrm rot="20146800">
              <a:off x="4419720" y="533520"/>
              <a:ext cx="380880" cy="22860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5" name="矩形 2530"/>
            <p:cNvSpPr/>
            <p:nvPr/>
          </p:nvSpPr>
          <p:spPr>
            <a:xfrm>
              <a:off x="4724280" y="0"/>
              <a:ext cx="4419720" cy="533520"/>
            </a:xfrm>
            <a:prstGeom prst="rect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16" name="组合 2531"/>
            <p:cNvGrpSpPr/>
            <p:nvPr/>
          </p:nvGrpSpPr>
          <p:grpSpPr>
            <a:xfrm>
              <a:off x="6408720" y="565200"/>
              <a:ext cx="2751840" cy="1052640"/>
              <a:chOff x="6408720" y="565200"/>
              <a:chExt cx="2751840" cy="1052640"/>
            </a:xfrm>
          </p:grpSpPr>
          <p:sp>
            <p:nvSpPr>
              <p:cNvPr id="417" name="椭圆 2532"/>
              <p:cNvSpPr/>
              <p:nvPr/>
            </p:nvSpPr>
            <p:spPr>
              <a:xfrm rot="20895000">
                <a:off x="7449480" y="1001880"/>
                <a:ext cx="221040" cy="2030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8" name="椭圆 2533"/>
              <p:cNvSpPr/>
              <p:nvPr/>
            </p:nvSpPr>
            <p:spPr>
              <a:xfrm rot="20895000">
                <a:off x="7042320" y="1057320"/>
                <a:ext cx="530640" cy="4878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9" name="椭圆 2534"/>
              <p:cNvSpPr/>
              <p:nvPr/>
            </p:nvSpPr>
            <p:spPr>
              <a:xfrm rot="20895000">
                <a:off x="6942240" y="114516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0" name="椭圆 2535"/>
              <p:cNvSpPr/>
              <p:nvPr/>
            </p:nvSpPr>
            <p:spPr>
              <a:xfrm rot="20895000">
                <a:off x="6779160" y="101268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1" name="椭圆 2536"/>
              <p:cNvSpPr/>
              <p:nvPr/>
            </p:nvSpPr>
            <p:spPr>
              <a:xfrm rot="20895000">
                <a:off x="7494840" y="119592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2" name="椭圆 2537"/>
              <p:cNvSpPr/>
              <p:nvPr/>
            </p:nvSpPr>
            <p:spPr>
              <a:xfrm rot="20895000">
                <a:off x="7711920" y="115092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3" name="椭圆 2538"/>
              <p:cNvSpPr/>
              <p:nvPr/>
            </p:nvSpPr>
            <p:spPr>
              <a:xfrm rot="20895000">
                <a:off x="7573680" y="831240"/>
                <a:ext cx="44208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4" name="椭圆 2539"/>
              <p:cNvSpPr/>
              <p:nvPr/>
            </p:nvSpPr>
            <p:spPr>
              <a:xfrm rot="20895000">
                <a:off x="6740280" y="117072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椭圆 2540"/>
              <p:cNvSpPr/>
              <p:nvPr/>
            </p:nvSpPr>
            <p:spPr>
              <a:xfrm rot="20895000">
                <a:off x="6507720" y="1185480"/>
                <a:ext cx="353880" cy="3250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6" name="椭圆 2541"/>
              <p:cNvSpPr/>
              <p:nvPr/>
            </p:nvSpPr>
            <p:spPr>
              <a:xfrm rot="20895000">
                <a:off x="6662160" y="1124280"/>
                <a:ext cx="221040" cy="2034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7" name="椭圆 2542"/>
              <p:cNvSpPr/>
              <p:nvPr/>
            </p:nvSpPr>
            <p:spPr>
              <a:xfrm rot="20895000">
                <a:off x="6418440" y="1298520"/>
                <a:ext cx="221040" cy="1216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8" name="椭圆 2543"/>
              <p:cNvSpPr/>
              <p:nvPr/>
            </p:nvSpPr>
            <p:spPr>
              <a:xfrm rot="20895000">
                <a:off x="6923520" y="966240"/>
                <a:ext cx="44208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9" name="椭圆 2544"/>
              <p:cNvSpPr/>
              <p:nvPr/>
            </p:nvSpPr>
            <p:spPr>
              <a:xfrm rot="20895000">
                <a:off x="7920000" y="75924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0" name="椭圆 2545"/>
              <p:cNvSpPr/>
              <p:nvPr/>
            </p:nvSpPr>
            <p:spPr>
              <a:xfrm rot="20895000">
                <a:off x="8483400" y="641880"/>
                <a:ext cx="44208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1" name="椭圆 2546"/>
              <p:cNvSpPr/>
              <p:nvPr/>
            </p:nvSpPr>
            <p:spPr>
              <a:xfrm rot="20895000">
                <a:off x="8681400" y="72504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2" name="椭圆 2547"/>
              <p:cNvSpPr/>
              <p:nvPr/>
            </p:nvSpPr>
            <p:spPr>
              <a:xfrm rot="20895000">
                <a:off x="8656560" y="60588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433" name="组合 2548"/>
            <p:cNvGrpSpPr/>
            <p:nvPr/>
          </p:nvGrpSpPr>
          <p:grpSpPr>
            <a:xfrm>
              <a:off x="4419720" y="0"/>
              <a:ext cx="4724280" cy="1143000"/>
              <a:chOff x="4419720" y="0"/>
              <a:chExt cx="4724280" cy="1143000"/>
            </a:xfrm>
          </p:grpSpPr>
          <p:sp>
            <p:nvSpPr>
              <p:cNvPr id="434" name="椭圆 2549"/>
              <p:cNvSpPr/>
              <p:nvPr/>
            </p:nvSpPr>
            <p:spPr>
              <a:xfrm>
                <a:off x="6248520" y="228600"/>
                <a:ext cx="380880" cy="3808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5" name="椭圆 2550"/>
              <p:cNvSpPr/>
              <p:nvPr/>
            </p:nvSpPr>
            <p:spPr>
              <a:xfrm>
                <a:off x="5486400" y="228600"/>
                <a:ext cx="914400" cy="9144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6" name="椭圆 2551"/>
              <p:cNvSpPr/>
              <p:nvPr/>
            </p:nvSpPr>
            <p:spPr>
              <a:xfrm>
                <a:off x="5334120" y="30492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7" name="椭圆 2552"/>
              <p:cNvSpPr/>
              <p:nvPr/>
            </p:nvSpPr>
            <p:spPr>
              <a:xfrm>
                <a:off x="5105520" y="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8" name="椭圆 2553"/>
              <p:cNvSpPr/>
              <p:nvPr/>
            </p:nvSpPr>
            <p:spPr>
              <a:xfrm>
                <a:off x="6248520" y="60948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9" name="椭圆 2554"/>
              <p:cNvSpPr/>
              <p:nvPr/>
            </p:nvSpPr>
            <p:spPr>
              <a:xfrm>
                <a:off x="6629400" y="60948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0" name="椭圆 2555"/>
              <p:cNvSpPr/>
              <p:nvPr/>
            </p:nvSpPr>
            <p:spPr>
              <a:xfrm>
                <a:off x="6477120" y="0"/>
                <a:ext cx="76176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1" name="椭圆 2556"/>
              <p:cNvSpPr/>
              <p:nvPr/>
            </p:nvSpPr>
            <p:spPr>
              <a:xfrm>
                <a:off x="4952880" y="304920"/>
                <a:ext cx="762120" cy="76176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2" name="椭圆 2557"/>
              <p:cNvSpPr/>
              <p:nvPr/>
            </p:nvSpPr>
            <p:spPr>
              <a:xfrm>
                <a:off x="4572000" y="228600"/>
                <a:ext cx="609480" cy="6094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3" name="椭圆 2558"/>
              <p:cNvSpPr/>
              <p:nvPr/>
            </p:nvSpPr>
            <p:spPr>
              <a:xfrm>
                <a:off x="4876920" y="152280"/>
                <a:ext cx="380880" cy="3812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4" name="椭圆 2559"/>
              <p:cNvSpPr/>
              <p:nvPr/>
            </p:nvSpPr>
            <p:spPr>
              <a:xfrm>
                <a:off x="4419720" y="380880"/>
                <a:ext cx="380880" cy="2286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5" name="椭圆 2560"/>
              <p:cNvSpPr/>
              <p:nvPr/>
            </p:nvSpPr>
            <p:spPr>
              <a:xfrm>
                <a:off x="5334120" y="0"/>
                <a:ext cx="76176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6" name="椭圆 2561"/>
              <p:cNvSpPr/>
              <p:nvPr/>
            </p:nvSpPr>
            <p:spPr>
              <a:xfrm>
                <a:off x="7086600" y="0"/>
                <a:ext cx="76212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7" name="椭圆 2562"/>
              <p:cNvSpPr/>
              <p:nvPr/>
            </p:nvSpPr>
            <p:spPr>
              <a:xfrm>
                <a:off x="8077320" y="0"/>
                <a:ext cx="76176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8" name="椭圆 2563"/>
              <p:cNvSpPr/>
              <p:nvPr/>
            </p:nvSpPr>
            <p:spPr>
              <a:xfrm>
                <a:off x="8381880" y="228600"/>
                <a:ext cx="76212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49" name="椭圆 2564"/>
              <p:cNvSpPr/>
              <p:nvPr/>
            </p:nvSpPr>
            <p:spPr>
              <a:xfrm>
                <a:off x="8381880" y="0"/>
                <a:ext cx="76212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50" name="椭圆 2565"/>
            <p:cNvSpPr/>
            <p:nvPr/>
          </p:nvSpPr>
          <p:spPr>
            <a:xfrm>
              <a:off x="6248520" y="0"/>
              <a:ext cx="3808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1" name="椭圆 2566"/>
            <p:cNvSpPr/>
            <p:nvPr/>
          </p:nvSpPr>
          <p:spPr>
            <a:xfrm>
              <a:off x="5715000" y="0"/>
              <a:ext cx="762120" cy="76212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2" name="椭圆 2567"/>
            <p:cNvSpPr/>
            <p:nvPr/>
          </p:nvSpPr>
          <p:spPr>
            <a:xfrm>
              <a:off x="4800600" y="0"/>
              <a:ext cx="3808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3" name="椭圆 2568"/>
            <p:cNvSpPr/>
            <p:nvPr/>
          </p:nvSpPr>
          <p:spPr>
            <a:xfrm rot="20146800">
              <a:off x="4495680" y="228240"/>
              <a:ext cx="381240" cy="22860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4" name="椭圆 2569"/>
            <p:cNvSpPr/>
            <p:nvPr/>
          </p:nvSpPr>
          <p:spPr>
            <a:xfrm rot="20146800">
              <a:off x="4495680" y="0"/>
              <a:ext cx="381240" cy="22860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椭圆 2570"/>
            <p:cNvSpPr/>
            <p:nvPr/>
          </p:nvSpPr>
          <p:spPr>
            <a:xfrm rot="2188800">
              <a:off x="4572000" y="68580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椭圆 2571"/>
            <p:cNvSpPr/>
            <p:nvPr/>
          </p:nvSpPr>
          <p:spPr>
            <a:xfrm rot="2188800">
              <a:off x="4724280" y="685800"/>
              <a:ext cx="15264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椭圆 2572"/>
            <p:cNvSpPr/>
            <p:nvPr/>
          </p:nvSpPr>
          <p:spPr>
            <a:xfrm rot="2188800">
              <a:off x="4952520" y="838080"/>
              <a:ext cx="152640" cy="38124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椭圆 2573"/>
            <p:cNvSpPr/>
            <p:nvPr/>
          </p:nvSpPr>
          <p:spPr>
            <a:xfrm rot="2188800">
              <a:off x="4876560" y="609480"/>
              <a:ext cx="152280" cy="38124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椭圆 2574"/>
            <p:cNvSpPr/>
            <p:nvPr/>
          </p:nvSpPr>
          <p:spPr>
            <a:xfrm rot="2188800">
              <a:off x="4419720" y="22860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0" name="椭圆 2575"/>
            <p:cNvSpPr/>
            <p:nvPr/>
          </p:nvSpPr>
          <p:spPr>
            <a:xfrm rot="3678600">
              <a:off x="4457520" y="-3780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椭圆 2576"/>
            <p:cNvSpPr/>
            <p:nvPr/>
          </p:nvSpPr>
          <p:spPr>
            <a:xfrm rot="2188800">
              <a:off x="5409720" y="838080"/>
              <a:ext cx="152640" cy="38124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椭圆 2577"/>
            <p:cNvSpPr/>
            <p:nvPr/>
          </p:nvSpPr>
          <p:spPr>
            <a:xfrm rot="2188800">
              <a:off x="5257800" y="76212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63" name="组合 2578"/>
          <p:cNvGrpSpPr/>
          <p:nvPr/>
        </p:nvGrpSpPr>
        <p:grpSpPr>
          <a:xfrm>
            <a:off x="4910400" y="-168120"/>
            <a:ext cx="4839120" cy="1685880"/>
            <a:chOff x="4910400" y="-168120"/>
            <a:chExt cx="4839120" cy="1685880"/>
          </a:xfrm>
        </p:grpSpPr>
        <p:sp>
          <p:nvSpPr>
            <p:cNvPr id="464" name="椭圆 2579"/>
            <p:cNvSpPr/>
            <p:nvPr/>
          </p:nvSpPr>
          <p:spPr>
            <a:xfrm rot="20146800">
              <a:off x="5008680" y="433440"/>
              <a:ext cx="380880" cy="22860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矩形 2580"/>
            <p:cNvSpPr/>
            <p:nvPr/>
          </p:nvSpPr>
          <p:spPr>
            <a:xfrm>
              <a:off x="5313240" y="-100080"/>
              <a:ext cx="4419720" cy="533520"/>
            </a:xfrm>
            <a:prstGeom prst="rect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66" name="组合 2581"/>
            <p:cNvGrpSpPr/>
            <p:nvPr/>
          </p:nvGrpSpPr>
          <p:grpSpPr>
            <a:xfrm>
              <a:off x="6997680" y="465120"/>
              <a:ext cx="2751840" cy="1052640"/>
              <a:chOff x="6997680" y="465120"/>
              <a:chExt cx="2751840" cy="1052640"/>
            </a:xfrm>
          </p:grpSpPr>
          <p:sp>
            <p:nvSpPr>
              <p:cNvPr id="467" name="椭圆 2582"/>
              <p:cNvSpPr/>
              <p:nvPr/>
            </p:nvSpPr>
            <p:spPr>
              <a:xfrm rot="20895000">
                <a:off x="8038440" y="901800"/>
                <a:ext cx="221040" cy="2030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68" name="椭圆 2583"/>
              <p:cNvSpPr/>
              <p:nvPr/>
            </p:nvSpPr>
            <p:spPr>
              <a:xfrm rot="20895000">
                <a:off x="7631280" y="957240"/>
                <a:ext cx="530640" cy="4878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69" name="椭圆 2584"/>
              <p:cNvSpPr/>
              <p:nvPr/>
            </p:nvSpPr>
            <p:spPr>
              <a:xfrm rot="20895000">
                <a:off x="7531200" y="104508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0" name="椭圆 2585"/>
              <p:cNvSpPr/>
              <p:nvPr/>
            </p:nvSpPr>
            <p:spPr>
              <a:xfrm rot="20895000">
                <a:off x="7368120" y="91260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1" name="椭圆 2586"/>
              <p:cNvSpPr/>
              <p:nvPr/>
            </p:nvSpPr>
            <p:spPr>
              <a:xfrm rot="20895000">
                <a:off x="8083800" y="109584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2" name="椭圆 2587"/>
              <p:cNvSpPr/>
              <p:nvPr/>
            </p:nvSpPr>
            <p:spPr>
              <a:xfrm rot="20895000">
                <a:off x="8300880" y="1050840"/>
                <a:ext cx="265320" cy="2437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3" name="椭圆 2588"/>
              <p:cNvSpPr/>
              <p:nvPr/>
            </p:nvSpPr>
            <p:spPr>
              <a:xfrm rot="20895000">
                <a:off x="8162640" y="731160"/>
                <a:ext cx="44208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4" name="椭圆 2589"/>
              <p:cNvSpPr/>
              <p:nvPr/>
            </p:nvSpPr>
            <p:spPr>
              <a:xfrm rot="20895000">
                <a:off x="7329240" y="107064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5" name="椭圆 2590"/>
              <p:cNvSpPr/>
              <p:nvPr/>
            </p:nvSpPr>
            <p:spPr>
              <a:xfrm rot="20895000">
                <a:off x="7096680" y="1085400"/>
                <a:ext cx="353880" cy="3250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6" name="椭圆 2591"/>
              <p:cNvSpPr/>
              <p:nvPr/>
            </p:nvSpPr>
            <p:spPr>
              <a:xfrm rot="20895000">
                <a:off x="7251120" y="1024200"/>
                <a:ext cx="221040" cy="2034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7" name="椭圆 2592"/>
              <p:cNvSpPr/>
              <p:nvPr/>
            </p:nvSpPr>
            <p:spPr>
              <a:xfrm rot="20895000">
                <a:off x="7007400" y="1198440"/>
                <a:ext cx="221040" cy="1216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8" name="椭圆 2593"/>
              <p:cNvSpPr/>
              <p:nvPr/>
            </p:nvSpPr>
            <p:spPr>
              <a:xfrm rot="20895000">
                <a:off x="7512480" y="866160"/>
                <a:ext cx="44208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9" name="椭圆 2594"/>
              <p:cNvSpPr/>
              <p:nvPr/>
            </p:nvSpPr>
            <p:spPr>
              <a:xfrm rot="20895000">
                <a:off x="8508960" y="65916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0" name="椭圆 2595"/>
              <p:cNvSpPr/>
              <p:nvPr/>
            </p:nvSpPr>
            <p:spPr>
              <a:xfrm rot="20895000">
                <a:off x="9072360" y="541800"/>
                <a:ext cx="44208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1" name="椭圆 2596"/>
              <p:cNvSpPr/>
              <p:nvPr/>
            </p:nvSpPr>
            <p:spPr>
              <a:xfrm rot="20895000">
                <a:off x="9270360" y="62496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2" name="椭圆 2597"/>
              <p:cNvSpPr/>
              <p:nvPr/>
            </p:nvSpPr>
            <p:spPr>
              <a:xfrm rot="20895000">
                <a:off x="9245520" y="505800"/>
                <a:ext cx="442440" cy="4064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483" name="组合 2598"/>
            <p:cNvGrpSpPr/>
            <p:nvPr/>
          </p:nvGrpSpPr>
          <p:grpSpPr>
            <a:xfrm>
              <a:off x="5008680" y="-100080"/>
              <a:ext cx="4724280" cy="1143000"/>
              <a:chOff x="5008680" y="-100080"/>
              <a:chExt cx="4724280" cy="1143000"/>
            </a:xfrm>
          </p:grpSpPr>
          <p:sp>
            <p:nvSpPr>
              <p:cNvPr id="484" name="椭圆 2599"/>
              <p:cNvSpPr/>
              <p:nvPr/>
            </p:nvSpPr>
            <p:spPr>
              <a:xfrm>
                <a:off x="6837480" y="128520"/>
                <a:ext cx="380880" cy="3808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5" name="椭圆 2600"/>
              <p:cNvSpPr/>
              <p:nvPr/>
            </p:nvSpPr>
            <p:spPr>
              <a:xfrm>
                <a:off x="6075360" y="128520"/>
                <a:ext cx="914400" cy="9144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6" name="椭圆 2601"/>
              <p:cNvSpPr/>
              <p:nvPr/>
            </p:nvSpPr>
            <p:spPr>
              <a:xfrm>
                <a:off x="5923080" y="20484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7" name="椭圆 2602"/>
              <p:cNvSpPr/>
              <p:nvPr/>
            </p:nvSpPr>
            <p:spPr>
              <a:xfrm>
                <a:off x="5694480" y="-10008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8" name="椭圆 2603"/>
              <p:cNvSpPr/>
              <p:nvPr/>
            </p:nvSpPr>
            <p:spPr>
              <a:xfrm>
                <a:off x="6837480" y="50940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9" name="椭圆 2604"/>
              <p:cNvSpPr/>
              <p:nvPr/>
            </p:nvSpPr>
            <p:spPr>
              <a:xfrm>
                <a:off x="7218360" y="509400"/>
                <a:ext cx="457200" cy="4572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0" name="椭圆 2605"/>
              <p:cNvSpPr/>
              <p:nvPr/>
            </p:nvSpPr>
            <p:spPr>
              <a:xfrm>
                <a:off x="7066080" y="-100080"/>
                <a:ext cx="76176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1" name="椭圆 2606"/>
              <p:cNvSpPr/>
              <p:nvPr/>
            </p:nvSpPr>
            <p:spPr>
              <a:xfrm>
                <a:off x="5541840" y="204840"/>
                <a:ext cx="762120" cy="76176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2" name="椭圆 2607"/>
              <p:cNvSpPr/>
              <p:nvPr/>
            </p:nvSpPr>
            <p:spPr>
              <a:xfrm>
                <a:off x="5160960" y="128520"/>
                <a:ext cx="609480" cy="60948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3" name="椭圆 2608"/>
              <p:cNvSpPr/>
              <p:nvPr/>
            </p:nvSpPr>
            <p:spPr>
              <a:xfrm>
                <a:off x="5465880" y="52200"/>
                <a:ext cx="380880" cy="38124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4" name="椭圆 2609"/>
              <p:cNvSpPr/>
              <p:nvPr/>
            </p:nvSpPr>
            <p:spPr>
              <a:xfrm>
                <a:off x="5008680" y="280800"/>
                <a:ext cx="380880" cy="22860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5" name="椭圆 2610"/>
              <p:cNvSpPr/>
              <p:nvPr/>
            </p:nvSpPr>
            <p:spPr>
              <a:xfrm>
                <a:off x="5923080" y="-100080"/>
                <a:ext cx="76176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6" name="椭圆 2611"/>
              <p:cNvSpPr/>
              <p:nvPr/>
            </p:nvSpPr>
            <p:spPr>
              <a:xfrm>
                <a:off x="7675560" y="-100080"/>
                <a:ext cx="76212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7" name="椭圆 2612"/>
              <p:cNvSpPr/>
              <p:nvPr/>
            </p:nvSpPr>
            <p:spPr>
              <a:xfrm>
                <a:off x="8666280" y="-100080"/>
                <a:ext cx="76176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8" name="椭圆 2613"/>
              <p:cNvSpPr/>
              <p:nvPr/>
            </p:nvSpPr>
            <p:spPr>
              <a:xfrm>
                <a:off x="8970840" y="128520"/>
                <a:ext cx="76212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9" name="椭圆 2614"/>
              <p:cNvSpPr/>
              <p:nvPr/>
            </p:nvSpPr>
            <p:spPr>
              <a:xfrm>
                <a:off x="8970840" y="-100080"/>
                <a:ext cx="762120" cy="762120"/>
              </a:xfrm>
              <a:prstGeom prst="ellipse">
                <a:avLst/>
              </a:prstGeom>
              <a:solidFill>
                <a:srgbClr val="869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00" name="椭圆 2615"/>
            <p:cNvSpPr/>
            <p:nvPr/>
          </p:nvSpPr>
          <p:spPr>
            <a:xfrm>
              <a:off x="6837480" y="-100080"/>
              <a:ext cx="3808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椭圆 2616"/>
            <p:cNvSpPr/>
            <p:nvPr/>
          </p:nvSpPr>
          <p:spPr>
            <a:xfrm>
              <a:off x="6303960" y="-100080"/>
              <a:ext cx="762120" cy="76212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椭圆 2617"/>
            <p:cNvSpPr/>
            <p:nvPr/>
          </p:nvSpPr>
          <p:spPr>
            <a:xfrm>
              <a:off x="5389560" y="-100080"/>
              <a:ext cx="3808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椭圆 2618"/>
            <p:cNvSpPr/>
            <p:nvPr/>
          </p:nvSpPr>
          <p:spPr>
            <a:xfrm rot="20146800">
              <a:off x="5084640" y="128160"/>
              <a:ext cx="381240" cy="22860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椭圆 2619"/>
            <p:cNvSpPr/>
            <p:nvPr/>
          </p:nvSpPr>
          <p:spPr>
            <a:xfrm rot="20146800">
              <a:off x="5084640" y="-100080"/>
              <a:ext cx="381240" cy="22860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椭圆 2620"/>
            <p:cNvSpPr/>
            <p:nvPr/>
          </p:nvSpPr>
          <p:spPr>
            <a:xfrm rot="2188800">
              <a:off x="5160960" y="58572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椭圆 2621"/>
            <p:cNvSpPr/>
            <p:nvPr/>
          </p:nvSpPr>
          <p:spPr>
            <a:xfrm rot="2188800">
              <a:off x="5313240" y="585720"/>
              <a:ext cx="15264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椭圆 2622"/>
            <p:cNvSpPr/>
            <p:nvPr/>
          </p:nvSpPr>
          <p:spPr>
            <a:xfrm rot="2188800">
              <a:off x="5541480" y="738000"/>
              <a:ext cx="152640" cy="38124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8" name="椭圆 2623"/>
            <p:cNvSpPr/>
            <p:nvPr/>
          </p:nvSpPr>
          <p:spPr>
            <a:xfrm rot="2188800">
              <a:off x="5465520" y="509400"/>
              <a:ext cx="152280" cy="38124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9" name="椭圆 2624"/>
            <p:cNvSpPr/>
            <p:nvPr/>
          </p:nvSpPr>
          <p:spPr>
            <a:xfrm rot="2188800">
              <a:off x="5008680" y="12852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0" name="椭圆 2625"/>
            <p:cNvSpPr/>
            <p:nvPr/>
          </p:nvSpPr>
          <p:spPr>
            <a:xfrm rot="3678600">
              <a:off x="5046480" y="-13788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1" name="椭圆 2626"/>
            <p:cNvSpPr/>
            <p:nvPr/>
          </p:nvSpPr>
          <p:spPr>
            <a:xfrm rot="2188800">
              <a:off x="5998680" y="738000"/>
              <a:ext cx="152640" cy="38124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2" name="椭圆 2627"/>
            <p:cNvSpPr/>
            <p:nvPr/>
          </p:nvSpPr>
          <p:spPr>
            <a:xfrm rot="2188800">
              <a:off x="5846760" y="662040"/>
              <a:ext cx="152280" cy="380880"/>
            </a:xfrm>
            <a:prstGeom prst="ellipse">
              <a:avLst/>
            </a:prstGeom>
            <a:solidFill>
              <a:srgbClr val="869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13" name="组合 2628"/>
          <p:cNvGrpSpPr/>
          <p:nvPr/>
        </p:nvGrpSpPr>
        <p:grpSpPr>
          <a:xfrm>
            <a:off x="1581120" y="5562360"/>
            <a:ext cx="693360" cy="230400"/>
            <a:chOff x="1581120" y="5562360"/>
            <a:chExt cx="693360" cy="230400"/>
          </a:xfrm>
        </p:grpSpPr>
        <p:sp>
          <p:nvSpPr>
            <p:cNvPr id="514" name="任意多边形 2629"/>
            <p:cNvSpPr/>
            <p:nvPr/>
          </p:nvSpPr>
          <p:spPr>
            <a:xfrm rot="5400000">
              <a:off x="2007720" y="5526000"/>
              <a:ext cx="228600" cy="30492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5" name="任意多边形 2630"/>
            <p:cNvSpPr/>
            <p:nvPr/>
          </p:nvSpPr>
          <p:spPr>
            <a:xfrm rot="16200000">
              <a:off x="1619280" y="5524200"/>
              <a:ext cx="228600" cy="30492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6" name="任意多边形 2631"/>
            <p:cNvSpPr/>
            <p:nvPr/>
          </p:nvSpPr>
          <p:spPr>
            <a:xfrm rot="5400000">
              <a:off x="2043360" y="5577480"/>
              <a:ext cx="130320" cy="1731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任意多边形 2632"/>
            <p:cNvSpPr/>
            <p:nvPr/>
          </p:nvSpPr>
          <p:spPr>
            <a:xfrm rot="16200000">
              <a:off x="1683720" y="5575680"/>
              <a:ext cx="129960" cy="1731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18" name="组合 2633"/>
            <p:cNvGrpSpPr/>
            <p:nvPr/>
          </p:nvGrpSpPr>
          <p:grpSpPr>
            <a:xfrm>
              <a:off x="1790640" y="5629320"/>
              <a:ext cx="313560" cy="77760"/>
              <a:chOff x="1790640" y="5629320"/>
              <a:chExt cx="313560" cy="77760"/>
            </a:xfrm>
          </p:grpSpPr>
          <p:sp>
            <p:nvSpPr>
              <p:cNvPr id="519" name="任意多边形 2634"/>
              <p:cNvSpPr/>
              <p:nvPr/>
            </p:nvSpPr>
            <p:spPr>
              <a:xfrm rot="5400000">
                <a:off x="2014560" y="5617440"/>
                <a:ext cx="77040" cy="10188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0" name="任意多边形 2635"/>
              <p:cNvSpPr/>
              <p:nvPr/>
            </p:nvSpPr>
            <p:spPr>
              <a:xfrm rot="16200000">
                <a:off x="1802880" y="5616720"/>
                <a:ext cx="77040" cy="10188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521" name="组合 2636"/>
          <p:cNvGrpSpPr/>
          <p:nvPr/>
        </p:nvGrpSpPr>
        <p:grpSpPr>
          <a:xfrm>
            <a:off x="3954600" y="4036680"/>
            <a:ext cx="693360" cy="230400"/>
            <a:chOff x="3954600" y="4036680"/>
            <a:chExt cx="693360" cy="230400"/>
          </a:xfrm>
        </p:grpSpPr>
        <p:sp>
          <p:nvSpPr>
            <p:cNvPr id="522" name="任意多边形 2637"/>
            <p:cNvSpPr/>
            <p:nvPr/>
          </p:nvSpPr>
          <p:spPr>
            <a:xfrm rot="5400000">
              <a:off x="4381200" y="4000320"/>
              <a:ext cx="228600" cy="30492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任意多边形 2638"/>
            <p:cNvSpPr/>
            <p:nvPr/>
          </p:nvSpPr>
          <p:spPr>
            <a:xfrm rot="16200000">
              <a:off x="3992400" y="3998520"/>
              <a:ext cx="228600" cy="3045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任意多边形 2639"/>
            <p:cNvSpPr/>
            <p:nvPr/>
          </p:nvSpPr>
          <p:spPr>
            <a:xfrm rot="5400000">
              <a:off x="4417200" y="4052160"/>
              <a:ext cx="130320" cy="17280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任意多边形 2640"/>
            <p:cNvSpPr/>
            <p:nvPr/>
          </p:nvSpPr>
          <p:spPr>
            <a:xfrm rot="16200000">
              <a:off x="4056840" y="4050720"/>
              <a:ext cx="130320" cy="17280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26" name="组合 2641"/>
            <p:cNvGrpSpPr/>
            <p:nvPr/>
          </p:nvGrpSpPr>
          <p:grpSpPr>
            <a:xfrm>
              <a:off x="4164120" y="4103640"/>
              <a:ext cx="313560" cy="77760"/>
              <a:chOff x="4164120" y="4103640"/>
              <a:chExt cx="313560" cy="77760"/>
            </a:xfrm>
          </p:grpSpPr>
          <p:sp>
            <p:nvSpPr>
              <p:cNvPr id="527" name="任意多边形 2642"/>
              <p:cNvSpPr/>
              <p:nvPr/>
            </p:nvSpPr>
            <p:spPr>
              <a:xfrm rot="5400000">
                <a:off x="4388040" y="4091760"/>
                <a:ext cx="77040" cy="10188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8" name="任意多边形 2643"/>
              <p:cNvSpPr/>
              <p:nvPr/>
            </p:nvSpPr>
            <p:spPr>
              <a:xfrm rot="16200000">
                <a:off x="4176360" y="4091040"/>
                <a:ext cx="77040" cy="10188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529" name="组合 2644"/>
          <p:cNvGrpSpPr/>
          <p:nvPr/>
        </p:nvGrpSpPr>
        <p:grpSpPr>
          <a:xfrm>
            <a:off x="5943600" y="2971800"/>
            <a:ext cx="456840" cy="151920"/>
            <a:chOff x="5943600" y="2971800"/>
            <a:chExt cx="456840" cy="151920"/>
          </a:xfrm>
        </p:grpSpPr>
        <p:sp>
          <p:nvSpPr>
            <p:cNvPr id="530" name="任意多边形 2645"/>
            <p:cNvSpPr/>
            <p:nvPr/>
          </p:nvSpPr>
          <p:spPr>
            <a:xfrm rot="5400000">
              <a:off x="6224400" y="2947680"/>
              <a:ext cx="151200" cy="20088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任意多边形 2646"/>
            <p:cNvSpPr/>
            <p:nvPr/>
          </p:nvSpPr>
          <p:spPr>
            <a:xfrm rot="16200000">
              <a:off x="5968080" y="2946960"/>
              <a:ext cx="151200" cy="20052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任意多边形 2647"/>
            <p:cNvSpPr/>
            <p:nvPr/>
          </p:nvSpPr>
          <p:spPr>
            <a:xfrm rot="5400000">
              <a:off x="6248160" y="2981520"/>
              <a:ext cx="86040" cy="1137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3" name="任意多边形 2648"/>
            <p:cNvSpPr/>
            <p:nvPr/>
          </p:nvSpPr>
          <p:spPr>
            <a:xfrm rot="16200000">
              <a:off x="6010560" y="2980440"/>
              <a:ext cx="86040" cy="1137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34" name="组合 2649"/>
            <p:cNvGrpSpPr/>
            <p:nvPr/>
          </p:nvGrpSpPr>
          <p:grpSpPr>
            <a:xfrm>
              <a:off x="6081480" y="3015720"/>
              <a:ext cx="206640" cy="51480"/>
              <a:chOff x="6081480" y="3015720"/>
              <a:chExt cx="206640" cy="51480"/>
            </a:xfrm>
          </p:grpSpPr>
          <p:sp>
            <p:nvSpPr>
              <p:cNvPr id="535" name="任意多边形 2650"/>
              <p:cNvSpPr/>
              <p:nvPr/>
            </p:nvSpPr>
            <p:spPr>
              <a:xfrm rot="5400000">
                <a:off x="6229080" y="3008160"/>
                <a:ext cx="51120" cy="6696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6" name="任意多边形 2651"/>
              <p:cNvSpPr/>
              <p:nvPr/>
            </p:nvSpPr>
            <p:spPr>
              <a:xfrm rot="16200000">
                <a:off x="6089400" y="3007800"/>
                <a:ext cx="51120" cy="6696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537" name="组合 2652"/>
          <p:cNvGrpSpPr/>
          <p:nvPr/>
        </p:nvGrpSpPr>
        <p:grpSpPr>
          <a:xfrm>
            <a:off x="6172200" y="4648320"/>
            <a:ext cx="456840" cy="151920"/>
            <a:chOff x="6172200" y="4648320"/>
            <a:chExt cx="456840" cy="151920"/>
          </a:xfrm>
        </p:grpSpPr>
        <p:sp>
          <p:nvSpPr>
            <p:cNvPr id="538" name="任意多边形 2653"/>
            <p:cNvSpPr/>
            <p:nvPr/>
          </p:nvSpPr>
          <p:spPr>
            <a:xfrm rot="5400000">
              <a:off x="6453000" y="4624200"/>
              <a:ext cx="151200" cy="20088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任意多边形 2654"/>
            <p:cNvSpPr/>
            <p:nvPr/>
          </p:nvSpPr>
          <p:spPr>
            <a:xfrm rot="16200000">
              <a:off x="6196680" y="4623480"/>
              <a:ext cx="151200" cy="20052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任意多边形 2655"/>
            <p:cNvSpPr/>
            <p:nvPr/>
          </p:nvSpPr>
          <p:spPr>
            <a:xfrm rot="5400000">
              <a:off x="6476760" y="4658040"/>
              <a:ext cx="86040" cy="1137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任意多边形 2656"/>
            <p:cNvSpPr/>
            <p:nvPr/>
          </p:nvSpPr>
          <p:spPr>
            <a:xfrm rot="16200000">
              <a:off x="6239160" y="4656960"/>
              <a:ext cx="86040" cy="113760"/>
            </a:xfrm>
            <a:custGeom>
              <a:avLst/>
              <a:gdLst/>
              <a:ahLst/>
              <a:rect l="l" t="t" r="r" b="b"/>
              <a:pathLst>
                <a:path fill="none" w="42880" h="21600">
                  <a:moveTo>
                    <a:pt x="0" y="17896"/>
                  </a:moveTo>
                  <a:cubicBezTo>
                    <a:pt x="1759" y="7726"/>
                    <a:pt x="10617" y="0"/>
                    <a:pt x="21280" y="0"/>
                  </a:cubicBezTo>
                  <a:cubicBezTo>
                    <a:pt x="33209" y="0"/>
                    <a:pt x="42880" y="9671"/>
                    <a:pt x="42880" y="21600"/>
                  </a:cubicBezTo>
                </a:path>
                <a:path stroke="0" w="42880" h="21600">
                  <a:moveTo>
                    <a:pt x="42880" y="21600"/>
                  </a:moveTo>
                  <a:cubicBezTo>
                    <a:pt x="40401" y="19537"/>
                    <a:pt x="38945" y="17016"/>
                    <a:pt x="38945" y="14294"/>
                  </a:cubicBezTo>
                  <a:cubicBezTo>
                    <a:pt x="38945" y="7306"/>
                    <a:pt x="48544" y="1642"/>
                    <a:pt x="60385" y="1642"/>
                  </a:cubicBezTo>
                  <a:cubicBezTo>
                    <a:pt x="72226" y="1642"/>
                    <a:pt x="81825" y="7306"/>
                    <a:pt x="81825" y="14294"/>
                  </a:cubicBezTo>
                  <a:cubicBezTo>
                    <a:pt x="81825" y="19542"/>
                    <a:pt x="76410" y="24044"/>
                    <a:pt x="68701" y="25959"/>
                  </a:cubicBezTo>
                  <a:lnTo>
                    <a:pt x="0" y="178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42" name="组合 2657"/>
            <p:cNvGrpSpPr/>
            <p:nvPr/>
          </p:nvGrpSpPr>
          <p:grpSpPr>
            <a:xfrm>
              <a:off x="6310080" y="4692240"/>
              <a:ext cx="206640" cy="51480"/>
              <a:chOff x="6310080" y="4692240"/>
              <a:chExt cx="206640" cy="51480"/>
            </a:xfrm>
          </p:grpSpPr>
          <p:sp>
            <p:nvSpPr>
              <p:cNvPr id="543" name="任意多边形 2658"/>
              <p:cNvSpPr/>
              <p:nvPr/>
            </p:nvSpPr>
            <p:spPr>
              <a:xfrm rot="5400000">
                <a:off x="6457680" y="4684680"/>
                <a:ext cx="51120" cy="6696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4" name="任意多边形 2659"/>
              <p:cNvSpPr/>
              <p:nvPr/>
            </p:nvSpPr>
            <p:spPr>
              <a:xfrm rot="16200000">
                <a:off x="6318000" y="4684320"/>
                <a:ext cx="51120" cy="66960"/>
              </a:xfrm>
              <a:custGeom>
                <a:avLst/>
                <a:gdLst/>
                <a:ahLst/>
                <a:rect l="l" t="t" r="r" b="b"/>
                <a:pathLst>
                  <a:path fill="none" w="42880" h="21600">
                    <a:moveTo>
                      <a:pt x="0" y="17896"/>
                    </a:moveTo>
                    <a:cubicBezTo>
                      <a:pt x="1759" y="7726"/>
                      <a:pt x="10617" y="0"/>
                      <a:pt x="21280" y="0"/>
                    </a:cubicBezTo>
                    <a:cubicBezTo>
                      <a:pt x="33209" y="0"/>
                      <a:pt x="42880" y="9671"/>
                      <a:pt x="42880" y="21600"/>
                    </a:cubicBezTo>
                  </a:path>
                  <a:path stroke="0" w="42880" h="21600">
                    <a:moveTo>
                      <a:pt x="42880" y="21600"/>
                    </a:moveTo>
                    <a:cubicBezTo>
                      <a:pt x="40401" y="19537"/>
                      <a:pt x="38945" y="17016"/>
                      <a:pt x="38945" y="14294"/>
                    </a:cubicBezTo>
                    <a:cubicBezTo>
                      <a:pt x="38945" y="7306"/>
                      <a:pt x="48544" y="1642"/>
                      <a:pt x="60385" y="1642"/>
                    </a:cubicBezTo>
                    <a:cubicBezTo>
                      <a:pt x="72226" y="1642"/>
                      <a:pt x="81825" y="7306"/>
                      <a:pt x="81825" y="14294"/>
                    </a:cubicBezTo>
                    <a:cubicBezTo>
                      <a:pt x="81825" y="19542"/>
                      <a:pt x="76410" y="24044"/>
                      <a:pt x="68701" y="25959"/>
                    </a:cubicBezTo>
                    <a:lnTo>
                      <a:pt x="0" y="17896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545" name="任意多边形 2660"/>
          <p:cNvSpPr/>
          <p:nvPr/>
        </p:nvSpPr>
        <p:spPr>
          <a:xfrm>
            <a:off x="1828800" y="2362320"/>
            <a:ext cx="3505320" cy="279360"/>
          </a:xfrm>
          <a:custGeom>
            <a:avLst/>
            <a:gdLst/>
            <a:ahLst/>
            <a:rect l="l" t="t" r="r" b="b"/>
            <a:pathLst>
              <a:path w="1632" h="128">
                <a:moveTo>
                  <a:pt x="0" y="16"/>
                </a:moveTo>
                <a:cubicBezTo>
                  <a:pt x="464" y="8"/>
                  <a:pt x="928" y="0"/>
                  <a:pt x="1056" y="16"/>
                </a:cubicBezTo>
                <a:cubicBezTo>
                  <a:pt x="1184" y="32"/>
                  <a:pt x="672" y="96"/>
                  <a:pt x="768" y="112"/>
                </a:cubicBezTo>
                <a:cubicBezTo>
                  <a:pt x="864" y="128"/>
                  <a:pt x="1488" y="112"/>
                  <a:pt x="1632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任意多边形 2671"/>
          <p:cNvSpPr/>
          <p:nvPr/>
        </p:nvSpPr>
        <p:spPr>
          <a:xfrm rot="5400000">
            <a:off x="7238160" y="441072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任意多边形 2672"/>
          <p:cNvSpPr/>
          <p:nvPr/>
        </p:nvSpPr>
        <p:spPr>
          <a:xfrm rot="5400000">
            <a:off x="4570560" y="4258080"/>
            <a:ext cx="13032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任意多边形 2673"/>
          <p:cNvSpPr/>
          <p:nvPr/>
        </p:nvSpPr>
        <p:spPr>
          <a:xfrm rot="5400000">
            <a:off x="1739880" y="5956200"/>
            <a:ext cx="25416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3852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任意多边形 2674"/>
          <p:cNvSpPr/>
          <p:nvPr/>
        </p:nvSpPr>
        <p:spPr>
          <a:xfrm rot="4351800">
            <a:off x="1186560" y="5983920"/>
            <a:ext cx="22860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3852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任意多边形 2675"/>
          <p:cNvSpPr/>
          <p:nvPr/>
        </p:nvSpPr>
        <p:spPr>
          <a:xfrm rot="5400000">
            <a:off x="5055480" y="4589280"/>
            <a:ext cx="82800" cy="4446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任意多边形 2676"/>
          <p:cNvSpPr/>
          <p:nvPr/>
        </p:nvSpPr>
        <p:spPr>
          <a:xfrm rot="5400000">
            <a:off x="5718600" y="46407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任意多边形 2677"/>
          <p:cNvSpPr/>
          <p:nvPr/>
        </p:nvSpPr>
        <p:spPr>
          <a:xfrm rot="5400000">
            <a:off x="4290840" y="477648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任意多边形 2678"/>
          <p:cNvSpPr/>
          <p:nvPr/>
        </p:nvSpPr>
        <p:spPr>
          <a:xfrm rot="5400000">
            <a:off x="5262120" y="4173480"/>
            <a:ext cx="14004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文本框 2"/>
          <p:cNvSpPr/>
          <p:nvPr/>
        </p:nvSpPr>
        <p:spPr>
          <a:xfrm>
            <a:off x="484200" y="2583000"/>
            <a:ext cx="842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池塘荷花动态卡通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DEC-EF13-44C7-AB93-4E20668EB9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06:48Z</dcterms:created>
  <dc:creator>幻灯片之家：www.eepp.com</dc:creator>
  <dc:description>幻灯片之家：www.eepp.com</dc:description>
  <cp:keywords>幻灯片之家：www.eepp.com</cp:keywords>
  <dc:language>en-US</dc:language>
  <cp:lastModifiedBy>An</cp:lastModifiedBy>
  <dcterms:modified xsi:type="dcterms:W3CDTF">2016-05-12T23:59:04Z</dcterms:modified>
  <cp:revision>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