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qit00004.wav" ContentType="audio/x-wav"/>
  <Override PartName="/ppt/media/image11.jpeg" ContentType="image/jpeg"/>
  <Override PartName="/ppt/media/image13.png" ContentType="image/png"/>
  <Override PartName="/ppt/media/image12.jpeg" ContentType="image/jpeg"/>
  <Override PartName="/ppt/media/image10.png" ContentType="image/png"/>
  <Override PartName="/ppt/media/image3.jpeg" ContentType="image/jpeg"/>
  <Override PartName="/ppt/media/type.wav" ContentType="audio/x-wav"/>
  <Override PartName="/ppt/media/laser.wav" ContentType="audio/x-wav"/>
  <Override PartName="/ppt/media/image2.png" ContentType="image/png"/>
  <Override PartName="/ppt/media/image4.jpeg" ContentType="image/jpeg"/>
  <Override PartName="/ppt/media/projctor.wav" ContentType="audio/x-wav"/>
  <Override PartName="/ppt/media/image9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ECA-2E99-4E7D-A984-BABCE81C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725-D501-4DF8-8AA1-D10DE003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5011E-9258-44A8-879B-690DF6A4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FDECC-8417-497E-B800-425E04AC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1DBAF-2A13-4F7E-882E-D381BBFD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00EA3-B383-4ECB-AB1E-AD802534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67D1D-00A0-4CBE-8C0D-4D536ADE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DB57D-5B83-4454-8B77-2CB7EB58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61A6C-414C-4BDE-827E-EDDD42B6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A33BE-BD84-4D76-9A9A-D54CCEEA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8C8C7-DD02-403D-B6B7-1F87C7AE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C2990-33E4-4AFC-AA60-41E56A8B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CF83-2B7C-4FEE-8339-91758924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D3098-EFEC-45E7-87BA-67274CB8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AA61A-46E7-4B6E-8A63-52E53F45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2B5D2-270F-4EE2-B5C1-A49B567F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DD215-C24C-4B5B-AB15-D049EE7A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E7AF8-1246-47A1-B5EC-5C593978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F7D8A-CD85-4705-A837-D08C9192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5FDE1-806B-4630-B43A-53BBD492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DA52E-8322-47CA-8216-DC477ED6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7D3FB-7C26-43E8-971B-CA648CC5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6C3BB-AE27-4F0D-B2E7-04AB7D8A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A37-6FF6-43E8-91E7-413C523F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BC4ED-4A94-4123-A4F2-B9868E98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3A28D-C755-4EA4-946B-3983E764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A638E-8891-4239-826C-D967B9F9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41628-DD1C-49F7-95FC-A1D7D014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19B9F-309A-4458-9208-138882EF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797F2-C5B8-43DF-88BE-D78DCAC6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0D83C-F55A-470E-92FF-C8E846BB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97BA9-BE68-4AF6-915B-C7034609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3CD7F-0C45-49CC-BF7C-CA2B04F0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7A809-4E71-4BF8-9998-D0E90495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081E-CA16-42C4-B338-CE603351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486EC-9250-4797-A93B-471272F5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EFE4D-AEF0-4A36-8C42-CB9B5BF6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16ADF-13A4-43FE-8E6D-DB1A7FC0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B980F-D64E-4A10-B246-BF979AE7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8F85C-D2CE-4DAE-BA63-82FE2F2F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FB469-D7D3-4560-842A-2707CA28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96E0C-D740-406D-B386-3F166089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8D3A9-48DC-4448-AC8B-64958C0E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19A18-1373-4144-AD1E-1DDDDD98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7DEDD-ECC8-4FE9-932F-88EDB9A6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052A-4594-44ED-B96C-67BE654D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0E469-6486-42C5-B04B-BB90B136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6E40E-9C51-42D4-96A8-27337D87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3D357-8FD7-4AAB-AEF9-C04507B2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22222-2130-4D26-8ACC-A0CB0AF3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DA110-4E12-49FD-B9CB-E54FB7CF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99295-0AAE-409B-B0EB-042DE943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90102-7059-433B-87E1-185E1FA2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1DEFE-7E7A-42D9-8CE4-FBACDDB5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3947B-ADCC-4EA3-AE2D-F2E98D17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020CE-48F3-48AD-93EA-334D8291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A3EA-5683-4357-9C7A-BBE621DF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502F4-23D4-45C9-A346-54B37582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B70B2-DD60-466E-B298-5A4884AD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2159E-3027-4D02-9BDA-684AB30C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4CE41-5C5D-4BD0-AA73-B78F0B35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D32C5-5D1C-460A-A077-787940D6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CBB2C-BA4B-4A10-B749-248FFBFD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2B2CE-D2AA-4AED-9B17-038F1D7C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57AD-D803-4452-B88C-050AA703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50BB-3B48-4BAA-9B02-4D227233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7CE2-3829-4DF3-87CB-3D82250E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E552-02DA-4185-8ECB-8CBAF3B8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4CC-4A6D-4A81-98D0-888141CA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8E8D-19C4-4505-A6C3-7D501183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E0E0-B1C4-4427-ABC6-C5BEBDE2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48EB-861D-4870-9600-955242FF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B021-39EC-46D1-B5B3-53E8961C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7832-1FCB-4500-825C-32BDCE37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E7170-1229-4E59-B08B-28278EC6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8A323-80FA-4356-BBB6-9FD811CC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7DA61-959E-4348-9FEC-A179455A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5DB53-206C-44D8-A47F-0D91CEA2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0529D-4C63-4123-A475-DF50ED1E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220-5F55-420A-A40D-AA03A194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A669A-5566-44A4-A935-3F51695F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85C8E-1DAF-4F87-AA35-19C2C52C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49D86-0FFF-456A-9207-CC1738A9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EB6C3-3067-40BD-838E-E6FE3AED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50FA9-2364-49EF-8BE9-75CBAC2D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3985B-4BE7-4ACF-948A-858F2502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9FC49-82E2-4242-84F7-E3466097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83DB5-978B-46D8-9E8A-FF9EB870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ED0EB-40C9-4027-BBEF-F107DB5B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BC142-8202-475E-B2CC-04B264D7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055-F6CF-4704-A468-C4E583AD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071CF-141B-4E9B-B5DA-14C03D08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FCF39-BFC2-4081-8422-CE0D12F2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9EE52-9001-4CE8-B9DC-B3112993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034B8-C266-44DD-89CD-FB8818AA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8EEA8-FEF7-43BC-9E67-3883A87E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44825-7781-4686-ACB6-A1DEB979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51A07-7B8D-40B2-A08D-0C506567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ADD84-2E56-43C9-BCF3-FC09DD91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5A9BF-C5AC-4ABD-9B12-99E56F1C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776E3-A138-4B76-A99C-E7963DB1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FC2-6D63-4BF8-8977-1CB6FBE3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E782A-54FC-48D0-8EE3-AA413AC8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2E6E6-C199-4A08-9571-7EC3A878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8A2E7-62FA-4959-8323-3BAF1111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CA802-26A9-4B11-B4CD-51349CD5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9AD24-1E46-4D2B-A95C-17A6184F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E4805-82A5-4A4B-ACB6-77F38127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319D8-552C-447F-ADEA-9B85360C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A0626-5F91-4A15-A222-CE8B9211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FF6F4-7E98-4E3F-9CFF-9BB079BF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42F3F-022E-4BD2-B319-D2B1851D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1AD-6F9D-4409-AF09-1CC9383A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3E3B3-FD66-4ABB-90E9-3526C8FE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61411-F28E-4CAC-9E05-1D5BA198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BAE0C-CF8A-4D78-8A2B-E410B439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9AE05-61F6-4A5F-8187-634C517F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94414-4331-408F-8529-000D22CD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CAFBF-E7DF-4870-8845-272F8B3F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88779-EBED-4E29-BD1A-CA8E191C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C0A81-9E8B-4D4B-BB15-FED0EA49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59CD5-E1FB-4474-B303-7687B33D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C0AF5-28BA-432D-A1C5-996C51B6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F30-B5FE-4E3A-8D09-AAF90461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3C232-B6EE-43F8-AE58-C52BBD1C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3411C-3D7E-48E9-B27C-15A00DB6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01C97-82C6-4D05-BEF2-9A541903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C082D-3A3C-4AB2-A0D8-C0CC9775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043ED-753A-4AB1-90F1-B75BFF5A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6A437-86A4-4CFE-85B0-F2B65637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A2656-86C0-4FA2-858E-6708AAEA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D8F08-92AC-4BED-AB9F-A8930AA7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D1956-5026-49E2-A059-566C00FC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27763-9EE0-4706-8918-C748CF80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A93-4145-4D9E-928F-951EE4C3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5423F-906E-4662-916E-5EBD95DB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8A513-8706-482E-A5D1-832B8EFF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082B5-11A9-4156-B194-D0AB7298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E0DD4-E457-45A2-AD7B-1BC5EB79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2FC90-96CD-49FD-8151-13E52CEE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0EE10-6DF5-4C8E-87AE-DC06BDB0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FC790-478B-47C8-ADD4-71412C26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E7EC6-1E09-47FA-90CB-8A20C9F3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8B7F3-E15C-4191-AD3D-F8321003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9CA80-5E47-45C2-9AE5-113595C6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C45-AEDF-4F75-83F0-A4414941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50ED1-C652-47F9-A92F-E74DE479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D4340-B4D2-4555-AAFB-32129F88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8B3B2-1842-40F5-A076-4EF3737D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77231-A16E-43F6-AA22-A414A069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FF737-4EB5-4D9E-B604-A1C4F477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2BF91-3E84-4691-973F-7F0935E6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D5D80-7C37-4F49-8F5A-2DEF0318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E0ABA-B9BA-441F-A9DB-2AE72113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15705-9F3B-49C9-A692-367D0587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7FBDE-9DB9-4B6A-8E64-FE2622D1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33B7-9CE5-415C-B443-4AFA0CCD5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02CB-CDB4-4011-80E0-8D9BB477CBDC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F364-7071-4CEF-BB64-2EE7AD29F52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CC1F-7338-4DF6-B356-2434B4E3F141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09ED-F7AF-41D6-9123-2AD5601DC98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E3C3-39CB-4494-A493-294455D4573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2DB9-C5A2-4396-B02E-7E299FBD621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B10B-A0B2-419F-913E-6DCCB906818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03EC-AF06-4A03-9C0F-9C9C9A6FBB8B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9C11-5F24-42C0-ACC1-68F5B7C7CB5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24B8-DEA9-4C9A-AD15-CF1985416A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0994-99BA-4A6B-907E-F39547FF650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D37E-ED07-4A32-95FE-3B5A9FF95A2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94C1-F69A-4B04-A54E-0072A0AEC5ED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C0DE-EA75-420C-AA62-29333ED5CD0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53F7-6313-40F7-9213-C12F574A54F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2A61-770F-44DE-B45C-5483E066D90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8F90-A152-4151-87EF-176EEEFA3F9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D96A-A527-42BA-9122-2BEA3689420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7575-42D0-41AD-84E9-129777EFC80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D339-BC22-4C1E-9E6E-3180FE162160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4689-237A-42DC-A24F-4B2264E1D21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7079-083C-4FF3-BAD7-3448E7AD650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4D8A-9FF3-42CF-B13F-DB60ED427BBD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FB9F-BFA6-42EF-8523-A8DA279141A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qit00004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5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SUM00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xid00002.WAV" descr=""/>
          <p:cNvPicPr/>
          <p:nvPr/>
        </p:nvPicPr>
        <p:blipFill>
          <a:blip r:embed="rId2"/>
          <a:stretch/>
        </p:blipFill>
        <p:spPr>
          <a:xfrm>
            <a:off x="15228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36" name="WordArt 9"/>
          <p:cNvSpPr txBox="1"/>
          <p:nvPr/>
        </p:nvSpPr>
        <p:spPr>
          <a:xfrm rot="21576000">
            <a:off x="1828800" y="205740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24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"/>
              </a:rPr>
              <a:t>从现在开始</a:t>
            </a:r>
            <a:endParaRPr b="1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24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"/>
              <a:ea typeface="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BRL00030"/>
          <p:cNvPicPr/>
          <p:nvPr/>
        </p:nvPicPr>
        <p:blipFill>
          <a:blip r:embed="rId1"/>
          <a:stretch/>
        </p:blipFill>
        <p:spPr>
          <a:xfrm>
            <a:off x="0" y="-533520"/>
            <a:ext cx="5334120" cy="7391520"/>
          </a:xfrm>
          <a:prstGeom prst="rect">
            <a:avLst/>
          </a:prstGeom>
          <a:ln w="0">
            <a:noFill/>
          </a:ln>
        </p:spPr>
      </p:pic>
      <p:sp>
        <p:nvSpPr>
          <p:cNvPr id="580" name="Line 5"/>
          <p:cNvSpPr/>
          <p:nvPr/>
        </p:nvSpPr>
        <p:spPr>
          <a:xfrm>
            <a:off x="4343400" y="304920"/>
            <a:ext cx="0" cy="632448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4648320" y="533520"/>
            <a:ext cx="419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袋鼠虽然你落选了，可你不要灰心丧气，只要你懂得尊重别人的生活习惯，认识到自己的不足，取长补短，下次再竞选“万兽之王”时，我相信你一定能成功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5"/>
          <p:cNvSpPr/>
          <p:nvPr/>
        </p:nvSpPr>
        <p:spPr>
          <a:xfrm>
            <a:off x="5181480" y="12193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6"/>
          <p:cNvSpPr/>
          <p:nvPr/>
        </p:nvSpPr>
        <p:spPr>
          <a:xfrm>
            <a:off x="5257800" y="2590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7"/>
          <p:cNvSpPr/>
          <p:nvPr/>
        </p:nvSpPr>
        <p:spPr>
          <a:xfrm>
            <a:off x="5257800" y="38098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8"/>
          <p:cNvSpPr/>
          <p:nvPr/>
        </p:nvSpPr>
        <p:spPr>
          <a:xfrm>
            <a:off x="5029200" y="5029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9"/>
          <p:cNvSpPr/>
          <p:nvPr/>
        </p:nvSpPr>
        <p:spPr>
          <a:xfrm>
            <a:off x="5181480" y="60958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25"/>
          <p:cNvSpPr/>
          <p:nvPr/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qit000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742840" y="6854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 会  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现在开始，你们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当‘万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王’，每个动物当一个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个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是猫头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现在开始，每个动物都照自己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过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狮子见了，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眯地说：“不用再往下轮了。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宣布，从现在开始，小猴子就是‘万兽之王’了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4" descr="RIT00173"/>
          <p:cNvPicPr/>
          <p:nvPr/>
        </p:nvPicPr>
        <p:blipFill>
          <a:blip r:embed="rId1"/>
          <a:stretch/>
        </p:blipFill>
        <p:spPr>
          <a:xfrm>
            <a:off x="380880" y="152280"/>
            <a:ext cx="199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6000" y="6091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 会  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之      轮      期            第      任      惯    式      眯      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5" descr="RIT00024"/>
          <p:cNvPicPr/>
          <p:nvPr/>
        </p:nvPicPr>
        <p:blipFill>
          <a:blip r:embed="rId1"/>
          <a:stretch/>
        </p:blipFill>
        <p:spPr>
          <a:xfrm>
            <a:off x="457200" y="228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SUM00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BRL00007"/>
          <p:cNvPicPr/>
          <p:nvPr/>
        </p:nvPicPr>
        <p:blipFill>
          <a:blip r:embed="rId2"/>
          <a:stretch/>
        </p:blipFill>
        <p:spPr>
          <a:xfrm>
            <a:off x="228600" y="3657600"/>
            <a:ext cx="4191120" cy="26510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BRL00012"/>
          <p:cNvPicPr/>
          <p:nvPr/>
        </p:nvPicPr>
        <p:blipFill>
          <a:blip r:embed="rId3"/>
          <a:stretch/>
        </p:blipFill>
        <p:spPr>
          <a:xfrm>
            <a:off x="5334120" y="28954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BRL00062"/>
          <p:cNvPicPr/>
          <p:nvPr/>
        </p:nvPicPr>
        <p:blipFill>
          <a:blip r:embed="rId4"/>
          <a:stretch/>
        </p:blipFill>
        <p:spPr>
          <a:xfrm>
            <a:off x="-762120" y="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BRL00215"/>
          <p:cNvPicPr/>
          <p:nvPr/>
        </p:nvPicPr>
        <p:blipFill>
          <a:blip r:embed="rId5"/>
          <a:stretch/>
        </p:blipFill>
        <p:spPr>
          <a:xfrm>
            <a:off x="2514600" y="4114800"/>
            <a:ext cx="3429000" cy="30481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1"/>
          <p:cNvSpPr/>
          <p:nvPr/>
        </p:nvSpPr>
        <p:spPr>
          <a:xfrm>
            <a:off x="1295280" y="4114800"/>
            <a:ext cx="1143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之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7162920" y="4572000"/>
            <a:ext cx="12189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第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3"/>
          <p:cNvSpPr/>
          <p:nvPr/>
        </p:nvSpPr>
        <p:spPr>
          <a:xfrm>
            <a:off x="1066680" y="1600200"/>
            <a:ext cx="9144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任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4"/>
          <p:cNvSpPr/>
          <p:nvPr/>
        </p:nvSpPr>
        <p:spPr>
          <a:xfrm>
            <a:off x="3657600" y="5557680"/>
            <a:ext cx="13716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式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15" descr="NIL00026"/>
          <p:cNvPicPr/>
          <p:nvPr/>
        </p:nvPicPr>
        <p:blipFill>
          <a:blip r:embed="rId6"/>
          <a:stretch/>
        </p:blipFill>
        <p:spPr>
          <a:xfrm>
            <a:off x="4267080" y="0"/>
            <a:ext cx="4264200" cy="2286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16"/>
          <p:cNvSpPr/>
          <p:nvPr/>
        </p:nvSpPr>
        <p:spPr>
          <a:xfrm>
            <a:off x="5029200" y="762120"/>
            <a:ext cx="12193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郑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toy0223.wav" descr=""/>
          <p:cNvPicPr/>
          <p:nvPr/>
        </p:nvPicPr>
        <p:blipFill>
          <a:blip r:embed="rId7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354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RIT00043"/>
          <p:cNvPicPr/>
          <p:nvPr/>
        </p:nvPicPr>
        <p:blipFill>
          <a:blip r:embed="rId1"/>
          <a:stretch/>
        </p:blipFill>
        <p:spPr>
          <a:xfrm>
            <a:off x="228600" y="228600"/>
            <a:ext cx="2743200" cy="224964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5"/>
          <p:cNvSpPr/>
          <p:nvPr/>
        </p:nvSpPr>
        <p:spPr>
          <a:xfrm>
            <a:off x="3048120" y="83808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我  会 写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990720" y="3200400"/>
            <a:ext cx="70866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9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第      轮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2133720" y="3048120"/>
            <a:ext cx="1752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8"/>
          <p:cNvSpPr/>
          <p:nvPr/>
        </p:nvSpPr>
        <p:spPr>
          <a:xfrm>
            <a:off x="2057400" y="3581280"/>
            <a:ext cx="1676520" cy="13716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2209680" y="3048120"/>
            <a:ext cx="152424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1"/>
          <p:cNvSpPr/>
          <p:nvPr/>
        </p:nvSpPr>
        <p:spPr>
          <a:xfrm>
            <a:off x="2209680" y="3809880"/>
            <a:ext cx="14479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12"/>
          <p:cNvSpPr/>
          <p:nvPr/>
        </p:nvSpPr>
        <p:spPr>
          <a:xfrm>
            <a:off x="2971800" y="3124080"/>
            <a:ext cx="0" cy="1447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4"/>
          <p:cNvSpPr/>
          <p:nvPr/>
        </p:nvSpPr>
        <p:spPr>
          <a:xfrm>
            <a:off x="5410080" y="3048120"/>
            <a:ext cx="152424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5"/>
          <p:cNvSpPr/>
          <p:nvPr/>
        </p:nvSpPr>
        <p:spPr>
          <a:xfrm>
            <a:off x="5334120" y="38862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17"/>
          <p:cNvSpPr/>
          <p:nvPr/>
        </p:nvSpPr>
        <p:spPr>
          <a:xfrm>
            <a:off x="6172200" y="304812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能 读 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Picture 6" descr="RIT00137"/>
          <p:cNvPicPr/>
          <p:nvPr/>
        </p:nvPicPr>
        <p:blipFill>
          <a:blip r:embed="rId1"/>
          <a:stretch/>
        </p:blipFill>
        <p:spPr>
          <a:xfrm>
            <a:off x="304920" y="0"/>
            <a:ext cx="2209680" cy="19051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个上任的是猫头鹰。它想到自己成为了“万兽之王”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神气极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立刻下令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“从现在开始，你们都要跟我一样，白天休息，夜里做事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个星期，轮到袋鼠上任了。他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激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地说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“从现在开始，你们都要跳着走路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大家听了议论纷纷，可是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不得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服从命令，只好天天熬夜。一个星期下来，动物们都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叫苦连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听了袋鼠的话，大家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直摇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可是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不得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服从命令，只好苦练跳的本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4" descr="RIT00137"/>
          <p:cNvPicPr/>
          <p:nvPr/>
        </p:nvPicPr>
        <p:blipFill>
          <a:blip r:embed="rId1"/>
          <a:stretch/>
        </p:blipFill>
        <p:spPr>
          <a:xfrm>
            <a:off x="304920" y="0"/>
            <a:ext cx="2133360" cy="206208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5"/>
          <p:cNvSpPr/>
          <p:nvPr/>
        </p:nvSpPr>
        <p:spPr>
          <a:xfrm>
            <a:off x="2790360" y="954000"/>
            <a:ext cx="3301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能 读 好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gud00002.wav" descr=""/>
          <p:cNvPicPr/>
          <p:nvPr/>
        </p:nvPicPr>
        <p:blipFill>
          <a:blip r:embed="rId2"/>
          <a:stretch/>
        </p:blipFill>
        <p:spPr>
          <a:xfrm>
            <a:off x="8077320" y="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三个星期，轮到小猴子当“万兽之王”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大家都非常担心：他会不会命令我们从现在开始，都得住在树上，成天抓着藤条荡来荡去？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谁知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小猴子只说了一句话：“从现在开始，每个动物都照自己习惯的方式过日子。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话音刚落，大伙儿立刻欢呼起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4" descr="RIT00137"/>
          <p:cNvPicPr/>
          <p:nvPr/>
        </p:nvPicPr>
        <p:blipFill>
          <a:blip r:embed="rId1"/>
          <a:stretch/>
        </p:blipFill>
        <p:spPr>
          <a:xfrm>
            <a:off x="228600" y="0"/>
            <a:ext cx="2133720" cy="20574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5"/>
          <p:cNvSpPr/>
          <p:nvPr/>
        </p:nvSpPr>
        <p:spPr>
          <a:xfrm>
            <a:off x="2714040" y="725400"/>
            <a:ext cx="3301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能 读 好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狮子见了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笑眯眯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地说：“不用再往下轮了。我郑重宣布，从现在开始，小猴子就是‘万兽之王’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RIT00137"/>
          <p:cNvPicPr/>
          <p:nvPr/>
        </p:nvPicPr>
        <p:blipFill>
          <a:blip r:embed="rId1"/>
          <a:stretch/>
        </p:blipFill>
        <p:spPr>
          <a:xfrm>
            <a:off x="380880" y="380880"/>
            <a:ext cx="1905120" cy="183672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2942640" y="725400"/>
            <a:ext cx="3301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能 读 好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30-09-14T01:45:35Z</dcterms:created>
  <dc:creator>第一PPT模板网-WWW.1PPT.COM</dc:creator>
  <dc:description>第一PPT模板网-WWW.1PPT.COM
</dc:description>
  <dc:language>en-US</dc:language>
  <cp:lastModifiedBy>a</cp:lastModifiedBy>
  <dcterms:modified xsi:type="dcterms:W3CDTF">2015-03-17T05:36:45Z</dcterms:modified>
  <cp:revision>74</cp:revision>
  <dc:subject/>
  <dc:title>第一PPT模板网-WWW.1PPT.COM</dc:title>
</cp:coreProperties>
</file>