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D22-F4E4-4A77-A8B3-304354BA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B04-A482-467D-8AD5-89B162B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EE4-088E-4CF0-A612-E1B8B63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4DA-9378-4641-AFF9-32E7E9E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2CB-13DA-41F6-AB29-B7DDFECD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1C4-B132-4194-97CC-8121476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50C-6AB6-46A7-AFE0-A10FEB3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E43-D182-4AE3-9B15-C377A1D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714-EEAE-4208-BD12-2F01051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4FE-083F-4A49-B9AD-C88B695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1FB-63E6-4462-B46B-38929A74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F24-A62B-4A06-9BD6-00DDB334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2008-1-2f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9A2-4CAD-4ADF-96F7-E96916276F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A95-5E55-4B6F-92BA-D38A087598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2008-1-1f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4"/>
          <p:cNvSpPr/>
          <p:nvPr/>
        </p:nvSpPr>
        <p:spPr>
          <a:xfrm>
            <a:off x="611280" y="2349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党建和思想政治工作基本标准自评报告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778080" y="3435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后勤服务中心党总支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4360" y="476280"/>
            <a:ext cx="759924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党建和思想政治工作报告幻灯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领导班子坚持每学期民主生活会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党总支和各党支部在广大师生员工中树立起了廉洁高效、执政为民的良好形象。长期来，班子始终坚持贯彻民主集中制原则，坚持重大问题在党政联席会议讨论决定（处务会议制度），会议有议事规则，制度健全，每次都有会议记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领导班子成员以身作则，勤政廉政，工作兢兢业业，无私奉献。得到了从上到下教职工和学生的一致好评，也极大的激发带动了广大职工创业的积极性，促进了后勤各方面工作平稳顺利开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文本框 8196"/>
          <p:cNvSpPr/>
          <p:nvPr/>
        </p:nvSpPr>
        <p:spPr>
          <a:xfrm>
            <a:off x="684360" y="134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3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认真贯彻执行支部工作制度，加强对党员的教育与管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员教育与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展支部特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真开展党员先进性教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0" descr="png-0099"/>
          <p:cNvPicPr/>
          <p:nvPr/>
        </p:nvPicPr>
        <p:blipFill>
          <a:blip r:embed="rId2"/>
          <a:stretch/>
        </p:blipFill>
        <p:spPr>
          <a:xfrm>
            <a:off x="826920" y="148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1" descr="png-0099"/>
          <p:cNvPicPr/>
          <p:nvPr/>
        </p:nvPicPr>
        <p:blipFill>
          <a:blip r:embed="rId3"/>
          <a:stretch/>
        </p:blipFill>
        <p:spPr>
          <a:xfrm>
            <a:off x="826920" y="263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2" descr="png-0099"/>
          <p:cNvPicPr/>
          <p:nvPr/>
        </p:nvPicPr>
        <p:blipFill>
          <a:blip r:embed="rId4"/>
          <a:stretch/>
        </p:blipFill>
        <p:spPr>
          <a:xfrm>
            <a:off x="826920" y="3716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全体党员会_nEO_IMG"/>
          <p:cNvPicPr/>
          <p:nvPr/>
        </p:nvPicPr>
        <p:blipFill>
          <a:blip r:embed="rId5"/>
          <a:stretch/>
        </p:blipFill>
        <p:spPr>
          <a:xfrm>
            <a:off x="5292720" y="1700280"/>
            <a:ext cx="3147840" cy="23619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35"/>
          <p:cNvGrpSpPr/>
          <p:nvPr/>
        </p:nvGrpSpPr>
        <p:grpSpPr>
          <a:xfrm>
            <a:off x="5292720" y="1700280"/>
            <a:ext cx="3166560" cy="2449080"/>
            <a:chOff x="5292720" y="1700280"/>
            <a:chExt cx="3166560" cy="2449080"/>
          </a:xfrm>
        </p:grpSpPr>
        <p:sp>
          <p:nvSpPr>
            <p:cNvPr id="246" name="Rectangle 36"/>
            <p:cNvSpPr/>
            <p:nvPr/>
          </p:nvSpPr>
          <p:spPr>
            <a:xfrm>
              <a:off x="5292720" y="1700280"/>
              <a:ext cx="3166560" cy="2384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AutoShape 37"/>
            <p:cNvSpPr/>
            <p:nvPr/>
          </p:nvSpPr>
          <p:spPr>
            <a:xfrm flipH="1">
              <a:off x="8120160" y="3859200"/>
              <a:ext cx="339120" cy="2901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加强党员教育与管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后勤队伍自身建设，提高全体职工的素质是我们面临的一项重要任务。后勤思想政治工作要围绕改革，转变认识，树立新观念，调动职工的社会主义劳动积极性和创造性。几年来，进行了“保持共产党员先进性教育”、“社会主义荣辱观”、“加强党的执政能力建设”等方面教育，通过教育和疏导，引导职工树立适应改革的新观念，树立“三服务、两育人”的宗旨意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展支部特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开展特色支部活动，活跃了组织生活，党员发挥了模范作用，增强了组织的凝聚力，各项工作也都取得了一定的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6227640" y="3645000"/>
            <a:ext cx="2590560" cy="2201040"/>
            <a:chOff x="6227640" y="3645000"/>
            <a:chExt cx="2590560" cy="2201040"/>
          </a:xfrm>
        </p:grpSpPr>
        <p:sp>
          <p:nvSpPr>
            <p:cNvPr id="255" name="Rectangle 6"/>
            <p:cNvSpPr/>
            <p:nvPr/>
          </p:nvSpPr>
          <p:spPr>
            <a:xfrm>
              <a:off x="6227640" y="3645000"/>
              <a:ext cx="259056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AutoShape 7"/>
            <p:cNvSpPr/>
            <p:nvPr/>
          </p:nvSpPr>
          <p:spPr>
            <a:xfrm flipH="1">
              <a:off x="8540640" y="558540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7" name="Group 8"/>
          <p:cNvGrpSpPr/>
          <p:nvPr/>
        </p:nvGrpSpPr>
        <p:grpSpPr>
          <a:xfrm>
            <a:off x="3419640" y="3284640"/>
            <a:ext cx="2590200" cy="2201040"/>
            <a:chOff x="3419640" y="3284640"/>
            <a:chExt cx="2590200" cy="2201040"/>
          </a:xfrm>
        </p:grpSpPr>
        <p:sp>
          <p:nvSpPr>
            <p:cNvPr id="258" name="Rectangle 9"/>
            <p:cNvSpPr/>
            <p:nvPr/>
          </p:nvSpPr>
          <p:spPr>
            <a:xfrm>
              <a:off x="3419640" y="3284640"/>
              <a:ext cx="259020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AutoShape 10"/>
            <p:cNvSpPr/>
            <p:nvPr/>
          </p:nvSpPr>
          <p:spPr>
            <a:xfrm flipH="1">
              <a:off x="5732280" y="522504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60" name="Picture 15" descr="CIMG2495"/>
          <p:cNvPicPr/>
          <p:nvPr/>
        </p:nvPicPr>
        <p:blipFill>
          <a:blip r:embed="rId2"/>
          <a:srcRect l="5221" t="0" r="0" b="0"/>
          <a:stretch/>
        </p:blipFill>
        <p:spPr>
          <a:xfrm>
            <a:off x="611280" y="2924280"/>
            <a:ext cx="2593800" cy="21286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611280" y="2924280"/>
            <a:ext cx="2590200" cy="2201040"/>
            <a:chOff x="611280" y="2924280"/>
            <a:chExt cx="2590200" cy="2201040"/>
          </a:xfrm>
        </p:grpSpPr>
        <p:sp>
          <p:nvSpPr>
            <p:cNvPr id="262" name="Rectangle 12"/>
            <p:cNvSpPr/>
            <p:nvPr/>
          </p:nvSpPr>
          <p:spPr>
            <a:xfrm>
              <a:off x="611280" y="2924280"/>
              <a:ext cx="259020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AutoShape 13"/>
            <p:cNvSpPr/>
            <p:nvPr/>
          </p:nvSpPr>
          <p:spPr>
            <a:xfrm flipH="1">
              <a:off x="2923920" y="486468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认真开展党员先进性教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学院党委的领导下，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份开始开展保持共产党员先进性教育活动以来，经过学习动员、分析评议和整改提高等阶段的工作，基本完成了保持共产党员先进性教育的各项任务，取得了教育活动的预期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后勤服务中心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同志被学校评为北京市优秀共产党员和德育先进个人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被评为海淀区爱国卫生先进工作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教学为中心努力做好组织保障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密围绕教学评建中心工作，做好思想发动和组织保障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扎实开展“一围绕两服务”活动，进一步增强全员服务意识和自觉性，提高管理水平和服务质量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工作扎实，思想工作落实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对分工会工作的领导，积极支持其开展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存在问题和不足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顾三年来的工作，虽然在学校党委的领导下，在大家的共同努力下，后勤党建工作取得了一定成绩，但对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标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要求，还有很大的差距。主要表现在以下几个方面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组织领导成员思想理论水平和认识能力需要进一步提高，党组织的创造力、凝聚力、战斗力还须加强，敢于人先，勇于负责的精神还不够；党支部的战斗堡垒作用、党员的先锋模范作用还不够突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健全的工作机制还须进一步完善。工作应更加规范化，决策科学化。一个完整的、便于操作的比较顺畅的工作机制还没有形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支部工作不够规范，对党员的教育和管理抓的时紧时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各项规章制度落实不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9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、特色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伙食科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房管科物业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门诊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CIMG2579"/>
          <p:cNvPicPr/>
          <p:nvPr/>
        </p:nvPicPr>
        <p:blipFill>
          <a:blip r:embed="rId2"/>
          <a:stretch/>
        </p:blipFill>
        <p:spPr>
          <a:xfrm>
            <a:off x="6084720" y="4365720"/>
            <a:ext cx="2052720" cy="153972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2"/>
          <p:cNvGrpSpPr/>
          <p:nvPr/>
        </p:nvGrpSpPr>
        <p:grpSpPr>
          <a:xfrm>
            <a:off x="6084720" y="4365720"/>
            <a:ext cx="2016360" cy="1552320"/>
            <a:chOff x="6084720" y="4365720"/>
            <a:chExt cx="2016360" cy="1552320"/>
          </a:xfrm>
        </p:grpSpPr>
        <p:sp>
          <p:nvSpPr>
            <p:cNvPr id="278" name="Rectangle 7"/>
            <p:cNvSpPr/>
            <p:nvPr/>
          </p:nvSpPr>
          <p:spPr>
            <a:xfrm>
              <a:off x="608472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788508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 flipH="1">
            <a:off x="8027280" y="5805360"/>
            <a:ext cx="73080" cy="795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1" name="Group 13"/>
          <p:cNvGrpSpPr/>
          <p:nvPr/>
        </p:nvGrpSpPr>
        <p:grpSpPr>
          <a:xfrm>
            <a:off x="3635280" y="4365720"/>
            <a:ext cx="2016360" cy="1552320"/>
            <a:chOff x="3635280" y="4365720"/>
            <a:chExt cx="2016360" cy="1552320"/>
          </a:xfrm>
        </p:grpSpPr>
        <p:sp>
          <p:nvSpPr>
            <p:cNvPr id="282" name="Rectangle 14"/>
            <p:cNvSpPr/>
            <p:nvPr/>
          </p:nvSpPr>
          <p:spPr>
            <a:xfrm>
              <a:off x="363528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3" name="AutoShape 15"/>
            <p:cNvSpPr/>
            <p:nvPr/>
          </p:nvSpPr>
          <p:spPr>
            <a:xfrm flipH="1">
              <a:off x="543564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1042920" y="4365720"/>
            <a:ext cx="2016360" cy="1552320"/>
            <a:chOff x="1042920" y="4365720"/>
            <a:chExt cx="2016360" cy="1552320"/>
          </a:xfrm>
        </p:grpSpPr>
        <p:sp>
          <p:nvSpPr>
            <p:cNvPr id="285" name="Rectangle 17"/>
            <p:cNvSpPr/>
            <p:nvPr/>
          </p:nvSpPr>
          <p:spPr>
            <a:xfrm>
              <a:off x="104292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18"/>
            <p:cNvSpPr/>
            <p:nvPr/>
          </p:nvSpPr>
          <p:spPr>
            <a:xfrm flipH="1">
              <a:off x="284328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、改进措施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对党建工作的组织领导，落实党建工作责任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建制度建设与日常规范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继续深入开展“一围绕两服务”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充分发挥党组织的政治核心作用和党员先锋模范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3834-9BFD-422F-892E-90AF82CE68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基本情况介绍基本情况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员及组织结构设置情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总支领导班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0" descr="08全体科长会_nEO_IMG"/>
          <p:cNvPicPr/>
          <p:nvPr/>
        </p:nvPicPr>
        <p:blipFill>
          <a:blip r:embed="rId2"/>
          <a:srcRect l="0" t="15996" r="16338" b="0"/>
          <a:stretch/>
        </p:blipFill>
        <p:spPr>
          <a:xfrm>
            <a:off x="4859280" y="3860640"/>
            <a:ext cx="2737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8"/>
          <p:cNvGrpSpPr/>
          <p:nvPr/>
        </p:nvGrpSpPr>
        <p:grpSpPr>
          <a:xfrm>
            <a:off x="4859280" y="3860640"/>
            <a:ext cx="2736720" cy="2088720"/>
            <a:chOff x="4859280" y="3860640"/>
            <a:chExt cx="2736720" cy="2088720"/>
          </a:xfrm>
        </p:grpSpPr>
        <p:sp>
          <p:nvSpPr>
            <p:cNvPr id="130" name="Rectangle 9"/>
            <p:cNvSpPr/>
            <p:nvPr/>
          </p:nvSpPr>
          <p:spPr>
            <a:xfrm>
              <a:off x="4859280" y="3860640"/>
              <a:ext cx="2736720" cy="20340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 flipH="1">
              <a:off x="7302960" y="5702040"/>
              <a:ext cx="293040" cy="2473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2" name="Picture 17" descr="08年第一次科长会"/>
          <p:cNvPicPr/>
          <p:nvPr/>
        </p:nvPicPr>
        <p:blipFill>
          <a:blip r:embed="rId3"/>
          <a:srcRect l="0" t="0" r="9735" b="0"/>
          <a:stretch/>
        </p:blipFill>
        <p:spPr>
          <a:xfrm>
            <a:off x="1763640" y="3860640"/>
            <a:ext cx="273708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4"/>
          <p:cNvGrpSpPr/>
          <p:nvPr/>
        </p:nvGrpSpPr>
        <p:grpSpPr>
          <a:xfrm>
            <a:off x="1763640" y="3860640"/>
            <a:ext cx="2736720" cy="2088720"/>
            <a:chOff x="1763640" y="3860640"/>
            <a:chExt cx="2736720" cy="2088720"/>
          </a:xfrm>
        </p:grpSpPr>
        <p:sp>
          <p:nvSpPr>
            <p:cNvPr id="134" name="Rectangle 15"/>
            <p:cNvSpPr/>
            <p:nvPr/>
          </p:nvSpPr>
          <p:spPr>
            <a:xfrm>
              <a:off x="1763640" y="3860640"/>
              <a:ext cx="2736720" cy="20340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flipH="1">
              <a:off x="4207320" y="5702040"/>
              <a:ext cx="293040" cy="2473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2008-1-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2008-1-2f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10"/>
          <p:cNvSpPr txBox="1"/>
          <p:nvPr/>
        </p:nvSpPr>
        <p:spPr>
          <a:xfrm>
            <a:off x="1258920" y="4365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4f4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dddddd"/>
                  </a:gs>
                  <a:gs pos="100000">
                    <a:srgbClr val="f4f4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98" name="WordArt 11"/>
          <p:cNvSpPr txBox="1"/>
          <p:nvPr/>
        </p:nvSpPr>
        <p:spPr>
          <a:xfrm>
            <a:off x="-898920" y="443628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299" name="Picture 17" descr="CIMG2472_nEO_IMG"/>
          <p:cNvPicPr/>
          <p:nvPr/>
        </p:nvPicPr>
        <p:blipFill>
          <a:blip r:embed="rId3"/>
          <a:srcRect l="0" t="9675" r="0" b="1447"/>
          <a:stretch/>
        </p:blipFill>
        <p:spPr>
          <a:xfrm>
            <a:off x="3635280" y="765000"/>
            <a:ext cx="4969080" cy="331164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14"/>
          <p:cNvGrpSpPr/>
          <p:nvPr/>
        </p:nvGrpSpPr>
        <p:grpSpPr>
          <a:xfrm>
            <a:off x="3635280" y="765000"/>
            <a:ext cx="4968360" cy="3384000"/>
            <a:chOff x="3635280" y="765000"/>
            <a:chExt cx="4968360" cy="3384000"/>
          </a:xfrm>
        </p:grpSpPr>
        <p:sp>
          <p:nvSpPr>
            <p:cNvPr id="301" name="Rectangle 15"/>
            <p:cNvSpPr/>
            <p:nvPr/>
          </p:nvSpPr>
          <p:spPr>
            <a:xfrm>
              <a:off x="3635280" y="765000"/>
              <a:ext cx="4968360" cy="32947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AutoShape 16"/>
            <p:cNvSpPr/>
            <p:nvPr/>
          </p:nvSpPr>
          <p:spPr>
            <a:xfrm flipH="1">
              <a:off x="8071560" y="3747960"/>
              <a:ext cx="532080" cy="4010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员及组织结构设置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632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勤服务中心党总支目前共有党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，党员占后勤在编职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总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.9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三年来后勤服务中心党总支随着学院后勤工作的不断改进，后勤服务中心以建立了以党总支为中心，努力向一名党员一面旗帜的目标奋进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3990960" cy="2662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2969280" y="3736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41.9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034800" y="51577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后勤党总支党员比例示意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文本框 8196"/>
          <p:cNvSpPr/>
          <p:nvPr/>
        </p:nvSpPr>
        <p:spPr>
          <a:xfrm>
            <a:off x="1044720" y="3141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总支领导班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396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前后勤党总支班子从年龄结构、职务结构，专业知识结构等方面都基本比较合理的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总支委员平均年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部大学本科以上学历，专业上分布有：法律、国际经济、建筑、医学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总支委员会的组成与分工。总支书记张文斌，负责后勤机关党员的管理；总支部副书记孙鹏负责行政科，物业部的党员管理；组织委员张茂林，负责门诊部门的党员管理；宣传委员廖培平负责房管科的党员管理；统战委员吕长久负责交通科党员的管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Organization Chart 6"/>
          <p:cNvGrpSpPr/>
          <p:nvPr/>
        </p:nvGrpSpPr>
        <p:grpSpPr>
          <a:xfrm>
            <a:off x="4648320" y="2060640"/>
            <a:ext cx="3956040" cy="2304720"/>
            <a:chOff x="4648320" y="2060640"/>
            <a:chExt cx="3956040" cy="2304720"/>
          </a:xfrm>
        </p:grpSpPr>
        <p:sp>
          <p:nvSpPr>
            <p:cNvPr id="147" name="AutoShape 5"/>
            <p:cNvSpPr/>
            <p:nvPr/>
          </p:nvSpPr>
          <p:spPr>
            <a:xfrm>
              <a:off x="4648320" y="2060640"/>
              <a:ext cx="3956040" cy="23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148" name="_s2052"/>
            <p:cNvCxnSpPr>
              <a:stCxn id="149" idx="3"/>
              <a:endCxn id="150" idx="2"/>
            </p:cNvCxnSpPr>
            <p:nvPr/>
          </p:nvCxnSpPr>
          <p:spPr>
            <a:xfrm flipV="1">
              <a:off x="6428160" y="2636640"/>
              <a:ext cx="198360" cy="57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053"/>
            <p:cNvCxnSpPr>
              <a:stCxn id="152" idx="0"/>
              <a:endCxn id="150" idx="2"/>
            </p:cNvCxnSpPr>
            <p:nvPr/>
          </p:nvCxnSpPr>
          <p:spPr>
            <a:xfrm flipH="1" flipV="1">
              <a:off x="6625800" y="2636280"/>
              <a:ext cx="138528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4"/>
            <p:cNvCxnSpPr>
              <a:stCxn id="154" idx="0"/>
              <a:endCxn id="150" idx="2"/>
            </p:cNvCxnSpPr>
            <p:nvPr/>
          </p:nvCxnSpPr>
          <p:spPr>
            <a:xfrm flipV="1">
              <a:off x="6622920" y="2632320"/>
              <a:ext cx="18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55" name="_s2055"/>
            <p:cNvCxnSpPr>
              <a:stCxn id="156" idx="0"/>
              <a:endCxn id="150" idx="2"/>
            </p:cNvCxnSpPr>
            <p:nvPr/>
          </p:nvCxnSpPr>
          <p:spPr>
            <a:xfrm flipV="1">
              <a:off x="5241600" y="2636280"/>
              <a:ext cx="138528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2056"/>
            <p:cNvSpPr/>
            <p:nvPr/>
          </p:nvSpPr>
          <p:spPr>
            <a:xfrm>
              <a:off x="6032880" y="206064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总支书记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张文斌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_s2057"/>
            <p:cNvSpPr/>
            <p:nvPr/>
          </p:nvSpPr>
          <p:spPr>
            <a:xfrm>
              <a:off x="464832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组织委员张茂林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_s2058"/>
            <p:cNvSpPr/>
            <p:nvPr/>
          </p:nvSpPr>
          <p:spPr>
            <a:xfrm>
              <a:off x="603288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宣传委员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廖培平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741744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统战委员吕长久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_s2060"/>
            <p:cNvSpPr/>
            <p:nvPr/>
          </p:nvSpPr>
          <p:spPr>
            <a:xfrm>
              <a:off x="5242680" y="2925000"/>
              <a:ext cx="11854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副书记孙鹏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5487840" y="14907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勤党总支构成示意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取得的主要成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后勤党总支，在学院党委的领导下，在以“三个代表”重要思想的指导下，认真贯彻党的十六大、十七大文件精神，全面落实以人为本的科学发展观，紧紧围绕教育教学这个中心工作，特别是在学院本科教学水平评建工作中，带领全体后勤干部职工苦干实干，奋力拼搏，在学院后勤服务保障工作中充分发挥了党员干部的先锋模范作用，取得了较突出成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700360" y="3933720"/>
            <a:ext cx="3744720" cy="19321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 flipH="1">
            <a:off x="6227640" y="5661000"/>
            <a:ext cx="217440" cy="25704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0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强领导班子自身建设，不断提高班子整体素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党总支几年来，始终把加强领导班子建设放在各项工作之首。把“增进团结，提高水平，做好表率”作为班子的工作标准。做到大事讲原则，小事讲风格，求同存异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3059280" y="2708280"/>
            <a:ext cx="5148000" cy="630000"/>
            <a:chOff x="3059280" y="2708280"/>
            <a:chExt cx="5148000" cy="630000"/>
          </a:xfrm>
        </p:grpSpPr>
        <p:sp>
          <p:nvSpPr>
            <p:cNvPr id="167" name="Oval 5"/>
            <p:cNvSpPr/>
            <p:nvPr/>
          </p:nvSpPr>
          <p:spPr>
            <a:xfrm flipV="1">
              <a:off x="3059280" y="3156840"/>
              <a:ext cx="5148000" cy="18108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>
              <a:off x="3390840" y="2708280"/>
              <a:ext cx="4540320" cy="52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坚持中心组理论学习制度，落实学习计划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3059280" y="3770280"/>
            <a:ext cx="5148000" cy="630360"/>
            <a:chOff x="3059280" y="3770280"/>
            <a:chExt cx="5148000" cy="630360"/>
          </a:xfrm>
        </p:grpSpPr>
        <p:sp>
          <p:nvSpPr>
            <p:cNvPr id="170" name="Oval 8"/>
            <p:cNvSpPr/>
            <p:nvPr/>
          </p:nvSpPr>
          <p:spPr>
            <a:xfrm flipV="1">
              <a:off x="3059280" y="4219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3390840" y="377028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贯彻党风廉政建设责任制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3059280" y="4778280"/>
            <a:ext cx="5148000" cy="630360"/>
            <a:chOff x="3059280" y="4778280"/>
            <a:chExt cx="5148000" cy="630360"/>
          </a:xfrm>
        </p:grpSpPr>
        <p:sp>
          <p:nvSpPr>
            <p:cNvPr id="173" name="Oval 11"/>
            <p:cNvSpPr/>
            <p:nvPr/>
          </p:nvSpPr>
          <p:spPr>
            <a:xfrm flipV="1">
              <a:off x="3059280" y="5227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" name="AutoShape 12"/>
            <p:cNvSpPr/>
            <p:nvPr/>
          </p:nvSpPr>
          <p:spPr>
            <a:xfrm>
              <a:off x="3390840" y="477828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建立和坚持党总支各项工作制度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5" name="Group 13"/>
          <p:cNvGrpSpPr/>
          <p:nvPr/>
        </p:nvGrpSpPr>
        <p:grpSpPr>
          <a:xfrm>
            <a:off x="3059280" y="5769000"/>
            <a:ext cx="5148000" cy="630360"/>
            <a:chOff x="3059280" y="5769000"/>
            <a:chExt cx="5148000" cy="630360"/>
          </a:xfrm>
        </p:grpSpPr>
        <p:sp>
          <p:nvSpPr>
            <p:cNvPr id="176" name="Oval 14"/>
            <p:cNvSpPr/>
            <p:nvPr/>
          </p:nvSpPr>
          <p:spPr>
            <a:xfrm flipV="1">
              <a:off x="3059280" y="621792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AutoShape 15"/>
            <p:cNvSpPr/>
            <p:nvPr/>
          </p:nvSpPr>
          <p:spPr>
            <a:xfrm>
              <a:off x="3390840" y="576900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领导班子坚持民主生活会制度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" name="Group 16"/>
          <p:cNvGrpSpPr/>
          <p:nvPr/>
        </p:nvGrpSpPr>
        <p:grpSpPr>
          <a:xfrm>
            <a:off x="684360" y="3068640"/>
            <a:ext cx="2086920" cy="2080800"/>
            <a:chOff x="684360" y="3068640"/>
            <a:chExt cx="2086920" cy="2080800"/>
          </a:xfrm>
        </p:grpSpPr>
        <p:sp>
          <p:nvSpPr>
            <p:cNvPr id="179" name="Oval 17"/>
            <p:cNvSpPr/>
            <p:nvPr/>
          </p:nvSpPr>
          <p:spPr>
            <a:xfrm>
              <a:off x="684360" y="3068640"/>
              <a:ext cx="2086920" cy="208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0" name="Group 18"/>
            <p:cNvGrpSpPr/>
            <p:nvPr/>
          </p:nvGrpSpPr>
          <p:grpSpPr>
            <a:xfrm>
              <a:off x="703440" y="3091320"/>
              <a:ext cx="2045160" cy="2021400"/>
              <a:chOff x="703440" y="3091320"/>
              <a:chExt cx="2045160" cy="2021400"/>
            </a:xfrm>
          </p:grpSpPr>
          <p:sp>
            <p:nvSpPr>
              <p:cNvPr id="181" name="Oval 19"/>
              <p:cNvSpPr/>
              <p:nvPr/>
            </p:nvSpPr>
            <p:spPr>
              <a:xfrm>
                <a:off x="703440" y="3091320"/>
                <a:ext cx="2045160" cy="202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Freeform 20"/>
              <p:cNvSpPr/>
              <p:nvPr/>
            </p:nvSpPr>
            <p:spPr>
              <a:xfrm>
                <a:off x="940320" y="311868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AutoShape 21"/>
              <p:cNvSpPr/>
              <p:nvPr/>
            </p:nvSpPr>
            <p:spPr>
              <a:xfrm rot="16200000">
                <a:off x="1217520" y="3593160"/>
                <a:ext cx="1011240" cy="202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Oval 22"/>
          <p:cNvSpPr/>
          <p:nvPr/>
        </p:nvSpPr>
        <p:spPr>
          <a:xfrm flipV="1">
            <a:off x="282600" y="4922280"/>
            <a:ext cx="280512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104292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勤党总支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Oval 31"/>
          <p:cNvSpPr/>
          <p:nvPr/>
        </p:nvSpPr>
        <p:spPr>
          <a:xfrm flipV="1">
            <a:off x="1763640" y="5815080"/>
            <a:ext cx="863640" cy="12528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7" name="Group 32"/>
          <p:cNvGrpSpPr/>
          <p:nvPr/>
        </p:nvGrpSpPr>
        <p:grpSpPr>
          <a:xfrm>
            <a:off x="1771560" y="5084640"/>
            <a:ext cx="816120" cy="814680"/>
            <a:chOff x="1771560" y="5084640"/>
            <a:chExt cx="816120" cy="814680"/>
          </a:xfrm>
        </p:grpSpPr>
        <p:sp>
          <p:nvSpPr>
            <p:cNvPr id="188" name="Oval 33"/>
            <p:cNvSpPr/>
            <p:nvPr/>
          </p:nvSpPr>
          <p:spPr>
            <a:xfrm>
              <a:off x="1771560" y="5084640"/>
              <a:ext cx="816120" cy="814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9" name="Group 34"/>
            <p:cNvGrpSpPr/>
            <p:nvPr/>
          </p:nvGrpSpPr>
          <p:grpSpPr>
            <a:xfrm>
              <a:off x="1778760" y="5093280"/>
              <a:ext cx="799920" cy="791640"/>
              <a:chOff x="1778760" y="5093280"/>
              <a:chExt cx="799920" cy="791640"/>
            </a:xfrm>
          </p:grpSpPr>
          <p:sp>
            <p:nvSpPr>
              <p:cNvPr id="190" name="Oval 35"/>
              <p:cNvSpPr/>
              <p:nvPr/>
            </p:nvSpPr>
            <p:spPr>
              <a:xfrm>
                <a:off x="1778760" y="5093280"/>
                <a:ext cx="799920" cy="79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Freeform 36"/>
              <p:cNvSpPr/>
              <p:nvPr/>
            </p:nvSpPr>
            <p:spPr>
              <a:xfrm>
                <a:off x="1871280" y="5103720"/>
                <a:ext cx="613080" cy="296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2" name="AutoShape 37"/>
              <p:cNvSpPr/>
              <p:nvPr/>
            </p:nvSpPr>
            <p:spPr>
              <a:xfrm rot="16200000">
                <a:off x="1979640" y="5290560"/>
                <a:ext cx="396000" cy="79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>
                      <a:alpha val="38039"/>
                    </a:srgbClr>
                  </a:gs>
                  <a:gs pos="100000">
                    <a:srgbClr val="eaeaea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Oval 38"/>
          <p:cNvSpPr/>
          <p:nvPr/>
        </p:nvSpPr>
        <p:spPr>
          <a:xfrm flipV="1">
            <a:off x="324000" y="6165720"/>
            <a:ext cx="1008000" cy="14760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94" name="Group 39"/>
          <p:cNvGrpSpPr/>
          <p:nvPr/>
        </p:nvGrpSpPr>
        <p:grpSpPr>
          <a:xfrm>
            <a:off x="333360" y="5316480"/>
            <a:ext cx="952560" cy="949320"/>
            <a:chOff x="333360" y="5316480"/>
            <a:chExt cx="952560" cy="949320"/>
          </a:xfrm>
        </p:grpSpPr>
        <p:sp>
          <p:nvSpPr>
            <p:cNvPr id="195" name="Oval 40"/>
            <p:cNvSpPr/>
            <p:nvPr/>
          </p:nvSpPr>
          <p:spPr>
            <a:xfrm>
              <a:off x="333360" y="5316480"/>
              <a:ext cx="952560" cy="94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342000" y="5326560"/>
              <a:ext cx="933480" cy="922320"/>
              <a:chOff x="342000" y="5326560"/>
              <a:chExt cx="933480" cy="922320"/>
            </a:xfrm>
          </p:grpSpPr>
          <p:sp>
            <p:nvSpPr>
              <p:cNvPr id="197" name="Oval 42"/>
              <p:cNvSpPr/>
              <p:nvPr/>
            </p:nvSpPr>
            <p:spPr>
              <a:xfrm>
                <a:off x="342000" y="5326560"/>
                <a:ext cx="933480" cy="922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8" name="Freeform 43"/>
              <p:cNvSpPr/>
              <p:nvPr/>
            </p:nvSpPr>
            <p:spPr>
              <a:xfrm>
                <a:off x="450000" y="5338800"/>
                <a:ext cx="715320" cy="345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9" name="AutoShape 44"/>
              <p:cNvSpPr/>
              <p:nvPr/>
            </p:nvSpPr>
            <p:spPr>
              <a:xfrm rot="16200000">
                <a:off x="576720" y="5555160"/>
                <a:ext cx="461160" cy="92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>
                      <a:alpha val="38039"/>
                    </a:srgbClr>
                  </a:gs>
                  <a:gs pos="100000">
                    <a:srgbClr val="eaeaea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Oval 45"/>
          <p:cNvSpPr/>
          <p:nvPr/>
        </p:nvSpPr>
        <p:spPr>
          <a:xfrm>
            <a:off x="2212920" y="4532400"/>
            <a:ext cx="924120" cy="920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201" name="AutoShape 46"/>
          <p:cNvCxnSpPr/>
          <p:nvPr/>
        </p:nvCxnSpPr>
        <p:spPr>
          <a:xfrm flipV="1">
            <a:off x="2555640" y="2921760"/>
            <a:ext cx="872280" cy="151524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2" name="AutoShape 47"/>
          <p:cNvCxnSpPr/>
          <p:nvPr/>
        </p:nvCxnSpPr>
        <p:spPr>
          <a:xfrm flipV="1">
            <a:off x="2555640" y="3983760"/>
            <a:ext cx="872280" cy="45324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3" name="AutoShape 48"/>
          <p:cNvCxnSpPr/>
          <p:nvPr/>
        </p:nvCxnSpPr>
        <p:spPr>
          <a:xfrm>
            <a:off x="2555640" y="4437000"/>
            <a:ext cx="872280" cy="55656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4" name="AutoShape 49"/>
          <p:cNvCxnSpPr/>
          <p:nvPr/>
        </p:nvCxnSpPr>
        <p:spPr>
          <a:xfrm>
            <a:off x="2555640" y="4436640"/>
            <a:ext cx="872280" cy="154692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2 0.01297 L -1.38889E-006 0.01297 E">
                                      <p:cBhvr>
                                        <p:cTn id="2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坚持中心组理论学习制度，落实学习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党总支十分重视班子自身的思想建设和作风建设，注重领导班子的理论学习，坚持并完善中心组学习制度。能认真贯彻执行党组织的路线、方针、政策，及时传达上级党委的有关文件和会议精神，努力用科学的理论武装头脑、指导实践、推动工作，使领导班子成为政治坚定、团结和谐、勤政务实、开拓创新、清正廉洁的坚强领导集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党的执政能力建设，开展了认真的学习讨论研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科学发展观，按照构建和谐校园的要求，制定了学院后勤发展规划以及后勤队伍建设规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贯彻党风廉政建设责任制，加强监督检查力度，强化领导干部廉洁自律意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肩负着学院基建项目投资、基础设施新建及改造、交通运输、饮食医疗、校园绿化美化，以及基础设施运行维修等为教学一线服务的方方面面，涉及面广，管理使用资金多。为强化管理，规范管理，我们始终将党风廉政建设和制度化建设放在首位，认真落实党风廉政建设责任制，分级管理、职责明确、责任到人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建立和坚持党总支各项工作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订了“领导班子各项制度”、“党支部工作制度”和“党员管理制度”，进一步规范了党总支活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971640" y="4437000"/>
            <a:ext cx="1255680" cy="843120"/>
            <a:chOff x="971640" y="4437000"/>
            <a:chExt cx="1255680" cy="843120"/>
          </a:xfrm>
        </p:grpSpPr>
        <p:sp>
          <p:nvSpPr>
            <p:cNvPr id="215" name="Oval 6"/>
            <p:cNvSpPr/>
            <p:nvPr/>
          </p:nvSpPr>
          <p:spPr>
            <a:xfrm flipV="1">
              <a:off x="971640" y="5100840"/>
              <a:ext cx="1255680" cy="17928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1092960" y="4437000"/>
              <a:ext cx="1081800" cy="7290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AutoShape 8"/>
            <p:cNvSpPr/>
            <p:nvPr/>
          </p:nvSpPr>
          <p:spPr>
            <a:xfrm>
              <a:off x="1096920" y="4449960"/>
              <a:ext cx="1069920" cy="296640"/>
            </a:xfrm>
            <a:prstGeom prst="roundRect">
              <a:avLst>
                <a:gd name="adj" fmla="val 34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109520" y="4816440"/>
              <a:ext cx="1037880" cy="360"/>
              <a:chOff x="1109520" y="4816440"/>
              <a:chExt cx="1037880" cy="360"/>
            </a:xfrm>
          </p:grpSpPr>
          <p:sp>
            <p:nvSpPr>
              <p:cNvPr id="219" name="Line 9"/>
              <p:cNvSpPr/>
              <p:nvPr/>
            </p:nvSpPr>
            <p:spPr>
              <a:xfrm>
                <a:off x="1109520" y="4816440"/>
                <a:ext cx="1037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1109520" y="4816440"/>
                <a:ext cx="103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0"/>
          <p:cNvGrpSpPr/>
          <p:nvPr/>
        </p:nvGrpSpPr>
        <p:grpSpPr>
          <a:xfrm>
            <a:off x="909720" y="2709720"/>
            <a:ext cx="1285920" cy="842760"/>
            <a:chOff x="909720" y="2709720"/>
            <a:chExt cx="1285920" cy="842760"/>
          </a:xfrm>
        </p:grpSpPr>
        <p:grpSp>
          <p:nvGrpSpPr>
            <p:cNvPr id="222" name="Group 11"/>
            <p:cNvGrpSpPr/>
            <p:nvPr/>
          </p:nvGrpSpPr>
          <p:grpSpPr>
            <a:xfrm>
              <a:off x="1033920" y="2709720"/>
              <a:ext cx="1108080" cy="728640"/>
              <a:chOff x="1033920" y="2709720"/>
              <a:chExt cx="1108080" cy="728640"/>
            </a:xfrm>
          </p:grpSpPr>
          <p:grpSp>
            <p:nvGrpSpPr>
              <p:cNvPr id="223" name="Group 12"/>
              <p:cNvGrpSpPr/>
              <p:nvPr/>
            </p:nvGrpSpPr>
            <p:grpSpPr>
              <a:xfrm>
                <a:off x="1033920" y="2709720"/>
                <a:ext cx="1108080" cy="728640"/>
                <a:chOff x="1033920" y="2709720"/>
                <a:chExt cx="1108080" cy="728640"/>
              </a:xfrm>
            </p:grpSpPr>
            <p:sp>
              <p:nvSpPr>
                <p:cNvPr id="224" name="AutoShape 13"/>
                <p:cNvSpPr/>
                <p:nvPr/>
              </p:nvSpPr>
              <p:spPr>
                <a:xfrm>
                  <a:off x="1033920" y="2709720"/>
                  <a:ext cx="1108080" cy="728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ddddd"/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14"/>
                <p:cNvSpPr/>
                <p:nvPr/>
              </p:nvSpPr>
              <p:spPr>
                <a:xfrm>
                  <a:off x="1037880" y="2722320"/>
                  <a:ext cx="1095840" cy="297000"/>
                </a:xfrm>
                <a:prstGeom prst="roundRect">
                  <a:avLst>
                    <a:gd name="adj" fmla="val 34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050840" y="3089160"/>
                <a:ext cx="1063800" cy="360"/>
                <a:chOff x="1050840" y="3089160"/>
                <a:chExt cx="1063800" cy="360"/>
              </a:xfrm>
            </p:grpSpPr>
            <p:sp>
              <p:nvSpPr>
                <p:cNvPr id="227" name="Line 15"/>
                <p:cNvSpPr/>
                <p:nvPr/>
              </p:nvSpPr>
              <p:spPr>
                <a:xfrm>
                  <a:off x="1050840" y="3089160"/>
                  <a:ext cx="106380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050840" y="3089160"/>
                  <a:ext cx="106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Oval 16"/>
            <p:cNvSpPr/>
            <p:nvPr/>
          </p:nvSpPr>
          <p:spPr>
            <a:xfrm flipV="1">
              <a:off x="909720" y="3373200"/>
              <a:ext cx="1285920" cy="17928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0" name="Picture 19" descr="png-0086"/>
          <p:cNvPicPr/>
          <p:nvPr/>
        </p:nvPicPr>
        <p:blipFill>
          <a:blip r:embed="rId2"/>
          <a:stretch/>
        </p:blipFill>
        <p:spPr>
          <a:xfrm>
            <a:off x="723960" y="27288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png-0056"/>
          <p:cNvPicPr/>
          <p:nvPr/>
        </p:nvPicPr>
        <p:blipFill>
          <a:blip r:embed="rId3"/>
          <a:stretch/>
        </p:blipFill>
        <p:spPr>
          <a:xfrm>
            <a:off x="684360" y="4365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4"/>
          <p:cNvSpPr/>
          <p:nvPr/>
        </p:nvSpPr>
        <p:spPr>
          <a:xfrm>
            <a:off x="3608280" y="228276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一是认真落实会议制度：定期召开民主生活会；按规定召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开总支委员会和核心组会，坚持重大事项民主决策和集体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议决。同时，经常召开党政联席工作会议，很好地协调了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党政的工作，增进了党政班子成员之间的团结、理解和支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持，形成了党政合力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3679920" y="429912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二是严格落实了重大事项集体讨论分工负责的核心组制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。及时发现问题，掌握情况，协调开展工作，充分发挥了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后勤干部的主观能动性，增强了后勤干部的责任心和事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心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6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