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5531-6BB5-477D-BDF2-AC8DA740E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12641-DFDD-499A-92C6-C112DC0E0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1299-05D1-4026-AA4D-9D0FDD1B2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34F5A-4B68-4B35-A4D6-FF26FAE8D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0BE6-205A-4AA1-927B-5A24A983A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BE204-9BB1-4FA6-8EF6-8E314473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ED920-51C2-4EC5-BE7C-ED2C9713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20B48-A901-45BC-935C-F08AA4A8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C45B0-7806-49B1-BC50-5E00FDF0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22672-DBA0-49AC-9CD9-33C97AF7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22FE6-120D-4199-ADF8-B61526152E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0E96F-F9DD-4839-9B9A-BBD39F9E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2647F-30B1-4D4A-B765-C188EE37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070B1-C508-4C8F-A3A0-78E9D373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5B1EE-7D6E-4390-9FAC-B6D0D2E8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4239C-D217-45F9-8E86-E1697CBD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C19A0-8BA5-4F48-8D4B-A10C5B0B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0FA4E-9C10-4D7D-9546-B8DC2503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4651A-2814-43CA-A147-72250C99E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EB602-9862-450F-8B9E-5B16AC2D5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07EE-2C79-4A2B-BC57-8988206BD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D59FC-4F23-4611-A927-1711F7AF6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2B43B-FEB4-4347-A4DD-066538029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4D49C-6E3C-4318-B7D3-35E4B1861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23640" y="62654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803640" y="6310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D6B1-E181-4E21-AB9A-E63125A2074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2049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E45D-3BD5-4C6A-86E6-80C29804E26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EF62-1442-491D-8270-E9105092B2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4097" descr="飞花-淡兰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矩形 4098"/>
          <p:cNvSpPr/>
          <p:nvPr/>
        </p:nvSpPr>
        <p:spPr>
          <a:xfrm>
            <a:off x="7010280" y="652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AAB2-70BB-452C-B933-139A28B8B943}" type="slidenum">
              <a:rPr b="0" lang="zh-CN" sz="14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099"/>
          <p:cNvSpPr/>
          <p:nvPr/>
        </p:nvSpPr>
        <p:spPr>
          <a:xfrm>
            <a:off x="0" y="6237360"/>
            <a:ext cx="250920" cy="36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50920" y="6237360"/>
            <a:ext cx="8893080" cy="360"/>
            <a:chOff x="250920" y="6237360"/>
            <a:chExt cx="8893080" cy="360"/>
          </a:xfrm>
        </p:grpSpPr>
        <p:sp>
          <p:nvSpPr>
            <p:cNvPr id="122" name="直接连接符 4100"/>
            <p:cNvSpPr/>
            <p:nvPr/>
          </p:nvSpPr>
          <p:spPr>
            <a:xfrm>
              <a:off x="250920" y="6237360"/>
              <a:ext cx="8893080" cy="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250920" y="6237360"/>
              <a:ext cx="889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50920" y="6597720"/>
            <a:ext cx="2952720" cy="360"/>
            <a:chOff x="250920" y="6597720"/>
            <a:chExt cx="2952720" cy="360"/>
          </a:xfrm>
        </p:grpSpPr>
        <p:sp>
          <p:nvSpPr>
            <p:cNvPr id="125" name="直接连接符 4101"/>
            <p:cNvSpPr/>
            <p:nvPr/>
          </p:nvSpPr>
          <p:spPr>
            <a:xfrm>
              <a:off x="250920" y="6597720"/>
              <a:ext cx="2952720" cy="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250920" y="6597720"/>
              <a:ext cx="295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文本框 4102"/>
          <p:cNvSpPr/>
          <p:nvPr/>
        </p:nvSpPr>
        <p:spPr>
          <a:xfrm>
            <a:off x="468360" y="6188040"/>
            <a:ext cx="6840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X  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4103" descr="云-顶"/>
          <p:cNvPicPr/>
          <p:nvPr/>
        </p:nvPicPr>
        <p:blipFill>
          <a:blip r:embed="rId2"/>
          <a:stretch/>
        </p:blipFill>
        <p:spPr>
          <a:xfrm>
            <a:off x="0" y="0"/>
            <a:ext cx="9144000" cy="227664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042920" y="2852640"/>
            <a:ext cx="3960720" cy="360"/>
            <a:chOff x="1042920" y="2852640"/>
            <a:chExt cx="3960720" cy="360"/>
          </a:xfrm>
        </p:grpSpPr>
        <p:sp>
          <p:nvSpPr>
            <p:cNvPr id="130" name="直接连接符 4104"/>
            <p:cNvSpPr/>
            <p:nvPr/>
          </p:nvSpPr>
          <p:spPr>
            <a:xfrm>
              <a:off x="1042920" y="2852640"/>
              <a:ext cx="3960720" cy="0"/>
            </a:xfrm>
            <a:prstGeom prst="line">
              <a:avLst/>
            </a:prstGeom>
            <a:ln w="9360">
              <a:solidFill>
                <a:srgbClr val="061d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1042920" y="2852640"/>
              <a:ext cx="396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立方体 4105"/>
          <p:cNvSpPr/>
          <p:nvPr/>
        </p:nvSpPr>
        <p:spPr>
          <a:xfrm>
            <a:off x="6156360" y="5229360"/>
            <a:ext cx="2806560" cy="288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立方体 4106"/>
          <p:cNvSpPr/>
          <p:nvPr/>
        </p:nvSpPr>
        <p:spPr>
          <a:xfrm>
            <a:off x="6372360" y="4869000"/>
            <a:ext cx="2590560" cy="288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立方体 4107"/>
          <p:cNvSpPr/>
          <p:nvPr/>
        </p:nvSpPr>
        <p:spPr>
          <a:xfrm>
            <a:off x="6588000" y="4510080"/>
            <a:ext cx="2376720" cy="289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立方体 4108"/>
          <p:cNvSpPr/>
          <p:nvPr/>
        </p:nvSpPr>
        <p:spPr>
          <a:xfrm>
            <a:off x="6804000" y="4149720"/>
            <a:ext cx="2160720" cy="289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109"/>
          <p:cNvSpPr/>
          <p:nvPr/>
        </p:nvSpPr>
        <p:spPr>
          <a:xfrm>
            <a:off x="6443640" y="5229360"/>
            <a:ext cx="22320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X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110"/>
          <p:cNvSpPr/>
          <p:nvPr/>
        </p:nvSpPr>
        <p:spPr>
          <a:xfrm>
            <a:off x="6516720" y="4869000"/>
            <a:ext cx="22320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X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4111"/>
          <p:cNvSpPr/>
          <p:nvPr/>
        </p:nvSpPr>
        <p:spPr>
          <a:xfrm>
            <a:off x="6732720" y="4510080"/>
            <a:ext cx="20160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112"/>
          <p:cNvSpPr/>
          <p:nvPr/>
        </p:nvSpPr>
        <p:spPr>
          <a:xfrm>
            <a:off x="6950160" y="4149720"/>
            <a:ext cx="18716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4113"/>
          <p:cNvSpPr/>
          <p:nvPr/>
        </p:nvSpPr>
        <p:spPr>
          <a:xfrm>
            <a:off x="2612880" y="3240000"/>
            <a:ext cx="309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6804000" y="631044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508E-B97A-4828-AE3A-1A1A684F6A0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1260360" y="620640"/>
            <a:ext cx="715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淡蓝工作报告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354B-B478-4ACF-BA0B-0179802CC8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5:30:29Z</dcterms:created>
  <dc:creator>幻灯片之家：www.eeppt.com</dc:creator>
  <dc:description>幻灯片之家：www.eeppt.com</dc:description>
  <cp:keywords>幻灯片之家：www.eeppt.com</cp:keywords>
  <dc:language>en-US</dc:language>
  <cp:lastModifiedBy>An</cp:lastModifiedBy>
  <dcterms:modified xsi:type="dcterms:W3CDTF">2016-05-13T00:02:02Z</dcterms:modified>
  <cp:revision>220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