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7D5-7C8F-4824-8617-4FE33A0F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D02-DE0A-4102-8F3B-8D4D8245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1A5-FFFA-42EF-B2D6-C090FEBC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64E-9FE4-41C6-831B-DEBB9A3A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46A3-D6DF-4992-BC2C-52FD1378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2131-A444-4A0A-ABA3-FB39619C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3896-9325-47EB-9B8B-783FA792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F2E1-02AA-411A-B9A9-7C44194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3A45-3A4C-4880-A9B1-9FC503B4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E269-0CE6-4E57-9C97-03E19DF0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4CE6-54AC-4E45-B298-879939F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76C-7FD5-49CA-9104-8BC86FB9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C0EA-C382-4E5B-9A67-B4666CC0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5EDD-4D37-4416-BEEC-768670D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C686-8705-4401-803D-57844BB0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7F52-94B8-481C-B3CC-835C2053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6FA2-2195-4EDD-83DD-285726FF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EAF-34F1-42ED-9E8D-6AC78462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A87-A4C9-4C53-ABD0-4D3AA711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792-21E0-46D2-9C16-D8CED577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748-36F4-4592-AFDE-5C7523F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EFA-C10E-43D1-B63E-FD247CA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4A1-BD43-49B6-977A-22647800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C7A-579F-455C-A969-3A022FEF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94920" y="836280"/>
            <a:ext cx="224316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c1c1c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Verdana"/>
                <a:ea typeface="宋体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E8EB-6904-4863-BF6C-923EF079C39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268360" y="981000"/>
            <a:ext cx="6264360" cy="360"/>
            <a:chOff x="2268360" y="981000"/>
            <a:chExt cx="6264360" cy="360"/>
          </a:xfrm>
        </p:grpSpPr>
        <p:sp>
          <p:nvSpPr>
            <p:cNvPr id="8" name="Line 23"/>
            <p:cNvSpPr/>
            <p:nvPr/>
          </p:nvSpPr>
          <p:spPr>
            <a:xfrm>
              <a:off x="2268360" y="981000"/>
              <a:ext cx="6264360" cy="0"/>
            </a:xfrm>
            <a:prstGeom prst="line">
              <a:avLst/>
            </a:prstGeom>
            <a:ln w="0">
              <a:solidFill>
                <a:srgbClr val="4d4d4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2268360" y="981000"/>
              <a:ext cx="62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EDDD-1078-4029-8B6D-55248F2ED3C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DBFB-B63E-4FC9-8EF5-5CBFBB3B46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9640" y="1834920"/>
            <a:ext cx="7417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淡蓝色工作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模板免费下载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目录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66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EF94-ED63-494D-AC5E-E8B5D0B9D17E}" type="slidenum">
              <a:rPr b="0" lang="zh-CN" sz="1400" spc="-1" strike="noStrike">
                <a:solidFill>
                  <a:srgbClr val="66669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01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