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FC73-6F49-4D4C-A626-7253EF5E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0CBB-52C7-4795-809C-F8E983A8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D958-1075-4221-AA00-94D7BDB9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52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448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9580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A09-26E1-42DD-ADE1-D0E4AA8D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67EA-B1C4-425B-B78D-7B9BD0E2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D092-C9AF-4AEA-8A35-E8BE99D3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A1F4-A1B6-4524-A084-934F774A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165A-B320-4B61-9CDB-5FFA3CE0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4F64-F3C9-4F77-A594-3014E5D7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619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9CB7-6BF4-452D-A104-67F27F8C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D21D-4D47-467A-850C-F1FA467E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B678-AEB7-41DA-818F-EFCE1CE0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3020-316E-4F8E-85B2-131C148A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E622-45B0-491A-8394-8C912A03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9BEA-E60E-4A21-9977-A1637046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B12D-126D-451F-8BF5-76D776B6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448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9580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EE25-8F2D-4431-82E8-E1D3733A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F05EE9-AD2D-4FDE-B5E3-4DAAF386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9769C-9FE5-4B06-8126-A22A6803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29841-B798-42BE-B130-763C3502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411211-E678-489D-9331-669ED1B7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7F99C5-EE05-4BCB-84AE-F3162984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7872-C012-4C09-B49D-7DD4DEA1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619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A5D87-ADC2-40AE-91C5-A590EFA3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873B6-3B0C-4EE8-A99A-707F2C06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30065-DF01-481A-9CE8-C1BA0839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B5ECD-F41D-4189-A2C4-7AF3162D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B86D8B-0F94-4A18-91FA-B09BD936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51A03-2C34-4DB3-9490-A24ACDFA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3352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6448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9580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A71AB-2762-4903-884C-268FDCA1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C406-4552-4072-9372-D3E90EC2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EBAA-9915-4C26-811A-A376EEF9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619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39A8-6BEA-434C-83F0-9D4FA600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C45E-CE36-4BB3-AF43-380371AB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D4CB-B4AF-4584-9589-148D4A49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AD9-85AB-4B9C-A49D-43DD9E62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58285"/>
          <p:cNvSpPr/>
          <p:nvPr/>
        </p:nvSpPr>
        <p:spPr>
          <a:xfrm flipH="1">
            <a:off x="4419000" y="38160"/>
            <a:ext cx="4647960" cy="1181160"/>
          </a:xfrm>
          <a:custGeom>
            <a:avLst/>
            <a:gdLst/>
            <a:ahLst/>
            <a:rect l="l" t="t" r="r" b="b"/>
            <a:pathLst>
              <a:path w="2976" h="744">
                <a:moveTo>
                  <a:pt x="16" y="0"/>
                </a:moveTo>
                <a:lnTo>
                  <a:pt x="0" y="744"/>
                </a:lnTo>
                <a:lnTo>
                  <a:pt x="2976" y="440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" name="任意多边形 58283"/>
          <p:cNvSpPr/>
          <p:nvPr/>
        </p:nvSpPr>
        <p:spPr>
          <a:xfrm>
            <a:off x="0" y="0"/>
            <a:ext cx="4533840" cy="1295280"/>
          </a:xfrm>
          <a:custGeom>
            <a:avLst/>
            <a:gdLst/>
            <a:ahLst/>
            <a:rect l="l" t="t" r="r" b="b"/>
            <a:pathLst>
              <a:path w="2856" h="800">
                <a:moveTo>
                  <a:pt x="16" y="0"/>
                </a:moveTo>
                <a:lnTo>
                  <a:pt x="0" y="800"/>
                </a:lnTo>
                <a:lnTo>
                  <a:pt x="2856" y="461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" name="等腰三角形 57924"/>
          <p:cNvSpPr/>
          <p:nvPr/>
        </p:nvSpPr>
        <p:spPr>
          <a:xfrm rot="10800000">
            <a:off x="0" y="-360"/>
            <a:ext cx="9144000" cy="762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3" name="矩形 58278"/>
          <p:cNvSpPr/>
          <p:nvPr/>
        </p:nvSpPr>
        <p:spPr>
          <a:xfrm>
            <a:off x="9067680" y="14400"/>
            <a:ext cx="76320" cy="6838920"/>
          </a:xfrm>
          <a:prstGeom prst="rect">
            <a:avLst/>
          </a:prstGeom>
          <a:solidFill>
            <a:srgbClr val="a8ba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4" name="矩形 58279"/>
          <p:cNvSpPr/>
          <p:nvPr/>
        </p:nvSpPr>
        <p:spPr>
          <a:xfrm flipH="1">
            <a:off x="12600" y="9360"/>
            <a:ext cx="76320" cy="6848640"/>
          </a:xfrm>
          <a:prstGeom prst="rect">
            <a:avLst/>
          </a:prstGeom>
          <a:solidFill>
            <a:srgbClr val="a8ba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8bab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19528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99a0b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2364a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7" name="矩形 5828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195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26520" y="65527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굴림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94324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327672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ffffff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FEB2-3F10-4363-A03E-7B7D9A07A51E}" type="slidenum">
              <a:rPr b="0" lang="ko-KR" sz="1000" spc="-1" strike="noStrike">
                <a:solidFill>
                  <a:srgbClr val="ffffff"/>
                </a:solidFill>
                <a:latin typeface="Verdana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DA97-10A0-4F5E-8270-DC19F8A5A9D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85A9-4420-4466-995A-2417F551F72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52637"/>
          <p:cNvSpPr/>
          <p:nvPr/>
        </p:nvSpPr>
        <p:spPr>
          <a:xfrm flipH="1">
            <a:off x="0" y="9360"/>
            <a:ext cx="3733920" cy="684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89" name="矩形 13367"/>
          <p:cNvSpPr/>
          <p:nvPr/>
        </p:nvSpPr>
        <p:spPr>
          <a:xfrm>
            <a:off x="5486400" y="4680"/>
            <a:ext cx="3657600" cy="683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90" name="任意多边形 52653"/>
          <p:cNvSpPr/>
          <p:nvPr/>
        </p:nvSpPr>
        <p:spPr>
          <a:xfrm flipV="1">
            <a:off x="-104400" y="3276360"/>
            <a:ext cx="9248760" cy="3581280"/>
          </a:xfrm>
          <a:custGeom>
            <a:avLst/>
            <a:gdLst/>
            <a:ahLst/>
            <a:rect l="l" t="t" r="r" b="b"/>
            <a:pathLst>
              <a:path w="5808" h="2352">
                <a:moveTo>
                  <a:pt x="48" y="0"/>
                </a:moveTo>
                <a:lnTo>
                  <a:pt x="2928" y="2352"/>
                </a:lnTo>
                <a:lnTo>
                  <a:pt x="5808" y="0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gradFill rotWithShape="0">
            <a:gsLst>
              <a:gs pos="0">
                <a:srgbClr val="a8babc"/>
              </a:gs>
              <a:gs pos="100000">
                <a:srgbClr val="1952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91" name="任意多边形 52652"/>
          <p:cNvSpPr/>
          <p:nvPr/>
        </p:nvSpPr>
        <p:spPr>
          <a:xfrm>
            <a:off x="-76320" y="0"/>
            <a:ext cx="9220320" cy="3276720"/>
          </a:xfrm>
          <a:custGeom>
            <a:avLst/>
            <a:gdLst/>
            <a:ahLst/>
            <a:rect l="l" t="t" r="r" b="b"/>
            <a:pathLst>
              <a:path w="5808" h="2352">
                <a:moveTo>
                  <a:pt x="48" y="0"/>
                </a:moveTo>
                <a:lnTo>
                  <a:pt x="2928" y="2352"/>
                </a:lnTo>
                <a:lnTo>
                  <a:pt x="5808" y="0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gradFill rotWithShape="0">
            <a:gsLst>
              <a:gs pos="0">
                <a:srgbClr val="a8babc"/>
              </a:gs>
              <a:gs pos="100000">
                <a:srgbClr val="1952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92" name="菱形 53243"/>
          <p:cNvSpPr/>
          <p:nvPr/>
        </p:nvSpPr>
        <p:spPr>
          <a:xfrm>
            <a:off x="1295280" y="152280"/>
            <a:ext cx="6553440" cy="6553440"/>
          </a:xfrm>
          <a:prstGeom prst="diamond">
            <a:avLst/>
          </a:prstGeom>
          <a:gradFill rotWithShape="0">
            <a:gsLst>
              <a:gs pos="0">
                <a:srgbClr val="a8babc"/>
              </a:gs>
              <a:gs pos="50000">
                <a:srgbClr val="f4f7f7"/>
              </a:gs>
              <a:gs pos="100000">
                <a:srgbClr val="a8ba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93" name="菱形 52655"/>
          <p:cNvSpPr/>
          <p:nvPr/>
        </p:nvSpPr>
        <p:spPr>
          <a:xfrm>
            <a:off x="2362320" y="1143000"/>
            <a:ext cx="4495680" cy="4800600"/>
          </a:xfrm>
          <a:prstGeom prst="diamond">
            <a:avLst/>
          </a:prstGeom>
          <a:gradFill rotWithShape="0">
            <a:gsLst>
              <a:gs pos="0">
                <a:srgbClr val="a8babc"/>
              </a:gs>
              <a:gs pos="50000">
                <a:srgbClr val="dce3e4"/>
              </a:gs>
              <a:gs pos="100000">
                <a:srgbClr val="a8ba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94" name="文本框 13340"/>
          <p:cNvSpPr/>
          <p:nvPr/>
        </p:nvSpPr>
        <p:spPr>
          <a:xfrm>
            <a:off x="3886200" y="11430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LOGO</a:t>
            </a:r>
            <a:endParaRPr b="0" lang="en-US" sz="2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95" name="菱形 52654"/>
          <p:cNvSpPr/>
          <p:nvPr/>
        </p:nvSpPr>
        <p:spPr>
          <a:xfrm>
            <a:off x="2819520" y="1733400"/>
            <a:ext cx="3581280" cy="3657600"/>
          </a:xfrm>
          <a:prstGeom prst="diamond">
            <a:avLst/>
          </a:prstGeom>
          <a:gradFill rotWithShape="0">
            <a:gsLst>
              <a:gs pos="0">
                <a:srgbClr val="a8babc"/>
              </a:gs>
              <a:gs pos="50000">
                <a:srgbClr val="ffffff"/>
              </a:gs>
              <a:gs pos="100000">
                <a:srgbClr val="a8ba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96" name="矩形 61439"/>
          <p:cNvSpPr/>
          <p:nvPr/>
        </p:nvSpPr>
        <p:spPr>
          <a:xfrm>
            <a:off x="0" y="2971800"/>
            <a:ext cx="9144000" cy="762120"/>
          </a:xfrm>
          <a:prstGeom prst="rect">
            <a:avLst/>
          </a:prstGeom>
          <a:solidFill>
            <a:srgbClr val="2c37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8bab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19528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99a0b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2364a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3885840" y="647676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6552720" y="647676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c3764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B9E0-8FD1-48F3-971C-195C2DF25CAE}" type="slidenum">
              <a:rPr b="0" lang="ko-KR" sz="1400" spc="-1" strike="noStrike">
                <a:solidFill>
                  <a:srgbClr val="2c3764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304560" y="647676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8babc"/>
                </a:solidFill>
                <a:latin typeface="Verdana"/>
                <a:ea typeface="굴림"/>
              </a:rPr>
              <a:t>PowerPoint Template</a:t>
            </a:r>
            <a:endParaRPr b="1" lang="en-US" sz="36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39" name="页脚占位符 2"/>
          <p:cNvSpPr/>
          <p:nvPr/>
        </p:nvSpPr>
        <p:spPr>
          <a:xfrm>
            <a:off x="304920" y="647712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40" name="文本框 6155"/>
          <p:cNvSpPr/>
          <p:nvPr/>
        </p:nvSpPr>
        <p:spPr>
          <a:xfrm>
            <a:off x="533520" y="548640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61c32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161c32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41" name="文本框 4"/>
          <p:cNvSpPr/>
          <p:nvPr/>
        </p:nvSpPr>
        <p:spPr>
          <a:xfrm>
            <a:off x="985320" y="2057400"/>
            <a:ext cx="71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61c32"/>
                </a:solidFill>
                <a:latin typeface="Arial"/>
                <a:ea typeface="Arial"/>
              </a:rPr>
              <a:t>淡蓝色韩国工作日记</a:t>
            </a:r>
            <a:r>
              <a:rPr b="0" lang="en-US" sz="4000" spc="-1" strike="noStrike">
                <a:solidFill>
                  <a:srgbClr val="161c32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161c32"/>
                </a:solidFill>
                <a:latin typeface="Arial"/>
                <a:ea typeface="Arial"/>
              </a:rPr>
              <a:t>模板免费下载</a:t>
            </a:r>
            <a:endParaRPr b="0" lang="en-US" sz="4000" spc="-1" strike="noStrike">
              <a:solidFill>
                <a:srgbClr val="a8ba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8bab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4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3E9C-AB92-484C-B8C9-9682CA9AFC45}" type="slidenum">
              <a:rPr b="0" lang="zh-CN" sz="1400" spc="-1" strike="noStrike">
                <a:solidFill>
                  <a:srgbClr val="a8bab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a8ba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50177"/>
          <p:cNvSpPr txBox="1"/>
          <p:nvPr/>
        </p:nvSpPr>
        <p:spPr>
          <a:xfrm>
            <a:off x="1676520" y="2666880"/>
            <a:ext cx="5715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19528b"/>
                    </a:gs>
                    <a:gs pos="100000">
                      <a:srgbClr val="39b3c3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19528b"/>
                  </a:gs>
                  <a:gs pos="100000">
                    <a:srgbClr val="39b3c3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8" name="矩形 50178"/>
          <p:cNvSpPr/>
          <p:nvPr/>
        </p:nvSpPr>
        <p:spPr>
          <a:xfrm>
            <a:off x="1828800" y="3733920"/>
            <a:ext cx="5410080" cy="304560"/>
          </a:xfrm>
          <a:prstGeom prst="rect">
            <a:avLst/>
          </a:prstGeom>
          <a:solidFill>
            <a:srgbClr val="2c37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Your Company Slogan</a:t>
            </a:r>
            <a:endParaRPr b="0" lang="en-US" sz="14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49" name="页脚占位符 2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圆角矩形 41985"/>
          <p:cNvSpPr/>
          <p:nvPr/>
        </p:nvSpPr>
        <p:spPr>
          <a:xfrm>
            <a:off x="2125800" y="2104920"/>
            <a:ext cx="5473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02e4f"/>
              </a:gs>
              <a:gs pos="50000">
                <a:srgbClr val="2364ab"/>
              </a:gs>
              <a:gs pos="100000">
                <a:srgbClr val="102e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43" name="圆角矩形 41986"/>
          <p:cNvSpPr/>
          <p:nvPr/>
        </p:nvSpPr>
        <p:spPr>
          <a:xfrm>
            <a:off x="2139840" y="29624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a535a"/>
              </a:gs>
              <a:gs pos="50000">
                <a:srgbClr val="39b3c3"/>
              </a:gs>
              <a:gs pos="100000">
                <a:srgbClr val="1a53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44" name="圆角矩形 41987"/>
          <p:cNvSpPr/>
          <p:nvPr/>
        </p:nvSpPr>
        <p:spPr>
          <a:xfrm>
            <a:off x="2125800" y="3813120"/>
            <a:ext cx="5473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c2640"/>
              </a:gs>
              <a:gs pos="50000">
                <a:srgbClr val="19528b"/>
              </a:gs>
              <a:gs pos="100000">
                <a:srgbClr val="0c26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45" name="圆角矩形 41988"/>
          <p:cNvSpPr/>
          <p:nvPr/>
        </p:nvSpPr>
        <p:spPr>
          <a:xfrm>
            <a:off x="2125800" y="4691160"/>
            <a:ext cx="5473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4a53"/>
              </a:gs>
              <a:gs pos="50000">
                <a:srgbClr val="99a0b3"/>
              </a:gs>
              <a:gs pos="100000">
                <a:srgbClr val="474a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197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  <a:ea typeface="굴림"/>
              </a:rPr>
              <a:t>Contents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47" name="圆角矩形 41990"/>
          <p:cNvSpPr/>
          <p:nvPr/>
        </p:nvSpPr>
        <p:spPr>
          <a:xfrm>
            <a:off x="2436840" y="204480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Introduction</a:t>
            </a:r>
            <a:endParaRPr b="0" lang="en-US" sz="20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48" name="圆角矩形 41991"/>
          <p:cNvSpPr/>
          <p:nvPr/>
        </p:nvSpPr>
        <p:spPr>
          <a:xfrm>
            <a:off x="2457360" y="289548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Strategy</a:t>
            </a:r>
            <a:endParaRPr b="0" lang="en-US" sz="20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49" name="圆角矩形 41992"/>
          <p:cNvSpPr/>
          <p:nvPr/>
        </p:nvSpPr>
        <p:spPr>
          <a:xfrm>
            <a:off x="2448000" y="375444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hallenges Forward</a:t>
            </a:r>
            <a:endParaRPr b="0" lang="en-US" sz="20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50" name="圆角矩形 41993"/>
          <p:cNvSpPr/>
          <p:nvPr/>
        </p:nvSpPr>
        <p:spPr>
          <a:xfrm>
            <a:off x="2523960" y="4626000"/>
            <a:ext cx="509616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onclusion</a:t>
            </a:r>
            <a:endParaRPr b="0" lang="en-US" sz="20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51" name="菱形 41994"/>
          <p:cNvSpPr/>
          <p:nvPr/>
        </p:nvSpPr>
        <p:spPr>
          <a:xfrm>
            <a:off x="1685880" y="1905120"/>
            <a:ext cx="685800" cy="685800"/>
          </a:xfrm>
          <a:prstGeom prst="diamond">
            <a:avLst/>
          </a:prstGeom>
          <a:solidFill>
            <a:srgbClr val="2364a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52" name="菱形 41995"/>
          <p:cNvSpPr/>
          <p:nvPr/>
        </p:nvSpPr>
        <p:spPr>
          <a:xfrm>
            <a:off x="1685880" y="2743200"/>
            <a:ext cx="685800" cy="685800"/>
          </a:xfrm>
          <a:prstGeom prst="diamond">
            <a:avLst/>
          </a:prstGeom>
          <a:solidFill>
            <a:srgbClr val="39b3c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53" name="菱形 41996"/>
          <p:cNvSpPr/>
          <p:nvPr/>
        </p:nvSpPr>
        <p:spPr>
          <a:xfrm>
            <a:off x="1685880" y="3657600"/>
            <a:ext cx="685800" cy="685800"/>
          </a:xfrm>
          <a:prstGeom prst="diamond">
            <a:avLst/>
          </a:prstGeom>
          <a:solidFill>
            <a:srgbClr val="19528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54" name="菱形 41997"/>
          <p:cNvSpPr/>
          <p:nvPr/>
        </p:nvSpPr>
        <p:spPr>
          <a:xfrm>
            <a:off x="1685880" y="4495680"/>
            <a:ext cx="685800" cy="685800"/>
          </a:xfrm>
          <a:prstGeom prst="diamond">
            <a:avLst/>
          </a:prstGeom>
          <a:solidFill>
            <a:srgbClr val="99a0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</a:t>
            </a:r>
            <a:endParaRPr b="0" lang="en-US" sz="24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55" name="页脚占位符 2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Arial"/>
                <a:ea typeface="굴림"/>
              </a:rPr>
              <a:t>Click to edit title style</a:t>
            </a: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3764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  <a:ea typeface="굴림"/>
              </a:rPr>
              <a:t>Competitors 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528b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19528b"/>
                </a:solidFill>
                <a:latin typeface="Arial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19528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8bab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9b3c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b3c3"/>
                </a:solidFill>
                <a:latin typeface="Arial"/>
                <a:ea typeface="굴림"/>
              </a:rPr>
              <a:t>Strengths</a:t>
            </a:r>
            <a:r>
              <a:rPr b="1" lang="en-US" sz="2800" spc="-1" strike="noStrike">
                <a:solidFill>
                  <a:srgbClr val="2c3764"/>
                </a:solidFill>
                <a:latin typeface="Arial"/>
                <a:ea typeface="굴림"/>
              </a:rPr>
              <a:t> 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528b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19528b"/>
                </a:solidFill>
                <a:latin typeface="Arial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19528b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528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3764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Arial"/>
                <a:ea typeface="굴림"/>
              </a:rPr>
              <a:t>Weaknesses</a:t>
            </a: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528b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19528b"/>
                </a:solidFill>
                <a:latin typeface="Arial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19528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58" name="页脚占位符 2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椭圆 45057"/>
          <p:cNvSpPr/>
          <p:nvPr/>
        </p:nvSpPr>
        <p:spPr>
          <a:xfrm rot="20239200">
            <a:off x="1218960" y="2209320"/>
            <a:ext cx="6519600" cy="3062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60" name="椭圆 45058"/>
          <p:cNvSpPr/>
          <p:nvPr/>
        </p:nvSpPr>
        <p:spPr>
          <a:xfrm rot="20240400">
            <a:off x="1358640" y="2418840"/>
            <a:ext cx="5925960" cy="268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62" name="椭圆 45060"/>
          <p:cNvSpPr/>
          <p:nvPr/>
        </p:nvSpPr>
        <p:spPr>
          <a:xfrm>
            <a:off x="1397160" y="27432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9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63" name="椭圆 45061"/>
          <p:cNvSpPr/>
          <p:nvPr/>
        </p:nvSpPr>
        <p:spPr>
          <a:xfrm>
            <a:off x="3657600" y="13716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99a0b3"/>
              </a:gs>
              <a:gs pos="100000">
                <a:srgbClr val="35373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64" name="椭圆 45062"/>
          <p:cNvSpPr/>
          <p:nvPr/>
        </p:nvSpPr>
        <p:spPr>
          <a:xfrm>
            <a:off x="6502320" y="182880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2364ab"/>
              </a:gs>
              <a:gs pos="100000">
                <a:srgbClr val="0c233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65" name="椭圆 45063"/>
          <p:cNvSpPr/>
          <p:nvPr/>
        </p:nvSpPr>
        <p:spPr>
          <a:xfrm>
            <a:off x="1828800" y="46483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4047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66" name="椭圆 45064"/>
          <p:cNvSpPr/>
          <p:nvPr/>
        </p:nvSpPr>
        <p:spPr>
          <a:xfrm>
            <a:off x="4826160" y="41911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39b3c3"/>
              </a:gs>
              <a:gs pos="100000">
                <a:srgbClr val="14404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67" name="矩形 45065"/>
          <p:cNvSpPr/>
          <p:nvPr/>
        </p:nvSpPr>
        <p:spPr>
          <a:xfrm>
            <a:off x="3606840" y="3276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babc"/>
                </a:solidFill>
                <a:latin typeface="Arial"/>
                <a:ea typeface="굴림"/>
              </a:rPr>
              <a:t>Add Title</a:t>
            </a:r>
            <a:endParaRPr b="0" lang="en-US" sz="32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68" name="日期占位符 1"/>
          <p:cNvSpPr/>
          <p:nvPr/>
        </p:nvSpPr>
        <p:spPr>
          <a:xfrm>
            <a:off x="32688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69" name="页脚占位符 2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68240" y="1819440"/>
          <a:ext cx="7450200" cy="3458880"/>
        </p:xfrm>
        <a:graphic>
          <a:graphicData uri="http://schemas.openxmlformats.org/drawingml/2006/table">
            <a:tbl>
              <a:tblPr/>
              <a:tblGrid>
                <a:gridCol w="1488960"/>
                <a:gridCol w="1490760"/>
                <a:gridCol w="1490760"/>
                <a:gridCol w="1490760"/>
                <a:gridCol w="1488960"/>
              </a:tblGrid>
              <a:tr h="499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1</a:t>
                      </a:r>
                      <a:endParaRPr b="0" lang="en-US" sz="20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2</a:t>
                      </a:r>
                      <a:endParaRPr b="0" lang="en-US" sz="20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3</a:t>
                      </a:r>
                      <a:endParaRPr b="0" lang="en-US" sz="20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4</a:t>
                      </a:r>
                      <a:endParaRPr b="0" lang="en-US" sz="20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</a:tr>
              <a:tr h="73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A</a:t>
                      </a:r>
                      <a:endParaRPr b="0" lang="en-US" sz="24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2a1c0"/>
                        </a:gs>
                        <a:gs pos="100000">
                          <a:srgbClr val="19528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3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B</a:t>
                      </a:r>
                      <a:endParaRPr b="0" lang="en-US" sz="24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92ab"/>
                        </a:gs>
                        <a:gs pos="100000">
                          <a:srgbClr val="2c3764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50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C</a:t>
                      </a:r>
                      <a:endParaRPr b="0" lang="en-US" sz="24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3d6de"/>
                        </a:gs>
                        <a:gs pos="100000">
                          <a:srgbClr val="39b3c3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35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D</a:t>
                      </a:r>
                      <a:endParaRPr b="0" lang="en-US" sz="24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7cbd6"/>
                        </a:gs>
                        <a:gs pos="100000">
                          <a:srgbClr val="99a0b3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sp>
        <p:nvSpPr>
          <p:cNvPr id="172" name="页脚占位符 2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73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2364ab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2364ab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a8babc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a8ba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75" name="圆角矩形 46082"/>
          <p:cNvSpPr/>
          <p:nvPr/>
        </p:nvSpPr>
        <p:spPr>
          <a:xfrm>
            <a:off x="1295280" y="2147400"/>
            <a:ext cx="198144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a0b3"/>
              </a:gs>
              <a:gs pos="100000">
                <a:srgbClr val="474a53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76" name="圆角矩形 46083"/>
          <p:cNvSpPr/>
          <p:nvPr/>
        </p:nvSpPr>
        <p:spPr>
          <a:xfrm>
            <a:off x="3429000" y="214740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c3764"/>
              </a:gs>
              <a:gs pos="100000">
                <a:srgbClr val="13172a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77" name="圆角矩形 46084"/>
          <p:cNvSpPr/>
          <p:nvPr/>
        </p:nvSpPr>
        <p:spPr>
          <a:xfrm>
            <a:off x="5638680" y="214740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9b3c3"/>
              </a:gs>
              <a:gs pos="100000">
                <a:srgbClr val="1a535a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78" name="燕尾形 46085"/>
          <p:cNvSpPr/>
          <p:nvPr/>
        </p:nvSpPr>
        <p:spPr>
          <a:xfrm>
            <a:off x="5638680" y="2895480"/>
            <a:ext cx="2819520" cy="26672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0" y="21600"/>
                </a:lnTo>
                <a:lnTo>
                  <a:pt x="3555" y="10800"/>
                </a:lnTo>
                <a:close/>
              </a:path>
            </a:pathLst>
          </a:custGeom>
          <a:gradFill rotWithShape="0">
            <a:gsLst>
              <a:gs pos="0">
                <a:srgbClr val="39b3c3"/>
              </a:gs>
              <a:gs pos="100000">
                <a:srgbClr val="b0e1e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79" name="燕尾形 46086"/>
          <p:cNvSpPr/>
          <p:nvPr/>
        </p:nvSpPr>
        <p:spPr>
          <a:xfrm>
            <a:off x="327672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gradFill rotWithShape="0">
            <a:gsLst>
              <a:gs pos="0">
                <a:srgbClr val="2c3764"/>
              </a:gs>
              <a:gs pos="100000">
                <a:srgbClr val="abafc1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80" name="燕尾形 46087"/>
          <p:cNvSpPr/>
          <p:nvPr/>
        </p:nvSpPr>
        <p:spPr>
          <a:xfrm>
            <a:off x="91440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gradFill rotWithShape="0">
            <a:gsLst>
              <a:gs pos="0">
                <a:srgbClr val="e3e5ea"/>
              </a:gs>
              <a:gs pos="100000">
                <a:srgbClr val="99a0b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81" name="页脚占位符 2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Arial"/>
                <a:ea typeface="굴림"/>
              </a:rPr>
              <a:t>Chart Documents</a:t>
            </a: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pic>
        <p:nvPicPr>
          <p:cNvPr id="183" name="内容占位符 47106" descr=""/>
          <p:cNvPicPr/>
          <p:nvPr/>
        </p:nvPicPr>
        <p:blipFill>
          <a:blip r:embed="rId1"/>
          <a:stretch/>
        </p:blipFill>
        <p:spPr>
          <a:xfrm>
            <a:off x="1757520" y="1146240"/>
            <a:ext cx="5329080" cy="4695840"/>
          </a:xfrm>
          <a:prstGeom prst="rect">
            <a:avLst/>
          </a:prstGeom>
          <a:ln w="0">
            <a:noFill/>
          </a:ln>
        </p:spPr>
      </p:pic>
      <p:sp>
        <p:nvSpPr>
          <p:cNvPr id="184" name="页脚占位符 2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186" name="圆角矩形 48130"/>
          <p:cNvSpPr/>
          <p:nvPr/>
        </p:nvSpPr>
        <p:spPr>
          <a:xfrm>
            <a:off x="64008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87" name="圆角矩形 48131"/>
          <p:cNvSpPr/>
          <p:nvPr/>
        </p:nvSpPr>
        <p:spPr>
          <a:xfrm>
            <a:off x="4648320" y="3276720"/>
            <a:ext cx="1665000" cy="259056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605">
                <a:moveTo>
                  <a:pt x="2969" y="0"/>
                </a:moveTo>
                <a:arcTo wR="2969" hR="2969" stAng="16200000" swAng="-5400000"/>
                <a:lnTo>
                  <a:pt x="0" y="30636"/>
                </a:lnTo>
                <a:arcTo wR="2969" hR="2969" stAng="10800000" swAng="-5400000"/>
                <a:lnTo>
                  <a:pt x="18631" y="3360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88" name="圆角矩形 48132"/>
          <p:cNvSpPr/>
          <p:nvPr/>
        </p:nvSpPr>
        <p:spPr>
          <a:xfrm>
            <a:off x="290844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189" name="圆角矩形 48133"/>
          <p:cNvSpPr/>
          <p:nvPr/>
        </p:nvSpPr>
        <p:spPr>
          <a:xfrm>
            <a:off x="11430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grpSp>
        <p:nvGrpSpPr>
          <p:cNvPr id="190" name="组合 48134"/>
          <p:cNvGrpSpPr/>
          <p:nvPr/>
        </p:nvGrpSpPr>
        <p:grpSpPr>
          <a:xfrm>
            <a:off x="1200600" y="1782360"/>
            <a:ext cx="6437160" cy="1387800"/>
            <a:chOff x="1200600" y="1782360"/>
            <a:chExt cx="6437160" cy="1387800"/>
          </a:xfrm>
        </p:grpSpPr>
        <p:sp>
          <p:nvSpPr>
            <p:cNvPr id="191" name="矩形 48135"/>
            <p:cNvSpPr/>
            <p:nvPr/>
          </p:nvSpPr>
          <p:spPr>
            <a:xfrm rot="3418800">
              <a:off x="1410840" y="2007360"/>
              <a:ext cx="924480" cy="1003680"/>
            </a:xfrm>
            <a:prstGeom prst="rect">
              <a:avLst/>
            </a:prstGeom>
            <a:solidFill>
              <a:srgbClr val="99a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Arial"/>
              </a:endParaRPr>
            </a:p>
          </p:txBody>
        </p:sp>
        <p:grpSp>
          <p:nvGrpSpPr>
            <p:cNvPr id="192" name="组合 48136"/>
            <p:cNvGrpSpPr/>
            <p:nvPr/>
          </p:nvGrpSpPr>
          <p:grpSpPr>
            <a:xfrm>
              <a:off x="2375280" y="2179080"/>
              <a:ext cx="931680" cy="131760"/>
              <a:chOff x="2375280" y="2179080"/>
              <a:chExt cx="931680" cy="131760"/>
            </a:xfrm>
          </p:grpSpPr>
          <p:sp>
            <p:nvSpPr>
              <p:cNvPr id="193" name="椭圆 48137"/>
              <p:cNvSpPr/>
              <p:nvPr/>
            </p:nvSpPr>
            <p:spPr>
              <a:xfrm>
                <a:off x="237528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Arial"/>
                </a:endParaRPr>
              </a:p>
            </p:txBody>
          </p:sp>
          <p:sp>
            <p:nvSpPr>
              <p:cNvPr id="194" name="矩形 48138"/>
              <p:cNvSpPr/>
              <p:nvPr/>
            </p:nvSpPr>
            <p:spPr>
              <a:xfrm>
                <a:off x="2464560" y="21801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Arial"/>
                </a:endParaRPr>
              </a:p>
            </p:txBody>
          </p:sp>
          <p:sp>
            <p:nvSpPr>
              <p:cNvPr id="195" name="椭圆 48139"/>
              <p:cNvSpPr/>
              <p:nvPr/>
            </p:nvSpPr>
            <p:spPr>
              <a:xfrm>
                <a:off x="316584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Arial"/>
                </a:endParaRPr>
              </a:p>
            </p:txBody>
          </p:sp>
          <p:sp>
            <p:nvSpPr>
              <p:cNvPr id="196" name="椭圆 48140"/>
              <p:cNvSpPr/>
              <p:nvPr/>
            </p:nvSpPr>
            <p:spPr>
              <a:xfrm>
                <a:off x="324180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Arial"/>
                </a:endParaRPr>
              </a:p>
            </p:txBody>
          </p:sp>
        </p:grpSp>
        <p:sp>
          <p:nvSpPr>
            <p:cNvPr id="197" name="矩形 48141"/>
            <p:cNvSpPr/>
            <p:nvPr/>
          </p:nvSpPr>
          <p:spPr>
            <a:xfrm rot="3418800">
              <a:off x="3132000" y="1941480"/>
              <a:ext cx="924480" cy="1003680"/>
            </a:xfrm>
            <a:prstGeom prst="rect">
              <a:avLst/>
            </a:prstGeom>
            <a:solidFill>
              <a:srgbClr val="2c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Arial"/>
              </a:endParaRPr>
            </a:p>
          </p:txBody>
        </p:sp>
        <p:grpSp>
          <p:nvGrpSpPr>
            <p:cNvPr id="198" name="组合 48142"/>
            <p:cNvGrpSpPr/>
            <p:nvPr/>
          </p:nvGrpSpPr>
          <p:grpSpPr>
            <a:xfrm>
              <a:off x="4096800" y="2179080"/>
              <a:ext cx="931680" cy="131760"/>
              <a:chOff x="4096800" y="2179080"/>
              <a:chExt cx="931680" cy="131760"/>
            </a:xfrm>
          </p:grpSpPr>
          <p:sp>
            <p:nvSpPr>
              <p:cNvPr id="199" name="椭圆 48143"/>
              <p:cNvSpPr/>
              <p:nvPr/>
            </p:nvSpPr>
            <p:spPr>
              <a:xfrm>
                <a:off x="409680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Arial"/>
                </a:endParaRPr>
              </a:p>
            </p:txBody>
          </p:sp>
          <p:sp>
            <p:nvSpPr>
              <p:cNvPr id="200" name="矩形 48144"/>
              <p:cNvSpPr/>
              <p:nvPr/>
            </p:nvSpPr>
            <p:spPr>
              <a:xfrm>
                <a:off x="4186080" y="21801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Arial"/>
                </a:endParaRPr>
              </a:p>
            </p:txBody>
          </p:sp>
          <p:sp>
            <p:nvSpPr>
              <p:cNvPr id="201" name="椭圆 48145"/>
              <p:cNvSpPr/>
              <p:nvPr/>
            </p:nvSpPr>
            <p:spPr>
              <a:xfrm>
                <a:off x="488736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Arial"/>
                </a:endParaRPr>
              </a:p>
            </p:txBody>
          </p:sp>
          <p:sp>
            <p:nvSpPr>
              <p:cNvPr id="202" name="椭圆 48146"/>
              <p:cNvSpPr/>
              <p:nvPr/>
            </p:nvSpPr>
            <p:spPr>
              <a:xfrm>
                <a:off x="496332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Arial"/>
                </a:endParaRPr>
              </a:p>
            </p:txBody>
          </p:sp>
        </p:grpSp>
        <p:sp>
          <p:nvSpPr>
            <p:cNvPr id="203" name="矩形 48147"/>
            <p:cNvSpPr/>
            <p:nvPr/>
          </p:nvSpPr>
          <p:spPr>
            <a:xfrm rot="3418800">
              <a:off x="4781520" y="1941480"/>
              <a:ext cx="924480" cy="1003680"/>
            </a:xfrm>
            <a:prstGeom prst="rect">
              <a:avLst/>
            </a:prstGeom>
            <a:solidFill>
              <a:srgbClr val="99a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Arial"/>
              </a:endParaRPr>
            </a:p>
          </p:txBody>
        </p:sp>
        <p:grpSp>
          <p:nvGrpSpPr>
            <p:cNvPr id="204" name="组合 48148"/>
            <p:cNvGrpSpPr/>
            <p:nvPr/>
          </p:nvGrpSpPr>
          <p:grpSpPr>
            <a:xfrm>
              <a:off x="5817960" y="2179080"/>
              <a:ext cx="1218240" cy="131760"/>
              <a:chOff x="5817960" y="2179080"/>
              <a:chExt cx="1218240" cy="131760"/>
            </a:xfrm>
          </p:grpSpPr>
          <p:sp>
            <p:nvSpPr>
              <p:cNvPr id="205" name="椭圆 48149"/>
              <p:cNvSpPr/>
              <p:nvPr/>
            </p:nvSpPr>
            <p:spPr>
              <a:xfrm>
                <a:off x="5817960" y="21790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Arial"/>
                </a:endParaRPr>
              </a:p>
            </p:txBody>
          </p:sp>
          <p:sp>
            <p:nvSpPr>
              <p:cNvPr id="206" name="矩形 48150"/>
              <p:cNvSpPr/>
              <p:nvPr/>
            </p:nvSpPr>
            <p:spPr>
              <a:xfrm>
                <a:off x="5934600" y="21801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Arial"/>
                </a:endParaRPr>
              </a:p>
            </p:txBody>
          </p:sp>
          <p:sp>
            <p:nvSpPr>
              <p:cNvPr id="207" name="椭圆 48151"/>
              <p:cNvSpPr/>
              <p:nvPr/>
            </p:nvSpPr>
            <p:spPr>
              <a:xfrm>
                <a:off x="6851520" y="21812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Arial"/>
                </a:endParaRPr>
              </a:p>
            </p:txBody>
          </p:sp>
          <p:sp>
            <p:nvSpPr>
              <p:cNvPr id="208" name="椭圆 48152"/>
              <p:cNvSpPr/>
              <p:nvPr/>
            </p:nvSpPr>
            <p:spPr>
              <a:xfrm>
                <a:off x="6950880" y="22222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Arial"/>
                </a:endParaRPr>
              </a:p>
            </p:txBody>
          </p:sp>
        </p:grpSp>
        <p:sp>
          <p:nvSpPr>
            <p:cNvPr id="209" name="矩形 48153"/>
            <p:cNvSpPr/>
            <p:nvPr/>
          </p:nvSpPr>
          <p:spPr>
            <a:xfrm rot="3418800">
              <a:off x="6502680" y="1941480"/>
              <a:ext cx="924480" cy="1003680"/>
            </a:xfrm>
            <a:prstGeom prst="rect">
              <a:avLst/>
            </a:prstGeom>
            <a:solidFill>
              <a:srgbClr val="2c3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Arial"/>
              </a:endParaRPr>
            </a:p>
          </p:txBody>
        </p:sp>
      </p:grpSp>
      <p:sp>
        <p:nvSpPr>
          <p:cNvPr id="210" name="圆角矩形 48154"/>
          <p:cNvSpPr/>
          <p:nvPr/>
        </p:nvSpPr>
        <p:spPr>
          <a:xfrm>
            <a:off x="1297080" y="22654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11" name="圆角矩形 48155"/>
          <p:cNvSpPr/>
          <p:nvPr/>
        </p:nvSpPr>
        <p:spPr>
          <a:xfrm>
            <a:off x="3048120" y="21906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12" name="圆角矩形 48156"/>
          <p:cNvSpPr/>
          <p:nvPr/>
        </p:nvSpPr>
        <p:spPr>
          <a:xfrm>
            <a:off x="45720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13" name="圆角矩形 48157"/>
          <p:cNvSpPr/>
          <p:nvPr/>
        </p:nvSpPr>
        <p:spPr>
          <a:xfrm>
            <a:off x="64008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4</a:t>
            </a: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14" name="页脚占位符 2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15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2364ab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2364ab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a8babc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a8ba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Arial"/>
            </a:endParaRPr>
          </a:p>
        </p:txBody>
      </p:sp>
      <p:sp>
        <p:nvSpPr>
          <p:cNvPr id="217" name="椭圆 49154"/>
          <p:cNvSpPr/>
          <p:nvPr/>
        </p:nvSpPr>
        <p:spPr>
          <a:xfrm>
            <a:off x="2362320" y="419112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777777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18" name="椭圆 49155"/>
          <p:cNvSpPr/>
          <p:nvPr/>
        </p:nvSpPr>
        <p:spPr>
          <a:xfrm rot="20601600">
            <a:off x="1636560" y="20775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a8babc"/>
              </a:gs>
              <a:gs pos="50000">
                <a:srgbClr val="eaeeef"/>
              </a:gs>
              <a:gs pos="100000">
                <a:srgbClr val="a8bab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19" name="椭圆 49156"/>
          <p:cNvSpPr/>
          <p:nvPr/>
        </p:nvSpPr>
        <p:spPr>
          <a:xfrm rot="20601600">
            <a:off x="1699920" y="192420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16406d"/>
              </a:gs>
              <a:gs pos="100000">
                <a:srgbClr val="2364ab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20" name="任意多边形 49157"/>
          <p:cNvSpPr/>
          <p:nvPr/>
        </p:nvSpPr>
        <p:spPr>
          <a:xfrm rot="20601600">
            <a:off x="4565520" y="2987640"/>
            <a:ext cx="2652840" cy="1320840"/>
          </a:xfrm>
          <a:custGeom>
            <a:avLst/>
            <a:gdLst/>
            <a:ahLst/>
            <a:rect l="l" t="t" r="r" b="b"/>
            <a:pathLst>
              <a:path fill="none" w="19933" h="19523">
                <a:moveTo>
                  <a:pt x="19933" y="8320"/>
                </a:moveTo>
                <a:cubicBezTo>
                  <a:pt x="17878" y="13250"/>
                  <a:pt x="14049" y="17248"/>
                  <a:pt x="9249" y="19525"/>
                </a:cubicBezTo>
              </a:path>
              <a:path stroke="0" w="19933" h="19523">
                <a:moveTo>
                  <a:pt x="9242" y="19522"/>
                </a:moveTo>
                <a:cubicBezTo>
                  <a:pt x="9243" y="19631"/>
                  <a:pt x="9243" y="19741"/>
                  <a:pt x="9243" y="19851"/>
                </a:cubicBezTo>
                <a:cubicBezTo>
                  <a:pt x="9243" y="20093"/>
                  <a:pt x="9241" y="20333"/>
                  <a:pt x="9238" y="20566"/>
                </a:cubicBezTo>
                <a:lnTo>
                  <a:pt x="19933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21" name="任意多边形 49158"/>
          <p:cNvSpPr/>
          <p:nvPr/>
        </p:nvSpPr>
        <p:spPr>
          <a:xfrm rot="20601600">
            <a:off x="4341960" y="1994040"/>
            <a:ext cx="2849400" cy="1538280"/>
          </a:xfrm>
          <a:custGeom>
            <a:avLst/>
            <a:gdLst/>
            <a:ahLst/>
            <a:rect l="l" t="t" r="r" b="b"/>
            <a:pathLst>
              <a:path fill="none" w="21600" h="22718">
                <a:moveTo>
                  <a:pt x="16157" y="0"/>
                </a:moveTo>
                <a:cubicBezTo>
                  <a:pt x="19544" y="3813"/>
                  <a:pt x="21600" y="8834"/>
                  <a:pt x="21600" y="14335"/>
                </a:cubicBezTo>
                <a:cubicBezTo>
                  <a:pt x="21600" y="17311"/>
                  <a:pt x="20998" y="20146"/>
                  <a:pt x="19911" y="22723"/>
                </a:cubicBezTo>
              </a:path>
              <a:path stroke="0" w="21600" h="22718">
                <a:moveTo>
                  <a:pt x="19906" y="22718"/>
                </a:moveTo>
                <a:cubicBezTo>
                  <a:pt x="20398" y="18083"/>
                  <a:pt x="21213" y="15054"/>
                  <a:pt x="22135" y="15054"/>
                </a:cubicBezTo>
                <a:cubicBezTo>
                  <a:pt x="23638" y="15054"/>
                  <a:pt x="24856" y="23098"/>
                  <a:pt x="24856" y="33021"/>
                </a:cubicBezTo>
                <a:cubicBezTo>
                  <a:pt x="24856" y="33593"/>
                  <a:pt x="24852" y="34158"/>
                  <a:pt x="24844" y="34711"/>
                </a:cubicBezTo>
                <a:lnTo>
                  <a:pt x="16157" y="0"/>
                </a:lnTo>
                <a:close/>
              </a:path>
            </a:pathLst>
          </a:custGeom>
          <a:solidFill>
            <a:srgbClr val="2c37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22" name="任意多边形 49159"/>
          <p:cNvSpPr/>
          <p:nvPr/>
        </p:nvSpPr>
        <p:spPr>
          <a:xfrm flipH="1" rot="20602200">
            <a:off x="1746720" y="3306240"/>
            <a:ext cx="2876760" cy="163044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0"/>
                </a:moveTo>
                <a:cubicBezTo>
                  <a:pt x="21198" y="2176"/>
                  <a:pt x="21600" y="4515"/>
                  <a:pt x="21600" y="6947"/>
                </a:cubicBezTo>
                <a:cubicBezTo>
                  <a:pt x="21600" y="14141"/>
                  <a:pt x="18083" y="20514"/>
                  <a:pt x="12674" y="24440"/>
                </a:cubicBezTo>
              </a:path>
              <a:path stroke="0" w="21600" h="24439">
                <a:moveTo>
                  <a:pt x="12672" y="24438"/>
                </a:moveTo>
                <a:cubicBezTo>
                  <a:pt x="12673" y="24669"/>
                  <a:pt x="12673" y="24902"/>
                  <a:pt x="12673" y="25136"/>
                </a:cubicBezTo>
                <a:cubicBezTo>
                  <a:pt x="12673" y="25267"/>
                  <a:pt x="12673" y="25397"/>
                  <a:pt x="12673" y="25526"/>
                </a:cubicBezTo>
                <a:lnTo>
                  <a:pt x="20452" y="0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23" name="任意多边形 49160"/>
          <p:cNvSpPr/>
          <p:nvPr/>
        </p:nvSpPr>
        <p:spPr>
          <a:xfrm rot="20601600">
            <a:off x="3600000" y="1730520"/>
            <a:ext cx="2814840" cy="141732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8"/>
                </a:moveTo>
                <a:cubicBezTo>
                  <a:pt x="1553" y="187"/>
                  <a:pt x="3174" y="-1"/>
                  <a:pt x="4839" y="-1"/>
                </a:cubicBezTo>
                <a:cubicBezTo>
                  <a:pt x="11488" y="-1"/>
                  <a:pt x="17435" y="3003"/>
                  <a:pt x="21397" y="7728"/>
                </a:cubicBezTo>
              </a:path>
              <a:path stroke="0" w="21397" h="21600">
                <a:moveTo>
                  <a:pt x="21397" y="7729"/>
                </a:moveTo>
                <a:cubicBezTo>
                  <a:pt x="18811" y="3837"/>
                  <a:pt x="17194" y="-1710"/>
                  <a:pt x="17194" y="-7866"/>
                </a:cubicBezTo>
                <a:cubicBezTo>
                  <a:pt x="17194" y="-19644"/>
                  <a:pt x="23112" y="-29192"/>
                  <a:pt x="30413" y="-29192"/>
                </a:cubicBezTo>
                <a:cubicBezTo>
                  <a:pt x="37714" y="-29192"/>
                  <a:pt x="43632" y="-19644"/>
                  <a:pt x="43632" y="-7866"/>
                </a:cubicBezTo>
                <a:cubicBezTo>
                  <a:pt x="43632" y="-4730"/>
                  <a:pt x="43213" y="-1753"/>
                  <a:pt x="42460" y="926"/>
                </a:cubicBezTo>
                <a:lnTo>
                  <a:pt x="0" y="548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24" name="任意多边形 49161"/>
          <p:cNvSpPr/>
          <p:nvPr/>
        </p:nvSpPr>
        <p:spPr>
          <a:xfrm flipH="1" rot="20602200">
            <a:off x="1561680" y="2374560"/>
            <a:ext cx="2762280" cy="138096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0"/>
                </a:moveTo>
                <a:cubicBezTo>
                  <a:pt x="12505" y="1681"/>
                  <a:pt x="18923" y="7870"/>
                  <a:pt x="20936" y="15808"/>
                </a:cubicBezTo>
              </a:path>
              <a:path stroke="0" w="20934" h="21142">
                <a:moveTo>
                  <a:pt x="20934" y="15819"/>
                </a:moveTo>
                <a:cubicBezTo>
                  <a:pt x="20723" y="13980"/>
                  <a:pt x="20612" y="12035"/>
                  <a:pt x="20612" y="10026"/>
                </a:cubicBezTo>
                <a:cubicBezTo>
                  <a:pt x="20612" y="-1777"/>
                  <a:pt x="24457" y="-11345"/>
                  <a:pt x="29200" y="-11345"/>
                </a:cubicBezTo>
                <a:cubicBezTo>
                  <a:pt x="33943" y="-11345"/>
                  <a:pt x="37788" y="-1777"/>
                  <a:pt x="37788" y="10026"/>
                </a:cubicBezTo>
                <a:cubicBezTo>
                  <a:pt x="37788" y="11841"/>
                  <a:pt x="37697" y="13604"/>
                  <a:pt x="37526" y="15281"/>
                </a:cubicBezTo>
                <a:lnTo>
                  <a:pt x="4423" y="0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25" name="任意多边形 49162"/>
          <p:cNvSpPr/>
          <p:nvPr/>
        </p:nvSpPr>
        <p:spPr>
          <a:xfrm rot="20601600">
            <a:off x="4681440" y="323676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26" name="任意多边形 49163"/>
          <p:cNvSpPr/>
          <p:nvPr/>
        </p:nvSpPr>
        <p:spPr>
          <a:xfrm rot="20601600">
            <a:off x="4574880" y="298404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a8ba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grpSp>
        <p:nvGrpSpPr>
          <p:cNvPr id="227" name="组合 49164"/>
          <p:cNvGrpSpPr/>
          <p:nvPr/>
        </p:nvGrpSpPr>
        <p:grpSpPr>
          <a:xfrm>
            <a:off x="4163400" y="2660760"/>
            <a:ext cx="3251880" cy="2231640"/>
            <a:chOff x="4163400" y="2660760"/>
            <a:chExt cx="3251880" cy="2231640"/>
          </a:xfrm>
        </p:grpSpPr>
        <p:sp>
          <p:nvSpPr>
            <p:cNvPr id="228" name="任意多边形 49165"/>
            <p:cNvSpPr/>
            <p:nvPr/>
          </p:nvSpPr>
          <p:spPr>
            <a:xfrm rot="20712600">
              <a:off x="4276800" y="3015720"/>
              <a:ext cx="2949480" cy="127188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5" y="13336"/>
                    <a:pt x="13997" y="17273"/>
                    <a:pt x="9249" y="19525"/>
                  </a:cubicBezTo>
                </a:path>
                <a:path stroke="0" w="19866" h="19523">
                  <a:moveTo>
                    <a:pt x="9242" y="19522"/>
                  </a:moveTo>
                  <a:cubicBezTo>
                    <a:pt x="9243" y="19634"/>
                    <a:pt x="9243" y="19747"/>
                    <a:pt x="9243" y="19860"/>
                  </a:cubicBezTo>
                  <a:cubicBezTo>
                    <a:pt x="9243" y="20113"/>
                    <a:pt x="9241" y="20363"/>
                    <a:pt x="9237" y="20606"/>
                  </a:cubicBez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Arial"/>
              </a:endParaRPr>
            </a:p>
          </p:txBody>
        </p:sp>
        <p:sp>
          <p:nvSpPr>
            <p:cNvPr id="229" name="任意多边形 49166"/>
            <p:cNvSpPr/>
            <p:nvPr/>
          </p:nvSpPr>
          <p:spPr>
            <a:xfrm rot="20712600">
              <a:off x="4361040" y="3204720"/>
              <a:ext cx="1377720" cy="153684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Arial"/>
              </a:endParaRPr>
            </a:p>
          </p:txBody>
        </p:sp>
        <p:sp>
          <p:nvSpPr>
            <p:cNvPr id="230" name="任意多边形 49167"/>
            <p:cNvSpPr/>
            <p:nvPr/>
          </p:nvSpPr>
          <p:spPr>
            <a:xfrm rot="20712600">
              <a:off x="5736960" y="3373200"/>
              <a:ext cx="1579320" cy="97920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Arial"/>
              </a:endParaRPr>
            </a:p>
          </p:txBody>
        </p:sp>
      </p:grpSp>
      <p:sp>
        <p:nvSpPr>
          <p:cNvPr id="231" name="任意多边形 49168"/>
          <p:cNvSpPr/>
          <p:nvPr/>
        </p:nvSpPr>
        <p:spPr>
          <a:xfrm rot="20601600">
            <a:off x="6248160" y="3276360"/>
            <a:ext cx="1555560" cy="1092240"/>
          </a:xfrm>
          <a:custGeom>
            <a:avLst/>
            <a:gdLst/>
            <a:ahLst/>
            <a:rect l="l" t="t" r="r" b="b"/>
            <a:pathLst>
              <a:path w="556" h="486">
                <a:moveTo>
                  <a:pt x="0" y="342"/>
                </a:moveTo>
                <a:lnTo>
                  <a:pt x="552" y="0"/>
                </a:lnTo>
                <a:lnTo>
                  <a:pt x="556" y="138"/>
                </a:lnTo>
                <a:cubicBezTo>
                  <a:pt x="522" y="194"/>
                  <a:pt x="438" y="280"/>
                  <a:pt x="346" y="338"/>
                </a:cubicBezTo>
                <a:cubicBezTo>
                  <a:pt x="254" y="396"/>
                  <a:pt x="64" y="485"/>
                  <a:pt x="6" y="486"/>
                </a:cubicBezTo>
                <a:cubicBezTo>
                  <a:pt x="8" y="434"/>
                  <a:pt x="1" y="372"/>
                  <a:pt x="0" y="342"/>
                </a:cubicBezTo>
                <a:close/>
              </a:path>
            </a:pathLst>
          </a:custGeom>
          <a:gradFill rotWithShape="0">
            <a:gsLst>
              <a:gs pos="0">
                <a:srgbClr val="9fa4b8"/>
              </a:gs>
              <a:gs pos="100000">
                <a:srgbClr val="2c37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32" name="任意多边形 49169"/>
          <p:cNvSpPr/>
          <p:nvPr/>
        </p:nvSpPr>
        <p:spPr>
          <a:xfrm rot="20539200">
            <a:off x="4800240" y="2895120"/>
            <a:ext cx="2905200" cy="1397160"/>
          </a:xfrm>
          <a:custGeom>
            <a:avLst/>
            <a:gdLst/>
            <a:ahLst/>
            <a:rect l="l" t="t" r="r" b="b"/>
            <a:pathLst>
              <a:path fill="none" w="19866" h="19523">
                <a:moveTo>
                  <a:pt x="19866" y="8479"/>
                </a:moveTo>
                <a:cubicBezTo>
                  <a:pt x="17795" y="13336"/>
                  <a:pt x="13997" y="17273"/>
                  <a:pt x="9249" y="19525"/>
                </a:cubicBezTo>
              </a:path>
              <a:path stroke="0" w="19866" h="19523">
                <a:moveTo>
                  <a:pt x="9242" y="19522"/>
                </a:moveTo>
                <a:cubicBezTo>
                  <a:pt x="9243" y="19634"/>
                  <a:pt x="9243" y="19747"/>
                  <a:pt x="9243" y="19860"/>
                </a:cubicBezTo>
                <a:cubicBezTo>
                  <a:pt x="9243" y="20113"/>
                  <a:pt x="9241" y="20363"/>
                  <a:pt x="9237" y="20606"/>
                </a:cubicBezTo>
                <a:lnTo>
                  <a:pt x="19866" y="847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33" name="任意多边形 49170"/>
          <p:cNvSpPr/>
          <p:nvPr/>
        </p:nvSpPr>
        <p:spPr>
          <a:xfrm rot="20601600">
            <a:off x="4933440" y="3187440"/>
            <a:ext cx="1359000" cy="1593720"/>
          </a:xfrm>
          <a:custGeom>
            <a:avLst/>
            <a:gdLst/>
            <a:ahLst/>
            <a:rect l="l" t="t" r="r" b="b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f8ed4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34" name="椭圆 49171"/>
          <p:cNvSpPr/>
          <p:nvPr/>
        </p:nvSpPr>
        <p:spPr>
          <a:xfrm rot="20601600">
            <a:off x="3154320" y="263016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19528b"/>
              </a:gs>
              <a:gs pos="50000">
                <a:srgbClr val="c7d5e3"/>
              </a:gs>
              <a:gs pos="100000">
                <a:srgbClr val="19528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35" name="椭圆 49172"/>
          <p:cNvSpPr/>
          <p:nvPr/>
        </p:nvSpPr>
        <p:spPr>
          <a:xfrm rot="20601600">
            <a:off x="3254400" y="2882880"/>
            <a:ext cx="25876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36" name="圆角矩形 49173"/>
          <p:cNvSpPr/>
          <p:nvPr/>
        </p:nvSpPr>
        <p:spPr>
          <a:xfrm>
            <a:off x="2362320" y="272412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37" name="圆角矩形 49174"/>
          <p:cNvSpPr/>
          <p:nvPr/>
        </p:nvSpPr>
        <p:spPr>
          <a:xfrm>
            <a:off x="4114800" y="188604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38" name="圆角矩形 49175"/>
          <p:cNvSpPr/>
          <p:nvPr/>
        </p:nvSpPr>
        <p:spPr>
          <a:xfrm>
            <a:off x="5715000" y="23432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39" name="圆角矩形 49176"/>
          <p:cNvSpPr/>
          <p:nvPr/>
        </p:nvSpPr>
        <p:spPr>
          <a:xfrm>
            <a:off x="5715000" y="3333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4</a:t>
            </a: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40" name="圆角矩形 49177"/>
          <p:cNvSpPr/>
          <p:nvPr/>
        </p:nvSpPr>
        <p:spPr>
          <a:xfrm>
            <a:off x="2209680" y="394344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6</a:t>
            </a: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41" name="圆角矩形 49178"/>
          <p:cNvSpPr/>
          <p:nvPr/>
        </p:nvSpPr>
        <p:spPr>
          <a:xfrm>
            <a:off x="3886200" y="41720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5</a:t>
            </a:r>
            <a:endParaRPr b="0" lang="en-US" sz="1800" spc="-1" strike="noStrike">
              <a:solidFill>
                <a:srgbClr val="a8babc"/>
              </a:solidFill>
              <a:latin typeface="Arial"/>
            </a:endParaRPr>
          </a:p>
        </p:txBody>
      </p:sp>
      <p:sp>
        <p:nvSpPr>
          <p:cNvPr id="242" name="页脚占位符 2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5:10Z</dcterms:modified>
  <cp:revision>3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