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160C-D14B-4C2D-A56D-6D73E90B8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B2B9-7E56-44F7-87AB-20880A51F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DAB5-9F3C-4978-BDCD-38C877DC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48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04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92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48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04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3A04-CE2C-44ED-B886-03116826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9722B-B6E5-484E-A9FF-DA7C9C65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1F8A-B6BE-4D25-AE69-3C0169C6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644E-1F73-489C-A0BC-15D45F9E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967C4-D541-4B65-A034-CB2E48B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8E6AB-0B4D-4FAA-BF0A-57D53619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91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6FB9-B4EB-4347-BD1B-237DD50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266A4-1333-4AFF-9F97-48CE2FBE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E971-9444-49CC-B098-BFDE8E37D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CD341-2937-4662-A271-EB7B343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11523-D0B1-47CF-8259-F946B57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0B954-5E77-455E-AF5E-96636EDF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D8627-25BA-4518-AF23-89E0BC3C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48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04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92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48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04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C0617-3338-493D-82C7-0B4477E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BED75-3B18-40CA-9988-6B36F894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1DA9D-3547-42C5-BEF6-14C0576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86D01-752A-4492-985B-39E2DD8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22D41-62B5-4536-9AFF-695CA3D8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7AD80-7424-4B85-80F1-8AA3DF9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C3BB-47D4-472C-80DC-8F469314B3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91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D01E4-C791-47D9-BC2B-B3A5E40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D846D-3721-424D-B419-9427E16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C169C-FF47-435B-8D6A-CE9674D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453FF-17A6-45C4-88CA-0AA51C8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7B357-27BF-4F57-8FB8-5FC2857B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2DF03-B926-4144-94D0-CB839E72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48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0480" y="155736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92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48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90480" y="4047480"/>
            <a:ext cx="26431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235F2-F42C-4DFA-B1A9-29FBC8AB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CB0-0A30-4E42-A2EC-D3E8FADCD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D45E-5D0B-4636-9923-C7C1C088A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913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A198-3578-46B5-95FA-F727D68D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F76F-07D5-44D3-BA9D-E6EAFDAEE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5520" y="404748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BF1E-63AB-4EFD-9612-5929E364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5520" y="1557360"/>
            <a:ext cx="400572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4047480"/>
            <a:ext cx="8209080" cy="22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4EAB-E9CB-421B-84B3-D4571599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Picture1"/>
          <p:cNvPicPr/>
          <p:nvPr/>
        </p:nvPicPr>
        <p:blipFill>
          <a:blip r:embed="rId2"/>
          <a:stretch/>
        </p:blipFill>
        <p:spPr>
          <a:xfrm>
            <a:off x="0" y="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 flipV="1">
            <a:off x="2082960" y="1053720"/>
            <a:ext cx="663552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68880" y="65336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9100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561-8D68-4386-8547-051F1E63594C}" type="slidenum">
              <a:rPr b="1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11040" y="6524640"/>
            <a:ext cx="8610840" cy="360"/>
            <a:chOff x="311040" y="6524640"/>
            <a:chExt cx="8610840" cy="360"/>
          </a:xfrm>
        </p:grpSpPr>
        <p:sp>
          <p:nvSpPr>
            <p:cNvPr id="7" name="直接连接符 1031"/>
            <p:cNvSpPr/>
            <p:nvPr/>
          </p:nvSpPr>
          <p:spPr>
            <a:xfrm>
              <a:off x="311040" y="6524640"/>
              <a:ext cx="8610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311040" y="6524640"/>
              <a:ext cx="861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椭圆 1032"/>
          <p:cNvSpPr/>
          <p:nvPr/>
        </p:nvSpPr>
        <p:spPr>
          <a:xfrm>
            <a:off x="8604360" y="520560"/>
            <a:ext cx="144360" cy="1429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椭圆 1033"/>
          <p:cNvSpPr/>
          <p:nvPr/>
        </p:nvSpPr>
        <p:spPr>
          <a:xfrm>
            <a:off x="8604360" y="809640"/>
            <a:ext cx="144360" cy="1429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B402-DF5E-4488-90B6-4B00E26597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4945-8A5D-4B6A-AAE2-DF52FA3353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049" descr="그림7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055"/>
          <p:cNvSpPr/>
          <p:nvPr/>
        </p:nvSpPr>
        <p:spPr>
          <a:xfrm>
            <a:off x="250920" y="26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9280" y="1557360"/>
            <a:ext cx="82090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SzPct val="9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F25-0567-4DCD-9477-1043AC5286B9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3080" y="407628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电脑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商务会议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免费下载</a:t>
            </a:r>
            <a:endParaRPr b="1" lang="en-US" sz="40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24000" y="4992480"/>
            <a:ext cx="640080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33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6FE-3CD5-49BE-9934-4AEB8071F9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59280" y="5116680"/>
            <a:ext cx="48974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cc"/>
                </a:solidFill>
                <a:latin typeface="Verdana"/>
                <a:ea typeface="굴림"/>
              </a:rPr>
              <a:t>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3314"/>
          <p:cNvSpPr txBox="1"/>
          <p:nvPr/>
        </p:nvSpPr>
        <p:spPr>
          <a:xfrm>
            <a:off x="2916360" y="4149720"/>
            <a:ext cx="55702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1847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99"/>
                  </a:gs>
                  <a:gs pos="100000">
                    <a:srgbClr val="001847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36" name="圆角矩形 5122"/>
          <p:cNvSpPr/>
          <p:nvPr/>
        </p:nvSpPr>
        <p:spPr>
          <a:xfrm>
            <a:off x="1835280" y="2176560"/>
            <a:ext cx="54734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5123"/>
          <p:cNvSpPr/>
          <p:nvPr/>
        </p:nvSpPr>
        <p:spPr>
          <a:xfrm>
            <a:off x="184932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.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5124"/>
          <p:cNvSpPr/>
          <p:nvPr/>
        </p:nvSpPr>
        <p:spPr>
          <a:xfrm>
            <a:off x="1835280" y="3668760"/>
            <a:ext cx="547344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. Challeng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5125"/>
          <p:cNvSpPr/>
          <p:nvPr/>
        </p:nvSpPr>
        <p:spPr>
          <a:xfrm>
            <a:off x="1835280" y="4402080"/>
            <a:ext cx="547344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879200"/>
            <a:ext cx="8042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 the </a:t>
            </a:r>
            <a:r>
              <a:rPr b="0" lang="en-US" sz="2400" spc="-1" strike="noStrike">
                <a:solidFill>
                  <a:srgbClr val="0054a8"/>
                </a:solidFill>
                <a:latin typeface="Arial"/>
                <a:ea typeface="굴림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menu, point to </a:t>
            </a:r>
            <a:r>
              <a:rPr b="0" lang="en-US" sz="2400" spc="-1" strike="noStrike">
                <a:solidFill>
                  <a:srgbClr val="0054a8"/>
                </a:solidFill>
                <a:latin typeface="Arial"/>
                <a:ea typeface="굴림"/>
              </a:rPr>
              <a:t>[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, and then click </a:t>
            </a:r>
            <a:r>
              <a:rPr b="0" lang="en-US" sz="2400" spc="-1" strike="noStrike">
                <a:solidFill>
                  <a:srgbClr val="0054a8"/>
                </a:solidFill>
                <a:latin typeface="Arial"/>
                <a:ea typeface="굴림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79400" y="2249640"/>
          <a:ext cx="7570800" cy="3182760"/>
        </p:xfrm>
        <a:graphic>
          <a:graphicData uri="http://schemas.openxmlformats.org/drawingml/2006/table">
            <a:tbl>
              <a:tblPr/>
              <a:tblGrid>
                <a:gridCol w="1514520"/>
                <a:gridCol w="1514520"/>
                <a:gridCol w="1512720"/>
                <a:gridCol w="1514520"/>
                <a:gridCol w="15145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74776"/>
                        </a:gs>
                        <a:gs pos="100000">
                          <a:srgbClr val="99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74776"/>
                        </a:gs>
                        <a:gs pos="100000">
                          <a:srgbClr val="99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74776"/>
                        </a:gs>
                        <a:gs pos="100000">
                          <a:srgbClr val="99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74776"/>
                        </a:gs>
                        <a:gs pos="100000">
                          <a:srgbClr val="99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74776"/>
                        </a:gs>
                        <a:gs pos="100000">
                          <a:srgbClr val="9999ff"/>
                        </a:gs>
                      </a:gsLst>
                      <a:lin ang="2700000"/>
                    </a:gra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c9ccd"/>
                        </a:gs>
                        <a:gs pos="100000">
                          <a:srgbClr val="0054a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cc4e2"/>
                        </a:gs>
                        <a:gs pos="100000">
                          <a:srgbClr val="0099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c89c4"/>
                        </a:gs>
                        <a:gs pos="100000">
                          <a:srgbClr val="00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3d3d3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46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8193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8194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50" name="椭圆 8196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8197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8198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3535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8199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8200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23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201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58" name="圆角矩形 9218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9219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415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220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9221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256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9222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6f9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9223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50508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224"/>
          <p:cNvSpPr/>
          <p:nvPr/>
        </p:nvSpPr>
        <p:spPr>
          <a:xfrm>
            <a:off x="1403280" y="38606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167" name="圆角矩形 10242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0243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0244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0245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0246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72" name="矩形 10247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组合 10248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74" name="椭圆 10249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10250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10251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0252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矩形 10253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10254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80" name="椭圆 10255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10256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0257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0258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矩形 10259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组合 10260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86" name="椭圆 10261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0262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0263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0264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矩形 10265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圆角矩形 10266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0267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0268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10269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pic>
        <p:nvPicPr>
          <p:cNvPr id="197" name="内容占位符 11266" descr=""/>
          <p:cNvPicPr/>
          <p:nvPr/>
        </p:nvPicPr>
        <p:blipFill>
          <a:blip r:embed="rId1"/>
          <a:stretch/>
        </p:blipFill>
        <p:spPr>
          <a:xfrm>
            <a:off x="1476360" y="1127160"/>
            <a:ext cx="6191280" cy="5213160"/>
          </a:xfrm>
          <a:prstGeom prst="rect">
            <a:avLst/>
          </a:prstGeom>
          <a:ln w="0">
            <a:noFill/>
          </a:ln>
        </p:spPr>
      </p:pic>
      <p:sp>
        <p:nvSpPr>
          <p:cNvPr id="198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4a8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0054a8"/>
              </a:solidFill>
              <a:latin typeface="Arial"/>
            </a:endParaRPr>
          </a:p>
        </p:txBody>
      </p:sp>
      <p:sp>
        <p:nvSpPr>
          <p:cNvPr id="200" name="椭圆 12290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2291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2292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2293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2294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2295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2296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2297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12298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2299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2300"/>
          <p:cNvGrpSpPr/>
          <p:nvPr/>
        </p:nvGrpSpPr>
        <p:grpSpPr>
          <a:xfrm>
            <a:off x="4163400" y="2660760"/>
            <a:ext cx="3251520" cy="2231280"/>
            <a:chOff x="4163400" y="2660760"/>
            <a:chExt cx="3251520" cy="2231280"/>
          </a:xfrm>
        </p:grpSpPr>
        <p:sp>
          <p:nvSpPr>
            <p:cNvPr id="211" name="任意多边形 12301"/>
            <p:cNvSpPr/>
            <p:nvPr/>
          </p:nvSpPr>
          <p:spPr>
            <a:xfrm rot="20712600">
              <a:off x="4276800" y="301572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2302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2303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任意多边形 12304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12305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2306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2307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50000">
                <a:srgbClr val="e6e6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2308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12309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12310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12311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2312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2313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2314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页脚占位符 1"/>
          <p:cNvSpPr/>
          <p:nvPr/>
        </p:nvSpPr>
        <p:spPr>
          <a:xfrm>
            <a:off x="6068880" y="65340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8:14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3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