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5EC7-00FA-45FF-8C5B-361E66115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8186-A3F0-4139-BFFB-CECBF692A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96D0-ABCF-40DB-A390-C825AF54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9288-008E-4012-ACA9-6375655AB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F663-1855-4161-8FA4-7B251276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016E-5EA4-479B-958F-973530639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249-5475-48E4-A946-8789A425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943-8427-4866-9FA7-C8402CA8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B99F3-DF7E-4DD0-A46D-EFD97632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30997-AD45-4008-908D-F8D85A57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F7F77-5CC4-48D4-B67E-BAD43B61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FC2AD-DCD5-4A34-8484-120FD76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B9D75-C958-4C69-BA16-90247160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DDB29-FE4C-4E19-AEF1-97B9FE29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84CED-7DF0-489D-8C7C-A445CEA1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56551-7666-4173-9585-C1E660A0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372A0-0266-40A9-9667-6EEF06AD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5C3D2-FE7E-4023-9B03-6DCCF12D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DB9-7C62-4719-98A5-D0836A87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7FB22-3645-4AD2-87BF-DE47B46D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E5145-E868-40E4-8943-B3D91E69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F2271-8513-46B9-9575-F0861B39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3994F-3287-4F70-A143-363F68B9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20042-28BF-41E3-B9E7-9E7B8005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96B27-1846-44F0-8DD4-8B75E880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CB32D-C7B3-45B4-8824-57B75EF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1FF60-7EB5-4232-8C64-CE02EFF9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2A5B0-62DC-45F7-913D-73D0A129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07F4D-C8BC-43A3-BB7D-23C4F5B9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560-6EFC-468C-9EC1-831EBA8C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28EAF-3BF5-4BC0-ADC8-4A47C1E7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0957E-5E89-45DC-8374-6B916AC7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3EEF6-4A60-4113-9BAD-D7A042C3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EBF58-AEFE-47BC-8E75-632B0CDC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9D677-5949-4F40-98DF-D9FFAFEB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ADDD7-2F75-416F-8421-4018DF5F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03973-4D68-4B24-A5AE-311F012D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C1F65-2307-4350-A8B7-F2D1EC48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40485-C902-4ABF-871D-13C8EA17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5FE6F-D108-468E-BE4C-08222DCB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C52B-BC76-4542-A236-CD7D3618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946DE-5758-4DED-B462-E33FDC02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1334F-A28D-4797-857E-FDC746C6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F2593-64D9-4054-B8BC-4B46E46E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A40AC-A237-4904-9B06-D365A835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A2564-32C9-47DA-AC96-43105ABA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BA7EE-0F1C-4643-AF6A-D35ECF37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EC639-23B6-438C-AFF8-49ADB080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92236-A3B5-4251-8075-DFCC8EFA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2EDE5-648D-4626-8A6E-30747892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1DF12-33FA-481B-AD1A-E8AB6986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E9CC-698F-4F67-9EBB-6DEDFE12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CA9B4-249F-4591-B050-BDBE0166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04A0E-B662-4FC4-A1C2-A0BFD7CF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D2F74-614B-4E58-A864-29F65627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5FD29-3A0A-4FBB-B00B-82E757F7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98C75-8CE5-49CD-AA00-B3143DEE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44287-89D2-4C21-A1D3-C7201BB3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D13BC-6B46-489D-94B3-A731BB59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F3724-1A37-4CF6-BC0C-76B62EB9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DB832-9BA6-4DD6-8562-5362363B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4F633-9990-4C81-8BCF-432BD65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FF89-74BD-4FDF-9EA0-9075FC84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39824-31F9-4713-9068-B1F9C49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4E8C6-C157-40E0-A3A0-C6585B9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DAB30-2625-4C20-9D78-445102D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82FCA-A170-407E-8CF3-9ADA689E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CF4A8-0A81-4942-9ED1-F7759996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17859-3DE1-4941-A048-4836CF87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8591C-9047-41C3-AF48-2575F227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4FB53-E6F0-4E3E-9B95-ABA22474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41FB4E-38FC-4C0F-A3A2-63EDD8F9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C0682-8849-42AD-98A2-ACD3440D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E43D-AA53-4875-A87D-E5C856FA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80698-AF4F-4827-A94D-4CAE5AE2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FE21B-0A58-4B47-8F7A-58AECF2E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DF4C3-A675-44BD-9643-4F5A1E64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61019-A0F4-4143-BC58-DD52D50A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67C70-2496-4ABE-9D5B-F962F141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23233-AADB-4A8D-BF8B-EEC9F23C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A6488-B26C-479C-860B-9E1C0883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48E9F-B158-4A54-8F13-8EF72A7B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C22D3-9D41-4B17-BE57-377135D6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2EF7-F097-444B-9101-8CC8285C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E7BE-2803-4BB5-88F5-76951358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5FFD-ADA2-44A7-A3E5-E6365CDC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09F-149A-4AD1-BBB3-B9C427C1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9147-6D7D-41F5-A224-923E82C3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5721-29DA-4A36-A9D3-77417BAE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ECF7-4BFB-4FF0-B909-6255736F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8AB4-B62D-4E47-ABB1-5974507F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D9E8-4244-48B6-BC0C-CC2FE4FA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378F-B2E5-415B-990A-2D4FC5CA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B8F5-64B1-43D2-880C-D502B945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38EB-E79E-46AB-8675-EA2D72F9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BBA1-E353-473C-88FD-3CE45DC0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675C-B337-477B-AD6C-0D65F08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A8E-3CDA-4632-A104-CA5BE5F6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549B0-FE0D-4A97-8CEC-A1B994FF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81ADF-F63F-404C-AD32-9CCFB1D9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04D0B-779C-408B-A98E-503E2448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38AE-ECBC-4B85-89A3-2ECB6523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CF36-4C30-4074-B792-038ACC60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3C6B-5BA0-4E75-9901-51CF8379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2E73-1AA6-4486-A5FE-5B50223E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1B31-E536-4F6E-B6CC-69C380D3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326E5-0708-497C-8292-7D76BA54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F464-C08E-401B-A1EC-AD23AE96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FFB-D711-4849-B9E0-627DA055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6610-9771-4DE7-87D1-A265334D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214E4-C212-4C41-810F-4A62FBEB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33247-A29A-472F-AC28-64C624B3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EBCE-8CFB-4D2C-8372-7DE6FB3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F093-792D-4AF1-B933-998D7CCD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12AE6-BFE7-4687-B11E-642C3374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371D-7AE7-4C32-B1BB-2FD22FEF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CD1C5-5DEC-47E6-8961-F427730D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15D77-BEED-4544-A347-1A4C1EFC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650C2-FDF3-41CA-AB63-6B3555C9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ED7-921F-42CB-84BA-98DCBEAC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691AE-5434-4274-BCA8-001267B3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4F2A5-DCDA-45E3-B28B-4337604E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F1A9A-4CE4-458C-88F8-D26BC042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0DA4E-8827-470D-9FC9-B33C859E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7023-DB92-4451-B380-4020D534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13848-3B02-4FA1-A0F5-D457BEA1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F9253-4C2E-4F2E-9526-7BD57FAA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2801-70EB-472C-9668-0E90CC79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013C2-D280-4C66-B192-8E270278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7D892-5EED-4E11-9404-CC2BAAD5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6BC-B9B1-4186-8E5B-05323EB0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16D5-8764-43FC-B909-5C792027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5B2B7-D820-420E-8AFE-C8793792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E4AAD-EFA6-46F8-89F4-38CB4EC0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D513C-F691-4D35-BACA-8DABA987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6AB96-EC9A-4433-BD1C-5BF55790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FB823-1B9B-4FC6-9649-9A41BE3F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2C3CA-A096-45E5-97AA-88A26AC8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76C2F-12B4-4A5F-9E2C-C068C56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65DAF-1F3D-4E3F-A5AF-0B050B1B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4E535-D41B-43DE-B401-5CBF83AD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D58-E27F-4CC6-95F4-1377EAA6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55DB2-5B02-45CB-9FA7-63C23400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F9E7A-B831-4650-8DD6-75E74449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A3C9C-19D5-4E8D-9E34-98554D45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57340-10FC-42B1-B610-2B132B8B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9307-C3CE-45E1-A5DE-B999D018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22AE2-9674-46FB-A277-74EDC420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8DF63-F7AA-40A6-9A9E-745FE37D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674B9-EDED-45F9-9349-03637CAA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6C2AA-1521-41E4-8475-71DE2403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5FFE9-0E1A-4F2F-9007-65F5CC04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F9C-0F1E-4F15-9A26-1E8435A8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022D5-E843-4AD6-BE7C-30DA570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CCC9-2382-49ED-A575-6088F2E0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63A35-C28A-484B-9372-9D22EEB1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0C17C-F341-4D2E-8557-0893E24C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A35D6-1EC7-4AD2-87C7-C549B8ED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937A5-83FB-49EF-A653-12D56978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B275F-1EE9-4B05-A413-8A1124B2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5A710-D60D-4A84-A256-4A856A40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C762D-7E29-4F97-A7E5-59C237D4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BFCC1-9A05-48C9-B8D7-6762635B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967-3588-48F4-9C3F-3A0EAFD3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49E7D-1076-4B26-8718-20BD7C9A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95202-E03E-4A5C-BF5D-9DE32995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1606B-BF56-4753-81BE-9E080D0C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77715-6565-454A-A74D-8BEADF93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2AF95-0E63-4A13-8AFC-E041B242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17EAB-9113-491A-99B8-CBBAEF2B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68ED-B0C5-4727-89CA-2BDA45EB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8BC6-61CD-4620-8FE7-609D2BA8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82095-8817-4345-978C-3DCAF3DA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7940B-9018-4A5C-A5C4-A5E5844C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7F22-5D62-4D06-8DB2-B18294F4C3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080F-028B-46E0-AE99-18C792BD09BB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0638-15DB-4842-BA54-D7DB322452C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93FD-7F8C-4227-A0A9-5A2F7915C922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615E-739D-439C-8959-9DDBEB3DE27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D6A8-C4E6-4DD2-BC91-7F48F7FFA9A1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4CD2-4E63-4E4E-8962-B96D4B886D8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F497-9569-4749-99FD-1FC3F048DF88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2CB1-0B8A-494B-BD40-FB812F62CC3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9D03-9B85-4392-8B8A-6744D68823CE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DC14-03D1-4E92-897F-F8048AA2A19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6C80-9848-49CF-99B7-85EAD3BF42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5B9E-FF83-4BE6-8BAF-D02BEDF55E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5A16-3131-4B6F-932B-7A0D0DA47A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D938-11E7-4154-A8EF-BCB9C6B98427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D9A5-C481-4173-851B-C7D798B7A15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D985-65CE-46D3-98AC-7A4C97CD501E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4579-D1C9-4179-B075-F4A0D2FE584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DE0D-C22A-4123-8EAE-BD06061E8BFF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4EE6-236D-4E19-ACDC-5C18F8CF82E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824A-78BA-4B81-AEE8-BDC9B87B2373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A568-5130-4F7E-B33B-24849573A14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6D37-AE85-4366-9340-EEA2C58F4041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9AF8-54E4-4C7E-A3CD-7218ED56DAF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5066-EF2E-4AC9-8E90-DFC6FDB3185A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4C84-60F2-4E1B-A82E-21709D3BE9F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703dff"/>
                </a:solidFill>
                <a:latin typeface="Comic Sans MS"/>
              </a:rPr>
              <a:t>倒数的认识</a:t>
            </a:r>
            <a:endParaRPr b="0" lang="en-US" sz="1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1" name="Object 4"/>
              <p:cNvSpPr txBox="1"/>
              <p:nvPr/>
            </p:nvSpPr>
            <p:spPr>
              <a:xfrm>
                <a:off x="971640" y="2492280"/>
                <a:ext cx="1676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6"/>
              <p:cNvSpPr txBox="1"/>
              <p:nvPr/>
            </p:nvSpPr>
            <p:spPr>
              <a:xfrm>
                <a:off x="3513240" y="2492280"/>
                <a:ext cx="2117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7"/>
              <p:cNvSpPr txBox="1"/>
              <p:nvPr/>
            </p:nvSpPr>
            <p:spPr>
              <a:xfrm>
                <a:off x="6372360" y="2492280"/>
                <a:ext cx="15429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Text Box 8"/>
          <p:cNvSpPr/>
          <p:nvPr/>
        </p:nvSpPr>
        <p:spPr>
          <a:xfrm>
            <a:off x="2556000" y="27496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5435640" y="270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781200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723960" y="1989000"/>
            <a:ext cx="7696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乘积是</a:t>
            </a:r>
            <a:r>
              <a:rPr b="1" lang="en-US" sz="6600" spc="-1" strike="noStrike">
                <a:solidFill>
                  <a:srgbClr val="703dff"/>
                </a:solidFill>
                <a:latin typeface="宋体"/>
              </a:rPr>
              <a:t>1</a:t>
            </a: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的两个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互为倒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1065600" y="198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乘积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219120" y="19890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1065600" y="31989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互为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12"/>
          <p:cNvSpPr/>
          <p:nvPr/>
        </p:nvSpPr>
        <p:spPr>
          <a:xfrm>
            <a:off x="250920" y="620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116000" y="85680"/>
                <a:ext cx="432108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写出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、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的倒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280" y="345960"/>
            <a:ext cx="9352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6"/>
              <p:cNvSpPr txBox="1"/>
              <p:nvPr/>
            </p:nvSpPr>
            <p:spPr>
              <a:xfrm>
                <a:off x="611280" y="1735200"/>
                <a:ext cx="25192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的倒数是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7"/>
              <p:cNvSpPr txBox="1"/>
              <p:nvPr/>
            </p:nvSpPr>
            <p:spPr>
              <a:xfrm>
                <a:off x="4068720" y="1735200"/>
                <a:ext cx="2232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想：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</m:d>
                      </m:den>
                    </m:f>
                    <m:r>
                      <m:t xml:space="preserve">＝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8"/>
              <p:cNvSpPr txBox="1"/>
              <p:nvPr/>
            </p:nvSpPr>
            <p:spPr>
              <a:xfrm>
                <a:off x="5364000" y="1692360"/>
                <a:ext cx="41148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9"/>
              <p:cNvSpPr txBox="1"/>
              <p:nvPr/>
            </p:nvSpPr>
            <p:spPr>
              <a:xfrm>
                <a:off x="539640" y="2959200"/>
                <a:ext cx="2519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的倒数是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10"/>
              <p:cNvSpPr txBox="1"/>
              <p:nvPr/>
            </p:nvSpPr>
            <p:spPr>
              <a:xfrm>
                <a:off x="4068720" y="2959200"/>
                <a:ext cx="2232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想：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</m:d>
                      </m:den>
                    </m:f>
                    <m:r>
                      <m:t xml:space="preserve">＝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11"/>
              <p:cNvSpPr txBox="1"/>
              <p:nvPr/>
            </p:nvSpPr>
            <p:spPr>
              <a:xfrm>
                <a:off x="5380200" y="2930400"/>
                <a:ext cx="3776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Text Box 12"/>
          <p:cNvSpPr/>
          <p:nvPr/>
        </p:nvSpPr>
        <p:spPr>
          <a:xfrm>
            <a:off x="2050920" y="41148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求一个数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(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除外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的倒数，只要把这个数的分子、分母调换位置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Object 5"/>
          <p:cNvGraphicFramePr/>
          <p:nvPr/>
        </p:nvGraphicFramePr>
        <p:xfrm>
          <a:off x="316080" y="698400"/>
          <a:ext cx="7448400" cy="586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698400"/>
                    <a:ext cx="744840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6:48:02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8T05:37:39Z</dcterms:modified>
  <cp:revision>9</cp:revision>
  <dc:subject>第一PPT模板网-WWW.1PPT.COM</dc:subject>
  <dc:title>第一PPT模板网-WWW.1PPT.COM</dc:title>
</cp:coreProperties>
</file>