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5.gif" ContentType="image/gif"/>
  <Override PartName="/ppt/media/image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13.gif" ContentType="image/gif"/>
  <Override PartName="/ppt/media/image6.jpeg" ContentType="image/jpeg"/>
  <Override PartName="/ppt/media/image11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E9F-0A7B-458F-853F-71DF3C1C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32D-847F-4EB2-9335-99150A03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CE7-2FAB-4D13-95EB-59D086CC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8288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420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8288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1420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710-F899-42BB-835A-2C030016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5939-0125-455A-B603-740CB2EA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5A01-557E-4193-BDFC-CAB16824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FA53-3285-4A72-BA87-77742A65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1BE8-F5E7-4FA8-AD1D-570851BD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4847-37AC-4F71-A01C-D20DDF7E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960" y="7632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93B9-AD72-4251-A0B5-BAE80B23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03BA-8F9E-4F00-91F0-B01FF1C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F94-2AD8-44D3-A2F3-4847DA01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FB83-32EA-4290-A833-52AE6552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ED96-7A6D-4A56-A69B-6B43C0CF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3DAD-44D5-4111-8B58-B035C109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2A84-1BF5-4657-8FB7-5C58F55E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8288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1420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192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8288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1420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AA5A-BC45-4439-99EA-EBF1E1F2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EEEBC-ED58-4499-AA63-4F6EF344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CB201-A172-44B8-85D0-11E39547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4D33-5EC7-48BC-A920-FE9A5332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7F4C-6A6F-4B37-981D-936BD7F5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B327-E940-49C8-AAAF-ECB60156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742-16D9-4F44-8773-518FA3B9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5960" y="7632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16C3-1971-4323-9C24-B3180026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FBC8-B848-4F6D-AA92-B84C4D7F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F900-6013-4A1A-8DDB-1BB91246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898D-6AC5-48B5-A1C8-AAF8848C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B76E-FC41-4B82-8E4F-00195753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0B83B-0279-4CEF-A5D1-98526EB2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88288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1420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192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88288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1420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93AA-7450-4B75-BF74-9A6B0637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C38-C2B3-4B68-B445-FA041E30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03E-65BB-49F2-907A-3BDC45CA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632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9B3-E6F6-465E-929F-D1E7B7B4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2A4-461A-496E-B602-74C14C81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288-FBF9-47F9-809F-BD0BC941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39D-0538-4420-9132-25883678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hummingbird_with_flower_hg_clr"/>
          <p:cNvPicPr/>
          <p:nvPr/>
        </p:nvPicPr>
        <p:blipFill>
          <a:blip r:embed="rId3"/>
          <a:stretch/>
        </p:blipFill>
        <p:spPr>
          <a:xfrm flipH="1">
            <a:off x="6858000" y="2438280"/>
            <a:ext cx="2619360" cy="4496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30856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SzPct val="2644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SzPct val="2203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SzPct val="2203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SzPct val="2203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SzPct val="2203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SzPct val="22035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CAAF-6D2A-4F82-9450-97A52985374D}" type="slidenum">
              <a:rPr b="0" lang="en-US" sz="10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3BBB-BFE0-4E15-AE48-61E1DFA16A4B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4874-1171-40A0-9460-4530DE47EE4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30856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SzPct val="2644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SzPct val="2203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SzPct val="2203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SzPct val="2203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SzPct val="2203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SzPct val="2203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BDD8-2330-4E10-B58D-E5268EE222EA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5.gif"/><Relationship Id="rId8" Type="http://schemas.openxmlformats.org/officeDocument/2006/relationships/image" Target="../media/image14.png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7916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ras Bold ITC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55623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31" descr="hummingbirds_hovering_hg_clr"/>
          <p:cNvPicPr/>
          <p:nvPr/>
        </p:nvPicPr>
        <p:blipFill>
          <a:blip r:embed="rId1"/>
          <a:stretch/>
        </p:blipFill>
        <p:spPr>
          <a:xfrm>
            <a:off x="2362320" y="1482840"/>
            <a:ext cx="4495680" cy="337824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466560" y="981000"/>
            <a:ext cx="816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动态卡通鸟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47307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546336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336699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Black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9AD4-00DE-4ABC-A766-09A4D4C6D8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Bold ITC"/>
                <a:ea typeface="宋体"/>
              </a:rPr>
              <a:t>Elements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0" y="5463360"/>
            <a:ext cx="914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pic>
        <p:nvPicPr>
          <p:cNvPr id="142" name="Picture 384" descr="hummingbirds_sld"/>
          <p:cNvPicPr/>
          <p:nvPr/>
        </p:nvPicPr>
        <p:blipFill>
          <a:blip r:embed="rId1"/>
          <a:stretch/>
        </p:blipFill>
        <p:spPr>
          <a:xfrm>
            <a:off x="2379600" y="135000"/>
            <a:ext cx="2157480" cy="1617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5" descr="hummingbirds_trs"/>
          <p:cNvPicPr/>
          <p:nvPr/>
        </p:nvPicPr>
        <p:blipFill>
          <a:blip r:embed="rId2"/>
          <a:stretch/>
        </p:blipFill>
        <p:spPr>
          <a:xfrm>
            <a:off x="4606920" y="135000"/>
            <a:ext cx="2157480" cy="1617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86" descr="hummingbirds_prt"/>
          <p:cNvPicPr/>
          <p:nvPr/>
        </p:nvPicPr>
        <p:blipFill>
          <a:blip r:embed="rId3"/>
          <a:stretch/>
        </p:blipFill>
        <p:spPr>
          <a:xfrm>
            <a:off x="6834240" y="135000"/>
            <a:ext cx="2157480" cy="161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7" descr="hummingbirds_qx"/>
          <p:cNvPicPr/>
          <p:nvPr/>
        </p:nvPicPr>
        <p:blipFill>
          <a:blip r:embed="rId4"/>
          <a:stretch/>
        </p:blipFill>
        <p:spPr>
          <a:xfrm>
            <a:off x="152280" y="135000"/>
            <a:ext cx="2157480" cy="1617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89" descr="hummingbird_investigating_hg_clr"/>
          <p:cNvPicPr/>
          <p:nvPr/>
        </p:nvPicPr>
        <p:blipFill>
          <a:blip r:embed="rId5"/>
          <a:stretch/>
        </p:blipFill>
        <p:spPr>
          <a:xfrm>
            <a:off x="152280" y="1905120"/>
            <a:ext cx="2514600" cy="2206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90" descr="hummingbird_with_flower_hg_clr"/>
          <p:cNvPicPr/>
          <p:nvPr/>
        </p:nvPicPr>
        <p:blipFill>
          <a:blip r:embed="rId6"/>
          <a:stretch/>
        </p:blipFill>
        <p:spPr>
          <a:xfrm>
            <a:off x="2819520" y="1905120"/>
            <a:ext cx="173196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91" descr="hummingbirds_hovering_hg_clr"/>
          <p:cNvPicPr/>
          <p:nvPr/>
        </p:nvPicPr>
        <p:blipFill>
          <a:blip r:embed="rId7"/>
          <a:stretch/>
        </p:blipFill>
        <p:spPr>
          <a:xfrm>
            <a:off x="4648320" y="1828800"/>
            <a:ext cx="2133360" cy="160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92" descr="hummingbird"/>
          <p:cNvPicPr/>
          <p:nvPr/>
        </p:nvPicPr>
        <p:blipFill>
          <a:blip r:embed="rId8"/>
          <a:stretch/>
        </p:blipFill>
        <p:spPr>
          <a:xfrm>
            <a:off x="5562720" y="3809880"/>
            <a:ext cx="3276360" cy="276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93" descr="hummingbird_hovering_hg_clr"/>
          <p:cNvPicPr/>
          <p:nvPr/>
        </p:nvPicPr>
        <p:blipFill>
          <a:blip r:embed="rId9"/>
          <a:stretch/>
        </p:blipFill>
        <p:spPr>
          <a:xfrm>
            <a:off x="6858000" y="19051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6:05:2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11Z</dcterms:modified>
  <cp:revision>5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