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54F-111C-450A-8AD0-2CD7C253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FC5-9C9C-4BCF-B58C-AFBDAA12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BED-7F0D-4C26-ADD1-48BCD640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811-68D4-4805-9C1E-08381763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06D3-EDFE-4D0A-BE93-DC1E2C97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0971-5B36-4E8B-B56E-0977712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9633-F643-48F0-83C8-C68CF4F5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8CC-4BD8-48C4-9DB7-7F342E7F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750B-5AA9-4516-8CA1-D4C4B1C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1D8E-D2B6-4F1E-AF75-4F8BC4D0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2DCE-7CA7-49D1-BEA5-A37A84D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4F5-3B47-4659-9B36-E750CF50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7976-8676-45A1-8B12-66AAEDC4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947-AC9C-476E-AB90-6E543C1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963-3358-4FF2-A67B-4FB09FF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EE54-62F8-4D53-9235-B8B79E69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BA57-03D2-4E4D-A59E-CA6142A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ED9E-8EC3-44A3-B727-8338ABA6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9051-3930-485F-9E07-05C5811D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4EE3-79B3-4A72-9B4A-1792651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18E6-9FCC-4220-9713-5614B132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F283-DD4D-4978-887C-40C3838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E4C-4AED-435B-9B66-E7CDDE3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100B-C103-4309-9449-ACBDF609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20B2-48EC-4535-893B-A04BB12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490A-6703-4069-B5EE-C9FCEF3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8219-9C12-466B-AE8F-1F5A0AA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BB21-0079-4BE0-B161-9FF186F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21EB-4A83-49C5-96EA-0F196020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CEC1-AA3D-47E3-B744-F38FE0FE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114-1E5D-46BE-A275-4B6A5644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07A-CA33-4631-86D0-6E97612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5C6-F2D7-47E2-B6E4-EB7CDE25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CB7-F910-4DE5-B511-2802AB7E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EB6-E316-4E54-9604-F0607BB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35B-A680-42C7-B96A-97570AAC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9EF6-C268-4396-8A00-824C00FD3C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B4C2-EF75-4016-B1C7-6376412C89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A135-7682-4D59-A396-8F76065E75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ED5D-127D-4DCC-BB8D-18C7D4610D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  <a:ea typeface="宋体"/>
              </a:rPr>
              <a:t>DIGITAL RADIANC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31237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宋体"/>
              </a:rPr>
              <a:t>YOUR SUBTITLE GOES 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687320" y="105264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电子企业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A10-BD5F-4DFB-8E1F-8E74DA782A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  <a:ea typeface="宋体"/>
              </a:rPr>
              <a:t>TRANSITIONAL PAG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2:08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