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6922E-EF02-46DF-BFDE-42DED954A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49988-DE05-4103-9BAB-B6C3B273A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BE295-CF8F-4B97-B721-1AC591676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2B43E-2854-4D3A-8944-42683E791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88A39-D573-4146-8ACF-2BB3505DA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D512C-26E4-4B82-B20D-628A071C7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71D62-9914-4C4D-858E-C963B8DA2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370ED-7CA4-457C-B3DB-7C87BE7D7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A3FFA-0550-4910-9976-C868D6DFB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4BB24-3454-46EE-9AB5-ED7581857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BEFD6-DA20-495D-BDB3-E9E73F7F7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3E4F-49E2-46D1-A83D-F53F051F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78ED8-CA7E-4DFB-92E9-DB0F78954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771EE-D77A-4E76-96C9-8CBB268CB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8766F-88D3-473B-9284-ED11C1509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21056-4EB6-4CB5-85CB-40F290FD9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99A18-CAC9-414E-A909-3EC471A78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AF2EF-3846-4D52-8FC6-85FFB0A02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54C2-6FCB-4169-9053-D4E908CD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AE2B-61C9-455B-BC9C-AFC1FAA8B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23547-0286-4CFE-A828-751E66574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6D87-40AB-4EF5-A71D-310D7AA1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059EB-977A-413C-A5DD-A73EF1C9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6BFF-AB78-487A-B6AF-52FC10ED5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2E92-3818-4800-8CEF-93069366AEC5}"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2BAE-10E8-4287-8475-3B9BDC7235AC}"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电子商务中的财务与会计》</a:t>
            </a:r>
            <a:br>
              <a:rPr sz="3600"/>
            </a:br>
            <a:r>
              <a:rPr b="0" lang="zh-CN" sz="3600" spc="-1" strike="noStrike">
                <a:solidFill>
                  <a:srgbClr val="ffcc00"/>
                </a:solidFill>
                <a:latin typeface="Times New Roman"/>
              </a:rPr>
              <a:t>课程教学探讨</a:t>
            </a:r>
            <a:endParaRPr b="0" lang="en-US" sz="36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XXX</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电子商务环境中会计业面临的挑战和机会</a:t>
            </a:r>
            <a:endParaRPr b="0" lang="en-US" sz="36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会计职业新的业务机会</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对会计职业的挑战</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案例分析</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电子商务对会计和财务的影响</a:t>
            </a:r>
            <a:endParaRPr b="0" lang="en-US" sz="36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在传统的财务概念中，资本是一项非常重要的概念，利润的获得主要是通过对资本的有效利用，因此，资本利润率、总资产利润率是及其重要的指标。</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在电子商务环境中，利润的获得将更多地依赖技术的先进性、对信息的占有，而不是依赖资本，衡量利润的多少的标准将需要相应的调整。</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imes New Roman"/>
              </a:rPr>
              <a:t>网络财务的特点</a:t>
            </a:r>
            <a:endParaRPr b="0" lang="en-US" sz="36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空间上，实现了远程处理、协同业务，使财务管理集中化远程处理</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时间上，实现了会计核算动态化、实时化，使得财务管理从静态走向动态</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效率上，网络财务使企业财务工作的效率大大提高</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
          <p:cNvSpPr/>
          <p:nvPr/>
        </p:nvSpPr>
        <p:spPr>
          <a:xfrm>
            <a:off x="457200" y="457200"/>
            <a:ext cx="8458200" cy="513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网络财务的内涵</a:t>
            </a:r>
            <a:endParaRPr b="0" lang="en-US" sz="3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我们应从以下几个方面理解“网络财务”的内涵：</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r>
              <a:rPr b="0" lang="zh-CN" sz="2800" spc="-1" strike="noStrike">
                <a:solidFill>
                  <a:srgbClr val="ffffcc"/>
                </a:solidFill>
                <a:latin typeface="Times New Roman"/>
              </a:rPr>
              <a:t>1</a:t>
            </a:r>
            <a:r>
              <a:rPr b="0" lang="zh-CN" sz="2800" spc="-1" strike="noStrike">
                <a:solidFill>
                  <a:srgbClr val="ffffcc"/>
                </a:solidFill>
                <a:latin typeface="Times New Roman"/>
              </a:rPr>
              <a:t>）它所指的“网络”概念既非企业传统的自成体系的局域网或广域网，也非单纯的因特网</a:t>
            </a:r>
            <a:r>
              <a:rPr b="0" lang="zh-CN" sz="2800" spc="-1" strike="noStrike">
                <a:solidFill>
                  <a:srgbClr val="ffffcc"/>
                </a:solidFill>
                <a:latin typeface="Times New Roman"/>
              </a:rPr>
              <a:t>Internet</a:t>
            </a:r>
            <a:r>
              <a:rPr b="0" lang="zh-CN" sz="2800" spc="-1" strike="noStrike">
                <a:solidFill>
                  <a:srgbClr val="ffffcc"/>
                </a:solidFill>
                <a:latin typeface="Times New Roman"/>
              </a:rPr>
              <a:t>，而是</a:t>
            </a:r>
            <a:r>
              <a:rPr b="0" lang="zh-CN" sz="2800" spc="-1" strike="noStrike">
                <a:solidFill>
                  <a:srgbClr val="ffffcc"/>
                </a:solidFill>
                <a:latin typeface="Times New Roman"/>
              </a:rPr>
              <a:t>Internet/Intranet</a:t>
            </a:r>
            <a:r>
              <a:rPr b="0" lang="zh-CN" sz="2800" spc="-1" strike="noStrike">
                <a:solidFill>
                  <a:srgbClr val="ffffcc"/>
                </a:solidFill>
                <a:latin typeface="Times New Roman"/>
              </a:rPr>
              <a:t>相互协同形成的开放式网络；</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r>
              <a:rPr b="0" lang="zh-CN" sz="2800" spc="-1" strike="noStrike">
                <a:solidFill>
                  <a:srgbClr val="ffffcc"/>
                </a:solidFill>
                <a:latin typeface="Times New Roman"/>
              </a:rPr>
              <a:t>2</a:t>
            </a:r>
            <a:r>
              <a:rPr b="0" lang="zh-CN" sz="2800" spc="-1" strike="noStrike">
                <a:solidFill>
                  <a:srgbClr val="ffffcc"/>
                </a:solidFill>
                <a:latin typeface="Times New Roman"/>
              </a:rPr>
              <a:t>）“网络财务”并非单纯的财务系统，而是以财务管理为核心、业务管理与财务管理协同的综合系统；</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r>
              <a:rPr b="0" lang="zh-CN" sz="2800" spc="-1" strike="noStrike">
                <a:solidFill>
                  <a:srgbClr val="ffffcc"/>
                </a:solidFill>
                <a:latin typeface="Times New Roman"/>
              </a:rPr>
              <a:t>3</a:t>
            </a:r>
            <a:r>
              <a:rPr b="0" lang="zh-CN" sz="2800" spc="-1" strike="noStrike">
                <a:solidFill>
                  <a:srgbClr val="ffffcc"/>
                </a:solidFill>
                <a:latin typeface="Times New Roman"/>
              </a:rPr>
              <a:t>）“网络财务”是企业级的财务应用；</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r>
              <a:rPr b="0" lang="zh-CN" sz="2800" spc="-1" strike="noStrike">
                <a:solidFill>
                  <a:srgbClr val="ffffcc"/>
                </a:solidFill>
                <a:latin typeface="Times New Roman"/>
              </a:rPr>
              <a:t>4</a:t>
            </a:r>
            <a:r>
              <a:rPr b="0" lang="zh-CN" sz="2800" spc="-1" strike="noStrike">
                <a:solidFill>
                  <a:srgbClr val="ffffcc"/>
                </a:solidFill>
                <a:latin typeface="Times New Roman"/>
              </a:rPr>
              <a:t>）“网络财务”应完全支持电子商务；</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r>
              <a:rPr b="0" lang="zh-CN" sz="2800" spc="-1" strike="noStrike">
                <a:solidFill>
                  <a:srgbClr val="ffffcc"/>
                </a:solidFill>
                <a:latin typeface="Times New Roman"/>
              </a:rPr>
              <a:t>5</a:t>
            </a:r>
            <a:r>
              <a:rPr b="0" lang="zh-CN" sz="2800" spc="-1" strike="noStrike">
                <a:solidFill>
                  <a:srgbClr val="ffffcc"/>
                </a:solidFill>
                <a:latin typeface="Times New Roman"/>
              </a:rPr>
              <a:t>）“网络财务”的各项功能基于管理，而非核算。</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
          <p:cNvSpPr/>
          <p:nvPr/>
        </p:nvSpPr>
        <p:spPr>
          <a:xfrm>
            <a:off x="228600" y="304920"/>
            <a:ext cx="8610480" cy="2044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空间</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在</a:t>
            </a:r>
            <a:r>
              <a:rPr b="0" lang="zh-CN" sz="2400" spc="-1" strike="noStrike">
                <a:solidFill>
                  <a:srgbClr val="ffffcc"/>
                </a:solidFill>
                <a:latin typeface="Times New Roman"/>
              </a:rPr>
              <a:t>Internet</a:t>
            </a:r>
            <a:r>
              <a:rPr b="0" lang="zh-CN" sz="2400" spc="-1" strike="noStrike">
                <a:solidFill>
                  <a:srgbClr val="ffffcc"/>
                </a:solidFill>
                <a:latin typeface="Times New Roman"/>
              </a:rPr>
              <a:t>普及之前企业对异地机构的财务管理由于受传统方式的空间限制，管理的技术难度和成本都很高。网络财务系统突破了这一空间局限，使物理距离变成鼠标距离，使管理能力能够在网上延伸到全球任何一个节点。众多的远程处理功能得以实现，例如：远程报表、远程报帐、远程查帐、远程审计等，强化了主管单位对下属分支机构的财务监控。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协同业务。互联网的发展与普及，使得财务软件从部门级应用向企业级应用强化，也使得财务信息和其他业务信息相互连接，彼此共享，从而实现了财务信息和业务信息的协同。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3</a:t>
            </a:r>
            <a:r>
              <a:rPr b="0" lang="zh-CN" sz="2400" spc="-1" strike="noStrike">
                <a:solidFill>
                  <a:srgbClr val="ffffcc"/>
                </a:solidFill>
                <a:latin typeface="Times New Roman"/>
              </a:rPr>
              <a:t>、财务管理集中化。网络财务的远程处理和协同业务能力使得企业财务管理向集中化管理跨进。网络财务可将每个分支机构变成一个报帐单位，而所有的凭证、帐表生成工作都可集中在集团总部进行，这不仅实现了数据处理集中化，降低了会计数据处理成本，而且完全可以整合整个企业的财务资源，提高企业凝聚力和竞争力。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
          <p:cNvSpPr/>
          <p:nvPr/>
        </p:nvSpPr>
        <p:spPr>
          <a:xfrm>
            <a:off x="304920" y="380880"/>
            <a:ext cx="8534160" cy="2398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时间</a:t>
            </a:r>
            <a:endParaRPr b="0" lang="en-US" sz="3200" spc="-1" strike="noStrike">
              <a:solidFill>
                <a:srgbClr val="ffffcc"/>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如果说桌面财务在使用</a:t>
            </a:r>
            <a:r>
              <a:rPr b="0" lang="zh-CN" sz="2800" spc="-1" strike="noStrike">
                <a:solidFill>
                  <a:srgbClr val="ffffcc"/>
                </a:solidFill>
                <a:latin typeface="Times New Roman"/>
              </a:rPr>
              <a:t>PC</a:t>
            </a:r>
            <a:r>
              <a:rPr b="0" lang="zh-CN" sz="2800" spc="-1" strike="noStrike">
                <a:solidFill>
                  <a:srgbClr val="ffffcc"/>
                </a:solidFill>
                <a:latin typeface="Times New Roman"/>
              </a:rPr>
              <a:t>机后已经大大提高了处理速度，并解决了工作量的问题，然而却仍然没有改变手工状态下，财务处理远远落后于实际业务发生时间的情形，那么网络财务在此基础上显著突破处理活动与业务活动基本同步与速度问题。网络财务下的会计核算及从事后的静态核算达到事中的动态核算，能够便捷地产生各种反映企业经营和资金状况的动态财务报告，从而极大增强了财务处理活动的及时功能，提高了会计的价值。</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
          <p:cNvSpPr/>
          <p:nvPr/>
        </p:nvSpPr>
        <p:spPr>
          <a:xfrm>
            <a:off x="380880" y="228600"/>
            <a:ext cx="8382240" cy="2044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效率</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网络财务时空上对财务工作的改变，无疑极大地提高了财务工作的水平和效率。同时网络财务还支持结算支付电子化、财务工作方式网络化、财务工作部门扁平化，这些也都进一步促进了财务工作效率的提高。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结算支付电子化。在网络财务下，会计介质进一步发生变化，不仅是帐表，更多的介质将会电子化，会出现各种电子单据（如多种发票，结算单据）。另外，在网络财务下，以货币电子化为基础的网上支付、网上结算也将尽快得以全面实现。电子单据、电子货币使资金周转速度加快，资金成本降低，从而提高了结算支付效率。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财务工作方式网络化。在网络财务下，财务人员的工作方式将实现在线办公、分散办公、移动办公、在线学习等。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3</a:t>
            </a:r>
            <a:r>
              <a:rPr b="0" lang="zh-CN" sz="2400" spc="-1" strike="noStrike">
                <a:solidFill>
                  <a:srgbClr val="ffffcc"/>
                </a:solidFill>
                <a:latin typeface="Times New Roman"/>
              </a:rPr>
              <a:t>、财务部门扁平化。由于网络财务中，会计核算工作被计算机所代替，并且协同业务的财务管理集中化，使财务的职能扩大，财务部门内部人员的分工发生巨大变化，财务部门组织结构将趋于扁平化。</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税收和电子商务</a:t>
            </a:r>
            <a:endParaRPr b="0" lang="en-US" sz="36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ISP</a:t>
            </a:r>
            <a:r>
              <a:rPr b="0" lang="zh-CN" sz="2800" spc="-1" strike="noStrike">
                <a:solidFill>
                  <a:srgbClr val="ffffcc"/>
                </a:solidFill>
                <a:latin typeface="Times New Roman"/>
              </a:rPr>
              <a:t>的税收问题，是否该交纳销售税？</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交易税</a:t>
            </a:r>
            <a:endParaRPr b="0" lang="en-US" sz="28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如果一家德国公司在美国销售一件商品，并把它的网页设在新泽西的一个服务器上，但在当地没有设办公室或者仓库该商品应被如何收税？</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电子商务环境中会计职业新的业务机会</a:t>
            </a:r>
            <a:endParaRPr b="0" lang="en-US" sz="32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PA</a:t>
            </a:r>
            <a:r>
              <a:rPr b="0" lang="zh-CN" sz="2800" spc="-1" strike="noStrike">
                <a:solidFill>
                  <a:srgbClr val="ffffcc"/>
                </a:solidFill>
                <a:latin typeface="Times New Roman"/>
              </a:rPr>
              <a:t>的提供的五大核心服务：</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保证信息的完整性</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管理咨询和业绩衡量</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技术服务</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财务计划</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国际服务</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电子商务环境中会计职业新的业务机会</a:t>
            </a:r>
            <a:endParaRPr b="0" lang="en-US" sz="32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新的业务机会</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将电子商务技术技能融入传统保证业务的执行</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有机会执行附加的保证职能，例如系统可靠性风险评估（</a:t>
            </a:r>
            <a:r>
              <a:rPr b="0" lang="zh-CN" sz="2800" spc="-1" strike="noStrike">
                <a:solidFill>
                  <a:srgbClr val="ffffcc"/>
                </a:solidFill>
                <a:latin typeface="Times New Roman"/>
              </a:rPr>
              <a:t>systems reliability assurance)</a:t>
            </a:r>
            <a:r>
              <a:rPr b="0" lang="zh-CN" sz="2800" spc="-1" strike="noStrike">
                <a:solidFill>
                  <a:srgbClr val="ffffcc"/>
                </a:solidFill>
                <a:latin typeface="Times New Roman"/>
              </a:rPr>
              <a:t>及其他与网络有关的保证</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有机会提供电子商务解决方案来帮助公司在国际市场中积极竞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课程系统介绍</a:t>
            </a:r>
            <a:r>
              <a:rPr b="0" lang="zh-CN" sz="4400" spc="-1" strike="noStrike">
                <a:solidFill>
                  <a:srgbClr val="ffcc00"/>
                </a:solidFill>
                <a:latin typeface="Times New Roman"/>
              </a:rPr>
              <a:t> </a:t>
            </a:r>
            <a:br>
              <a:rPr sz="4400"/>
            </a:b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本课程共分十三章</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一章为绪论，简介电子商务，同时简介电子商务对会计和财务的影响</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二章至第七章为会计部分的内容</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八章至第十三章为财务管理方面的内容</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对会计职业的挑战</a:t>
            </a:r>
            <a:endParaRPr b="0" lang="en-US" sz="3600" spc="-1" strike="noStrike">
              <a:solidFill>
                <a:srgbClr val="ffcc00"/>
              </a:solidFill>
              <a:latin typeface="Times New Roman"/>
            </a:endParaRPr>
          </a:p>
        </p:txBody>
      </p:sp>
      <p:sp>
        <p:nvSpPr>
          <p:cNvPr id="135" name="PlaceHolder 2"/>
          <p:cNvSpPr>
            <a:spLocks noGrp="1"/>
          </p:cNvSpPr>
          <p:nvPr>
            <p:ph/>
          </p:nvPr>
        </p:nvSpPr>
        <p:spPr>
          <a:xfrm>
            <a:off x="685800" y="1447560"/>
            <a:ext cx="82296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会计师在执行职责时必须保持独立性（</a:t>
            </a:r>
            <a:r>
              <a:rPr b="0" lang="zh-CN" sz="2400" spc="-1" strike="noStrike">
                <a:solidFill>
                  <a:srgbClr val="ffffcc"/>
                </a:solidFill>
                <a:latin typeface="Times New Roman"/>
              </a:rPr>
              <a:t>independence)</a:t>
            </a:r>
            <a:r>
              <a:rPr b="0" lang="zh-CN" sz="2400" spc="-1" strike="noStrike">
                <a:solidFill>
                  <a:srgbClr val="ffffcc"/>
                </a:solidFill>
                <a:latin typeface="Times New Roman"/>
              </a:rPr>
              <a:t>、完整性</a:t>
            </a:r>
            <a:r>
              <a:rPr b="0" lang="zh-CN" sz="2400" spc="-1" strike="noStrike">
                <a:solidFill>
                  <a:srgbClr val="ffffcc"/>
                </a:solidFill>
                <a:latin typeface="Times New Roman"/>
              </a:rPr>
              <a:t>(integrity)</a:t>
            </a:r>
            <a:r>
              <a:rPr b="0" lang="zh-CN" sz="2400" spc="-1" strike="noStrike">
                <a:solidFill>
                  <a:srgbClr val="ffffcc"/>
                </a:solidFill>
                <a:latin typeface="Times New Roman"/>
              </a:rPr>
              <a:t>和客观性</a:t>
            </a:r>
            <a:r>
              <a:rPr b="0" lang="zh-CN" sz="2400" spc="-1" strike="noStrike">
                <a:solidFill>
                  <a:srgbClr val="ffffcc"/>
                </a:solidFill>
                <a:latin typeface="Times New Roman"/>
              </a:rPr>
              <a:t>(objectivity)</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在电子商务环境中，独立性规则受到质疑</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在过去的</a:t>
            </a:r>
            <a:r>
              <a:rPr b="0" lang="zh-CN" sz="2400" spc="-1" strike="noStrike">
                <a:solidFill>
                  <a:srgbClr val="ffffcc"/>
                </a:solidFill>
                <a:latin typeface="Times New Roman"/>
              </a:rPr>
              <a:t>10</a:t>
            </a:r>
            <a:r>
              <a:rPr b="0" lang="zh-CN" sz="2400" spc="-1" strike="noStrike">
                <a:solidFill>
                  <a:srgbClr val="ffffcc"/>
                </a:solidFill>
                <a:latin typeface="Times New Roman"/>
              </a:rPr>
              <a:t>年里，五大会计师事务所的电脑咨询业务收入正以每年将近</a:t>
            </a:r>
            <a:r>
              <a:rPr b="0" lang="zh-CN" sz="2400" spc="-1" strike="noStrike">
                <a:solidFill>
                  <a:srgbClr val="ffffcc"/>
                </a:solidFill>
                <a:latin typeface="Times New Roman"/>
              </a:rPr>
              <a:t>50%</a:t>
            </a:r>
            <a:r>
              <a:rPr b="0" lang="zh-CN" sz="2400" spc="-1" strike="noStrike">
                <a:solidFill>
                  <a:srgbClr val="ffffcc"/>
                </a:solidFill>
                <a:latin typeface="Times New Roman"/>
              </a:rPr>
              <a:t>的增长率上升。</a:t>
            </a:r>
            <a:r>
              <a:rPr b="0" lang="zh-CN" sz="2400" spc="-1" strike="noStrike">
                <a:solidFill>
                  <a:srgbClr val="ffffcc"/>
                </a:solidFill>
                <a:latin typeface="Times New Roman"/>
              </a:rPr>
              <a:t>1996</a:t>
            </a:r>
            <a:r>
              <a:rPr b="0" lang="zh-CN" sz="2400" spc="-1" strike="noStrike">
                <a:solidFill>
                  <a:srgbClr val="ffffcc"/>
                </a:solidFill>
                <a:latin typeface="Times New Roman"/>
              </a:rPr>
              <a:t>年，美国的前</a:t>
            </a:r>
            <a:r>
              <a:rPr b="0" lang="zh-CN" sz="2400" spc="-1" strike="noStrike">
                <a:solidFill>
                  <a:srgbClr val="ffffcc"/>
                </a:solidFill>
                <a:latin typeface="Times New Roman"/>
              </a:rPr>
              <a:t>100</a:t>
            </a:r>
            <a:r>
              <a:rPr b="0" lang="zh-CN" sz="2400" spc="-1" strike="noStrike">
                <a:solidFill>
                  <a:srgbClr val="ffffcc"/>
                </a:solidFill>
                <a:latin typeface="Times New Roman"/>
              </a:rPr>
              <a:t>家会计师事务所首次报称其咨询业务提供的收入多于其税务、审计或其他会计服务的收入。</a:t>
            </a:r>
            <a:r>
              <a:rPr b="0" lang="zh-CN" sz="2400" spc="-1" strike="noStrike">
                <a:solidFill>
                  <a:srgbClr val="ffffcc"/>
                </a:solidFill>
                <a:latin typeface="Times New Roman"/>
              </a:rPr>
              <a:t>1997</a:t>
            </a:r>
            <a:r>
              <a:rPr b="0" lang="zh-CN" sz="2400" spc="-1" strike="noStrike">
                <a:solidFill>
                  <a:srgbClr val="ffffcc"/>
                </a:solidFill>
                <a:latin typeface="Times New Roman"/>
              </a:rPr>
              <a:t>年，前</a:t>
            </a:r>
            <a:r>
              <a:rPr b="0" lang="zh-CN" sz="2400" spc="-1" strike="noStrike">
                <a:solidFill>
                  <a:srgbClr val="ffffcc"/>
                </a:solidFill>
                <a:latin typeface="Times New Roman"/>
              </a:rPr>
              <a:t>100</a:t>
            </a:r>
            <a:r>
              <a:rPr b="0" lang="zh-CN" sz="2400" spc="-1" strike="noStrike">
                <a:solidFill>
                  <a:srgbClr val="ffffcc"/>
                </a:solidFill>
                <a:latin typeface="Times New Roman"/>
              </a:rPr>
              <a:t>家会计师事务所的报告称技术性的咨询服务是其成长的主要驱动力。</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如果会计师事务所以咨询的方式向客户提供了帮助，那么该会计师事务所是否在客户公司有既得利益呢？</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美国安达信公司事件</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对会计职业的挑战</a:t>
            </a:r>
            <a:endParaRPr b="0" lang="en-US" sz="36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新的业务机会对会计职业提出新的要求</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
          <p:cNvSpPr/>
          <p:nvPr/>
        </p:nvSpPr>
        <p:spPr>
          <a:xfrm>
            <a:off x="1523880" y="2797200"/>
            <a:ext cx="7010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Thank you!</a:t>
            </a:r>
            <a:endParaRPr b="0" lang="en-US" sz="4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绪论</a:t>
            </a:r>
            <a:endParaRPr b="0" lang="en-US" sz="36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电子商务简介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电子商务对会计和财务的影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电子商务简介</a:t>
            </a:r>
            <a:endParaRPr b="0" lang="en-US" sz="36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电子商务的概念</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电子商务的发展</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数字铁路</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信息技术渠道和中介机构</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电子渠道</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会计的基本内容</a:t>
            </a:r>
            <a:endParaRPr b="0" lang="en-US" sz="36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企业决策与信息内容</a:t>
            </a: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企业经营活动概述</a:t>
            </a: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会计的概念</a:t>
            </a: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会计信息的使用者</a:t>
            </a: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财务会计和管理会计</a:t>
            </a: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会计的基本假定</a:t>
            </a: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会计核算的一般原则</a:t>
            </a: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会计的要素</a:t>
            </a:r>
            <a:endParaRPr b="0" lang="en-US" sz="2000" spc="-1" strike="noStrike">
              <a:solidFill>
                <a:srgbClr val="ffffcc"/>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电子商务对会计信息的影响</a:t>
            </a:r>
            <a:endParaRPr b="0" lang="en-US" sz="2000" spc="-1" strike="noStrike">
              <a:solidFill>
                <a:srgbClr val="ffffcc"/>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电子商务环境中会计基本假设的创新</a:t>
            </a:r>
            <a:endParaRPr b="0" lang="en-US" sz="2000" spc="-1" strike="noStrike">
              <a:solidFill>
                <a:srgbClr val="ffffcc"/>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电子商务对会计核算的一般原则的冲击</a:t>
            </a:r>
            <a:endParaRPr b="0" lang="en-US" sz="2000" spc="-1" strike="noStrike">
              <a:solidFill>
                <a:srgbClr val="ffffcc"/>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Times New Roman"/>
              </a:rPr>
              <a:t>电子商务对会计要素的影响</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会计核算方法体系</a:t>
            </a:r>
            <a:endParaRPr b="0" lang="en-US" sz="36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帐户</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借贷记帐法</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会计循环</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调整分录</a:t>
            </a:r>
            <a:endParaRPr b="0" lang="en-US" sz="2800" spc="-1" strike="noStrike">
              <a:solidFill>
                <a:srgbClr val="ffffcc"/>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会计电算化</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资产和权益的核算</a:t>
            </a:r>
            <a:endParaRPr b="0" lang="en-US" sz="36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流动资产的核算</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存货的核算</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厂场资产的核算 </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长期投资的核算</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负债的核算</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所有者权益的核算</a:t>
            </a:r>
            <a:endParaRPr b="0" lang="en-US" sz="2800" spc="-1" strike="noStrike">
              <a:solidFill>
                <a:srgbClr val="ffffcc"/>
              </a:solidFill>
              <a:latin typeface="Times New Roman"/>
            </a:endParaRPr>
          </a:p>
          <a:p>
            <a:pPr marL="339480" indent="-3394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电子支付系统</a:t>
            </a:r>
            <a:endParaRPr b="0" lang="en-US" sz="2800" spc="-1" strike="noStrike">
              <a:solidFill>
                <a:srgbClr val="ffffcc"/>
              </a:solidFill>
              <a:latin typeface="Times New Roman"/>
            </a:endParaRPr>
          </a:p>
          <a:p>
            <a:pPr marL="339480" indent="-3394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案例</a:t>
            </a:r>
            <a:r>
              <a:rPr b="0" lang="zh-CN" sz="2800" spc="-1" strike="noStrike">
                <a:solidFill>
                  <a:srgbClr val="ffcc00"/>
                </a:solidFill>
                <a:latin typeface="Times New Roman"/>
              </a:rPr>
              <a:t>-</a:t>
            </a:r>
            <a:r>
              <a:rPr b="0" lang="zh-CN" sz="2800" spc="-1" strike="noStrike">
                <a:solidFill>
                  <a:srgbClr val="ffcc00"/>
                </a:solidFill>
                <a:latin typeface="Times New Roman"/>
              </a:rPr>
              <a:t>香港</a:t>
            </a:r>
            <a:r>
              <a:rPr b="0" lang="zh-CN" sz="2800" spc="-1" strike="noStrike">
                <a:solidFill>
                  <a:srgbClr val="ffcc00"/>
                </a:solidFill>
                <a:latin typeface="Times New Roman"/>
              </a:rPr>
              <a:t>Mondex</a:t>
            </a:r>
            <a:r>
              <a:rPr b="0" lang="zh-CN" sz="2800" spc="-1" strike="noStrike">
                <a:solidFill>
                  <a:srgbClr val="ffcc00"/>
                </a:solidFill>
                <a:latin typeface="Times New Roman"/>
              </a:rPr>
              <a:t>电子货币</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损益核算</a:t>
            </a:r>
            <a:endParaRPr b="0" lang="en-US" sz="36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营业收入的核算</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成本费用的核算</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利润及其分配</a:t>
            </a:r>
            <a:endParaRPr b="0" lang="en-US" sz="2800" spc="-1" strike="noStrike">
              <a:solidFill>
                <a:srgbClr val="ffffcc"/>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税收和电子商务</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财务报表分析</a:t>
            </a:r>
            <a:endParaRPr b="0" lang="en-US" sz="36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财务报表概述</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财务分析的目的</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比较财务报表分析</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比率分析</a:t>
            </a:r>
            <a:endParaRPr b="0" lang="en-US" sz="2800" spc="-1" strike="noStrike">
              <a:solidFill>
                <a:srgbClr val="ffffcc"/>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电子商务对财务分析的影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电子商务 财务 会计</cp:keywords>
  <dc:language>en-US</dc:language>
  <cp:lastModifiedBy/>
  <cp:revision>0</cp:revision>
  <dc:subject/>
  <dc:title/>
</cp:coreProperties>
</file>