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689-2202-4590-B537-AEFB4C74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727-1E19-49CB-BE04-C0B2FDA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A8E-4603-4B7F-A01D-4BE517EB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2A9-61AA-4679-99FB-8AFD9ACB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90E9-26EF-4017-AC25-605F0AF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FCED-F880-435D-8115-53664E7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2ADC-BEF4-464F-A71F-25A23501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D15D-6828-44C0-BEC3-BEAE4B8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DB22-A13F-4BC6-8ADF-C4976293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47CD-BF8D-4E31-BD42-DDC5086D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FBA-9774-495A-A483-77C764D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D68-D309-47FE-9FAF-A80C49E4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B3B1-0B8A-479F-8302-704B38D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879B-D48B-43AE-B411-02B9907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562-FB6C-4AA6-9756-C494B492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0084-DEDF-439F-98B8-C6E228EE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8B3-BA18-427B-9C01-9DDAC65E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DC3-FCD6-4B62-BADD-D603EA47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394-D96B-4029-8432-031DD805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A98-83EB-4E7C-B73B-1CED1118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76F-0D6A-45E5-83FB-5BE0FCDD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5D4-1B48-4D98-B0D9-8B460B4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EC3-086C-419A-940E-13EAA21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F16-C716-488B-90D9-B1A76107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07C-A672-4BEA-AFD4-A453C9228E6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E30-0B2F-4111-A4EB-4BC2AA5A0E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C:\Users\Administrator\Desktop\未标题-23551.png"/>
          <p:cNvPicPr/>
          <p:nvPr/>
        </p:nvPicPr>
        <p:blipFill>
          <a:blip r:embed="rId2"/>
          <a:stretch/>
        </p:blipFill>
        <p:spPr>
          <a:xfrm>
            <a:off x="-11160" y="0"/>
            <a:ext cx="9161640" cy="1571760"/>
          </a:xfrm>
          <a:prstGeom prst="rect">
            <a:avLst/>
          </a:prstGeom>
          <a:ln w="0">
            <a:noFill/>
          </a:ln>
        </p:spPr>
      </p:pic>
      <p:sp>
        <p:nvSpPr>
          <p:cNvPr id="5" name="矩形 7"/>
          <p:cNvSpPr/>
          <p:nvPr/>
        </p:nvSpPr>
        <p:spPr>
          <a:xfrm>
            <a:off x="0" y="1052640"/>
            <a:ext cx="9150480" cy="144360"/>
          </a:xfrm>
          <a:prstGeom prst="rect">
            <a:avLst/>
          </a:prstGeom>
          <a:solidFill>
            <a:srgbClr val="34b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-11160" y="1125360"/>
            <a:ext cx="9161640" cy="71640"/>
          </a:xfrm>
          <a:prstGeom prst="rect">
            <a:avLst/>
          </a:prstGeom>
          <a:solidFill>
            <a:srgbClr val="05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0BA0-86F0-4CA0-9DA3-77AA8F8AD1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26F-22BF-4A8F-8C2A-AD76044B26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Administrator\Desktop\未标题2-1.png"/>
          <p:cNvPicPr/>
          <p:nvPr/>
        </p:nvPicPr>
        <p:blipFill>
          <a:blip r:embed="rId1"/>
          <a:srcRect l="440" t="0" r="0" b="0"/>
          <a:stretch/>
        </p:blipFill>
        <p:spPr>
          <a:xfrm>
            <a:off x="0" y="-15840"/>
            <a:ext cx="9213840" cy="69181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468360" y="126828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卡通梦幻星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02C-5B8C-490C-B6BD-BF19D6735A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宋黑简体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9"/>
          <p:cNvGrpSpPr/>
          <p:nvPr/>
        </p:nvGrpSpPr>
        <p:grpSpPr>
          <a:xfrm>
            <a:off x="2367000" y="2565360"/>
            <a:ext cx="4392720" cy="574560"/>
            <a:chOff x="2367000" y="2565360"/>
            <a:chExt cx="4392720" cy="574560"/>
          </a:xfrm>
        </p:grpSpPr>
        <p:sp>
          <p:nvSpPr>
            <p:cNvPr id="96" name="矩形 3"/>
            <p:cNvSpPr/>
            <p:nvPr/>
          </p:nvSpPr>
          <p:spPr>
            <a:xfrm>
              <a:off x="2943000" y="2565360"/>
              <a:ext cx="3816720" cy="54144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Administrator\Desktop\未标111题-1.png"/>
            <p:cNvPicPr/>
            <p:nvPr/>
          </p:nvPicPr>
          <p:blipFill>
            <a:blip r:embed="rId1"/>
            <a:stretch/>
          </p:blipFill>
          <p:spPr>
            <a:xfrm>
              <a:off x="2583000" y="2643840"/>
              <a:ext cx="1512360" cy="4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6"/>
            <p:cNvSpPr/>
            <p:nvPr/>
          </p:nvSpPr>
          <p:spPr>
            <a:xfrm>
              <a:off x="2367000" y="2565360"/>
              <a:ext cx="518400" cy="54180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7"/>
            <p:cNvSpPr/>
            <p:nvPr/>
          </p:nvSpPr>
          <p:spPr>
            <a:xfrm>
              <a:off x="2367000" y="256536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8"/>
            <p:cNvSpPr/>
            <p:nvPr/>
          </p:nvSpPr>
          <p:spPr>
            <a:xfrm>
              <a:off x="3339000" y="265140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1"/>
          <p:cNvGrpSpPr/>
          <p:nvPr/>
        </p:nvGrpSpPr>
        <p:grpSpPr>
          <a:xfrm>
            <a:off x="2367000" y="4100400"/>
            <a:ext cx="4392720" cy="574920"/>
            <a:chOff x="2367000" y="4100400"/>
            <a:chExt cx="4392720" cy="574920"/>
          </a:xfrm>
        </p:grpSpPr>
        <p:sp>
          <p:nvSpPr>
            <p:cNvPr id="102" name="矩形 12"/>
            <p:cNvSpPr/>
            <p:nvPr/>
          </p:nvSpPr>
          <p:spPr>
            <a:xfrm>
              <a:off x="2943000" y="4100400"/>
              <a:ext cx="3816720" cy="54180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" descr="C:\Users\Administrator\Desktop\未标111题-1.png"/>
            <p:cNvPicPr/>
            <p:nvPr/>
          </p:nvPicPr>
          <p:blipFill>
            <a:blip r:embed="rId2"/>
            <a:stretch/>
          </p:blipFill>
          <p:spPr>
            <a:xfrm>
              <a:off x="2583000" y="4178880"/>
              <a:ext cx="151236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2367000" y="4100400"/>
              <a:ext cx="518400" cy="54216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5"/>
            <p:cNvSpPr/>
            <p:nvPr/>
          </p:nvSpPr>
          <p:spPr>
            <a:xfrm>
              <a:off x="2367000" y="41004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6"/>
            <p:cNvSpPr/>
            <p:nvPr/>
          </p:nvSpPr>
          <p:spPr>
            <a:xfrm>
              <a:off x="3339000" y="41864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7"/>
          <p:cNvGrpSpPr/>
          <p:nvPr/>
        </p:nvGrpSpPr>
        <p:grpSpPr>
          <a:xfrm>
            <a:off x="2367000" y="3333600"/>
            <a:ext cx="4392720" cy="574920"/>
            <a:chOff x="2367000" y="3333600"/>
            <a:chExt cx="4392720" cy="574920"/>
          </a:xfrm>
        </p:grpSpPr>
        <p:sp>
          <p:nvSpPr>
            <p:cNvPr id="108" name="矩形 18"/>
            <p:cNvSpPr/>
            <p:nvPr/>
          </p:nvSpPr>
          <p:spPr>
            <a:xfrm>
              <a:off x="2943000" y="3333600"/>
              <a:ext cx="3816720" cy="54180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C:\Users\Administrator\Desktop\未标111题-1.png"/>
            <p:cNvPicPr/>
            <p:nvPr/>
          </p:nvPicPr>
          <p:blipFill>
            <a:blip r:embed="rId3"/>
            <a:stretch/>
          </p:blipFill>
          <p:spPr>
            <a:xfrm>
              <a:off x="2583000" y="3412080"/>
              <a:ext cx="151236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20"/>
            <p:cNvSpPr/>
            <p:nvPr/>
          </p:nvSpPr>
          <p:spPr>
            <a:xfrm>
              <a:off x="2367000" y="3333600"/>
              <a:ext cx="518400" cy="54216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1"/>
            <p:cNvSpPr/>
            <p:nvPr/>
          </p:nvSpPr>
          <p:spPr>
            <a:xfrm>
              <a:off x="2367000" y="3333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2"/>
            <p:cNvSpPr/>
            <p:nvPr/>
          </p:nvSpPr>
          <p:spPr>
            <a:xfrm>
              <a:off x="3339000" y="34196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3"/>
          <p:cNvGrpSpPr/>
          <p:nvPr/>
        </p:nvGrpSpPr>
        <p:grpSpPr>
          <a:xfrm>
            <a:off x="2367000" y="4869000"/>
            <a:ext cx="4392720" cy="574560"/>
            <a:chOff x="2367000" y="4869000"/>
            <a:chExt cx="4392720" cy="574560"/>
          </a:xfrm>
        </p:grpSpPr>
        <p:sp>
          <p:nvSpPr>
            <p:cNvPr id="114" name="矩形 24"/>
            <p:cNvSpPr/>
            <p:nvPr/>
          </p:nvSpPr>
          <p:spPr>
            <a:xfrm>
              <a:off x="2943000" y="4869000"/>
              <a:ext cx="3816720" cy="54144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" descr="C:\Users\Administrator\Desktop\未标111题-1.png"/>
            <p:cNvPicPr/>
            <p:nvPr/>
          </p:nvPicPr>
          <p:blipFill>
            <a:blip r:embed="rId4"/>
            <a:stretch/>
          </p:blipFill>
          <p:spPr>
            <a:xfrm>
              <a:off x="2583000" y="4947480"/>
              <a:ext cx="1512360" cy="4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26"/>
            <p:cNvSpPr/>
            <p:nvPr/>
          </p:nvSpPr>
          <p:spPr>
            <a:xfrm>
              <a:off x="2367000" y="4869000"/>
              <a:ext cx="518400" cy="54180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7"/>
            <p:cNvSpPr/>
            <p:nvPr/>
          </p:nvSpPr>
          <p:spPr>
            <a:xfrm>
              <a:off x="2367000" y="48690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8"/>
            <p:cNvSpPr/>
            <p:nvPr/>
          </p:nvSpPr>
          <p:spPr>
            <a:xfrm>
              <a:off x="3339000" y="49550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