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8AE-5B1D-4076-8B75-04C87D04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591-528E-4D25-A027-BB2E0EB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78AEC-ABB8-4D61-BA02-09BA2E91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7E07A-FA7A-4C26-86D1-D1B6B3E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4E656-5D4A-4AFF-9D6D-1F0A5D5C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D5A26-CDA5-480F-A0E7-71496BC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37188-9075-41DD-B025-0019109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3418-B0D2-47F9-97FF-2F8E58D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12FD-1D51-4E50-99C2-581268CB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1DA0-C838-4AF5-90CE-09E25E26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F395B-1BE3-41D3-AA22-E4BAA5CD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9E117-4AA3-4A89-AFDA-D7006570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4A2-007F-44C7-8A78-7B8F6FBE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18491-BADF-4DC6-BA0E-DD7BA06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655D3-5F78-4FD6-AC65-652F189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00FEE-CECA-453C-A8F2-70AA642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D6825-4FFF-4754-A03A-2E146785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95ED6-0F61-4378-8E9D-A4C979B2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6A10D-59A4-4715-AC01-9F1A183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1DFA6-DF28-4478-B72D-96A8F5C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3229-14AE-4450-A8FB-05C75CC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B217-3795-4ABC-B974-975707B8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88DE2-3649-463B-AE29-196A09F7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3BB-FAE2-4DB5-8B3D-D3C05CEA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B02B1-B2DE-4110-B223-839AD33A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24614-42B8-4C76-8BF8-360697FE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D84D-BD1F-44F2-8029-BF283E3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D95A5-7816-401C-8B53-165302C3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0C5C3-0CD3-47AB-9F54-903D3FB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D1D4D-8F44-4665-853C-EB7FBC3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655DA-581F-4E6E-AC01-2B01450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6E731-E07B-4B97-98FE-ABC99D0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B137C-5A44-4E88-B160-1A542A4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6C015-97AD-4C89-BE20-01265689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F6C1-00BA-4B4C-AD00-8D6A9FE7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93F75-8B71-408B-9DAC-BF37621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B819F-20A9-49C9-BD88-A7D3689F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895F6-C120-48CA-9880-3E1AA9FB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FCE14-933E-422D-ADC5-224AF03B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9455B-B846-4049-B66B-8CC7ADF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32CE6-C3EA-485A-97A7-1F974AD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0DD91-9007-41C6-802A-9690A19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4960D-C2F4-43EE-A71B-1626685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D62A5-4841-41A2-A2E6-6C6BEE20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583BF-D11E-4E1E-810C-2F3D430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8259-3170-44BD-BB2E-B2F6CD2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2D31D-F8EE-4A8A-8B0E-176F978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841C0-6C9F-45C0-AA76-5BBF0EE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16A9B-E150-4A89-8FB7-E2EDDDAA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2055A-8C23-49A0-BDFD-6FFA8EF9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A27DB-D6A6-4665-85FE-9F8DE77A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8DC8A-4215-46DF-9739-97FDE0DF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ECAF8-038E-414A-8889-5E80A027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0A8D9-9670-495A-A968-0E047135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F2D64-F770-46CA-B0FC-EDD5F916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CE0E4-2DBC-4431-85DA-D84F852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5C70-8387-4424-A5D9-7417D9A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BCB74-9AD6-454C-87F4-B7E5FBCF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690E8-69B2-454E-88C0-535067EC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5BFD1-B6BE-4E13-9CFE-83FB7ED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60AF0-36E3-4601-B0B3-0C2E5F6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F139B-A94E-434C-A7A5-21C6338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E3877-7BD0-4F59-85EF-A6E2F2C3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A7701-8ED4-4D11-B2B6-421A42C9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91A-CD6C-4480-BF6E-8348E123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F5A-B074-4737-A8C5-1C6D51B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4C1F-34CC-49C7-BF98-BA09F09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C148-1855-4B49-8A75-E90E85B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52F-5B18-4F3F-A817-D6A14369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B74F-A6D8-4847-8F5B-6274B7A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A51D-FB6F-4D07-9322-944F282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3BD-9542-4D3A-880B-1888B25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9343-ADAD-4680-BB92-48254592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2A67-A0AE-4D6C-9148-390DAEBE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7F43-20B5-454C-9558-5820D501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61A3-69BA-4045-88D7-3C03E74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E279-2F37-47A6-A7FD-DE3E7AC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8630-30F5-49D2-8BDD-4052642B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02A57-F93C-4E18-960E-9EADE355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945-2AD6-4B4F-AADF-F68CFFA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5734-5E47-413F-A264-6B906042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1DA7-1346-415E-AB19-035F14D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5245-6CAE-4A1C-81EA-19237C9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446B-268C-4B10-A0EB-9EBD7E0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21F3-C99C-4E08-8300-DECE875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E65E-78C7-42EC-8EC6-6CCE6ADF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AD43-6847-40A5-9787-BB74FEE0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0886-2A4A-442A-B505-61F7850E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5D33-614E-4F30-B314-6598F9F4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B60E-59BF-4D61-B4FE-5A779ADB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666-F520-461A-8795-1F4D5265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755B-0F8C-430E-9485-86E3F11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22F2-3B67-41A7-A41A-2D52B8C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577B-B3D8-4F4E-A2CA-50724FD6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55446-1777-46F3-BC9E-09A632D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9369A-8CAD-4C91-B21F-A36ECA4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6A5F-1C29-43AA-96E9-D803597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6F3D-680B-45A9-9B54-DF3D21B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D184-CEFB-4A82-AB7A-011E453A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1E0B-FA77-4F53-9809-1E234513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606D-FA45-41F8-B2CE-CFCD04B2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340-AD87-4E4C-B280-C104BB28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7D02-324C-4607-BC97-9409762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CD36-9D48-45AD-A00F-1979F6ED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5862-6825-45FE-AAB6-E7CCB40D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FDBA9-42C2-4051-ACF5-B5079CEC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E359-A3F9-4309-A96E-BCF8DC9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E3BFA-25FB-42C6-89F5-9E05D42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7E62-34F4-4A35-8E3B-4AA7DB4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E4C6D-F7C5-4E48-BAA3-8333C32B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1FA8-5C83-4BC2-8319-21F57A0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10D3-86F8-431E-A16C-611E732A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DE1-8301-49C9-A335-759980D0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0404-93AD-457B-83FF-BAA13461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D8F2-7386-44B4-9FFF-54F71EF5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4CC6A-09D7-428B-AFC9-5690A214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136D-402D-45F7-B4DE-CA7619BB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0E37-4404-43AA-A8F5-DC5C3D8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A13F-694E-4913-BAD0-B5AED865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31B4-CF52-40FB-BB65-16A6D8C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B307-75D0-41B2-BBBC-2CDFA6E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C8AC-9050-40B5-9629-80D6596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5E2F4-9448-4C8A-9A48-D1784BE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45E-BD83-4F33-AE74-01C3B4E4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61F4-0E38-4605-AEDB-F0163AE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0C1A-28E6-44C5-BF42-B0472935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BB95B-788F-4D2E-8D82-597AE028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DC56-34E5-4BFF-8E47-114DD8F9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30A1-69CB-473F-8334-48EB03DE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029B4-9DC7-4312-9A7B-7F3BAD00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C0C78-0A64-4331-BA07-8D1C3106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13FC-E99E-4DAE-A148-6F74B49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F367-27DB-4011-AC97-CF3128D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9F3B8-6C16-4E91-8C6E-2383401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51E-EC65-41A5-9E97-04CB772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AE1B2-340A-4683-AD10-EC5CBA9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63F28-9490-4204-B3DD-2CF9812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6D430-8506-4616-8440-2AC70B0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2DEFB-ABDF-4015-9D73-EEF274D7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88961-C225-434A-9C90-68247D99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F519F-F1E2-49A4-8D2E-751EFD4A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8E8EA-BFCD-41B2-869E-1BEBF2C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8FB82-CB69-4F0E-A123-02005B9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FDD26-D6AD-4449-8EF9-426ED80E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DE8A-72F9-4FE2-AC64-C7A5096D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45E-E572-4D2F-8083-245ABB1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A454-4493-459C-A462-C311869A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A75B-B2B9-4DF1-901D-66A33B31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9E60-C1A9-4190-B0CA-829A532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838A1-689D-447A-8667-69C7489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B2AC-D7A9-4055-A1C2-1EE666B0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7FA9-0598-4BBD-B6DF-41B0D118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99B4-BC0C-4D37-9B0B-048BC00E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59D0F-B575-40BA-93FA-661D0449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94D69-D0EC-4C49-999C-85F6447B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0AFD-CB5E-4694-924D-6BE7F767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1406-37AC-4CB3-BDE1-7016985D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63D8-974C-4F49-8EB9-3A94767C91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9AC7-F618-4A3B-B283-FC1051B89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9C62-0122-49A0-9095-C1AD683871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1D39-B775-4D07-A1FA-9E6F051A2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1B1-0577-4592-A682-75F6C6A92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177-5594-4858-B30B-84613A340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639-7CFD-4E94-BDEE-298DB93A1A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ACAE-E5CB-42E4-9009-4576F217EB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1CFE-636A-4D7E-BE44-851D57D306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AFD-256F-4092-A425-3E7DF408F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17D-87FB-48DD-B50C-F1A07C381D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4EE7-42F7-4266-99D6-B11A0B744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962-CB50-432C-9DDC-82107EFB95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14C2-3F3C-43D4-B03D-4F36A10E4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33E-D67F-4063-B60C-BBD658A243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491-6058-4181-9407-BEBCB2ECE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ECF6-8F13-41DD-93CC-6099D19366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A43C-8586-4DF6-B454-C516C8CD1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BA55-A394-44B0-9DE3-55D338042E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FE4-DDB7-4AE9-A701-57DB2692B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CC8-1D37-4168-B5C7-0C22C905F3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9519-6A79-4657-9240-E148C8D7B9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DD4-C9C5-4436-A208-10585CF9C8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05B-A180-4445-9076-F30C63A43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0"/>
          <p:cNvSpPr/>
          <p:nvPr/>
        </p:nvSpPr>
        <p:spPr>
          <a:xfrm>
            <a:off x="2195640" y="3897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16"/>
          <p:cNvSpPr txBox="1"/>
          <p:nvPr/>
        </p:nvSpPr>
        <p:spPr>
          <a:xfrm>
            <a:off x="2124000" y="134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五年级下册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语文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3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2"/>
          <p:cNvSpPr/>
          <p:nvPr/>
        </p:nvSpPr>
        <p:spPr>
          <a:xfrm>
            <a:off x="3995640" y="893880"/>
            <a:ext cx="4751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我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种在春天的土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变小草，绿得生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变小花，开得漂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成为柳絮和蒲公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更是我最大的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会飞啊，飞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飞到遥远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3" descr="pic_251422hk"/>
          <p:cNvPicPr/>
          <p:nvPr/>
        </p:nvPicPr>
        <p:blipFill>
          <a:blip r:embed="rId1"/>
          <a:srcRect l="0" t="0" r="0" b="380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2"/>
          <p:cNvSpPr/>
          <p:nvPr/>
        </p:nvSpPr>
        <p:spPr>
          <a:xfrm>
            <a:off x="3059280" y="1916280"/>
            <a:ext cx="58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不过，飞到遥远的地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要和爸爸妈妈商量商量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8" descr="图片1了 "/>
          <p:cNvPicPr/>
          <p:nvPr/>
        </p:nvPicPr>
        <p:blipFill>
          <a:blip r:embed="rId1"/>
          <a:srcRect l="1293" t="397" r="1293" b="1605"/>
          <a:stretch/>
        </p:blipFill>
        <p:spPr>
          <a:xfrm>
            <a:off x="0" y="620640"/>
            <a:ext cx="9144000" cy="6238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4"/>
          <p:cNvSpPr/>
          <p:nvPr/>
        </p:nvSpPr>
        <p:spPr>
          <a:xfrm>
            <a:off x="1908000" y="692280"/>
            <a:ext cx="65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不过，飞向遥远的地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要和爸爸妈妈商量商量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68360" y="21193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这是诗中的最后一节，从诗意上看，与第四节诗是紧密相关的。乍看起来，似乎有画蛇添足之嫌，把孩子的想象一下子拉到了现实，与前面的诗句有些不和谐，甚至格格不入。实际上，正是这句话，形象地表现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是怎样地沉迷在想象之中，以至于把想象当成了现实，一想到要飞向遥远的地方，自己是快乐了，爸爸妈妈是不是放心呢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所以得和他们商量商量。这更增加了诗的情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9" descr="图片3"/>
          <p:cNvPicPr/>
          <p:nvPr/>
        </p:nvPicPr>
        <p:blipFill>
          <a:blip r:embed="rId2"/>
          <a:stretch/>
        </p:blipFill>
        <p:spPr>
          <a:xfrm>
            <a:off x="0" y="549360"/>
            <a:ext cx="2195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8" descr="图片1了 "/>
          <p:cNvPicPr/>
          <p:nvPr/>
        </p:nvPicPr>
        <p:blipFill>
          <a:blip r:embed="rId1"/>
          <a:srcRect l="1293" t="397" r="1293" b="1605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611280" y="2349000"/>
            <a:ext cx="82087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  <a:ea typeface="幼圆"/>
              </a:rPr>
              <a:t>         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幼圆"/>
              </a:rPr>
              <a:t>《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幼圆"/>
              </a:rPr>
              <a:t>我想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  <a:ea typeface="幼圆"/>
              </a:rPr>
              <a:t>》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幼圆"/>
              </a:rPr>
              <a:t>写了一个孩子一连串美妙的幻想：想把小手安在桃树枝上，想把脚丫接在柳树根上，想把眼睛装在风筝上，想把自己种在土地上，表达了儿童丰富的想象力以及对美的追求和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835280" y="1628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觉得作者的想法美在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图12"/>
          <p:cNvPicPr/>
          <p:nvPr/>
        </p:nvPicPr>
        <p:blipFill>
          <a:blip r:embed="rId2"/>
          <a:stretch/>
        </p:blipFill>
        <p:spPr>
          <a:xfrm>
            <a:off x="324000" y="83664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pic_251421tt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4"/>
          <p:cNvSpPr txBox="1"/>
          <p:nvPr/>
        </p:nvSpPr>
        <p:spPr>
          <a:xfrm>
            <a:off x="1763640" y="1773360"/>
            <a:ext cx="5616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童年的水墨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5" descr="1439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9"/>
          <p:cNvSpPr/>
          <p:nvPr/>
        </p:nvSpPr>
        <p:spPr>
          <a:xfrm>
            <a:off x="1332000" y="765000"/>
            <a:ext cx="723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街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听不见马路上车辆喧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哪管它街头广播声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书页在膝盖上轻轻地翻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嘴角漾着丝丝抹不掉的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阳光从脚尖悄悄爬上膝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也想着“黑旋风”水战“浪里白条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1439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826920" y="1557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街头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水浒传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的孩子，那样的专注，尽管马路街头是那样的喧闹，却丝毫不能影响他，对时间的推移也浑然不觉。无边的喧闹和一隅的安静，形成了鲜明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5" descr="1439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755640" y="10573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前一句描写了读书的神态，孩子是坐在街头读书，书就放在膝盖上，他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她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似乎很懂得爱护书，翻页时动作是轻轻的。肯定是书中的故事有趣，所以他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她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情不自禁地微笑着。后一句点明了他看的是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水浒传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，但主要说他看书看得入迷了，只想着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黑旋风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水战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浪里白条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的事，对时间的悄然流逝一点也没有注意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2" descr="0kwct8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1"/>
          <p:cNvSpPr/>
          <p:nvPr/>
        </p:nvSpPr>
        <p:spPr>
          <a:xfrm>
            <a:off x="900000" y="836640"/>
            <a:ext cx="6624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溪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垂柳把溪水当做梳妆的镜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山溪像玉带一样平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人影给溪水染绿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钓竿上立着一只红蜻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忽然扑腾一声人影碎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imes New Roman"/>
                <a:ea typeface="黑体"/>
              </a:rPr>
              <a:t>草地上蹦跳着鱼儿和笑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图片1tuh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4"/>
          <p:cNvSpPr/>
          <p:nvPr/>
        </p:nvSpPr>
        <p:spPr>
          <a:xfrm>
            <a:off x="1476360" y="1052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      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溪边</a:t>
            </a: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钓鱼的孩子，那样的快乐，静静的溪水映着爱美的柳树，映着钓鱼孩子的倒影，静静的钓鱼竿，立着红蜻蜓，我们仿佛觉得空气都停止了流动，似乎大家都怕鱼受惊，而鱼上钩的一刹那，这种静立刻被打破了，溪水动了，人影碎了，鱼跃人欢，寥寥几句，勾勒出一个现代垂钓儿童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9" descr="168134696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3"/>
          <p:cNvSpPr txBox="1"/>
          <p:nvPr/>
        </p:nvSpPr>
        <p:spPr>
          <a:xfrm>
            <a:off x="2411280" y="292428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儿童诗两首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8" descr="图片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2195640" y="996840"/>
            <a:ext cx="6842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像刚下水的鸭群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扇动翅膀拍水戏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一双双小手拨动着浪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你拨我溅笑哈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是哪个“水葫芦”一下钻入水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  <a:ea typeface="黑体"/>
              </a:rPr>
              <a:t>出水时只见一阵水花两对虎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0"/>
          <p:cNvSpPr txBox="1"/>
          <p:nvPr/>
        </p:nvSpPr>
        <p:spPr>
          <a:xfrm>
            <a:off x="539640" y="98100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江上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5" descr="图片9,"/>
          <p:cNvPicPr/>
          <p:nvPr/>
        </p:nvPicPr>
        <p:blipFill>
          <a:blip r:embed="rId1"/>
          <a:stretch/>
        </p:blipFill>
        <p:spPr>
          <a:xfrm>
            <a:off x="71280" y="62064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971640" y="105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新魏"/>
              </a:rPr>
              <a:t>江上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华文新魏"/>
              </a:rPr>
              <a:t>》─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新魏"/>
              </a:rPr>
              <a:t>戏水的孩子，那样的调皮，一群孩子像鸭群一样跳入水中，在水里互相你拨我溅地嬉戏，就在这嬉戏中，一个孩子钻入水中，不见了，突然一阵水花，他出现了，调皮地笑着，露出两对小虎牙。一群孩子的嬉戏和一个孩子的特写，给人以鲜明的形象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6" descr="图12"/>
          <p:cNvPicPr/>
          <p:nvPr/>
        </p:nvPicPr>
        <p:blipFill>
          <a:blip r:embed="rId2"/>
          <a:stretch/>
        </p:blipFill>
        <p:spPr>
          <a:xfrm>
            <a:off x="250920" y="692280"/>
            <a:ext cx="23763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{87B603B1-1240-41D9-AD53-F3DF1697BF0B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4"/>
          <p:cNvSpPr/>
          <p:nvPr/>
        </p:nvSpPr>
        <p:spPr>
          <a:xfrm>
            <a:off x="111600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童年的水墨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这首诗，你看到了怎样的画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这个画面给你怎样的感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图11"/>
          <p:cNvPicPr/>
          <p:nvPr/>
        </p:nvPicPr>
        <p:blipFill>
          <a:blip r:embed="rId2"/>
          <a:stretch/>
        </p:blipFill>
        <p:spPr>
          <a:xfrm>
            <a:off x="395280" y="765000"/>
            <a:ext cx="2808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9" descr="25_140473_7f5de3df79698ae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468360" y="2363760"/>
            <a:ext cx="4680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云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阳光渲染它的模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暖一抹，冷一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在小溪的天空漂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树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风涂抹它的年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2124000" y="98100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Arial"/>
              </a:rPr>
              <a:t>  </a:t>
            </a:r>
            <a:r>
              <a:rPr b="1" lang="zh-CN" sz="4400" spc="-1" strike="noStrike">
                <a:solidFill>
                  <a:srgbClr val="ff7c80"/>
                </a:solidFill>
                <a:latin typeface="Arial"/>
                <a:ea typeface="华文行楷"/>
              </a:rPr>
              <a:t>山村孩子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邱易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4427640" y="2349360"/>
            <a:ext cx="468144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浓一笔，淡一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叶的眼睛在崖畔张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泥土是画面的主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让幻想展示它的富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深一脚，浅一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山路上印满秋天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0" descr="图片1"/>
          <p:cNvPicPr/>
          <p:nvPr/>
        </p:nvPicPr>
        <p:blipFill>
          <a:blip r:embed="rId2"/>
          <a:stretch/>
        </p:blipFill>
        <p:spPr>
          <a:xfrm>
            <a:off x="250920" y="620640"/>
            <a:ext cx="24494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5" dur="2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4" descr="图片1fh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00" name="WordArt 21"/>
          <p:cNvSpPr txBox="1"/>
          <p:nvPr/>
        </p:nvSpPr>
        <p:spPr>
          <a:xfrm>
            <a:off x="2484360" y="1557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900000" y="1988640"/>
            <a:ext cx="7561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借助拼音读准本课出现的生字“丫”，读读记记“花苞、柔软、柳絮、喧闹、梳妆、虎牙、水墨画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．通过朗读课文，感受儿童丰富的想象力，体会童年生活的快乐。感悟儿童诗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WordArt 6"/>
          <p:cNvSpPr txBox="1"/>
          <p:nvPr/>
        </p:nvSpPr>
        <p:spPr>
          <a:xfrm>
            <a:off x="90000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1681335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755640" y="1181160"/>
            <a:ext cx="223200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汲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喧闹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葫芦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979640" y="11318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吸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979640" y="184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喧哗热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1042920" y="25876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楷体_GB2312"/>
              </a:rPr>
              <a:t>多年生水生草本植物，叶直立，卵形或圆形，叶柄中部以下膨大，花呈漏斗状，蓝紫色。诗中的水葫芦加上了引号，不是指真正的水葫芦，而是指水性极好的孩子，与我们通常说的“旱鸭子”是相对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9"/>
          <p:cNvSpPr txBox="1"/>
          <p:nvPr/>
        </p:nvSpPr>
        <p:spPr>
          <a:xfrm>
            <a:off x="395280" y="549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词语理解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9" descr="6l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47" name="WordArt 10"/>
          <p:cNvSpPr txBox="1"/>
          <p:nvPr/>
        </p:nvSpPr>
        <p:spPr>
          <a:xfrm>
            <a:off x="2987640" y="1844640"/>
            <a:ext cx="3024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想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399564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高洪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{3AB6AD8B-E135-4B72-9AD7-BE9599717F7D}"/>
          <p:cNvPicPr/>
          <p:nvPr/>
        </p:nvPicPr>
        <p:blipFill>
          <a:blip r:embed="rId1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"/>
          <p:cNvSpPr/>
          <p:nvPr/>
        </p:nvSpPr>
        <p:spPr>
          <a:xfrm>
            <a:off x="792000" y="1197000"/>
            <a:ext cx="77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 笔名向川，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1951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年生，内蒙古开鲁人。有儿童诗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鹅鹅鹅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大象法官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飞龙与神鸽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喊泉的秘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少女和泡泡糖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吃石头的鳄鱼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种葡萄的狐狸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我喜欢你，狐狸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散文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波斯猫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文坛走笔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人生趣谈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司马台的砖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散文选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高洪波军旅散文选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评论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说给缪斯的情话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。诗歌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我想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获全国第一届儿童文学优秀作品奖，散文集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悄悄话</a:t>
            </a:r>
            <a:r>
              <a:rPr b="0" lang="en-US" sz="3200" spc="-1" strike="noStrike">
                <a:solidFill>
                  <a:srgbClr val="3366ff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获全国第三届儿童文学优秀作品奖。</a:t>
            </a:r>
            <a:r>
              <a:rPr b="0" lang="zh-CN" sz="3200" spc="-1" strike="noStrike">
                <a:solidFill>
                  <a:srgbClr val="ff7c8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10"/>
          <p:cNvSpPr txBox="1"/>
          <p:nvPr/>
        </p:nvSpPr>
        <p:spPr>
          <a:xfrm>
            <a:off x="539640" y="620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2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708360" y="836640"/>
            <a:ext cx="43927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小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安在桃树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带着一串花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牵着万缕阳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悠啊，悠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悠出声声春的歌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13"/>
          <p:cNvSpPr txBox="1"/>
          <p:nvPr/>
        </p:nvSpPr>
        <p:spPr>
          <a:xfrm>
            <a:off x="971640" y="83664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诗歌朗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2"/>
          <p:cNvSpPr/>
          <p:nvPr/>
        </p:nvSpPr>
        <p:spPr>
          <a:xfrm>
            <a:off x="3851280" y="851040"/>
            <a:ext cx="50403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脚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接在柳树根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伸进湿软的土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汲取甜美的营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长啊，长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长成一座绿色的帐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pic_251422hk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2"/>
          <p:cNvSpPr/>
          <p:nvPr/>
        </p:nvSpPr>
        <p:spPr>
          <a:xfrm>
            <a:off x="4140360" y="692280"/>
            <a:ext cx="4032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我想把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装在风筝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看白云多柔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瞧太阳多明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望啊，望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蓝天是我的课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a</cp:lastModifiedBy>
  <dcterms:modified xsi:type="dcterms:W3CDTF">2015-03-17T07:10:27Z</dcterms:modified>
  <cp:revision>934</cp:revision>
  <dc:subject/>
  <dc:title>幻灯片 1</dc:title>
</cp:coreProperties>
</file>