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1553-F5B8-464F-9B3B-3976396D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2FB-A58B-4355-B57A-77F2EBA5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68E-CE43-4610-B425-E60641E8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7979-420B-4F7D-B567-700C3A8D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14876-2BC2-4B28-B124-99A8CBED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2E143-EDD7-4D32-965F-9ADA0DA8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35C0E-9EE8-4E4B-871C-2F745DC0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E46CF-A118-4C28-B46E-3B99FFDC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CFB7C-AD39-43E6-8F6F-C67A8D4A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8FAB1-0CDD-4F72-9BE5-A38150CE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D351E-B142-4F72-A814-E3C65758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2E68-B7DD-4BAB-A37E-BDE7F368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94AC0-9B20-4480-B8C3-85E43571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1CC57-9D5B-4AD2-B53E-833DCF87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C45D7-A583-4B73-B073-93685C21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447F4-47E3-4928-BFA0-99B87FE43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0946C-2198-44EC-B0AC-F8DB84AA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8D5E-187E-454E-9C5A-3BC967A7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D799-F602-445E-85FA-B4E15EA2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93B0-6B94-40C2-BABF-4D033741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4945-507C-4519-964C-80189693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409F-D438-470B-9580-686DB4B2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A738-7E45-4D57-8404-DEF0D6B3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834-253B-463F-8893-C6C6D49C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B8AB-C343-48BA-B9D1-65899C2B908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AD0C-B397-415D-84E5-CC2C7A3F6DD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cc00"/>
                </a:solidFill>
                <a:latin typeface="Arial"/>
                <a:ea typeface="隶书"/>
              </a:rPr>
              <a:t>加强流 动人口</a:t>
            </a:r>
            <a:br>
              <a:rPr sz="4800"/>
            </a:br>
            <a:r>
              <a:rPr b="0" lang="zh-CN" sz="4800" spc="-1" strike="noStrike">
                <a:solidFill>
                  <a:srgbClr val="cccc00"/>
                </a:solidFill>
                <a:latin typeface="Arial"/>
                <a:ea typeface="隶书"/>
              </a:rPr>
              <a:t>儿童卫生保健服务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65120" y="3645000"/>
            <a:ext cx="6413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66"/>
              </a:solidFill>
              <a:latin typeface="Times New Roman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cc00"/>
                </a:solidFill>
                <a:latin typeface="Arial"/>
                <a:ea typeface="隶书"/>
              </a:rPr>
              <a:t>（五）</a:t>
            </a:r>
            <a:r>
              <a:rPr b="1" lang="zh-CN" sz="4400" spc="-1" strike="noStrike">
                <a:solidFill>
                  <a:srgbClr val="cccc00"/>
                </a:solidFill>
                <a:latin typeface="Arial"/>
                <a:ea typeface="隶书"/>
              </a:rPr>
              <a:t>4</a:t>
            </a:r>
            <a:r>
              <a:rPr b="1" lang="zh-CN" sz="4400" spc="-1" strike="noStrike">
                <a:solidFill>
                  <a:srgbClr val="cccc00"/>
                </a:solidFill>
                <a:latin typeface="Arial"/>
                <a:ea typeface="隶书"/>
              </a:rPr>
              <a:t>城市儿童计划免疫接种情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计划免疫“四苗”全程接种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北京    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99.4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广州    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98.40%(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包括“乙肝”疫苗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杭州    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99.56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上海    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99.00%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（六）流动人口儿童预防接种建卡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/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册情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建立儿童预防接种卡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册的比例为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95.21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流动人口儿童计划免疫接种情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2640" y="1413000"/>
            <a:ext cx="75438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98.76%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的儿童接受过一种以上疫苗接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乙肝      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90.23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卡介苗    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88.9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小儿麻痹糖丸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85.26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白百破    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80.98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麻疹      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70.32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系统接种率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(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七）流动人口儿童两周患病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/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不适情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828800"/>
            <a:ext cx="6553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9.26%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的儿童近两周有患病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不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主要的患病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不适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发烧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7.61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咳嗽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7.56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腹泻与感冒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7.56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（八）流动人口儿童就医情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6248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96.54%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的患病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不适者进行了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73.55%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去医院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7.41%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去药房买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0.92%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服用家中存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1.09%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去个体诊所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个体医生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未进行治疗的主要原因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0512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自感病轻”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6.67%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没时间”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8.57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经济原因”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4.29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五、影响流动人口儿童保健、计划免疫服务利用的因素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160" y="1905120"/>
            <a:ext cx="6172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隶书"/>
              </a:rPr>
              <a:t>对潜在影响因素的分析显示以下因素具有显著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知晓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必要性认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母亲受教育程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家庭收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服务费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服务对象的流动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六、存在的主要问题 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497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e3e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动人口儿童卫生保健服务的利用低于户籍所在地儿童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e3e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影响流动人口儿童卫生保健服务主要因素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父母认知程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家庭经济状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七、对流动人口中儿童卫生保健服务问题的思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e3e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动人口问题是一个社会问题，应通过多部门协调来解决流动人口的卫生保健问题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e3e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因地制宜制定政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八、建    议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完善流动人口管理制度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建立多部门协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政府设立流动人口医疗保健服务补助经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多渠道解决儿童医疗保健服务费用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加强流动人口的健康教育，转变健康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00"/>
                </a:solidFill>
                <a:latin typeface="Arial"/>
                <a:ea typeface="隶书"/>
              </a:rPr>
              <a:t>一、人口流动带来的挑战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171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据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年人口普查资料显示：我国流动人口高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.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亿，其中跨省流动人口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24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万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1640" y="1600200"/>
            <a:ext cx="4032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e3e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农民流入城市后，如何得到卫生保健和基本医疗服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e3e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特别是妇女儿童卫生保健服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e3e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相关部门的密切配合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43480" y="3075120"/>
            <a:ext cx="20574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大家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00"/>
                </a:solidFill>
                <a:latin typeface="Arial"/>
                <a:ea typeface="隶书"/>
              </a:rPr>
              <a:t>二、背景</a:t>
            </a:r>
            <a:r>
              <a:rPr b="1" lang="zh-CN" sz="4000" spc="-1" strike="noStrike">
                <a:solidFill>
                  <a:srgbClr val="cccc00"/>
                </a:solidFill>
                <a:latin typeface="Arial"/>
                <a:ea typeface="隶书"/>
              </a:rPr>
              <a:t>----“</a:t>
            </a:r>
            <a:r>
              <a:rPr b="1" lang="zh-CN" sz="4000" spc="-1" strike="noStrike">
                <a:solidFill>
                  <a:srgbClr val="cccc00"/>
                </a:solidFill>
                <a:latin typeface="Arial"/>
                <a:ea typeface="隶书"/>
              </a:rPr>
              <a:t>两纲”明确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9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流动人口中的妇女享有与户籍所在地妇女同等的卫生保健服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将流动人口孕产妇保健纳入流入地孕产妇保健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对城市流动人口中孕产妇、儿童逐步实行保健管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cc00"/>
                </a:solidFill>
                <a:latin typeface="Arial"/>
                <a:ea typeface="隶书"/>
              </a:rPr>
              <a:t>          </a:t>
            </a:r>
            <a:r>
              <a:rPr b="1" lang="zh-CN" sz="4800" spc="-1" strike="noStrike">
                <a:solidFill>
                  <a:srgbClr val="cccc00"/>
                </a:solidFill>
                <a:latin typeface="Arial"/>
                <a:ea typeface="隶书"/>
              </a:rPr>
              <a:t>三、关注重点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007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523880"/>
            <a:ext cx="762012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政府和社会应关注流动人口中妇女、儿童的生存、保护和发展等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r>
              <a:rPr b="1" i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对流动人口儿童卫生保健服务现状进行调研，为改善服务利用提供决策依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（一）一般概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28440" y="1294920"/>
            <a:ext cx="7010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buClr>
                <a:srgbClr val="e3e3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周岁以下儿童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15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男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81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名  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7.61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女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33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名  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2.3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e3e3ff"/>
                </a:solidFill>
                <a:latin typeface="Times New Roman"/>
                <a:ea typeface="楷体_GB2312"/>
              </a:rPr>
              <a:t>足月分娩  </a:t>
            </a:r>
            <a:r>
              <a:rPr b="1" lang="zh-CN" sz="2800" spc="-1" strike="noStrike">
                <a:solidFill>
                  <a:srgbClr val="e3e3ff"/>
                </a:solidFill>
                <a:latin typeface="Times New Roman"/>
                <a:ea typeface="楷体_GB2312"/>
              </a:rPr>
              <a:t>3022</a:t>
            </a:r>
            <a:r>
              <a:rPr b="1" lang="zh-CN" sz="2800" spc="-1" strike="noStrike">
                <a:solidFill>
                  <a:srgbClr val="e3e3ff"/>
                </a:solidFill>
                <a:latin typeface="Times New Roman"/>
                <a:ea typeface="楷体_GB2312"/>
              </a:rPr>
              <a:t>名 占</a:t>
            </a:r>
            <a:r>
              <a:rPr b="1" lang="zh-CN" sz="2800" spc="-1" strike="noStrike">
                <a:solidFill>
                  <a:srgbClr val="e3e3ff"/>
                </a:solidFill>
                <a:latin typeface="Times New Roman"/>
                <a:ea typeface="楷体_GB2312"/>
              </a:rPr>
              <a:t>95.88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平均出生体重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.3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公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e3e3ff"/>
                </a:solidFill>
                <a:latin typeface="Times New Roman"/>
                <a:ea typeface="楷体_GB2312"/>
              </a:rPr>
              <a:t>母乳喂养  </a:t>
            </a:r>
            <a:r>
              <a:rPr b="1" lang="zh-CN" sz="2800" spc="-1" strike="noStrike">
                <a:solidFill>
                  <a:srgbClr val="e3e3ff"/>
                </a:solidFill>
                <a:latin typeface="Times New Roman"/>
                <a:ea typeface="楷体_GB2312"/>
              </a:rPr>
              <a:t>2898</a:t>
            </a:r>
            <a:r>
              <a:rPr b="1" lang="zh-CN" sz="2800" spc="-1" strike="noStrike">
                <a:solidFill>
                  <a:srgbClr val="e3e3ff"/>
                </a:solidFill>
                <a:latin typeface="Times New Roman"/>
                <a:ea typeface="楷体_GB2312"/>
              </a:rPr>
              <a:t>名  占</a:t>
            </a:r>
            <a:r>
              <a:rPr b="1" lang="zh-CN" sz="2800" spc="-1" strike="noStrike">
                <a:solidFill>
                  <a:srgbClr val="e3e3ff"/>
                </a:solidFill>
                <a:latin typeface="Times New Roman"/>
                <a:ea typeface="楷体_GB2312"/>
              </a:rPr>
              <a:t>91.9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（二）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4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城市儿童系统管理情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35268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岁以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儿童系统管理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北京 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97.8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广州 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86.58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杭州 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93.7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上海 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88.5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岁以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儿童系统管理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北京 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98.06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广州 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94.7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杭州 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95.1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上海 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96.01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（三）流动人口儿童保健情况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流动人口儿童系统保健建卡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建卡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册的比例为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5.27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未建卡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册的比例为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4.73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流动人口儿童的系统管理率明显低于户籍人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流动人口儿童未建儿童系统保健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管理卡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/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册的原因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27664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3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不知道”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71.59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没有必要”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1.57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经济原因”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1.71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（四）流动人口儿童体检情况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828440" y="1752120"/>
            <a:ext cx="48769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近一年半接受体检的次数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未接受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7.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次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6.99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次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4.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次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.4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次以上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3.43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儿童 卫生 保健 服务</cp:keywords>
  <dc:language>en-US</dc:language>
  <cp:lastModifiedBy/>
  <cp:revision>0</cp:revision>
  <dc:subject/>
  <dc:title/>
</cp:coreProperties>
</file>