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8710-3C0C-4064-92DF-2E23E50E2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A711-A90E-496E-BF13-9059FFB7E0C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2D13-2BDA-4391-BF01-5914C3A9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2048-2B29-4E83-9D99-1C31C74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D72AB-6B5D-4B62-A90C-174601F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596F-9150-4B24-B598-4B8414C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1D733-9C50-44D6-82D3-87EDA95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81DB-80B9-4E74-84AF-FE95E7CD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A7ED-C764-4A87-9A02-E333E01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1542-4852-43B5-BF0D-35FDDE90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52EC-CDFD-4AFA-93BF-15C9B6C8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D34A-EA81-410E-97E0-1D3EFDB2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58BD-3A0D-4152-9CA3-384704DA076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E3702-3C5B-441D-960C-290EF3FE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1D106-60F3-41DB-B39A-904D896C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A57F-044D-4A41-89DC-0B7F3E26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297C9-C892-487B-9D49-EA81797A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4E90-1FF1-43E9-88CB-4CCD84D0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78F26-6B38-4801-B514-8455C5C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75C11-FFA0-425F-BF8D-27AECA7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A22E-9736-4C3F-80D2-97DCFEA2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72BB-8A39-455E-8A3A-3168441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8D380-E32F-417C-9277-37EAEA2E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559F-4659-4B10-8682-86314558E29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8257-1F8B-4AEC-8BBB-0FEAC2E9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33F04-F668-4E4C-B81C-84E15356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2ECBC-7A78-4E4F-A30C-98248BBE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91BF5-F19D-4752-8A0E-473C670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C1F32-B58C-46C0-9E6A-FC1F049D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8ADCB-4DD2-462B-A1D1-6688C361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18E03-8374-41D5-BB23-64A4C1B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F0454-7D93-4901-B389-A8C4078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D7D11-E0B8-47A5-BB2B-5D7C7A7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AECD6-6A00-4B3B-95B6-69D43A02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3C3F8-CCC7-4E56-96CD-04240AD4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EC533-543F-4DD2-BC7E-0F000E24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69AEB-8D32-4736-84EE-5FAF6A1B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6A03-0731-4F84-8D40-AAB60AC0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F9A38-D4BE-4764-B02F-7CBEE205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ED483-7FC8-47E4-B7E3-AC2BA7A2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2DE6E-56D7-4199-B99D-0D77AD13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06F6E-4E66-4455-850D-94F217FE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49449-D826-4F55-A1BC-F127282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A1952-C257-48B8-83DB-F6D97CA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6059-C9F3-431B-B653-48723FD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41A4F-ABAA-4427-8ED4-D5ECA09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E004F-A8BC-4CF5-BF57-0291A9E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2E587-1E60-4D92-AE18-0F2E39D4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3480E-B4DA-44A1-BB97-95D0C5C2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19D18-CEFA-4141-BD6A-A01757F7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9042A-6788-40ED-A03F-9811B746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6774A-D043-4965-9D39-3EE4942F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5D2F9-6E6D-471E-B9DF-8AF5A7E6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A87EB-407C-4D52-8A98-EDA3D1B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F3855-7A0A-4136-92EB-A5F1D5D1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33AAE-F3A3-4A61-A4CF-1B9191E4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1A6F2-1357-4006-BF5D-6583C6C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4FBE6-A60B-47DF-8BF7-8A5B32B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9C55D-65E3-4923-A10D-52ED261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6F573-F95C-4AFB-B6FA-26D86EB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D602A-21CB-41EA-AC04-A8C9055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DB612-F5C4-47CB-BFE8-55D98D9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31556-F94E-417D-ACF8-96F2E221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DFB6B-7002-4F21-9EB7-4CA3E662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6447A-0EC1-4B88-A369-A54A5073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ED7E8-C06D-49FD-B82D-931F5ED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2E5A-BA2F-4CA9-A5E3-F1EDDEA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65F96-7368-48D3-A49A-F106B63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0357-B1A2-455B-87A0-3DC2F0E65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03AD8-9EFB-4B15-BABE-351BF594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58585-30DC-40EF-BD9C-E75F402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28512-D3B3-407A-9E19-9C2205DF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993BB-9D3E-4784-BEE3-A8147128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E140A-EAC0-456A-B129-0654D562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D368-29E1-412A-BEBF-1F14FBC95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5618-BB78-4975-92A3-DAF7D3FBBD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20898-90DB-40B8-824D-40A3E14FCF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78E5C-BF75-46F2-8C31-27D070DFC2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67A94-79FD-4883-879B-73AAEEBB2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8F3D-A523-47BC-A665-80F4B29F8C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142A-D96E-4E68-AE3F-1F12B015F3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30E7F-1B0E-4C3F-95E0-BE28A7798A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88A6-B907-4FB1-92D1-83D003C3F7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5488C-7486-4FBD-9F20-2AB3A5877A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DA5F5-F654-4B34-B3DA-DD6EB177F8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490C-AC04-41EB-BF34-3AE7AC414D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FB99-65B5-42D6-A8E1-162047FD98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5F7C-DCB7-41DA-8F89-DFDD3B31B8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663C-23AA-4C4D-9CC2-CF917BE3DA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168D-CCCE-446E-925B-73B4AF068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6A94-AB0D-47B3-B33F-267651BEA2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9833-9C3F-48FA-A91A-5DC2D1BB7B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6083-6F05-4A4E-B5D0-DF457DACF5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EF63-3B79-4B7D-B627-084A84CD4F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BFD1-0436-4485-A03F-6A1CE7C3C6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3C0-CD4A-4143-A7DC-3184080B40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EFE9-0DED-41DC-8152-1804B194D2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79CD-E863-42B6-B6F5-BA5758DA14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09B9-BACB-4E14-89F4-8882CCBAB5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0F7-3535-40EE-909F-BBD76A272D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4F4A-16C4-4452-9465-833B6A84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E0D1-0A0F-4BF6-BE9D-42D78124CD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761D-66F6-4C99-9965-2FE812A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4C65-6129-4C22-A30A-050D03B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0153-2F82-448D-A329-E7BBC154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31D1-8B06-4B6B-8AEE-4D706CF9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728A-0330-40BB-9F82-55BCA27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5560-7789-4B1A-ADCB-18970ED2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79E3-D618-457D-A9DF-6C8A9DA3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CB8B-0335-47F5-986D-B5528567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C808-4FEB-4BA6-A524-90F0B5C2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16A4-DFB1-4F26-BAFC-529025A7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E7F2-5660-4244-923B-C94D7F41E6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789CB-8EB6-4FCB-BCFE-5558F90D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FAAB-989A-4875-8E18-3B0297B7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2BAE-5357-4AEC-AA37-79533BA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D630-0AF1-439F-B496-6EE85B2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44A5-2AF9-44A5-B8F9-501D87F6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98A3-2FF1-4C61-BD45-D1F52669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3280-D8B1-49B8-A4E6-024740E5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7B99-C497-4618-9EBA-A92E474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10EB-7411-494D-9197-C24049F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2D28-E506-49A0-8C40-185E773C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BD68-6F30-4B1F-AAAB-4CF6934845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1978-1499-46E2-8AB4-DAF35809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64F1-2634-4E8C-88C1-E37B7F18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DDA4-537A-49AA-8EB5-1971FB6D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2D8B8-8251-4450-9291-33604CAA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3AD3-05CB-46D7-9F3A-63BAB4B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7FF2-D68D-4674-B825-04F278AF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DB30-1F6B-4C24-9C78-3D3F63E5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315C-6DFC-4F80-811D-0912A0B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42DE-BB63-4D46-978F-94E3E4C6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9FA1-21D2-482F-AAAC-55216DA5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E545-0B6A-46E2-AAB4-D46350A207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407B-CCBC-4AA7-B377-5F055D2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BAD8-92EE-4198-97AD-E091347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C076-6437-4B78-90D6-D1D45C74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2475-0C94-4361-A575-4C610D1C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B56D-0CBF-444B-831F-5234F79D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0E08-8FF3-45F9-B07E-14702016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D440-8EAA-44C2-91D9-3AE1465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3DEC1-3B66-43E7-8847-51DB020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51BCC-E5A9-4371-BE16-BF8756DE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A37D-4E06-45C8-BF3B-AE5B1B44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505A-86FA-479F-ACF1-B35725B50C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D60AE-5D44-48CA-BDCF-B68CAAE3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5665-44DD-421A-A91D-F3F37491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AFFA5-6965-4355-8C57-F05504E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AC72-B014-494F-B8FD-ED70072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5F12F-C778-49A6-814B-45DC9414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5425-F920-42FD-A95E-B0FED3AC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791A-378C-4F31-A819-C78E02E5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DC61-8083-4CF8-903F-F387C950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66801-5295-4181-90BE-C91C70A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0AC5-9C94-41CA-BDAF-BB88293B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blog.sina.com.cn/9ippt" TargetMode="Externa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57B6-9760-4AA3-832D-634B412E8086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4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87C-968E-48B5-BE55-4BBD08715FCA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7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C2AC-49CF-4EB8-A759-98C720C1A3BD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7D86-3ED0-4839-975C-36AA0EFECCAD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3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D919-0AB5-4523-A9CC-CB539A70FA1D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468-3AA9-4B40-9582-408EAF0C8C1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8B96-61ED-4CB2-8776-7E90C98078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圆角矩形 4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Num" idx="5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90D-22E8-477D-8795-E5367F97234E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878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>
            <a:hlinkClick r:id="rId3"/>
          </p:cNvPr>
          <p:cNvSpPr/>
          <p:nvPr/>
        </p:nvSpPr>
        <p:spPr>
          <a:xfrm>
            <a:off x="826920" y="638172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圆角矩形 7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Num" idx="6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28B-60E7-4445-AC49-A213B92E13C3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B81-4899-48D6-8C66-731654587008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8768-7E17-451C-BD01-942167C7E42F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5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3B4F-42F0-4AE7-900D-40EAB0A41E7B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8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FC0D-9F6E-4A84-96DB-77B825A3D5BE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圆角矩形 2"/>
          <p:cNvSpPr/>
          <p:nvPr/>
        </p:nvSpPr>
        <p:spPr>
          <a:xfrm>
            <a:off x="0" y="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圆角矩形 3"/>
          <p:cNvSpPr/>
          <p:nvPr/>
        </p:nvSpPr>
        <p:spPr>
          <a:xfrm>
            <a:off x="5904000" y="6605640"/>
            <a:ext cx="3240000" cy="252360"/>
          </a:xfrm>
          <a:prstGeom prst="roundRect">
            <a:avLst>
              <a:gd name="adj" fmla="val 16667"/>
            </a:avLst>
          </a:prstGeom>
          <a:solidFill>
            <a:srgbClr val="22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1"/>
          </p:nvPr>
        </p:nvSpPr>
        <p:spPr>
          <a:xfrm>
            <a:off x="8604000" y="0"/>
            <a:ext cx="539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4F52-A49A-4C33-A162-DCB78B2376AA}" type="slidenum"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圆角矩形 13"/>
          <p:cNvSpPr/>
          <p:nvPr/>
        </p:nvSpPr>
        <p:spPr>
          <a:xfrm>
            <a:off x="-9360" y="2421000"/>
            <a:ext cx="9153360" cy="2924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1042920" y="3068640"/>
            <a:ext cx="74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复古工作团队报告</a:t>
            </a:r>
            <a:r>
              <a:rPr b="0" lang="en-US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5364000" y="4581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工作团队</a:t>
            </a:r>
            <a:r>
              <a:rPr b="0" lang="en-US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or</a:t>
            </a:r>
            <a:r>
              <a:rPr b="0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报告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7667640" y="765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12" descr="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831960"/>
          </a:xfrm>
          <a:prstGeom prst="rect">
            <a:avLst/>
          </a:prstGeom>
          <a:ln w="0">
            <a:noFill/>
          </a:ln>
        </p:spPr>
      </p:pic>
      <p:sp>
        <p:nvSpPr>
          <p:cNvPr id="540" name="任意多边形 14"/>
          <p:cNvSpPr/>
          <p:nvPr/>
        </p:nvSpPr>
        <p:spPr>
          <a:xfrm>
            <a:off x="0" y="907920"/>
            <a:ext cx="9129600" cy="1481400"/>
          </a:xfrm>
          <a:custGeom>
            <a:avLst/>
            <a:gdLst/>
            <a:ahLst/>
            <a:rect l="l" t="t" r="r" b="b"/>
            <a:pathLst>
              <a:path w="9129387" h="1482247">
                <a:moveTo>
                  <a:pt x="0" y="899787"/>
                </a:moveTo>
                <a:cubicBezTo>
                  <a:pt x="825674" y="610644"/>
                  <a:pt x="1651349" y="321502"/>
                  <a:pt x="2430050" y="411272"/>
                </a:cubicBezTo>
                <a:cubicBezTo>
                  <a:pt x="3208751" y="501042"/>
                  <a:pt x="3839228" y="1482247"/>
                  <a:pt x="4672209" y="1438406"/>
                </a:cubicBezTo>
                <a:cubicBezTo>
                  <a:pt x="5505190" y="1394565"/>
                  <a:pt x="6726477" y="296450"/>
                  <a:pt x="7427935" y="148225"/>
                </a:cubicBezTo>
                <a:cubicBezTo>
                  <a:pt x="8129393" y="0"/>
                  <a:pt x="8632521" y="471814"/>
                  <a:pt x="8880954" y="549058"/>
                </a:cubicBezTo>
                <a:cubicBezTo>
                  <a:pt x="9129387" y="626302"/>
                  <a:pt x="9023959" y="618995"/>
                  <a:pt x="8918532" y="611688"/>
                </a:cubicBezTo>
              </a:path>
            </a:pathLst>
          </a:custGeom>
          <a:noFill/>
          <a:ln w="38160">
            <a:solidFill>
              <a:srgbClr val="eb641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CA6-9675-4B52-BD85-740820C0A419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21"/>
          <p:cNvSpPr/>
          <p:nvPr/>
        </p:nvSpPr>
        <p:spPr>
          <a:xfrm>
            <a:off x="2916360" y="33336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1908000" y="1628640"/>
            <a:ext cx="5112000" cy="329256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输入文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FEB4-32B0-43B4-8D8D-D24679D91D30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395280" y="40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6372360" y="33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文并茂？这么排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图片 24" descr=""/>
          <p:cNvPicPr/>
          <p:nvPr/>
        </p:nvPicPr>
        <p:blipFill>
          <a:blip r:embed="rId1"/>
          <a:stretch/>
        </p:blipFill>
        <p:spPr>
          <a:xfrm>
            <a:off x="673200" y="1916280"/>
            <a:ext cx="3836880" cy="76485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30"/>
          <p:cNvSpPr/>
          <p:nvPr/>
        </p:nvSpPr>
        <p:spPr>
          <a:xfrm>
            <a:off x="5076720" y="1989000"/>
            <a:ext cx="3598920" cy="3292560"/>
          </a:xfrm>
          <a:prstGeom prst="pi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8B3A-7AC5-437C-B148-17CC7D257913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1"/>
          <p:cNvSpPr/>
          <p:nvPr/>
        </p:nvSpPr>
        <p:spPr>
          <a:xfrm>
            <a:off x="395280" y="40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23"/>
          <p:cNvSpPr/>
          <p:nvPr/>
        </p:nvSpPr>
        <p:spPr>
          <a:xfrm>
            <a:off x="6372360" y="476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是文字？这么排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5076720" y="2060640"/>
            <a:ext cx="3527640" cy="3385800"/>
          </a:xfrm>
          <a:prstGeom prst="pi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对角圆角矩形 8"/>
          <p:cNvSpPr/>
          <p:nvPr/>
        </p:nvSpPr>
        <p:spPr>
          <a:xfrm rot="16200000">
            <a:off x="503280" y="2168280"/>
            <a:ext cx="3924360" cy="3492360"/>
          </a:xfrm>
          <a:custGeom>
            <a:avLst/>
            <a:gdLst/>
            <a:ahLst/>
            <a:rect l="l" t="t" r="r" b="b"/>
            <a:pathLst>
              <a:path w="3924300" h="3492500">
                <a:moveTo>
                  <a:pt x="582094" y="0"/>
                </a:moveTo>
                <a:lnTo>
                  <a:pt x="3924300" y="0"/>
                </a:lnTo>
                <a:lnTo>
                  <a:pt x="3924300" y="0"/>
                </a:lnTo>
                <a:lnTo>
                  <a:pt x="3924300" y="2910405"/>
                </a:lnTo>
                <a:cubicBezTo>
                  <a:pt x="3924300" y="3231887"/>
                  <a:pt x="3663688" y="3492499"/>
                  <a:pt x="3342206" y="3492499"/>
                </a:cubicBezTo>
                <a:lnTo>
                  <a:pt x="0" y="3492500"/>
                </a:lnTo>
                <a:lnTo>
                  <a:pt x="0" y="3492500"/>
                </a:lnTo>
                <a:lnTo>
                  <a:pt x="0" y="582094"/>
                </a:lnTo>
                <a:cubicBezTo>
                  <a:pt x="0" y="260612"/>
                  <a:pt x="260612" y="0"/>
                  <a:pt x="582094" y="0"/>
                </a:cubicBezTo>
                <a:close/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971640" y="2133720"/>
            <a:ext cx="29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3535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直接连接符 11"/>
          <p:cNvSpPr/>
          <p:nvPr/>
        </p:nvSpPr>
        <p:spPr>
          <a:xfrm>
            <a:off x="4643280" y="1125360"/>
            <a:ext cx="0" cy="5040360"/>
          </a:xfrm>
          <a:prstGeom prst="line">
            <a:avLst/>
          </a:prstGeom>
          <a:ln w="25560">
            <a:solidFill>
              <a:srgbClr val="7030a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3"/>
          <p:cNvSpPr/>
          <p:nvPr/>
        </p:nvSpPr>
        <p:spPr>
          <a:xfrm>
            <a:off x="8286840" y="0"/>
            <a:ext cx="85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FB6-BDA9-4827-A69C-D18131E6D2F2}" type="slidenum"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17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34920">
            <a:solidFill>
              <a:srgbClr val="28a0b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21"/>
          <p:cNvSpPr/>
          <p:nvPr/>
        </p:nvSpPr>
        <p:spPr>
          <a:xfrm>
            <a:off x="395280" y="40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23"/>
          <p:cNvSpPr/>
          <p:nvPr/>
        </p:nvSpPr>
        <p:spPr>
          <a:xfrm>
            <a:off x="6084720" y="47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图？这么排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图片 9" descr=""/>
          <p:cNvPicPr/>
          <p:nvPr/>
        </p:nvPicPr>
        <p:blipFill>
          <a:blip r:embed="rId1"/>
          <a:stretch/>
        </p:blipFill>
        <p:spPr>
          <a:xfrm>
            <a:off x="563400" y="1292400"/>
            <a:ext cx="5807160" cy="44161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0"/>
          <p:cNvSpPr/>
          <p:nvPr/>
        </p:nvSpPr>
        <p:spPr>
          <a:xfrm>
            <a:off x="6443640" y="2276640"/>
            <a:ext cx="2413080" cy="990720"/>
          </a:xfrm>
          <a:prstGeom prst="cloudCallout">
            <a:avLst>
              <a:gd name="adj1" fmla="val -44615"/>
              <a:gd name="adj2" fmla="val 130310"/>
            </a:avLst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图，你想说点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键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DD76-BC81-41BC-8B24-0BC988565E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折角形 17"/>
          <p:cNvSpPr/>
          <p:nvPr/>
        </p:nvSpPr>
        <p:spPr>
          <a:xfrm>
            <a:off x="5508720" y="1773360"/>
            <a:ext cx="3311280" cy="3743280"/>
          </a:xfrm>
          <a:prstGeom prst="foldedCorner">
            <a:avLst>
              <a:gd name="adj" fmla="val 16666"/>
            </a:avLst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0"/>
          <p:cNvSpPr/>
          <p:nvPr/>
        </p:nvSpPr>
        <p:spPr>
          <a:xfrm>
            <a:off x="7667640" y="765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图片 12" descr="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83196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11" descr=""/>
          <p:cNvPicPr/>
          <p:nvPr/>
        </p:nvPicPr>
        <p:blipFill>
          <a:blip r:embed="rId2"/>
          <a:stretch/>
        </p:blipFill>
        <p:spPr>
          <a:xfrm>
            <a:off x="1440" y="1031760"/>
            <a:ext cx="5424480" cy="5072040"/>
          </a:xfrm>
          <a:prstGeom prst="rect">
            <a:avLst/>
          </a:prstGeom>
          <a:ln w="0">
            <a:noFill/>
          </a:ln>
        </p:spPr>
      </p:pic>
      <p:grpSp>
        <p:nvGrpSpPr>
          <p:cNvPr id="576" name="组合 1"/>
          <p:cNvGrpSpPr/>
          <p:nvPr/>
        </p:nvGrpSpPr>
        <p:grpSpPr>
          <a:xfrm>
            <a:off x="5940360" y="3860640"/>
            <a:ext cx="3962520" cy="1427400"/>
            <a:chOff x="5940360" y="3860640"/>
            <a:chExt cx="3962520" cy="1427400"/>
          </a:xfrm>
        </p:grpSpPr>
        <p:pic>
          <p:nvPicPr>
            <p:cNvPr id="577" name="图片 6" descr="邮件.png"/>
            <p:cNvPicPr/>
            <p:nvPr/>
          </p:nvPicPr>
          <p:blipFill>
            <a:blip r:embed="rId3"/>
            <a:stretch/>
          </p:blipFill>
          <p:spPr>
            <a:xfrm>
              <a:off x="5940360" y="4928040"/>
              <a:ext cx="44208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>
              <a:off x="6470640" y="4896360"/>
              <a:ext cx="34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66c7d"/>
                  </a:solidFill>
                  <a:latin typeface="Calibri"/>
                </a:rPr>
                <a:t>Your mai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图片 8" descr="QQ.png"/>
            <p:cNvPicPr/>
            <p:nvPr/>
          </p:nvPicPr>
          <p:blipFill>
            <a:blip r:embed="rId4"/>
            <a:stretch/>
          </p:blipFill>
          <p:spPr>
            <a:xfrm>
              <a:off x="5940360" y="4423320"/>
              <a:ext cx="525960" cy="4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9"/>
            <p:cNvSpPr/>
            <p:nvPr/>
          </p:nvSpPr>
          <p:spPr>
            <a:xfrm>
              <a:off x="6470640" y="4427640"/>
              <a:ext cx="246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66c7d"/>
                  </a:solidFill>
                  <a:latin typeface="Calibri"/>
                  <a:ea typeface="Arial"/>
                </a:rPr>
                <a:t>Your QQ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TextBox 15"/>
            <p:cNvSpPr/>
            <p:nvPr/>
          </p:nvSpPr>
          <p:spPr>
            <a:xfrm>
              <a:off x="6470640" y="3860640"/>
              <a:ext cx="2743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b641b"/>
                  </a:solidFill>
                  <a:latin typeface="Calibri"/>
                  <a:ea typeface="微软雅黑"/>
                </a:rPr>
                <a:t>Your 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2" name="图片 11" descr="vcard.png"/>
            <p:cNvPicPr/>
            <p:nvPr/>
          </p:nvPicPr>
          <p:blipFill>
            <a:blip r:embed="rId5"/>
            <a:stretch/>
          </p:blipFill>
          <p:spPr>
            <a:xfrm>
              <a:off x="5940360" y="3933720"/>
              <a:ext cx="442440" cy="36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TextBox 18"/>
          <p:cNvSpPr/>
          <p:nvPr/>
        </p:nvSpPr>
        <p:spPr>
          <a:xfrm>
            <a:off x="5867280" y="2349360"/>
            <a:ext cx="2737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105766"/>
                </a:solidFill>
                <a:latin typeface="Calibri"/>
              </a:rPr>
              <a:t>You are more than welcomed to  contact m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5:45:22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9:13Z</dcterms:modified>
  <cp:revision>51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