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965-A65B-4203-9EB8-BB3D8295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68D-DEA1-4187-B13B-B340C178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110-8E2B-4409-A656-74B2CA58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805-EEB7-455D-9B82-D8D60C63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CC7A-83B2-48EE-861C-EB8FAC29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5D6D-77D9-4EAC-8212-F1F96EA1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97CE-2DFF-4BE5-8456-B92EF5C4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BB2A-7593-426D-BA8C-A21265F3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89AA-0243-4E55-8E4D-0B80E46E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6D2-57E0-4336-8371-30860490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1FB2-FB8D-4215-BAB2-81EBFB02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7DF-55D7-42DD-A83F-EBF2A930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AD76-6B46-4F99-AA14-7FFFB1FB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1EC9-0956-45DA-99B5-79B053A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1807-616E-4780-B0C8-484FC7B8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43AC-0D01-4827-8198-313FB58C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F833-62F1-4692-9144-14B4B44D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DF3-7EC9-478D-80B9-C8E493A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52A-B7AE-4542-B175-E51822E9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9DC-0C96-4F10-9502-14F63488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E7C-F521-4346-9B0E-495A572E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DDF-C0BE-441F-A497-033531F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C49-A163-4D1E-9500-C0A1F9C2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054-F919-4FDA-86A1-27EDDFD6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A4FB-5E72-4F50-AF11-5DEE412494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6DDC-7B82-4A9C-A135-D4F2463A0E5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4FC8-0C4D-428F-84F2-3A0FB15E4E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428840" y="285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3926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"/>
          <p:cNvSpPr/>
          <p:nvPr/>
        </p:nvSpPr>
        <p:spPr>
          <a:xfrm>
            <a:off x="1477800" y="1557360"/>
            <a:ext cx="66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卡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15912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24260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5569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10911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4285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1854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15912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5426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2926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2211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1377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6569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456912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2118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130572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140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1140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854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7569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8"/>
          <p:cNvSpPr/>
          <p:nvPr/>
        </p:nvSpPr>
        <p:spPr>
          <a:xfrm>
            <a:off x="14486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1640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3997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6712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18057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6069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13770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4140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39978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7807-46FE-4EDE-871C-350E761CF8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6:33Z</dcterms:modified>
  <cp:revision>81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