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20.jpeg" ContentType="image/jpe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3F1-B310-433A-988E-148AFCE50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7C25-5AF2-4793-9FC4-B35F1118D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F4ED-1790-4BDC-A30D-5133A5C83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360-10EC-46FB-9FC1-B571DE72A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D823-4C37-4793-8F51-7BCD981C4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77D60-99D0-4FF1-9B47-0A2B10A4D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FC75-8A0B-436C-8430-DBC141A8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758C-B150-4544-AA6A-BC115D4C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1B30-F47A-4132-830D-AE37ECA03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D4C0-ED5C-4F2A-A6A6-783241D09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5BC2-C0B4-4DDA-9E4E-761C677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B04B-7F8E-4612-9037-4C1C47499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2F6F-CC52-4204-8856-F1404D1D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E681E-2CA6-410B-BBF9-E80C3C5A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6FB4-B2FF-4EE0-BE63-C14B2086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2D85-40F2-4BB2-BF1C-C1D89BFB1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967EA-2F41-41C6-B84D-1198B43F8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A0C631-7714-45B1-BAF8-2E8DAC910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4C51CE-AB20-4FE3-AC35-9359EC612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D9AE3D-36BE-4159-B0C5-05106C9AE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96DEE8-D3B0-438B-A8CF-DD8B49F7C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FCFB6F-477C-4450-831A-D70788D8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6C0-11C7-4504-99A6-4B6272BD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750A4B-39A4-43A4-A7C9-96CEA2D6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551446-DC2C-4432-A927-EB16528D8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1D0B26-7137-4F16-A324-5245F5D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6BA50EB-79E2-43DC-96A1-40F9D544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CD61DD-8D66-47AB-94F5-E004AFCF5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7E944-7B9A-4CC6-A60B-24212A33A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308FCC-F6D7-41A6-AC5C-35EC495F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4E1B8D-5292-430D-88E9-E1709DBCB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CF1371-8A30-46CE-8E4A-4028F8089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057383-EA94-4A12-9FD1-133570B5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C630-EFC4-44CF-92DC-DCE2950D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04C7D7-409E-45CB-B1EA-0135E6D1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E750E-1A88-4F86-A41D-29C1BD0CC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B84AFF-7D4A-4FB2-AC7C-AE645FED4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44761E1-CB77-4D7F-8A9E-72F0D87D0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C7627-A140-4F19-8EFA-DB72E783C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301BF3-7492-4173-875C-637F5399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FA986D-B8A4-45D3-9004-A8A3E0DA0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65D4EDB-4A01-4610-922A-2CE33B7C9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8DD9753-5BB5-4DF9-8578-6A2E0E57E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FB328E-DE7F-451F-8F9F-90011DFC3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07F5-B13D-47A9-9F58-882F04DC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54F7E96-855D-435B-BF36-A1983ADB1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7F1C78-3ECD-4054-981B-08FE82E1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129F18-2044-4CFB-AD6E-33543059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17A8CB-6C69-414F-BFCE-C019619C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39314EF-5D7F-48D4-ACFA-573E5A2FD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2CD955-1E09-4E4C-8E66-2E082086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6A39F83-9DE9-4790-A987-C7EDF7B34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C304C3-C64B-4407-8D08-C3069CC84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EF698A8-5FBB-4617-B644-1A05CE646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1B21AE5-C80F-4A06-A8F1-D7B300A2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DCA2-320C-4997-A538-55EDE536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501E29-9584-423E-92C4-5AFD01275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E610AE-CFC6-4210-83D4-EC60FC983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2EA287-CE15-4ADC-AD05-746EEC45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3AEEE0-7AFC-4636-AE4B-D5DF03C1A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D3F624C-7663-4EDB-9D1A-6E8106E9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E0E5339-203F-4C8A-B06F-FF663130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A54D1F-0B7A-459D-AD96-84E86BC76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81EBDD-FD89-46D5-95E5-4D179F94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8E15BA-FEDB-4BB6-9ED8-5BEB4493F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4B8286-E913-47A1-AFE5-574EE37A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7933-BC59-4597-ACF5-453E67D1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5ABB3F-C05B-4E3D-BBC0-DF62F992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6755FD-88CC-4F22-82BF-B90ED343B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B57821-C853-44DC-B765-213716FF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1BE6AB-C345-443D-819F-D0040597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C0D2B2-009F-48EA-A5D8-372FB215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5A8F8E-D43A-46CB-A75F-8868A547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B8BCD-51FF-4E94-B8F3-CEDF43BE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7E6DDF-F33C-425C-8777-EB090C596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7B8226-0FEB-4E79-A761-61FEEE66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58F047-86D4-444E-A477-32DACA19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0EF6-421B-4C3A-B236-E39049E37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62942-8B76-4883-B7DD-1C0754A8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2FF2C-4D07-4741-A5F6-8AD65884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80486-ECA0-4D77-A7BA-56A6C5D9A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2FDAE5-369E-4060-9F2B-42A89E42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4079A1-8199-44FE-BA30-7EA5E72A3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B42D8-DEA4-47B3-8186-91DE15F78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ABF867-3631-4790-B16D-B80F028E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ACBF4-E526-42AA-A698-4EC6F70BD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37DF-DEF9-45F1-8E37-C15A32CB5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E87A7F-3C0E-46AD-9BC9-94859742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6960-FD75-41A9-9959-E5C48785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71CC0-5F72-403A-AF9D-8F1F13102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B9260-7F6B-44B3-A005-CF7794991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E353D-29E7-4F1C-B365-013E90C7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522F32-8986-4542-8C48-BDF5B68D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849F6-2EF0-4350-A3E6-AC2C9FA96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943D66-6D0B-4589-9302-E4CE3C46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B43EC-ED94-4757-AE7E-4C1F10F8F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BDF0-9B0F-4281-ACD1-5784903F355C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BD2B-2C80-459D-B92B-25BBC6EAE14C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E03B-0FBA-49B2-9456-7FB2D0BEA30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A771-FAFA-4A16-9DB3-55BF055AC5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3" descr=""/>
          <p:cNvPicPr/>
          <p:nvPr/>
        </p:nvPicPr>
        <p:blipFill>
          <a:blip r:embed="rId2"/>
          <a:stretch/>
        </p:blipFill>
        <p:spPr>
          <a:xfrm>
            <a:off x="7790040" y="3817800"/>
            <a:ext cx="1339560" cy="13258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7"/>
          </p:nvPr>
        </p:nvSpPr>
        <p:spPr>
          <a:xfrm>
            <a:off x="8459640" y="4587480"/>
            <a:ext cx="527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D303A-EEA4-4CFE-8D71-D96A17BC941B}" type="slidenum">
              <a: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53BB5-483A-492C-9C10-DF73F86BEF0B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2" descr=""/>
          <p:cNvPicPr/>
          <p:nvPr/>
        </p:nvPicPr>
        <p:blipFill>
          <a:blip r:embed="rId2"/>
          <a:stretch/>
        </p:blipFill>
        <p:spPr>
          <a:xfrm>
            <a:off x="7812000" y="3817800"/>
            <a:ext cx="1320840" cy="1314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10"/>
          </p:nvPr>
        </p:nvSpPr>
        <p:spPr>
          <a:xfrm>
            <a:off x="8508960" y="4587480"/>
            <a:ext cx="527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A52C-71BA-4410-A29C-73C617658DC0}" type="slidenum">
              <a: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dt" idx="1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B7C2-D8F3-47C0-A5B5-840055487069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1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图片 1" descr=""/>
          <p:cNvPicPr/>
          <p:nvPr/>
        </p:nvPicPr>
        <p:blipFill>
          <a:blip r:embed="rId2"/>
          <a:stretch/>
        </p:blipFill>
        <p:spPr>
          <a:xfrm>
            <a:off x="7810560" y="3817800"/>
            <a:ext cx="1319040" cy="132588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3"/>
          </p:nvPr>
        </p:nvSpPr>
        <p:spPr>
          <a:xfrm>
            <a:off x="8459640" y="4587480"/>
            <a:ext cx="527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97A4E-CF10-4D12-9024-21DA23396593}" type="slidenum">
              <a: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dt" idx="1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50446-A5B2-4508-9E09-8A4FAB28AAC4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2" descr=""/>
          <p:cNvPicPr/>
          <p:nvPr/>
        </p:nvPicPr>
        <p:blipFill>
          <a:blip r:embed="rId2"/>
          <a:stretch/>
        </p:blipFill>
        <p:spPr>
          <a:xfrm>
            <a:off x="7810560" y="3811680"/>
            <a:ext cx="1298520" cy="135252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Num" idx="16"/>
          </p:nvPr>
        </p:nvSpPr>
        <p:spPr>
          <a:xfrm>
            <a:off x="8459640" y="4587480"/>
            <a:ext cx="527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AC698-A9EE-4FF8-9FAE-A48458F3FACB}" type="slidenum">
              <a:rPr b="0" lang="zh-CN" sz="1600" spc="-1" strike="noStrike">
                <a:solidFill>
                  <a:srgbClr val="000000"/>
                </a:solidFill>
                <a:latin typeface="Franklin Gothic Book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dt" idx="1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4E7C-FA7F-4EBE-8510-D98906D7EB50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椭圆 5"/>
          <p:cNvSpPr/>
          <p:nvPr/>
        </p:nvSpPr>
        <p:spPr>
          <a:xfrm>
            <a:off x="-3565440" y="1001880"/>
            <a:ext cx="3154320" cy="3154320"/>
          </a:xfrm>
          <a:prstGeom prst="ellips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1" name="TextBox 6"/>
          <p:cNvSpPr/>
          <p:nvPr/>
        </p:nvSpPr>
        <p:spPr>
          <a:xfrm>
            <a:off x="-3276720" y="25560"/>
            <a:ext cx="172728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900" spc="-1" strike="noStrike">
                <a:solidFill>
                  <a:srgbClr val="ffc000"/>
                </a:solidFill>
                <a:latin typeface="MS Mincho"/>
                <a:ea typeface="MS Mincho"/>
              </a:rPr>
              <a:t>w</a:t>
            </a:r>
            <a:endParaRPr b="0" lang="en-US" sz="239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2" name="矩形 7"/>
          <p:cNvSpPr/>
          <p:nvPr/>
        </p:nvSpPr>
        <p:spPr>
          <a:xfrm>
            <a:off x="-2089080" y="1969920"/>
            <a:ext cx="1189080" cy="378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Franklin Gothic Book"/>
                <a:ea typeface="MS Mincho"/>
              </a:rPr>
              <a:t>INNING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3" name="椭圆 8"/>
          <p:cNvSpPr/>
          <p:nvPr/>
        </p:nvSpPr>
        <p:spPr>
          <a:xfrm>
            <a:off x="-1836720" y="2658960"/>
            <a:ext cx="1158840" cy="11588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1092-9017-4B65-BC78-F76FA3FF6AB9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1C26A-80DB-46D4-9756-5016BE64AA75}" type="slidenum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4"/>
          <p:cNvSpPr/>
          <p:nvPr/>
        </p:nvSpPr>
        <p:spPr>
          <a:xfrm>
            <a:off x="4680" y="4513320"/>
            <a:ext cx="8477280" cy="630360"/>
          </a:xfrm>
          <a:prstGeom prst="rect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6" name="椭圆 6"/>
          <p:cNvSpPr/>
          <p:nvPr/>
        </p:nvSpPr>
        <p:spPr>
          <a:xfrm>
            <a:off x="8388360" y="4513320"/>
            <a:ext cx="630360" cy="63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7" name="椭圆 5"/>
          <p:cNvSpPr/>
          <p:nvPr/>
        </p:nvSpPr>
        <p:spPr>
          <a:xfrm>
            <a:off x="8481960" y="4513320"/>
            <a:ext cx="630360" cy="630360"/>
          </a:xfrm>
          <a:prstGeom prst="ellipse">
            <a:avLst/>
          </a:prstGeom>
          <a:solidFill>
            <a:srgbClr val="1737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4E1C0-0402-4E88-8711-1EA5649EE64A}" type="datetime">
              <a:rPr b="0" lang="zh-CN" sz="1200" spc="-1" strike="noStrike">
                <a:solidFill>
                  <a:srgbClr val="898989"/>
                </a:solidFill>
                <a:latin typeface="Franklin Gothic Book"/>
                <a:ea typeface="微软雅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534520" y="4673160"/>
            <a:ext cx="52704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Franklin Gothic Book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959C-7CA9-4014-9A3E-EFB434660A89}" type="slidenum">
              <a:rPr b="0" lang="zh-CN" sz="16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jpeg"/><Relationship Id="rId6" Type="http://schemas.openxmlformats.org/officeDocument/2006/relationships/hyperlink" Target="http://www.eeppt.com" TargetMode="External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1"/>
          <p:cNvSpPr/>
          <p:nvPr/>
        </p:nvSpPr>
        <p:spPr>
          <a:xfrm>
            <a:off x="845964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40D5-586A-47E0-B6B0-075ECAF0670A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0" name="TextBox 2"/>
          <p:cNvSpPr/>
          <p:nvPr/>
        </p:nvSpPr>
        <p:spPr>
          <a:xfrm>
            <a:off x="244440" y="26820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Franklin Gothic Book"/>
              </a:rPr>
              <a:t>发言权与尊重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41" name="图片 5" descr="未标题-1.png"/>
          <p:cNvPicPr/>
          <p:nvPr/>
        </p:nvPicPr>
        <p:blipFill>
          <a:blip r:embed="rId1"/>
          <a:stretch/>
        </p:blipFill>
        <p:spPr>
          <a:xfrm flipH="1">
            <a:off x="3492000" y="1373040"/>
            <a:ext cx="4289400" cy="3770640"/>
          </a:xfrm>
          <a:prstGeom prst="rect">
            <a:avLst/>
          </a:prstGeom>
          <a:ln w="0">
            <a:noFill/>
          </a:ln>
        </p:spPr>
      </p:pic>
      <p:sp>
        <p:nvSpPr>
          <p:cNvPr id="342" name="直接连接符 4"/>
          <p:cNvSpPr/>
          <p:nvPr/>
        </p:nvSpPr>
        <p:spPr>
          <a:xfrm>
            <a:off x="0" y="3940200"/>
            <a:ext cx="4140360" cy="0"/>
          </a:xfrm>
          <a:prstGeom prst="line">
            <a:avLst/>
          </a:prstGeom>
          <a:ln w="936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3" name="TextBox 5"/>
          <p:cNvSpPr/>
          <p:nvPr/>
        </p:nvSpPr>
        <p:spPr>
          <a:xfrm>
            <a:off x="301680" y="3057480"/>
            <a:ext cx="38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Franklin Gothic Book"/>
              </a:rPr>
              <a:t>倾听 关注 </a:t>
            </a:r>
            <a:r>
              <a:rPr b="1" lang="zh-CN" sz="2400" spc="-1" strike="noStrike">
                <a:solidFill>
                  <a:srgbClr val="404040"/>
                </a:solidFill>
                <a:latin typeface="Franklin Gothic Book"/>
              </a:rPr>
              <a:t>每一个人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7640" y="771480"/>
            <a:ext cx="8589960" cy="132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04040"/>
                </a:solidFill>
                <a:latin typeface="Franklin Gothic Medium"/>
              </a:rPr>
              <a:t>发言权与尊重国外</a:t>
            </a:r>
            <a:r>
              <a:rPr b="1" lang="en-US" sz="4000" spc="-1" strike="noStrike">
                <a:solidFill>
                  <a:srgbClr val="404040"/>
                </a:solidFill>
                <a:latin typeface="Franklin Gothic Medium"/>
              </a:rPr>
              <a:t>PPT</a:t>
            </a:r>
            <a:r>
              <a:rPr b="1" lang="zh-CN" sz="4000" spc="-1" strike="noStrike">
                <a:solidFill>
                  <a:srgbClr val="404040"/>
                </a:solidFill>
                <a:latin typeface="Franklin Gothic Medium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5" name="文本框 6155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图片 8" descr=""/>
          <p:cNvPicPr/>
          <p:nvPr/>
        </p:nvPicPr>
        <p:blipFill>
          <a:blip r:embed="rId1"/>
          <a:stretch/>
        </p:blipFill>
        <p:spPr>
          <a:xfrm flipH="1">
            <a:off x="-3240" y="-20520"/>
            <a:ext cx="4356000" cy="5170320"/>
          </a:xfrm>
          <a:prstGeom prst="rect">
            <a:avLst/>
          </a:prstGeom>
          <a:ln w="0">
            <a:noFill/>
          </a:ln>
        </p:spPr>
      </p:pic>
      <p:sp>
        <p:nvSpPr>
          <p:cNvPr id="356" name="灯片编号占位符 1"/>
          <p:cNvSpPr/>
          <p:nvPr/>
        </p:nvSpPr>
        <p:spPr>
          <a:xfrm>
            <a:off x="845964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73862-BFB1-4A0F-88A8-6EF6D2FF0AEF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7" name="矩形 2"/>
          <p:cNvSpPr/>
          <p:nvPr/>
        </p:nvSpPr>
        <p:spPr>
          <a:xfrm>
            <a:off x="4437000" y="50760"/>
            <a:ext cx="3735360" cy="8431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招聘合适的人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8" name="TextBox 5"/>
          <p:cNvSpPr/>
          <p:nvPr/>
        </p:nvSpPr>
        <p:spPr>
          <a:xfrm>
            <a:off x="-108000" y="3452760"/>
            <a:ext cx="54007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a6a6a6"/>
                </a:solidFill>
                <a:latin typeface="Bodoni MT Black"/>
              </a:rPr>
              <a:t>4E1P</a:t>
            </a:r>
            <a:endParaRPr b="0" lang="en-US" sz="13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9" name="TextBox 4"/>
          <p:cNvSpPr/>
          <p:nvPr/>
        </p:nvSpPr>
        <p:spPr>
          <a:xfrm>
            <a:off x="4538520" y="1243080"/>
            <a:ext cx="3888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59595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Franklin Gothic Book"/>
              </a:rPr>
              <a:t>Energy</a:t>
            </a:r>
            <a:r>
              <a:rPr b="0" lang="zh-CN" sz="2000" spc="-1" strike="noStrike">
                <a:solidFill>
                  <a:srgbClr val="262626"/>
                </a:solidFill>
                <a:latin typeface="Franklin Gothic Book"/>
              </a:rPr>
              <a:t>：积极向上活力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200000"/>
              </a:lnSpc>
              <a:buClr>
                <a:srgbClr val="59595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Franklin Gothic Book"/>
              </a:rPr>
              <a:t>Energize</a:t>
            </a:r>
            <a:r>
              <a:rPr b="0" lang="zh-CN" sz="2000" spc="-1" strike="noStrike">
                <a:solidFill>
                  <a:srgbClr val="262626"/>
                </a:solidFill>
                <a:latin typeface="Franklin Gothic Book"/>
              </a:rPr>
              <a:t>：激励别人的能力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200000"/>
              </a:lnSpc>
              <a:buClr>
                <a:srgbClr val="59595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Franklin Gothic Book"/>
              </a:rPr>
              <a:t>Edge</a:t>
            </a:r>
            <a:r>
              <a:rPr b="0" lang="zh-CN" sz="2000" spc="-1" strike="noStrike">
                <a:solidFill>
                  <a:srgbClr val="262626"/>
                </a:solidFill>
                <a:latin typeface="Franklin Gothic Book"/>
              </a:rPr>
              <a:t>：是非问题的决断力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200000"/>
              </a:lnSpc>
              <a:buClr>
                <a:srgbClr val="59595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Franklin Gothic Book"/>
              </a:rPr>
              <a:t>Execute</a:t>
            </a:r>
            <a:r>
              <a:rPr b="0" lang="zh-CN" sz="2000" spc="-1" strike="noStrike">
                <a:solidFill>
                  <a:srgbClr val="262626"/>
                </a:solidFill>
                <a:latin typeface="Franklin Gothic Book"/>
              </a:rPr>
              <a:t>：落实工作的执行力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85840" indent="-285840">
              <a:lnSpc>
                <a:spcPct val="200000"/>
              </a:lnSpc>
              <a:buClr>
                <a:srgbClr val="595959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Franklin Gothic Book"/>
              </a:rPr>
              <a:t>Passion</a:t>
            </a:r>
            <a:r>
              <a:rPr b="0" lang="zh-CN" sz="2000" spc="-1" strike="noStrike">
                <a:solidFill>
                  <a:srgbClr val="262626"/>
                </a:solidFill>
                <a:latin typeface="Franklin Gothic Book"/>
              </a:rPr>
              <a:t>：富有激情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灯片编号占位符 1"/>
          <p:cNvSpPr/>
          <p:nvPr/>
        </p:nvSpPr>
        <p:spPr>
          <a:xfrm>
            <a:off x="845964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2CF75-851A-4CB1-A4E1-4BF5EB98393C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矩形 2"/>
          <p:cNvSpPr/>
          <p:nvPr/>
        </p:nvSpPr>
        <p:spPr>
          <a:xfrm>
            <a:off x="3995640" y="74520"/>
            <a:ext cx="3516480" cy="84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招聘高层人员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62" name="组合 6"/>
          <p:cNvGrpSpPr/>
          <p:nvPr/>
        </p:nvGrpSpPr>
        <p:grpSpPr>
          <a:xfrm>
            <a:off x="4079880" y="1131840"/>
            <a:ext cx="3525840" cy="3917520"/>
            <a:chOff x="4079880" y="1131840"/>
            <a:chExt cx="3525840" cy="3917520"/>
          </a:xfrm>
        </p:grpSpPr>
        <p:sp>
          <p:nvSpPr>
            <p:cNvPr id="363" name="同侧圆角矩形 7"/>
            <p:cNvSpPr/>
            <p:nvPr/>
          </p:nvSpPr>
          <p:spPr>
            <a:xfrm>
              <a:off x="4079880" y="1131840"/>
              <a:ext cx="1549080" cy="1166400"/>
            </a:xfrm>
            <a:custGeom>
              <a:avLst/>
              <a:gdLst/>
              <a:ahLst/>
              <a:rect l="l" t="t" r="r" b="b"/>
              <a:pathLst>
                <a:path w="1528423" h="1140935">
                  <a:moveTo>
                    <a:pt x="91274" y="0"/>
                  </a:moveTo>
                  <a:lnTo>
                    <a:pt x="1437148" y="0"/>
                  </a:lnTo>
                  <a:cubicBezTo>
                    <a:pt x="1487557" y="0"/>
                    <a:pt x="1528422" y="40865"/>
                    <a:pt x="1528422" y="91274"/>
                  </a:cubicBezTo>
                  <a:lnTo>
                    <a:pt x="1528423" y="1140935"/>
                  </a:lnTo>
                  <a:lnTo>
                    <a:pt x="1528423" y="1140935"/>
                  </a:lnTo>
                  <a:lnTo>
                    <a:pt x="0" y="1140935"/>
                  </a:lnTo>
                  <a:lnTo>
                    <a:pt x="0" y="1140935"/>
                  </a:lnTo>
                  <a:lnTo>
                    <a:pt x="0" y="91274"/>
                  </a:lnTo>
                  <a:cubicBezTo>
                    <a:pt x="0" y="40865"/>
                    <a:pt x="40865" y="0"/>
                    <a:pt x="91274" y="0"/>
                  </a:cubicBez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4" name="任意多边形 8"/>
            <p:cNvSpPr/>
            <p:nvPr/>
          </p:nvSpPr>
          <p:spPr>
            <a:xfrm>
              <a:off x="4079880" y="2298240"/>
              <a:ext cx="1549080" cy="50148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320" rIns="47736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真   诚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365" name="椭圆 9" descr=""/>
            <p:cNvPicPr/>
            <p:nvPr/>
          </p:nvPicPr>
          <p:blipFill>
            <a:blip r:embed="rId1"/>
            <a:stretch/>
          </p:blipFill>
          <p:spPr>
            <a:xfrm>
              <a:off x="5176440" y="2362680"/>
              <a:ext cx="618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同侧圆角矩形 10"/>
            <p:cNvSpPr/>
            <p:nvPr/>
          </p:nvSpPr>
          <p:spPr>
            <a:xfrm>
              <a:off x="5891040" y="1131840"/>
              <a:ext cx="1549080" cy="1166400"/>
            </a:xfrm>
            <a:custGeom>
              <a:avLst/>
              <a:gdLst/>
              <a:ahLst/>
              <a:rect l="l" t="t" r="r" b="b"/>
              <a:pathLst>
                <a:path w="1528423" h="1140935">
                  <a:moveTo>
                    <a:pt x="91274" y="0"/>
                  </a:moveTo>
                  <a:lnTo>
                    <a:pt x="1437148" y="0"/>
                  </a:lnTo>
                  <a:cubicBezTo>
                    <a:pt x="1487557" y="0"/>
                    <a:pt x="1528422" y="40865"/>
                    <a:pt x="1528422" y="91274"/>
                  </a:cubicBezTo>
                  <a:lnTo>
                    <a:pt x="1528423" y="1140935"/>
                  </a:lnTo>
                  <a:lnTo>
                    <a:pt x="1528423" y="1140935"/>
                  </a:lnTo>
                  <a:lnTo>
                    <a:pt x="0" y="1140935"/>
                  </a:lnTo>
                  <a:lnTo>
                    <a:pt x="0" y="1140935"/>
                  </a:lnTo>
                  <a:lnTo>
                    <a:pt x="0" y="91274"/>
                  </a:lnTo>
                  <a:cubicBezTo>
                    <a:pt x="0" y="40865"/>
                    <a:pt x="40865" y="0"/>
                    <a:pt x="91274" y="0"/>
                  </a:cubicBez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67" name="任意多边形 11"/>
            <p:cNvSpPr/>
            <p:nvPr/>
          </p:nvSpPr>
          <p:spPr>
            <a:xfrm>
              <a:off x="5891040" y="2298240"/>
              <a:ext cx="1549080" cy="50148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320" rIns="47736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敏感性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368" name="椭圆 12" descr=""/>
            <p:cNvPicPr/>
            <p:nvPr/>
          </p:nvPicPr>
          <p:blipFill>
            <a:blip r:embed="rId2"/>
            <a:stretch/>
          </p:blipFill>
          <p:spPr>
            <a:xfrm>
              <a:off x="6987600" y="2362680"/>
              <a:ext cx="618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9" name="同侧圆角矩形 13"/>
            <p:cNvSpPr/>
            <p:nvPr/>
          </p:nvSpPr>
          <p:spPr>
            <a:xfrm>
              <a:off x="4079880" y="3196080"/>
              <a:ext cx="1549080" cy="1166400"/>
            </a:xfrm>
            <a:custGeom>
              <a:avLst/>
              <a:gdLst/>
              <a:ahLst/>
              <a:rect l="l" t="t" r="r" b="b"/>
              <a:pathLst>
                <a:path w="1528423" h="1140935">
                  <a:moveTo>
                    <a:pt x="91274" y="0"/>
                  </a:moveTo>
                  <a:lnTo>
                    <a:pt x="1437148" y="0"/>
                  </a:lnTo>
                  <a:cubicBezTo>
                    <a:pt x="1487557" y="0"/>
                    <a:pt x="1528422" y="40865"/>
                    <a:pt x="1528422" y="91274"/>
                  </a:cubicBezTo>
                  <a:lnTo>
                    <a:pt x="1528423" y="1140935"/>
                  </a:lnTo>
                  <a:lnTo>
                    <a:pt x="1528423" y="1140935"/>
                  </a:lnTo>
                  <a:lnTo>
                    <a:pt x="0" y="1140935"/>
                  </a:lnTo>
                  <a:lnTo>
                    <a:pt x="0" y="1140935"/>
                  </a:lnTo>
                  <a:lnTo>
                    <a:pt x="0" y="91274"/>
                  </a:lnTo>
                  <a:cubicBezTo>
                    <a:pt x="0" y="40865"/>
                    <a:pt x="40865" y="0"/>
                    <a:pt x="91274" y="0"/>
                  </a:cubicBez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0" name="任意多边形 14"/>
            <p:cNvSpPr/>
            <p:nvPr/>
          </p:nvSpPr>
          <p:spPr>
            <a:xfrm>
              <a:off x="4079880" y="4362480"/>
              <a:ext cx="1549080" cy="50148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320" rIns="47736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爱    才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371" name="椭圆 15" descr=""/>
            <p:cNvPicPr/>
            <p:nvPr/>
          </p:nvPicPr>
          <p:blipFill>
            <a:blip r:embed="rId3"/>
            <a:stretch/>
          </p:blipFill>
          <p:spPr>
            <a:xfrm>
              <a:off x="5176440" y="4426920"/>
              <a:ext cx="61812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同侧圆角矩形 16"/>
            <p:cNvSpPr/>
            <p:nvPr/>
          </p:nvSpPr>
          <p:spPr>
            <a:xfrm>
              <a:off x="5891040" y="3196080"/>
              <a:ext cx="1549080" cy="1166400"/>
            </a:xfrm>
            <a:custGeom>
              <a:avLst/>
              <a:gdLst/>
              <a:ahLst/>
              <a:rect l="l" t="t" r="r" b="b"/>
              <a:pathLst>
                <a:path w="1528423" h="1140935">
                  <a:moveTo>
                    <a:pt x="91274" y="0"/>
                  </a:moveTo>
                  <a:lnTo>
                    <a:pt x="1437148" y="0"/>
                  </a:lnTo>
                  <a:cubicBezTo>
                    <a:pt x="1487557" y="0"/>
                    <a:pt x="1528422" y="40865"/>
                    <a:pt x="1528422" y="91274"/>
                  </a:cubicBezTo>
                  <a:lnTo>
                    <a:pt x="1528423" y="1140935"/>
                  </a:lnTo>
                  <a:lnTo>
                    <a:pt x="1528423" y="1140935"/>
                  </a:lnTo>
                  <a:lnTo>
                    <a:pt x="0" y="1140935"/>
                  </a:lnTo>
                  <a:lnTo>
                    <a:pt x="0" y="1140935"/>
                  </a:lnTo>
                  <a:lnTo>
                    <a:pt x="0" y="91274"/>
                  </a:lnTo>
                  <a:cubicBezTo>
                    <a:pt x="0" y="40865"/>
                    <a:pt x="40865" y="0"/>
                    <a:pt x="91274" y="0"/>
                  </a:cubicBezTo>
                  <a:close/>
                </a:path>
              </a:pathLst>
            </a:custGeom>
            <a:solidFill>
              <a:srgbClr val="ffffff">
                <a:alpha val="90000"/>
              </a:srgbClr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73" name="任意多边形 17"/>
            <p:cNvSpPr/>
            <p:nvPr/>
          </p:nvSpPr>
          <p:spPr>
            <a:xfrm>
              <a:off x="5891040" y="4362480"/>
              <a:ext cx="1549080" cy="50148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76320" rIns="47736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876"/>
                </a:spcAft>
                <a:tabLst>
                  <a:tab algn="l" pos="0"/>
                  <a:tab algn="l" pos="888840"/>
                  <a:tab algn="l" pos="1778040"/>
                  <a:tab algn="l" pos="2666880"/>
                  <a:tab algn="l" pos="3556080"/>
                  <a:tab algn="l" pos="4444920"/>
                  <a:tab algn="l" pos="5334120"/>
                  <a:tab algn="l" pos="6222960"/>
                  <a:tab algn="l" pos="7112160"/>
                  <a:tab algn="l" pos="8001000"/>
                  <a:tab algn="l" pos="8889840"/>
                  <a:tab algn="l" pos="9779040"/>
                  <a:tab algn="l" pos="1066788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弹    性</a:t>
              </a:r>
              <a:endParaRPr b="0" lang="en-US" sz="20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pic>
          <p:nvPicPr>
            <p:cNvPr id="374" name="椭圆 18" descr=""/>
            <p:cNvPicPr/>
            <p:nvPr/>
          </p:nvPicPr>
          <p:blipFill>
            <a:blip r:embed="rId4"/>
            <a:stretch/>
          </p:blipFill>
          <p:spPr>
            <a:xfrm>
              <a:off x="6987600" y="4426920"/>
              <a:ext cx="618120" cy="622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5" name="图片 5" descr=""/>
          <p:cNvPicPr/>
          <p:nvPr/>
        </p:nvPicPr>
        <p:blipFill>
          <a:blip r:embed="rId5"/>
          <a:stretch/>
        </p:blipFill>
        <p:spPr>
          <a:xfrm>
            <a:off x="0" y="-20520"/>
            <a:ext cx="3616200" cy="5157720"/>
          </a:xfrm>
          <a:prstGeom prst="rect">
            <a:avLst/>
          </a:prstGeom>
          <a:ln w="0">
            <a:noFill/>
          </a:ln>
        </p:spPr>
      </p:pic>
      <p:sp>
        <p:nvSpPr>
          <p:cNvPr id="376" name="TextBox 19"/>
          <p:cNvSpPr/>
          <p:nvPr/>
        </p:nvSpPr>
        <p:spPr>
          <a:xfrm>
            <a:off x="4184640" y="120348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anklin Gothic Book"/>
              </a:rPr>
              <a:t>领导者传达的信息能够触动人心深处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7" name="TextBox 20"/>
          <p:cNvSpPr/>
          <p:nvPr/>
        </p:nvSpPr>
        <p:spPr>
          <a:xfrm>
            <a:off x="6016680" y="120348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anklin Gothic Book"/>
              </a:rPr>
              <a:t>领导者应有远大目标及预知未来的能力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8" name="TextBox 21"/>
          <p:cNvSpPr/>
          <p:nvPr/>
        </p:nvSpPr>
        <p:spPr>
          <a:xfrm>
            <a:off x="4184640" y="328932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anklin Gothic Book"/>
              </a:rPr>
              <a:t>领导者希望周围的人比自己更优秀聪明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79" name="TextBox 22"/>
          <p:cNvSpPr/>
          <p:nvPr/>
        </p:nvSpPr>
        <p:spPr>
          <a:xfrm>
            <a:off x="6016680" y="3289320"/>
            <a:ext cx="1355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Franklin Gothic Book"/>
              </a:rPr>
              <a:t>领导者应从错误中吸取教训并重新振作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0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6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7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1"/>
          <p:cNvSpPr/>
          <p:nvPr/>
        </p:nvSpPr>
        <p:spPr>
          <a:xfrm>
            <a:off x="845964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3809-7C07-48E5-AC37-11CAC81D4636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82" name="图片 2" descr=""/>
          <p:cNvPicPr/>
          <p:nvPr/>
        </p:nvPicPr>
        <p:blipFill>
          <a:blip r:embed="rId1"/>
          <a:stretch/>
        </p:blipFill>
        <p:spPr>
          <a:xfrm flipH="1">
            <a:off x="0" y="1440"/>
            <a:ext cx="3564000" cy="5135760"/>
          </a:xfrm>
          <a:prstGeom prst="rect">
            <a:avLst/>
          </a:prstGeom>
          <a:ln w="0">
            <a:noFill/>
          </a:ln>
        </p:spPr>
      </p:pic>
      <p:sp>
        <p:nvSpPr>
          <p:cNvPr id="383" name="直接连接符 3"/>
          <p:cNvSpPr/>
          <p:nvPr/>
        </p:nvSpPr>
        <p:spPr>
          <a:xfrm>
            <a:off x="4859280" y="1131840"/>
            <a:ext cx="4249800" cy="0"/>
          </a:xfrm>
          <a:prstGeom prst="line">
            <a:avLst/>
          </a:prstGeom>
          <a:ln w="9360">
            <a:solidFill>
              <a:srgbClr val="558ed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4" name="直接连接符 4"/>
          <p:cNvSpPr/>
          <p:nvPr/>
        </p:nvSpPr>
        <p:spPr>
          <a:xfrm>
            <a:off x="4859280" y="3147840"/>
            <a:ext cx="4249800" cy="0"/>
          </a:xfrm>
          <a:prstGeom prst="line">
            <a:avLst/>
          </a:prstGeom>
          <a:ln w="9360">
            <a:solidFill>
              <a:srgbClr val="558ed5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5" name="TextBox 5"/>
          <p:cNvSpPr/>
          <p:nvPr/>
        </p:nvSpPr>
        <p:spPr>
          <a:xfrm>
            <a:off x="4788000" y="1131840"/>
            <a:ext cx="4333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404040"/>
                </a:solidFill>
                <a:latin typeface="Franklin Gothic Book"/>
              </a:rPr>
              <a:t>招聘到出色的员工之后，工作目标转变了，那就是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Franklin Gothic Book"/>
              </a:rPr>
              <a:t>——   </a:t>
            </a:r>
            <a:r>
              <a:rPr b="1" lang="zh-CN" sz="2000" spc="-1" strike="noStrike">
                <a:solidFill>
                  <a:srgbClr val="404040"/>
                </a:solidFill>
                <a:latin typeface="Franklin Gothic Book"/>
              </a:rPr>
              <a:t>要把人员塑造成一个成功的团队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6" name="矩形 6"/>
          <p:cNvSpPr/>
          <p:nvPr/>
        </p:nvSpPr>
        <p:spPr>
          <a:xfrm>
            <a:off x="3598920" y="4246560"/>
            <a:ext cx="3224160" cy="84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人员管理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87" name="图片 11" descr=""/>
          <p:cNvPicPr/>
          <p:nvPr/>
        </p:nvPicPr>
        <p:blipFill>
          <a:blip r:embed="rId2"/>
          <a:stretch/>
        </p:blipFill>
        <p:spPr>
          <a:xfrm>
            <a:off x="4140360" y="627120"/>
            <a:ext cx="9475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灯片编号占位符 1"/>
          <p:cNvSpPr/>
          <p:nvPr/>
        </p:nvSpPr>
        <p:spPr>
          <a:xfrm>
            <a:off x="845964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C184-71BD-4068-BC14-EE522B2907EC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9" name="矩形 2"/>
          <p:cNvSpPr/>
          <p:nvPr/>
        </p:nvSpPr>
        <p:spPr>
          <a:xfrm>
            <a:off x="407880" y="4232160"/>
            <a:ext cx="5788080" cy="84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分手”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grpSp>
        <p:nvGrpSpPr>
          <p:cNvPr id="390" name="组合 11"/>
          <p:cNvGrpSpPr/>
          <p:nvPr/>
        </p:nvGrpSpPr>
        <p:grpSpPr>
          <a:xfrm>
            <a:off x="395280" y="771480"/>
            <a:ext cx="5800680" cy="3411720"/>
            <a:chOff x="395280" y="771480"/>
            <a:chExt cx="5800680" cy="3411720"/>
          </a:xfrm>
        </p:grpSpPr>
        <p:sp>
          <p:nvSpPr>
            <p:cNvPr id="391" name="任意多边形 12"/>
            <p:cNvSpPr/>
            <p:nvPr/>
          </p:nvSpPr>
          <p:spPr>
            <a:xfrm>
              <a:off x="395280" y="771480"/>
              <a:ext cx="2848320" cy="95040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4720" rIns="234720" tIns="134280" bIns="13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3</a:t>
              </a: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种发生情况</a:t>
              </a:r>
              <a:endParaRPr b="0" lang="en-US" sz="2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92" name="任意多边形 13"/>
            <p:cNvSpPr/>
            <p:nvPr/>
          </p:nvSpPr>
          <p:spPr>
            <a:xfrm>
              <a:off x="395280" y="1721880"/>
              <a:ext cx="2848320" cy="246132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9360">
              <a:solidFill>
                <a:srgbClr val="cbd3e3">
                  <a:alpha val="9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120" rIns="128160" tIns="96120" bIns="144000" anchor="t">
              <a:noAutofit/>
            </a:bodyPr>
            <a:p>
              <a:pPr lvl="1" marL="285840" indent="-285840">
                <a:lnSpc>
                  <a:spcPct val="150000"/>
                </a:lnSpc>
                <a:spcAft>
                  <a:spcPts val="337"/>
                </a:spcAft>
                <a:buClr>
                  <a:srgbClr val="262626"/>
                </a:buClr>
                <a:buFont typeface="Wingdings" charset="2"/>
                <a:buChar char="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Franklin Gothic Book"/>
                  <a:ea typeface="微软雅黑"/>
                </a:rPr>
                <a:t>因为违背诚实正直的品行而遭到解雇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lvl="1" marL="285840" indent="-285840">
                <a:lnSpc>
                  <a:spcPct val="150000"/>
                </a:lnSpc>
                <a:spcAft>
                  <a:spcPts val="337"/>
                </a:spcAft>
                <a:buClr>
                  <a:srgbClr val="262626"/>
                </a:buClr>
                <a:buFont typeface="Wingdings" charset="2"/>
                <a:buChar char="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Franklin Gothic Book"/>
                  <a:ea typeface="微软雅黑"/>
                </a:rPr>
                <a:t>由于经济低迷而发生的裁员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lvl="1" marL="285840" indent="-285840">
                <a:lnSpc>
                  <a:spcPct val="150000"/>
                </a:lnSpc>
                <a:spcAft>
                  <a:spcPts val="337"/>
                </a:spcAft>
                <a:buClr>
                  <a:srgbClr val="262626"/>
                </a:buClr>
                <a:buFont typeface="Wingdings" charset="2"/>
                <a:buChar char="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Franklin Gothic Book"/>
                  <a:ea typeface="微软雅黑"/>
                </a:rPr>
                <a:t>由于业绩不佳遭到解雇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93" name="任意多边形 14"/>
            <p:cNvSpPr/>
            <p:nvPr/>
          </p:nvSpPr>
          <p:spPr>
            <a:xfrm>
              <a:off x="3347640" y="771480"/>
              <a:ext cx="2848320" cy="950400"/>
            </a:xfrm>
            <a:prstGeom prst="pie">
              <a:avLst/>
            </a:prstGeom>
            <a:gradFill rotWithShape="0">
              <a:gsLst>
                <a:gs pos="0">
                  <a:srgbClr val="2c5d98"/>
                </a:gs>
                <a:gs pos="100000">
                  <a:srgbClr val="3a7ccb"/>
                </a:gs>
              </a:gsLst>
              <a:lin ang="16200000"/>
            </a:gra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234720" rIns="234720" tIns="134280" bIns="134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467000"/>
                  <a:tab algn="l" pos="2933640"/>
                  <a:tab algn="l" pos="4400640"/>
                  <a:tab algn="l" pos="5867280"/>
                  <a:tab algn="l" pos="7334280"/>
                  <a:tab algn="l" pos="8801280"/>
                  <a:tab algn="l" pos="1026792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Franklin Gothic Book"/>
                  <a:ea typeface="微软雅黑"/>
                </a:rPr>
                <a:t>点注意事项</a:t>
              </a:r>
              <a:endParaRPr b="0" lang="en-US" sz="2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  <p:sp>
          <p:nvSpPr>
            <p:cNvPr id="394" name="任意多边形 15"/>
            <p:cNvSpPr/>
            <p:nvPr/>
          </p:nvSpPr>
          <p:spPr>
            <a:xfrm>
              <a:off x="3347640" y="1721880"/>
              <a:ext cx="2848320" cy="2461320"/>
            </a:xfrm>
            <a:prstGeom prst="pie">
              <a:avLst/>
            </a:prstGeom>
            <a:solidFill>
              <a:srgbClr val="d0d8e8">
                <a:alpha val="90000"/>
              </a:srgbClr>
            </a:solidFill>
            <a:ln w="9360">
              <a:solidFill>
                <a:srgbClr val="cbd3e3">
                  <a:alpha val="9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6120" rIns="128160" tIns="96120" bIns="144000" anchor="t">
              <a:noAutofit/>
            </a:bodyPr>
            <a:p>
              <a:pPr lvl="1" marL="285840" indent="-285840">
                <a:lnSpc>
                  <a:spcPct val="200000"/>
                </a:lnSpc>
                <a:spcAft>
                  <a:spcPts val="337"/>
                </a:spcAft>
                <a:buClr>
                  <a:srgbClr val="262626"/>
                </a:buClr>
                <a:buFont typeface="Wingdings" charset="2"/>
                <a:buChar char="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Franklin Gothic Book"/>
                  <a:ea typeface="微软雅黑"/>
                </a:rPr>
                <a:t>不要制造大的意外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lvl="1" marL="285840" indent="-285840">
                <a:lnSpc>
                  <a:spcPct val="200000"/>
                </a:lnSpc>
                <a:spcAft>
                  <a:spcPts val="337"/>
                </a:spcAft>
                <a:buClr>
                  <a:srgbClr val="262626"/>
                </a:buClr>
                <a:buFont typeface="Wingdings" charset="2"/>
                <a:buChar char="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r>
                <a:rPr b="0" lang="zh-CN" sz="1800" spc="-1" strike="noStrike">
                  <a:solidFill>
                    <a:srgbClr val="262626"/>
                  </a:solidFill>
                  <a:latin typeface="Franklin Gothic Book"/>
                  <a:ea typeface="微软雅黑"/>
                </a:rPr>
                <a:t>将羞辱减到最小</a:t>
              </a: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  <a:p>
              <a:pPr lvl="1" marL="285840" indent="-285840">
                <a:lnSpc>
                  <a:spcPct val="200000"/>
                </a:lnSpc>
                <a:spcAft>
                  <a:spcPts val="337"/>
                </a:spcAft>
                <a:buClr>
                  <a:srgbClr val="262626"/>
                </a:buClr>
                <a:buFont typeface="Wingdings" charset="2"/>
                <a:buChar char=""/>
                <a:tabLst>
                  <a:tab algn="l" pos="800280"/>
                  <a:tab algn="l" pos="1600200"/>
                  <a:tab algn="l" pos="2400480"/>
                  <a:tab algn="l" pos="3200400"/>
                  <a:tab algn="l" pos="4000680"/>
                  <a:tab algn="l" pos="4800600"/>
                  <a:tab algn="l" pos="5600880"/>
                  <a:tab algn="l" pos="6400800"/>
                  <a:tab algn="l" pos="7201080"/>
                  <a:tab algn="l" pos="8001000"/>
                  <a:tab algn="l" pos="8801280"/>
                  <a:tab algn="l" pos="9601200"/>
                  <a:tab algn="l" pos="104014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灯片编号占位符 1"/>
          <p:cNvSpPr/>
          <p:nvPr/>
        </p:nvSpPr>
        <p:spPr>
          <a:xfrm>
            <a:off x="845964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791E0-9FAB-4C88-917A-41583A1CA570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6" name="矩形 2"/>
          <p:cNvSpPr/>
          <p:nvPr/>
        </p:nvSpPr>
        <p:spPr>
          <a:xfrm>
            <a:off x="179280" y="123840"/>
            <a:ext cx="6193080" cy="841320"/>
          </a:xfrm>
          <a:prstGeom prst="rect">
            <a:avLst/>
          </a:prstGeom>
          <a:solidFill>
            <a:srgbClr val="4f81bd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变革四大准则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7" name="任意多边形 3"/>
          <p:cNvSpPr/>
          <p:nvPr/>
        </p:nvSpPr>
        <p:spPr>
          <a:xfrm>
            <a:off x="179280" y="1131840"/>
            <a:ext cx="6193080" cy="3456000"/>
          </a:xfrm>
          <a:prstGeom prst="pie">
            <a:avLst/>
          </a:prstGeom>
          <a:solidFill>
            <a:srgbClr val="d0d8e8">
              <a:alpha val="90000"/>
            </a:srgbClr>
          </a:solidFill>
          <a:ln w="9360">
            <a:solidFill>
              <a:srgbClr val="cbd3e3">
                <a:alpha val="90000"/>
              </a:srgbClr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120" rIns="128160" tIns="96120" bIns="144000" anchor="t">
            <a:noAutofit/>
          </a:bodyPr>
          <a:p>
            <a:pPr lvl="1" marL="285840" indent="-285840">
              <a:lnSpc>
                <a:spcPct val="200000"/>
              </a:lnSpc>
              <a:spcAft>
                <a:spcPts val="337"/>
              </a:spcAft>
              <a:buClr>
                <a:srgbClr val="262626"/>
              </a:buClr>
              <a:buFont typeface="Wingdings" charset="2"/>
              <a:buChar char="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Book"/>
                <a:ea typeface="微软雅黑"/>
              </a:rPr>
              <a:t>在每一次发动变革运动时，确立一个清晰的目的或指标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85840" indent="-285840">
              <a:lnSpc>
                <a:spcPct val="200000"/>
              </a:lnSpc>
              <a:spcAft>
                <a:spcPts val="337"/>
              </a:spcAft>
              <a:buClr>
                <a:srgbClr val="262626"/>
              </a:buClr>
              <a:buFont typeface="Wingdings" charset="2"/>
              <a:buChar char="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Book"/>
                <a:ea typeface="微软雅黑"/>
              </a:rPr>
              <a:t>招募和提拔忠诚的追随者，以及能适应变革的人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85840" indent="-285840">
              <a:lnSpc>
                <a:spcPct val="200000"/>
              </a:lnSpc>
              <a:spcAft>
                <a:spcPts val="337"/>
              </a:spcAft>
              <a:buClr>
                <a:srgbClr val="262626"/>
              </a:buClr>
              <a:buFont typeface="Wingdings" charset="2"/>
              <a:buChar char="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Book"/>
                <a:ea typeface="微软雅黑"/>
              </a:rPr>
              <a:t>清理并去反抗者，即使他们有不错的业绩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85840" indent="-285840">
              <a:lnSpc>
                <a:spcPct val="200000"/>
              </a:lnSpc>
              <a:spcAft>
                <a:spcPts val="337"/>
              </a:spcAft>
              <a:buClr>
                <a:srgbClr val="262626"/>
              </a:buClr>
              <a:buFont typeface="Wingdings" charset="2"/>
              <a:buChar char=""/>
              <a:tabLst>
                <a:tab algn="l" pos="800280"/>
                <a:tab algn="l" pos="1600200"/>
                <a:tab algn="l" pos="2400480"/>
                <a:tab algn="l" pos="3200400"/>
                <a:tab algn="l" pos="4000680"/>
                <a:tab algn="l" pos="4800600"/>
                <a:tab algn="l" pos="5600880"/>
                <a:tab algn="l" pos="6400800"/>
                <a:tab algn="l" pos="7201080"/>
                <a:tab algn="l" pos="8001000"/>
                <a:tab algn="l" pos="8801280"/>
                <a:tab algn="l" pos="9601200"/>
                <a:tab algn="l" pos="1040148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Book"/>
                <a:ea typeface="微软雅黑"/>
              </a:rPr>
              <a:t>利用意外的机会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398" name="图片 7" descr=""/>
          <p:cNvPicPr/>
          <p:nvPr/>
        </p:nvPicPr>
        <p:blipFill>
          <a:blip r:embed="rId1"/>
          <a:stretch/>
        </p:blipFill>
        <p:spPr>
          <a:xfrm>
            <a:off x="5076720" y="0"/>
            <a:ext cx="342900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1"/>
          <p:cNvSpPr/>
          <p:nvPr/>
        </p:nvSpPr>
        <p:spPr>
          <a:xfrm>
            <a:off x="8508960" y="4587840"/>
            <a:ext cx="527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0E37F-D964-4C37-962D-0C3E4A76B2A4}" type="slidenum">
              <a:rPr b="0" lang="zh-CN" sz="1600" spc="-1" strike="noStrike">
                <a:solidFill>
                  <a:srgbClr val="000000"/>
                </a:solidFill>
                <a:latin typeface="Franklin Gothic Book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矩形 3"/>
          <p:cNvSpPr/>
          <p:nvPr/>
        </p:nvSpPr>
        <p:spPr>
          <a:xfrm>
            <a:off x="2268360" y="1276200"/>
            <a:ext cx="2590920" cy="8416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战略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1" name="直接连接符 4"/>
          <p:cNvSpPr/>
          <p:nvPr/>
        </p:nvSpPr>
        <p:spPr>
          <a:xfrm>
            <a:off x="6410160" y="1924200"/>
            <a:ext cx="2675160" cy="0"/>
          </a:xfrm>
          <a:prstGeom prst="line">
            <a:avLst/>
          </a:prstGeom>
          <a:ln w="936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2" name="直接连接符 5"/>
          <p:cNvSpPr/>
          <p:nvPr/>
        </p:nvSpPr>
        <p:spPr>
          <a:xfrm>
            <a:off x="6410160" y="3197160"/>
            <a:ext cx="2675160" cy="0"/>
          </a:xfrm>
          <a:prstGeom prst="line">
            <a:avLst/>
          </a:prstGeom>
          <a:ln w="936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3" name="TextBox 6"/>
          <p:cNvSpPr/>
          <p:nvPr/>
        </p:nvSpPr>
        <p:spPr>
          <a:xfrm>
            <a:off x="6410160" y="1947960"/>
            <a:ext cx="277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404040"/>
                </a:solidFill>
                <a:latin typeface="Franklin Gothic Book"/>
              </a:rPr>
              <a:t>战略其实就是对如何开展的问题做出清晰的选择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EE66-4FD1-446C-B731-24435D53999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矩形 3" descr=""/>
          <p:cNvPicPr/>
          <p:nvPr/>
        </p:nvPicPr>
        <p:blipFill>
          <a:blip r:embed="rId2"/>
          <a:stretch/>
        </p:blipFill>
        <p:spPr>
          <a:xfrm>
            <a:off x="3094200" y="2787480"/>
            <a:ext cx="3427200" cy="1297080"/>
          </a:xfrm>
          <a:prstGeom prst="rect">
            <a:avLst/>
          </a:prstGeom>
          <a:ln w="0">
            <a:noFill/>
          </a:ln>
        </p:spPr>
      </p:pic>
      <p:sp>
        <p:nvSpPr>
          <p:cNvPr id="409" name="TextBox 4"/>
          <p:cNvSpPr/>
          <p:nvPr/>
        </p:nvSpPr>
        <p:spPr>
          <a:xfrm>
            <a:off x="3100320" y="2211480"/>
            <a:ext cx="82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odoni MT Black"/>
              </a:rPr>
              <a:t>#1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2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1 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坚持不懈地提升自己的团队，把同员工的每一次会面都作为评估，知道和帮助他们树立自信心的机会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2 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让员工不但要怀有梦想，而且还要拥抱它、实践它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8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3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深入员工中间，向他们传递积极的活力和乐观精神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4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以坦诚的精神、透明度和声望，建立别人对自己的信赖感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5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有勇气、敢于做出不受欢迎的决定，说出得罪人的话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6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以好奇心、甚至怀疑精神来监督和推进业务，要保证自己提出的问题的带来员工的实际行动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7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勇于承担风险、勤奋学习、成为表率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矩形 1"/>
          <p:cNvSpPr/>
          <p:nvPr/>
        </p:nvSpPr>
        <p:spPr>
          <a:xfrm>
            <a:off x="0" y="4011480"/>
            <a:ext cx="9144000" cy="1132200"/>
          </a:xfrm>
          <a:prstGeom prst="rect">
            <a:avLst/>
          </a:prstGeom>
          <a:solidFill>
            <a:srgbClr val="ffffff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准则</a:t>
            </a:r>
            <a:r>
              <a:rPr b="1" lang="en-US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8</a:t>
            </a:r>
            <a:r>
              <a:rPr b="1" lang="zh-CN" sz="1800" spc="-1" strike="noStrike">
                <a:solidFill>
                  <a:srgbClr val="ffffff"/>
                </a:solidFill>
                <a:latin typeface="Franklin Gothic Book"/>
                <a:ea typeface="微软雅黑"/>
              </a:rPr>
              <a:t>：学会庆祝。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1T07:29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05:51Z</dcterms:modified>
  <cp:revision>11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