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A926-1A09-4632-B81C-A907E462E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B903-2F8D-45B2-9CAF-28BA57049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FF18-208C-46BA-B43F-083D2A891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352B-DF2A-475E-A83F-BC635A9B6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D4F04-5F58-4B0A-87D5-97D84CE24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7236C-5562-4BE1-A0D0-8BC3BDFA0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DBB7E-9F63-41D0-9EC5-33D04215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3C29F-3551-47B2-A7EF-A610A4448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5457F-5143-40C2-A4C1-1295F0B37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71280" y="549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31454-DB1E-465F-A1C0-7935A9CFE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894C2-1E4F-4CD7-B0CB-1C07409F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99B6-7882-4A3B-B7B6-DDA4EDADE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0BAF5-521F-410C-8FD7-B05058D4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DE2B3-8648-4275-AFB6-A295466B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A71D0-E5E1-4CDB-988C-ED80C402D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7D274-E867-478D-AF50-3EAD65753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1285C-EE41-4FC7-BF97-E6C595B20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B043-C9C8-4D51-BDA9-18A59BB87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7017-2C68-498F-94D5-B4E4BDCBF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0D06-2E39-4D50-89EB-3BDD4B6A9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71280" y="549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697E-B621-4AC5-AA1E-73E8D9F8F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32DF-B0D0-4D5B-A720-8E300C62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E22C-C1A6-481B-87B1-8FC39507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5BBE-DFF4-41BB-8813-09801CE4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39640" y="83664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900000" y="76500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68360" y="112536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2536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50920" y="90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55640" y="620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68360" y="1125360"/>
            <a:ext cx="8226360" cy="32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2286000" y="6324480"/>
            <a:ext cx="4952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BFD48-28A1-402D-A4A5-9240A0D6389A}" type="slidenum">
              <a:rPr b="0" lang="zh-TW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8B661-DEE2-4ED1-B116-B9470F6D7EFB}" type="slidenum">
              <a:rPr b="0" lang="zh-TW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6160" y="1628640"/>
            <a:ext cx="86374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333399"/>
                </a:solidFill>
                <a:latin typeface="Times New Roman"/>
              </a:rPr>
              <a:t>就業市場巨變下的</a:t>
            </a:r>
            <a:br>
              <a:rPr sz="4400"/>
            </a:br>
            <a:r>
              <a:rPr b="1" lang="zh-TW" sz="4400" spc="-1" strike="noStrike">
                <a:solidFill>
                  <a:srgbClr val="333399"/>
                </a:solidFill>
                <a:latin typeface="Times New Roman"/>
              </a:rPr>
              <a:t>生涯發展機會與挑戰</a:t>
            </a: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00000" y="393336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ahoma"/>
              </a:rPr>
              <a:t>主講人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XXX</a:t>
            </a:r>
            <a:r>
              <a:rPr b="1" lang="zh-TW" sz="3200" spc="-1" strike="noStrike">
                <a:solidFill>
                  <a:srgbClr val="000000"/>
                </a:solidFill>
                <a:latin typeface="Tahoma"/>
              </a:rPr>
              <a:t>雜誌總編輯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XX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2411280" y="501336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ahoma"/>
              </a:rPr>
              <a:t>日期：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XX</a:t>
            </a:r>
            <a:r>
              <a:rPr b="1" lang="zh-TW" sz="3200" spc="-1" strike="noStrike">
                <a:solidFill>
                  <a:srgbClr val="000000"/>
                </a:solidFill>
                <a:latin typeface="Tahoma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zh-TW" sz="3200" spc="-1" strike="noStrike">
                <a:solidFill>
                  <a:srgbClr val="000000"/>
                </a:solidFill>
                <a:latin typeface="Tahoma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zh-TW" sz="3200" spc="-1" strike="noStrike">
                <a:solidFill>
                  <a:srgbClr val="000000"/>
                </a:solidFill>
                <a:latin typeface="Tahoma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9328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333399"/>
                </a:solidFill>
                <a:latin typeface="Times New Roman"/>
              </a:rPr>
              <a:t>巨變</a:t>
            </a:r>
            <a:r>
              <a:rPr b="1" lang="zh-TW" sz="4400" spc="-1" strike="noStrike">
                <a:solidFill>
                  <a:srgbClr val="333399"/>
                </a:solidFill>
                <a:latin typeface="Tahoma"/>
              </a:rPr>
              <a:t>7</a:t>
            </a:r>
            <a:r>
              <a:rPr b="1" lang="zh-TW" sz="4400" spc="-1" strike="noStrike">
                <a:solidFill>
                  <a:srgbClr val="333399"/>
                </a:solidFill>
                <a:latin typeface="Times New Roman"/>
              </a:rPr>
              <a:t>：高等教育文憑爆炸</a:t>
            </a: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■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 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碩士以上人數暴增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■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大學暴增後遺症：名校主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■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國內升學取代留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‧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2002-2003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留學人數減少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23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‧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留歐取代留美，遊學取代留學，碩士取代博士，法商取代理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‧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留學投資報酬率大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■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研究所最大成本：時間與卡位機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■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後文憑時代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779292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碩士在學人數暴增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39640" y="1628640"/>
          <a:ext cx="7772400" cy="4114800"/>
        </p:xfrm>
        <a:graphic>
          <a:graphicData uri="http://schemas.openxmlformats.org/drawingml/2006/table">
            <a:tbl>
              <a:tblPr/>
              <a:tblGrid>
                <a:gridCol w="1943280"/>
                <a:gridCol w="1943280"/>
                <a:gridCol w="1942560"/>
                <a:gridCol w="194328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碩士在學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博士在學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碩士在職專班在學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98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3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1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02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2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3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9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0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779292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333399"/>
                </a:solidFill>
                <a:latin typeface="Times New Roman"/>
              </a:rPr>
              <a:t>巨變</a:t>
            </a:r>
            <a:r>
              <a:rPr b="1" lang="zh-TW" sz="4400" spc="-1" strike="noStrike">
                <a:solidFill>
                  <a:srgbClr val="333399"/>
                </a:solidFill>
                <a:latin typeface="Tahoma"/>
              </a:rPr>
              <a:t>8</a:t>
            </a:r>
            <a:r>
              <a:rPr b="1" lang="zh-TW" sz="4400" spc="-1" strike="noStrike">
                <a:solidFill>
                  <a:srgbClr val="333399"/>
                </a:solidFill>
                <a:latin typeface="Times New Roman"/>
              </a:rPr>
              <a:t>：非典型工作取代正職</a:t>
            </a: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692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■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非典型工作：派遣‧委外‧約聘‧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part-time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‧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見習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■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核心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非核心：客服‧行政庶務…優先外切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■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派遣定義：勞動者由甲公司（人力仲介公司）派往乙公司工作，雖然名義上為甲公司員工，但管理完全聽命於乙公司，與乙公司正式編制員工無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■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新鮮人踏進職場新階段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9328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企業採用派遣員工的原因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■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保持人力彈性化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■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控制編制內員額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■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節省薪資福利成本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■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節省招募等行政成本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■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儲備人力：則優從派遣轉為正式員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6160" y="0"/>
            <a:ext cx="863748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333399"/>
                </a:solidFill>
                <a:latin typeface="Times New Roman"/>
              </a:rPr>
              <a:t>巨變</a:t>
            </a:r>
            <a:r>
              <a:rPr b="1" lang="zh-TW" sz="4400" spc="-1" strike="noStrike">
                <a:solidFill>
                  <a:srgbClr val="333399"/>
                </a:solidFill>
                <a:latin typeface="Tahoma"/>
              </a:rPr>
              <a:t>9</a:t>
            </a:r>
            <a:r>
              <a:rPr b="1" lang="zh-TW" sz="4400" spc="-1" strike="noStrike">
                <a:solidFill>
                  <a:srgbClr val="333399"/>
                </a:solidFill>
                <a:latin typeface="Times New Roman"/>
              </a:rPr>
              <a:t>：性格特質決勝負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■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草莓族：抗壓性低‧不能吃苦耐勞‧穩定性差‧自我中心主義‧拜金與享樂主義‧成就動機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■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性格＞專業：要找志同道合的人，而非只是最優秀的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■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3 Q Very Much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IQ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EQ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AQ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■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779292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333399"/>
                </a:solidFill>
                <a:latin typeface="Times New Roman"/>
              </a:rPr>
              <a:t>巨變</a:t>
            </a:r>
            <a:r>
              <a:rPr b="1" lang="zh-TW" sz="4400" spc="-1" strike="noStrike">
                <a:solidFill>
                  <a:srgbClr val="333399"/>
                </a:solidFill>
                <a:latin typeface="Tahoma"/>
              </a:rPr>
              <a:t>10</a:t>
            </a:r>
            <a:r>
              <a:rPr b="1" lang="zh-TW" sz="4400" spc="-1" strike="noStrike">
                <a:solidFill>
                  <a:srgbClr val="333399"/>
                </a:solidFill>
                <a:latin typeface="Times New Roman"/>
              </a:rPr>
              <a:t>：不確定的未來</a:t>
            </a: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■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生涯規劃的終結：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型人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■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鐵飯碗的破碎：軍‧公‧教‧金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■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組織無情，人才不忠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‧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從忠於雇主和組織，轉為忠於自己的履歷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‧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為自己履歷創造可攜式（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portable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）價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■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多重專長：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型與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π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型人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333399"/>
                </a:solidFill>
                <a:latin typeface="Times New Roman"/>
              </a:rPr>
              <a:t>巨變</a:t>
            </a:r>
            <a:r>
              <a:rPr b="1" lang="zh-TW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1" lang="zh-TW" sz="4400" spc="-1" strike="noStrike">
                <a:solidFill>
                  <a:srgbClr val="333399"/>
                </a:solidFill>
                <a:latin typeface="Times New Roman"/>
              </a:rPr>
              <a:t>：工作壽命縮短</a:t>
            </a: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42920" y="1628640"/>
            <a:ext cx="7772400" cy="27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■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代表案例：金融業‧媒體業‧科技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■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高學歷的投資報酬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■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養不起的人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■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人生必修課：理財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9328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333399"/>
                </a:solidFill>
                <a:latin typeface="Times New Roman"/>
              </a:rPr>
              <a:t>巨變</a:t>
            </a:r>
            <a:r>
              <a:rPr b="1" lang="zh-TW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1" lang="zh-TW" sz="4400" spc="-1" strike="noStrike">
                <a:solidFill>
                  <a:srgbClr val="333399"/>
                </a:solidFill>
                <a:latin typeface="Times New Roman"/>
              </a:rPr>
              <a:t>：失業型復甦</a:t>
            </a: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■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景氣復甦，失業率依然居高不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■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產業結構扭曲：科技業一枝獨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‧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傳統產業在大陸收成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‧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企業用人政策保守化：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543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原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■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收復失業率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％的關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15364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333399"/>
                </a:solidFill>
                <a:latin typeface="Times New Roman"/>
              </a:rPr>
              <a:t>巨變</a:t>
            </a:r>
            <a:r>
              <a:rPr b="1" lang="zh-TW" sz="44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1" lang="zh-TW" sz="4400" spc="-1" strike="noStrike">
                <a:solidFill>
                  <a:srgbClr val="333399"/>
                </a:solidFill>
                <a:latin typeface="Times New Roman"/>
              </a:rPr>
              <a:t>：工作機會的流失與新生</a:t>
            </a: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71640" y="242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■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工作機會外移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傳統製造業→高科技製造業→服務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■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新外移焦點：軟體業‧銀行後勤‧客服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 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779292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333399"/>
                </a:solidFill>
                <a:latin typeface="Times New Roman"/>
              </a:rPr>
              <a:t>巨變</a:t>
            </a:r>
            <a:r>
              <a:rPr b="1" lang="zh-TW" sz="4400" spc="-1" strike="noStrike">
                <a:solidFill>
                  <a:srgbClr val="333399"/>
                </a:solidFill>
                <a:latin typeface="Tahoma"/>
              </a:rPr>
              <a:t>4</a:t>
            </a:r>
            <a:r>
              <a:rPr b="1" lang="zh-TW" sz="4400" spc="-1" strike="noStrike">
                <a:solidFill>
                  <a:srgbClr val="333399"/>
                </a:solidFill>
                <a:latin typeface="Times New Roman"/>
              </a:rPr>
              <a:t>：服務業恢復徵才動能</a:t>
            </a: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■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科技新貴光環褪色，服務業躋身高薪俱樂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■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科系與學歷門檻低，人文社會背景打開出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■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房地產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■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金融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■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運輸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■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健身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■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流通量販業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779292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333399"/>
                </a:solidFill>
                <a:latin typeface="Times New Roman"/>
              </a:rPr>
              <a:t>巨變</a:t>
            </a:r>
            <a:r>
              <a:rPr b="1" lang="zh-TW" sz="4400" spc="-1" strike="noStrike">
                <a:solidFill>
                  <a:srgbClr val="333399"/>
                </a:solidFill>
                <a:latin typeface="Tahoma"/>
              </a:rPr>
              <a:t>5</a:t>
            </a:r>
            <a:r>
              <a:rPr b="1" lang="zh-TW" sz="4400" spc="-1" strike="noStrike">
                <a:solidFill>
                  <a:srgbClr val="333399"/>
                </a:solidFill>
                <a:latin typeface="Times New Roman"/>
              </a:rPr>
              <a:t>：薪資破壞的夢魘</a:t>
            </a: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4292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■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全球化的天堂與地獄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■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所得分配兩極化：中間階級萎縮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■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受害者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：新鮮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■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受害人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：無技術者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■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薪資結構改變：變動薪資取代固定薪資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333360"/>
            <a:ext cx="779328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imes New Roman"/>
              </a:rPr>
              <a:t>薪資破壞受害者</a:t>
            </a: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zh-TW" sz="4400" spc="-1" strike="noStrike">
                <a:solidFill>
                  <a:srgbClr val="333399"/>
                </a:solidFill>
                <a:latin typeface="Times New Roman"/>
              </a:rPr>
              <a:t>：新鮮人</a:t>
            </a: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95280" y="1413000"/>
          <a:ext cx="8208720" cy="4192560"/>
        </p:xfrm>
        <a:graphic>
          <a:graphicData uri="http://schemas.openxmlformats.org/drawingml/2006/table">
            <a:tbl>
              <a:tblPr/>
              <a:tblGrid>
                <a:gridCol w="1641240"/>
                <a:gridCol w="1641600"/>
                <a:gridCol w="1643040"/>
                <a:gridCol w="1641600"/>
                <a:gridCol w="1641240"/>
              </a:tblGrid>
              <a:tr h="110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起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高中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專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大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研究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99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,3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,78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,4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,3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3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,7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,8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,0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,9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減少幅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932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99"/>
                </a:solidFill>
                <a:latin typeface="Times New Roman"/>
              </a:rPr>
              <a:t>薪資破壞受害者</a:t>
            </a:r>
            <a:r>
              <a:rPr b="0" lang="zh-TW" sz="4000" spc="-1" strike="noStrike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zh-TW" sz="4000" spc="-1" strike="noStrike">
                <a:solidFill>
                  <a:srgbClr val="333399"/>
                </a:solidFill>
                <a:latin typeface="Times New Roman"/>
              </a:rPr>
              <a:t>：無技術者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11280" y="1557360"/>
          <a:ext cx="7772400" cy="4114800"/>
        </p:xfrm>
        <a:graphic>
          <a:graphicData uri="http://schemas.openxmlformats.org/drawingml/2006/table">
            <a:tbl>
              <a:tblPr/>
              <a:tblGrid>
                <a:gridCol w="1553760"/>
                <a:gridCol w="1554480"/>
                <a:gridCol w="1555560"/>
                <a:gridCol w="1554480"/>
                <a:gridCol w="155412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薪資成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事務工作人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技術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專業人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主管與經理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93-19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6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0-20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.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1.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7160" y="52560"/>
            <a:ext cx="863748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333399"/>
                </a:solidFill>
                <a:latin typeface="Times New Roman"/>
              </a:rPr>
              <a:t>巨變</a:t>
            </a:r>
            <a:r>
              <a:rPr b="1" lang="zh-TW" sz="4400" spc="-1" strike="noStrike">
                <a:solidFill>
                  <a:srgbClr val="333399"/>
                </a:solidFill>
                <a:latin typeface="Tahoma"/>
              </a:rPr>
              <a:t>6</a:t>
            </a:r>
            <a:r>
              <a:rPr b="1" lang="zh-TW" sz="4400" spc="-1" strike="noStrike">
                <a:solidFill>
                  <a:srgbClr val="333399"/>
                </a:solidFill>
                <a:latin typeface="Times New Roman"/>
              </a:rPr>
              <a:t>：職場文藝復興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5564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■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文史無用論，數學萬能論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■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高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中生選組方向改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■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MFA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與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MB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■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文藝復興原因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：微笑曲線理論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■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文藝復興原因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：頂級消費族群出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■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文藝復興原因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：業務國際化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■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文藝復興原因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：藝術行銷與公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■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文藝復興原因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HR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新武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市场调查 就业市场</cp:keywords>
  <dc:language>en-US</dc:language>
  <cp:lastModifiedBy/>
  <cp:revision>0</cp:revision>
  <dc:subject/>
  <dc:title/>
</cp:coreProperties>
</file>