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whoosh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EA16-61FF-424B-9F7B-B477B76B4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3602-9342-4CCE-8947-2CA87502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144A3-9775-48F0-B352-580BDA46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0CC78-22E6-40A2-BC5A-EB517134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05D7B3-E5A2-4C28-B5DA-7D7E858D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34FFC-E80D-43EE-9D6C-91FA987E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B4A2D2-15A2-4DC3-B95F-F261D1F6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F3C71-CBCD-4111-AD09-32EC0048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56E28-D15D-476B-A07C-79977A4A5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2C237-0194-4EC5-A09B-5B715296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A9C08-141A-4DE9-A1C0-B63F46C2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1F055-0DED-44CF-8469-AD6E6802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87D-ADFA-4BBC-9170-13DB4DDC0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0E8F3-0531-44D3-AB91-6CA24668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98387-FA23-40EB-B58B-5860BC5ED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EB7915-7C11-4C9A-8FB5-07928E84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8ABC9B-19AF-4F7F-9584-A1B50A89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5BD5ED-A50C-44F5-9138-C8BF4651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49B61C-A5FF-49F1-AA67-ECDFCB236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84F07-39D6-469D-B408-2BA0354B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00EB0-2E87-4375-9081-288F0112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94E9AE-1E2F-44BC-870F-92547725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B710BB-06E8-48E8-B5D9-2C19DF602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33D-3CA1-4AD4-8F7D-97988B89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1818E-53D9-4896-A958-E4F7E8FAA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C765A-10F7-4BF8-A940-E5A843767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87364-207E-4E8A-999E-7A4289BD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5E33E4-8A6B-41C6-8A93-8DBE36A2D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9A1F8-BD43-48FE-A60E-137FBE3A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AAAFC-D674-4FA1-948C-5D422CA8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728B2-506F-4B6F-8B75-89CB961F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67060-1F19-421E-A945-190F8049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C6F5EE-EC9D-4418-964B-F7BE898A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3B8B8-7240-4A94-ADFB-18BD54EF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343B-6E13-4B7C-9E21-F2DA7168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7FA3F0-3341-4730-853D-B400903E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B1B82-51D3-44CA-925A-FB467672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FA754-5BBB-4B79-9904-696E94EFE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162DD8-C03B-48CA-8A8F-631D4E427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DD586-27F8-4292-81AC-C13A6E15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6F6D4-DA76-42D1-9696-60C82CCD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77837-C73D-4B9E-967E-09220417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C07AF-1D4F-4CD5-B447-622072504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8F7B8C-5B44-4E3F-A0C5-0F7AC5EA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F3BAA-0790-46D8-A7C7-A98699A2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1B91-CFB9-4333-A24A-1A02F7284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CA6D28-9340-4AC4-A27F-DF001BEA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04154-849B-405A-885F-B98F0D85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BE8A6F-2A09-48F7-924A-57459204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6F77C-BB88-401C-8FE4-98CFDF0A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304BE-B6CC-43A2-90FC-818D9055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8E7E4-A0ED-488E-A599-5B94107A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C30A4-4663-4821-876F-61F96B88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E02051-BC4D-45BD-ACA8-BD632E402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165B91-F3B0-467E-A816-9D363EC2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0823E4-C3B4-4A10-9840-53FC2A28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CDE77-5D15-4F9A-9F46-191D5C7D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2E7D8C-ECDB-4440-ADE4-92186E9B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217687-C8E2-45BB-899D-2BE46429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92099-F393-450C-9BFA-14655EAB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1064EE-2A63-4208-8C13-072B78C1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A5002-B3D3-45A6-B800-743F352F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8374EE-4705-4550-8FB6-5899E7CF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334FE9-3FAE-4A77-882F-FA95EFFC6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2B72A9-9827-412C-817C-550F5A20C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0B6687-3447-4AFA-898D-41D84916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CE4882-3B43-4E81-8016-9E2D1BD3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046F0-017B-4395-8BA5-92C48E5B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2D56B9-DB51-4BFF-B466-CF8686FA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2B94BC-F178-4DB5-933B-DE6119BF5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06DFD6-2777-4022-B2EA-1FEC9A07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757C81-A1F8-4EC1-BF1F-FFCA57DF2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04608C-5361-4EC5-B99F-2BB22703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4D8AFB-B18A-4AFF-99CF-74AEE3FD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E12596-A3B6-408B-A577-70724E63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DF0EB4-A53F-43DB-9D17-F8316626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281573-101C-4732-A4D8-C1D842109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08D4-E9B9-4E7C-85F6-B01EF7B7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E9DB-EDF8-47A3-ACBB-AF5970E84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B77D-D3B6-44CB-AFDA-347ABD91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5CD4-F02F-4AD5-A643-5F08E2DB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E909C-3A5B-4451-B387-639C440E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1AC2-C78E-4C8B-BFD1-6A68BDC37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9DCC-5AAA-4C82-A6E1-799E98AF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4DF9-E2C7-4C7E-A1B7-A71BA9C86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786E-05E0-4CF7-8E1C-8CC5F827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5E25C-351D-472C-954D-C12DBE614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C7FBE-FC0F-4E05-A401-98E7CEFB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4EFC5-CCD9-48B3-8763-5CFE3847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CB6BA-92F3-4F10-AE8D-E0F7E314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369AC-3418-4EE7-85F8-22AA4F77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2AD6-3951-4913-BA85-D2FE684F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CFDF8-D644-4D65-9DF1-0C45803A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A2422-D158-4B2F-9368-AA5F1858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5C433-813E-456C-B3D5-79251354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F871B-23ED-4000-8A1E-D142E8AA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ED73F-850D-4C27-9E45-ED38AF2E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1AAE5-BD13-485E-82EC-9F4C47E85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57BA7-162C-43F3-AE34-3AB065BC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09311-7B44-43F5-8F26-F2869FB4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F6921-195C-4FE2-8E34-90DE3226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C9847-647E-4600-ADC9-50E2639C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45F8-B20C-4E3A-B6C9-8AD7B286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EE1B2-F34B-4E47-82D0-F075B026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FD2E6-F0EA-4EAB-B293-9BCA6539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A6685-1417-4DCA-9432-25F9CBE6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40D7F-5D4A-4D88-9D1E-8D98A306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B9684-CA19-423E-ADC5-88696E66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D2DD8-E77C-43FD-9108-8556B7766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D227D-E349-4766-9E83-FB76B22B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E91EC-9DC1-41AE-B81D-231A26406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0C752-5642-4F6F-A9AC-AC266715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D5D3B-81E8-425E-85CE-41299FF3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0AB6-21B4-4BA9-B5DC-D00E0229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9E729-1288-49E6-8F4A-B82943499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DB587-456D-4ACF-A51C-DDCA30D0B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AB378-7F68-47CC-80F8-F13EE356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3EFF7-A33C-44C3-9D04-37F2C2B3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5F3DD-B0CD-430B-9CB9-45890F168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00F07-E5E8-4912-A423-202EE923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7CEFF3-BE29-4EE6-866D-1B6FC7D5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8085D-38A4-4E13-977D-B4D81A28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F4B74-6E1E-4C7E-9390-C20ACD0E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DA013E-F78E-484B-806A-85F8D635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0167-9F66-4003-8F5F-F96AA634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84D97-EABB-4490-863E-2B517891A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35CD6-E29B-4E77-8DFE-326E7E54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ACDCB-15F0-423A-B90C-976C397B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1658C-AF0D-41BD-A660-536692E9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92053-F192-4377-8A8A-F0D6B8E2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85E96-88F5-425C-9CC5-B400249B8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098C9-1DEE-4608-BEDF-D09749B9F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71585-7DFA-48E1-8FB9-7EB99297D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15FF0-9AB5-48B8-9501-A338C18A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36CEB-C981-4392-B4AA-F03EEC07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646-930E-45FC-989A-F795ACFC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0278A-749D-45B7-9B02-3D3B4A4B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AEA48-C14B-4CDF-B6E5-851FFA2A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EFC4B-EFBC-4E20-AE6B-0DBEAE1B9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B4559C-91BE-4092-8EAA-6CD1890E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755F8-D5C0-4BD2-B3FC-B4E4B156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B3174-37BB-4601-B0B5-5056BD3D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A7DA0-BF8A-4D56-901C-E669351D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C8146-26F8-4793-A799-BE20B9EA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F1544A-FDAF-4F39-96C7-E3FE5BE8E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B50C7-97E4-4231-B2BF-E6BDD5CE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49B-5A1C-477A-8220-65D48AFE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BC710-7F89-4A1C-BE9D-C6C7F6F7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E0ADC3-35A8-4EF7-AEF9-9225DCCF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A707B-247D-4AF7-AA8C-B0BC7253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8CC1D-63F4-4431-A79A-B6123D43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8D2B6-BF46-4E42-8FA4-F69C3D8C1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F54CE-259A-46CA-B129-A21B27F9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A1567-2E4C-488C-B3A6-BFC55CC6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82CB9-E3CC-4447-BD0D-E018F6234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FBDCD-6D3D-4F7C-8C9D-73AACF62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18CE41-C208-4A63-96AB-C13FD19A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A6C8-E240-4EAC-8569-84FF7379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AD8AD-DB02-4373-B2CB-9A0731210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98D56-F9A9-474D-A351-5EF37CDD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2A210-1D49-4D22-85AA-D61A8B294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3D43B-3A33-45B1-A106-18956FB2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80C6B-8E37-422E-A1EC-21FFB7F4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7FAA3-4D96-47EA-9B37-8C75BE44F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FA7D1-3A87-432B-8F32-91B4DC49B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B08A5-9BE9-48CD-8A64-ABA45C902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62A18-1992-4839-B54B-02219E134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425A7-CD06-42CA-9126-B1755A2D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7370-83FA-42FC-BC5E-653FBE8098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2B07-6D67-4C6B-AF73-95FD49A8470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ED39-F1F8-42DB-9610-314BC4B857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78A5-1305-491E-B925-74A53CBDD3F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52B5-C9C8-4C4E-9A08-7582356175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87BF-AA56-4C19-894E-707E686CA38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F814A-4D1E-49E3-A05D-BFADD518F1B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3144-A44F-4D93-A8E3-67B01A866A1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0AD65-1443-4AE4-88CC-5FA54BB4DC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06CC-FBA5-4F7A-9BE2-9D973075D32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E0E3-A0BC-4D5A-8EBB-296CE015339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B1A0-930A-45CE-88EA-C0AEF91A3CE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EB60-B1E2-4695-96DD-100728EF7D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330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44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90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7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6E3B-13B3-4D0B-AFD1-130BBCF525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2F26-ABD7-4B85-93B9-E951283286C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FAD1D-AD43-4A74-AF91-35F46BE4CC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7339-5F6D-4D4E-A3C9-ADDE19A2D8A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B913-9F2A-4784-954C-96E011558A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A10F-2F8D-4713-9AD9-014617FF4CB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69FB-A1E3-4EC8-B45B-439D1C23C2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4FC1-000C-47A2-8FDB-1CB7A505D52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CB22-3AEF-41C4-A0E7-E0BA8AB144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3FE5-8B58-42F8-977F-44E2DE77BAD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A1B6-8245-4172-B5FF-9C82B40926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0124-D938-4F57-89EC-14CFB8D140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F33D-F644-4956-9F62-F5EEB7E531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Text Box 2"/>
          <p:cNvSpPr/>
          <p:nvPr/>
        </p:nvSpPr>
        <p:spPr>
          <a:xfrm>
            <a:off x="1676520" y="137160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二节    光的反射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Text Box 3"/>
          <p:cNvSpPr/>
          <p:nvPr/>
        </p:nvSpPr>
        <p:spPr>
          <a:xfrm>
            <a:off x="1371600" y="426708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连市汇文中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新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0" y="-45720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pSp>
        <p:nvGrpSpPr>
          <p:cNvPr id="1073" name="Group 11"/>
          <p:cNvGrpSpPr/>
          <p:nvPr/>
        </p:nvGrpSpPr>
        <p:grpSpPr>
          <a:xfrm>
            <a:off x="1828800" y="4651200"/>
            <a:ext cx="4013640" cy="634680"/>
            <a:chOff x="1828800" y="4651200"/>
            <a:chExt cx="4013640" cy="634680"/>
          </a:xfrm>
        </p:grpSpPr>
        <p:sp>
          <p:nvSpPr>
            <p:cNvPr id="1074" name="Line 12"/>
            <p:cNvSpPr/>
            <p:nvPr/>
          </p:nvSpPr>
          <p:spPr>
            <a:xfrm>
              <a:off x="1828800" y="4651200"/>
              <a:ext cx="388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5" name="Group 13"/>
            <p:cNvGrpSpPr/>
            <p:nvPr/>
          </p:nvGrpSpPr>
          <p:grpSpPr>
            <a:xfrm>
              <a:off x="1929240" y="4668120"/>
              <a:ext cx="3913200" cy="617760"/>
              <a:chOff x="1929240" y="4668120"/>
              <a:chExt cx="3913200" cy="617760"/>
            </a:xfrm>
          </p:grpSpPr>
          <p:sp>
            <p:nvSpPr>
              <p:cNvPr id="1076" name="Line 14"/>
              <p:cNvSpPr/>
              <p:nvPr/>
            </p:nvSpPr>
            <p:spPr>
              <a:xfrm>
                <a:off x="1929240" y="4672080"/>
                <a:ext cx="264960" cy="56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Line 15"/>
              <p:cNvSpPr/>
              <p:nvPr/>
            </p:nvSpPr>
            <p:spPr>
              <a:xfrm>
                <a:off x="2194920" y="4675680"/>
                <a:ext cx="264600" cy="56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Line 16"/>
              <p:cNvSpPr/>
              <p:nvPr/>
            </p:nvSpPr>
            <p:spPr>
              <a:xfrm>
                <a:off x="2460960" y="4679280"/>
                <a:ext cx="264960" cy="56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Line 17"/>
              <p:cNvSpPr/>
              <p:nvPr/>
            </p:nvSpPr>
            <p:spPr>
              <a:xfrm>
                <a:off x="2727360" y="4682880"/>
                <a:ext cx="264960" cy="56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Line 18"/>
              <p:cNvSpPr/>
              <p:nvPr/>
            </p:nvSpPr>
            <p:spPr>
              <a:xfrm>
                <a:off x="2993400" y="4686840"/>
                <a:ext cx="264960" cy="56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Line 19"/>
              <p:cNvSpPr/>
              <p:nvPr/>
            </p:nvSpPr>
            <p:spPr>
              <a:xfrm>
                <a:off x="3259440" y="4690440"/>
                <a:ext cx="265320" cy="56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20"/>
              <p:cNvSpPr/>
              <p:nvPr/>
            </p:nvSpPr>
            <p:spPr>
              <a:xfrm>
                <a:off x="3526200" y="4694040"/>
                <a:ext cx="264960" cy="56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Line 21"/>
              <p:cNvSpPr/>
              <p:nvPr/>
            </p:nvSpPr>
            <p:spPr>
              <a:xfrm>
                <a:off x="3792240" y="4698000"/>
                <a:ext cx="264600" cy="56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Line 22"/>
              <p:cNvSpPr/>
              <p:nvPr/>
            </p:nvSpPr>
            <p:spPr>
              <a:xfrm>
                <a:off x="4057920" y="4701240"/>
                <a:ext cx="264960" cy="56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23"/>
              <p:cNvSpPr/>
              <p:nvPr/>
            </p:nvSpPr>
            <p:spPr>
              <a:xfrm>
                <a:off x="4324680" y="4705200"/>
                <a:ext cx="264960" cy="56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24"/>
              <p:cNvSpPr/>
              <p:nvPr/>
            </p:nvSpPr>
            <p:spPr>
              <a:xfrm>
                <a:off x="4590360" y="4708800"/>
                <a:ext cx="264600" cy="56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Line 25"/>
              <p:cNvSpPr/>
              <p:nvPr/>
            </p:nvSpPr>
            <p:spPr>
              <a:xfrm>
                <a:off x="4856400" y="4712400"/>
                <a:ext cx="264960" cy="56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Line 26"/>
              <p:cNvSpPr/>
              <p:nvPr/>
            </p:nvSpPr>
            <p:spPr>
              <a:xfrm>
                <a:off x="5122800" y="4716360"/>
                <a:ext cx="264960" cy="56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Line 27"/>
              <p:cNvSpPr/>
              <p:nvPr/>
            </p:nvSpPr>
            <p:spPr>
              <a:xfrm>
                <a:off x="5388840" y="4719960"/>
                <a:ext cx="264960" cy="56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Line 28"/>
              <p:cNvSpPr/>
              <p:nvPr/>
            </p:nvSpPr>
            <p:spPr>
              <a:xfrm>
                <a:off x="5577480" y="4668120"/>
                <a:ext cx="264960" cy="56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1" name="Group 29"/>
          <p:cNvGrpSpPr/>
          <p:nvPr/>
        </p:nvGrpSpPr>
        <p:grpSpPr>
          <a:xfrm>
            <a:off x="2637720" y="1836000"/>
            <a:ext cx="3562920" cy="2804760"/>
            <a:chOff x="2637720" y="1836000"/>
            <a:chExt cx="3562920" cy="2804760"/>
          </a:xfrm>
        </p:grpSpPr>
        <p:grpSp>
          <p:nvGrpSpPr>
            <p:cNvPr id="1092" name="Group 30"/>
            <p:cNvGrpSpPr/>
            <p:nvPr/>
          </p:nvGrpSpPr>
          <p:grpSpPr>
            <a:xfrm>
              <a:off x="2637720" y="1836000"/>
              <a:ext cx="3562920" cy="2804760"/>
              <a:chOff x="2637720" y="1836000"/>
              <a:chExt cx="3562920" cy="2804760"/>
            </a:xfrm>
          </p:grpSpPr>
          <p:sp>
            <p:nvSpPr>
              <p:cNvPr id="1093" name="Line 31"/>
              <p:cNvSpPr/>
              <p:nvPr/>
            </p:nvSpPr>
            <p:spPr>
              <a:xfrm flipH="1">
                <a:off x="2637720" y="1853280"/>
                <a:ext cx="1770840" cy="27874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32"/>
              <p:cNvSpPr/>
              <p:nvPr/>
            </p:nvSpPr>
            <p:spPr>
              <a:xfrm flipH="1">
                <a:off x="2894040" y="1850760"/>
                <a:ext cx="1770480" cy="27874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Line 33"/>
              <p:cNvSpPr/>
              <p:nvPr/>
            </p:nvSpPr>
            <p:spPr>
              <a:xfrm flipH="1">
                <a:off x="3149640" y="1848240"/>
                <a:ext cx="1770480" cy="27874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Line 34"/>
              <p:cNvSpPr/>
              <p:nvPr/>
            </p:nvSpPr>
            <p:spPr>
              <a:xfrm flipH="1">
                <a:off x="3405600" y="1845720"/>
                <a:ext cx="1770480" cy="27874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Line 35"/>
              <p:cNvSpPr/>
              <p:nvPr/>
            </p:nvSpPr>
            <p:spPr>
              <a:xfrm flipH="1">
                <a:off x="3662280" y="1843200"/>
                <a:ext cx="1770480" cy="27874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Line 36"/>
              <p:cNvSpPr/>
              <p:nvPr/>
            </p:nvSpPr>
            <p:spPr>
              <a:xfrm flipH="1">
                <a:off x="3917880" y="1841040"/>
                <a:ext cx="1770480" cy="27874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Line 37"/>
              <p:cNvSpPr/>
              <p:nvPr/>
            </p:nvSpPr>
            <p:spPr>
              <a:xfrm flipH="1">
                <a:off x="4173840" y="1838520"/>
                <a:ext cx="1770480" cy="27874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Line 38"/>
              <p:cNvSpPr/>
              <p:nvPr/>
            </p:nvSpPr>
            <p:spPr>
              <a:xfrm flipH="1">
                <a:off x="4430160" y="1836000"/>
                <a:ext cx="1770480" cy="27874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1" name="Group 39"/>
            <p:cNvGrpSpPr/>
            <p:nvPr/>
          </p:nvGrpSpPr>
          <p:grpSpPr>
            <a:xfrm>
              <a:off x="3444480" y="2867760"/>
              <a:ext cx="2090880" cy="496440"/>
              <a:chOff x="3444480" y="2867760"/>
              <a:chExt cx="2090880" cy="496440"/>
            </a:xfrm>
          </p:grpSpPr>
          <p:sp>
            <p:nvSpPr>
              <p:cNvPr id="1102" name="Line 40"/>
              <p:cNvSpPr/>
              <p:nvPr/>
            </p:nvSpPr>
            <p:spPr>
              <a:xfrm flipH="1">
                <a:off x="3444480" y="2885040"/>
                <a:ext cx="299520" cy="47916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Line 41"/>
              <p:cNvSpPr/>
              <p:nvPr/>
            </p:nvSpPr>
            <p:spPr>
              <a:xfrm flipH="1">
                <a:off x="3700440" y="2882880"/>
                <a:ext cx="298800" cy="4788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42"/>
              <p:cNvSpPr/>
              <p:nvPr/>
            </p:nvSpPr>
            <p:spPr>
              <a:xfrm flipH="1">
                <a:off x="3956400" y="2880000"/>
                <a:ext cx="299520" cy="4788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Line 43"/>
              <p:cNvSpPr/>
              <p:nvPr/>
            </p:nvSpPr>
            <p:spPr>
              <a:xfrm flipH="1">
                <a:off x="4212000" y="2877480"/>
                <a:ext cx="299520" cy="47916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Line 44"/>
              <p:cNvSpPr/>
              <p:nvPr/>
            </p:nvSpPr>
            <p:spPr>
              <a:xfrm flipH="1">
                <a:off x="4468320" y="2875680"/>
                <a:ext cx="299160" cy="4784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45"/>
              <p:cNvSpPr/>
              <p:nvPr/>
            </p:nvSpPr>
            <p:spPr>
              <a:xfrm flipH="1">
                <a:off x="4724280" y="2872800"/>
                <a:ext cx="299880" cy="4788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46"/>
              <p:cNvSpPr/>
              <p:nvPr/>
            </p:nvSpPr>
            <p:spPr>
              <a:xfrm flipH="1">
                <a:off x="4979880" y="2870280"/>
                <a:ext cx="299880" cy="47916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Line 47"/>
              <p:cNvSpPr/>
              <p:nvPr/>
            </p:nvSpPr>
            <p:spPr>
              <a:xfrm flipH="1">
                <a:off x="5236200" y="2867760"/>
                <a:ext cx="299160" cy="4788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10" name="Group 48"/>
          <p:cNvGrpSpPr/>
          <p:nvPr/>
        </p:nvGrpSpPr>
        <p:grpSpPr>
          <a:xfrm>
            <a:off x="866520" y="1317600"/>
            <a:ext cx="3601080" cy="3360600"/>
            <a:chOff x="866520" y="1317600"/>
            <a:chExt cx="3601080" cy="3360600"/>
          </a:xfrm>
        </p:grpSpPr>
        <p:grpSp>
          <p:nvGrpSpPr>
            <p:cNvPr id="1111" name="Group 49"/>
            <p:cNvGrpSpPr/>
            <p:nvPr/>
          </p:nvGrpSpPr>
          <p:grpSpPr>
            <a:xfrm>
              <a:off x="866520" y="1317600"/>
              <a:ext cx="3601080" cy="3360600"/>
              <a:chOff x="866520" y="1317600"/>
              <a:chExt cx="3601080" cy="3360600"/>
            </a:xfrm>
          </p:grpSpPr>
          <p:sp>
            <p:nvSpPr>
              <p:cNvPr id="1112" name="Line 50"/>
              <p:cNvSpPr/>
              <p:nvPr/>
            </p:nvSpPr>
            <p:spPr>
              <a:xfrm flipH="1" flipV="1">
                <a:off x="2622240" y="1317600"/>
                <a:ext cx="1845360" cy="33256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Line 51"/>
              <p:cNvSpPr/>
              <p:nvPr/>
            </p:nvSpPr>
            <p:spPr>
              <a:xfrm flipH="1" flipV="1">
                <a:off x="2371320" y="1322280"/>
                <a:ext cx="1845360" cy="33260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Line 52"/>
              <p:cNvSpPr/>
              <p:nvPr/>
            </p:nvSpPr>
            <p:spPr>
              <a:xfrm flipH="1" flipV="1">
                <a:off x="2120760" y="1327320"/>
                <a:ext cx="1845360" cy="33256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Line 53"/>
              <p:cNvSpPr/>
              <p:nvPr/>
            </p:nvSpPr>
            <p:spPr>
              <a:xfrm flipH="1" flipV="1">
                <a:off x="1870200" y="1332720"/>
                <a:ext cx="1845360" cy="33256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Line 54"/>
              <p:cNvSpPr/>
              <p:nvPr/>
            </p:nvSpPr>
            <p:spPr>
              <a:xfrm flipH="1" flipV="1">
                <a:off x="1618920" y="1337400"/>
                <a:ext cx="1845360" cy="33256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55"/>
              <p:cNvSpPr/>
              <p:nvPr/>
            </p:nvSpPr>
            <p:spPr>
              <a:xfrm flipH="1" flipV="1">
                <a:off x="1368000" y="1342440"/>
                <a:ext cx="1845360" cy="33260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Line 56"/>
              <p:cNvSpPr/>
              <p:nvPr/>
            </p:nvSpPr>
            <p:spPr>
              <a:xfrm flipH="1" flipV="1">
                <a:off x="1117800" y="1347480"/>
                <a:ext cx="1845360" cy="33260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Line 57"/>
              <p:cNvSpPr/>
              <p:nvPr/>
            </p:nvSpPr>
            <p:spPr>
              <a:xfrm flipH="1" flipV="1">
                <a:off x="866520" y="1352160"/>
                <a:ext cx="1845360" cy="33260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0" name="Group 58"/>
            <p:cNvGrpSpPr/>
            <p:nvPr/>
          </p:nvGrpSpPr>
          <p:grpSpPr>
            <a:xfrm>
              <a:off x="1711440" y="2829240"/>
              <a:ext cx="2086560" cy="628920"/>
              <a:chOff x="1711440" y="2829240"/>
              <a:chExt cx="2086560" cy="628920"/>
            </a:xfrm>
          </p:grpSpPr>
          <p:sp>
            <p:nvSpPr>
              <p:cNvPr id="1121" name="Line 59"/>
              <p:cNvSpPr/>
              <p:nvPr/>
            </p:nvSpPr>
            <p:spPr>
              <a:xfrm flipH="1" flipV="1">
                <a:off x="3467160" y="2829240"/>
                <a:ext cx="330840" cy="5940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Line 60"/>
              <p:cNvSpPr/>
              <p:nvPr/>
            </p:nvSpPr>
            <p:spPr>
              <a:xfrm flipH="1" flipV="1">
                <a:off x="3216240" y="2834280"/>
                <a:ext cx="330840" cy="5936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61"/>
              <p:cNvSpPr/>
              <p:nvPr/>
            </p:nvSpPr>
            <p:spPr>
              <a:xfrm flipH="1" flipV="1">
                <a:off x="2966040" y="2839320"/>
                <a:ext cx="330480" cy="5936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Line 62"/>
              <p:cNvSpPr/>
              <p:nvPr/>
            </p:nvSpPr>
            <p:spPr>
              <a:xfrm flipH="1" flipV="1">
                <a:off x="2715120" y="2844360"/>
                <a:ext cx="330840" cy="5940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Line 63"/>
              <p:cNvSpPr/>
              <p:nvPr/>
            </p:nvSpPr>
            <p:spPr>
              <a:xfrm flipH="1" flipV="1">
                <a:off x="2464200" y="2849400"/>
                <a:ext cx="330840" cy="5936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Line 64"/>
              <p:cNvSpPr/>
              <p:nvPr/>
            </p:nvSpPr>
            <p:spPr>
              <a:xfrm flipH="1" flipV="1">
                <a:off x="2213280" y="2854440"/>
                <a:ext cx="330840" cy="5936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Line 65"/>
              <p:cNvSpPr/>
              <p:nvPr/>
            </p:nvSpPr>
            <p:spPr>
              <a:xfrm flipH="1" flipV="1">
                <a:off x="1962720" y="2859480"/>
                <a:ext cx="330840" cy="5936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66"/>
              <p:cNvSpPr/>
              <p:nvPr/>
            </p:nvSpPr>
            <p:spPr>
              <a:xfrm flipH="1" flipV="1">
                <a:off x="1711440" y="2864520"/>
                <a:ext cx="330840" cy="5936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9" name="Rectangle 67"/>
          <p:cNvSpPr/>
          <p:nvPr/>
        </p:nvSpPr>
        <p:spPr>
          <a:xfrm>
            <a:off x="876240" y="549360"/>
            <a:ext cx="6359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镜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反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0" name="Group 85"/>
          <p:cNvGrpSpPr/>
          <p:nvPr/>
        </p:nvGrpSpPr>
        <p:grpSpPr>
          <a:xfrm>
            <a:off x="2627280" y="979560"/>
            <a:ext cx="1800000" cy="3674880"/>
            <a:chOff x="2627280" y="979560"/>
            <a:chExt cx="1800000" cy="3674880"/>
          </a:xfrm>
        </p:grpSpPr>
        <p:grpSp>
          <p:nvGrpSpPr>
            <p:cNvPr id="1131" name="Group 75"/>
            <p:cNvGrpSpPr/>
            <p:nvPr/>
          </p:nvGrpSpPr>
          <p:grpSpPr>
            <a:xfrm>
              <a:off x="2627280" y="979560"/>
              <a:ext cx="258120" cy="3673440"/>
              <a:chOff x="2627280" y="979560"/>
              <a:chExt cx="258120" cy="3673440"/>
            </a:xfrm>
          </p:grpSpPr>
          <p:sp>
            <p:nvSpPr>
              <p:cNvPr id="1132" name="Line 68"/>
              <p:cNvSpPr/>
              <p:nvPr/>
            </p:nvSpPr>
            <p:spPr>
              <a:xfrm flipV="1">
                <a:off x="2627280" y="979560"/>
                <a:ext cx="0" cy="367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Line 69"/>
              <p:cNvSpPr/>
              <p:nvPr/>
            </p:nvSpPr>
            <p:spPr>
              <a:xfrm flipV="1">
                <a:off x="2885400" y="979560"/>
                <a:ext cx="0" cy="367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4" name="Group 76"/>
            <p:cNvGrpSpPr/>
            <p:nvPr/>
          </p:nvGrpSpPr>
          <p:grpSpPr>
            <a:xfrm>
              <a:off x="3141720" y="981000"/>
              <a:ext cx="257760" cy="3673440"/>
              <a:chOff x="3141720" y="981000"/>
              <a:chExt cx="257760" cy="3673440"/>
            </a:xfrm>
          </p:grpSpPr>
          <p:sp>
            <p:nvSpPr>
              <p:cNvPr id="1135" name="Line 77"/>
              <p:cNvSpPr/>
              <p:nvPr/>
            </p:nvSpPr>
            <p:spPr>
              <a:xfrm flipV="1">
                <a:off x="3141720" y="981000"/>
                <a:ext cx="0" cy="367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Line 78"/>
              <p:cNvSpPr/>
              <p:nvPr/>
            </p:nvSpPr>
            <p:spPr>
              <a:xfrm flipV="1">
                <a:off x="3399480" y="981000"/>
                <a:ext cx="0" cy="367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7" name="Group 79"/>
            <p:cNvGrpSpPr/>
            <p:nvPr/>
          </p:nvGrpSpPr>
          <p:grpSpPr>
            <a:xfrm>
              <a:off x="3655080" y="981000"/>
              <a:ext cx="258120" cy="3673440"/>
              <a:chOff x="3655080" y="981000"/>
              <a:chExt cx="258120" cy="3673440"/>
            </a:xfrm>
          </p:grpSpPr>
          <p:sp>
            <p:nvSpPr>
              <p:cNvPr id="1138" name="Line 80"/>
              <p:cNvSpPr/>
              <p:nvPr/>
            </p:nvSpPr>
            <p:spPr>
              <a:xfrm flipV="1">
                <a:off x="3655080" y="981000"/>
                <a:ext cx="0" cy="367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Line 81"/>
              <p:cNvSpPr/>
              <p:nvPr/>
            </p:nvSpPr>
            <p:spPr>
              <a:xfrm flipV="1">
                <a:off x="3913200" y="981000"/>
                <a:ext cx="0" cy="367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0" name="Group 82"/>
            <p:cNvGrpSpPr/>
            <p:nvPr/>
          </p:nvGrpSpPr>
          <p:grpSpPr>
            <a:xfrm>
              <a:off x="4169520" y="981000"/>
              <a:ext cx="257760" cy="3673440"/>
              <a:chOff x="4169520" y="981000"/>
              <a:chExt cx="257760" cy="3673440"/>
            </a:xfrm>
          </p:grpSpPr>
          <p:sp>
            <p:nvSpPr>
              <p:cNvPr id="1141" name="Line 83"/>
              <p:cNvSpPr/>
              <p:nvPr/>
            </p:nvSpPr>
            <p:spPr>
              <a:xfrm flipV="1">
                <a:off x="4169520" y="981000"/>
                <a:ext cx="0" cy="367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Line 84"/>
              <p:cNvSpPr/>
              <p:nvPr/>
            </p:nvSpPr>
            <p:spPr>
              <a:xfrm flipV="1">
                <a:off x="4427280" y="981000"/>
                <a:ext cx="0" cy="367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Freeform 2"/>
          <p:cNvSpPr/>
          <p:nvPr/>
        </p:nvSpPr>
        <p:spPr>
          <a:xfrm>
            <a:off x="639720" y="4575240"/>
            <a:ext cx="8253360" cy="2209680"/>
          </a:xfrm>
          <a:custGeom>
            <a:avLst/>
            <a:gdLst/>
            <a:ahLst/>
            <a:rect l="l" t="t" r="r" b="b"/>
            <a:pathLst>
              <a:path w="4485" h="1392">
                <a:moveTo>
                  <a:pt x="0" y="711"/>
                </a:moveTo>
                <a:cubicBezTo>
                  <a:pt x="16" y="687"/>
                  <a:pt x="33" y="662"/>
                  <a:pt x="49" y="638"/>
                </a:cubicBezTo>
                <a:cubicBezTo>
                  <a:pt x="61" y="621"/>
                  <a:pt x="55" y="596"/>
                  <a:pt x="61" y="576"/>
                </a:cubicBezTo>
                <a:cubicBezTo>
                  <a:pt x="64" y="566"/>
                  <a:pt x="100" y="479"/>
                  <a:pt x="110" y="466"/>
                </a:cubicBezTo>
                <a:cubicBezTo>
                  <a:pt x="128" y="443"/>
                  <a:pt x="152" y="426"/>
                  <a:pt x="171" y="405"/>
                </a:cubicBezTo>
                <a:cubicBezTo>
                  <a:pt x="185" y="390"/>
                  <a:pt x="197" y="373"/>
                  <a:pt x="208" y="356"/>
                </a:cubicBezTo>
                <a:cubicBezTo>
                  <a:pt x="221" y="336"/>
                  <a:pt x="229" y="312"/>
                  <a:pt x="245" y="294"/>
                </a:cubicBezTo>
                <a:cubicBezTo>
                  <a:pt x="302" y="229"/>
                  <a:pt x="387" y="200"/>
                  <a:pt x="453" y="147"/>
                </a:cubicBezTo>
                <a:cubicBezTo>
                  <a:pt x="471" y="133"/>
                  <a:pt x="483" y="112"/>
                  <a:pt x="502" y="98"/>
                </a:cubicBezTo>
                <a:cubicBezTo>
                  <a:pt x="561" y="54"/>
                  <a:pt x="628" y="39"/>
                  <a:pt x="698" y="25"/>
                </a:cubicBezTo>
                <a:cubicBezTo>
                  <a:pt x="782" y="32"/>
                  <a:pt x="864" y="34"/>
                  <a:pt x="944" y="62"/>
                </a:cubicBezTo>
                <a:cubicBezTo>
                  <a:pt x="981" y="90"/>
                  <a:pt x="1029" y="108"/>
                  <a:pt x="1054" y="147"/>
                </a:cubicBezTo>
                <a:cubicBezTo>
                  <a:pt x="1083" y="192"/>
                  <a:pt x="1114" y="232"/>
                  <a:pt x="1152" y="270"/>
                </a:cubicBezTo>
                <a:cubicBezTo>
                  <a:pt x="1162" y="320"/>
                  <a:pt x="1172" y="369"/>
                  <a:pt x="1189" y="417"/>
                </a:cubicBezTo>
                <a:cubicBezTo>
                  <a:pt x="1201" y="670"/>
                  <a:pt x="1131" y="712"/>
                  <a:pt x="1336" y="687"/>
                </a:cubicBezTo>
                <a:cubicBezTo>
                  <a:pt x="1424" y="626"/>
                  <a:pt x="1313" y="696"/>
                  <a:pt x="1421" y="650"/>
                </a:cubicBezTo>
                <a:cubicBezTo>
                  <a:pt x="1474" y="627"/>
                  <a:pt x="1519" y="580"/>
                  <a:pt x="1569" y="552"/>
                </a:cubicBezTo>
                <a:cubicBezTo>
                  <a:pt x="1588" y="541"/>
                  <a:pt x="1611" y="538"/>
                  <a:pt x="1630" y="527"/>
                </a:cubicBezTo>
                <a:cubicBezTo>
                  <a:pt x="1681" y="498"/>
                  <a:pt x="1712" y="456"/>
                  <a:pt x="1765" y="429"/>
                </a:cubicBezTo>
                <a:cubicBezTo>
                  <a:pt x="1789" y="405"/>
                  <a:pt x="1814" y="380"/>
                  <a:pt x="1838" y="356"/>
                </a:cubicBezTo>
                <a:cubicBezTo>
                  <a:pt x="1850" y="344"/>
                  <a:pt x="1875" y="319"/>
                  <a:pt x="1875" y="319"/>
                </a:cubicBezTo>
                <a:cubicBezTo>
                  <a:pt x="1924" y="219"/>
                  <a:pt x="1869" y="311"/>
                  <a:pt x="1936" y="245"/>
                </a:cubicBezTo>
                <a:cubicBezTo>
                  <a:pt x="1980" y="202"/>
                  <a:pt x="1967" y="194"/>
                  <a:pt x="2034" y="172"/>
                </a:cubicBezTo>
                <a:cubicBezTo>
                  <a:pt x="2102" y="126"/>
                  <a:pt x="2177" y="76"/>
                  <a:pt x="2255" y="49"/>
                </a:cubicBezTo>
                <a:cubicBezTo>
                  <a:pt x="2274" y="52"/>
                  <a:pt x="2348" y="58"/>
                  <a:pt x="2377" y="74"/>
                </a:cubicBezTo>
                <a:cubicBezTo>
                  <a:pt x="2403" y="88"/>
                  <a:pt x="2451" y="123"/>
                  <a:pt x="2451" y="123"/>
                </a:cubicBezTo>
                <a:cubicBezTo>
                  <a:pt x="2464" y="163"/>
                  <a:pt x="2487" y="193"/>
                  <a:pt x="2500" y="233"/>
                </a:cubicBezTo>
                <a:cubicBezTo>
                  <a:pt x="2501" y="257"/>
                  <a:pt x="2490" y="481"/>
                  <a:pt x="2537" y="552"/>
                </a:cubicBezTo>
                <a:cubicBezTo>
                  <a:pt x="2566" y="596"/>
                  <a:pt x="2624" y="631"/>
                  <a:pt x="2672" y="650"/>
                </a:cubicBezTo>
                <a:cubicBezTo>
                  <a:pt x="2696" y="660"/>
                  <a:pt x="2745" y="674"/>
                  <a:pt x="2745" y="674"/>
                </a:cubicBezTo>
                <a:cubicBezTo>
                  <a:pt x="2827" y="670"/>
                  <a:pt x="2909" y="671"/>
                  <a:pt x="2990" y="662"/>
                </a:cubicBezTo>
                <a:cubicBezTo>
                  <a:pt x="3016" y="659"/>
                  <a:pt x="3064" y="638"/>
                  <a:pt x="3064" y="638"/>
                </a:cubicBezTo>
                <a:cubicBezTo>
                  <a:pt x="3149" y="581"/>
                  <a:pt x="3113" y="605"/>
                  <a:pt x="3174" y="564"/>
                </a:cubicBezTo>
                <a:cubicBezTo>
                  <a:pt x="3222" y="532"/>
                  <a:pt x="3249" y="473"/>
                  <a:pt x="3297" y="441"/>
                </a:cubicBezTo>
                <a:cubicBezTo>
                  <a:pt x="3309" y="433"/>
                  <a:pt x="3323" y="427"/>
                  <a:pt x="3333" y="417"/>
                </a:cubicBezTo>
                <a:cubicBezTo>
                  <a:pt x="3393" y="357"/>
                  <a:pt x="3437" y="285"/>
                  <a:pt x="3505" y="233"/>
                </a:cubicBezTo>
                <a:cubicBezTo>
                  <a:pt x="3545" y="171"/>
                  <a:pt x="3517" y="204"/>
                  <a:pt x="3603" y="147"/>
                </a:cubicBezTo>
                <a:cubicBezTo>
                  <a:pt x="3622" y="134"/>
                  <a:pt x="3634" y="113"/>
                  <a:pt x="3652" y="98"/>
                </a:cubicBezTo>
                <a:cubicBezTo>
                  <a:pt x="3666" y="86"/>
                  <a:pt x="3779" y="27"/>
                  <a:pt x="3787" y="25"/>
                </a:cubicBezTo>
                <a:cubicBezTo>
                  <a:pt x="3835" y="11"/>
                  <a:pt x="3934" y="0"/>
                  <a:pt x="3934" y="0"/>
                </a:cubicBezTo>
                <a:cubicBezTo>
                  <a:pt x="3971" y="4"/>
                  <a:pt x="4008" y="5"/>
                  <a:pt x="4044" y="13"/>
                </a:cubicBezTo>
                <a:cubicBezTo>
                  <a:pt x="4097" y="25"/>
                  <a:pt x="4177" y="109"/>
                  <a:pt x="4216" y="147"/>
                </a:cubicBezTo>
                <a:cubicBezTo>
                  <a:pt x="4241" y="197"/>
                  <a:pt x="4262" y="230"/>
                  <a:pt x="4301" y="270"/>
                </a:cubicBezTo>
                <a:cubicBezTo>
                  <a:pt x="4321" y="327"/>
                  <a:pt x="4330" y="369"/>
                  <a:pt x="4363" y="417"/>
                </a:cubicBezTo>
                <a:cubicBezTo>
                  <a:pt x="4383" y="562"/>
                  <a:pt x="4428" y="706"/>
                  <a:pt x="4473" y="846"/>
                </a:cubicBezTo>
                <a:cubicBezTo>
                  <a:pt x="4477" y="883"/>
                  <a:pt x="4485" y="919"/>
                  <a:pt x="4485" y="956"/>
                </a:cubicBezTo>
                <a:cubicBezTo>
                  <a:pt x="4485" y="1044"/>
                  <a:pt x="4401" y="1096"/>
                  <a:pt x="4326" y="1116"/>
                </a:cubicBezTo>
                <a:cubicBezTo>
                  <a:pt x="4318" y="1128"/>
                  <a:pt x="4313" y="1144"/>
                  <a:pt x="4301" y="1152"/>
                </a:cubicBezTo>
                <a:cubicBezTo>
                  <a:pt x="4265" y="1176"/>
                  <a:pt x="4136" y="1197"/>
                  <a:pt x="4093" y="1214"/>
                </a:cubicBezTo>
                <a:cubicBezTo>
                  <a:pt x="4006" y="1248"/>
                  <a:pt x="3926" y="1284"/>
                  <a:pt x="3848" y="1336"/>
                </a:cubicBezTo>
                <a:cubicBezTo>
                  <a:pt x="3840" y="1341"/>
                  <a:pt x="3664" y="1392"/>
                  <a:pt x="3664" y="1361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4" name="Group 3"/>
          <p:cNvGrpSpPr/>
          <p:nvPr/>
        </p:nvGrpSpPr>
        <p:grpSpPr>
          <a:xfrm>
            <a:off x="1095120" y="2651760"/>
            <a:ext cx="6404040" cy="2890800"/>
            <a:chOff x="1095120" y="2651760"/>
            <a:chExt cx="6404040" cy="2890800"/>
          </a:xfrm>
        </p:grpSpPr>
        <p:grpSp>
          <p:nvGrpSpPr>
            <p:cNvPr id="1145" name="Group 4"/>
            <p:cNvGrpSpPr/>
            <p:nvPr/>
          </p:nvGrpSpPr>
          <p:grpSpPr>
            <a:xfrm>
              <a:off x="1095120" y="2956320"/>
              <a:ext cx="3203640" cy="1976400"/>
              <a:chOff x="1095120" y="2956320"/>
              <a:chExt cx="3203640" cy="1976400"/>
            </a:xfrm>
          </p:grpSpPr>
          <p:sp>
            <p:nvSpPr>
              <p:cNvPr id="1146" name="Line 5"/>
              <p:cNvSpPr/>
              <p:nvPr/>
            </p:nvSpPr>
            <p:spPr>
              <a:xfrm>
                <a:off x="1095120" y="2956320"/>
                <a:ext cx="3203640" cy="1976400"/>
              </a:xfrm>
              <a:prstGeom prst="line">
                <a:avLst/>
              </a:prstGeom>
              <a:ln w="57240">
                <a:solidFill>
                  <a:srgbClr val="1717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Line 6"/>
              <p:cNvSpPr/>
              <p:nvPr/>
            </p:nvSpPr>
            <p:spPr>
              <a:xfrm>
                <a:off x="2696760" y="3944520"/>
                <a:ext cx="613800" cy="374760"/>
              </a:xfrm>
              <a:prstGeom prst="line">
                <a:avLst/>
              </a:prstGeom>
              <a:ln w="57240">
                <a:solidFill>
                  <a:srgbClr val="1717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Group 7"/>
            <p:cNvGrpSpPr/>
            <p:nvPr/>
          </p:nvGrpSpPr>
          <p:grpSpPr>
            <a:xfrm>
              <a:off x="4295520" y="2651760"/>
              <a:ext cx="3203640" cy="1976400"/>
              <a:chOff x="4295520" y="2651760"/>
              <a:chExt cx="3203640" cy="1976400"/>
            </a:xfrm>
          </p:grpSpPr>
          <p:sp>
            <p:nvSpPr>
              <p:cNvPr id="1149" name="Line 8"/>
              <p:cNvSpPr/>
              <p:nvPr/>
            </p:nvSpPr>
            <p:spPr>
              <a:xfrm>
                <a:off x="4295520" y="2651760"/>
                <a:ext cx="3203640" cy="1976400"/>
              </a:xfrm>
              <a:prstGeom prst="line">
                <a:avLst/>
              </a:prstGeom>
              <a:ln w="57240">
                <a:solidFill>
                  <a:srgbClr val="1717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Line 9"/>
              <p:cNvSpPr/>
              <p:nvPr/>
            </p:nvSpPr>
            <p:spPr>
              <a:xfrm>
                <a:off x="5897160" y="3639960"/>
                <a:ext cx="613800" cy="374760"/>
              </a:xfrm>
              <a:prstGeom prst="line">
                <a:avLst/>
              </a:prstGeom>
              <a:ln w="57240">
                <a:solidFill>
                  <a:srgbClr val="1717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Group 10"/>
            <p:cNvGrpSpPr/>
            <p:nvPr/>
          </p:nvGrpSpPr>
          <p:grpSpPr>
            <a:xfrm>
              <a:off x="3152520" y="3566160"/>
              <a:ext cx="3203640" cy="1976400"/>
              <a:chOff x="3152520" y="3566160"/>
              <a:chExt cx="3203640" cy="1976400"/>
            </a:xfrm>
          </p:grpSpPr>
          <p:sp>
            <p:nvSpPr>
              <p:cNvPr id="1152" name="Line 11"/>
              <p:cNvSpPr/>
              <p:nvPr/>
            </p:nvSpPr>
            <p:spPr>
              <a:xfrm>
                <a:off x="3152520" y="3566160"/>
                <a:ext cx="3203640" cy="1976400"/>
              </a:xfrm>
              <a:prstGeom prst="line">
                <a:avLst/>
              </a:prstGeom>
              <a:ln w="57240">
                <a:solidFill>
                  <a:srgbClr val="1717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Line 12"/>
              <p:cNvSpPr/>
              <p:nvPr/>
            </p:nvSpPr>
            <p:spPr>
              <a:xfrm>
                <a:off x="4754160" y="4554360"/>
                <a:ext cx="613800" cy="374760"/>
              </a:xfrm>
              <a:prstGeom prst="line">
                <a:avLst/>
              </a:prstGeom>
              <a:ln w="38160">
                <a:solidFill>
                  <a:srgbClr val="1717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4" name="Group 13"/>
          <p:cNvGrpSpPr/>
          <p:nvPr/>
        </p:nvGrpSpPr>
        <p:grpSpPr>
          <a:xfrm>
            <a:off x="4288320" y="858240"/>
            <a:ext cx="3871440" cy="4667760"/>
            <a:chOff x="4288320" y="858240"/>
            <a:chExt cx="3871440" cy="4667760"/>
          </a:xfrm>
        </p:grpSpPr>
        <p:grpSp>
          <p:nvGrpSpPr>
            <p:cNvPr id="1155" name="Group 14"/>
            <p:cNvGrpSpPr/>
            <p:nvPr/>
          </p:nvGrpSpPr>
          <p:grpSpPr>
            <a:xfrm>
              <a:off x="4288320" y="1148400"/>
              <a:ext cx="18360" cy="3763800"/>
              <a:chOff x="4288320" y="1148400"/>
              <a:chExt cx="18360" cy="3763800"/>
            </a:xfrm>
          </p:grpSpPr>
          <p:sp>
            <p:nvSpPr>
              <p:cNvPr id="1156" name="Line 15"/>
              <p:cNvSpPr/>
              <p:nvPr/>
            </p:nvSpPr>
            <p:spPr>
              <a:xfrm flipV="1">
                <a:off x="4288320" y="1148400"/>
                <a:ext cx="18360" cy="37638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Line 16"/>
              <p:cNvSpPr/>
              <p:nvPr/>
            </p:nvSpPr>
            <p:spPr>
              <a:xfrm flipV="1">
                <a:off x="4297680" y="2311560"/>
                <a:ext cx="0" cy="71892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8" name="Group 17"/>
            <p:cNvGrpSpPr/>
            <p:nvPr/>
          </p:nvGrpSpPr>
          <p:grpSpPr>
            <a:xfrm>
              <a:off x="7492320" y="858240"/>
              <a:ext cx="468360" cy="3734640"/>
              <a:chOff x="7492320" y="858240"/>
              <a:chExt cx="468360" cy="3734640"/>
            </a:xfrm>
          </p:grpSpPr>
          <p:sp>
            <p:nvSpPr>
              <p:cNvPr id="1159" name="Line 18"/>
              <p:cNvSpPr/>
              <p:nvPr/>
            </p:nvSpPr>
            <p:spPr>
              <a:xfrm flipV="1">
                <a:off x="7492320" y="858240"/>
                <a:ext cx="468360" cy="37346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Line 19"/>
              <p:cNvSpPr/>
              <p:nvPr/>
            </p:nvSpPr>
            <p:spPr>
              <a:xfrm flipV="1">
                <a:off x="7726680" y="2012040"/>
                <a:ext cx="86040" cy="7138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1" name="Group 20"/>
            <p:cNvGrpSpPr/>
            <p:nvPr/>
          </p:nvGrpSpPr>
          <p:grpSpPr>
            <a:xfrm>
              <a:off x="6378120" y="2210400"/>
              <a:ext cx="1781640" cy="3315600"/>
              <a:chOff x="6378120" y="2210400"/>
              <a:chExt cx="1781640" cy="3315600"/>
            </a:xfrm>
          </p:grpSpPr>
          <p:sp>
            <p:nvSpPr>
              <p:cNvPr id="1162" name="Line 21"/>
              <p:cNvSpPr/>
              <p:nvPr/>
            </p:nvSpPr>
            <p:spPr>
              <a:xfrm flipV="1">
                <a:off x="6378120" y="2210400"/>
                <a:ext cx="1781640" cy="33156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Line 22"/>
              <p:cNvSpPr/>
              <p:nvPr/>
            </p:nvSpPr>
            <p:spPr>
              <a:xfrm flipV="1">
                <a:off x="7269120" y="3233520"/>
                <a:ext cx="337320" cy="6346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481040" y="380880"/>
            <a:ext cx="6600960" cy="55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漫反射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pSp>
        <p:nvGrpSpPr>
          <p:cNvPr id="1165" name="Group 27"/>
          <p:cNvGrpSpPr/>
          <p:nvPr/>
        </p:nvGrpSpPr>
        <p:grpSpPr>
          <a:xfrm>
            <a:off x="2700000" y="1196640"/>
            <a:ext cx="4751280" cy="4392720"/>
            <a:chOff x="2700000" y="1196640"/>
            <a:chExt cx="4751280" cy="4392720"/>
          </a:xfrm>
        </p:grpSpPr>
        <p:sp>
          <p:nvSpPr>
            <p:cNvPr id="1166" name="Line 24"/>
            <p:cNvSpPr/>
            <p:nvPr/>
          </p:nvSpPr>
          <p:spPr>
            <a:xfrm flipH="1" flipV="1">
              <a:off x="2700000" y="2061720"/>
              <a:ext cx="1584360" cy="28796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25"/>
            <p:cNvSpPr/>
            <p:nvPr/>
          </p:nvSpPr>
          <p:spPr>
            <a:xfrm flipH="1" flipV="1">
              <a:off x="5579640" y="1844280"/>
              <a:ext cx="792360" cy="3745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26"/>
            <p:cNvSpPr/>
            <p:nvPr/>
          </p:nvSpPr>
          <p:spPr>
            <a:xfrm flipH="1" flipV="1">
              <a:off x="5866920" y="1196640"/>
              <a:ext cx="1584360" cy="3384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Text Box 4"/>
          <p:cNvSpPr/>
          <p:nvPr/>
        </p:nvSpPr>
        <p:spPr>
          <a:xfrm>
            <a:off x="684360" y="300348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镜面反射和漫反射都遵循反射定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439272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四、巩固练习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533160" y="837720"/>
            <a:ext cx="8064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）填空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光线与镜面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角射入平面镜上，入射角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反射角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试画出反射光线，标出入射角和反射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追问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上题中，入射光线和反射光线的夹角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光线垂直射到镜面上时，入射角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反射角是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反射光线的方向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　　　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5"/>
          <p:cNvSpPr/>
          <p:nvPr/>
        </p:nvSpPr>
        <p:spPr>
          <a:xfrm>
            <a:off x="1763640" y="162864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6"/>
          <p:cNvSpPr/>
          <p:nvPr/>
        </p:nvSpPr>
        <p:spPr>
          <a:xfrm>
            <a:off x="5003640" y="162864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Text Box 7"/>
          <p:cNvSpPr/>
          <p:nvPr/>
        </p:nvSpPr>
        <p:spPr>
          <a:xfrm>
            <a:off x="2411280" y="29210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Text Box 8"/>
          <p:cNvSpPr/>
          <p:nvPr/>
        </p:nvSpPr>
        <p:spPr>
          <a:xfrm>
            <a:off x="1476360" y="42894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Text Box 9"/>
          <p:cNvSpPr/>
          <p:nvPr/>
        </p:nvSpPr>
        <p:spPr>
          <a:xfrm>
            <a:off x="5076720" y="4292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Text Box 10"/>
          <p:cNvSpPr/>
          <p:nvPr/>
        </p:nvSpPr>
        <p:spPr>
          <a:xfrm>
            <a:off x="2627280" y="464976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垂直镜面返回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2"/>
          <p:cNvSpPr/>
          <p:nvPr/>
        </p:nvSpPr>
        <p:spPr>
          <a:xfrm>
            <a:off x="228600" y="380880"/>
            <a:ext cx="8915400" cy="35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黑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因为发生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射，我们能从不同方向看到黑板上的同一个字，是由于光射到黑板上发生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缘故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反射光线与入射光线的夹角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度，反射角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反射光线与镜面的夹角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入射光线和镜面的夹角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改变入射光线的方向，使它逐渐靠近法线，入射角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　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增大或减小），当它与法线重合时，入射角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3"/>
          <p:cNvSpPr/>
          <p:nvPr/>
        </p:nvSpPr>
        <p:spPr>
          <a:xfrm>
            <a:off x="5508720" y="260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镜面反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Text Box 4"/>
          <p:cNvSpPr/>
          <p:nvPr/>
        </p:nvSpPr>
        <p:spPr>
          <a:xfrm>
            <a:off x="755640" y="277812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Text Box 5"/>
          <p:cNvSpPr/>
          <p:nvPr/>
        </p:nvSpPr>
        <p:spPr>
          <a:xfrm>
            <a:off x="4140360" y="10494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漫反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7"/>
          <p:cNvSpPr/>
          <p:nvPr/>
        </p:nvSpPr>
        <p:spPr>
          <a:xfrm>
            <a:off x="6518160" y="277812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8"/>
          <p:cNvSpPr/>
          <p:nvPr/>
        </p:nvSpPr>
        <p:spPr>
          <a:xfrm>
            <a:off x="3637080" y="313704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9"/>
          <p:cNvSpPr/>
          <p:nvPr/>
        </p:nvSpPr>
        <p:spPr>
          <a:xfrm>
            <a:off x="5867280" y="350028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减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0"/>
          <p:cNvSpPr/>
          <p:nvPr/>
        </p:nvSpPr>
        <p:spPr>
          <a:xfrm>
            <a:off x="7669080" y="393372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388764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二）选择题</a:t>
            </a: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下列说法中错误的是（  　　　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光的反射中，若入射光线靠近法线，反射光线也靠近法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光线垂直入射时，反射角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通过镜面，甲同学能看到乙同学的眼睛，则乙也能看到甲同学的眼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镜面反射遵守反射定律，漫发射不遵守反射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在光的反射中，入射角等于反射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一束光线射到平面镜上，当入射角增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入射光线与反射光线恰好成直角，则原来的入射角应为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B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ext Box 4"/>
          <p:cNvSpPr/>
          <p:nvPr/>
        </p:nvSpPr>
        <p:spPr>
          <a:xfrm>
            <a:off x="5003640" y="404640"/>
            <a:ext cx="16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5"/>
          <p:cNvSpPr/>
          <p:nvPr/>
        </p:nvSpPr>
        <p:spPr>
          <a:xfrm>
            <a:off x="5724360" y="69228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6"/>
          <p:cNvSpPr/>
          <p:nvPr/>
        </p:nvSpPr>
        <p:spPr>
          <a:xfrm>
            <a:off x="4716360" y="5589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1" name="Group 40"/>
          <p:cNvGrpSpPr/>
          <p:nvPr/>
        </p:nvGrpSpPr>
        <p:grpSpPr>
          <a:xfrm>
            <a:off x="4211640" y="1125360"/>
            <a:ext cx="936720" cy="4203360"/>
            <a:chOff x="4211640" y="1125360"/>
            <a:chExt cx="936720" cy="4203360"/>
          </a:xfrm>
        </p:grpSpPr>
        <p:grpSp>
          <p:nvGrpSpPr>
            <p:cNvPr id="1192" name="Group 35"/>
            <p:cNvGrpSpPr/>
            <p:nvPr/>
          </p:nvGrpSpPr>
          <p:grpSpPr>
            <a:xfrm>
              <a:off x="4211640" y="1300320"/>
              <a:ext cx="360360" cy="3352680"/>
              <a:chOff x="4211640" y="1300320"/>
              <a:chExt cx="360360" cy="3352680"/>
            </a:xfrm>
          </p:grpSpPr>
          <p:sp>
            <p:nvSpPr>
              <p:cNvPr id="1193" name="Line 36"/>
              <p:cNvSpPr/>
              <p:nvPr/>
            </p:nvSpPr>
            <p:spPr>
              <a:xfrm>
                <a:off x="4240440" y="1300320"/>
                <a:ext cx="0" cy="335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Rectangle 37"/>
              <p:cNvSpPr/>
              <p:nvPr/>
            </p:nvSpPr>
            <p:spPr>
              <a:xfrm>
                <a:off x="4211640" y="429264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5" name="Text Box 38"/>
            <p:cNvSpPr/>
            <p:nvPr/>
          </p:nvSpPr>
          <p:spPr>
            <a:xfrm>
              <a:off x="4284720" y="11253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Text Box 39"/>
            <p:cNvSpPr/>
            <p:nvPr/>
          </p:nvSpPr>
          <p:spPr>
            <a:xfrm>
              <a:off x="4211640" y="486900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42004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三、做图题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grpSp>
        <p:nvGrpSpPr>
          <p:cNvPr id="1198" name="Group 3"/>
          <p:cNvGrpSpPr/>
          <p:nvPr/>
        </p:nvGrpSpPr>
        <p:grpSpPr>
          <a:xfrm>
            <a:off x="2270160" y="4651200"/>
            <a:ext cx="4013640" cy="634680"/>
            <a:chOff x="2270160" y="4651200"/>
            <a:chExt cx="4013640" cy="634680"/>
          </a:xfrm>
        </p:grpSpPr>
        <p:sp>
          <p:nvSpPr>
            <p:cNvPr id="1199" name="Line 4"/>
            <p:cNvSpPr/>
            <p:nvPr/>
          </p:nvSpPr>
          <p:spPr>
            <a:xfrm>
              <a:off x="2270160" y="4651200"/>
              <a:ext cx="3886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0" name="Group 5"/>
            <p:cNvGrpSpPr/>
            <p:nvPr/>
          </p:nvGrpSpPr>
          <p:grpSpPr>
            <a:xfrm>
              <a:off x="2370600" y="4668120"/>
              <a:ext cx="3913200" cy="617760"/>
              <a:chOff x="2370600" y="4668120"/>
              <a:chExt cx="3913200" cy="617760"/>
            </a:xfrm>
          </p:grpSpPr>
          <p:sp>
            <p:nvSpPr>
              <p:cNvPr id="1201" name="Line 6"/>
              <p:cNvSpPr/>
              <p:nvPr/>
            </p:nvSpPr>
            <p:spPr>
              <a:xfrm>
                <a:off x="2370600" y="4672080"/>
                <a:ext cx="264960" cy="56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Line 7"/>
              <p:cNvSpPr/>
              <p:nvPr/>
            </p:nvSpPr>
            <p:spPr>
              <a:xfrm>
                <a:off x="2636280" y="4675680"/>
                <a:ext cx="264600" cy="565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Line 8"/>
              <p:cNvSpPr/>
              <p:nvPr/>
            </p:nvSpPr>
            <p:spPr>
              <a:xfrm>
                <a:off x="2902320" y="4679280"/>
                <a:ext cx="264960" cy="566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Line 9"/>
              <p:cNvSpPr/>
              <p:nvPr/>
            </p:nvSpPr>
            <p:spPr>
              <a:xfrm>
                <a:off x="3168720" y="4682880"/>
                <a:ext cx="264960" cy="565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10"/>
              <p:cNvSpPr/>
              <p:nvPr/>
            </p:nvSpPr>
            <p:spPr>
              <a:xfrm>
                <a:off x="3434760" y="4686840"/>
                <a:ext cx="264960" cy="565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11"/>
              <p:cNvSpPr/>
              <p:nvPr/>
            </p:nvSpPr>
            <p:spPr>
              <a:xfrm>
                <a:off x="3700800" y="4690440"/>
                <a:ext cx="265320" cy="566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Line 12"/>
              <p:cNvSpPr/>
              <p:nvPr/>
            </p:nvSpPr>
            <p:spPr>
              <a:xfrm>
                <a:off x="3967560" y="4694040"/>
                <a:ext cx="264960" cy="565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13"/>
              <p:cNvSpPr/>
              <p:nvPr/>
            </p:nvSpPr>
            <p:spPr>
              <a:xfrm>
                <a:off x="4233600" y="4698000"/>
                <a:ext cx="264600" cy="565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Line 14"/>
              <p:cNvSpPr/>
              <p:nvPr/>
            </p:nvSpPr>
            <p:spPr>
              <a:xfrm>
                <a:off x="4499280" y="4701240"/>
                <a:ext cx="264960" cy="566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Line 15"/>
              <p:cNvSpPr/>
              <p:nvPr/>
            </p:nvSpPr>
            <p:spPr>
              <a:xfrm>
                <a:off x="4766040" y="4705200"/>
                <a:ext cx="264960" cy="565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Line 16"/>
              <p:cNvSpPr/>
              <p:nvPr/>
            </p:nvSpPr>
            <p:spPr>
              <a:xfrm>
                <a:off x="5031720" y="4708800"/>
                <a:ext cx="264600" cy="565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17"/>
              <p:cNvSpPr/>
              <p:nvPr/>
            </p:nvSpPr>
            <p:spPr>
              <a:xfrm>
                <a:off x="5297760" y="4712400"/>
                <a:ext cx="264960" cy="566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18"/>
              <p:cNvSpPr/>
              <p:nvPr/>
            </p:nvSpPr>
            <p:spPr>
              <a:xfrm>
                <a:off x="5564160" y="4716360"/>
                <a:ext cx="264960" cy="56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Line 19"/>
              <p:cNvSpPr/>
              <p:nvPr/>
            </p:nvSpPr>
            <p:spPr>
              <a:xfrm>
                <a:off x="5830200" y="4719960"/>
                <a:ext cx="264960" cy="565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Line 20"/>
              <p:cNvSpPr/>
              <p:nvPr/>
            </p:nvSpPr>
            <p:spPr>
              <a:xfrm>
                <a:off x="6018840" y="4668120"/>
                <a:ext cx="264960" cy="565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16" name="Group 21"/>
          <p:cNvGrpSpPr/>
          <p:nvPr/>
        </p:nvGrpSpPr>
        <p:grpSpPr>
          <a:xfrm>
            <a:off x="4237560" y="1616760"/>
            <a:ext cx="3484440" cy="3015000"/>
            <a:chOff x="4237560" y="1616760"/>
            <a:chExt cx="3484440" cy="3015000"/>
          </a:xfrm>
        </p:grpSpPr>
        <p:sp>
          <p:nvSpPr>
            <p:cNvPr id="1217" name="Line 22"/>
            <p:cNvSpPr/>
            <p:nvPr/>
          </p:nvSpPr>
          <p:spPr>
            <a:xfrm flipH="1">
              <a:off x="4237560" y="1616760"/>
              <a:ext cx="3484440" cy="3015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23"/>
            <p:cNvSpPr/>
            <p:nvPr/>
          </p:nvSpPr>
          <p:spPr>
            <a:xfrm flipH="1">
              <a:off x="5703120" y="2946600"/>
              <a:ext cx="485640" cy="439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9" name="Group 24"/>
          <p:cNvGrpSpPr/>
          <p:nvPr/>
        </p:nvGrpSpPr>
        <p:grpSpPr>
          <a:xfrm>
            <a:off x="4913280" y="4038480"/>
            <a:ext cx="1066320" cy="533520"/>
            <a:chOff x="4913280" y="4038480"/>
            <a:chExt cx="1066320" cy="533520"/>
          </a:xfrm>
        </p:grpSpPr>
        <p:sp>
          <p:nvSpPr>
            <p:cNvPr id="1220" name="Arc 25"/>
            <p:cNvSpPr/>
            <p:nvPr/>
          </p:nvSpPr>
          <p:spPr>
            <a:xfrm>
              <a:off x="4913280" y="4114800"/>
              <a:ext cx="228240" cy="457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Text Box 26"/>
            <p:cNvSpPr/>
            <p:nvPr/>
          </p:nvSpPr>
          <p:spPr>
            <a:xfrm>
              <a:off x="5217840" y="4038480"/>
              <a:ext cx="761760" cy="45972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Group 27"/>
          <p:cNvGrpSpPr/>
          <p:nvPr/>
        </p:nvGrpSpPr>
        <p:grpSpPr>
          <a:xfrm>
            <a:off x="901080" y="1439640"/>
            <a:ext cx="3299400" cy="3215880"/>
            <a:chOff x="901080" y="1439640"/>
            <a:chExt cx="3299400" cy="3215880"/>
          </a:xfrm>
        </p:grpSpPr>
        <p:sp>
          <p:nvSpPr>
            <p:cNvPr id="1223" name="Line 28"/>
            <p:cNvSpPr/>
            <p:nvPr/>
          </p:nvSpPr>
          <p:spPr>
            <a:xfrm flipH="1" flipV="1">
              <a:off x="901080" y="1439640"/>
              <a:ext cx="3299400" cy="321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Line 29"/>
            <p:cNvSpPr/>
            <p:nvPr/>
          </p:nvSpPr>
          <p:spPr>
            <a:xfrm flipH="1" flipV="1">
              <a:off x="2265840" y="2794320"/>
              <a:ext cx="479880" cy="446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5" name="Arc 31"/>
          <p:cNvSpPr/>
          <p:nvPr/>
        </p:nvSpPr>
        <p:spPr>
          <a:xfrm>
            <a:off x="4303800" y="3962520"/>
            <a:ext cx="38088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Text Box 32"/>
          <p:cNvSpPr/>
          <p:nvPr/>
        </p:nvSpPr>
        <p:spPr>
          <a:xfrm>
            <a:off x="4464360" y="32767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Arc 33"/>
          <p:cNvSpPr/>
          <p:nvPr/>
        </p:nvSpPr>
        <p:spPr>
          <a:xfrm flipV="1" rot="10580400">
            <a:off x="3770280" y="3961440"/>
            <a:ext cx="380880" cy="228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Text Box 34"/>
          <p:cNvSpPr/>
          <p:nvPr/>
        </p:nvSpPr>
        <p:spPr>
          <a:xfrm>
            <a:off x="3473640" y="34290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29844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探究实验题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230" name="Text Box 3"/>
          <p:cNvSpPr/>
          <p:nvPr/>
        </p:nvSpPr>
        <p:spPr>
          <a:xfrm>
            <a:off x="822240" y="2157480"/>
            <a:ext cx="801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你如何使一条光线调转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说说你的方法及实验器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3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3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Text Box 2"/>
          <p:cNvSpPr/>
          <p:nvPr/>
        </p:nvSpPr>
        <p:spPr>
          <a:xfrm>
            <a:off x="0" y="457200"/>
            <a:ext cx="9556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复习提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光怎样传播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光传播速度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能看见日光灯，烛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漆黑的夜晚，我们看不到屋子里的桌子，电视，怎样才能看到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Text Box 3"/>
          <p:cNvSpPr/>
          <p:nvPr/>
        </p:nvSpPr>
        <p:spPr>
          <a:xfrm>
            <a:off x="846360" y="4005360"/>
            <a:ext cx="32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何打开灯就能看到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Text Box 3"/>
          <p:cNvSpPr/>
          <p:nvPr/>
        </p:nvSpPr>
        <p:spPr>
          <a:xfrm>
            <a:off x="762120" y="2209680"/>
            <a:ext cx="79246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验探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研究光的反射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器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平面镜、光屏、激光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步骤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 Box 4"/>
          <p:cNvSpPr/>
          <p:nvPr/>
        </p:nvSpPr>
        <p:spPr>
          <a:xfrm>
            <a:off x="609480" y="3886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1" name="Group 2"/>
          <p:cNvGrpSpPr/>
          <p:nvPr/>
        </p:nvGrpSpPr>
        <p:grpSpPr>
          <a:xfrm>
            <a:off x="755640" y="333360"/>
            <a:ext cx="7238880" cy="5029200"/>
            <a:chOff x="755640" y="333360"/>
            <a:chExt cx="7238880" cy="5029200"/>
          </a:xfrm>
        </p:grpSpPr>
        <p:grpSp>
          <p:nvGrpSpPr>
            <p:cNvPr id="1002" name="Group 3"/>
            <p:cNvGrpSpPr/>
            <p:nvPr/>
          </p:nvGrpSpPr>
          <p:grpSpPr>
            <a:xfrm>
              <a:off x="755640" y="333360"/>
              <a:ext cx="7238880" cy="5029200"/>
              <a:chOff x="755640" y="333360"/>
              <a:chExt cx="7238880" cy="5029200"/>
            </a:xfrm>
          </p:grpSpPr>
          <p:grpSp>
            <p:nvGrpSpPr>
              <p:cNvPr id="1003" name="Group 4"/>
              <p:cNvGrpSpPr/>
              <p:nvPr/>
            </p:nvGrpSpPr>
            <p:grpSpPr>
              <a:xfrm>
                <a:off x="755640" y="333360"/>
                <a:ext cx="7238880" cy="5029200"/>
                <a:chOff x="755640" y="333360"/>
                <a:chExt cx="7238880" cy="5029200"/>
              </a:xfrm>
            </p:grpSpPr>
            <p:sp>
              <p:nvSpPr>
                <p:cNvPr id="1004" name="AutoShape 5"/>
                <p:cNvSpPr/>
                <p:nvPr/>
              </p:nvSpPr>
              <p:spPr>
                <a:xfrm>
                  <a:off x="755640" y="2162160"/>
                  <a:ext cx="7238880" cy="3200400"/>
                </a:xfrm>
                <a:prstGeom prst="parallelogram">
                  <a:avLst>
                    <a:gd name="adj" fmla="val 56547"/>
                  </a:avLst>
                </a:prstGeom>
                <a:solidFill>
                  <a:srgbClr val="9f9fbf">
                    <a:alpha val="50000"/>
                  </a:srgbClr>
                </a:solidFill>
                <a:ln w="12600">
                  <a:solidFill>
                    <a:srgbClr val="9f9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Rectangle 6"/>
                <p:cNvSpPr/>
                <p:nvPr/>
              </p:nvSpPr>
              <p:spPr>
                <a:xfrm>
                  <a:off x="2584440" y="333360"/>
                  <a:ext cx="4648320" cy="3276360"/>
                </a:xfrm>
                <a:prstGeom prst="rect">
                  <a:avLst/>
                </a:prstGeom>
                <a:solidFill>
                  <a:srgbClr val="ffe2c5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6" name="Text Box 7"/>
              <p:cNvSpPr/>
              <p:nvPr/>
            </p:nvSpPr>
            <p:spPr>
              <a:xfrm>
                <a:off x="1187280" y="4721400"/>
                <a:ext cx="151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平面镜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7" name="Text Box 8"/>
            <p:cNvSpPr/>
            <p:nvPr/>
          </p:nvSpPr>
          <p:spPr>
            <a:xfrm>
              <a:off x="2700360" y="40464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光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8" name="Text Box 9"/>
          <p:cNvSpPr/>
          <p:nvPr/>
        </p:nvSpPr>
        <p:spPr>
          <a:xfrm>
            <a:off x="4878000" y="35053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0"/>
          <p:cNvSpPr/>
          <p:nvPr/>
        </p:nvSpPr>
        <p:spPr>
          <a:xfrm>
            <a:off x="5105520" y="0"/>
            <a:ext cx="1143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AutoShape 11"/>
          <p:cNvSpPr/>
          <p:nvPr/>
        </p:nvSpPr>
        <p:spPr>
          <a:xfrm rot="1528800">
            <a:off x="5028840" y="2895480"/>
            <a:ext cx="609480" cy="381240"/>
          </a:xfrm>
          <a:custGeom>
            <a:avLst/>
            <a:gdLst>
              <a:gd name="textAreaLeft" fmla="*/ 0 w 609480"/>
              <a:gd name="textAreaRight" fmla="*/ 609840 w 609480"/>
              <a:gd name="textAreaTop" fmla="*/ 0 h 381240"/>
              <a:gd name="textAreaBottom" fmla="*/ 136080 h 381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400"/>
                  <a:pt x="16200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AutoShape 12"/>
          <p:cNvSpPr/>
          <p:nvPr/>
        </p:nvSpPr>
        <p:spPr>
          <a:xfrm rot="19519800">
            <a:off x="4571640" y="2895120"/>
            <a:ext cx="609480" cy="381240"/>
          </a:xfrm>
          <a:custGeom>
            <a:avLst/>
            <a:gdLst>
              <a:gd name="textAreaLeft" fmla="*/ 0 w 609480"/>
              <a:gd name="textAreaRight" fmla="*/ 609840 w 609480"/>
              <a:gd name="textAreaTop" fmla="*/ 0 h 381240"/>
              <a:gd name="textAreaBottom" fmla="*/ 136080 h 381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400"/>
                  <a:pt x="16200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13"/>
          <p:cNvSpPr/>
          <p:nvPr/>
        </p:nvSpPr>
        <p:spPr>
          <a:xfrm>
            <a:off x="4180320" y="2286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射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14"/>
          <p:cNvSpPr/>
          <p:nvPr/>
        </p:nvSpPr>
        <p:spPr>
          <a:xfrm>
            <a:off x="5157720" y="2324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射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15"/>
          <p:cNvSpPr/>
          <p:nvPr/>
        </p:nvSpPr>
        <p:spPr>
          <a:xfrm>
            <a:off x="1187280" y="6858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射光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6"/>
          <p:cNvSpPr/>
          <p:nvPr/>
        </p:nvSpPr>
        <p:spPr>
          <a:xfrm>
            <a:off x="7878240" y="5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射光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AutoShape 17"/>
          <p:cNvSpPr/>
          <p:nvPr/>
        </p:nvSpPr>
        <p:spPr>
          <a:xfrm>
            <a:off x="6948360" y="5013360"/>
            <a:ext cx="1656000" cy="576360"/>
          </a:xfrm>
          <a:custGeom>
            <a:avLst/>
            <a:gdLst>
              <a:gd name="textAreaLeft" fmla="*/ 37080 w 1656000"/>
              <a:gd name="textAreaRight" fmla="*/ 1618920 w 165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62036" h="21600">
                <a:moveTo>
                  <a:pt x="0" y="0"/>
                </a:moveTo>
                <a:lnTo>
                  <a:pt x="62036" y="0"/>
                </a:lnTo>
                <a:lnTo>
                  <a:pt x="62036" y="21600"/>
                </a:lnTo>
                <a:lnTo>
                  <a:pt x="0" y="21600"/>
                </a:lnTo>
                <a:close/>
              </a:path>
              <a:path fill="lightenLess" w="62036" h="21600">
                <a:moveTo>
                  <a:pt x="0" y="0"/>
                </a:moveTo>
                <a:lnTo>
                  <a:pt x="62036" y="0"/>
                </a:lnTo>
                <a:lnTo>
                  <a:pt x="60636" y="1400"/>
                </a:lnTo>
                <a:lnTo>
                  <a:pt x="1400" y="1400"/>
                </a:lnTo>
                <a:close/>
              </a:path>
              <a:path fill="darken" w="62036" h="21600">
                <a:moveTo>
                  <a:pt x="62036" y="0"/>
                </a:moveTo>
                <a:lnTo>
                  <a:pt x="62036" y="21600"/>
                </a:lnTo>
                <a:lnTo>
                  <a:pt x="60636" y="20200"/>
                </a:lnTo>
                <a:lnTo>
                  <a:pt x="60636" y="1400"/>
                </a:lnTo>
                <a:close/>
              </a:path>
              <a:path fill="darkenLess" w="62036" h="21600">
                <a:moveTo>
                  <a:pt x="62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636" y="20200"/>
                </a:lnTo>
                <a:close/>
              </a:path>
              <a:path fill="lighten" w="62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l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Group 18"/>
          <p:cNvGrpSpPr/>
          <p:nvPr/>
        </p:nvGrpSpPr>
        <p:grpSpPr>
          <a:xfrm>
            <a:off x="5076720" y="260280"/>
            <a:ext cx="360360" cy="3352680"/>
            <a:chOff x="5076720" y="260280"/>
            <a:chExt cx="360360" cy="3352680"/>
          </a:xfrm>
        </p:grpSpPr>
        <p:sp>
          <p:nvSpPr>
            <p:cNvPr id="1018" name="Line 19"/>
            <p:cNvSpPr/>
            <p:nvPr/>
          </p:nvSpPr>
          <p:spPr>
            <a:xfrm>
              <a:off x="5105520" y="260280"/>
              <a:ext cx="0" cy="33526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20"/>
            <p:cNvSpPr/>
            <p:nvPr/>
          </p:nvSpPr>
          <p:spPr>
            <a:xfrm>
              <a:off x="5076720" y="3252600"/>
              <a:ext cx="360360" cy="360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21"/>
          <p:cNvGrpSpPr/>
          <p:nvPr/>
        </p:nvGrpSpPr>
        <p:grpSpPr>
          <a:xfrm>
            <a:off x="5079600" y="1047600"/>
            <a:ext cx="3804480" cy="2523240"/>
            <a:chOff x="5079600" y="1047600"/>
            <a:chExt cx="3804480" cy="2523240"/>
          </a:xfrm>
        </p:grpSpPr>
        <p:sp>
          <p:nvSpPr>
            <p:cNvPr id="1021" name="Line 22"/>
            <p:cNvSpPr/>
            <p:nvPr/>
          </p:nvSpPr>
          <p:spPr>
            <a:xfrm flipV="1">
              <a:off x="7246080" y="1802160"/>
              <a:ext cx="489240" cy="371520"/>
            </a:xfrm>
            <a:prstGeom prst="line">
              <a:avLst/>
            </a:prstGeom>
            <a:ln w="1080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Line 23"/>
            <p:cNvSpPr/>
            <p:nvPr/>
          </p:nvSpPr>
          <p:spPr>
            <a:xfrm flipV="1">
              <a:off x="5079600" y="1047600"/>
              <a:ext cx="3804480" cy="2523240"/>
            </a:xfrm>
            <a:prstGeom prst="line">
              <a:avLst/>
            </a:prstGeom>
            <a:ln w="98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Group 24"/>
          <p:cNvGrpSpPr/>
          <p:nvPr/>
        </p:nvGrpSpPr>
        <p:grpSpPr>
          <a:xfrm>
            <a:off x="1692360" y="1341360"/>
            <a:ext cx="3413160" cy="2239920"/>
            <a:chOff x="1692360" y="1341360"/>
            <a:chExt cx="3413160" cy="2239920"/>
          </a:xfrm>
        </p:grpSpPr>
        <p:sp>
          <p:nvSpPr>
            <p:cNvPr id="1024" name="Line 25"/>
            <p:cNvSpPr/>
            <p:nvPr/>
          </p:nvSpPr>
          <p:spPr>
            <a:xfrm>
              <a:off x="3603960" y="2630520"/>
              <a:ext cx="477720" cy="271440"/>
            </a:xfrm>
            <a:prstGeom prst="line">
              <a:avLst/>
            </a:prstGeom>
            <a:ln w="1080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Line 26"/>
            <p:cNvSpPr/>
            <p:nvPr/>
          </p:nvSpPr>
          <p:spPr>
            <a:xfrm>
              <a:off x="1692360" y="1341360"/>
              <a:ext cx="3413160" cy="2239920"/>
            </a:xfrm>
            <a:prstGeom prst="line">
              <a:avLst/>
            </a:prstGeom>
            <a:ln w="98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-360" y="45720"/>
            <a:ext cx="60958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、光的反射定律</a:t>
            </a:r>
            <a:br>
              <a:rPr sz="4400"/>
            </a:b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Arial"/>
              </a:rPr>
              <a:t>探究结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光的反射定律内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反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光线和入射光线、法线在同一反射平           面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反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光线和入射光线分居在法线两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反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角等于入射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4"/>
          <p:cNvSpPr/>
          <p:nvPr/>
        </p:nvSpPr>
        <p:spPr>
          <a:xfrm>
            <a:off x="1447560" y="5029200"/>
            <a:ext cx="54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概括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字：三线共面，两线分居，两角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Text Box 2"/>
          <p:cNvSpPr/>
          <p:nvPr/>
        </p:nvSpPr>
        <p:spPr>
          <a:xfrm>
            <a:off x="826920" y="549360"/>
            <a:ext cx="72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反射光路图的画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Rectangle 3"/>
          <p:cNvSpPr/>
          <p:nvPr/>
        </p:nvSpPr>
        <p:spPr>
          <a:xfrm>
            <a:off x="250920" y="3179880"/>
            <a:ext cx="5184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、光路是否可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1" name="Group 2"/>
          <p:cNvGrpSpPr/>
          <p:nvPr/>
        </p:nvGrpSpPr>
        <p:grpSpPr>
          <a:xfrm>
            <a:off x="755640" y="333360"/>
            <a:ext cx="7238880" cy="5029200"/>
            <a:chOff x="755640" y="333360"/>
            <a:chExt cx="7238880" cy="5029200"/>
          </a:xfrm>
        </p:grpSpPr>
        <p:grpSp>
          <p:nvGrpSpPr>
            <p:cNvPr id="1032" name="Group 3"/>
            <p:cNvGrpSpPr/>
            <p:nvPr/>
          </p:nvGrpSpPr>
          <p:grpSpPr>
            <a:xfrm>
              <a:off x="755640" y="333360"/>
              <a:ext cx="7238880" cy="5029200"/>
              <a:chOff x="755640" y="333360"/>
              <a:chExt cx="7238880" cy="5029200"/>
            </a:xfrm>
          </p:grpSpPr>
          <p:grpSp>
            <p:nvGrpSpPr>
              <p:cNvPr id="1033" name="Group 4"/>
              <p:cNvGrpSpPr/>
              <p:nvPr/>
            </p:nvGrpSpPr>
            <p:grpSpPr>
              <a:xfrm>
                <a:off x="755640" y="333360"/>
                <a:ext cx="7238880" cy="5029200"/>
                <a:chOff x="755640" y="333360"/>
                <a:chExt cx="7238880" cy="5029200"/>
              </a:xfrm>
            </p:grpSpPr>
            <p:sp>
              <p:nvSpPr>
                <p:cNvPr id="1034" name="AutoShape 5"/>
                <p:cNvSpPr/>
                <p:nvPr/>
              </p:nvSpPr>
              <p:spPr>
                <a:xfrm>
                  <a:off x="755640" y="2162160"/>
                  <a:ext cx="7238880" cy="3200400"/>
                </a:xfrm>
                <a:prstGeom prst="parallelogram">
                  <a:avLst>
                    <a:gd name="adj" fmla="val 56547"/>
                  </a:avLst>
                </a:prstGeom>
                <a:solidFill>
                  <a:srgbClr val="9f9fbf">
                    <a:alpha val="50000"/>
                  </a:srgbClr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Rectangle 6"/>
                <p:cNvSpPr/>
                <p:nvPr/>
              </p:nvSpPr>
              <p:spPr>
                <a:xfrm>
                  <a:off x="2584440" y="333360"/>
                  <a:ext cx="4648320" cy="3276360"/>
                </a:xfrm>
                <a:prstGeom prst="rect">
                  <a:avLst/>
                </a:prstGeom>
                <a:solidFill>
                  <a:srgbClr val="ffe2c5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6" name="Text Box 7"/>
              <p:cNvSpPr/>
              <p:nvPr/>
            </p:nvSpPr>
            <p:spPr>
              <a:xfrm>
                <a:off x="1187280" y="4721400"/>
                <a:ext cx="151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平面镜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7" name="Text Box 8"/>
            <p:cNvSpPr/>
            <p:nvPr/>
          </p:nvSpPr>
          <p:spPr>
            <a:xfrm>
              <a:off x="2700360" y="40464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光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8" name="Text Box 9"/>
          <p:cNvSpPr/>
          <p:nvPr/>
        </p:nvSpPr>
        <p:spPr>
          <a:xfrm>
            <a:off x="4878000" y="35053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10"/>
          <p:cNvSpPr/>
          <p:nvPr/>
        </p:nvSpPr>
        <p:spPr>
          <a:xfrm>
            <a:off x="5105520" y="0"/>
            <a:ext cx="1143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AutoShape 11"/>
          <p:cNvSpPr/>
          <p:nvPr/>
        </p:nvSpPr>
        <p:spPr>
          <a:xfrm rot="1528800">
            <a:off x="5028840" y="2895480"/>
            <a:ext cx="609480" cy="381240"/>
          </a:xfrm>
          <a:custGeom>
            <a:avLst/>
            <a:gdLst>
              <a:gd name="textAreaLeft" fmla="*/ 0 w 609480"/>
              <a:gd name="textAreaRight" fmla="*/ 609840 w 609480"/>
              <a:gd name="textAreaTop" fmla="*/ 0 h 381240"/>
              <a:gd name="textAreaBottom" fmla="*/ 136080 h 381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400"/>
                  <a:pt x="16200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AutoShape 12"/>
          <p:cNvSpPr/>
          <p:nvPr/>
        </p:nvSpPr>
        <p:spPr>
          <a:xfrm rot="19519800">
            <a:off x="4571640" y="2895120"/>
            <a:ext cx="609480" cy="381240"/>
          </a:xfrm>
          <a:custGeom>
            <a:avLst/>
            <a:gdLst>
              <a:gd name="textAreaLeft" fmla="*/ 0 w 609480"/>
              <a:gd name="textAreaRight" fmla="*/ 609840 w 609480"/>
              <a:gd name="textAreaTop" fmla="*/ 0 h 381240"/>
              <a:gd name="textAreaBottom" fmla="*/ 136080 h 3812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400"/>
                  <a:pt x="16200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Group 13"/>
          <p:cNvGrpSpPr/>
          <p:nvPr/>
        </p:nvGrpSpPr>
        <p:grpSpPr>
          <a:xfrm>
            <a:off x="5076720" y="260280"/>
            <a:ext cx="360360" cy="3352680"/>
            <a:chOff x="5076720" y="260280"/>
            <a:chExt cx="360360" cy="3352680"/>
          </a:xfrm>
        </p:grpSpPr>
        <p:sp>
          <p:nvSpPr>
            <p:cNvPr id="1043" name="Line 14"/>
            <p:cNvSpPr/>
            <p:nvPr/>
          </p:nvSpPr>
          <p:spPr>
            <a:xfrm>
              <a:off x="5105520" y="260280"/>
              <a:ext cx="0" cy="33526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15"/>
            <p:cNvSpPr/>
            <p:nvPr/>
          </p:nvSpPr>
          <p:spPr>
            <a:xfrm>
              <a:off x="5076720" y="3252600"/>
              <a:ext cx="360360" cy="360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5" name="Group 16"/>
          <p:cNvGrpSpPr/>
          <p:nvPr/>
        </p:nvGrpSpPr>
        <p:grpSpPr>
          <a:xfrm>
            <a:off x="5079600" y="549360"/>
            <a:ext cx="3804120" cy="3022560"/>
            <a:chOff x="5079600" y="549360"/>
            <a:chExt cx="3804120" cy="3022560"/>
          </a:xfrm>
        </p:grpSpPr>
        <p:sp>
          <p:nvSpPr>
            <p:cNvPr id="1046" name="Text Box 17"/>
            <p:cNvSpPr/>
            <p:nvPr/>
          </p:nvSpPr>
          <p:spPr>
            <a:xfrm>
              <a:off x="5157720" y="232416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反射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Text Box 18"/>
            <p:cNvSpPr/>
            <p:nvPr/>
          </p:nvSpPr>
          <p:spPr>
            <a:xfrm>
              <a:off x="7878240" y="54936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反射光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8" name="Group 19"/>
            <p:cNvGrpSpPr/>
            <p:nvPr/>
          </p:nvGrpSpPr>
          <p:grpSpPr>
            <a:xfrm>
              <a:off x="5079600" y="1047600"/>
              <a:ext cx="3804120" cy="2524320"/>
              <a:chOff x="5079600" y="1047600"/>
              <a:chExt cx="3804120" cy="2524320"/>
            </a:xfrm>
          </p:grpSpPr>
          <p:sp>
            <p:nvSpPr>
              <p:cNvPr id="1049" name="Line 20"/>
              <p:cNvSpPr/>
              <p:nvPr/>
            </p:nvSpPr>
            <p:spPr>
              <a:xfrm flipV="1">
                <a:off x="6634080" y="1873080"/>
                <a:ext cx="990720" cy="667800"/>
              </a:xfrm>
              <a:prstGeom prst="line">
                <a:avLst/>
              </a:prstGeom>
              <a:ln w="1080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21"/>
              <p:cNvSpPr/>
              <p:nvPr/>
            </p:nvSpPr>
            <p:spPr>
              <a:xfrm flipV="1">
                <a:off x="5079600" y="1047600"/>
                <a:ext cx="3804120" cy="2524320"/>
              </a:xfrm>
              <a:prstGeom prst="line">
                <a:avLst/>
              </a:prstGeom>
              <a:ln w="982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1" name="Group 22"/>
          <p:cNvGrpSpPr/>
          <p:nvPr/>
        </p:nvGrpSpPr>
        <p:grpSpPr>
          <a:xfrm>
            <a:off x="1187280" y="685800"/>
            <a:ext cx="3918240" cy="2895480"/>
            <a:chOff x="1187280" y="685800"/>
            <a:chExt cx="3918240" cy="2895480"/>
          </a:xfrm>
        </p:grpSpPr>
        <p:sp>
          <p:nvSpPr>
            <p:cNvPr id="1052" name="Text Box 23"/>
            <p:cNvSpPr/>
            <p:nvPr/>
          </p:nvSpPr>
          <p:spPr>
            <a:xfrm>
              <a:off x="4180320" y="2286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射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Text Box 24"/>
            <p:cNvSpPr/>
            <p:nvPr/>
          </p:nvSpPr>
          <p:spPr>
            <a:xfrm>
              <a:off x="1187280" y="685800"/>
              <a:ext cx="198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射光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4" name="Group 25"/>
            <p:cNvGrpSpPr/>
            <p:nvPr/>
          </p:nvGrpSpPr>
          <p:grpSpPr>
            <a:xfrm>
              <a:off x="1692360" y="1341360"/>
              <a:ext cx="3413160" cy="2239920"/>
              <a:chOff x="1692360" y="1341360"/>
              <a:chExt cx="3413160" cy="2239920"/>
            </a:xfrm>
          </p:grpSpPr>
          <p:sp>
            <p:nvSpPr>
              <p:cNvPr id="1055" name="Line 26"/>
              <p:cNvSpPr/>
              <p:nvPr/>
            </p:nvSpPr>
            <p:spPr>
              <a:xfrm>
                <a:off x="2916360" y="2133720"/>
                <a:ext cx="792000" cy="503280"/>
              </a:xfrm>
              <a:prstGeom prst="line">
                <a:avLst/>
              </a:prstGeom>
              <a:ln w="1080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27"/>
              <p:cNvSpPr/>
              <p:nvPr/>
            </p:nvSpPr>
            <p:spPr>
              <a:xfrm>
                <a:off x="1692360" y="1341360"/>
                <a:ext cx="3413160" cy="2239920"/>
              </a:xfrm>
              <a:prstGeom prst="line">
                <a:avLst/>
              </a:prstGeom>
              <a:ln w="982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7" name="Group 28"/>
          <p:cNvGrpSpPr/>
          <p:nvPr/>
        </p:nvGrpSpPr>
        <p:grpSpPr>
          <a:xfrm>
            <a:off x="5084280" y="549360"/>
            <a:ext cx="3951720" cy="3022560"/>
            <a:chOff x="5084280" y="549360"/>
            <a:chExt cx="3951720" cy="3022560"/>
          </a:xfrm>
        </p:grpSpPr>
        <p:grpSp>
          <p:nvGrpSpPr>
            <p:cNvPr id="1058" name="Group 29"/>
            <p:cNvGrpSpPr/>
            <p:nvPr/>
          </p:nvGrpSpPr>
          <p:grpSpPr>
            <a:xfrm>
              <a:off x="5084280" y="1047600"/>
              <a:ext cx="3804120" cy="2524320"/>
              <a:chOff x="5084280" y="1047600"/>
              <a:chExt cx="3804120" cy="2524320"/>
            </a:xfrm>
          </p:grpSpPr>
          <p:sp>
            <p:nvSpPr>
              <p:cNvPr id="1059" name="Line 30"/>
              <p:cNvSpPr/>
              <p:nvPr/>
            </p:nvSpPr>
            <p:spPr>
              <a:xfrm flipH="1">
                <a:off x="6343200" y="2078640"/>
                <a:ext cx="990720" cy="667800"/>
              </a:xfrm>
              <a:prstGeom prst="line">
                <a:avLst/>
              </a:prstGeom>
              <a:ln w="1080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Line 31"/>
              <p:cNvSpPr/>
              <p:nvPr/>
            </p:nvSpPr>
            <p:spPr>
              <a:xfrm flipH="1">
                <a:off x="5084280" y="1047600"/>
                <a:ext cx="3804120" cy="2524320"/>
              </a:xfrm>
              <a:prstGeom prst="line">
                <a:avLst/>
              </a:prstGeom>
              <a:ln w="98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1" name="Text Box 32"/>
            <p:cNvSpPr/>
            <p:nvPr/>
          </p:nvSpPr>
          <p:spPr>
            <a:xfrm>
              <a:off x="5148360" y="232416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入射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Text Box 33"/>
            <p:cNvSpPr/>
            <p:nvPr/>
          </p:nvSpPr>
          <p:spPr>
            <a:xfrm>
              <a:off x="7596360" y="549360"/>
              <a:ext cx="14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入射光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Group 34"/>
          <p:cNvGrpSpPr/>
          <p:nvPr/>
        </p:nvGrpSpPr>
        <p:grpSpPr>
          <a:xfrm>
            <a:off x="1187280" y="692280"/>
            <a:ext cx="3961080" cy="2889000"/>
            <a:chOff x="1187280" y="692280"/>
            <a:chExt cx="3961080" cy="2889000"/>
          </a:xfrm>
        </p:grpSpPr>
        <p:grpSp>
          <p:nvGrpSpPr>
            <p:cNvPr id="1064" name="Group 35"/>
            <p:cNvGrpSpPr/>
            <p:nvPr/>
          </p:nvGrpSpPr>
          <p:grpSpPr>
            <a:xfrm>
              <a:off x="1692000" y="1341360"/>
              <a:ext cx="3413160" cy="2239920"/>
              <a:chOff x="1692000" y="1341360"/>
              <a:chExt cx="3413160" cy="2239920"/>
            </a:xfrm>
          </p:grpSpPr>
          <p:sp>
            <p:nvSpPr>
              <p:cNvPr id="1065" name="Line 36"/>
              <p:cNvSpPr/>
              <p:nvPr/>
            </p:nvSpPr>
            <p:spPr>
              <a:xfrm flipH="1" flipV="1">
                <a:off x="3089160" y="2285640"/>
                <a:ext cx="792000" cy="503280"/>
              </a:xfrm>
              <a:prstGeom prst="line">
                <a:avLst/>
              </a:prstGeom>
              <a:ln w="1080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Line 37"/>
              <p:cNvSpPr/>
              <p:nvPr/>
            </p:nvSpPr>
            <p:spPr>
              <a:xfrm flipH="1" flipV="1">
                <a:off x="1692000" y="1341360"/>
                <a:ext cx="3413160" cy="2239920"/>
              </a:xfrm>
              <a:prstGeom prst="line">
                <a:avLst/>
              </a:prstGeom>
              <a:ln w="98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7" name="Text Box 38"/>
            <p:cNvSpPr/>
            <p:nvPr/>
          </p:nvSpPr>
          <p:spPr>
            <a:xfrm>
              <a:off x="3995640" y="2276640"/>
              <a:ext cx="115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反射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39"/>
            <p:cNvSpPr/>
            <p:nvPr/>
          </p:nvSpPr>
          <p:spPr>
            <a:xfrm>
              <a:off x="1187280" y="69228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反射光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/>
          </p:nvPr>
        </p:nvSpPr>
        <p:spPr>
          <a:xfrm>
            <a:off x="323640" y="1412640"/>
            <a:ext cx="83516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探究结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光在反射现象中，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光路是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可逆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98440" y="255600"/>
            <a:ext cx="6988320" cy="6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二、镜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反射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和漫反射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492200"/>
            <a:ext cx="86868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探究实验：用镜面和白纸反射太阳光或灯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镜面反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平行光线入射到光滑物体表面，反射光线也向同一方向平行射出，其余方向没有反射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漫反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平行光线入射到凹凸不平的物体表面时，反射光线是向不同方向射出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3-18T05:39:25Z</dcterms:modified>
  <cp:revision>11</cp:revision>
  <dc:subject/>
  <dc:title>PowerPoint Presentation</dc:title>
</cp:coreProperties>
</file>