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5.jpeg" ContentType="image/jpeg"/>
  <Override PartName="/ppt/media/image21.png" ContentType="image/png"/>
  <Override PartName="/ppt/media/image24.jpeg" ContentType="image/jpeg"/>
  <Override PartName="/ppt/media/image3.jpeg" ContentType="image/jpeg"/>
  <Override PartName="/ppt/media/image30.jpeg" ContentType="image/jpeg"/>
  <Override PartName="/ppt/media/image23.png" ContentType="image/png"/>
  <Override PartName="/ppt/media/image13.jpeg" ContentType="image/jpeg"/>
  <Override PartName="/ppt/media/image26.jpeg" ContentType="image/jpeg"/>
  <Override PartName="/ppt/media/image5.jpeg" ContentType="image/jpeg"/>
  <Override PartName="/ppt/media/image12.jpeg" ContentType="image/jpeg"/>
  <Override PartName="/ppt/media/image4.png" ContentType="image/png"/>
  <Override PartName="/ppt/media/image8.jpeg" ContentType="image/jpeg"/>
  <Override PartName="/ppt/media/image10.jpeg" ContentType="image/jpeg"/>
  <Override PartName="/ppt/media/image11.jpeg" ContentType="image/jpeg"/>
  <Override PartName="/ppt/media/image29.png" ContentType="image/png"/>
  <Override PartName="/ppt/media/image6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2.gif" ContentType="image/gif"/>
  <Override PartName="/ppt/media/image19.jpeg" ContentType="image/jpeg"/>
  <Override PartName="/ppt/media/breeze.wav" ContentType="audio/x-wav"/>
  <Override PartName="/ppt/media/image2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comments/comment5.xml" ContentType="application/vnd.openxmlformats-officedocument.presentationml.comments+xml"/>
  <Override PartName="/ppt/comments/comment24.xml" ContentType="application/vnd.openxmlformats-officedocument.presentationml.comments+xml"/>
  <Override PartName="/ppt/comments/comment10.xml" ContentType="application/vnd.openxmlformats-officedocument.presentationml.comments+xml"/>
  <Override PartName="/ppt/comments/comment1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新课标第一网" initials="新" lastIdx="4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presProps" Target="presProps.xml"/><Relationship Id="rId42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12-11-28T15:35:43.041000000" idx="2">
    <p:pos x="5066" y="74"/>
    <p:text/>
  </p:cm>
</p:cmLst>
</file>

<file path=ppt/comments/comment16.xml><?xml version="1.0" encoding="utf-8"?>
<p:cmLst xmlns:p="http://schemas.openxmlformats.org/presentationml/2006/main">
  <p:cm authorId="0" dt="2012-11-28T15:35:47.407000000" idx="3">
    <p:pos x="5081" y="692"/>
    <p:text/>
  </p:cm>
</p:cmLst>
</file>

<file path=ppt/comments/comment24.xml><?xml version="1.0" encoding="utf-8"?>
<p:cmLst xmlns:p="http://schemas.openxmlformats.org/presentationml/2006/main">
  <p:cm authorId="0" dt="2012-11-28T15:35:52.271000000" idx="4">
    <p:pos x="5510" y="1354"/>
    <p:text/>
  </p:cm>
</p:cmLst>
</file>

<file path=ppt/comments/comment5.xml><?xml version="1.0" encoding="utf-8"?>
<p:cmLst xmlns:p="http://schemas.openxmlformats.org/presentationml/2006/main">
  <p:cm authorId="0" dt="2012-11-28T15:35:39.136000000" idx="1">
    <p:pos x="3203" y="31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D554-24A3-4945-B7E7-726CF041C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F3AA-BF08-4807-BED7-4017A3A2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AE2F3-CC6D-459B-BD36-2C846527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F3295-F282-4EDA-892C-1142EB31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5F906-2C5B-4948-8CA8-29FA4BDB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C4266-C58A-4FA9-8E1A-2ED20C66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051F3-A157-42CE-83E8-4C46A72D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91344-A548-4ADF-8DFF-1C028146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002578-974D-4FD3-9C67-7E4DC86E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AAB88-3352-4986-8E51-B12BB1428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9DDE9-5F70-4CD8-B786-256BB0F88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AF0BE3-A62F-4213-9EE2-BF2F68C0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F21E-C653-4769-81AD-08EA230AD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FC6F3-C465-4D3C-AC14-E1F9A2B8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FA05F3-F1E5-4EA9-AA51-40A96C90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FA965-DDB3-415D-A70D-9F4E9774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18CCD-955E-46A6-9AF2-9BD422EC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298E44-AC4A-4FE3-9D89-BABC1B5A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02FE7-41BA-4666-902B-12E43CCE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80191-8FD8-4EFA-B5DD-56A8A391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FC9C2C-8233-4814-9AEA-57D5010E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877FEE-D01D-4D64-A345-B3354C21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E63FB-9E42-45D9-8111-78CD782C5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06F9-5F18-411A-9C7C-8F9EC44A0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DEB771-388F-4A62-8699-FF7CDB87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B3057-0650-4CF5-8A1C-9CE62B8A9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29165-20CB-4FEA-8FBC-0405E9DB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E8612-3AFB-4817-A5C9-C91E8088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885E9-2E85-43F7-9224-482236AB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D04CD-4915-4EE4-B8BC-2A146815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64C99-6C62-4B11-BA57-12541312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97F0E-BF0C-4D49-8E18-6187A8D1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57F3A3-DC99-4E6B-8565-898EDEDF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5E3D0-A955-4FFD-B7AB-9FCA1154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E936-2109-4112-8C64-0FA84E760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1679B-06F8-4295-B65B-D5733A3B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4D1DF-C55E-4C31-A091-0D1F0333E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2ECF4-FC38-4AAA-BCD8-3466334BC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54DBFC-3F5A-401A-A6E6-EDAD7C7C6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5FA8E1-56BE-4051-AF4A-73ADEE95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65A53-8A1F-43B0-8F9B-B737A8A1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5F81D0-DFAF-4505-AEEB-5B98AEA6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C3E31A-AA4D-4CD1-862C-384EF525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46E25-99F1-475E-B396-E20B59B9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244263-A6D7-4AEF-8F49-D3F756CF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1BA6-1B30-4D9E-B625-C60FB99B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CA9D7A-6AF9-46E1-967E-34FF456F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ABAC61-EEBC-4A9C-AAE1-08347237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628EFB-020C-4BA1-928F-43A49590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6C3598-EBEF-4338-A4CF-C73927AB7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28CF33-A4D2-4D8B-B8CA-0132BF25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E61320-7669-4B20-AFFA-DD97698B5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42D6DD-3F50-47FC-8C52-EEDC5331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BE8D82-EC75-4620-A6A1-4E5F0844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45B640-AA66-429C-9286-43A8B464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51505A-C60A-4C86-A9D7-CED118C8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B6AF-3887-4C2D-85BA-ED5ED157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7C12D4-5688-4DAC-965B-61FC8892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60F0AC-4EC3-4F3A-BFC2-FE4BBAB5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9628D4-7C0C-4F3C-AC4C-93C5EF09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180CE8-3166-477B-89B7-AEF54532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123279-F9CA-4F2A-B7E8-DEF1667D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EF77AA-6D78-4D84-9590-8E51781A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D30E40-DD62-41BE-BE03-FBF01621F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6397-3566-455C-9E68-55E574A9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B30E-AC80-4A6F-AE10-FCC1FFC4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820E-4DFC-4431-BAB1-A0507DC9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80C6-8D97-4679-A966-211BBCD8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9996-710C-441A-9C0A-AB57113C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298E-76A4-4C50-B447-9B7387AB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8FFC-EB1B-4D1E-814D-341D27FC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B8EC-BCF1-45BC-AC26-BB4E042F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7A30-47C0-4E52-980F-C7575622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5970-7E10-44BF-8C79-DA10E80B1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5BBF3-6B0C-4680-8390-BC555ECC9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6AEAC-77AA-47EE-B97C-76E3F5AC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261D6-5DE4-4824-BD1C-D1A9501C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17C88-0442-45F3-8675-C03DF5D5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564A6-F5AA-4A7E-B286-2D048992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A276-EB41-4583-92EA-BAAE1FCC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F28E0-26FF-483C-9B48-7214CBE1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B91E1-3197-463D-A6D1-FA3E8351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2233D-1F22-40E2-8885-E4BDAD3E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0B549-0E09-47F2-87BD-C5CBF2AF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DE71B-7729-4E83-84E7-05326762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0DD9D-471E-4203-A8DD-BFC479650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F2A9D-A64A-4C71-B512-4536F85B5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7A2F1-206C-44B9-A4AE-A163AF1FE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57E5F-A621-43E1-9AD6-4A494BDF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85A5A-10D3-464E-8E89-A0AD924A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E54C-88BE-4A88-89CF-9987BA1A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3CCE8-A403-496B-B368-FAECB43F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33E5B-A549-49AE-BE3F-4713347E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DE544-DDD5-49F1-9886-13B253DB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12269-D187-4489-91E7-D25232EA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7BBA9-967E-4D83-8EE7-33C41E8E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9EB2F-389D-41D4-B765-1C28958E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B524C-5F2F-4C8B-BF8B-C2099B29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D212B-5B34-4B15-9C30-13050EF26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E4703-AA40-4B31-8441-BF6E58C16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06ADF-B2A8-4AD1-A7E3-2FDF8E1B2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7A0A-A9A0-4B6B-8516-E5FDB725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08F93-43DC-47A4-B448-47706F0E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FD313-D9C1-4FEC-89A5-4313364B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74035-D318-4215-84FB-2ABB604E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B4EA6-95C5-442F-8451-5DD74D00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99A2A-D0B4-4C59-8DB6-92B2A866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B1F1B-DD30-4CD0-BB8B-0A060975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5D315-F2F3-4898-B0EB-1F090B5B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706A8-69CD-4CA2-8802-E91B719E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81EE4-C80C-4DA9-A862-42EA3151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8E7CB-5982-448B-82FD-821B72B75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355A-7236-49E7-B211-2C4A64C5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3F04D-A3EF-41E0-8CEB-EABD298BF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313FF-8CB7-463B-9E0B-9548CE9F5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135B4-A271-4F68-829A-040F3A1A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50A06-DB03-4129-904B-F09B2D13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C8DB0-D425-440F-A2A9-E689036A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1578B-301D-4797-91F3-DD9376A4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B3FAA-6687-4570-91AC-273A7F07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F64C5-094F-405C-9278-90F00B4A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97CC4-BA41-4ECD-A075-F4D6F86E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2C309-D38C-4ACE-8247-5034F050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F3CD-B870-4AEA-840D-D41AD71D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D483E-3602-4894-B01B-F2386765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8162E-8BC0-4E96-98B1-0E643E6A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4D790-DD23-4440-A9C6-E67A36656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AEABA-5051-4574-9A65-DEAEC11B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A11D4-036D-48C2-9201-6CF58D3B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17298-E030-4276-AAA7-DF3FD369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3EFEF-D4FC-4A13-B386-D8FC9190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01624-1AD0-4AA9-94E9-0EC019CD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63B82-8A42-4478-BC88-7F276A99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B001E-4EF9-4F4C-8420-49773969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1F1A-F84D-41E0-AF0E-1DE0019C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23D10-A96C-491A-BC17-15410283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6F02D-9FF9-4D98-A8AE-AAC015F0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0BF8A-89B6-4708-96D7-DDD86A17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A613F-5988-4F1C-BCF8-6FF9A313A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0ECB6-175F-4AFA-9549-19E23690A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4428F-12C2-40D3-92C9-5D05CF96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BFE59-3CDB-4223-A57B-B376A9F6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0522A-BB29-4A60-9559-47F58AEF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39AFF-9697-4983-9743-062E078F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06DAC-19B7-45DA-898E-113A7F57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5A30-D1A4-4969-850E-0980ADC9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AED79-E86E-4A05-B6FD-33475CC1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12E4C-966E-41E5-8437-6839AE7F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F1028-BC06-492B-8B8E-493D9B22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D103A-4ECC-45E2-B203-692AD52D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ADB59-42E7-46CB-A458-225F8E93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15CD3-A535-46F5-9102-CBB471551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65EBB-FA98-411C-A558-FF5BE011C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D3192-57A9-40CA-9D4F-3A62B990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7DF5E-43DA-4074-8269-5D9C9323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C87C5-9A59-4630-AE36-0565915C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66C5-EDC8-4B1F-82C0-5AE7B594C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6217-2B9F-4A11-91C3-D4AF14C5CF7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2519-5A3B-44EE-8274-7FE895DA18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223A-C293-4E7D-B874-BD29C75371B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ACF1-C39C-46BE-A963-1C9D4F9C6F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368D-D510-42A4-A709-4DD91AF73F8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DAF7-110B-41CE-8A36-BAFF25BBA7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8980-3722-43A7-80B6-C0007B42067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08AC-951E-4911-A056-56CEDFD20C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D3A9-1981-4CC1-885D-B7C1F53A08B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94F5-A151-48DD-94A6-0CD20789DF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EF13-6365-4021-A898-9F335135ECB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E652-126E-4C02-A8C2-EF45E53419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17C8-FDC4-4C90-BBE9-6C573A73724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3A85-AEDE-4B62-8E5E-A9C1B06C41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5A9D-C318-4A4E-BD96-EBA084472EA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2DD4-B26E-4423-8371-EA5C44CE52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C28C-33CF-4A17-9789-795278A5286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253D-B8B0-41A6-8B84-A1955AC39C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C0DD-4C29-4CC5-9870-D03F6BA1FC0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8687-A21D-467B-93B0-CAAF9CFD39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E0AF-3968-4923-96DB-851BF999135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B79E-D430-4618-A8FA-A0BA223614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BD0E-BE28-4DE9-B712-F5BBE9D8CDC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FFF0-A907-4ADE-9C5F-DEA4B0517D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4" descr="彩虹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0" y="2492280"/>
            <a:ext cx="9144000" cy="1470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4.5  </a:t>
            </a:r>
            <a:r>
              <a:rPr b="1" lang="zh-CN" sz="8800" spc="-1" strike="noStrike">
                <a:solidFill>
                  <a:srgbClr val="ff3300"/>
                </a:solidFill>
                <a:latin typeface="Arial"/>
              </a:rPr>
              <a:t>光的色散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369120" cy="24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1844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红外线的特点：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热作用强：能使被照射的物体发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5" descr="红外线保温灯"/>
          <p:cNvPicPr/>
          <p:nvPr/>
        </p:nvPicPr>
        <p:blipFill>
          <a:blip r:embed="rId1"/>
          <a:stretch/>
        </p:blipFill>
        <p:spPr>
          <a:xfrm>
            <a:off x="468360" y="1628640"/>
            <a:ext cx="3743280" cy="21384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8" descr="sdssmb2008bj0440310031"/>
          <p:cNvPicPr/>
          <p:nvPr/>
        </p:nvPicPr>
        <p:blipFill>
          <a:blip r:embed="rId2"/>
          <a:stretch/>
        </p:blipFill>
        <p:spPr>
          <a:xfrm>
            <a:off x="2195640" y="3933720"/>
            <a:ext cx="2881080" cy="259092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0" descr="4143711225201052549590"/>
          <p:cNvPicPr/>
          <p:nvPr/>
        </p:nvPicPr>
        <p:blipFill>
          <a:blip r:embed="rId3"/>
          <a:stretch/>
        </p:blipFill>
        <p:spPr>
          <a:xfrm>
            <a:off x="5364000" y="191628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云雾穿透能力强：红外图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4" descr="3-图片-30红外遥感"/>
          <p:cNvPicPr/>
          <p:nvPr/>
        </p:nvPicPr>
        <p:blipFill>
          <a:blip r:embed="rId1"/>
          <a:stretch/>
        </p:blipFill>
        <p:spPr>
          <a:xfrm>
            <a:off x="395280" y="981000"/>
            <a:ext cx="3960720" cy="264168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pic>
        <p:nvPicPr>
          <p:cNvPr id="573" name="Picture 5" descr="hwxys2"/>
          <p:cNvPicPr/>
          <p:nvPr/>
        </p:nvPicPr>
        <p:blipFill>
          <a:blip r:embed="rId2"/>
          <a:stretch/>
        </p:blipFill>
        <p:spPr>
          <a:xfrm>
            <a:off x="4572000" y="981000"/>
            <a:ext cx="4500720" cy="266400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pic>
        <p:nvPicPr>
          <p:cNvPr id="574" name="Picture 6" descr="c4a9ec9fe343bfa12af9f73ab3874e4e"/>
          <p:cNvPicPr/>
          <p:nvPr/>
        </p:nvPicPr>
        <p:blipFill>
          <a:blip r:embed="rId3"/>
          <a:stretch/>
        </p:blipFill>
        <p:spPr>
          <a:xfrm>
            <a:off x="2843280" y="3645000"/>
            <a:ext cx="330192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44000" y="5364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进行遥控：遥控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4" descr="2008091623464560468"/>
          <p:cNvPicPr/>
          <p:nvPr/>
        </p:nvPicPr>
        <p:blipFill>
          <a:blip r:embed="rId1"/>
          <a:srcRect l="0" t="0" r="0" b="122"/>
          <a:stretch/>
        </p:blipFill>
        <p:spPr>
          <a:xfrm>
            <a:off x="468360" y="1125360"/>
            <a:ext cx="2879640" cy="23497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5" descr="9c4fad18d737718a27f78aaf5b969349"/>
          <p:cNvPicPr/>
          <p:nvPr/>
        </p:nvPicPr>
        <p:blipFill>
          <a:blip r:embed="rId2"/>
          <a:stretch/>
        </p:blipFill>
        <p:spPr>
          <a:xfrm>
            <a:off x="3059280" y="1084320"/>
            <a:ext cx="3097080" cy="232416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6" descr="3-图片-32响尾蛇导弹"/>
          <p:cNvPicPr/>
          <p:nvPr/>
        </p:nvPicPr>
        <p:blipFill>
          <a:blip r:embed="rId3"/>
          <a:stretch/>
        </p:blipFill>
        <p:spPr>
          <a:xfrm>
            <a:off x="539640" y="3500280"/>
            <a:ext cx="5113440" cy="259092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7"/>
          <p:cNvSpPr/>
          <p:nvPr/>
        </p:nvSpPr>
        <p:spPr>
          <a:xfrm>
            <a:off x="5724360" y="357336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Black"/>
                <a:ea typeface="华文行楷"/>
              </a:rPr>
              <a:t>红外线自动跟踪装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zdm"/>
          <p:cNvPicPr/>
          <p:nvPr/>
        </p:nvPicPr>
        <p:blipFill>
          <a:blip r:embed="rId1"/>
          <a:stretch/>
        </p:blipFill>
        <p:spPr>
          <a:xfrm>
            <a:off x="539640" y="907920"/>
            <a:ext cx="4753080" cy="3267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581" name="Text Box 3"/>
          <p:cNvSpPr/>
          <p:nvPr/>
        </p:nvSpPr>
        <p:spPr>
          <a:xfrm>
            <a:off x="2865600" y="1350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Black"/>
                <a:ea typeface="华文行楷"/>
              </a:rPr>
              <a:t>红外线自动感应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4" descr="slt"/>
          <p:cNvPicPr/>
          <p:nvPr/>
        </p:nvPicPr>
        <p:blipFill>
          <a:blip r:embed="rId2"/>
          <a:stretch/>
        </p:blipFill>
        <p:spPr>
          <a:xfrm>
            <a:off x="4789440" y="2781360"/>
            <a:ext cx="4103640" cy="351936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5"/>
          <p:cNvSpPr/>
          <p:nvPr/>
        </p:nvSpPr>
        <p:spPr>
          <a:xfrm>
            <a:off x="755640" y="4221000"/>
            <a:ext cx="43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Black"/>
                <a:ea typeface="华文行楷"/>
              </a:rPr>
              <a:t>红外线自动感应水龙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457200" y="137160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在光谱的紫光以外，也有一种看不见的光，叫做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  <a:ea typeface="华文新魏"/>
              </a:rPr>
              <a:t>紫外线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3"/>
          <p:cNvSpPr/>
          <p:nvPr/>
        </p:nvSpPr>
        <p:spPr>
          <a:xfrm>
            <a:off x="1371600" y="609480"/>
            <a:ext cx="426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2.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紫外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539640" y="321300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德国物理学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里特在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80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现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紫外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Box 1"/>
          <p:cNvSpPr/>
          <p:nvPr/>
        </p:nvSpPr>
        <p:spPr>
          <a:xfrm>
            <a:off x="1447920" y="609480"/>
            <a:ext cx="628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b000ff"/>
                </a:solidFill>
                <a:latin typeface="Tahoma"/>
              </a:rPr>
              <a:t>紫外线的特点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2"/>
          <p:cNvSpPr/>
          <p:nvPr/>
        </p:nvSpPr>
        <p:spPr>
          <a:xfrm>
            <a:off x="714240" y="1785960"/>
            <a:ext cx="842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a.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、 化学作用强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是底片显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3"/>
          <p:cNvSpPr/>
          <p:nvPr/>
        </p:nvSpPr>
        <p:spPr>
          <a:xfrm>
            <a:off x="714240" y="2781360"/>
            <a:ext cx="842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、生理作用强： 紫外线能杀菌 消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4"/>
          <p:cNvSpPr/>
          <p:nvPr/>
        </p:nvSpPr>
        <p:spPr>
          <a:xfrm>
            <a:off x="714240" y="4437000"/>
            <a:ext cx="842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、 有荧光效应：鉴别古画、钱币真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176364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黑体"/>
              </a:rPr>
              <a:t>紫外线的好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684360" y="105264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当照射紫外线，有助于人体合成维生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维生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促进身体对钙的吸收，对于骨骼的生长和身体健康的许多方面都有好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684360" y="2565360"/>
            <a:ext cx="33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杀死微生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5"/>
          <p:cNvSpPr/>
          <p:nvPr/>
        </p:nvSpPr>
        <p:spPr>
          <a:xfrm>
            <a:off x="611280" y="321300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紫外线灯灭菌（医院的手术室、病房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6"/>
          <p:cNvSpPr/>
          <p:nvPr/>
        </p:nvSpPr>
        <p:spPr>
          <a:xfrm>
            <a:off x="635040" y="3789360"/>
            <a:ext cx="861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使荧光物质发光，鉴别钞票或商标的真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1966320" y="450864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过量的紫外线对人体十分有害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8"/>
          <p:cNvSpPr/>
          <p:nvPr/>
        </p:nvSpPr>
        <p:spPr>
          <a:xfrm>
            <a:off x="611280" y="522936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使皮肤粗糙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引起皮肤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2"/>
          <p:cNvSpPr/>
          <p:nvPr/>
        </p:nvSpPr>
        <p:spPr>
          <a:xfrm>
            <a:off x="826920" y="501336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cc"/>
                </a:solidFill>
                <a:latin typeface="Times New Roman"/>
                <a:ea typeface="幼圆"/>
              </a:rPr>
              <a:t>         </a:t>
            </a:r>
            <a:r>
              <a:rPr b="1" i="1" lang="zh-CN" sz="2800" spc="-1" strike="noStrike">
                <a:solidFill>
                  <a:srgbClr val="9900cc"/>
                </a:solidFill>
                <a:latin typeface="Times New Roman"/>
                <a:ea typeface="幼圆"/>
              </a:rPr>
              <a:t>紫外线灯看起来是淡蓝色的，那是因为除了紫外线，它还发出少量蓝光和紫光。紫外线本身是看不见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4" descr="0e27ca5d7b085f5f7d779f8af00f0610"/>
          <p:cNvPicPr/>
          <p:nvPr/>
        </p:nvPicPr>
        <p:blipFill>
          <a:blip r:embed="rId1"/>
          <a:stretch/>
        </p:blipFill>
        <p:spPr>
          <a:xfrm>
            <a:off x="1332000" y="-1684440"/>
            <a:ext cx="6861240" cy="50133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4" descr="3-图片-33紫外线杀菌"/>
          <p:cNvPicPr/>
          <p:nvPr/>
        </p:nvPicPr>
        <p:blipFill>
          <a:blip r:embed="rId2"/>
          <a:stretch/>
        </p:blipFill>
        <p:spPr>
          <a:xfrm>
            <a:off x="1979640" y="1916280"/>
            <a:ext cx="5183280" cy="3020760"/>
          </a:xfrm>
          <a:prstGeom prst="rect">
            <a:avLst/>
          </a:prstGeom>
          <a:ln w="19080">
            <a:solidFill>
              <a:srgbClr val="6600cc"/>
            </a:solidFill>
            <a:miter/>
          </a:ln>
        </p:spPr>
      </p:pic>
    </p:spTree>
  </p:cSld>
  <p:transition>
    <p:newsflash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2" descr="紫外防护眼镜"/>
          <p:cNvPicPr/>
          <p:nvPr/>
        </p:nvPicPr>
        <p:blipFill>
          <a:blip r:embed="rId1"/>
          <a:stretch/>
        </p:blipFill>
        <p:spPr>
          <a:xfrm>
            <a:off x="468360" y="404640"/>
            <a:ext cx="3311640" cy="2343240"/>
          </a:xfrm>
          <a:prstGeom prst="rect">
            <a:avLst/>
          </a:prstGeom>
          <a:ln w="0">
            <a:noFill/>
          </a:ln>
        </p:spPr>
      </p:pic>
      <p:sp>
        <p:nvSpPr>
          <p:cNvPr id="602" name="Rectangle 5"/>
          <p:cNvSpPr/>
          <p:nvPr/>
        </p:nvSpPr>
        <p:spPr>
          <a:xfrm>
            <a:off x="4067280" y="537372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ff"/>
                </a:solidFill>
                <a:latin typeface="Times New Roman"/>
                <a:ea typeface="幼圆"/>
              </a:rPr>
              <a:t>UVF-80</a:t>
            </a:r>
            <a:r>
              <a:rPr b="1" i="1" lang="zh-CN" sz="2800" spc="-1" strike="noStrike">
                <a:solidFill>
                  <a:srgbClr val="cc00ff"/>
                </a:solidFill>
                <a:latin typeface="Times New Roman"/>
                <a:ea typeface="幼圆"/>
              </a:rPr>
              <a:t>紫外防护面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3" descr="10057875_7964"/>
          <p:cNvPicPr/>
          <p:nvPr/>
        </p:nvPicPr>
        <p:blipFill>
          <a:blip r:embed="rId2"/>
          <a:stretch/>
        </p:blipFill>
        <p:spPr>
          <a:xfrm>
            <a:off x="5148360" y="692280"/>
            <a:ext cx="3211560" cy="45352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4" descr="42"/>
          <p:cNvPicPr/>
          <p:nvPr/>
        </p:nvPicPr>
        <p:blipFill>
          <a:blip r:embed="rId3"/>
          <a:stretch/>
        </p:blipFill>
        <p:spPr>
          <a:xfrm>
            <a:off x="826920" y="2637000"/>
            <a:ext cx="3094200" cy="35766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2"/>
          <p:cNvSpPr/>
          <p:nvPr/>
        </p:nvSpPr>
        <p:spPr>
          <a:xfrm>
            <a:off x="5040360" y="62064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太阳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是天然紫外线的最重要来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4" descr="d2a2d638d9b835e93b87ce21"/>
          <p:cNvPicPr/>
          <p:nvPr/>
        </p:nvPicPr>
        <p:blipFill>
          <a:blip r:embed="rId1"/>
          <a:stretch/>
        </p:blipFill>
        <p:spPr>
          <a:xfrm>
            <a:off x="611280" y="3284640"/>
            <a:ext cx="4392360" cy="292896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5"/>
          <p:cNvSpPr/>
          <p:nvPr/>
        </p:nvSpPr>
        <p:spPr>
          <a:xfrm>
            <a:off x="5327640" y="3500280"/>
            <a:ext cx="38163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地球的周围包围着厚厚的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大气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阳光中的紫外线大部分被大气层上部的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臭氧层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吸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不能到达地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6" descr="8a9830e79d63c6736e8e44cafbe2d96a"/>
          <p:cNvPicPr/>
          <p:nvPr/>
        </p:nvPicPr>
        <p:blipFill>
          <a:blip r:embed="rId2"/>
          <a:stretch/>
        </p:blipFill>
        <p:spPr>
          <a:xfrm>
            <a:off x="611280" y="189000"/>
            <a:ext cx="4211640" cy="28083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360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一、色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400" y="9810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太阳光通过棱镜后，被分解成各种颜色的光，这种现象叫光的色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7" descr="光的色散2"/>
          <p:cNvPicPr/>
          <p:nvPr/>
        </p:nvPicPr>
        <p:blipFill>
          <a:blip r:embed="rId1"/>
          <a:stretch/>
        </p:blipFill>
        <p:spPr>
          <a:xfrm>
            <a:off x="1187280" y="2133720"/>
            <a:ext cx="676944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色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色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白光的组成：红 橙 黄 绿 蓝 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色光三原色：红 绿  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634920" y="115560"/>
            <a:ext cx="253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 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5" descr="png-0151"/>
          <p:cNvPicPr/>
          <p:nvPr/>
        </p:nvPicPr>
        <p:blipFill>
          <a:blip r:embed="rId1"/>
          <a:stretch/>
        </p:blipFill>
        <p:spPr>
          <a:xfrm>
            <a:off x="1332000" y="1303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AutoShape 4"/>
          <p:cNvSpPr/>
          <p:nvPr/>
        </p:nvSpPr>
        <p:spPr>
          <a:xfrm>
            <a:off x="2438280" y="152388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5"/>
          <p:cNvSpPr/>
          <p:nvPr/>
        </p:nvSpPr>
        <p:spPr>
          <a:xfrm>
            <a:off x="2590920" y="396252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6"/>
          <p:cNvSpPr/>
          <p:nvPr/>
        </p:nvSpPr>
        <p:spPr>
          <a:xfrm>
            <a:off x="525960" y="1980720"/>
            <a:ext cx="145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2.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红外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7"/>
          <p:cNvSpPr/>
          <p:nvPr/>
        </p:nvSpPr>
        <p:spPr>
          <a:xfrm>
            <a:off x="5344560" y="1295280"/>
            <a:ext cx="80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特点：热作用强、穿透云雾本领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8"/>
          <p:cNvSpPr/>
          <p:nvPr/>
        </p:nvSpPr>
        <p:spPr>
          <a:xfrm>
            <a:off x="2666880" y="22860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应用：卫星上的红外线探测器、红外线夜视仪、红外线理疗仪、电视遥控器、烤箱、浴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9"/>
          <p:cNvSpPr/>
          <p:nvPr/>
        </p:nvSpPr>
        <p:spPr>
          <a:xfrm>
            <a:off x="2743200" y="3809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特点：使荧光物质发光、化学作用、生理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10"/>
          <p:cNvSpPr/>
          <p:nvPr/>
        </p:nvSpPr>
        <p:spPr>
          <a:xfrm>
            <a:off x="2743200" y="49528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应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验钞机、紫外线灯杀菌、促进钙的吸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11"/>
          <p:cNvSpPr/>
          <p:nvPr/>
        </p:nvSpPr>
        <p:spPr>
          <a:xfrm>
            <a:off x="525960" y="4266720"/>
            <a:ext cx="145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Times New Roman"/>
                <a:ea typeface="方正姚体"/>
              </a:rPr>
              <a:t>3.</a:t>
            </a:r>
            <a:r>
              <a:rPr b="0" lang="zh-CN" sz="3600" spc="-1" strike="noStrike">
                <a:solidFill>
                  <a:srgbClr val="9900cc"/>
                </a:solidFill>
                <a:latin typeface="Times New Roman"/>
                <a:ea typeface="方正姚体"/>
              </a:rPr>
              <a:t>紫外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2"/>
          <p:cNvSpPr/>
          <p:nvPr/>
        </p:nvSpPr>
        <p:spPr>
          <a:xfrm>
            <a:off x="900000" y="620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看不见的光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光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2"/>
          <p:cNvSpPr/>
          <p:nvPr/>
        </p:nvSpPr>
        <p:spPr>
          <a:xfrm>
            <a:off x="468360" y="134136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棱镜可以把太阳光分解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不同的颜色的光，把它们按顺序排列起来，就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_______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红外线是一种看不见的光，通过红外线的照射，可以使物体的温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任何物体均可以辐射红外线，温度较高的物体发出的红外线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3"/>
          <p:cNvSpPr/>
          <p:nvPr/>
        </p:nvSpPr>
        <p:spPr>
          <a:xfrm>
            <a:off x="3635280" y="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巩固练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4" descr="png-0138"/>
          <p:cNvPicPr/>
          <p:nvPr/>
        </p:nvPicPr>
        <p:blipFill>
          <a:blip r:embed="rId1"/>
          <a:stretch/>
        </p:blipFill>
        <p:spPr>
          <a:xfrm>
            <a:off x="2268360" y="115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5"/>
          <p:cNvSpPr/>
          <p:nvPr/>
        </p:nvSpPr>
        <p:spPr>
          <a:xfrm>
            <a:off x="5462640" y="1197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ahoma"/>
                <a:ea typeface="华文行楷"/>
              </a:rPr>
              <a:t>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6"/>
          <p:cNvSpPr/>
          <p:nvPr/>
        </p:nvSpPr>
        <p:spPr>
          <a:xfrm>
            <a:off x="2918880" y="2112840"/>
            <a:ext cx="12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红、橙、黄、绿、蓝、靛、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7"/>
          <p:cNvSpPr/>
          <p:nvPr/>
        </p:nvSpPr>
        <p:spPr>
          <a:xfrm>
            <a:off x="4051440" y="33577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华文行楷"/>
              </a:rPr>
              <a:t>升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8"/>
          <p:cNvSpPr/>
          <p:nvPr/>
        </p:nvSpPr>
        <p:spPr>
          <a:xfrm>
            <a:off x="671400" y="429264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华文行楷"/>
              </a:rPr>
              <a:t>较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1066680" y="1066680"/>
            <a:ext cx="7543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紫外线也是一种看不见的光，紫外线能杀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能使荧光物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适当的紫外线照射有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过量的紫外线照射对人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美英联军对伊拉克的作战中，美英军人在夜间都佩戴红外线夜视镜，在漆黑的夜晚也能发现敌方。红外线夜视镜是根据夜间人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周围草木或建筑物的温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人体辐射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它们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原理制成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3"/>
          <p:cNvSpPr/>
          <p:nvPr/>
        </p:nvSpPr>
        <p:spPr>
          <a:xfrm>
            <a:off x="2057400" y="1447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微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6400800" y="1447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发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1600200" y="22860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合成维生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6"/>
          <p:cNvSpPr/>
          <p:nvPr/>
        </p:nvSpPr>
        <p:spPr>
          <a:xfrm>
            <a:off x="2209680" y="2743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有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7"/>
          <p:cNvSpPr/>
          <p:nvPr/>
        </p:nvSpPr>
        <p:spPr>
          <a:xfrm>
            <a:off x="1219320" y="48006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体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8"/>
          <p:cNvSpPr/>
          <p:nvPr/>
        </p:nvSpPr>
        <p:spPr>
          <a:xfrm>
            <a:off x="7010280" y="48006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9"/>
          <p:cNvSpPr/>
          <p:nvPr/>
        </p:nvSpPr>
        <p:spPr>
          <a:xfrm>
            <a:off x="2895480" y="52578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红外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0"/>
          <p:cNvSpPr/>
          <p:nvPr/>
        </p:nvSpPr>
        <p:spPr>
          <a:xfrm>
            <a:off x="6019920" y="52578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2"/>
          <p:cNvSpPr/>
          <p:nvPr/>
        </p:nvSpPr>
        <p:spPr>
          <a:xfrm>
            <a:off x="533520" y="1676520"/>
            <a:ext cx="8305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然紫外线的重要来源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地球周围大气层上部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吸收紫外线，使得阳光中的紫外线大部分不能到达地面，但目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正在受到空调、冰箱里逸出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物质的破坏，出现了“空洞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紫外线容易被红色可见光接纳和吸收，因此，经常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服可以防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危害，减少皮肤癌的发生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3"/>
          <p:cNvSpPr/>
          <p:nvPr/>
        </p:nvSpPr>
        <p:spPr>
          <a:xfrm>
            <a:off x="5638680" y="15238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太阳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4"/>
          <p:cNvSpPr/>
          <p:nvPr/>
        </p:nvSpPr>
        <p:spPr>
          <a:xfrm>
            <a:off x="3581280" y="20574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臭氧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685800" y="28954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臭氧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85800" y="3352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氟利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7"/>
          <p:cNvSpPr/>
          <p:nvPr/>
        </p:nvSpPr>
        <p:spPr>
          <a:xfrm>
            <a:off x="1676520" y="45720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红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8"/>
          <p:cNvSpPr/>
          <p:nvPr/>
        </p:nvSpPr>
        <p:spPr>
          <a:xfrm>
            <a:off x="5181480" y="45720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紫外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7" descr="彩虹1"/>
          <p:cNvPicPr/>
          <p:nvPr/>
        </p:nvPicPr>
        <p:blipFill>
          <a:blip r:embed="rId1"/>
          <a:srcRect l="0" t="0" r="0" b="-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5"/>
          <p:cNvSpPr/>
          <p:nvPr/>
        </p:nvSpPr>
        <p:spPr>
          <a:xfrm>
            <a:off x="3635280" y="2708280"/>
            <a:ext cx="4176720" cy="24710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5600" spc="-1" strike="noStrike">
                <a:solidFill>
                  <a:srgbClr val="ff3300"/>
                </a:solidFill>
                <a:latin typeface="Arial"/>
              </a:rPr>
              <a:t>再见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4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5"/>
          <p:cNvSpPr/>
          <p:nvPr/>
        </p:nvSpPr>
        <p:spPr>
          <a:xfrm>
            <a:off x="611280" y="1746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色散现象说明：白光是由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红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9966"/>
                </a:solidFill>
                <a:latin typeface="Arial"/>
              </a:rPr>
              <a:t>橙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黄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绿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蓝、</a:t>
            </a:r>
            <a:r>
              <a:rPr b="1" lang="zh-CN" sz="3600" spc="-1" strike="noStrike">
                <a:solidFill>
                  <a:srgbClr val="3399ff"/>
                </a:solidFill>
                <a:latin typeface="Arial"/>
              </a:rPr>
              <a:t>靛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紫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七种色光混合而成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8" descr="20927001"/>
          <p:cNvPicPr/>
          <p:nvPr/>
        </p:nvPicPr>
        <p:blipFill>
          <a:blip r:embed="rId1"/>
          <a:stretch/>
        </p:blipFill>
        <p:spPr>
          <a:xfrm>
            <a:off x="5796000" y="1844640"/>
            <a:ext cx="3348000" cy="2494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41" name="Picture 9" descr="pic"/>
          <p:cNvPicPr/>
          <p:nvPr/>
        </p:nvPicPr>
        <p:blipFill>
          <a:blip r:embed="rId2"/>
          <a:srcRect l="5716" t="7318" r="4287" b="7318"/>
          <a:stretch/>
        </p:blipFill>
        <p:spPr>
          <a:xfrm>
            <a:off x="179280" y="2349360"/>
            <a:ext cx="55450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53272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彩虹是太阳光传播中被空气中的水滴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色散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而产生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5" descr="彩虹1"/>
          <p:cNvPicPr/>
          <p:nvPr/>
        </p:nvPicPr>
        <p:blipFill>
          <a:blip r:embed="rId1"/>
          <a:srcRect l="0" t="0" r="0" b="-72"/>
          <a:stretch/>
        </p:blipFill>
        <p:spPr>
          <a:xfrm>
            <a:off x="1476360" y="1700280"/>
            <a:ext cx="6337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二、色光的混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色光的三原色：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4" descr="色光1"/>
          <p:cNvPicPr/>
          <p:nvPr/>
        </p:nvPicPr>
        <p:blipFill>
          <a:blip r:embed="rId1"/>
          <a:stretch/>
        </p:blipFill>
        <p:spPr>
          <a:xfrm>
            <a:off x="5003640" y="2170080"/>
            <a:ext cx="3743640" cy="355752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5"/>
          <p:cNvSpPr/>
          <p:nvPr/>
        </p:nvSpPr>
        <p:spPr>
          <a:xfrm>
            <a:off x="1116000" y="5013360"/>
            <a:ext cx="4032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电视</a:t>
            </a:r>
            <a:r>
              <a:rPr b="1" lang="zh-TW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电影</a:t>
            </a:r>
            <a:r>
              <a:rPr b="1" lang="zh-TW" sz="3200" spc="-1" strike="noStrike">
                <a:solidFill>
                  <a:srgbClr val="000000"/>
                </a:solidFill>
                <a:latin typeface="宋体"/>
              </a:rPr>
              <a:t>都是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</a:t>
            </a:r>
            <a:r>
              <a:rPr b="1" lang="zh-TW" sz="3200" spc="-1" strike="noStrike">
                <a:solidFill>
                  <a:srgbClr val="000000"/>
                </a:solidFill>
                <a:latin typeface="宋体"/>
              </a:rPr>
              <a:t>色光三原色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制</a:t>
            </a:r>
            <a:r>
              <a:rPr b="1" lang="zh-TW" sz="3200" spc="-1" strike="noStrike">
                <a:solidFill>
                  <a:srgbClr val="000000"/>
                </a:solidFill>
                <a:latin typeface="宋体"/>
              </a:rPr>
              <a:t>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1332000" y="2133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红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</a:rPr>
              <a:t>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8"/>
          <p:cNvSpPr/>
          <p:nvPr/>
        </p:nvSpPr>
        <p:spPr>
          <a:xfrm>
            <a:off x="1258920" y="28526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红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品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9"/>
          <p:cNvSpPr/>
          <p:nvPr/>
        </p:nvSpPr>
        <p:spPr>
          <a:xfrm>
            <a:off x="1187280" y="35733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绿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3600" spc="-1" strike="noStrike">
                <a:solidFill>
                  <a:srgbClr val="66ccff"/>
                </a:solidFill>
                <a:latin typeface="Arial"/>
              </a:rPr>
              <a:t>青（靛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0"/>
          <p:cNvSpPr/>
          <p:nvPr/>
        </p:nvSpPr>
        <p:spPr>
          <a:xfrm>
            <a:off x="1187280" y="422100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红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绿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蓝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-68472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看不见的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光谱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单色光按照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3399ff"/>
                </a:solidFill>
                <a:latin typeface="Arial"/>
              </a:rPr>
              <a:t>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紫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这个顺序排列起来，就是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光谱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468360" y="3510000"/>
            <a:ext cx="8305920" cy="114300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2"/>
          <p:cNvSpPr/>
          <p:nvPr/>
        </p:nvSpPr>
        <p:spPr>
          <a:xfrm>
            <a:off x="5276880" y="1700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9900cc"/>
                </a:solidFill>
                <a:latin typeface="幼圆"/>
                <a:ea typeface="幼圆"/>
              </a:rPr>
              <a:t>温度计放在红光以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3"/>
          <p:cNvSpPr/>
          <p:nvPr/>
        </p:nvSpPr>
        <p:spPr>
          <a:xfrm>
            <a:off x="1187280" y="5300640"/>
            <a:ext cx="19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Arial"/>
                <a:ea typeface="隶书"/>
              </a:rPr>
              <a:t>现象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4"/>
          <p:cNvSpPr/>
          <p:nvPr/>
        </p:nvSpPr>
        <p:spPr>
          <a:xfrm>
            <a:off x="5364000" y="2492280"/>
            <a:ext cx="336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说明这里也有能量辐射，不过人眼</a:t>
            </a:r>
            <a:r>
              <a:rPr b="1" lang="zh-CN" sz="2800" spc="-1" strike="noStrike">
                <a:solidFill>
                  <a:srgbClr val="ff3300"/>
                </a:solidFill>
                <a:latin typeface="方正姚体"/>
                <a:ea typeface="方正姚体"/>
              </a:rPr>
              <a:t>看不见</a:t>
            </a: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，这样的光叫做</a:t>
            </a:r>
            <a:r>
              <a:rPr b="1" lang="zh-CN" sz="2800" spc="-1" strike="noStrike">
                <a:solidFill>
                  <a:srgbClr val="ff3300"/>
                </a:solidFill>
                <a:latin typeface="方正姚体"/>
                <a:ea typeface="方正姚体"/>
              </a:rPr>
              <a:t>红外线</a:t>
            </a: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5"/>
          <p:cNvSpPr/>
          <p:nvPr/>
        </p:nvSpPr>
        <p:spPr>
          <a:xfrm>
            <a:off x="1219320" y="304920"/>
            <a:ext cx="426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2.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红外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6"/>
          <p:cNvSpPr/>
          <p:nvPr/>
        </p:nvSpPr>
        <p:spPr>
          <a:xfrm>
            <a:off x="5687640" y="5445000"/>
            <a:ext cx="6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温度也会上升，示数上升较多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7" descr="2 6 6"/>
          <p:cNvPicPr/>
          <p:nvPr/>
        </p:nvPicPr>
        <p:blipFill>
          <a:blip r:embed="rId1"/>
          <a:stretch/>
        </p:blipFill>
        <p:spPr>
          <a:xfrm>
            <a:off x="200160" y="1162080"/>
            <a:ext cx="4876560" cy="411336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hwxtk"/>
          <p:cNvPicPr/>
          <p:nvPr/>
        </p:nvPicPr>
        <p:blipFill>
          <a:blip r:embed="rId1"/>
          <a:stretch/>
        </p:blipFill>
        <p:spPr>
          <a:xfrm>
            <a:off x="611280" y="331920"/>
            <a:ext cx="7991280" cy="453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2" name="Text Box 3"/>
          <p:cNvSpPr/>
          <p:nvPr/>
        </p:nvSpPr>
        <p:spPr>
          <a:xfrm>
            <a:off x="2424240" y="4994280"/>
            <a:ext cx="505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Black"/>
                <a:ea typeface="黑体"/>
              </a:rPr>
              <a:t>自然界的所以有物体都在不停地向外辐射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Black"/>
                <a:ea typeface="黑体"/>
              </a:rPr>
              <a:t>外线．物体的温度越高，辐射的红外线越强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2"/>
          <p:cNvSpPr/>
          <p:nvPr/>
        </p:nvSpPr>
        <p:spPr>
          <a:xfrm>
            <a:off x="1905120" y="33336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夜间人的体温比野外草木、岩石的温度高，人辐射的红外线比它们强，人们根据这个原理制成了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红外线夜视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可以用在步枪的瞄准器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1600200" y="48690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cc"/>
                </a:solidFill>
                <a:latin typeface="Times New Roman"/>
                <a:ea typeface="幼圆"/>
              </a:rPr>
              <a:t>         </a:t>
            </a:r>
            <a:r>
              <a:rPr b="1" i="1" lang="zh-CN" sz="2800" spc="-1" strike="noStrike">
                <a:solidFill>
                  <a:srgbClr val="9900cc"/>
                </a:solidFill>
                <a:latin typeface="Times New Roman"/>
                <a:ea typeface="幼圆"/>
              </a:rPr>
              <a:t>通过识别不同温度的物体辐射的红外线，达到侦察目的的一种设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4" descr="1197626746122"/>
          <p:cNvPicPr/>
          <p:nvPr/>
        </p:nvPicPr>
        <p:blipFill>
          <a:blip r:embed="rId1"/>
          <a:stretch/>
        </p:blipFill>
        <p:spPr>
          <a:xfrm>
            <a:off x="2411280" y="2133720"/>
            <a:ext cx="5334120" cy="280980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5"/>
          <p:cNvSpPr/>
          <p:nvPr/>
        </p:nvSpPr>
        <p:spPr>
          <a:xfrm>
            <a:off x="1042920" y="18900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隶书"/>
                <a:ea typeface="隶书"/>
              </a:rPr>
              <a:t>原理</a:t>
            </a:r>
            <a:r>
              <a:rPr b="1" lang="en-US" sz="4400" spc="-1" strike="noStrike">
                <a:solidFill>
                  <a:srgbClr val="a50021"/>
                </a:solidFill>
                <a:latin typeface="隶书"/>
                <a:ea typeface="隶书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04:59:10Z</dcterms:created>
  <dc:creator>宋正平</dc:creator>
  <dc:description/>
  <dc:language>en-US</dc:language>
  <cp:lastModifiedBy>a</cp:lastModifiedBy>
  <dcterms:modified xsi:type="dcterms:W3CDTF">2015-03-16T08:43:38Z</dcterms:modified>
  <cp:revision>20</cp:revision>
  <dc:subject/>
  <dc:title>五  光的色散</dc:title>
</cp:coreProperties>
</file>