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5E1-DD29-439C-8CD8-5061F6AF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788-BE11-44DD-AA27-E364647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129-F77B-48A7-9566-30BACA08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831-5426-4B6D-A228-BC2E9BBE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E66-EF05-42A0-AE30-AA0FFFE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7DA-E6CC-4307-807C-30BBC4AA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8C0-9001-4C86-BA4C-C8DE7EB4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5AF-0F0A-4C71-AE84-4892DCAA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34F9-F68C-4A87-9F3F-BB94A13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538-5C4E-4CC4-A62C-D5EBC0B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577-48A1-48BE-8B34-8243B10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D1A-E434-43F0-B2EF-C1195BA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D712-FEDD-4062-AA76-F3BDFF2CA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4"/>
          <p:cNvSpPr/>
          <p:nvPr/>
        </p:nvSpPr>
        <p:spPr>
          <a:xfrm>
            <a:off x="1211400" y="0"/>
            <a:ext cx="81000" cy="6858000"/>
          </a:xfrm>
          <a:prstGeom prst="rect">
            <a:avLst/>
          </a:prstGeom>
          <a:solidFill>
            <a:srgbClr val="ffff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5"/>
          <p:cNvSpPr/>
          <p:nvPr/>
        </p:nvSpPr>
        <p:spPr>
          <a:xfrm>
            <a:off x="955800" y="452520"/>
            <a:ext cx="591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-20520" y="1701720"/>
            <a:ext cx="3887640" cy="1654200"/>
          </a:xfrm>
          <a:prstGeom prst="rect">
            <a:avLst/>
          </a:prstGeom>
          <a:solidFill>
            <a:srgbClr val="1f497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75120" y="1701720"/>
            <a:ext cx="216000" cy="165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1406520" y="219708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占位符 3"/>
          <p:cNvSpPr/>
          <p:nvPr/>
        </p:nvSpPr>
        <p:spPr>
          <a:xfrm>
            <a:off x="4352760" y="2133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Impact"/>
                <a:ea typeface="微软雅黑"/>
              </a:rPr>
              <a:t>01</a:t>
            </a:r>
            <a:r>
              <a:rPr b="1" lang="en-US" sz="2700" spc="-1" strike="noStrike">
                <a:solidFill>
                  <a:srgbClr val="ff3c00"/>
                </a:solidFill>
                <a:latin typeface="Impact"/>
                <a:ea typeface="微软雅黑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Impact"/>
                <a:ea typeface="微软雅黑"/>
              </a:rPr>
              <a:t>医院</a:t>
            </a:r>
            <a:r>
              <a:rPr b="1" lang="zh-CN" sz="2700" spc="-1" strike="noStrike">
                <a:solidFill>
                  <a:srgbClr val="1f497d"/>
                </a:solidFill>
                <a:latin typeface="Calibri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352760" y="2759040"/>
            <a:ext cx="3402000" cy="2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01680" y="1846440"/>
            <a:ext cx="1587600" cy="1349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9" name="矩形 8"/>
          <p:cNvSpPr/>
          <p:nvPr/>
        </p:nvSpPr>
        <p:spPr>
          <a:xfrm>
            <a:off x="4387680" y="2852640"/>
            <a:ext cx="269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战略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整体战略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1f497d"/>
                </a:solidFill>
                <a:latin typeface="Arial"/>
                <a:ea typeface="微软雅黑"/>
              </a:rPr>
              <a:t>年医院战略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4390920" y="5013360"/>
            <a:ext cx="2698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550280" y="117360"/>
            <a:ext cx="151128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"/>
                            </p:stCondLst>
                            <p:childTnLst>
                              <p:par>
                                <p:cTn id="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5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089080" y="2266920"/>
            <a:ext cx="3076560" cy="228204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检讨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年战略目标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因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省重点专科项目未能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医院服务流程的优化未能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目标：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战略达成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2"/>
          <p:cNvGrpSpPr/>
          <p:nvPr/>
        </p:nvGrpSpPr>
        <p:grpSpPr>
          <a:xfrm>
            <a:off x="5686560" y="2235240"/>
            <a:ext cx="946080" cy="3161880"/>
            <a:chOff x="5686560" y="2235240"/>
            <a:chExt cx="946080" cy="3161880"/>
          </a:xfrm>
        </p:grpSpPr>
        <p:sp>
          <p:nvSpPr>
            <p:cNvPr id="54" name="Freeform 31"/>
            <p:cNvSpPr/>
            <p:nvPr/>
          </p:nvSpPr>
          <p:spPr>
            <a:xfrm>
              <a:off x="5773320" y="2235240"/>
              <a:ext cx="703080" cy="260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2"/>
            <p:cNvSpPr/>
            <p:nvPr/>
          </p:nvSpPr>
          <p:spPr>
            <a:xfrm>
              <a:off x="5686560" y="4865400"/>
              <a:ext cx="946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3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战略达成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5"/>
          <p:cNvGrpSpPr/>
          <p:nvPr/>
        </p:nvGrpSpPr>
        <p:grpSpPr>
          <a:xfrm>
            <a:off x="5773680" y="3378240"/>
            <a:ext cx="696960" cy="1427040"/>
            <a:chOff x="5773680" y="3378240"/>
            <a:chExt cx="696960" cy="1427040"/>
          </a:xfrm>
        </p:grpSpPr>
        <p:sp>
          <p:nvSpPr>
            <p:cNvPr id="57" name="AutoShape 33"/>
            <p:cNvSpPr/>
            <p:nvPr/>
          </p:nvSpPr>
          <p:spPr>
            <a:xfrm>
              <a:off x="5773680" y="3378240"/>
              <a:ext cx="696960" cy="1427040"/>
            </a:xfrm>
            <a:prstGeom prst="can">
              <a:avLst>
                <a:gd name="adj" fmla="val 1949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40"/>
            <p:cNvSpPr/>
            <p:nvPr/>
          </p:nvSpPr>
          <p:spPr>
            <a:xfrm>
              <a:off x="5816880" y="3639600"/>
              <a:ext cx="572040" cy="58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8"/>
          <p:cNvGrpSpPr/>
          <p:nvPr/>
        </p:nvGrpSpPr>
        <p:grpSpPr>
          <a:xfrm>
            <a:off x="7061040" y="2327400"/>
            <a:ext cx="1060560" cy="3161880"/>
            <a:chOff x="7061040" y="2327400"/>
            <a:chExt cx="1060560" cy="3161880"/>
          </a:xfrm>
        </p:grpSpPr>
        <p:sp>
          <p:nvSpPr>
            <p:cNvPr id="60" name="Freeform 31"/>
            <p:cNvSpPr/>
            <p:nvPr/>
          </p:nvSpPr>
          <p:spPr>
            <a:xfrm>
              <a:off x="7239960" y="2327400"/>
              <a:ext cx="702360" cy="2602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2"/>
            <p:cNvSpPr/>
            <p:nvPr/>
          </p:nvSpPr>
          <p:spPr>
            <a:xfrm>
              <a:off x="7061040" y="4957560"/>
              <a:ext cx="10605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战略达成率目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1"/>
          <p:cNvGrpSpPr/>
          <p:nvPr/>
        </p:nvGrpSpPr>
        <p:grpSpPr>
          <a:xfrm>
            <a:off x="7240680" y="2814480"/>
            <a:ext cx="696960" cy="2082960"/>
            <a:chOff x="7240680" y="2814480"/>
            <a:chExt cx="696960" cy="2082960"/>
          </a:xfrm>
        </p:grpSpPr>
        <p:sp>
          <p:nvSpPr>
            <p:cNvPr id="63" name="AutoShape 33"/>
            <p:cNvSpPr/>
            <p:nvPr/>
          </p:nvSpPr>
          <p:spPr>
            <a:xfrm>
              <a:off x="7240680" y="2814480"/>
              <a:ext cx="696960" cy="2082960"/>
            </a:xfrm>
            <a:prstGeom prst="can">
              <a:avLst>
                <a:gd name="adj" fmla="val 1949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-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40"/>
            <p:cNvSpPr/>
            <p:nvPr/>
          </p:nvSpPr>
          <p:spPr>
            <a:xfrm>
              <a:off x="7283880" y="3196080"/>
              <a:ext cx="5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8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2" descr="C:\Users\yzx\Desktop\模板.pptx\ppt\media\image16.png"/>
          <p:cNvPicPr/>
          <p:nvPr/>
        </p:nvPicPr>
        <p:blipFill>
          <a:blip r:embed="rId1"/>
          <a:stretch/>
        </p:blipFill>
        <p:spPr>
          <a:xfrm>
            <a:off x="793800" y="2235240"/>
            <a:ext cx="780840" cy="3489120"/>
          </a:xfrm>
          <a:prstGeom prst="rect">
            <a:avLst/>
          </a:prstGeom>
          <a:ln w="0">
            <a:noFill/>
          </a:ln>
        </p:spPr>
      </p:pic>
      <p:sp>
        <p:nvSpPr>
          <p:cNvPr id="66" name="矩形 1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7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2"/>
          <p:cNvSpPr/>
          <p:nvPr/>
        </p:nvSpPr>
        <p:spPr>
          <a:xfrm>
            <a:off x="630360" y="1727280"/>
            <a:ext cx="34560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牢记使命，坚持“以人为本”服务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“小综合大专科”的发展模式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人才引进与培养，不断增强学科的发展后劲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取多种筹资措施，适度发展医疗设备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医院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，深化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室建设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好医院基础设施建设，营造良好就医环境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极开展社区服务，不断拓展医疗服务市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定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"/>
          <p:cNvPicPr/>
          <p:nvPr/>
        </p:nvPicPr>
        <p:blipFill>
          <a:blip r:embed="rId1"/>
          <a:stretch/>
        </p:blipFill>
        <p:spPr>
          <a:xfrm flipH="1">
            <a:off x="4334040" y="1706400"/>
            <a:ext cx="4287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302000" y="1778040"/>
          <a:ext cx="4286520" cy="38098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520"/>
                <a:gridCol w="857160"/>
                <a:gridCol w="857520"/>
              </a:tblGrid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71D-CFFC-4287-9856-189324AA7769}" type="slidenum">
              <a:t>3</a:t>
            </a:fld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定位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"/>
          <p:cNvSpPr/>
          <p:nvPr/>
        </p:nvSpPr>
        <p:spPr>
          <a:xfrm>
            <a:off x="846000" y="211932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医院使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2247840" y="2119320"/>
            <a:ext cx="189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发展愿景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"/>
          <p:cNvSpPr/>
          <p:nvPr/>
        </p:nvSpPr>
        <p:spPr>
          <a:xfrm>
            <a:off x="846000" y="314172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服务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2"/>
          <p:cNvSpPr/>
          <p:nvPr/>
        </p:nvSpPr>
        <p:spPr>
          <a:xfrm>
            <a:off x="2225520" y="3141720"/>
            <a:ext cx="1895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经营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846000" y="4253040"/>
            <a:ext cx="189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管理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6"/>
          <p:cNvSpPr/>
          <p:nvPr/>
        </p:nvSpPr>
        <p:spPr>
          <a:xfrm>
            <a:off x="2247840" y="4253040"/>
            <a:ext cx="189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员工理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0" descr=""/>
          <p:cNvPicPr/>
          <p:nvPr/>
        </p:nvPicPr>
        <p:blipFill>
          <a:blip r:embed="rId1"/>
          <a:srcRect l="6902" t="0" r="0" b="12098"/>
          <a:stretch/>
        </p:blipFill>
        <p:spPr>
          <a:xfrm>
            <a:off x="4302000" y="1752480"/>
            <a:ext cx="4299120" cy="38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302000" y="1778040"/>
          <a:ext cx="4286520" cy="38098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520"/>
                <a:gridCol w="857160"/>
                <a:gridCol w="857520"/>
              </a:tblGrid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5256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69000"/>
                      </a:srgbClr>
                    </a:solidFill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7040" rIns="7704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040" marR="7704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800280" y="5230800"/>
            <a:ext cx="239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医院战略回顾与实施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是否具有核心竞争力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战略是否需重新规划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264200" y="6354720"/>
            <a:ext cx="4438440" cy="30492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497d"/>
                </a:solidFill>
                <a:latin typeface="微软雅黑"/>
                <a:ea typeface="微软雅黑"/>
              </a:rPr>
              <a:t>调研细项过于复杂，建议引进专业的医院顾问团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1490400" y="2006640"/>
            <a:ext cx="5840640" cy="3009960"/>
            <a:chOff x="1490400" y="2006640"/>
            <a:chExt cx="5840640" cy="3009960"/>
          </a:xfrm>
        </p:grpSpPr>
        <p:grpSp>
          <p:nvGrpSpPr>
            <p:cNvPr id="86" name=""/>
            <p:cNvGrpSpPr/>
            <p:nvPr/>
          </p:nvGrpSpPr>
          <p:grpSpPr>
            <a:xfrm>
              <a:off x="4753440" y="3707280"/>
              <a:ext cx="191520" cy="1260360"/>
              <a:chOff x="4753440" y="3707280"/>
              <a:chExt cx="191520" cy="1260360"/>
            </a:xfrm>
          </p:grpSpPr>
          <p:sp>
            <p:nvSpPr>
              <p:cNvPr id="87" name="Line 27"/>
              <p:cNvSpPr/>
              <p:nvPr/>
            </p:nvSpPr>
            <p:spPr>
              <a:xfrm flipH="1">
                <a:off x="4753440" y="3707280"/>
                <a:ext cx="191520" cy="126036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4753440" y="3707280"/>
                <a:ext cx="191520" cy="12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53360" y="2007360"/>
              <a:ext cx="511200" cy="987840"/>
              <a:chOff x="5553360" y="2007360"/>
              <a:chExt cx="511200" cy="987840"/>
            </a:xfrm>
          </p:grpSpPr>
          <p:sp>
            <p:nvSpPr>
              <p:cNvPr id="90" name="Line 27"/>
              <p:cNvSpPr/>
              <p:nvPr/>
            </p:nvSpPr>
            <p:spPr>
              <a:xfrm flipV="1">
                <a:off x="5553720" y="2007360"/>
                <a:ext cx="510840" cy="98784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 rot="10800000">
                <a:off x="5553360" y="2007360"/>
                <a:ext cx="510840" cy="98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Box 17"/>
            <p:cNvSpPr/>
            <p:nvPr/>
          </p:nvSpPr>
          <p:spPr>
            <a:xfrm>
              <a:off x="3149280" y="3953520"/>
              <a:ext cx="10843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面体维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8"/>
            <p:cNvSpPr/>
            <p:nvPr/>
          </p:nvSpPr>
          <p:spPr>
            <a:xfrm>
              <a:off x="1499040" y="2145240"/>
              <a:ext cx="18435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简单判断</a:t>
              </a:r>
              <a:r>
                <a:rPr b="1" lang="en-US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表象判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右箭头 19"/>
            <p:cNvSpPr/>
            <p:nvPr/>
          </p:nvSpPr>
          <p:spPr>
            <a:xfrm>
              <a:off x="3213720" y="3665160"/>
              <a:ext cx="433440" cy="176040"/>
            </a:xfrm>
            <a:prstGeom prst="rightArrow">
              <a:avLst>
                <a:gd name="adj1" fmla="val 50000"/>
                <a:gd name="adj2" fmla="val 3620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591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8"/>
            <p:cNvGrpSpPr/>
            <p:nvPr/>
          </p:nvGrpSpPr>
          <p:grpSpPr>
            <a:xfrm>
              <a:off x="1490400" y="2810520"/>
              <a:ext cx="1837800" cy="2069640"/>
              <a:chOff x="1490400" y="2810520"/>
              <a:chExt cx="1837800" cy="2069640"/>
            </a:xfrm>
          </p:grpSpPr>
          <p:sp>
            <p:nvSpPr>
              <p:cNvPr id="96" name="Oval 3"/>
              <p:cNvSpPr/>
              <p:nvPr/>
            </p:nvSpPr>
            <p:spPr>
              <a:xfrm flipV="1" rot="10800000">
                <a:off x="1490400" y="4630320"/>
                <a:ext cx="1837800" cy="24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2412360" y="2810520"/>
                <a:ext cx="714960" cy="1476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789560" y="3798000"/>
                <a:ext cx="1238760" cy="981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1691640" y="2811240"/>
                <a:ext cx="718920" cy="1476000"/>
              </a:xfrm>
              <a:prstGeom prst="pi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7"/>
              <p:cNvSpPr/>
              <p:nvPr/>
            </p:nvSpPr>
            <p:spPr>
              <a:xfrm rot="6300000">
                <a:off x="1788480" y="4118400"/>
                <a:ext cx="223200" cy="1627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rot="13500000">
                <a:off x="2300400" y="2895840"/>
                <a:ext cx="223200" cy="16272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9"/>
              <p:cNvSpPr/>
              <p:nvPr/>
            </p:nvSpPr>
            <p:spPr>
              <a:xfrm rot="20700000">
                <a:off x="2847240" y="4093200"/>
                <a:ext cx="161640" cy="225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Group 10"/>
              <p:cNvGrpSpPr/>
              <p:nvPr/>
            </p:nvGrpSpPr>
            <p:grpSpPr>
              <a:xfrm>
                <a:off x="1813320" y="3048480"/>
                <a:ext cx="1205280" cy="1497240"/>
                <a:chOff x="1813320" y="3048480"/>
                <a:chExt cx="1205280" cy="1497240"/>
              </a:xfrm>
            </p:grpSpPr>
            <p:sp>
              <p:nvSpPr>
                <p:cNvPr id="104" name="Oval 11"/>
                <p:cNvSpPr/>
                <p:nvPr/>
              </p:nvSpPr>
              <p:spPr>
                <a:xfrm rot="649800">
                  <a:off x="1930320" y="3127680"/>
                  <a:ext cx="970920" cy="133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12"/>
                <p:cNvSpPr/>
                <p:nvPr/>
              </p:nvSpPr>
              <p:spPr>
                <a:xfrm rot="649800">
                  <a:off x="1985040" y="3200400"/>
                  <a:ext cx="861480" cy="1191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WordArt 13"/>
              <p:cNvSpPr/>
              <p:nvPr/>
            </p:nvSpPr>
            <p:spPr>
              <a:xfrm rot="4339200">
                <a:off x="2456640" y="3544920"/>
                <a:ext cx="874080" cy="154080"/>
              </a:xfrm>
              <a:custGeom>
                <a:avLst/>
                <a:gdLst>
                  <a:gd name="textAreaLeft" fmla="*/ 0 w 874080"/>
                  <a:gd name="textAreaRight" fmla="*/ 874440 w 8740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" y="11101"/>
                    </a:moveTo>
                    <a:arcTo wR="10800" hR="10800" stAng="10704053" swAng="10991895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WordArt 14"/>
              <p:cNvSpPr/>
              <p:nvPr/>
            </p:nvSpPr>
            <p:spPr>
              <a:xfrm rot="17481600">
                <a:off x="1592640" y="3476160"/>
                <a:ext cx="775080" cy="263520"/>
              </a:xfrm>
              <a:custGeom>
                <a:avLst/>
                <a:gdLst>
                  <a:gd name="textAreaLeft" fmla="*/ 0 w 775080"/>
                  <a:gd name="textAreaRight" fmla="*/ 775440 w 7750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" y="10986"/>
                    </a:moveTo>
                    <a:arcTo wR="10800" hR="10800" stAng="10740662" swAng="10918676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WordArt 15"/>
              <p:cNvSpPr/>
              <p:nvPr/>
            </p:nvSpPr>
            <p:spPr>
              <a:xfrm>
                <a:off x="1962000" y="4150440"/>
                <a:ext cx="866880" cy="51264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1" y="14175"/>
                    </a:moveTo>
                    <a:arcTo wR="10800" hR="10800" stAng="9707387" swAng="-8614774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fromWordArt="1"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2053440" y="3220560"/>
                <a:ext cx="722160" cy="47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WordArt 17"/>
              <p:cNvSpPr/>
              <p:nvPr/>
            </p:nvSpPr>
            <p:spPr>
              <a:xfrm>
                <a:off x="2221560" y="3672000"/>
                <a:ext cx="398160" cy="273240"/>
              </a:xfrm>
              <a:custGeom>
                <a:avLst/>
                <a:gdLst>
                  <a:gd name="textAreaLeft" fmla="*/ 0 w 398160"/>
                  <a:gd name="textAreaRight" fmla="*/ 398520 w 39816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21"/>
            <p:cNvGrpSpPr/>
            <p:nvPr/>
          </p:nvGrpSpPr>
          <p:grpSpPr>
            <a:xfrm>
              <a:off x="4611240" y="2657880"/>
              <a:ext cx="2719800" cy="1744920"/>
              <a:chOff x="4611240" y="2657880"/>
              <a:chExt cx="2719800" cy="1744920"/>
            </a:xfrm>
          </p:grpSpPr>
          <p:grpSp>
            <p:nvGrpSpPr>
              <p:cNvPr id="112" name="Group 3"/>
              <p:cNvGrpSpPr/>
              <p:nvPr/>
            </p:nvGrpSpPr>
            <p:grpSpPr>
              <a:xfrm>
                <a:off x="5073480" y="2885040"/>
                <a:ext cx="2257560" cy="1296720"/>
                <a:chOff x="5073480" y="2885040"/>
                <a:chExt cx="2257560" cy="1296720"/>
              </a:xfrm>
            </p:grpSpPr>
            <p:sp>
              <p:nvSpPr>
                <p:cNvPr id="113" name="AutoShape 4"/>
                <p:cNvSpPr/>
                <p:nvPr/>
              </p:nvSpPr>
              <p:spPr>
                <a:xfrm>
                  <a:off x="5073480" y="4127400"/>
                  <a:ext cx="2150280" cy="5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5"/>
                <p:cNvSpPr/>
                <p:nvPr/>
              </p:nvSpPr>
              <p:spPr>
                <a:xfrm>
                  <a:off x="5073480" y="2885040"/>
                  <a:ext cx="2257560" cy="1242360"/>
                </a:xfrm>
                <a:prstGeom prst="roundRect">
                  <a:avLst>
                    <a:gd name="adj" fmla="val 1319"/>
                  </a:avLst>
                </a:prstGeom>
                <a:solidFill>
                  <a:srgbClr val="f2f2f2"/>
                </a:solidFill>
                <a:ln w="6480">
                  <a:solidFill>
                    <a:srgbClr val="dddddd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Oval 6"/>
              <p:cNvSpPr/>
              <p:nvPr/>
            </p:nvSpPr>
            <p:spPr>
              <a:xfrm>
                <a:off x="4615920" y="4149720"/>
                <a:ext cx="1098720" cy="25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 rot="900000">
                <a:off x="5190840" y="3446280"/>
                <a:ext cx="319680" cy="87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 rot="900000">
                <a:off x="4839480" y="2746440"/>
                <a:ext cx="24264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 rot="900000">
                <a:off x="5051520" y="2942280"/>
                <a:ext cx="29844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 rot="900000">
                <a:off x="5380200" y="2926080"/>
                <a:ext cx="554760" cy="17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 rot="900000">
                <a:off x="4841640" y="2726640"/>
                <a:ext cx="557280" cy="17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 rot="900000">
                <a:off x="5169960" y="2778480"/>
                <a:ext cx="497880" cy="136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 rot="900000">
                <a:off x="5056200" y="2886120"/>
                <a:ext cx="618480" cy="244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 rot="900000">
                <a:off x="4839480" y="2745720"/>
                <a:ext cx="24012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 rot="900000">
                <a:off x="4789440" y="2753280"/>
                <a:ext cx="332640" cy="622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"/>
              <p:cNvSpPr/>
              <p:nvPr/>
            </p:nvSpPr>
            <p:spPr>
              <a:xfrm rot="900000">
                <a:off x="4986720" y="2931480"/>
                <a:ext cx="298440" cy="81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7"/>
              <p:cNvSpPr/>
              <p:nvPr/>
            </p:nvSpPr>
            <p:spPr>
              <a:xfrm rot="900000">
                <a:off x="5284080" y="3059640"/>
                <a:ext cx="429120" cy="708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8"/>
              <p:cNvSpPr/>
              <p:nvPr/>
            </p:nvSpPr>
            <p:spPr>
              <a:xfrm rot="900000">
                <a:off x="5423400" y="3489480"/>
                <a:ext cx="360360" cy="660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9"/>
              <p:cNvSpPr/>
              <p:nvPr/>
            </p:nvSpPr>
            <p:spPr>
              <a:xfrm rot="900000">
                <a:off x="5615640" y="3042000"/>
                <a:ext cx="252720" cy="70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0"/>
              <p:cNvSpPr/>
              <p:nvPr/>
            </p:nvSpPr>
            <p:spPr>
              <a:xfrm rot="900000">
                <a:off x="4707720" y="3091320"/>
                <a:ext cx="242640" cy="777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1"/>
              <p:cNvSpPr/>
              <p:nvPr/>
            </p:nvSpPr>
            <p:spPr>
              <a:xfrm rot="900000">
                <a:off x="4785480" y="3412440"/>
                <a:ext cx="407880" cy="77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454720" y="3191760"/>
                <a:ext cx="503280" cy="189360"/>
                <a:chOff x="5454720" y="3191760"/>
                <a:chExt cx="503280" cy="189360"/>
              </a:xfrm>
            </p:grpSpPr>
            <p:sp>
              <p:nvSpPr>
                <p:cNvPr id="132" name="Line 23"/>
                <p:cNvSpPr/>
                <p:nvPr/>
              </p:nvSpPr>
              <p:spPr>
                <a:xfrm flipV="1">
                  <a:off x="5454720" y="3191760"/>
                  <a:ext cx="503280" cy="189360"/>
                </a:xfrm>
                <a:prstGeom prst="line">
                  <a:avLst/>
                </a:prstGeom>
                <a:ln w="25560">
                  <a:solidFill>
                    <a:srgbClr val="c0504d"/>
                  </a:solidFill>
                  <a:bevel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 rot="10800000">
                  <a:off x="5454720" y="3191760"/>
                  <a:ext cx="503280" cy="18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691600" y="3766680"/>
                <a:ext cx="270720" cy="120600"/>
                <a:chOff x="5691600" y="3766680"/>
                <a:chExt cx="270720" cy="120600"/>
              </a:xfrm>
            </p:grpSpPr>
            <p:sp>
              <p:nvSpPr>
                <p:cNvPr id="135" name="Line 27"/>
                <p:cNvSpPr/>
                <p:nvPr/>
              </p:nvSpPr>
              <p:spPr>
                <a:xfrm flipV="1">
                  <a:off x="5691960" y="3766680"/>
                  <a:ext cx="270360" cy="120600"/>
                </a:xfrm>
                <a:prstGeom prst="line">
                  <a:avLst/>
                </a:prstGeom>
                <a:ln w="25560">
                  <a:solidFill>
                    <a:srgbClr val="c0504d"/>
                  </a:solidFill>
                  <a:bevel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 rot="10800000">
                  <a:off x="5691600" y="3766680"/>
                  <a:ext cx="270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组合 1"/>
              <p:cNvGrpSpPr/>
              <p:nvPr/>
            </p:nvGrpSpPr>
            <p:grpSpPr>
              <a:xfrm>
                <a:off x="5797800" y="2877480"/>
                <a:ext cx="1414800" cy="931320"/>
                <a:chOff x="5797800" y="2877480"/>
                <a:chExt cx="1414800" cy="93132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5958000" y="3191040"/>
                  <a:ext cx="1212840" cy="360"/>
                  <a:chOff x="5958000" y="3191040"/>
                  <a:chExt cx="1212840" cy="360"/>
                </a:xfrm>
              </p:grpSpPr>
              <p:sp>
                <p:nvSpPr>
                  <p:cNvPr id="139" name="Line 22"/>
                  <p:cNvSpPr/>
                  <p:nvPr/>
                </p:nvSpPr>
                <p:spPr>
                  <a:xfrm>
                    <a:off x="5958000" y="3191040"/>
                    <a:ext cx="1212840" cy="360"/>
                  </a:xfrm>
                  <a:prstGeom prst="line">
                    <a:avLst/>
                  </a:prstGeom>
                  <a:ln w="25560">
                    <a:solidFill>
                      <a:srgbClr val="c0504d"/>
                    </a:solidFill>
                    <a:bevel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>
                    <a:off x="5958000" y="3191040"/>
                    <a:ext cx="1212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Rectangle 24"/>
                <p:cNvSpPr/>
                <p:nvPr/>
              </p:nvSpPr>
              <p:spPr>
                <a:xfrm>
                  <a:off x="5797800" y="2877480"/>
                  <a:ext cx="13730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实施维度：</a:t>
                  </a:r>
                  <a:r>
                    <a:rPr b="1" lang="en-US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PDC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5958000" y="3761640"/>
                  <a:ext cx="1212840" cy="360"/>
                  <a:chOff x="5958000" y="3761640"/>
                  <a:chExt cx="1212840" cy="360"/>
                </a:xfrm>
              </p:grpSpPr>
              <p:sp>
                <p:nvSpPr>
                  <p:cNvPr id="143" name="Line 26"/>
                  <p:cNvSpPr/>
                  <p:nvPr/>
                </p:nvSpPr>
                <p:spPr>
                  <a:xfrm>
                    <a:off x="5958000" y="3761640"/>
                    <a:ext cx="1212840" cy="360"/>
                  </a:xfrm>
                  <a:prstGeom prst="line">
                    <a:avLst/>
                  </a:prstGeom>
                  <a:ln w="25560">
                    <a:solidFill>
                      <a:srgbClr val="c0504d"/>
                    </a:solidFill>
                    <a:bevel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5958000" y="3761640"/>
                    <a:ext cx="1212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" name="Rectangle 28"/>
                <p:cNvSpPr/>
                <p:nvPr/>
              </p:nvSpPr>
              <p:spPr>
                <a:xfrm>
                  <a:off x="6022800" y="3441240"/>
                  <a:ext cx="118980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基本维度：</a:t>
                  </a:r>
                  <a:r>
                    <a:rPr b="1" lang="en-US" sz="1200" spc="-1" strike="noStrike">
                      <a:solidFill>
                        <a:srgbClr val="1f497d"/>
                      </a:solidFill>
                      <a:latin typeface="微软雅黑"/>
                      <a:ea typeface="微软雅黑"/>
                    </a:rPr>
                    <a:t>4P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TextBox 22"/>
            <p:cNvSpPr/>
            <p:nvPr/>
          </p:nvSpPr>
          <p:spPr>
            <a:xfrm>
              <a:off x="5555880" y="4649040"/>
              <a:ext cx="17348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核心维度：病患体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81280" y="3899160"/>
              <a:ext cx="253080" cy="1068840"/>
              <a:chOff x="5381280" y="3899160"/>
              <a:chExt cx="253080" cy="1068840"/>
            </a:xfrm>
          </p:grpSpPr>
          <p:sp>
            <p:nvSpPr>
              <p:cNvPr id="148" name="Line 27"/>
              <p:cNvSpPr/>
              <p:nvPr/>
            </p:nvSpPr>
            <p:spPr>
              <a:xfrm>
                <a:off x="5381280" y="3899160"/>
                <a:ext cx="253080" cy="106884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5381280" y="3899160"/>
                <a:ext cx="253080" cy="10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29320" y="4960440"/>
              <a:ext cx="1661760" cy="720"/>
              <a:chOff x="5629320" y="4960440"/>
              <a:chExt cx="1661760" cy="720"/>
            </a:xfrm>
          </p:grpSpPr>
          <p:sp>
            <p:nvSpPr>
              <p:cNvPr id="151" name="Line 26"/>
              <p:cNvSpPr/>
              <p:nvPr/>
            </p:nvSpPr>
            <p:spPr>
              <a:xfrm>
                <a:off x="5629320" y="4960440"/>
                <a:ext cx="1661760" cy="72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5629320" y="4960440"/>
                <a:ext cx="16617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64920" y="2006640"/>
              <a:ext cx="1105920" cy="360"/>
              <a:chOff x="6064920" y="2006640"/>
              <a:chExt cx="1105920" cy="360"/>
            </a:xfrm>
          </p:grpSpPr>
          <p:sp>
            <p:nvSpPr>
              <p:cNvPr id="154" name="Line 26"/>
              <p:cNvSpPr/>
              <p:nvPr/>
            </p:nvSpPr>
            <p:spPr>
              <a:xfrm>
                <a:off x="6064920" y="2006640"/>
                <a:ext cx="110592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6064920" y="2006640"/>
                <a:ext cx="1105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656240" y="2072160"/>
              <a:ext cx="671760" cy="853200"/>
              <a:chOff x="4656240" y="2072160"/>
              <a:chExt cx="671760" cy="853200"/>
            </a:xfrm>
          </p:grpSpPr>
          <p:sp>
            <p:nvSpPr>
              <p:cNvPr id="157" name="Line 27"/>
              <p:cNvSpPr/>
              <p:nvPr/>
            </p:nvSpPr>
            <p:spPr>
              <a:xfrm flipH="1" flipV="1">
                <a:off x="4656240" y="2072160"/>
                <a:ext cx="671760" cy="85320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4656240" y="2072160"/>
                <a:ext cx="671760" cy="85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06280" y="2057760"/>
              <a:ext cx="870480" cy="360"/>
              <a:chOff x="3806280" y="2057760"/>
              <a:chExt cx="870480" cy="360"/>
            </a:xfrm>
          </p:grpSpPr>
          <p:sp>
            <p:nvSpPr>
              <p:cNvPr id="160" name="Line 26"/>
              <p:cNvSpPr/>
              <p:nvPr/>
            </p:nvSpPr>
            <p:spPr>
              <a:xfrm flipH="1">
                <a:off x="3806280" y="2057760"/>
                <a:ext cx="87012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806640" y="2057760"/>
                <a:ext cx="87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997800" y="4977000"/>
              <a:ext cx="755280" cy="360"/>
              <a:chOff x="3997800" y="4977000"/>
              <a:chExt cx="755280" cy="360"/>
            </a:xfrm>
          </p:grpSpPr>
          <p:sp>
            <p:nvSpPr>
              <p:cNvPr id="163" name="Line 26"/>
              <p:cNvSpPr/>
              <p:nvPr/>
            </p:nvSpPr>
            <p:spPr>
              <a:xfrm flipH="1">
                <a:off x="3997800" y="4977000"/>
                <a:ext cx="755280" cy="0"/>
              </a:xfrm>
              <a:prstGeom prst="line">
                <a:avLst/>
              </a:prstGeom>
              <a:ln w="25560">
                <a:solidFill>
                  <a:srgbClr val="c0504d"/>
                </a:solidFill>
                <a:bevel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3997800" y="4977000"/>
                <a:ext cx="75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Box 29"/>
            <p:cNvSpPr/>
            <p:nvPr/>
          </p:nvSpPr>
          <p:spPr>
            <a:xfrm>
              <a:off x="3939480" y="4533840"/>
              <a:ext cx="838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五力维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30"/>
            <p:cNvSpPr/>
            <p:nvPr/>
          </p:nvSpPr>
          <p:spPr>
            <a:xfrm>
              <a:off x="3647520" y="3367800"/>
              <a:ext cx="7531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华康俪金黑W8(P)"/>
                  <a:ea typeface="华康俪金黑W8(P)"/>
                </a:rPr>
                <a:t>步骤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 </a:t>
              </a:r>
              <a:r>
                <a:rPr b="0" lang="en-US" sz="3100" spc="-1" strike="noStrike">
                  <a:solidFill>
                    <a:srgbClr val="ff0000"/>
                  </a:solidFill>
                  <a:latin typeface="Impact"/>
                </a:rPr>
                <a:t>2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72"/>
          <p:cNvSpPr/>
          <p:nvPr/>
        </p:nvSpPr>
        <p:spPr>
          <a:xfrm>
            <a:off x="5740560" y="1682640"/>
            <a:ext cx="15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隐形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战略、制度、品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3"/>
          <p:cNvSpPr/>
          <p:nvPr/>
        </p:nvSpPr>
        <p:spPr>
          <a:xfrm>
            <a:off x="3794040" y="1684440"/>
            <a:ext cx="851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表面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f497d"/>
                </a:solidFill>
                <a:latin typeface="微软雅黑"/>
                <a:ea typeface="微软雅黑"/>
              </a:rPr>
              <a:t>人、财、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4"/>
          <p:cNvSpPr/>
          <p:nvPr/>
        </p:nvSpPr>
        <p:spPr>
          <a:xfrm>
            <a:off x="960480" y="1560600"/>
            <a:ext cx="11062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f497d"/>
                </a:solidFill>
                <a:latin typeface="华康俪金黑W8(P)"/>
                <a:ea typeface="华康俪金黑W8(P)"/>
              </a:rPr>
              <a:t>步骤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3100" spc="-1" strike="noStrike">
                <a:solidFill>
                  <a:srgbClr val="ff0000"/>
                </a:solidFill>
                <a:latin typeface="Impact"/>
              </a:rPr>
              <a:t>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5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6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36720" y="2143080"/>
            <a:ext cx="753840" cy="1800"/>
            <a:chOff x="936720" y="2143080"/>
            <a:chExt cx="753840" cy="1800"/>
          </a:xfrm>
        </p:grpSpPr>
        <p:sp>
          <p:nvSpPr>
            <p:cNvPr id="173" name="Line 26"/>
            <p:cNvSpPr/>
            <p:nvPr/>
          </p:nvSpPr>
          <p:spPr>
            <a:xfrm flipH="1">
              <a:off x="936720" y="2143080"/>
              <a:ext cx="75384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ash"/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936720" y="2143080"/>
              <a:ext cx="7538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接连接符 3"/>
          <p:cNvSpPr/>
          <p:nvPr/>
        </p:nvSpPr>
        <p:spPr>
          <a:xfrm>
            <a:off x="685800" y="6524640"/>
            <a:ext cx="7672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300000" sp="1000"/>
            </a:custDash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4" descr=""/>
          <p:cNvPicPr/>
          <p:nvPr/>
        </p:nvPicPr>
        <p:blipFill>
          <a:blip r:embed="rId1"/>
          <a:srcRect l="8501" t="0" r="0" b="0"/>
          <a:stretch/>
        </p:blipFill>
        <p:spPr>
          <a:xfrm>
            <a:off x="685800" y="1989000"/>
            <a:ext cx="4070520" cy="403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1"/>
          <p:cNvSpPr/>
          <p:nvPr/>
        </p:nvSpPr>
        <p:spPr>
          <a:xfrm>
            <a:off x="4464000" y="2220840"/>
            <a:ext cx="3886200" cy="52236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优秀的专家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4451400" y="3259080"/>
            <a:ext cx="3887640" cy="52236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先进的医疗设备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4451400" y="4295880"/>
            <a:ext cx="3887640" cy="52380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医院流程优化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4451400" y="5334120"/>
            <a:ext cx="3886200" cy="523800"/>
          </a:xfrm>
          <a:prstGeom prst="rect">
            <a:avLst/>
          </a:prstGeom>
          <a:solidFill>
            <a:srgbClr val="1f497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医院品牌塑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1197000" y="1420920"/>
            <a:ext cx="1673280" cy="4420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1f497d"/>
                </a:solidFill>
                <a:latin typeface="微软雅黑"/>
                <a:ea typeface="微软雅黑"/>
              </a:rPr>
              <a:t>差异化与核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9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0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3"/>
          <p:cNvGrpSpPr/>
          <p:nvPr/>
        </p:nvGrpSpPr>
        <p:grpSpPr>
          <a:xfrm>
            <a:off x="2724120" y="2045880"/>
            <a:ext cx="5965920" cy="4055400"/>
            <a:chOff x="2724120" y="2045880"/>
            <a:chExt cx="5965920" cy="4055400"/>
          </a:xfrm>
        </p:grpSpPr>
        <p:grpSp>
          <p:nvGrpSpPr>
            <p:cNvPr id="185" name=""/>
            <p:cNvGrpSpPr/>
            <p:nvPr/>
          </p:nvGrpSpPr>
          <p:grpSpPr>
            <a:xfrm>
              <a:off x="3073680" y="5730840"/>
              <a:ext cx="5325480" cy="360"/>
              <a:chOff x="3073680" y="5730840"/>
              <a:chExt cx="5325480" cy="360"/>
            </a:xfrm>
          </p:grpSpPr>
          <p:sp>
            <p:nvSpPr>
              <p:cNvPr id="186" name="Line 13"/>
              <p:cNvSpPr/>
              <p:nvPr/>
            </p:nvSpPr>
            <p:spPr>
              <a:xfrm>
                <a:off x="3073680" y="5730840"/>
                <a:ext cx="53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3073680" y="5730840"/>
                <a:ext cx="532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073680" y="2045880"/>
              <a:ext cx="360" cy="3686040"/>
              <a:chOff x="3073680" y="2045880"/>
              <a:chExt cx="360" cy="3686040"/>
            </a:xfrm>
          </p:grpSpPr>
          <p:sp>
            <p:nvSpPr>
              <p:cNvPr id="189" name="Line 14"/>
              <p:cNvSpPr/>
              <p:nvPr/>
            </p:nvSpPr>
            <p:spPr>
              <a:xfrm flipV="1">
                <a:off x="3073680" y="2045880"/>
                <a:ext cx="0" cy="36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6200000">
                <a:off x="1230840" y="3888720"/>
                <a:ext cx="368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076200" y="2234160"/>
              <a:ext cx="5127120" cy="3487320"/>
              <a:chOff x="3076200" y="2234160"/>
              <a:chExt cx="5127120" cy="3487320"/>
            </a:xfrm>
          </p:grpSpPr>
          <p:sp>
            <p:nvSpPr>
              <p:cNvPr id="192" name="Line 15"/>
              <p:cNvSpPr/>
              <p:nvPr/>
            </p:nvSpPr>
            <p:spPr>
              <a:xfrm flipV="1">
                <a:off x="3076560" y="2234160"/>
                <a:ext cx="5126760" cy="348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 rot="10800000">
                <a:off x="3076200" y="2234160"/>
                <a:ext cx="5126760" cy="348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34"/>
            <p:cNvGrpSpPr/>
            <p:nvPr/>
          </p:nvGrpSpPr>
          <p:grpSpPr>
            <a:xfrm>
              <a:off x="6996600" y="2566080"/>
              <a:ext cx="527760" cy="660960"/>
              <a:chOff x="6996600" y="2566080"/>
              <a:chExt cx="527760" cy="660960"/>
            </a:xfrm>
          </p:grpSpPr>
          <p:grpSp>
            <p:nvGrpSpPr>
              <p:cNvPr id="195" name="Group 35"/>
              <p:cNvGrpSpPr/>
              <p:nvPr/>
            </p:nvGrpSpPr>
            <p:grpSpPr>
              <a:xfrm>
                <a:off x="6996600" y="2566080"/>
                <a:ext cx="527760" cy="660960"/>
                <a:chOff x="6996600" y="2566080"/>
                <a:chExt cx="527760" cy="660960"/>
              </a:xfrm>
            </p:grpSpPr>
            <p:sp>
              <p:nvSpPr>
                <p:cNvPr id="196" name="Oval 38"/>
                <p:cNvSpPr/>
                <p:nvPr/>
              </p:nvSpPr>
              <p:spPr>
                <a:xfrm>
                  <a:off x="6996600" y="256608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97" name="Picture 39" descr="Picture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60680" y="258660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40"/>
              <p:cNvSpPr/>
              <p:nvPr/>
            </p:nvSpPr>
            <p:spPr>
              <a:xfrm>
                <a:off x="7191720" y="276192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52"/>
            <p:cNvSpPr/>
            <p:nvPr/>
          </p:nvSpPr>
          <p:spPr>
            <a:xfrm>
              <a:off x="2724120" y="207576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品牌战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3"/>
            <p:cNvSpPr/>
            <p:nvPr/>
          </p:nvSpPr>
          <p:spPr>
            <a:xfrm>
              <a:off x="3802680" y="5746320"/>
              <a:ext cx="83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5"/>
            <p:cNvSpPr/>
            <p:nvPr/>
          </p:nvSpPr>
          <p:spPr>
            <a:xfrm>
              <a:off x="5334120" y="5763960"/>
              <a:ext cx="81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6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6"/>
            <p:cNvSpPr/>
            <p:nvPr/>
          </p:nvSpPr>
          <p:spPr>
            <a:xfrm>
              <a:off x="7042320" y="5746680"/>
              <a:ext cx="9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21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34"/>
            <p:cNvGrpSpPr/>
            <p:nvPr/>
          </p:nvGrpSpPr>
          <p:grpSpPr>
            <a:xfrm>
              <a:off x="5328360" y="3558600"/>
              <a:ext cx="527760" cy="660960"/>
              <a:chOff x="5328360" y="3558600"/>
              <a:chExt cx="527760" cy="660960"/>
            </a:xfrm>
          </p:grpSpPr>
          <p:grpSp>
            <p:nvGrpSpPr>
              <p:cNvPr id="204" name="Group 35"/>
              <p:cNvGrpSpPr/>
              <p:nvPr/>
            </p:nvGrpSpPr>
            <p:grpSpPr>
              <a:xfrm>
                <a:off x="5328360" y="3558600"/>
                <a:ext cx="527760" cy="660960"/>
                <a:chOff x="5328360" y="3558600"/>
                <a:chExt cx="527760" cy="660960"/>
              </a:xfrm>
            </p:grpSpPr>
            <p:sp>
              <p:nvSpPr>
                <p:cNvPr id="205" name="Oval 38"/>
                <p:cNvSpPr/>
                <p:nvPr/>
              </p:nvSpPr>
              <p:spPr>
                <a:xfrm>
                  <a:off x="5328360" y="355860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6" name="Picture 39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92440" y="357912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7" name="WordArt 40"/>
              <p:cNvSpPr/>
              <p:nvPr/>
            </p:nvSpPr>
            <p:spPr>
              <a:xfrm>
                <a:off x="5523480" y="375444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34"/>
            <p:cNvGrpSpPr/>
            <p:nvPr/>
          </p:nvGrpSpPr>
          <p:grpSpPr>
            <a:xfrm>
              <a:off x="3855240" y="4499640"/>
              <a:ext cx="527760" cy="660960"/>
              <a:chOff x="3855240" y="4499640"/>
              <a:chExt cx="527760" cy="660960"/>
            </a:xfrm>
          </p:grpSpPr>
          <p:grpSp>
            <p:nvGrpSpPr>
              <p:cNvPr id="209" name="Group 35"/>
              <p:cNvGrpSpPr/>
              <p:nvPr/>
            </p:nvGrpSpPr>
            <p:grpSpPr>
              <a:xfrm>
                <a:off x="3855240" y="4499640"/>
                <a:ext cx="527760" cy="660960"/>
                <a:chOff x="3855240" y="4499640"/>
                <a:chExt cx="527760" cy="660960"/>
              </a:xfrm>
            </p:grpSpPr>
            <p:sp>
              <p:nvSpPr>
                <p:cNvPr id="210" name="Oval 38"/>
                <p:cNvSpPr/>
                <p:nvPr/>
              </p:nvSpPr>
              <p:spPr>
                <a:xfrm>
                  <a:off x="3855240" y="449964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1" name="Picture 39" descr="Picture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19320" y="452016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2" name="WordArt 40"/>
              <p:cNvSpPr/>
              <p:nvPr/>
            </p:nvSpPr>
            <p:spPr>
              <a:xfrm>
                <a:off x="4050360" y="469548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Text Box 52"/>
            <p:cNvSpPr/>
            <p:nvPr/>
          </p:nvSpPr>
          <p:spPr>
            <a:xfrm>
              <a:off x="7981200" y="57445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7285680" y="3245040"/>
              <a:ext cx="5760" cy="2448720"/>
              <a:chOff x="7285680" y="3245040"/>
              <a:chExt cx="5760" cy="2448720"/>
            </a:xfrm>
          </p:grpSpPr>
          <p:sp>
            <p:nvSpPr>
              <p:cNvPr id="215" name="Line 17"/>
              <p:cNvSpPr/>
              <p:nvPr/>
            </p:nvSpPr>
            <p:spPr>
              <a:xfrm flipH="1" flipV="1">
                <a:off x="7285680" y="3245040"/>
                <a:ext cx="5760" cy="2448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 rot="5400000">
                <a:off x="6064200" y="4466520"/>
                <a:ext cx="24483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523480" y="4219920"/>
              <a:ext cx="16200" cy="1473840"/>
              <a:chOff x="5523480" y="4219920"/>
              <a:chExt cx="16200" cy="1473840"/>
            </a:xfrm>
          </p:grpSpPr>
          <p:sp>
            <p:nvSpPr>
              <p:cNvPr id="218" name="Line 17"/>
              <p:cNvSpPr/>
              <p:nvPr/>
            </p:nvSpPr>
            <p:spPr>
              <a:xfrm flipH="1" flipV="1">
                <a:off x="5523480" y="4219920"/>
                <a:ext cx="16200" cy="147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 rot="5400000">
                <a:off x="4794480" y="4948560"/>
                <a:ext cx="147384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036680" y="5087880"/>
              <a:ext cx="360" cy="625680"/>
              <a:chOff x="4036680" y="5087880"/>
              <a:chExt cx="360" cy="625680"/>
            </a:xfrm>
          </p:grpSpPr>
          <p:sp>
            <p:nvSpPr>
              <p:cNvPr id="221" name="Line 17"/>
              <p:cNvSpPr/>
              <p:nvPr/>
            </p:nvSpPr>
            <p:spPr>
              <a:xfrm flipV="1">
                <a:off x="4037040" y="5087880"/>
                <a:ext cx="0" cy="62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 rot="5400000">
                <a:off x="3723840" y="5400360"/>
                <a:ext cx="62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" name="图片 37" descr=""/>
          <p:cNvPicPr/>
          <p:nvPr/>
        </p:nvPicPr>
        <p:blipFill>
          <a:blip r:embed="rId4"/>
          <a:stretch/>
        </p:blipFill>
        <p:spPr>
          <a:xfrm>
            <a:off x="554040" y="2179800"/>
            <a:ext cx="1763640" cy="352872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224" name="Text Box 52"/>
          <p:cNvSpPr/>
          <p:nvPr/>
        </p:nvSpPr>
        <p:spPr>
          <a:xfrm>
            <a:off x="291960" y="5902200"/>
            <a:ext cx="243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打造一流的国际品牌医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3557520" y="4013280"/>
            <a:ext cx="98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6585120" y="2073240"/>
            <a:ext cx="161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国际一流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4765680" y="307656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国内知名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2"/>
          <p:cNvSpPr/>
          <p:nvPr/>
        </p:nvSpPr>
        <p:spPr>
          <a:xfrm>
            <a:off x="3394080" y="402264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高质的品牌医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6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43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0" descr=""/>
          <p:cNvPicPr/>
          <p:nvPr/>
        </p:nvPicPr>
        <p:blipFill>
          <a:blip r:embed="rId1"/>
          <a:stretch/>
        </p:blipFill>
        <p:spPr>
          <a:xfrm>
            <a:off x="554040" y="2179800"/>
            <a:ext cx="1763640" cy="3528720"/>
          </a:xfrm>
          <a:prstGeom prst="rect">
            <a:avLst/>
          </a:prstGeom>
          <a:ln w="28440">
            <a:solidFill>
              <a:srgbClr val="000000"/>
            </a:solidFill>
            <a:bevel/>
          </a:ln>
        </p:spPr>
      </p:pic>
      <p:sp>
        <p:nvSpPr>
          <p:cNvPr id="232" name="Text Box 52"/>
          <p:cNvSpPr/>
          <p:nvPr/>
        </p:nvSpPr>
        <p:spPr>
          <a:xfrm>
            <a:off x="57240" y="5902200"/>
            <a:ext cx="336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1f497d"/>
                </a:solidFill>
                <a:latin typeface="微软雅黑"/>
                <a:ea typeface="微软雅黑"/>
              </a:rPr>
              <a:t>打造适宜医院本身特色的运营体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3557520" y="4013280"/>
            <a:ext cx="9860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6727680" y="2089080"/>
            <a:ext cx="112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通过</a:t>
            </a:r>
            <a:r>
              <a:rPr b="0" lang="en-US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IPO</a:t>
            </a: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认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4"/>
          <p:cNvSpPr/>
          <p:nvPr/>
        </p:nvSpPr>
        <p:spPr>
          <a:xfrm>
            <a:off x="4619520" y="2921040"/>
            <a:ext cx="204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全国连锁网络达</a:t>
            </a:r>
            <a:r>
              <a:rPr b="0" lang="en-US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家以上，覆盖全国一级重点城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5"/>
          <p:cNvSpPr/>
          <p:nvPr/>
        </p:nvSpPr>
        <p:spPr>
          <a:xfrm>
            <a:off x="3394080" y="4022640"/>
            <a:ext cx="1650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f497d"/>
                </a:solidFill>
                <a:latin typeface="微软雅黑"/>
                <a:ea typeface="微软雅黑"/>
              </a:rPr>
              <a:t>团队及品牌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7464600" y="6383160"/>
            <a:ext cx="1638000" cy="42660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1f497d"/>
                </a:solidFill>
                <a:latin typeface="微软雅黑"/>
                <a:ea typeface="微软雅黑"/>
              </a:rPr>
              <a:t>详情咨询梅奥国际官方网站：</a:t>
            </a:r>
            <a:r>
              <a:rPr b="0" lang="en-US" sz="1100" spc="-1" strike="noStrike">
                <a:solidFill>
                  <a:srgbClr val="1f497d"/>
                </a:solidFill>
                <a:latin typeface="微软雅黑"/>
                <a:ea typeface="微软雅黑"/>
              </a:rPr>
              <a:t>www.mayoc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7"/>
          <p:cNvSpPr/>
          <p:nvPr/>
        </p:nvSpPr>
        <p:spPr>
          <a:xfrm>
            <a:off x="685800" y="0"/>
            <a:ext cx="1619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规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38"/>
          <p:cNvSpPr/>
          <p:nvPr/>
        </p:nvSpPr>
        <p:spPr>
          <a:xfrm>
            <a:off x="0" y="685800"/>
            <a:ext cx="9140760" cy="1440"/>
          </a:xfrm>
          <a:prstGeom prst="line">
            <a:avLst/>
          </a:prstGeom>
          <a:ln w="9360">
            <a:solidFill>
              <a:srgbClr val="bfbfb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39"/>
          <p:cNvGrpSpPr/>
          <p:nvPr/>
        </p:nvGrpSpPr>
        <p:grpSpPr>
          <a:xfrm>
            <a:off x="2724120" y="2045880"/>
            <a:ext cx="5965920" cy="4055400"/>
            <a:chOff x="2724120" y="2045880"/>
            <a:chExt cx="5965920" cy="4055400"/>
          </a:xfrm>
        </p:grpSpPr>
        <p:grpSp>
          <p:nvGrpSpPr>
            <p:cNvPr id="241" name=""/>
            <p:cNvGrpSpPr/>
            <p:nvPr/>
          </p:nvGrpSpPr>
          <p:grpSpPr>
            <a:xfrm>
              <a:off x="3073680" y="5730840"/>
              <a:ext cx="5325480" cy="360"/>
              <a:chOff x="3073680" y="5730840"/>
              <a:chExt cx="5325480" cy="360"/>
            </a:xfrm>
          </p:grpSpPr>
          <p:sp>
            <p:nvSpPr>
              <p:cNvPr id="242" name="Line 13"/>
              <p:cNvSpPr/>
              <p:nvPr/>
            </p:nvSpPr>
            <p:spPr>
              <a:xfrm>
                <a:off x="3073680" y="5730840"/>
                <a:ext cx="532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3073680" y="5730840"/>
                <a:ext cx="532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073680" y="2045880"/>
              <a:ext cx="360" cy="3686040"/>
              <a:chOff x="3073680" y="2045880"/>
              <a:chExt cx="360" cy="3686040"/>
            </a:xfrm>
          </p:grpSpPr>
          <p:sp>
            <p:nvSpPr>
              <p:cNvPr id="245" name="Line 14"/>
              <p:cNvSpPr/>
              <p:nvPr/>
            </p:nvSpPr>
            <p:spPr>
              <a:xfrm flipV="1">
                <a:off x="3073680" y="2045880"/>
                <a:ext cx="0" cy="36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6200000">
                <a:off x="1230840" y="3888720"/>
                <a:ext cx="368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076200" y="2234160"/>
              <a:ext cx="5127120" cy="3487320"/>
              <a:chOff x="3076200" y="2234160"/>
              <a:chExt cx="5127120" cy="3487320"/>
            </a:xfrm>
          </p:grpSpPr>
          <p:sp>
            <p:nvSpPr>
              <p:cNvPr id="248" name="Line 15"/>
              <p:cNvSpPr/>
              <p:nvPr/>
            </p:nvSpPr>
            <p:spPr>
              <a:xfrm flipV="1">
                <a:off x="3076560" y="2234160"/>
                <a:ext cx="5126760" cy="348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 rot="10800000">
                <a:off x="3076200" y="2234160"/>
                <a:ext cx="5126760" cy="348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"/>
            <p:cNvGrpSpPr/>
            <p:nvPr/>
          </p:nvGrpSpPr>
          <p:grpSpPr>
            <a:xfrm>
              <a:off x="6996600" y="2566080"/>
              <a:ext cx="527760" cy="660960"/>
              <a:chOff x="6996600" y="2566080"/>
              <a:chExt cx="527760" cy="660960"/>
            </a:xfrm>
          </p:grpSpPr>
          <p:grpSp>
            <p:nvGrpSpPr>
              <p:cNvPr id="251" name="Group 35"/>
              <p:cNvGrpSpPr/>
              <p:nvPr/>
            </p:nvGrpSpPr>
            <p:grpSpPr>
              <a:xfrm>
                <a:off x="6996600" y="2566080"/>
                <a:ext cx="527760" cy="660960"/>
                <a:chOff x="6996600" y="2566080"/>
                <a:chExt cx="527760" cy="660960"/>
              </a:xfrm>
            </p:grpSpPr>
            <p:sp>
              <p:nvSpPr>
                <p:cNvPr id="252" name="Oval 38"/>
                <p:cNvSpPr/>
                <p:nvPr/>
              </p:nvSpPr>
              <p:spPr>
                <a:xfrm>
                  <a:off x="6996600" y="256608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3" name="Picture 39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060680" y="258660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4" name="WordArt 40"/>
              <p:cNvSpPr/>
              <p:nvPr/>
            </p:nvSpPr>
            <p:spPr>
              <a:xfrm>
                <a:off x="7191720" y="276192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52"/>
            <p:cNvSpPr/>
            <p:nvPr/>
          </p:nvSpPr>
          <p:spPr>
            <a:xfrm>
              <a:off x="2724120" y="2075760"/>
              <a:ext cx="389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运营战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3"/>
            <p:cNvSpPr/>
            <p:nvPr/>
          </p:nvSpPr>
          <p:spPr>
            <a:xfrm>
              <a:off x="3802680" y="5746320"/>
              <a:ext cx="83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5"/>
            <p:cNvSpPr/>
            <p:nvPr/>
          </p:nvSpPr>
          <p:spPr>
            <a:xfrm>
              <a:off x="5334120" y="5763960"/>
              <a:ext cx="81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16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6"/>
            <p:cNvSpPr/>
            <p:nvPr/>
          </p:nvSpPr>
          <p:spPr>
            <a:xfrm>
              <a:off x="7042320" y="5746680"/>
              <a:ext cx="9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2021</a:t>
              </a: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4"/>
            <p:cNvGrpSpPr/>
            <p:nvPr/>
          </p:nvGrpSpPr>
          <p:grpSpPr>
            <a:xfrm>
              <a:off x="5328360" y="3558600"/>
              <a:ext cx="527760" cy="660960"/>
              <a:chOff x="5328360" y="3558600"/>
              <a:chExt cx="527760" cy="660960"/>
            </a:xfrm>
          </p:grpSpPr>
          <p:grpSp>
            <p:nvGrpSpPr>
              <p:cNvPr id="260" name="Group 35"/>
              <p:cNvGrpSpPr/>
              <p:nvPr/>
            </p:nvGrpSpPr>
            <p:grpSpPr>
              <a:xfrm>
                <a:off x="5328360" y="3558600"/>
                <a:ext cx="527760" cy="660960"/>
                <a:chOff x="5328360" y="3558600"/>
                <a:chExt cx="527760" cy="660960"/>
              </a:xfrm>
            </p:grpSpPr>
            <p:sp>
              <p:nvSpPr>
                <p:cNvPr id="261" name="Oval 38"/>
                <p:cNvSpPr/>
                <p:nvPr/>
              </p:nvSpPr>
              <p:spPr>
                <a:xfrm>
                  <a:off x="5328360" y="355860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2" name="Picture 39" descr="Picture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2440" y="357912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3" name="WordArt 40"/>
              <p:cNvSpPr/>
              <p:nvPr/>
            </p:nvSpPr>
            <p:spPr>
              <a:xfrm>
                <a:off x="5523480" y="375444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4"/>
            <p:cNvGrpSpPr/>
            <p:nvPr/>
          </p:nvGrpSpPr>
          <p:grpSpPr>
            <a:xfrm>
              <a:off x="3855240" y="4499640"/>
              <a:ext cx="527760" cy="660960"/>
              <a:chOff x="3855240" y="4499640"/>
              <a:chExt cx="527760" cy="660960"/>
            </a:xfrm>
          </p:grpSpPr>
          <p:grpSp>
            <p:nvGrpSpPr>
              <p:cNvPr id="265" name="Group 35"/>
              <p:cNvGrpSpPr/>
              <p:nvPr/>
            </p:nvGrpSpPr>
            <p:grpSpPr>
              <a:xfrm>
                <a:off x="3855240" y="4499640"/>
                <a:ext cx="527760" cy="660960"/>
                <a:chOff x="3855240" y="4499640"/>
                <a:chExt cx="527760" cy="660960"/>
              </a:xfrm>
            </p:grpSpPr>
            <p:sp>
              <p:nvSpPr>
                <p:cNvPr id="266" name="Oval 38"/>
                <p:cNvSpPr/>
                <p:nvPr/>
              </p:nvSpPr>
              <p:spPr>
                <a:xfrm>
                  <a:off x="3855240" y="4499640"/>
                  <a:ext cx="527760" cy="660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7" name="Picture 39" descr="Picture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19320" y="4520160"/>
                  <a:ext cx="419760" cy="233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8" name="WordArt 40"/>
              <p:cNvSpPr/>
              <p:nvPr/>
            </p:nvSpPr>
            <p:spPr>
              <a:xfrm>
                <a:off x="4050360" y="4695480"/>
                <a:ext cx="137160" cy="25848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</a:path>
                  <a:path w="21600" h="21600">
                    <a:moveTo>
                      <a:pt x="0" y="21600"/>
                    </a:moveTo>
                    <a:lnTo>
                      <a:pt x="21600" y="2160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52"/>
            <p:cNvSpPr/>
            <p:nvPr/>
          </p:nvSpPr>
          <p:spPr>
            <a:xfrm>
              <a:off x="7981200" y="57445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1f497d"/>
                  </a:solidFill>
                  <a:latin typeface="微软雅黑"/>
                  <a:ea typeface="微软雅黑"/>
                </a:rPr>
                <a:t>时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285680" y="3245040"/>
              <a:ext cx="5760" cy="2448720"/>
              <a:chOff x="7285680" y="3245040"/>
              <a:chExt cx="5760" cy="2448720"/>
            </a:xfrm>
          </p:grpSpPr>
          <p:sp>
            <p:nvSpPr>
              <p:cNvPr id="271" name="Line 17"/>
              <p:cNvSpPr/>
              <p:nvPr/>
            </p:nvSpPr>
            <p:spPr>
              <a:xfrm flipH="1" flipV="1">
                <a:off x="7285680" y="3245040"/>
                <a:ext cx="5760" cy="2448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5400000">
                <a:off x="6064200" y="4466520"/>
                <a:ext cx="2448360" cy="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23480" y="4219920"/>
              <a:ext cx="16200" cy="1473840"/>
              <a:chOff x="5523480" y="4219920"/>
              <a:chExt cx="16200" cy="1473840"/>
            </a:xfrm>
          </p:grpSpPr>
          <p:sp>
            <p:nvSpPr>
              <p:cNvPr id="274" name="Line 17"/>
              <p:cNvSpPr/>
              <p:nvPr/>
            </p:nvSpPr>
            <p:spPr>
              <a:xfrm flipH="1" flipV="1">
                <a:off x="5523480" y="4219920"/>
                <a:ext cx="16200" cy="1473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5400000">
                <a:off x="4794480" y="4948560"/>
                <a:ext cx="147384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36680" y="5087880"/>
              <a:ext cx="360" cy="625680"/>
              <a:chOff x="4036680" y="5087880"/>
              <a:chExt cx="360" cy="625680"/>
            </a:xfrm>
          </p:grpSpPr>
          <p:sp>
            <p:nvSpPr>
              <p:cNvPr id="277" name="Line 17"/>
              <p:cNvSpPr/>
              <p:nvPr/>
            </p:nvSpPr>
            <p:spPr>
              <a:xfrm flipV="1">
                <a:off x="4037040" y="5087880"/>
                <a:ext cx="0" cy="625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Dot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5400000">
                <a:off x="3723840" y="5400360"/>
                <a:ext cx="62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"/>
          <p:cNvSpPr/>
          <p:nvPr/>
        </p:nvSpPr>
        <p:spPr>
          <a:xfrm>
            <a:off x="1701720" y="70164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战略规划详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战略规划模板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" descr=""/>
          <p:cNvPicPr/>
          <p:nvPr/>
        </p:nvPicPr>
        <p:blipFill>
          <a:blip r:embed="rId1"/>
          <a:stretch/>
        </p:blipFill>
        <p:spPr>
          <a:xfrm>
            <a:off x="1409760" y="1434960"/>
            <a:ext cx="6183360" cy="4591080"/>
          </a:xfrm>
          <a:prstGeom prst="rect">
            <a:avLst/>
          </a:prstGeom>
          <a:ln w="9360">
            <a:solidFill>
              <a:srgbClr val="000000"/>
            </a:solidFill>
            <a:beve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9-20T06:57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