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D93-366D-46DE-ADBA-D8D1B9F1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03A-6F87-4D68-A585-983E99EE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896-A610-497A-B73E-701E555A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44E-448B-4EB9-BC8F-1EE727EC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36A5-8CED-492C-BC0A-E56FE9B3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763F-C5C3-4CE6-A9DA-B5750F45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362F-67AC-4E37-A63D-6D797435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A6B2-FE25-40D0-BCF7-7137DBA5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0296-36DC-4B89-90E1-9D000B02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4782-88F5-4F9A-BFF7-B8EE3581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8B3C-7D4F-47CE-BA69-7303E2AE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8FD-AFE2-4EEC-A5D6-67908666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A30E-C23C-425C-832F-958507F7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2FB2-BBBF-49E2-A9D1-EB78CDA3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3027-12FC-4E39-BC31-E1131FAF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97B4-7D7B-4EF4-B39B-40CF363F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79C2-ABD0-46C6-861E-7A4A8CDC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DE0-23E3-4A0D-9695-011FA5EE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7E3-39C8-4944-964C-1CF2F328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F7C-95D2-47F9-83D0-C9472E18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88E-3FDA-4C97-B5E5-8B35D4A2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88D-0D55-42A8-92B2-C68F8087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4E0-2C88-4B4D-8FB7-05026092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361-88D5-4382-96A0-9491AA49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6E2C-E851-44B2-9FBA-835691A1D6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3FD3-AA10-4FAA-A568-12C30DCC50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17e1b"/>
                </a:solidFill>
                <a:latin typeface="Times New Roman"/>
                <a:ea typeface="隶书"/>
              </a:rPr>
              <a:t>规范管理是搞好《德育》读本实验的关键</a:t>
            </a:r>
            <a:br>
              <a:rPr sz="6000"/>
            </a:b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XXX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XXX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中学课题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21304"/>
                </a:solidFill>
                <a:latin typeface="Times New Roman"/>
              </a:rPr>
              <a:t>（一）建立机构、明确职责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3716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为了搞好《德育》读本教学，我们构建了四级网络系统，做到层级管理，职责明确，组织落实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95" name=""/>
            <p:cNvGrpSpPr/>
            <p:nvPr/>
          </p:nvGrpSpPr>
          <p:grpSpPr>
            <a:xfrm>
              <a:off x="7920" y="4320"/>
              <a:ext cx="9125640" cy="6848280"/>
              <a:chOff x="7920" y="4320"/>
              <a:chExt cx="9125640" cy="68482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7920" y="4320"/>
                <a:ext cx="2359800" cy="821880"/>
                <a:chOff x="7920" y="4320"/>
                <a:chExt cx="2359800" cy="821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26360" y="4320"/>
                  <a:ext cx="21225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机构名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920" y="4320"/>
                  <a:ext cx="235980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368080" y="4320"/>
                <a:ext cx="1927440" cy="821880"/>
                <a:chOff x="2368080" y="4320"/>
                <a:chExt cx="1927440" cy="8218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485800" y="4320"/>
                  <a:ext cx="16909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组成人员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368080" y="4320"/>
                  <a:ext cx="19274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296240" y="4320"/>
                <a:ext cx="4837320" cy="821880"/>
                <a:chOff x="4296240" y="4320"/>
                <a:chExt cx="4837320" cy="8218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413960" y="4320"/>
                  <a:ext cx="46015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主  要  职  责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296240" y="4320"/>
                  <a:ext cx="483732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920" y="826200"/>
                <a:ext cx="2359800" cy="1187280"/>
                <a:chOff x="7920" y="826200"/>
                <a:chExt cx="2359800" cy="1187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26360" y="826200"/>
                  <a:ext cx="21225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校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德育课领导小组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920" y="826200"/>
                  <a:ext cx="23598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368080" y="826200"/>
                <a:ext cx="1927440" cy="1187280"/>
                <a:chOff x="2368080" y="826200"/>
                <a:chExt cx="1927440" cy="1187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485800" y="826200"/>
                  <a:ext cx="169092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校长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德育处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科研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368080" y="826200"/>
                  <a:ext cx="19274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296240" y="826200"/>
                <a:ext cx="4837320" cy="1187280"/>
                <a:chOff x="4296240" y="826200"/>
                <a:chExt cx="4837320" cy="1187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413960" y="826200"/>
                  <a:ext cx="460152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教学计划的制定与推进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教学过程的指导与检查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教学管理制度的制定与颁布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教学成果的考评与奖励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296240" y="826200"/>
                  <a:ext cx="483732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920" y="2013480"/>
                <a:ext cx="2359800" cy="1917000"/>
                <a:chOff x="7920" y="2013480"/>
                <a:chExt cx="2359800" cy="19170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26360" y="2013480"/>
                  <a:ext cx="2122560" cy="19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德育处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德育课教研组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920" y="2013480"/>
                  <a:ext cx="2359800" cy="19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368080" y="2013480"/>
                <a:ext cx="1927440" cy="1917000"/>
                <a:chOff x="2368080" y="2013480"/>
                <a:chExt cx="1927440" cy="1917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485800" y="2013480"/>
                  <a:ext cx="1690920" cy="19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主管校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德育处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科研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部分教师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368080" y="2013480"/>
                  <a:ext cx="1927440" cy="19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296240" y="2013480"/>
                <a:ext cx="4837320" cy="1917000"/>
                <a:chOff x="4296240" y="2013480"/>
                <a:chExt cx="4837320" cy="1917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13960" y="2013480"/>
                  <a:ext cx="4601520" cy="19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组织例会布置检查德育课计划执行情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根据实际调控各年级教学进度与安排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培养典型、总结指导，推动教学深入发展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教学成果的组织、撰写、申报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296240" y="2013480"/>
                  <a:ext cx="4837320" cy="19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7920" y="3930840"/>
                <a:ext cx="2359800" cy="1551960"/>
                <a:chOff x="7920" y="3930840"/>
                <a:chExt cx="2359800" cy="15519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6360" y="3930840"/>
                  <a:ext cx="2122560" cy="155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年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德育课备课组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920" y="3930840"/>
                  <a:ext cx="2359800" cy="155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368080" y="3930840"/>
                <a:ext cx="1927440" cy="1551960"/>
                <a:chOff x="2368080" y="3930840"/>
                <a:chExt cx="1927440" cy="15519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485800" y="3930840"/>
                  <a:ext cx="1690920" cy="155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年级组长         本年级教师    德育分管人员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68080" y="3930840"/>
                  <a:ext cx="1927440" cy="155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296240" y="3930840"/>
                <a:ext cx="4837320" cy="1551960"/>
                <a:chOff x="4296240" y="3930840"/>
                <a:chExt cx="4837320" cy="15519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413960" y="3930840"/>
                  <a:ext cx="4601520" cy="155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制定并落实年级德育课计划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组织教师集体备课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组织年级德育交流课，观摩课推荐评定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296240" y="3930840"/>
                  <a:ext cx="4837320" cy="155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920" y="5482800"/>
                <a:ext cx="2359800" cy="1369800"/>
                <a:chOff x="7920" y="5482800"/>
                <a:chExt cx="2359800" cy="13698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26360" y="5482800"/>
                  <a:ext cx="212256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班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德育课指导教师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920" y="5482800"/>
                  <a:ext cx="235980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368080" y="5482800"/>
                <a:ext cx="1927440" cy="1369800"/>
                <a:chOff x="2368080" y="5482800"/>
                <a:chExt cx="1927440" cy="13698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485800" y="5482800"/>
                  <a:ext cx="16909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各班主任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368080" y="5482800"/>
                  <a:ext cx="192744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296240" y="5482800"/>
                <a:ext cx="4837320" cy="1369800"/>
                <a:chOff x="4296240" y="5482800"/>
                <a:chExt cx="4837320" cy="13698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13960" y="5482800"/>
                  <a:ext cx="4601520" cy="13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根据年级计划，熟悉教材，拟定教案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组织指导学生做好课前准备工作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按时上课，保证教学质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收集学生及家长意见并及时反馈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96240" y="5482800"/>
                  <a:ext cx="4837320" cy="136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0" y="0"/>
              <a:ext cx="91436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21304"/>
                </a:solidFill>
                <a:latin typeface="Times New Roman"/>
              </a:rPr>
              <a:t>（二）教学活动、突出特色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</a:rPr>
              <a:t>一条主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即在读本教学中始终贯穿“发挥教师主导作用和学生主体作用相结合”这条主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008000"/>
                </a:solidFill>
                <a:uFillTx/>
                <a:latin typeface="Times New Roman"/>
              </a:rPr>
              <a:t>四个环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即教师主导作用的发挥，要围绕四个环节来进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660066"/>
                </a:solidFill>
                <a:uFillTx/>
                <a:latin typeface="Times New Roman"/>
              </a:rPr>
              <a:t>五个特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即学生主体作用的发挥，在德育课教学中，要充分体现在五个方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315200" y="4038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五个特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体现全员教育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体现自我教育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体现动态教育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体现形象教育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体现主动教育的特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525780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1356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  <a:path fill="darken" w="29710" h="21600">
                <a:moveTo>
                  <a:pt x="7848" y="3794"/>
                </a:moveTo>
                <a:lnTo>
                  <a:pt x="9511" y="3794"/>
                </a:lnTo>
                <a:lnTo>
                  <a:pt x="9511" y="17806"/>
                </a:lnTo>
                <a:lnTo>
                  <a:pt x="7848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（三）多方反馈、注重实效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 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学生反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 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家长反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教师反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  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学校反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（四）健全制度、确保落实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确定《德育》读本课在学校课程体系中的法定地位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集体备课制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听课制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《德育》课时津贴制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奖励制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zh-CN" sz="8800" spc="-1" strike="noStrike">
                <a:solidFill>
                  <a:srgbClr val="221304"/>
                </a:solidFill>
                <a:latin typeface="Times New Roman"/>
              </a:rPr>
              <a:t>    </a:t>
            </a:r>
            <a:r>
              <a:rPr b="1" lang="zh-CN" sz="8800" spc="-1" strike="noStrike">
                <a:solidFill>
                  <a:srgbClr val="ff0000"/>
                </a:solidFill>
                <a:latin typeface="Times New Roman"/>
              </a:rPr>
              <a:t>谢谢大家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！</a:t>
            </a:r>
            <a:endParaRPr b="0" lang="en-US" sz="8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规范 管理</cp:keywords>
  <dc:language>en-US</dc:language>
  <cp:lastModifiedBy/>
  <cp:revision>0</cp:revision>
  <dc:subject/>
  <dc:title/>
</cp:coreProperties>
</file>