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9F8-847D-43D2-9D5B-FF585347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A16-E42B-44BA-AD09-1485289C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F94-5FF6-43BC-9B39-4F9E7BC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CB8-05FF-4BF4-AB11-60C3540A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425-0EBD-4F67-8AE2-10BE52D9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A2E-C91E-4650-A860-7CF3FD36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EC80-3A7E-4055-BE57-F15D62FE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F8CA-B0D0-43CE-B347-ACF37673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1CC9-BAA0-47C6-9DF5-7D2BEDA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5AC5-3E1F-46B4-B374-92B27C28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EC0E-69CC-43E8-862A-CFFCB8A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1DE-49A1-4298-AF2C-2969FB0B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5D5E-A27F-4D76-8425-4D4A1BC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9B7-1448-4E5C-987A-612E78FA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4BBB-A027-495D-BB7A-A92D9E3C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4C04-466F-4FC4-8BF0-0E641B4F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14F8-DE72-40D5-A672-81430473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94B-C180-4761-8FB2-B72D727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916-0D3F-4BA3-BC10-87E52C5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DCA-0AF1-42D1-BBAA-575E54B3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7AF-D81E-475D-8097-40B85AC5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A23-C9E3-4933-9B54-2299F41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022-314A-48DC-81E8-3603788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ED7-A265-4A7A-A7F2-1AF5FBE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5CF1-0C1A-4888-9ACA-387B43588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0C70-13DB-4F15-B7CF-B3D7E754D2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级财务管理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节  企业集团组织形式及本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企业集团定义：是由多个法人构成的不具备法人资格的企业联合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企业集团本质特征：资源聚集整合优势和管理协同优势，具体来说有四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企业集团成功的基础：优势的产业发展线与高效率的管理控制线的相互依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84872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节企业集团财务管理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一、集团财务管理主体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主体：包括母公司在内的若干不同阶层的成员企业，即多个主体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主体特征：一元中心下的多层级复合结构特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集团财务管理目标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目标：在确保集团整体财务目标最大化的前提下，实现成员企业个体财务目标的最大化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特征：成员企业个体财务目标对集团整体财务目标在战略上的统合性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集团财务管理客体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客体（对象）：集团及成员企业的资金运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与单一法人资金运动的区别：在复杂程度、管理实现的手段、风险等方面的区别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、集团财务管理方式及特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方式：全面预算制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二章  企业集团治理结构与财务管理体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节  公司治理结构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公司治理结构涵义与内容：是指一组联结并规范公司所有者、董事会、经营者、亚经营者、员工及其他利益者之间权、责、利关系的制度安排。包括产权制度、决策与督导制度、激励机制、组织结构、董事问责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基本模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外部人模式：以英美为代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内部人模式：以日韩、东南亚国家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节  企业集团治理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团治理结构包括以下几方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股权控制结构：分为绝对控股和相对控股。拥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上股权的为绝对控股，，低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股权的为相对控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管理的集权与分权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“权”的涵义：指决策管理权，包括生产权、经营权、财务权及人事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“权”的五个层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是战略发展、股权控制与公司政策的制定、解释和调整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是对第一层次产生重大影响的决策管理权及例外事项处置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是对第一不构成重大影响的决策管理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是一般的、日常的生产经营、财务与人事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11880" indent="-12996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是成员企业自身内部职能部门的管理决策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集权与分权的本质：无论是集权与分权，第一和第二层次都独揽于总公司，区别在于对后面三个层次的集或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两者的比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51240" indent="-12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企业集团组织结构的基本模式：了解六种模式及各自的利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此外还包括董事会职能、监事会职能、经营者权责、董事会问责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三节   企业集团财务管理体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财务管理体制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定义和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财务体制与管理体制特别是经营体制的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财务体制趋向集权的原因：有三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财务管理体制的设计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产权制度为依据的母子公司关系：依据两个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独立责任原则和有限责任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充分体现财务管理的战略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适应集团不同的组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四节 企业集团财务组织与决策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团财务管理机构分为四个层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母公司董事会及财务权限：它是最高决策中心，主要是对各种政策的制定权和调整权；对高层财务人员的聘任、委派权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集团财务总部及权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、财务结算中心或财务公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财务结算中心：是隶属于母公司财务部的职能机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财务公司：是具有独立的法人资格的一个子公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者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子公司财务部及权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、事业部财务机构：具双重身分：一是作为母公司财务部的派出机构，执行总部的战略政策，另一方面又作为事业部下属公司的领导和管理机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五节 财务控制制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控制的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控制制度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责任预算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财务报告制度：包括以下几方面：信息质量标准、报告标准、内容结构、组织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财务总监委派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财务 管理 概述</cp:keywords>
  <dc:language>en-US</dc:language>
  <cp:lastModifiedBy/>
  <cp:revision>0</cp:revision>
  <dc:subject/>
  <dc:title/>
</cp:coreProperties>
</file>