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0750-664F-4810-9C70-68A32DD0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7D9D-740A-4EB3-B655-4FC58F68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70C-E359-4CAB-BDF9-1BF0B9A5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22A-7D31-4F1F-A3FC-9D368F95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1FC-20A2-4970-9E87-9FEC6C3B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85A3-DC78-4AAD-950D-AEBF796B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1B5-D173-4641-B893-222919AF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993E-1080-4CD3-861F-CAC6359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90B1-0E46-46BD-8C79-59A2954E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CCD0-976E-4BC7-8668-DBF956A5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C6B1-ADAB-4B69-AAB4-6B0EC3F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B72-CD80-4E68-A80A-BDFB6D29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852D-67C6-440B-BCE0-AE37E8D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B12D-7F73-4631-85ED-6C42DCF2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36C-6022-4DE9-9494-16DF6CF6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6669-82D3-4538-AAE8-FA1E9F52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A3F7-E739-40D2-9429-D36B90DB2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6F8-884E-4447-A7B0-B2A16FD6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5DB4-478B-4C99-929D-1D10F06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EDC-67CF-4FA8-8737-75BBC43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4EA-72B3-422F-A5C7-FE5B7A4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7F4-CBDF-4A72-90B1-7FBD1459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B86-2B89-4650-9448-EDDB15C3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736-91AB-4285-B98E-FEC06405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2FD3-E6B6-4185-A710-71E305CFEB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746-999B-486F-B48E-11CCDD1D69A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3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4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8.png"/><Relationship Id="rId10" Type="http://schemas.openxmlformats.org/officeDocument/2006/relationships/hyperlink" Target="E:\power_point\v2001chi\&#19979;&#20874;\&#35506;&#38988;18.ppt" TargetMode="External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269,14,&#22283;&#38555;&#36031;&#26131;&#21512;&#20316;&#32068;&#32340;" TargetMode="External"/><Relationship Id="rId8" Type="http://schemas.openxmlformats.org/officeDocument/2006/relationships/image" Target="../media/image3.png"/><Relationship Id="rId9" Type="http://schemas.openxmlformats.org/officeDocument/2006/relationships/hyperlink" Target="-1,15,&#26412;&#22320;&#21830;&#26371;" TargetMode="External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8,13,&#22283;&#38555;&#21270;&#30340;&#22256;&#38627;&#21644;&#20107;&#20808;&#30340;&#32771;&#24942;&#30340;&#22240;&#32032; &#8211; &#22806;&#22312;&#22240;&#32032;(&#20108;) - &#31478;&#29229;&#24773;&#35980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E:\power_point\v2001chi\&#19979;&#20874;\&#35506;&#38988;17.pp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448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市場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584_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86516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BD06662_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4419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政治障礙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66520"/>
            <a:ext cx="7840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國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政治不穩，政黨傾軋，執政黨轉變頻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內戰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外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國際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教派之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盟敵關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意氣之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華康行書體"/>
                <a:ea typeface="華康行書體"/>
              </a:rPr>
              <a:t>對貿易帶來的不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10"/>
              </a:rPr>
              <a:t>關稅、配額、禁運、外匯管制、最惠國特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三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經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人口分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基本建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開發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通貨膨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利率、匯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自由貿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集資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四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分配網絡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由生產至消費者手中的途徑是否合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由供應商至目標消費者的路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當地的運輸網絡是否發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其他基建配套的配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五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競爭情貌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反獨佔法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公平貿易法、商業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對外商的支援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防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傾銷意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消費者保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7"/>
              </a:rPr>
              <a:t>國際連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9"/>
              </a:rPr>
              <a:t>本地商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1"/>
              </a:rPr>
              <a:t>國際貿易合作組織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世界貿易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World Trade Organ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歐洲共同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European Economic Commun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北美洲自由貿易協議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North America Free Trade Agre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經濟合作及發展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Organization for Economic Co-operation and Development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石油輸出國組織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Organization of Petroleum Exporting Countr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貨幣基金會 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International Monetary F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內在因素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54848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除其他企業因素外，在管理角度上要考慮以下幾點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本身結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子機構在母機構內的角色，在結構圖何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其控制的寬緊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雙方關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權力中央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地方分權的限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權力下放至甚麼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完全獨立 </a:t>
            </a:r>
            <a:r>
              <a:rPr b="0" lang="en-US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0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企業一個獨立部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無法規可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建基於信任與雙方了解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危害國際貿易的情勢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家利益高於個別經濟利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貿易國家之間的不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戰略國防考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宗教不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個別行業利益重於國際經貿關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保護初生工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反國際貿易一體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貿易勢不可擋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高科技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商品本身的構成已國際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全球消費口味趨向統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全球運輸發展一日千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資金流向無彊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競爭已是國際化，生產地方化的生存空間愈來愈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相對優勢將在於生產特殊化而不在於機會成本的比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華康行書體"/>
              <a:ea typeface="華康行書體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743200" y="1752480"/>
            <a:ext cx="4417920" cy="4113360"/>
            <a:chOff x="2743200" y="1752480"/>
            <a:chExt cx="4417920" cy="4113360"/>
          </a:xfrm>
        </p:grpSpPr>
        <p:pic>
          <p:nvPicPr>
            <p:cNvPr id="125" name="BD06662_" descr=""/>
            <p:cNvPicPr/>
            <p:nvPr/>
          </p:nvPicPr>
          <p:blipFill>
            <a:blip r:embed="rId1"/>
            <a:stretch/>
          </p:blipFill>
          <p:spPr>
            <a:xfrm>
              <a:off x="2743200" y="1752480"/>
              <a:ext cx="44179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2743200" y="1752480"/>
              <a:ext cx="4417920" cy="411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318440" y="5181480"/>
            <a:ext cx="1003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華康綜藝體"/>
              </a:rPr>
              <a:t>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貿易的存在理論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比較優勢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David Ricar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貿易的實際需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走向國際化的型式層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化的困難和事先的考慮的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危害國際貿易的情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貿易勢不可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貿易可以成立的條件考慮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華康行書體"/>
                <a:ea typeface="華康行書體"/>
                <a:hlinkClick r:id="rId2"/>
              </a:rPr>
              <a:t>Ricardo’s 貿易理論 – 比較優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生產專業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交易成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生產單位層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運輸 – 路程、交通工具、關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利率 – 固定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浮動，通貨物價指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匯率 – 浮動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掛釣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固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家層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貿易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收支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國際勢力平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從國家角度看貿易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可以較低代價獲取相同性質的商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國民就業、生活享受和滿足慾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生產質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隨著商品活動影響資源和生產技術作國際性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為何「我」要走向國際化？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52480"/>
            <a:ext cx="777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增加營業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業務長期增長及盈利前景的合理期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市場地位、佔有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高政治地位，提高與政府議價的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本身生產過餘，或想達到規模生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延長商品的成長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熟週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嘗試將雞蛋分別放在不同籃子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提升本地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當地科技發展和經濟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走向國際化的型式層面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一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半直接出口 – 貨品加工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來料加工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只提供貨品其中一個生產環節服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直接出口 – 生產貨品直接出口，須有專人處理出口事宜，資本額要求較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代理 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特許經營 – 將生產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分銷權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牌子、商標</a:t>
            </a:r>
            <a:r>
              <a:rPr b="0" lang="en-US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批予外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外圍銷售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走向國際化的型式層面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分行或附屬公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可獨資或與當地企業</a:t>
            </a:r>
            <a:r>
              <a:rPr b="0" lang="en-US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政府合作，分擔成本、風險、管理和利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成立生產單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在原產當地出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運回原資本國出售 </a:t>
            </a:r>
            <a:r>
              <a:rPr b="0" lang="en-US" sz="24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以貨易貨，物物交換，屬雙向貿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買方只有有限外匯，只能以貨物代替貨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一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作為一個新鮮人，對當地市場的文化、社會生活習慣、政治、經濟、分銷網絡、競爭狀態、媒體與市場資訊等等一概無知，這是相當危險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先觀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與當地合適單位洽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派出先頭部隊，初步探測市場反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國際化的困難和事先的考慮的因素 – 外在因素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(</a:t>
            </a:r>
            <a:r>
              <a:rPr b="0" lang="zh-CN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二</a:t>
            </a:r>
            <a:r>
              <a:rPr b="0" lang="en-US" sz="36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) - </a:t>
            </a:r>
            <a:r>
              <a:rPr b="0" lang="zh-CN" sz="4400" spc="-1" strike="noStrike">
                <a:solidFill>
                  <a:srgbClr val="482400"/>
                </a:solidFill>
                <a:latin typeface="華康行書體"/>
                <a:ea typeface="華康行書體"/>
              </a:rPr>
              <a:t>文化障礙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不同生活環境生活孕育了不同的生活習慣，生活模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社會價值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宗教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消費習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教育結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華康行書體"/>
                <a:ea typeface="華康行書體"/>
              </a:rPr>
              <a:t>語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国际 市场</cp:keywords>
  <dc:language>en-US</dc:language>
  <cp:lastModifiedBy/>
  <cp:revision>0</cp:revision>
  <dc:subject/>
  <dc:title/>
</cp:coreProperties>
</file>