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5BE-41D4-4324-9995-10599326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1E1-40D9-4EF5-BB7B-61BFB688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3EB-6624-4F20-A888-B146A88D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BBF4-1311-4EB4-9F06-198C1834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54F2-D8C9-4F85-8B6A-BF5191BE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D774-9B58-4419-BEE3-8B1AFFC4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91ED-B1D2-444B-90F5-E210A369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9F21-76A0-4F37-AEA0-D95E0619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F2DB-6668-400B-9463-7101D96F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98DD-81BF-48A2-ADA1-9FC9A792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FA39-6304-44CF-BF28-F0E790C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CFD-B6C1-4B6A-BA6C-183D8C86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B35B-6E25-420F-9AD2-38067E3D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D156-3459-4A6E-BF5A-F2FD7BC5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2016-76A0-4F3E-BC53-D858D745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37B1-13C1-4936-BD0B-8E780A80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B2B7-16BC-45F2-B228-7008CE2B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953-9988-416D-AF12-6D57E15B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3A9-929D-431B-B228-32D5FB4E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18E-44F5-4A2B-A9B8-F7707DC1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B2C-24E6-4400-A857-4D7D6F66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451-0AC2-48D7-94CC-EF1B403F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718-E679-4F37-8EF8-504A6993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2F9-ACFD-43FE-AF53-8356E5B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73FF-9E5E-44AC-AAA8-F481D157D308}" type="slidenum">
              <a:rPr b="0" lang="zh-TW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F7E6-BD20-4F22-8D99-4C0141F7CF1B}" type="slidenum">
              <a:rPr b="0" lang="zh-TW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世界</cp:keywords>
  <dc:language>en-US</dc:language>
  <cp:lastModifiedBy/>
  <cp:revision>0</cp:revision>
  <dc:subject/>
  <dc:title/>
</cp:coreProperties>
</file>