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B9B8F8-22E1-47BA-9CB2-0E16D735D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861E2C-5D1C-43F4-9B6D-1747948DDF2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6E658A-3DF5-4180-9B13-4CC3FCFB35C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75BA5B-7733-4F28-9CDC-AED26175092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9F6ADE-8EFC-46DE-87B6-CBD5C9C7355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E6F64A-A75D-4740-9AEB-A857D56F720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5FA-153F-43B4-845E-A91FBC10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EC0D-7CC1-4803-9E98-245E4670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DD78-B775-4D52-A554-E5780A98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FBF7-D111-4927-9A66-9896B660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D229-F219-4333-8DBD-CF2CC936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4E495-3D90-4ACA-8304-4AABC898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4D86-1D38-4193-8287-9310C571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F571-1FBF-4583-B3D2-748038D8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008E-A97C-4AA8-9405-B1FE84D0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46E9-AEB4-4FA8-8AEA-89476D99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7382-7013-4EAF-BC39-B877F4FC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1D68-EEAA-4782-8E12-EC7A0B28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14E0-FDA6-4BFD-8D66-A4161EB9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4430-E17D-4DF3-ACC7-8D81223F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D610-8AB5-43AE-A3C5-71A359CE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273B-6899-46D6-B339-4F522EF64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148E-E46D-4C08-BDF6-5DB91ED2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7C8F1-057A-4415-A257-378155CA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40915-031F-45CD-A587-44F56246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58ABD-2AE3-4B80-86EF-65898570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523D0-F634-41E8-946D-ABB0EBC3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8328F-6770-4C88-8EE4-18A332E2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C14-D49B-418E-8B70-A48C99A4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3D307-BF80-47A2-8E09-FE042356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B2F20-82EE-4412-9BC9-3B717664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1BD11-79D0-455F-9E72-1A7C4FD4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77B11-6CFA-4BAB-9238-12CAAF33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9DC8D-829A-4FED-9E13-89776241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A5D2F-1CAB-4F45-BFAE-0E4B5685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F84AD-DDF1-44AA-B87A-A78892B6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32D7-0338-4756-9FBF-9243836F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626B-EACE-4EDE-BE05-98C16BA7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BEDF-6887-435E-9288-F3028296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009D-0AD3-4751-8F95-7A467F54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D22F-2375-4DA3-A021-A6A33CF4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8823-6718-4697-8577-6F144276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91F6E9-FDDC-419C-B41B-2DCEF84CE6D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A3D2A1-85EA-4918-AF51-5F962F880D8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6B71A9-7729-433C-A85C-9F5E750B392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C:/Users/cq43/Desktop/PPT&#21160;&#24577;&#31616;&#21382;/Linkin%20Park%20-%20Numb%20Encore.mp3" TargetMode="External"/><Relationship Id="rId2" Type="http://schemas.microsoft.com/office/2007/relationships/media" Target="file:///C:/Users/cq43/Desktop/PPT&#21160;&#24577;&#31616;&#21382;/Linkin%20Park%20-%20Numb%20Encore.mp3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7"/>
          <p:cNvSpPr/>
          <p:nvPr/>
        </p:nvSpPr>
        <p:spPr>
          <a:xfrm>
            <a:off x="2786040" y="5143680"/>
            <a:ext cx="5857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a6a6a6"/>
                </a:solidFill>
                <a:latin typeface="微软雅黑"/>
                <a:ea typeface="微软雅黑"/>
              </a:rPr>
              <a:t>The Maker</a:t>
            </a:r>
            <a:r>
              <a:rPr b="0" lang="zh-CN" sz="3600" spc="-1" strike="noStrike">
                <a:solidFill>
                  <a:srgbClr val="a6a6a6"/>
                </a:solidFill>
                <a:latin typeface="微软雅黑"/>
                <a:ea typeface="微软雅黑"/>
              </a:rPr>
              <a:t>：</a:t>
            </a:r>
            <a:r>
              <a:rPr b="0" lang="en-US" sz="36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X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6"/>
          <p:cNvSpPr/>
          <p:nvPr/>
        </p:nvSpPr>
        <p:spPr>
          <a:xfrm>
            <a:off x="71280" y="71280"/>
            <a:ext cx="6643440" cy="2928600"/>
          </a:xfrm>
          <a:custGeom>
            <a:avLst/>
            <a:gdLst>
              <a:gd name="textAreaLeft" fmla="*/ 0 w 6643440"/>
              <a:gd name="textAreaRight" fmla="*/ 6643800 w 6643440"/>
              <a:gd name="textAreaTop" fmla="*/ 0 h 2928600"/>
              <a:gd name="textAreaBottom" fmla="*/ 2928960 h 2928600"/>
            </a:gdLst>
            <a:ahLst/>
            <a:rect l="textAreaLeft" t="textAreaTop" r="textAreaRight" b="textAreaBottom"/>
            <a:pathLst>
              <a:path w="7197213" h="3746090">
                <a:moveTo>
                  <a:pt x="0" y="1725561"/>
                </a:moveTo>
                <a:lnTo>
                  <a:pt x="1194620" y="1725561"/>
                </a:lnTo>
                <a:lnTo>
                  <a:pt x="1268362" y="1356852"/>
                </a:lnTo>
                <a:lnTo>
                  <a:pt x="1283110" y="2035278"/>
                </a:lnTo>
                <a:lnTo>
                  <a:pt x="1460091" y="1106129"/>
                </a:lnTo>
                <a:lnTo>
                  <a:pt x="1533832" y="2050026"/>
                </a:lnTo>
                <a:lnTo>
                  <a:pt x="1607574" y="1460090"/>
                </a:lnTo>
                <a:lnTo>
                  <a:pt x="1651820" y="1784555"/>
                </a:lnTo>
                <a:lnTo>
                  <a:pt x="1814052" y="943897"/>
                </a:lnTo>
                <a:lnTo>
                  <a:pt x="1843549" y="2256503"/>
                </a:lnTo>
                <a:lnTo>
                  <a:pt x="1932039" y="1445342"/>
                </a:lnTo>
                <a:lnTo>
                  <a:pt x="1946787" y="1179871"/>
                </a:lnTo>
                <a:lnTo>
                  <a:pt x="2035278" y="2064774"/>
                </a:lnTo>
                <a:lnTo>
                  <a:pt x="2227007" y="383458"/>
                </a:lnTo>
                <a:cubicBezTo>
                  <a:pt x="2246758" y="1504334"/>
                  <a:pt x="2286000" y="2625040"/>
                  <a:pt x="2286000" y="3746090"/>
                </a:cubicBezTo>
                <a:lnTo>
                  <a:pt x="2462981" y="0"/>
                </a:lnTo>
                <a:lnTo>
                  <a:pt x="2654710" y="3480619"/>
                </a:lnTo>
                <a:lnTo>
                  <a:pt x="2831691" y="530942"/>
                </a:lnTo>
                <a:lnTo>
                  <a:pt x="3052916" y="2418736"/>
                </a:lnTo>
                <a:lnTo>
                  <a:pt x="3215149" y="943897"/>
                </a:lnTo>
                <a:lnTo>
                  <a:pt x="3451123" y="2256503"/>
                </a:lnTo>
                <a:lnTo>
                  <a:pt x="3554362" y="1238865"/>
                </a:lnTo>
                <a:lnTo>
                  <a:pt x="3731342" y="2934929"/>
                </a:lnTo>
                <a:lnTo>
                  <a:pt x="3805084" y="914400"/>
                </a:lnTo>
                <a:lnTo>
                  <a:pt x="3937820" y="2005781"/>
                </a:lnTo>
                <a:lnTo>
                  <a:pt x="3982065" y="2344994"/>
                </a:lnTo>
                <a:lnTo>
                  <a:pt x="4129549" y="1356852"/>
                </a:lnTo>
                <a:lnTo>
                  <a:pt x="4232787" y="2227007"/>
                </a:lnTo>
                <a:lnTo>
                  <a:pt x="4409768" y="1106129"/>
                </a:lnTo>
                <a:lnTo>
                  <a:pt x="4557252" y="2492478"/>
                </a:lnTo>
                <a:lnTo>
                  <a:pt x="4645742" y="1563329"/>
                </a:lnTo>
                <a:lnTo>
                  <a:pt x="4748981" y="2168013"/>
                </a:lnTo>
                <a:lnTo>
                  <a:pt x="5088194" y="1460090"/>
                </a:lnTo>
                <a:lnTo>
                  <a:pt x="5191432" y="1887794"/>
                </a:lnTo>
                <a:lnTo>
                  <a:pt x="5294671" y="1681316"/>
                </a:lnTo>
                <a:lnTo>
                  <a:pt x="5383162" y="1961536"/>
                </a:lnTo>
                <a:lnTo>
                  <a:pt x="5471652" y="1755058"/>
                </a:lnTo>
                <a:lnTo>
                  <a:pt x="7152968" y="1769807"/>
                </a:lnTo>
                <a:lnTo>
                  <a:pt x="7197213" y="1784555"/>
                </a:lnTo>
              </a:path>
            </a:pathLst>
          </a:custGeom>
          <a:noFill/>
          <a:ln cap="rnd" w="31750">
            <a:solidFill>
              <a:srgbClr val="000000">
                <a:alpha val="8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任意多边形 19"/>
          <p:cNvSpPr/>
          <p:nvPr/>
        </p:nvSpPr>
        <p:spPr>
          <a:xfrm>
            <a:off x="71280" y="71280"/>
            <a:ext cx="6643440" cy="2928600"/>
          </a:xfrm>
          <a:custGeom>
            <a:avLst/>
            <a:gdLst>
              <a:gd name="textAreaLeft" fmla="*/ 0 w 6643440"/>
              <a:gd name="textAreaRight" fmla="*/ 6643800 w 6643440"/>
              <a:gd name="textAreaTop" fmla="*/ 0 h 2928600"/>
              <a:gd name="textAreaBottom" fmla="*/ 2928960 h 2928600"/>
            </a:gdLst>
            <a:ahLst/>
            <a:rect l="textAreaLeft" t="textAreaTop" r="textAreaRight" b="textAreaBottom"/>
            <a:pathLst>
              <a:path w="7197213" h="3746090">
                <a:moveTo>
                  <a:pt x="0" y="1725561"/>
                </a:moveTo>
                <a:lnTo>
                  <a:pt x="1194620" y="1725561"/>
                </a:lnTo>
                <a:lnTo>
                  <a:pt x="1268362" y="1356852"/>
                </a:lnTo>
                <a:lnTo>
                  <a:pt x="1283110" y="2035278"/>
                </a:lnTo>
                <a:lnTo>
                  <a:pt x="1460091" y="1106129"/>
                </a:lnTo>
                <a:lnTo>
                  <a:pt x="1533832" y="2050026"/>
                </a:lnTo>
                <a:lnTo>
                  <a:pt x="1607574" y="1460090"/>
                </a:lnTo>
                <a:lnTo>
                  <a:pt x="1651820" y="1784555"/>
                </a:lnTo>
                <a:lnTo>
                  <a:pt x="1814052" y="943897"/>
                </a:lnTo>
                <a:lnTo>
                  <a:pt x="1843549" y="2256503"/>
                </a:lnTo>
                <a:lnTo>
                  <a:pt x="1932039" y="1445342"/>
                </a:lnTo>
                <a:lnTo>
                  <a:pt x="1946787" y="1179871"/>
                </a:lnTo>
                <a:lnTo>
                  <a:pt x="2035278" y="2064774"/>
                </a:lnTo>
                <a:lnTo>
                  <a:pt x="2227007" y="383458"/>
                </a:lnTo>
                <a:cubicBezTo>
                  <a:pt x="2246758" y="1504334"/>
                  <a:pt x="2286000" y="2625040"/>
                  <a:pt x="2286000" y="3746090"/>
                </a:cubicBezTo>
                <a:lnTo>
                  <a:pt x="2462981" y="0"/>
                </a:lnTo>
                <a:lnTo>
                  <a:pt x="2654710" y="3480619"/>
                </a:lnTo>
                <a:lnTo>
                  <a:pt x="2831691" y="530942"/>
                </a:lnTo>
                <a:lnTo>
                  <a:pt x="3052916" y="2418736"/>
                </a:lnTo>
                <a:lnTo>
                  <a:pt x="3215149" y="943897"/>
                </a:lnTo>
                <a:lnTo>
                  <a:pt x="3451123" y="2256503"/>
                </a:lnTo>
                <a:lnTo>
                  <a:pt x="3554362" y="1238865"/>
                </a:lnTo>
                <a:lnTo>
                  <a:pt x="3731342" y="2934929"/>
                </a:lnTo>
                <a:lnTo>
                  <a:pt x="3805084" y="914400"/>
                </a:lnTo>
                <a:lnTo>
                  <a:pt x="3937820" y="2005781"/>
                </a:lnTo>
                <a:lnTo>
                  <a:pt x="3982065" y="2344994"/>
                </a:lnTo>
                <a:lnTo>
                  <a:pt x="4129549" y="1356852"/>
                </a:lnTo>
                <a:lnTo>
                  <a:pt x="4232787" y="2227007"/>
                </a:lnTo>
                <a:lnTo>
                  <a:pt x="4409768" y="1106129"/>
                </a:lnTo>
                <a:lnTo>
                  <a:pt x="4557252" y="2492478"/>
                </a:lnTo>
                <a:lnTo>
                  <a:pt x="4645742" y="1563329"/>
                </a:lnTo>
                <a:lnTo>
                  <a:pt x="4748981" y="2168013"/>
                </a:lnTo>
                <a:lnTo>
                  <a:pt x="5088194" y="1460090"/>
                </a:lnTo>
                <a:lnTo>
                  <a:pt x="5191432" y="1887794"/>
                </a:lnTo>
                <a:lnTo>
                  <a:pt x="5294671" y="1681316"/>
                </a:lnTo>
                <a:lnTo>
                  <a:pt x="5383162" y="1961536"/>
                </a:lnTo>
                <a:lnTo>
                  <a:pt x="5471652" y="1755058"/>
                </a:lnTo>
                <a:lnTo>
                  <a:pt x="7152968" y="1769807"/>
                </a:lnTo>
                <a:lnTo>
                  <a:pt x="7197213" y="1784555"/>
                </a:lnTo>
              </a:path>
            </a:pathLst>
          </a:custGeom>
          <a:noFill/>
          <a:ln cap="rnd" w="31750">
            <a:solidFill>
              <a:srgbClr val="000000">
                <a:alpha val="8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任意多边形 20"/>
          <p:cNvSpPr/>
          <p:nvPr/>
        </p:nvSpPr>
        <p:spPr>
          <a:xfrm>
            <a:off x="71280" y="71280"/>
            <a:ext cx="6643440" cy="2928600"/>
          </a:xfrm>
          <a:custGeom>
            <a:avLst/>
            <a:gdLst>
              <a:gd name="textAreaLeft" fmla="*/ 0 w 6643440"/>
              <a:gd name="textAreaRight" fmla="*/ 6643800 w 6643440"/>
              <a:gd name="textAreaTop" fmla="*/ 0 h 2928600"/>
              <a:gd name="textAreaBottom" fmla="*/ 2928960 h 2928600"/>
            </a:gdLst>
            <a:ahLst/>
            <a:rect l="textAreaLeft" t="textAreaTop" r="textAreaRight" b="textAreaBottom"/>
            <a:pathLst>
              <a:path w="7197213" h="3746090">
                <a:moveTo>
                  <a:pt x="0" y="1725561"/>
                </a:moveTo>
                <a:lnTo>
                  <a:pt x="1194620" y="1725561"/>
                </a:lnTo>
                <a:lnTo>
                  <a:pt x="1268362" y="1356852"/>
                </a:lnTo>
                <a:lnTo>
                  <a:pt x="1283110" y="2035278"/>
                </a:lnTo>
                <a:lnTo>
                  <a:pt x="1460091" y="1106129"/>
                </a:lnTo>
                <a:lnTo>
                  <a:pt x="1533832" y="2050026"/>
                </a:lnTo>
                <a:lnTo>
                  <a:pt x="1607574" y="1460090"/>
                </a:lnTo>
                <a:lnTo>
                  <a:pt x="1651820" y="1784555"/>
                </a:lnTo>
                <a:lnTo>
                  <a:pt x="1814052" y="943897"/>
                </a:lnTo>
                <a:lnTo>
                  <a:pt x="1843549" y="2256503"/>
                </a:lnTo>
                <a:lnTo>
                  <a:pt x="1932039" y="1445342"/>
                </a:lnTo>
                <a:lnTo>
                  <a:pt x="1946787" y="1179871"/>
                </a:lnTo>
                <a:lnTo>
                  <a:pt x="2035278" y="2064774"/>
                </a:lnTo>
                <a:lnTo>
                  <a:pt x="2227007" y="383458"/>
                </a:lnTo>
                <a:cubicBezTo>
                  <a:pt x="2246758" y="1504334"/>
                  <a:pt x="2286000" y="2625040"/>
                  <a:pt x="2286000" y="3746090"/>
                </a:cubicBezTo>
                <a:lnTo>
                  <a:pt x="2462981" y="0"/>
                </a:lnTo>
                <a:lnTo>
                  <a:pt x="2654710" y="3480619"/>
                </a:lnTo>
                <a:lnTo>
                  <a:pt x="2831691" y="530942"/>
                </a:lnTo>
                <a:lnTo>
                  <a:pt x="3052916" y="2418736"/>
                </a:lnTo>
                <a:lnTo>
                  <a:pt x="3215149" y="943897"/>
                </a:lnTo>
                <a:lnTo>
                  <a:pt x="3451123" y="2256503"/>
                </a:lnTo>
                <a:lnTo>
                  <a:pt x="3554362" y="1238865"/>
                </a:lnTo>
                <a:lnTo>
                  <a:pt x="3731342" y="2934929"/>
                </a:lnTo>
                <a:lnTo>
                  <a:pt x="3805084" y="914400"/>
                </a:lnTo>
                <a:lnTo>
                  <a:pt x="3937820" y="2005781"/>
                </a:lnTo>
                <a:lnTo>
                  <a:pt x="3982065" y="2344994"/>
                </a:lnTo>
                <a:lnTo>
                  <a:pt x="4129549" y="1356852"/>
                </a:lnTo>
                <a:lnTo>
                  <a:pt x="4232787" y="2227007"/>
                </a:lnTo>
                <a:lnTo>
                  <a:pt x="4409768" y="1106129"/>
                </a:lnTo>
                <a:lnTo>
                  <a:pt x="4557252" y="2492478"/>
                </a:lnTo>
                <a:lnTo>
                  <a:pt x="4645742" y="1563329"/>
                </a:lnTo>
                <a:lnTo>
                  <a:pt x="4748981" y="2168013"/>
                </a:lnTo>
                <a:lnTo>
                  <a:pt x="5088194" y="1460090"/>
                </a:lnTo>
                <a:lnTo>
                  <a:pt x="5191432" y="1887794"/>
                </a:lnTo>
                <a:lnTo>
                  <a:pt x="5294671" y="1681316"/>
                </a:lnTo>
                <a:lnTo>
                  <a:pt x="5383162" y="1961536"/>
                </a:lnTo>
                <a:lnTo>
                  <a:pt x="5471652" y="1755058"/>
                </a:lnTo>
                <a:lnTo>
                  <a:pt x="7152968" y="1769807"/>
                </a:lnTo>
                <a:lnTo>
                  <a:pt x="7197213" y="1784555"/>
                </a:lnTo>
              </a:path>
            </a:pathLst>
          </a:custGeom>
          <a:noFill/>
          <a:ln cap="rnd" w="31750">
            <a:solidFill>
              <a:srgbClr val="000000">
                <a:alpha val="8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任意多边形 21"/>
          <p:cNvSpPr/>
          <p:nvPr/>
        </p:nvSpPr>
        <p:spPr>
          <a:xfrm>
            <a:off x="71280" y="71280"/>
            <a:ext cx="6643440" cy="2928600"/>
          </a:xfrm>
          <a:custGeom>
            <a:avLst/>
            <a:gdLst>
              <a:gd name="textAreaLeft" fmla="*/ 0 w 6643440"/>
              <a:gd name="textAreaRight" fmla="*/ 6643800 w 6643440"/>
              <a:gd name="textAreaTop" fmla="*/ 0 h 2928600"/>
              <a:gd name="textAreaBottom" fmla="*/ 2928960 h 2928600"/>
            </a:gdLst>
            <a:ahLst/>
            <a:rect l="textAreaLeft" t="textAreaTop" r="textAreaRight" b="textAreaBottom"/>
            <a:pathLst>
              <a:path w="7197213" h="3746090">
                <a:moveTo>
                  <a:pt x="0" y="1725561"/>
                </a:moveTo>
                <a:lnTo>
                  <a:pt x="1194620" y="1725561"/>
                </a:lnTo>
                <a:lnTo>
                  <a:pt x="1268362" y="1356852"/>
                </a:lnTo>
                <a:lnTo>
                  <a:pt x="1283110" y="2035278"/>
                </a:lnTo>
                <a:lnTo>
                  <a:pt x="1460091" y="1106129"/>
                </a:lnTo>
                <a:lnTo>
                  <a:pt x="1533832" y="2050026"/>
                </a:lnTo>
                <a:lnTo>
                  <a:pt x="1607574" y="1460090"/>
                </a:lnTo>
                <a:lnTo>
                  <a:pt x="1651820" y="1784555"/>
                </a:lnTo>
                <a:lnTo>
                  <a:pt x="1814052" y="943897"/>
                </a:lnTo>
                <a:lnTo>
                  <a:pt x="1843549" y="2256503"/>
                </a:lnTo>
                <a:lnTo>
                  <a:pt x="1932039" y="1445342"/>
                </a:lnTo>
                <a:lnTo>
                  <a:pt x="1946787" y="1179871"/>
                </a:lnTo>
                <a:lnTo>
                  <a:pt x="2035278" y="2064774"/>
                </a:lnTo>
                <a:lnTo>
                  <a:pt x="2227007" y="383458"/>
                </a:lnTo>
                <a:cubicBezTo>
                  <a:pt x="2246758" y="1504334"/>
                  <a:pt x="2286000" y="2625040"/>
                  <a:pt x="2286000" y="3746090"/>
                </a:cubicBezTo>
                <a:lnTo>
                  <a:pt x="2462981" y="0"/>
                </a:lnTo>
                <a:lnTo>
                  <a:pt x="2654710" y="3480619"/>
                </a:lnTo>
                <a:lnTo>
                  <a:pt x="2831691" y="530942"/>
                </a:lnTo>
                <a:lnTo>
                  <a:pt x="3052916" y="2418736"/>
                </a:lnTo>
                <a:lnTo>
                  <a:pt x="3215149" y="943897"/>
                </a:lnTo>
                <a:lnTo>
                  <a:pt x="3451123" y="2256503"/>
                </a:lnTo>
                <a:lnTo>
                  <a:pt x="3554362" y="1238865"/>
                </a:lnTo>
                <a:lnTo>
                  <a:pt x="3731342" y="2934929"/>
                </a:lnTo>
                <a:lnTo>
                  <a:pt x="3805084" y="914400"/>
                </a:lnTo>
                <a:lnTo>
                  <a:pt x="3937820" y="2005781"/>
                </a:lnTo>
                <a:lnTo>
                  <a:pt x="3982065" y="2344994"/>
                </a:lnTo>
                <a:lnTo>
                  <a:pt x="4129549" y="1356852"/>
                </a:lnTo>
                <a:lnTo>
                  <a:pt x="4232787" y="2227007"/>
                </a:lnTo>
                <a:lnTo>
                  <a:pt x="4409768" y="1106129"/>
                </a:lnTo>
                <a:lnTo>
                  <a:pt x="4557252" y="2492478"/>
                </a:lnTo>
                <a:lnTo>
                  <a:pt x="4645742" y="1563329"/>
                </a:lnTo>
                <a:lnTo>
                  <a:pt x="4748981" y="2168013"/>
                </a:lnTo>
                <a:lnTo>
                  <a:pt x="5088194" y="1460090"/>
                </a:lnTo>
                <a:lnTo>
                  <a:pt x="5191432" y="1887794"/>
                </a:lnTo>
                <a:lnTo>
                  <a:pt x="5294671" y="1681316"/>
                </a:lnTo>
                <a:lnTo>
                  <a:pt x="5383162" y="1961536"/>
                </a:lnTo>
                <a:lnTo>
                  <a:pt x="5471652" y="1755058"/>
                </a:lnTo>
                <a:lnTo>
                  <a:pt x="7152968" y="1769807"/>
                </a:lnTo>
                <a:lnTo>
                  <a:pt x="7197213" y="1784555"/>
                </a:lnTo>
              </a:path>
            </a:pathLst>
          </a:custGeom>
          <a:noFill/>
          <a:ln cap="rnd" w="31750">
            <a:solidFill>
              <a:srgbClr val="000000">
                <a:alpha val="8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任意多边形 22"/>
          <p:cNvSpPr/>
          <p:nvPr/>
        </p:nvSpPr>
        <p:spPr>
          <a:xfrm>
            <a:off x="71280" y="71280"/>
            <a:ext cx="6643440" cy="2928600"/>
          </a:xfrm>
          <a:custGeom>
            <a:avLst/>
            <a:gdLst>
              <a:gd name="textAreaLeft" fmla="*/ 0 w 6643440"/>
              <a:gd name="textAreaRight" fmla="*/ 6643800 w 6643440"/>
              <a:gd name="textAreaTop" fmla="*/ 0 h 2928600"/>
              <a:gd name="textAreaBottom" fmla="*/ 2928960 h 2928600"/>
            </a:gdLst>
            <a:ahLst/>
            <a:rect l="textAreaLeft" t="textAreaTop" r="textAreaRight" b="textAreaBottom"/>
            <a:pathLst>
              <a:path w="7197213" h="3746090">
                <a:moveTo>
                  <a:pt x="0" y="1725561"/>
                </a:moveTo>
                <a:lnTo>
                  <a:pt x="1194620" y="1725561"/>
                </a:lnTo>
                <a:lnTo>
                  <a:pt x="1268362" y="1356852"/>
                </a:lnTo>
                <a:lnTo>
                  <a:pt x="1283110" y="2035278"/>
                </a:lnTo>
                <a:lnTo>
                  <a:pt x="1460091" y="1106129"/>
                </a:lnTo>
                <a:lnTo>
                  <a:pt x="1533832" y="2050026"/>
                </a:lnTo>
                <a:lnTo>
                  <a:pt x="1607574" y="1460090"/>
                </a:lnTo>
                <a:lnTo>
                  <a:pt x="1651820" y="1784555"/>
                </a:lnTo>
                <a:lnTo>
                  <a:pt x="1814052" y="943897"/>
                </a:lnTo>
                <a:lnTo>
                  <a:pt x="1843549" y="2256503"/>
                </a:lnTo>
                <a:lnTo>
                  <a:pt x="1932039" y="1445342"/>
                </a:lnTo>
                <a:lnTo>
                  <a:pt x="1946787" y="1179871"/>
                </a:lnTo>
                <a:lnTo>
                  <a:pt x="2035278" y="2064774"/>
                </a:lnTo>
                <a:lnTo>
                  <a:pt x="2227007" y="383458"/>
                </a:lnTo>
                <a:cubicBezTo>
                  <a:pt x="2246758" y="1504334"/>
                  <a:pt x="2286000" y="2625040"/>
                  <a:pt x="2286000" y="3746090"/>
                </a:cubicBezTo>
                <a:lnTo>
                  <a:pt x="2462981" y="0"/>
                </a:lnTo>
                <a:lnTo>
                  <a:pt x="2654710" y="3480619"/>
                </a:lnTo>
                <a:lnTo>
                  <a:pt x="2831691" y="530942"/>
                </a:lnTo>
                <a:lnTo>
                  <a:pt x="3052916" y="2418736"/>
                </a:lnTo>
                <a:lnTo>
                  <a:pt x="3215149" y="943897"/>
                </a:lnTo>
                <a:lnTo>
                  <a:pt x="3451123" y="2256503"/>
                </a:lnTo>
                <a:lnTo>
                  <a:pt x="3554362" y="1238865"/>
                </a:lnTo>
                <a:lnTo>
                  <a:pt x="3731342" y="2934929"/>
                </a:lnTo>
                <a:lnTo>
                  <a:pt x="3805084" y="914400"/>
                </a:lnTo>
                <a:lnTo>
                  <a:pt x="3937820" y="2005781"/>
                </a:lnTo>
                <a:lnTo>
                  <a:pt x="3982065" y="2344994"/>
                </a:lnTo>
                <a:lnTo>
                  <a:pt x="4129549" y="1356852"/>
                </a:lnTo>
                <a:lnTo>
                  <a:pt x="4232787" y="2227007"/>
                </a:lnTo>
                <a:lnTo>
                  <a:pt x="4409768" y="1106129"/>
                </a:lnTo>
                <a:lnTo>
                  <a:pt x="4557252" y="2492478"/>
                </a:lnTo>
                <a:lnTo>
                  <a:pt x="4645742" y="1563329"/>
                </a:lnTo>
                <a:lnTo>
                  <a:pt x="4748981" y="2168013"/>
                </a:lnTo>
                <a:lnTo>
                  <a:pt x="5088194" y="1460090"/>
                </a:lnTo>
                <a:lnTo>
                  <a:pt x="5191432" y="1887794"/>
                </a:lnTo>
                <a:lnTo>
                  <a:pt x="5294671" y="1681316"/>
                </a:lnTo>
                <a:lnTo>
                  <a:pt x="5383162" y="1961536"/>
                </a:lnTo>
                <a:lnTo>
                  <a:pt x="5471652" y="1755058"/>
                </a:lnTo>
                <a:lnTo>
                  <a:pt x="7152968" y="1769807"/>
                </a:lnTo>
                <a:lnTo>
                  <a:pt x="7197213" y="1784555"/>
                </a:lnTo>
              </a:path>
            </a:pathLst>
          </a:custGeom>
          <a:noFill/>
          <a:ln cap="rnd" w="31750">
            <a:solidFill>
              <a:srgbClr val="000000">
                <a:alpha val="8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心形 23"/>
          <p:cNvSpPr/>
          <p:nvPr/>
        </p:nvSpPr>
        <p:spPr>
          <a:xfrm>
            <a:off x="1714320" y="785880"/>
            <a:ext cx="1356840" cy="1356840"/>
          </a:xfrm>
          <a:prstGeom prst="hear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心形 24"/>
          <p:cNvSpPr/>
          <p:nvPr/>
        </p:nvSpPr>
        <p:spPr>
          <a:xfrm>
            <a:off x="1714320" y="785880"/>
            <a:ext cx="1356840" cy="1356840"/>
          </a:xfrm>
          <a:prstGeom prst="hear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心形 25"/>
          <p:cNvSpPr/>
          <p:nvPr/>
        </p:nvSpPr>
        <p:spPr>
          <a:xfrm>
            <a:off x="1714320" y="785880"/>
            <a:ext cx="1356840" cy="1356840"/>
          </a:xfrm>
          <a:prstGeom prst="hear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心形 26"/>
          <p:cNvSpPr/>
          <p:nvPr/>
        </p:nvSpPr>
        <p:spPr>
          <a:xfrm>
            <a:off x="1714320" y="785880"/>
            <a:ext cx="1356840" cy="1356840"/>
          </a:xfrm>
          <a:prstGeom prst="hear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心形 1"/>
          <p:cNvSpPr/>
          <p:nvPr/>
        </p:nvSpPr>
        <p:spPr>
          <a:xfrm>
            <a:off x="1714320" y="785880"/>
            <a:ext cx="1356840" cy="1356840"/>
          </a:xfrm>
          <a:prstGeom prst="hear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4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429760" y="59745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8"/>
          <p:cNvSpPr/>
          <p:nvPr/>
        </p:nvSpPr>
        <p:spPr>
          <a:xfrm>
            <a:off x="2857320" y="5143680"/>
            <a:ext cx="5857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Maker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8"/>
          <p:cNvSpPr/>
          <p:nvPr/>
        </p:nvSpPr>
        <p:spPr>
          <a:xfrm>
            <a:off x="2857320" y="5143680"/>
            <a:ext cx="5857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Maker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6"/>
          <p:cNvSpPr/>
          <p:nvPr/>
        </p:nvSpPr>
        <p:spPr>
          <a:xfrm>
            <a:off x="928800" y="2857320"/>
            <a:ext cx="2356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爱发呆，爱搞怪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7"/>
          <p:cNvSpPr/>
          <p:nvPr/>
        </p:nvSpPr>
        <p:spPr>
          <a:xfrm>
            <a:off x="1214280" y="3429000"/>
            <a:ext cx="5143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喜欢胡思乱想，也总有一些新奇的想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9"/>
          <p:cNvSpPr/>
          <p:nvPr/>
        </p:nvSpPr>
        <p:spPr>
          <a:xfrm>
            <a:off x="1214280" y="3857760"/>
            <a:ext cx="2999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幻想家，也是行动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0"/>
          <p:cNvSpPr/>
          <p:nvPr/>
        </p:nvSpPr>
        <p:spPr>
          <a:xfrm>
            <a:off x="1571760" y="4386240"/>
            <a:ext cx="4071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做我的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R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怎么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" fill="hold"/>
                                        <p:tgtEl>
                                          <p:spTgt spid="139"/>
                                        </p:tgtEl>
                                      </p:cBhvr>
                                      <p:by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3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2" presetSubtype="8">
                                  <p:stCondLst>
                                    <p:cond delay="1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7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9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100" fill="hold"/>
                                        <p:tgtEl>
                                          <p:spTgt spid="135"/>
                                        </p:tgtEl>
                                      </p:cBhvr>
                                      <p:by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3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22" presetSubtype="8">
                                  <p:stCondLst>
                                    <p:cond delay="1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7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100" fill="hold"/>
                                        <p:tgtEl>
                                          <p:spTgt spid="136"/>
                                        </p:tgtEl>
                                      </p:cBhvr>
                                      <p:by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8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22" presetSubtype="8">
                                  <p:stCondLst>
                                    <p:cond delay="1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2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48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300"/>
                            </p:stCondLst>
                            <p:childTnLst>
                              <p:par>
                                <p:cTn id="59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100" fill="hold"/>
                                        <p:tgtEl>
                                          <p:spTgt spid="137"/>
                                        </p:tgtEl>
                                      </p:cBhvr>
                                      <p:by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6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600"/>
                            </p:stCondLst>
                            <p:childTnLst>
                              <p:par>
                                <p:cTn id="65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9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97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9700"/>
                            </p:stCondLst>
                            <p:childTnLst>
                              <p:par>
                                <p:cTn id="76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100" fill="hold"/>
                                        <p:tgtEl>
                                          <p:spTgt spid="138"/>
                                        </p:tgtEl>
                                      </p:cBhvr>
                                      <p:by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2" presetSubtype="8">
                                  <p:stCondLst>
                                    <p:cond delay="1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4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path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animMotion origin="layout" path="M -8.33333E-007 0.12578 L -8.33333E-007 -2.48555E-006 E">
                                      <p:cBhvr>
                                        <p:cTn id="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7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700"/>
                                  </p:stCondLst>
                                  <p:iterate type="wd">
                                    <p:tmAbs val="1.5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6">
                                  <p:stCondLst>
                                    <p:cond delay="7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Scale>
                                      <p:cBhvr>
                                        <p:cTn id="96" dur="1000" fill="hold"/>
                                        <p:tgtEl>
                                          <p:spTgt spid="129"/>
                                        </p:tgtEl>
                                      </p:cBhvr>
                                      <p:by x="260000" y="260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path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Motion origin="layout" path="M -1.94444E-006 -0.15746 L -1.94444E-006 1.6763E-006 E">
                                      <p:cBhvr>
                                        <p:cTn id="10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270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37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矩形 1"/>
          <p:cNvSpPr/>
          <p:nvPr/>
        </p:nvSpPr>
        <p:spPr>
          <a:xfrm rot="5400000">
            <a:off x="2647440" y="134532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4" name="矩形 2"/>
          <p:cNvSpPr/>
          <p:nvPr/>
        </p:nvSpPr>
        <p:spPr>
          <a:xfrm rot="5400000">
            <a:off x="3719160" y="136152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5" name="矩形 3"/>
          <p:cNvSpPr/>
          <p:nvPr/>
        </p:nvSpPr>
        <p:spPr>
          <a:xfrm rot="5400000">
            <a:off x="4790880" y="134532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6" name="矩形 4"/>
          <p:cNvSpPr/>
          <p:nvPr/>
        </p:nvSpPr>
        <p:spPr>
          <a:xfrm rot="5400000">
            <a:off x="5933880" y="134532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7" name="矩形 5"/>
          <p:cNvSpPr/>
          <p:nvPr/>
        </p:nvSpPr>
        <p:spPr>
          <a:xfrm rot="5400000">
            <a:off x="2647440" y="236160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8" name="矩形 6"/>
          <p:cNvSpPr/>
          <p:nvPr/>
        </p:nvSpPr>
        <p:spPr>
          <a:xfrm rot="5400000">
            <a:off x="3719160" y="236160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9" name="矩形 7"/>
          <p:cNvSpPr/>
          <p:nvPr/>
        </p:nvSpPr>
        <p:spPr>
          <a:xfrm rot="5400000">
            <a:off x="4790880" y="236160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0" name="矩形 8"/>
          <p:cNvSpPr/>
          <p:nvPr/>
        </p:nvSpPr>
        <p:spPr>
          <a:xfrm rot="5400000">
            <a:off x="5933880" y="236160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1" name="矩形 9"/>
          <p:cNvSpPr/>
          <p:nvPr/>
        </p:nvSpPr>
        <p:spPr>
          <a:xfrm rot="5400000">
            <a:off x="2647440" y="348840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2" name="矩形 10"/>
          <p:cNvSpPr/>
          <p:nvPr/>
        </p:nvSpPr>
        <p:spPr>
          <a:xfrm rot="5400000">
            <a:off x="3719160" y="350028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3" name="矩形 11"/>
          <p:cNvSpPr/>
          <p:nvPr/>
        </p:nvSpPr>
        <p:spPr>
          <a:xfrm rot="5400000">
            <a:off x="4790880" y="350460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4" name="矩形 12"/>
          <p:cNvSpPr/>
          <p:nvPr/>
        </p:nvSpPr>
        <p:spPr>
          <a:xfrm rot="5400000">
            <a:off x="5933880" y="350460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5" name="矩形 13"/>
          <p:cNvSpPr/>
          <p:nvPr/>
        </p:nvSpPr>
        <p:spPr>
          <a:xfrm rot="5400000">
            <a:off x="2647440" y="456012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6" name="矩形 14"/>
          <p:cNvSpPr/>
          <p:nvPr/>
        </p:nvSpPr>
        <p:spPr>
          <a:xfrm rot="5400000">
            <a:off x="3702960" y="457632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7" name="矩形 15"/>
          <p:cNvSpPr/>
          <p:nvPr/>
        </p:nvSpPr>
        <p:spPr>
          <a:xfrm rot="5400000">
            <a:off x="4790880" y="457632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8" name="矩形 16"/>
          <p:cNvSpPr/>
          <p:nvPr/>
        </p:nvSpPr>
        <p:spPr>
          <a:xfrm rot="5400000">
            <a:off x="5933880" y="457632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9" name="TextBox 17"/>
          <p:cNvSpPr/>
          <p:nvPr/>
        </p:nvSpPr>
        <p:spPr>
          <a:xfrm>
            <a:off x="2786040" y="428760"/>
            <a:ext cx="2714400" cy="46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0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18"/>
          <p:cNvSpPr/>
          <p:nvPr/>
        </p:nvSpPr>
        <p:spPr>
          <a:xfrm>
            <a:off x="4643280" y="2428920"/>
            <a:ext cx="17856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灵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19"/>
          <p:cNvSpPr/>
          <p:nvPr/>
        </p:nvSpPr>
        <p:spPr>
          <a:xfrm>
            <a:off x="4500720" y="3286080"/>
            <a:ext cx="26427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x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0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7362E-019 -5.72254E-006 C 0.00556 -0.04741 0.01129 -0.0948 -0.02066 -0.10567 C -0.05261 -0.11654 -0.13021 -0.06012 -0.19202 -0.06567 C -0.254 -0.07122 -0.35504 -0.11191 -0.39202 -0.13966 C -0.429 -0.16741 -0.40851 -0.21527 -0.41424 -0.23238 C -0.41997 -0.24995 -0.42344 -0.24671 -0.42691 -0.24324 E">
                                      <p:cBhvr>
                                        <p:cTn id="1284" dur="9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5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42775E-006 C 0.03855 0.04554 0.07709 0.09109 0.11737 0.09942 C 0.15764 0.10774 0.20434 0.09248 0.24132 0.05063 C 0.2783 0.00878 0.31337 -0.11654 0.33959 -0.15214 C 0.3658 -0.18775 0.37101 -0.17966 0.39844 -0.16278 C 0.42587 -0.1459 0.48403 -0.07237 0.50469 -0.05064 C 0.52535 -0.02891 0.52379 -0.03029 0.52223 -0.03168 E">
                                      <p:cBhvr>
                                        <p:cTn id="1286" dur="11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7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6.12717E-006 C 0.04115 0.03098 0.08247 0.06219 0.09063 0.09317 C 0.09879 0.12416 0.04184 0.15838 0.04931 0.18612 C 0.05678 0.21387 0.0882 0.25202 0.13507 0.26011 C 0.18195 0.2682 0.29115 0.23999 0.33021 0.23468 C 0.36928 0.22936 0.36181 0.22936 0.36997 0.22843 E">
                                      <p:cBhvr>
                                        <p:cTn id="1288" dur="9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9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56647E-006 C -0.03838 -0.01734 -0.07674 -0.03445 -0.09532 -0.01896 C -0.11407 -0.00347 -0.11216 0.05318 -0.11112 0.09295 C -0.11008 0.13272 -0.07032 0.19746 -0.0889 0.21988 C -0.10747 0.24231 -0.19081 0.2289 -0.22223 0.22821 C -0.25383 0.22751 -0.26095 0.21942 -0.27779 0.21549 C -0.29463 0.21156 -0.30869 0.20994 -0.32379 0.20509 C -0.33907 0.20023 -0.36181 0.19075 -0.3698 0.1859 E">
                                      <p:cBhvr>
                                        <p:cTn id="1290" dur="9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1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27168E-006 C 0.05296 -0.04208 0.10608 -0.08393 0.10955 -0.10798 C 0.11303 -0.13202 0.04323 -0.11769 0.02066 -0.14381 C -0.0019 -0.16994 -0.01822 -0.243 -0.02534 -0.26428 E">
                                      <p:cBhvr>
                                        <p:cTn id="1292" dur="9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3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4104E-006 C 0.03455 -0.02358 0.0691 -0.04717 0.08733 -0.06983 C 0.10556 -0.09248 0.08872 -0.11445 0.10955 -0.13526 C 0.13038 -0.15607 0.19722 -0.1785 0.21285 -0.19445 C 0.22847 -0.2104 0.21858 -0.21642 0.2033 -0.23052 C 0.18802 -0.24462 0.13698 -0.27306 0.12066 -0.27907 C 0.10434 -0.28509 0.10781 -0.26844 0.10486 -0.26636 E">
                                      <p:cBhvr>
                                        <p:cTn id="1294" dur="11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5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00185 C -0.01875 0.03538 -0.03577 0.07261 -0.04445 0.10174 C -0.05313 0.13087 -0.02917 0.18729 -0.05399 0.17365 C -0.07882 0.16 -0.16146 0.04625 -0.19375 0.01943 C -0.22605 -0.00739 -0.23664 0.00902 -0.24775 0.01295 C -0.25886 0.01688 -0.25417 0.02891 -0.26042 0.04255 C -0.26667 0.05619 -0.26841 0.08694 -0.28577 0.0955 C -0.30313 0.10405 -0.34879 0.09365 -0.36511 0.09342 C -0.38143 0.09318 -0.38073 0.09342 -0.38421 0.09342 E">
                                      <p:cBhvr>
                                        <p:cTn id="1296" dur="9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7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27746E-006 C 0.0526 -0.04624 0.10538 -0.09249 0.13004 -0.12277 C 0.15469 -0.15306 0.13733 -0.16763 0.14757 -0.18196 C 0.15781 -0.1963 0.17448 -0.21919 0.19201 -0.20925 C 0.20955 -0.19931 0.23906 -0.14312 0.25226 -0.12277 C 0.26545 -0.10243 0.26233 -0.10335 0.27135 -0.0867 C 0.28038 -0.07006 0.29201 -0.04439 0.30625 -0.02335 C 0.32049 -0.00231 0.34635 0.03075 0.35712 0.04 C 0.36788 0.04925 0.36771 0.03838 0.37135 0.03168 C 0.375 0.02497 0.37743 0.00879 0.37934 4.27746E-006 C 0.38125 -0.00879 0.38177 -0.01503 0.38247 -0.02127 E">
                                      <p:cBhvr>
                                        <p:cTn id="1298" dur="11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9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38728E-006 C -0.04201 -0.04046 -0.08385 -0.08093 -0.07135 -0.09711 C -0.05885 -0.1133 0.04479 -0.11122 0.07465 -0.09711 C 0.10452 -0.08301 0.10261 -0.04023 0.10799 -0.01272 C 0.11337 0.0148 0.09601 0.04971 0.10643 0.06774 C 0.11684 0.08578 0.15382 0.09063 0.16997 0.09526 C 0.18611 0.09988 0.18542 0.09457 0.2033 0.09526 C 0.22118 0.09595 0.24688 0.10497 0.27778 0.09942 C 0.30868 0.09387 0.37031 0.06751 0.38889 0.06127 E">
                                      <p:cBhvr>
                                        <p:cTn id="1300" dur="9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1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37572E-006 C -0.03994 -0.05342 -0.07987 -0.10683 -0.10799 -0.13319 C -0.13612 -0.15955 -0.13247 -0.15446 -0.16824 -0.15839 C -0.204 -0.16232 -0.29428 -0.15631 -0.32206 -0.15631 C -0.35018 -0.15631 -0.33108 -0.15423 -0.33647 -0.15839 C -0.34167 -0.16255 -0.34792 -0.17226 -0.354 -0.18174 E">
                                      <p:cBhvr>
                                        <p:cTn id="1302" dur="9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3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27746E-006 C -0.03629 0.04393 -0.0724 0.08809 -0.09045 0.12046 C -0.10851 0.15283 -0.10399 0.1748 -0.10799 0.19445 C -0.11198 0.21411 -0.11424 0.22544 -0.11441 0.23885 C -0.11458 0.25226 -0.11372 0.26289 -0.10955 0.27492 C -0.10538 0.28694 -0.09392 0.30266 -0.08889 0.31075 C -0.08385 0.31885 -0.08351 0.32 -0.07934 0.32347 C -0.07517 0.32694 -0.06944 0.32948 -0.06354 0.33203 E">
                                      <p:cBhvr>
                                        <p:cTn id="1304" dur="11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5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5.20231E-006 C 0.0243 0.02103 0.04861 0.04207 0.04757 0.09733 C 0.04653 0.15259 0.00243 0.29294 -0.00625 0.33202 E">
                                      <p:cBhvr>
                                        <p:cTn id="1306" dur="9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7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0.17295 C 0.12778 0.29388 0.25677 0.41503 0.20677 0.50058 C 0.15677 0.58613 -0.07222 0.63631 -0.30121 0.68648 E">
                                      <p:cBhvr>
                                        <p:cTn id="130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9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42 0.16024 C 0.10625 0.26983 0.22309 0.37966 0.33559 0.37365 C 0.44809 0.36763 0.55608 0.24578 0.66424 0.12417 E">
                                      <p:cBhvr>
                                        <p:cTn id="1310" dur="9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1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4966 -0.01873 -0.29931 -0.03722 -0.28108 -0.10358 C -0.26285 -0.17017 -0.07674 -0.28485 0.10937 -0.39953 E">
                                      <p:cBhvr>
                                        <p:cTn id="1312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3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1988 C 0.12587 0.0518 0.25191 0.1237 0.30087 0.04879 C 0.35 -0.02612 0.32222 -0.24739 0.29462 -0.46867 E">
                                      <p:cBhvr>
                                        <p:cTn id="1314" dur="8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5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5.78035E-007 C 0.05678 0.18936 0.11355 0.37873 0.16355 0.47352 C 0.21355 0.56832 0.25678 0.56832 0.30001 0.56855 E">
                                      <p:cBhvr>
                                        <p:cTn id="1316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7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37572E-006 C 0.08837 0.11514 0.17691 0.23028 0.28403 0.24924 C 0.39115 0.2682 0.51702 0.19098 0.64288 0.11398 E">
                                      <p:cBhvr>
                                        <p:cTn id="131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100"/>
                            </p:stCondLst>
                            <p:childTnLst>
                              <p:par>
                                <p:cTn id="132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1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9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9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3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Box 9"/>
          <p:cNvSpPr/>
          <p:nvPr/>
        </p:nvSpPr>
        <p:spPr>
          <a:xfrm>
            <a:off x="1571760" y="1000080"/>
            <a:ext cx="2071440" cy="38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3" name="直接连接符 11"/>
          <p:cNvCxnSpPr/>
          <p:nvPr/>
        </p:nvCxnSpPr>
        <p:spPr>
          <a:xfrm>
            <a:off x="1857240" y="1930320"/>
            <a:ext cx="1214640" cy="180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694" name="直接连接符 14"/>
          <p:cNvCxnSpPr/>
          <p:nvPr/>
        </p:nvCxnSpPr>
        <p:spPr>
          <a:xfrm flipH="1">
            <a:off x="2143080" y="1930320"/>
            <a:ext cx="928800" cy="214344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695" name="直接连接符 18"/>
          <p:cNvCxnSpPr/>
          <p:nvPr/>
        </p:nvCxnSpPr>
        <p:spPr>
          <a:xfrm>
            <a:off x="2143080" y="4073400"/>
            <a:ext cx="285840" cy="180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696" name="直接连接符 21"/>
          <p:cNvCxnSpPr/>
          <p:nvPr/>
        </p:nvCxnSpPr>
        <p:spPr>
          <a:xfrm flipV="1">
            <a:off x="1856520" y="1715760"/>
            <a:ext cx="1080" cy="21564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697" name="直接连接符 25"/>
          <p:cNvCxnSpPr/>
          <p:nvPr/>
        </p:nvCxnSpPr>
        <p:spPr>
          <a:xfrm>
            <a:off x="1857240" y="1714320"/>
            <a:ext cx="1500480" cy="180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698" name="直接连接符 30"/>
          <p:cNvCxnSpPr/>
          <p:nvPr/>
        </p:nvCxnSpPr>
        <p:spPr>
          <a:xfrm flipH="1">
            <a:off x="2428560" y="1715760"/>
            <a:ext cx="929160" cy="235800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699" name="直接连接符 34"/>
          <p:cNvCxnSpPr/>
          <p:nvPr/>
        </p:nvCxnSpPr>
        <p:spPr>
          <a:xfrm flipH="1" flipV="1">
            <a:off x="0" y="1714320"/>
            <a:ext cx="1857600" cy="180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  <p:cxnSp>
        <p:nvCxnSpPr>
          <p:cNvPr id="700" name="直接连接符 36"/>
          <p:cNvCxnSpPr/>
          <p:nvPr/>
        </p:nvCxnSpPr>
        <p:spPr>
          <a:xfrm>
            <a:off x="2428560" y="4071600"/>
            <a:ext cx="10001880" cy="2160"/>
          </a:xfrm>
          <a:prstGeom prst="straightConnector1">
            <a:avLst/>
          </a:prstGeom>
          <a:ln w="12700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0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图片 9" descr="SHIP_vector (1).jpg"/>
          <p:cNvPicPr/>
          <p:nvPr/>
        </p:nvPicPr>
        <p:blipFill>
          <a:blip r:embed="rId1"/>
          <a:stretch/>
        </p:blipFill>
        <p:spPr>
          <a:xfrm>
            <a:off x="2071800" y="2214720"/>
            <a:ext cx="2714400" cy="2714400"/>
          </a:xfrm>
          <a:prstGeom prst="rect">
            <a:avLst/>
          </a:prstGeom>
          <a:ln w="0">
            <a:noFill/>
          </a:ln>
        </p:spPr>
      </p:pic>
      <p:grpSp>
        <p:nvGrpSpPr>
          <p:cNvPr id="702" name="组合 19"/>
          <p:cNvGrpSpPr/>
          <p:nvPr/>
        </p:nvGrpSpPr>
        <p:grpSpPr>
          <a:xfrm>
            <a:off x="0" y="1000080"/>
            <a:ext cx="3643200" cy="3899160"/>
            <a:chOff x="0" y="1000080"/>
            <a:chExt cx="3643200" cy="3899160"/>
          </a:xfrm>
        </p:grpSpPr>
        <p:grpSp>
          <p:nvGrpSpPr>
            <p:cNvPr id="703" name="组合 11"/>
            <p:cNvGrpSpPr/>
            <p:nvPr/>
          </p:nvGrpSpPr>
          <p:grpSpPr>
            <a:xfrm>
              <a:off x="1571760" y="1000080"/>
              <a:ext cx="2071440" cy="3899160"/>
              <a:chOff x="1571760" y="1000080"/>
              <a:chExt cx="2071440" cy="3899160"/>
            </a:xfrm>
          </p:grpSpPr>
          <p:sp>
            <p:nvSpPr>
              <p:cNvPr id="704" name="TextBox 1"/>
              <p:cNvSpPr/>
              <p:nvPr/>
            </p:nvSpPr>
            <p:spPr>
              <a:xfrm>
                <a:off x="1571760" y="1000080"/>
                <a:ext cx="2071440" cy="38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5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25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05" name="直接连接符 2"/>
              <p:cNvCxnSpPr/>
              <p:nvPr/>
            </p:nvCxnSpPr>
            <p:spPr>
              <a:xfrm>
                <a:off x="1857240" y="1930320"/>
                <a:ext cx="1214640" cy="180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round/>
              </a:ln>
            </p:spPr>
          </p:cxnSp>
          <p:cxnSp>
            <p:nvCxnSpPr>
              <p:cNvPr id="706" name="直接连接符 3"/>
              <p:cNvCxnSpPr/>
              <p:nvPr/>
            </p:nvCxnSpPr>
            <p:spPr>
              <a:xfrm flipH="1">
                <a:off x="2143080" y="1930320"/>
                <a:ext cx="928800" cy="214344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round/>
              </a:ln>
            </p:spPr>
          </p:cxnSp>
          <p:cxnSp>
            <p:nvCxnSpPr>
              <p:cNvPr id="707" name="直接连接符 4"/>
              <p:cNvCxnSpPr/>
              <p:nvPr/>
            </p:nvCxnSpPr>
            <p:spPr>
              <a:xfrm>
                <a:off x="2143080" y="4073400"/>
                <a:ext cx="285840" cy="180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round/>
              </a:ln>
            </p:spPr>
          </p:cxnSp>
          <p:cxnSp>
            <p:nvCxnSpPr>
              <p:cNvPr id="708" name="直接连接符 5"/>
              <p:cNvCxnSpPr/>
              <p:nvPr/>
            </p:nvCxnSpPr>
            <p:spPr>
              <a:xfrm flipV="1">
                <a:off x="1856520" y="1715760"/>
                <a:ext cx="1080" cy="21564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round/>
              </a:ln>
            </p:spPr>
          </p:cxnSp>
          <p:cxnSp>
            <p:nvCxnSpPr>
              <p:cNvPr id="709" name="直接连接符 6"/>
              <p:cNvCxnSpPr/>
              <p:nvPr/>
            </p:nvCxnSpPr>
            <p:spPr>
              <a:xfrm>
                <a:off x="1857240" y="1714320"/>
                <a:ext cx="1500480" cy="180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round/>
              </a:ln>
            </p:spPr>
          </p:cxnSp>
          <p:cxnSp>
            <p:nvCxnSpPr>
              <p:cNvPr id="710" name="直接连接符 7"/>
              <p:cNvCxnSpPr/>
              <p:nvPr/>
            </p:nvCxnSpPr>
            <p:spPr>
              <a:xfrm flipH="1">
                <a:off x="2428560" y="1715760"/>
                <a:ext cx="929160" cy="235800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round/>
              </a:ln>
            </p:spPr>
          </p:cxnSp>
        </p:grpSp>
        <p:cxnSp>
          <p:nvCxnSpPr>
            <p:cNvPr id="711" name="直接连接符 8"/>
            <p:cNvCxnSpPr/>
            <p:nvPr/>
          </p:nvCxnSpPr>
          <p:spPr>
            <a:xfrm flipH="1" flipV="1">
              <a:off x="0" y="1714320"/>
              <a:ext cx="1857600" cy="1800"/>
            </a:xfrm>
            <a:prstGeom prst="straightConnector1">
              <a:avLst/>
            </a:prstGeom>
            <a:ln w="12700">
              <a:solidFill>
                <a:srgbClr val="000000"/>
              </a:solidFill>
              <a:round/>
            </a:ln>
          </p:spPr>
        </p:cxnSp>
      </p:grpSp>
      <p:grpSp>
        <p:nvGrpSpPr>
          <p:cNvPr id="712" name="组合 23"/>
          <p:cNvGrpSpPr/>
          <p:nvPr/>
        </p:nvGrpSpPr>
        <p:grpSpPr>
          <a:xfrm>
            <a:off x="3214800" y="2571840"/>
            <a:ext cx="1571400" cy="577080"/>
            <a:chOff x="3214800" y="2571840"/>
            <a:chExt cx="1571400" cy="577080"/>
          </a:xfrm>
        </p:grpSpPr>
        <p:sp>
          <p:nvSpPr>
            <p:cNvPr id="713" name="TextBox 21"/>
            <p:cNvSpPr/>
            <p:nvPr/>
          </p:nvSpPr>
          <p:spPr>
            <a:xfrm>
              <a:off x="3214800" y="2571840"/>
              <a:ext cx="15714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GO!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右箭头 22"/>
            <p:cNvSpPr/>
            <p:nvPr/>
          </p:nvSpPr>
          <p:spPr>
            <a:xfrm>
              <a:off x="4214880" y="2786040"/>
              <a:ext cx="356760" cy="21384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715" name="组合 33"/>
          <p:cNvGrpSpPr/>
          <p:nvPr/>
        </p:nvGrpSpPr>
        <p:grpSpPr>
          <a:xfrm>
            <a:off x="2285640" y="2143080"/>
            <a:ext cx="10930320" cy="1930320"/>
            <a:chOff x="2285640" y="2143080"/>
            <a:chExt cx="10930320" cy="1930320"/>
          </a:xfrm>
        </p:grpSpPr>
        <p:cxnSp>
          <p:nvCxnSpPr>
            <p:cNvPr id="716" name="直接连接符 10"/>
            <p:cNvCxnSpPr/>
            <p:nvPr/>
          </p:nvCxnSpPr>
          <p:spPr>
            <a:xfrm>
              <a:off x="2285640" y="4071600"/>
              <a:ext cx="8286120" cy="2160"/>
            </a:xfrm>
            <a:prstGeom prst="straightConnector1">
              <a:avLst/>
            </a:prstGeom>
            <a:ln w="12700">
              <a:solidFill>
                <a:srgbClr val="000000"/>
              </a:solidFill>
              <a:round/>
            </a:ln>
          </p:spPr>
        </p:cxnSp>
        <p:grpSp>
          <p:nvGrpSpPr>
            <p:cNvPr id="717" name="组合 32"/>
            <p:cNvGrpSpPr/>
            <p:nvPr/>
          </p:nvGrpSpPr>
          <p:grpSpPr>
            <a:xfrm>
              <a:off x="10571400" y="2143080"/>
              <a:ext cx="2644560" cy="1930320"/>
              <a:chOff x="10571400" y="2143080"/>
              <a:chExt cx="2644560" cy="1930320"/>
            </a:xfrm>
          </p:grpSpPr>
          <p:cxnSp>
            <p:nvCxnSpPr>
              <p:cNvPr id="718" name="直接连接符 29"/>
              <p:cNvCxnSpPr/>
              <p:nvPr/>
            </p:nvCxnSpPr>
            <p:spPr>
              <a:xfrm flipV="1">
                <a:off x="10571400" y="2144520"/>
                <a:ext cx="1499040" cy="192924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round/>
              </a:ln>
            </p:spPr>
          </p:cxnSp>
          <p:cxnSp>
            <p:nvCxnSpPr>
              <p:cNvPr id="719" name="直接连接符 31"/>
              <p:cNvCxnSpPr/>
              <p:nvPr/>
            </p:nvCxnSpPr>
            <p:spPr>
              <a:xfrm>
                <a:off x="12070080" y="2143080"/>
                <a:ext cx="1146240" cy="180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  <a:round/>
              </a:ln>
            </p:spPr>
          </p:cxnSp>
        </p:grpSp>
      </p:grpSp>
      <p:sp>
        <p:nvSpPr>
          <p:cNvPr id="720" name="TextBox 34"/>
          <p:cNvSpPr/>
          <p:nvPr/>
        </p:nvSpPr>
        <p:spPr>
          <a:xfrm>
            <a:off x="8215200" y="2214720"/>
            <a:ext cx="928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969"/>
          <p:cNvSpPr/>
          <p:nvPr/>
        </p:nvSpPr>
        <p:spPr>
          <a:xfrm flipH="1">
            <a:off x="11872440" y="1074600"/>
            <a:ext cx="234720" cy="171000"/>
          </a:xfrm>
          <a:custGeom>
            <a:avLst/>
            <a:gdLst>
              <a:gd name="textAreaLeft" fmla="*/ 360 w 234720"/>
              <a:gd name="textAreaRight" fmla="*/ 235440 w 234720"/>
              <a:gd name="textAreaTop" fmla="*/ 0 h 171000"/>
              <a:gd name="textAreaBottom" fmla="*/ 171360 h 171000"/>
            </a:gdLst>
            <a:ahLst/>
            <a:rect l="textAreaLeft" t="textAreaTop" r="textAreaRight" b="textAreaBottom"/>
            <a:pathLst>
              <a:path w="43" h="36">
                <a:moveTo>
                  <a:pt x="18" y="2"/>
                </a:moveTo>
                <a:cubicBezTo>
                  <a:pt x="19" y="1"/>
                  <a:pt x="24" y="2"/>
                  <a:pt x="24" y="1"/>
                </a:cubicBezTo>
                <a:cubicBezTo>
                  <a:pt x="28" y="1"/>
                  <a:pt x="31" y="1"/>
                  <a:pt x="34" y="2"/>
                </a:cubicBezTo>
                <a:cubicBezTo>
                  <a:pt x="39" y="0"/>
                  <a:pt x="41" y="2"/>
                  <a:pt x="43" y="4"/>
                </a:cubicBezTo>
                <a:cubicBezTo>
                  <a:pt x="42" y="5"/>
                  <a:pt x="39" y="8"/>
                  <a:pt x="38" y="9"/>
                </a:cubicBezTo>
                <a:cubicBezTo>
                  <a:pt x="42" y="15"/>
                  <a:pt x="42" y="20"/>
                  <a:pt x="41" y="25"/>
                </a:cubicBezTo>
                <a:cubicBezTo>
                  <a:pt x="37" y="23"/>
                  <a:pt x="34" y="19"/>
                  <a:pt x="31" y="16"/>
                </a:cubicBezTo>
                <a:cubicBezTo>
                  <a:pt x="31" y="20"/>
                  <a:pt x="29" y="26"/>
                  <a:pt x="27" y="30"/>
                </a:cubicBezTo>
                <a:cubicBezTo>
                  <a:pt x="25" y="33"/>
                  <a:pt x="24" y="36"/>
                  <a:pt x="21" y="34"/>
                </a:cubicBezTo>
                <a:cubicBezTo>
                  <a:pt x="20" y="31"/>
                  <a:pt x="21" y="29"/>
                  <a:pt x="21" y="27"/>
                </a:cubicBezTo>
                <a:cubicBezTo>
                  <a:pt x="19" y="26"/>
                  <a:pt x="20" y="23"/>
                  <a:pt x="20" y="20"/>
                </a:cubicBezTo>
                <a:cubicBezTo>
                  <a:pt x="18" y="19"/>
                  <a:pt x="16" y="14"/>
                  <a:pt x="15" y="11"/>
                </a:cubicBezTo>
                <a:cubicBezTo>
                  <a:pt x="13" y="12"/>
                  <a:pt x="13" y="18"/>
                  <a:pt x="11" y="19"/>
                </a:cubicBezTo>
                <a:cubicBezTo>
                  <a:pt x="8" y="20"/>
                  <a:pt x="2" y="14"/>
                  <a:pt x="0" y="10"/>
                </a:cubicBezTo>
                <a:cubicBezTo>
                  <a:pt x="1" y="8"/>
                  <a:pt x="0" y="4"/>
                  <a:pt x="2" y="3"/>
                </a:cubicBezTo>
                <a:cubicBezTo>
                  <a:pt x="4" y="2"/>
                  <a:pt x="6" y="4"/>
                  <a:pt x="8" y="4"/>
                </a:cubicBezTo>
                <a:cubicBezTo>
                  <a:pt x="13" y="2"/>
                  <a:pt x="13" y="4"/>
                  <a:pt x="18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Freeform 970"/>
          <p:cNvSpPr/>
          <p:nvPr/>
        </p:nvSpPr>
        <p:spPr>
          <a:xfrm flipH="1">
            <a:off x="11871720" y="903240"/>
            <a:ext cx="247320" cy="220320"/>
          </a:xfrm>
          <a:custGeom>
            <a:avLst/>
            <a:gdLst>
              <a:gd name="textAreaLeft" fmla="*/ -360 w 247320"/>
              <a:gd name="textAreaRight" fmla="*/ 247320 w 247320"/>
              <a:gd name="textAreaTop" fmla="*/ 0 h 220320"/>
              <a:gd name="textAreaBottom" fmla="*/ 220680 h 220320"/>
            </a:gdLst>
            <a:ahLst/>
            <a:rect l="textAreaLeft" t="textAreaTop" r="textAreaRight" b="textAreaBottom"/>
            <a:pathLst>
              <a:path w="687" h="682">
                <a:moveTo>
                  <a:pt x="227" y="0"/>
                </a:moveTo>
                <a:cubicBezTo>
                  <a:pt x="353" y="51"/>
                  <a:pt x="454" y="354"/>
                  <a:pt x="429" y="480"/>
                </a:cubicBezTo>
                <a:cubicBezTo>
                  <a:pt x="482" y="564"/>
                  <a:pt x="545" y="507"/>
                  <a:pt x="586" y="521"/>
                </a:cubicBezTo>
                <a:cubicBezTo>
                  <a:pt x="627" y="536"/>
                  <a:pt x="665" y="563"/>
                  <a:pt x="676" y="572"/>
                </a:cubicBezTo>
                <a:cubicBezTo>
                  <a:pt x="687" y="581"/>
                  <a:pt x="665" y="567"/>
                  <a:pt x="649" y="572"/>
                </a:cubicBezTo>
                <a:cubicBezTo>
                  <a:pt x="635" y="578"/>
                  <a:pt x="626" y="595"/>
                  <a:pt x="592" y="611"/>
                </a:cubicBezTo>
                <a:cubicBezTo>
                  <a:pt x="558" y="627"/>
                  <a:pt x="488" y="662"/>
                  <a:pt x="445" y="671"/>
                </a:cubicBezTo>
                <a:cubicBezTo>
                  <a:pt x="402" y="680"/>
                  <a:pt x="371" y="674"/>
                  <a:pt x="331" y="668"/>
                </a:cubicBezTo>
                <a:cubicBezTo>
                  <a:pt x="291" y="662"/>
                  <a:pt x="257" y="646"/>
                  <a:pt x="202" y="632"/>
                </a:cubicBezTo>
                <a:cubicBezTo>
                  <a:pt x="101" y="682"/>
                  <a:pt x="25" y="657"/>
                  <a:pt x="0" y="581"/>
                </a:cubicBezTo>
                <a:cubicBezTo>
                  <a:pt x="76" y="531"/>
                  <a:pt x="126" y="556"/>
                  <a:pt x="202" y="556"/>
                </a:cubicBezTo>
                <a:cubicBezTo>
                  <a:pt x="202" y="354"/>
                  <a:pt x="202" y="177"/>
                  <a:pt x="227" y="0"/>
                </a:cubicBezTo>
                <a:close/>
              </a:path>
            </a:pathLst>
          </a:cu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Freeform 969"/>
          <p:cNvSpPr/>
          <p:nvPr/>
        </p:nvSpPr>
        <p:spPr>
          <a:xfrm flipH="1">
            <a:off x="12278160" y="1244520"/>
            <a:ext cx="153720" cy="112320"/>
          </a:xfrm>
          <a:custGeom>
            <a:avLst/>
            <a:gdLst>
              <a:gd name="textAreaLeft" fmla="*/ -360 w 153720"/>
              <a:gd name="textAreaRight" fmla="*/ 153720 w 153720"/>
              <a:gd name="textAreaTop" fmla="*/ 0 h 112320"/>
              <a:gd name="textAreaBottom" fmla="*/ 112680 h 112320"/>
            </a:gdLst>
            <a:ahLst/>
            <a:rect l="textAreaLeft" t="textAreaTop" r="textAreaRight" b="textAreaBottom"/>
            <a:pathLst>
              <a:path w="43" h="36">
                <a:moveTo>
                  <a:pt x="18" y="2"/>
                </a:moveTo>
                <a:cubicBezTo>
                  <a:pt x="19" y="1"/>
                  <a:pt x="24" y="2"/>
                  <a:pt x="24" y="1"/>
                </a:cubicBezTo>
                <a:cubicBezTo>
                  <a:pt x="28" y="1"/>
                  <a:pt x="31" y="1"/>
                  <a:pt x="34" y="2"/>
                </a:cubicBezTo>
                <a:cubicBezTo>
                  <a:pt x="39" y="0"/>
                  <a:pt x="41" y="2"/>
                  <a:pt x="43" y="4"/>
                </a:cubicBezTo>
                <a:cubicBezTo>
                  <a:pt x="42" y="5"/>
                  <a:pt x="39" y="8"/>
                  <a:pt x="38" y="9"/>
                </a:cubicBezTo>
                <a:cubicBezTo>
                  <a:pt x="42" y="15"/>
                  <a:pt x="42" y="20"/>
                  <a:pt x="41" y="25"/>
                </a:cubicBezTo>
                <a:cubicBezTo>
                  <a:pt x="37" y="23"/>
                  <a:pt x="34" y="19"/>
                  <a:pt x="31" y="16"/>
                </a:cubicBezTo>
                <a:cubicBezTo>
                  <a:pt x="31" y="20"/>
                  <a:pt x="29" y="26"/>
                  <a:pt x="27" y="30"/>
                </a:cubicBezTo>
                <a:cubicBezTo>
                  <a:pt x="25" y="33"/>
                  <a:pt x="24" y="36"/>
                  <a:pt x="21" y="34"/>
                </a:cubicBezTo>
                <a:cubicBezTo>
                  <a:pt x="20" y="31"/>
                  <a:pt x="21" y="29"/>
                  <a:pt x="21" y="27"/>
                </a:cubicBezTo>
                <a:cubicBezTo>
                  <a:pt x="19" y="26"/>
                  <a:pt x="20" y="23"/>
                  <a:pt x="20" y="20"/>
                </a:cubicBezTo>
                <a:cubicBezTo>
                  <a:pt x="18" y="19"/>
                  <a:pt x="16" y="14"/>
                  <a:pt x="15" y="11"/>
                </a:cubicBezTo>
                <a:cubicBezTo>
                  <a:pt x="13" y="12"/>
                  <a:pt x="13" y="18"/>
                  <a:pt x="11" y="19"/>
                </a:cubicBezTo>
                <a:cubicBezTo>
                  <a:pt x="8" y="20"/>
                  <a:pt x="2" y="14"/>
                  <a:pt x="0" y="10"/>
                </a:cubicBezTo>
                <a:cubicBezTo>
                  <a:pt x="1" y="8"/>
                  <a:pt x="0" y="4"/>
                  <a:pt x="2" y="3"/>
                </a:cubicBezTo>
                <a:cubicBezTo>
                  <a:pt x="4" y="2"/>
                  <a:pt x="6" y="4"/>
                  <a:pt x="8" y="4"/>
                </a:cubicBezTo>
                <a:cubicBezTo>
                  <a:pt x="13" y="2"/>
                  <a:pt x="13" y="4"/>
                  <a:pt x="18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reeform 970"/>
          <p:cNvSpPr/>
          <p:nvPr/>
        </p:nvSpPr>
        <p:spPr>
          <a:xfrm flipH="1">
            <a:off x="12267000" y="1136520"/>
            <a:ext cx="163080" cy="144000"/>
          </a:xfrm>
          <a:custGeom>
            <a:avLst/>
            <a:gdLst>
              <a:gd name="textAreaLeft" fmla="*/ -360 w 163080"/>
              <a:gd name="textAreaRight" fmla="*/ 163080 w 16308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687" h="682">
                <a:moveTo>
                  <a:pt x="227" y="0"/>
                </a:moveTo>
                <a:cubicBezTo>
                  <a:pt x="353" y="51"/>
                  <a:pt x="454" y="354"/>
                  <a:pt x="429" y="480"/>
                </a:cubicBezTo>
                <a:cubicBezTo>
                  <a:pt x="482" y="564"/>
                  <a:pt x="545" y="507"/>
                  <a:pt x="586" y="521"/>
                </a:cubicBezTo>
                <a:cubicBezTo>
                  <a:pt x="627" y="536"/>
                  <a:pt x="665" y="563"/>
                  <a:pt x="676" y="572"/>
                </a:cubicBezTo>
                <a:cubicBezTo>
                  <a:pt x="687" y="581"/>
                  <a:pt x="665" y="567"/>
                  <a:pt x="649" y="572"/>
                </a:cubicBezTo>
                <a:cubicBezTo>
                  <a:pt x="635" y="578"/>
                  <a:pt x="626" y="595"/>
                  <a:pt x="592" y="611"/>
                </a:cubicBezTo>
                <a:cubicBezTo>
                  <a:pt x="558" y="627"/>
                  <a:pt x="488" y="662"/>
                  <a:pt x="445" y="671"/>
                </a:cubicBezTo>
                <a:cubicBezTo>
                  <a:pt x="402" y="680"/>
                  <a:pt x="371" y="674"/>
                  <a:pt x="331" y="668"/>
                </a:cubicBezTo>
                <a:cubicBezTo>
                  <a:pt x="291" y="662"/>
                  <a:pt x="257" y="646"/>
                  <a:pt x="202" y="632"/>
                </a:cubicBezTo>
                <a:cubicBezTo>
                  <a:pt x="101" y="682"/>
                  <a:pt x="25" y="657"/>
                  <a:pt x="0" y="581"/>
                </a:cubicBezTo>
                <a:cubicBezTo>
                  <a:pt x="76" y="531"/>
                  <a:pt x="126" y="556"/>
                  <a:pt x="202" y="556"/>
                </a:cubicBezTo>
                <a:cubicBezTo>
                  <a:pt x="202" y="354"/>
                  <a:pt x="202" y="177"/>
                  <a:pt x="227" y="0"/>
                </a:cubicBezTo>
                <a:close/>
              </a:path>
            </a:pathLst>
          </a:cu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Freeform 969"/>
          <p:cNvSpPr/>
          <p:nvPr/>
        </p:nvSpPr>
        <p:spPr>
          <a:xfrm flipH="1">
            <a:off x="12404160" y="1077840"/>
            <a:ext cx="196560" cy="142560"/>
          </a:xfrm>
          <a:custGeom>
            <a:avLst/>
            <a:gdLst>
              <a:gd name="textAreaLeft" fmla="*/ 360 w 196560"/>
              <a:gd name="textAreaRight" fmla="*/ 197280 w 19656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43" h="36">
                <a:moveTo>
                  <a:pt x="18" y="2"/>
                </a:moveTo>
                <a:cubicBezTo>
                  <a:pt x="19" y="1"/>
                  <a:pt x="24" y="2"/>
                  <a:pt x="24" y="1"/>
                </a:cubicBezTo>
                <a:cubicBezTo>
                  <a:pt x="28" y="1"/>
                  <a:pt x="31" y="1"/>
                  <a:pt x="34" y="2"/>
                </a:cubicBezTo>
                <a:cubicBezTo>
                  <a:pt x="39" y="0"/>
                  <a:pt x="41" y="2"/>
                  <a:pt x="43" y="4"/>
                </a:cubicBezTo>
                <a:cubicBezTo>
                  <a:pt x="42" y="5"/>
                  <a:pt x="39" y="8"/>
                  <a:pt x="38" y="9"/>
                </a:cubicBezTo>
                <a:cubicBezTo>
                  <a:pt x="42" y="15"/>
                  <a:pt x="42" y="20"/>
                  <a:pt x="41" y="25"/>
                </a:cubicBezTo>
                <a:cubicBezTo>
                  <a:pt x="37" y="23"/>
                  <a:pt x="34" y="19"/>
                  <a:pt x="31" y="16"/>
                </a:cubicBezTo>
                <a:cubicBezTo>
                  <a:pt x="31" y="20"/>
                  <a:pt x="29" y="26"/>
                  <a:pt x="27" y="30"/>
                </a:cubicBezTo>
                <a:cubicBezTo>
                  <a:pt x="25" y="33"/>
                  <a:pt x="24" y="36"/>
                  <a:pt x="21" y="34"/>
                </a:cubicBezTo>
                <a:cubicBezTo>
                  <a:pt x="20" y="31"/>
                  <a:pt x="21" y="29"/>
                  <a:pt x="21" y="27"/>
                </a:cubicBezTo>
                <a:cubicBezTo>
                  <a:pt x="19" y="26"/>
                  <a:pt x="20" y="23"/>
                  <a:pt x="20" y="20"/>
                </a:cubicBezTo>
                <a:cubicBezTo>
                  <a:pt x="18" y="19"/>
                  <a:pt x="16" y="14"/>
                  <a:pt x="15" y="11"/>
                </a:cubicBezTo>
                <a:cubicBezTo>
                  <a:pt x="13" y="12"/>
                  <a:pt x="13" y="18"/>
                  <a:pt x="11" y="19"/>
                </a:cubicBezTo>
                <a:cubicBezTo>
                  <a:pt x="8" y="20"/>
                  <a:pt x="2" y="14"/>
                  <a:pt x="0" y="10"/>
                </a:cubicBezTo>
                <a:cubicBezTo>
                  <a:pt x="1" y="8"/>
                  <a:pt x="0" y="4"/>
                  <a:pt x="2" y="3"/>
                </a:cubicBezTo>
                <a:cubicBezTo>
                  <a:pt x="4" y="2"/>
                  <a:pt x="6" y="4"/>
                  <a:pt x="8" y="4"/>
                </a:cubicBezTo>
                <a:cubicBezTo>
                  <a:pt x="13" y="2"/>
                  <a:pt x="13" y="4"/>
                  <a:pt x="18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Freeform 970"/>
          <p:cNvSpPr/>
          <p:nvPr/>
        </p:nvSpPr>
        <p:spPr>
          <a:xfrm flipH="1">
            <a:off x="12395520" y="941400"/>
            <a:ext cx="207720" cy="183960"/>
          </a:xfrm>
          <a:custGeom>
            <a:avLst/>
            <a:gdLst>
              <a:gd name="textAreaLeft" fmla="*/ -360 w 207720"/>
              <a:gd name="textAreaRight" fmla="*/ 207720 w 20772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687" h="682">
                <a:moveTo>
                  <a:pt x="227" y="0"/>
                </a:moveTo>
                <a:cubicBezTo>
                  <a:pt x="353" y="51"/>
                  <a:pt x="454" y="354"/>
                  <a:pt x="429" y="480"/>
                </a:cubicBezTo>
                <a:cubicBezTo>
                  <a:pt x="482" y="564"/>
                  <a:pt x="545" y="507"/>
                  <a:pt x="586" y="521"/>
                </a:cubicBezTo>
                <a:cubicBezTo>
                  <a:pt x="627" y="536"/>
                  <a:pt x="665" y="563"/>
                  <a:pt x="676" y="572"/>
                </a:cubicBezTo>
                <a:cubicBezTo>
                  <a:pt x="687" y="581"/>
                  <a:pt x="665" y="567"/>
                  <a:pt x="649" y="572"/>
                </a:cubicBezTo>
                <a:cubicBezTo>
                  <a:pt x="635" y="578"/>
                  <a:pt x="626" y="595"/>
                  <a:pt x="592" y="611"/>
                </a:cubicBezTo>
                <a:cubicBezTo>
                  <a:pt x="558" y="627"/>
                  <a:pt x="488" y="662"/>
                  <a:pt x="445" y="671"/>
                </a:cubicBezTo>
                <a:cubicBezTo>
                  <a:pt x="402" y="680"/>
                  <a:pt x="371" y="674"/>
                  <a:pt x="331" y="668"/>
                </a:cubicBezTo>
                <a:cubicBezTo>
                  <a:pt x="291" y="662"/>
                  <a:pt x="257" y="646"/>
                  <a:pt x="202" y="632"/>
                </a:cubicBezTo>
                <a:cubicBezTo>
                  <a:pt x="101" y="682"/>
                  <a:pt x="25" y="657"/>
                  <a:pt x="0" y="581"/>
                </a:cubicBezTo>
                <a:cubicBezTo>
                  <a:pt x="76" y="531"/>
                  <a:pt x="126" y="556"/>
                  <a:pt x="202" y="556"/>
                </a:cubicBezTo>
                <a:cubicBezTo>
                  <a:pt x="202" y="354"/>
                  <a:pt x="202" y="177"/>
                  <a:pt x="227" y="0"/>
                </a:cubicBezTo>
                <a:close/>
              </a:path>
            </a:pathLst>
          </a:cu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任意多边形 48"/>
          <p:cNvSpPr/>
          <p:nvPr/>
        </p:nvSpPr>
        <p:spPr>
          <a:xfrm>
            <a:off x="11653920" y="90720"/>
            <a:ext cx="684720" cy="347040"/>
          </a:xfrm>
          <a:custGeom>
            <a:avLst/>
            <a:gdLst>
              <a:gd name="textAreaLeft" fmla="*/ 0 w 684720"/>
              <a:gd name="textAreaRight" fmla="*/ 685080 w 684720"/>
              <a:gd name="textAreaTop" fmla="*/ 0 h 347040"/>
              <a:gd name="textAreaBottom" fmla="*/ 347400 h 347040"/>
            </a:gdLst>
            <a:ahLst/>
            <a:rect l="textAreaLeft" t="textAreaTop" r="textAreaRight" b="textAreaBottom"/>
            <a:pathLst>
              <a:path w="974946" h="375504">
                <a:moveTo>
                  <a:pt x="607844" y="740"/>
                </a:moveTo>
                <a:cubicBezTo>
                  <a:pt x="457153" y="-226"/>
                  <a:pt x="387792" y="29679"/>
                  <a:pt x="270989" y="36431"/>
                </a:cubicBezTo>
                <a:cubicBezTo>
                  <a:pt x="183946" y="51302"/>
                  <a:pt x="130602" y="61565"/>
                  <a:pt x="85588" y="89966"/>
                </a:cubicBezTo>
                <a:cubicBezTo>
                  <a:pt x="40574" y="118367"/>
                  <a:pt x="5135" y="172971"/>
                  <a:pt x="902" y="206838"/>
                </a:cubicBezTo>
                <a:cubicBezTo>
                  <a:pt x="-3331" y="240705"/>
                  <a:pt x="5857" y="266078"/>
                  <a:pt x="60188" y="293166"/>
                </a:cubicBezTo>
                <a:cubicBezTo>
                  <a:pt x="114519" y="320254"/>
                  <a:pt x="250688" y="356666"/>
                  <a:pt x="326888" y="369366"/>
                </a:cubicBezTo>
                <a:cubicBezTo>
                  <a:pt x="403088" y="382066"/>
                  <a:pt x="460803" y="371456"/>
                  <a:pt x="517388" y="369366"/>
                </a:cubicBezTo>
                <a:cubicBezTo>
                  <a:pt x="568188" y="363016"/>
                  <a:pt x="613483" y="363178"/>
                  <a:pt x="666400" y="356828"/>
                </a:cubicBezTo>
                <a:cubicBezTo>
                  <a:pt x="721433" y="352595"/>
                  <a:pt x="779707" y="345198"/>
                  <a:pt x="824722" y="326121"/>
                </a:cubicBezTo>
                <a:cubicBezTo>
                  <a:pt x="869737" y="307044"/>
                  <a:pt x="913205" y="269883"/>
                  <a:pt x="936488" y="242366"/>
                </a:cubicBezTo>
                <a:cubicBezTo>
                  <a:pt x="949330" y="223103"/>
                  <a:pt x="972329" y="193683"/>
                  <a:pt x="974588" y="166166"/>
                </a:cubicBezTo>
                <a:cubicBezTo>
                  <a:pt x="976847" y="138649"/>
                  <a:pt x="968391" y="101434"/>
                  <a:pt x="950043" y="77266"/>
                </a:cubicBezTo>
                <a:cubicBezTo>
                  <a:pt x="931695" y="53098"/>
                  <a:pt x="920175" y="38923"/>
                  <a:pt x="864499" y="21158"/>
                </a:cubicBezTo>
                <a:cubicBezTo>
                  <a:pt x="760024" y="-12177"/>
                  <a:pt x="629011" y="4973"/>
                  <a:pt x="607844" y="740"/>
                </a:cubicBezTo>
                <a:close/>
              </a:path>
            </a:pathLst>
          </a:custGeom>
          <a:solidFill>
            <a:schemeClr val="bg1">
              <a:lumMod val="85000"/>
              <a:alpha val="69000"/>
            </a:schemeClr>
          </a:solidFill>
          <a:ln>
            <a:noFill/>
          </a:ln>
          <a:effectLst>
            <a:glow rad="825480">
              <a:srgbClr val="eeece1">
                <a:alpha val="36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8" name="任意多边形 49"/>
          <p:cNvSpPr/>
          <p:nvPr/>
        </p:nvSpPr>
        <p:spPr>
          <a:xfrm>
            <a:off x="13073040" y="157320"/>
            <a:ext cx="1486080" cy="745920"/>
          </a:xfrm>
          <a:custGeom>
            <a:avLst/>
            <a:gdLst>
              <a:gd name="textAreaLeft" fmla="*/ 0 w 1486080"/>
              <a:gd name="textAreaRight" fmla="*/ 1486440 w 1486080"/>
              <a:gd name="textAreaTop" fmla="*/ 0 h 745920"/>
              <a:gd name="textAreaBottom" fmla="*/ 746280 h 745920"/>
            </a:gdLst>
            <a:ahLst/>
            <a:rect l="textAreaLeft" t="textAreaTop" r="textAreaRight" b="textAreaBottom"/>
            <a:pathLst>
              <a:path w="2047875" h="867722">
                <a:moveTo>
                  <a:pt x="276225" y="162872"/>
                </a:moveTo>
                <a:lnTo>
                  <a:pt x="276225" y="162872"/>
                </a:lnTo>
                <a:cubicBezTo>
                  <a:pt x="298450" y="143822"/>
                  <a:pt x="321142" y="125304"/>
                  <a:pt x="342900" y="105722"/>
                </a:cubicBezTo>
                <a:cubicBezTo>
                  <a:pt x="371906" y="79616"/>
                  <a:pt x="387051" y="52905"/>
                  <a:pt x="428625" y="39047"/>
                </a:cubicBezTo>
                <a:cubicBezTo>
                  <a:pt x="469619" y="25382"/>
                  <a:pt x="447460" y="31957"/>
                  <a:pt x="495300" y="19997"/>
                </a:cubicBezTo>
                <a:cubicBezTo>
                  <a:pt x="504825" y="13647"/>
                  <a:pt x="512445" y="1582"/>
                  <a:pt x="523875" y="947"/>
                </a:cubicBezTo>
                <a:cubicBezTo>
                  <a:pt x="582931" y="-2334"/>
                  <a:pt x="647015" y="2647"/>
                  <a:pt x="704850" y="19997"/>
                </a:cubicBezTo>
                <a:cubicBezTo>
                  <a:pt x="724084" y="25767"/>
                  <a:pt x="745292" y="27908"/>
                  <a:pt x="762000" y="39047"/>
                </a:cubicBezTo>
                <a:cubicBezTo>
                  <a:pt x="771525" y="45397"/>
                  <a:pt x="780114" y="53448"/>
                  <a:pt x="790575" y="58097"/>
                </a:cubicBezTo>
                <a:cubicBezTo>
                  <a:pt x="808925" y="66252"/>
                  <a:pt x="847725" y="77147"/>
                  <a:pt x="847725" y="77147"/>
                </a:cubicBezTo>
                <a:cubicBezTo>
                  <a:pt x="857250" y="86672"/>
                  <a:pt x="865092" y="98250"/>
                  <a:pt x="876300" y="105722"/>
                </a:cubicBezTo>
                <a:cubicBezTo>
                  <a:pt x="884654" y="111291"/>
                  <a:pt x="895221" y="112489"/>
                  <a:pt x="904875" y="115247"/>
                </a:cubicBezTo>
                <a:cubicBezTo>
                  <a:pt x="917462" y="118843"/>
                  <a:pt x="930388" y="121176"/>
                  <a:pt x="942975" y="124772"/>
                </a:cubicBezTo>
                <a:cubicBezTo>
                  <a:pt x="952629" y="127530"/>
                  <a:pt x="961555" y="133345"/>
                  <a:pt x="971550" y="134297"/>
                </a:cubicBezTo>
                <a:cubicBezTo>
                  <a:pt x="1028530" y="139724"/>
                  <a:pt x="1085850" y="140647"/>
                  <a:pt x="1143000" y="143822"/>
                </a:cubicBezTo>
                <a:cubicBezTo>
                  <a:pt x="1152525" y="146997"/>
                  <a:pt x="1162595" y="148857"/>
                  <a:pt x="1171575" y="153347"/>
                </a:cubicBezTo>
                <a:cubicBezTo>
                  <a:pt x="1181814" y="158467"/>
                  <a:pt x="1188925" y="170152"/>
                  <a:pt x="1200150" y="172397"/>
                </a:cubicBezTo>
                <a:cubicBezTo>
                  <a:pt x="1253442" y="183055"/>
                  <a:pt x="1308100" y="185097"/>
                  <a:pt x="1362075" y="191447"/>
                </a:cubicBezTo>
                <a:cubicBezTo>
                  <a:pt x="1438275" y="242247"/>
                  <a:pt x="1346200" y="175572"/>
                  <a:pt x="1409700" y="239072"/>
                </a:cubicBezTo>
                <a:cubicBezTo>
                  <a:pt x="1417795" y="247167"/>
                  <a:pt x="1428750" y="251772"/>
                  <a:pt x="1438275" y="258122"/>
                </a:cubicBezTo>
                <a:cubicBezTo>
                  <a:pt x="1470388" y="209952"/>
                  <a:pt x="1439892" y="243026"/>
                  <a:pt x="1485900" y="220022"/>
                </a:cubicBezTo>
                <a:cubicBezTo>
                  <a:pt x="1496139" y="214902"/>
                  <a:pt x="1504236" y="206092"/>
                  <a:pt x="1514475" y="200972"/>
                </a:cubicBezTo>
                <a:cubicBezTo>
                  <a:pt x="1523455" y="196482"/>
                  <a:pt x="1533822" y="195402"/>
                  <a:pt x="1543050" y="191447"/>
                </a:cubicBezTo>
                <a:cubicBezTo>
                  <a:pt x="1556101" y="185854"/>
                  <a:pt x="1567855" y="177383"/>
                  <a:pt x="1581150" y="172397"/>
                </a:cubicBezTo>
                <a:cubicBezTo>
                  <a:pt x="1598044" y="166062"/>
                  <a:pt x="1652062" y="156639"/>
                  <a:pt x="1666875" y="153347"/>
                </a:cubicBezTo>
                <a:cubicBezTo>
                  <a:pt x="1679654" y="150507"/>
                  <a:pt x="1692436" y="147584"/>
                  <a:pt x="1704975" y="143822"/>
                </a:cubicBezTo>
                <a:cubicBezTo>
                  <a:pt x="1724209" y="138052"/>
                  <a:pt x="1762125" y="124772"/>
                  <a:pt x="1762125" y="124772"/>
                </a:cubicBezTo>
                <a:cubicBezTo>
                  <a:pt x="1784350" y="127947"/>
                  <a:pt x="1806785" y="129894"/>
                  <a:pt x="1828800" y="134297"/>
                </a:cubicBezTo>
                <a:cubicBezTo>
                  <a:pt x="1852159" y="138969"/>
                  <a:pt x="1874822" y="152545"/>
                  <a:pt x="1895475" y="162872"/>
                </a:cubicBezTo>
                <a:cubicBezTo>
                  <a:pt x="1901825" y="172397"/>
                  <a:pt x="1906430" y="183352"/>
                  <a:pt x="1914525" y="191447"/>
                </a:cubicBezTo>
                <a:cubicBezTo>
                  <a:pt x="1922620" y="199542"/>
                  <a:pt x="1935562" y="201882"/>
                  <a:pt x="1943100" y="210497"/>
                </a:cubicBezTo>
                <a:cubicBezTo>
                  <a:pt x="1958177" y="227727"/>
                  <a:pt x="1968500" y="248597"/>
                  <a:pt x="1981200" y="267647"/>
                </a:cubicBezTo>
                <a:cubicBezTo>
                  <a:pt x="1987550" y="277172"/>
                  <a:pt x="1996630" y="285362"/>
                  <a:pt x="2000250" y="296222"/>
                </a:cubicBezTo>
                <a:cubicBezTo>
                  <a:pt x="2003425" y="305747"/>
                  <a:pt x="2005620" y="315657"/>
                  <a:pt x="2009775" y="324797"/>
                </a:cubicBezTo>
                <a:cubicBezTo>
                  <a:pt x="2021526" y="350650"/>
                  <a:pt x="2047875" y="400997"/>
                  <a:pt x="2047875" y="400997"/>
                </a:cubicBezTo>
                <a:cubicBezTo>
                  <a:pt x="2047471" y="404228"/>
                  <a:pt x="2042379" y="485442"/>
                  <a:pt x="2028825" y="505772"/>
                </a:cubicBezTo>
                <a:cubicBezTo>
                  <a:pt x="2021353" y="516980"/>
                  <a:pt x="2009775" y="524822"/>
                  <a:pt x="2000250" y="534347"/>
                </a:cubicBezTo>
                <a:cubicBezTo>
                  <a:pt x="1997075" y="556572"/>
                  <a:pt x="1993348" y="578725"/>
                  <a:pt x="1990725" y="601022"/>
                </a:cubicBezTo>
                <a:cubicBezTo>
                  <a:pt x="1986997" y="632712"/>
                  <a:pt x="1993472" y="666818"/>
                  <a:pt x="1981200" y="696272"/>
                </a:cubicBezTo>
                <a:cubicBezTo>
                  <a:pt x="1977403" y="705384"/>
                  <a:pt x="1925964" y="721034"/>
                  <a:pt x="1914525" y="724847"/>
                </a:cubicBezTo>
                <a:cubicBezTo>
                  <a:pt x="1873250" y="721672"/>
                  <a:pt x="1831388" y="722951"/>
                  <a:pt x="1790700" y="715322"/>
                </a:cubicBezTo>
                <a:cubicBezTo>
                  <a:pt x="1779448" y="713212"/>
                  <a:pt x="1773567" y="696619"/>
                  <a:pt x="1762125" y="696272"/>
                </a:cubicBezTo>
                <a:lnTo>
                  <a:pt x="1476375" y="705797"/>
                </a:lnTo>
                <a:lnTo>
                  <a:pt x="1419225" y="724847"/>
                </a:lnTo>
                <a:cubicBezTo>
                  <a:pt x="1409700" y="728022"/>
                  <a:pt x="1400495" y="732403"/>
                  <a:pt x="1390650" y="734372"/>
                </a:cubicBezTo>
                <a:lnTo>
                  <a:pt x="1343025" y="743897"/>
                </a:lnTo>
                <a:cubicBezTo>
                  <a:pt x="1333500" y="750247"/>
                  <a:pt x="1324972" y="758438"/>
                  <a:pt x="1314450" y="762947"/>
                </a:cubicBezTo>
                <a:cubicBezTo>
                  <a:pt x="1302418" y="768104"/>
                  <a:pt x="1288937" y="768876"/>
                  <a:pt x="1276350" y="772472"/>
                </a:cubicBezTo>
                <a:cubicBezTo>
                  <a:pt x="1155729" y="806935"/>
                  <a:pt x="1407397" y="775346"/>
                  <a:pt x="1019175" y="791522"/>
                </a:cubicBezTo>
                <a:cubicBezTo>
                  <a:pt x="882688" y="818819"/>
                  <a:pt x="1051756" y="780662"/>
                  <a:pt x="933450" y="820097"/>
                </a:cubicBezTo>
                <a:cubicBezTo>
                  <a:pt x="900844" y="830966"/>
                  <a:pt x="885763" y="824890"/>
                  <a:pt x="857250" y="839147"/>
                </a:cubicBezTo>
                <a:cubicBezTo>
                  <a:pt x="783392" y="876076"/>
                  <a:pt x="871924" y="843781"/>
                  <a:pt x="800100" y="867722"/>
                </a:cubicBezTo>
                <a:lnTo>
                  <a:pt x="295275" y="858197"/>
                </a:lnTo>
                <a:cubicBezTo>
                  <a:pt x="285241" y="857839"/>
                  <a:pt x="276440" y="851107"/>
                  <a:pt x="266700" y="848672"/>
                </a:cubicBezTo>
                <a:cubicBezTo>
                  <a:pt x="188134" y="829030"/>
                  <a:pt x="249421" y="849178"/>
                  <a:pt x="180975" y="829622"/>
                </a:cubicBezTo>
                <a:cubicBezTo>
                  <a:pt x="85322" y="802293"/>
                  <a:pt x="233407" y="840349"/>
                  <a:pt x="114300" y="810572"/>
                </a:cubicBezTo>
                <a:cubicBezTo>
                  <a:pt x="80595" y="788102"/>
                  <a:pt x="78421" y="789351"/>
                  <a:pt x="47625" y="753422"/>
                </a:cubicBezTo>
                <a:cubicBezTo>
                  <a:pt x="5292" y="704033"/>
                  <a:pt x="55033" y="742486"/>
                  <a:pt x="0" y="705797"/>
                </a:cubicBezTo>
                <a:cubicBezTo>
                  <a:pt x="13371" y="344778"/>
                  <a:pt x="-7911" y="549284"/>
                  <a:pt x="19050" y="400997"/>
                </a:cubicBezTo>
                <a:cubicBezTo>
                  <a:pt x="22505" y="381996"/>
                  <a:pt x="21402" y="361778"/>
                  <a:pt x="28575" y="343847"/>
                </a:cubicBezTo>
                <a:cubicBezTo>
                  <a:pt x="34471" y="329107"/>
                  <a:pt x="48046" y="318752"/>
                  <a:pt x="57150" y="305747"/>
                </a:cubicBezTo>
                <a:cubicBezTo>
                  <a:pt x="70280" y="286990"/>
                  <a:pt x="82550" y="267647"/>
                  <a:pt x="95250" y="248597"/>
                </a:cubicBezTo>
                <a:cubicBezTo>
                  <a:pt x="101600" y="239072"/>
                  <a:pt x="104775" y="226372"/>
                  <a:pt x="114300" y="220022"/>
                </a:cubicBezTo>
                <a:lnTo>
                  <a:pt x="171450" y="181922"/>
                </a:lnTo>
                <a:cubicBezTo>
                  <a:pt x="180975" y="175572"/>
                  <a:pt x="188692" y="164491"/>
                  <a:pt x="200025" y="162872"/>
                </a:cubicBezTo>
                <a:cubicBezTo>
                  <a:pt x="222250" y="159697"/>
                  <a:pt x="244342" y="155380"/>
                  <a:pt x="266700" y="153347"/>
                </a:cubicBezTo>
                <a:cubicBezTo>
                  <a:pt x="279348" y="152197"/>
                  <a:pt x="274638" y="161285"/>
                  <a:pt x="276225" y="162872"/>
                </a:cubicBezTo>
                <a:close/>
              </a:path>
            </a:pathLst>
          </a:custGeom>
          <a:solidFill>
            <a:schemeClr val="bg1">
              <a:lumMod val="85000"/>
              <a:alpha val="64000"/>
            </a:schemeClr>
          </a:solidFill>
          <a:ln>
            <a:noFill/>
          </a:ln>
          <a:effectLst>
            <a:glow rad="380880">
              <a:srgbClr val="eeece1">
                <a:alpha val="40000"/>
              </a:srgbClr>
            </a:glow>
            <a:softEdge rad="3816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729" name="组合 52"/>
          <p:cNvGrpSpPr/>
          <p:nvPr/>
        </p:nvGrpSpPr>
        <p:grpSpPr>
          <a:xfrm>
            <a:off x="1571760" y="500040"/>
            <a:ext cx="2642760" cy="1413360"/>
            <a:chOff x="1571760" y="500040"/>
            <a:chExt cx="2642760" cy="1413360"/>
          </a:xfrm>
        </p:grpSpPr>
        <p:sp>
          <p:nvSpPr>
            <p:cNvPr id="730" name="TextBox 50"/>
            <p:cNvSpPr/>
            <p:nvPr/>
          </p:nvSpPr>
          <p:spPr>
            <a:xfrm>
              <a:off x="1714320" y="500040"/>
              <a:ext cx="192852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ff0000"/>
                  </a:solidFill>
                  <a:latin typeface="Calibri"/>
                </a:rPr>
                <a:t>上进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TextBox 51"/>
            <p:cNvSpPr/>
            <p:nvPr/>
          </p:nvSpPr>
          <p:spPr>
            <a:xfrm>
              <a:off x="1571760" y="1214280"/>
              <a:ext cx="26427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enterpris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fill="hold">
                      <p:stCondLst>
                        <p:cond delay="0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500"/>
                            </p:stCondLst>
                            <p:childTnLst>
                              <p:par>
                                <p:cTn id="1391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2" dur="3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3" dur="150" autoRev="1" fill="hold"/>
                                        <p:tgtEl>
                                          <p:spTgt spid="71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1400"/>
                            </p:stCondLst>
                            <p:childTnLst>
                              <p:par>
                                <p:cTn id="13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1400"/>
                            </p:stCondLst>
                            <p:childTnLst>
                              <p:par>
                                <p:cTn id="1398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89017E-007 L -0.39757 2.89017E-007 E">
                                      <p:cBhvr>
                                        <p:cTn id="1399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0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25434E-006 L -0.40955 -2.25434E-006 E">
                                      <p:cBhvr>
                                        <p:cTn id="1401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2" nodeType="withEffect" fill="hold" presetClass="path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00017 -1.21387E-006 L 0.3533 0.00023 E">
                                      <p:cBhvr>
                                        <p:cTn id="1403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4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-2700000">
                                      <p:cBhvr>
                                        <p:cTn id="1405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3100"/>
                            </p:stCondLst>
                            <p:childTnLst>
                              <p:par>
                                <p:cTn id="1407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174 0.00023 L 0.51094 -0.2726 E">
                                      <p:cBhvr>
                                        <p:cTn id="140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3600"/>
                            </p:stCondLst>
                            <p:childTnLst>
                              <p:par>
                                <p:cTn id="14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1411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3900"/>
                            </p:stCondLst>
                            <p:childTnLst>
                              <p:par>
                                <p:cTn id="1413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094 -0.2726 L 0.57378 -0.2726 E">
                                      <p:cBhvr>
                                        <p:cTn id="141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4400"/>
                            </p:stCondLst>
                            <p:childTnLst>
                              <p:par>
                                <p:cTn id="14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9" dur="40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1" nodeType="withEffect" fill="hold" presetClass="path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-2.96296E-006 C -0.05972 -0.02731 -0.11944 -0.05463 -0.22882 -0.06319 C -0.33854 -0.07176 -0.58923 -0.04352 -0.65746 -0.05208 E">
                                      <p:cBhvr>
                                        <p:cTn id="1422" dur="24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3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4" dur="40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path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05556E-006 4.81481E-006 C -0.05973 -0.02732 -0.11945 -0.05463 -0.22917 -0.0632 C -0.33889 -0.07176 -0.58993 -0.04352 -0.65816 -0.05209 E">
                                      <p:cBhvr>
                                        <p:cTn id="1427" dur="24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8" nodeType="withEffect" fill="hold" presetClass="exit" presetID="11" repeatCount="indefinite">
                                  <p:stCondLst>
                                    <p:cond delay="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9" dur="4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path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3.05556E-006 2.77556E-017 C -0.06475 -0.02731 -0.12951 -0.05463 -0.24843 -0.06319 C -0.36718 -0.07176 -0.63941 -0.04352 -0.71319 -0.05208 E">
                                      <p:cBhvr>
                                        <p:cTn id="1432" dur="245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3" nodeType="withEffect" fill="hold" presetClass="exit" presetID="11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4" dur="4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path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38889E-006 2.59259E-006 C -0.06476 -0.02732 -0.12934 -0.05463 -0.24809 -0.0632 C -0.36684 -0.07176 -0.63872 -0.04352 -0.7125 -0.05209 E">
                                      <p:cBhvr>
                                        <p:cTn id="1437" dur="23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8" nodeType="withEffect" fill="hold" presetClass="exit" presetID="11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9" dur="4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1" nodeType="withEffect" fill="hold" presetClass="path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11111E-006 -2.59259E-006 C -0.06059 -0.02731 -0.12101 -0.05463 -0.23195 -0.06319 C -0.34306 -0.07176 -0.59722 -0.04352 -0.66632 -0.05208 E">
                                      <p:cBhvr>
                                        <p:cTn id="1442" dur="21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3" nodeType="withEffect" fill="hold" presetClass="exit" presetID="11" repeatCount="indefinite">
                                  <p:stCondLst>
                                    <p:cond delay="1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4" dur="4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6" nodeType="withEffect" fill="hold" presetClass="path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1.66667E-006 -4.44444E-006 C -0.06041 -0.02731 -0.12083 -0.05463 -0.23194 -0.06319 C -0.34288 -0.07175 -0.59687 -0.04351 -0.66597 -0.05208 E">
                                      <p:cBhvr>
                                        <p:cTn id="1447" dur="2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8" nodeType="withEffect" fill="hold" presetClass="path" presetID="35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3.05556E-006 4.07407E-006 L -0.66598 -0.00047 E">
                                      <p:cBhvr>
                                        <p:cTn id="144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0" nodeType="withEffect" fill="hold" presetClass="path" presetID="35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4.72222E-006 -4.81481E-006 L -0.73889 0.00278 E">
                                      <p:cBhvr>
                                        <p:cTn id="145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4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Box 2"/>
          <p:cNvSpPr/>
          <p:nvPr/>
        </p:nvSpPr>
        <p:spPr>
          <a:xfrm>
            <a:off x="3071880" y="1143000"/>
            <a:ext cx="24998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了以上都是扯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3"/>
          <p:cNvSpPr/>
          <p:nvPr/>
        </p:nvSpPr>
        <p:spPr>
          <a:xfrm>
            <a:off x="1000080" y="1857240"/>
            <a:ext cx="3857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现在我要认真了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-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4"/>
          <p:cNvSpPr/>
          <p:nvPr/>
        </p:nvSpPr>
        <p:spPr>
          <a:xfrm>
            <a:off x="5572080" y="2071800"/>
            <a:ext cx="2214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各位看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5"/>
          <p:cNvSpPr/>
          <p:nvPr/>
        </p:nvSpPr>
        <p:spPr>
          <a:xfrm>
            <a:off x="571320" y="3214800"/>
            <a:ext cx="1999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全新硬笔楷书简"/>
                <a:ea typeface="全新硬笔楷书简"/>
              </a:rPr>
              <a:t>有人的捧个人场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全新硬笔楷书简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6"/>
          <p:cNvSpPr/>
          <p:nvPr/>
        </p:nvSpPr>
        <p:spPr>
          <a:xfrm>
            <a:off x="7215120" y="1214280"/>
            <a:ext cx="1571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mbria Math"/>
                <a:ea typeface="MS UI Gothic"/>
              </a:rPr>
              <a:t>没钱的也捧个人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3071880" y="3071880"/>
            <a:ext cx="1785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有钱的帮雇点人捧个人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8"/>
          <p:cNvSpPr/>
          <p:nvPr/>
        </p:nvSpPr>
        <p:spPr>
          <a:xfrm>
            <a:off x="2214720" y="4929120"/>
            <a:ext cx="2142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好怕冷场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的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=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9"/>
          <p:cNvSpPr/>
          <p:nvPr/>
        </p:nvSpPr>
        <p:spPr>
          <a:xfrm>
            <a:off x="5715000" y="4286160"/>
            <a:ext cx="22143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全新硬笔楷书简"/>
                <a:ea typeface="全新硬笔楷书简"/>
              </a:rPr>
              <a:t>不是看这里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10"/>
          <p:cNvSpPr/>
          <p:nvPr/>
        </p:nvSpPr>
        <p:spPr>
          <a:xfrm>
            <a:off x="6357960" y="4714920"/>
            <a:ext cx="2071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法海你不懂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Box 11"/>
          <p:cNvSpPr/>
          <p:nvPr/>
        </p:nvSpPr>
        <p:spPr>
          <a:xfrm>
            <a:off x="4786200" y="5357880"/>
            <a:ext cx="14284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李太白 李太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0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60" dur="2000" fill="hold"/>
                                        <p:tgtEl>
                                          <p:spTgt spid="732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2" dur="3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65" dur="2000" fill="hold"/>
                                        <p:tgtEl>
                                          <p:spTgt spid="733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7" dur="3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9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70" dur="2000" fill="hold"/>
                                        <p:tgtEl>
                                          <p:spTgt spid="734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7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2" dur="3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4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75" dur="2000" fill="hold"/>
                                        <p:tgtEl>
                                          <p:spTgt spid="736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7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7" dur="3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9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80" dur="2000" fill="hold"/>
                                        <p:tgtEl>
                                          <p:spTgt spid="739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8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2" dur="3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85" dur="2000" fill="hold"/>
                                        <p:tgtEl>
                                          <p:spTgt spid="740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8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7" dur="3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9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90" dur="2000" fill="hold"/>
                                        <p:tgtEl>
                                          <p:spTgt spid="741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9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2" dur="3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95" dur="2000" fill="hold"/>
                                        <p:tgtEl>
                                          <p:spTgt spid="738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9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7" dur="3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9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500" dur="2000" fill="hold"/>
                                        <p:tgtEl>
                                          <p:spTgt spid="737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0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2" dur="3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505" dur="2000" fill="hold"/>
                                        <p:tgtEl>
                                          <p:spTgt spid="735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0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7" dur="3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Box 1"/>
          <p:cNvSpPr/>
          <p:nvPr/>
        </p:nvSpPr>
        <p:spPr>
          <a:xfrm>
            <a:off x="2143080" y="2214720"/>
            <a:ext cx="51433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600" spc="-1" strike="noStrike">
                <a:solidFill>
                  <a:srgbClr val="558ed5"/>
                </a:solidFill>
                <a:latin typeface="华文细黑"/>
                <a:ea typeface="华文细黑"/>
              </a:rPr>
              <a:t>Resume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3" name="Picture 2" descr="E:\菲拉斯\xing.png"/>
          <p:cNvPicPr/>
          <p:nvPr/>
        </p:nvPicPr>
        <p:blipFill>
          <a:blip r:embed="rId1"/>
          <a:stretch/>
        </p:blipFill>
        <p:spPr>
          <a:xfrm>
            <a:off x="214200" y="214200"/>
            <a:ext cx="4490640" cy="5292360"/>
          </a:xfrm>
          <a:prstGeom prst="rect">
            <a:avLst/>
          </a:prstGeom>
          <a:ln w="9525">
            <a:noFill/>
          </a:ln>
        </p:spPr>
      </p:pic>
      <p:pic>
        <p:nvPicPr>
          <p:cNvPr id="744" name="Picture 2" descr="E:\菲拉斯\xing.png"/>
          <p:cNvPicPr/>
          <p:nvPr/>
        </p:nvPicPr>
        <p:blipFill>
          <a:blip r:embed="rId2"/>
          <a:stretch/>
        </p:blipFill>
        <p:spPr>
          <a:xfrm>
            <a:off x="4286160" y="214200"/>
            <a:ext cx="4490640" cy="5292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9" dur="indefinite" restart="never" nodeType="tmRoot">
          <p:childTnLst>
            <p:seq>
              <p:cTn id="1510" dur="indefinite" nodeType="mainSeq">
                <p:childTnLst>
                  <p:par>
                    <p:cTn id="1511" fill="hold">
                      <p:stCondLst>
                        <p:cond delay="0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.08403 C 0.00087 0.03657 0.00174 -0.01088 0.00625 -0.03264 C 0.01077 -0.0544 0.01945 -0.04884 0.02709 -0.04653 C 0.03473 -0.04421 0.05 -0.02894 0.05209 -0.01875 C 0.05417 -0.00857 0.04514 0.00856 0.03959 0.01458 C 0.03403 0.0206 0.01736 0.00671 0.01875 0.01736 C 0.02014 0.02801 0.03716 0.07523 0.04792 0.07847 C 0.05868 0.08171 0.0691 0.04421 0.08334 0.03681 C 0.09757 0.0294 0.12223 0.03681 0.13334 0.03403 C 0.14445 0.03125 0.15139 0.02708 0.15 0.02014 C 0.14861 0.01319 0.13368 -0.00301 0.125 -0.00764 C 0.11632 -0.01227 0.10486 -0.01319 0.09792 -0.00764 C 0.09098 -0.00208 0.08507 0.01181 0.08334 0.02569 C 0.0816 0.03958 0.07952 0.06551 0.0875 0.07569 C 0.09549 0.08588 0.11111 0.09931 0.13125 0.08681 C 0.15139 0.07431 0.20105 0.01551 0.20834 0.00069 C 0.21563 -0.01412 0.18021 -0.00903 0.175 -0.00208 C 0.1698 0.00486 0.17118 0.0294 0.17709 0.04236 C 0.18299 0.05532 0.21111 0.06829 0.21042 0.07569 C 0.20973 0.0831 0.16875 0.10023 0.17292 0.08681 C 0.17709 0.07338 0.225 0.00208 0.23542 -0.00486 C 0.24584 -0.01181 0.23542 0.02801 0.23542 0.04514 C 0.23542 0.06227 0.22952 0.0919 0.23542 0.09792 C 0.24132 0.10393 0.2632 0.09329 0.27084 0.08125 C 0.27848 0.06921 0.28021 0.03958 0.28125 0.02569 C 0.2823 0.01181 0.27153 -0.01366 0.27709 -0.00208 C 0.28264 0.00949 0.30868 0.09468 0.31459 0.09514 C 0.32049 0.0956 0.30799 0.0169 0.3125 0.00069 C 0.31702 -0.01551 0.33403 -0.00394 0.34167 -0.00208 C 0.34931 -0.00023 0.35521 -0.00069 0.35834 0.01181 C 0.36146 0.02431 0.35973 0.07569 0.36042 0.07292 C 0.36111 0.07014 0.3573 0.00718 0.3625 -0.00486 C 0.36771 -0.0169 0.38438 -0.00671 0.39167 0.00069 C 0.39896 0.0081 0.40313 0.02847 0.40625 0.03958 C 0.40938 0.05069 0.40521 0.06829 0.41042 0.06736 C 0.41563 0.06643 0.4257 0.03912 0.4375 0.03403 C 0.44931 0.02893 0.47188 0.03819 0.48125 0.03681 C 0.49063 0.03542 0.49549 0.03356 0.49375 0.02569 C 0.49202 0.01782 0.47848 -0.00579 0.47084 -0.01042 C 0.4632 -0.01505 0.45556 -0.00857 0.44775 -0.00208 E">
                                      <p:cBhvr>
                                        <p:cTn id="1519" dur="5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2" dur="5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29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0" dur="9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1" dur="450" autoRev="1" fill="hold"/>
                                        <p:tgtEl>
                                          <p:spTgt spid="74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组合 61"/>
          <p:cNvGrpSpPr/>
          <p:nvPr/>
        </p:nvGrpSpPr>
        <p:grpSpPr>
          <a:xfrm>
            <a:off x="3943440" y="4210200"/>
            <a:ext cx="6152760" cy="1809360"/>
            <a:chOff x="3943440" y="4210200"/>
            <a:chExt cx="6152760" cy="1809360"/>
          </a:xfrm>
        </p:grpSpPr>
        <p:sp>
          <p:nvSpPr>
            <p:cNvPr id="746" name="椭圆 62"/>
            <p:cNvSpPr/>
            <p:nvPr/>
          </p:nvSpPr>
          <p:spPr>
            <a:xfrm>
              <a:off x="4305240" y="4270320"/>
              <a:ext cx="5428800" cy="1688760"/>
            </a:xfrm>
            <a:prstGeom prst="ellipse">
              <a:avLst/>
            </a:prstGeom>
            <a:solidFill>
              <a:srgbClr val="fefefe">
                <a:alpha val="20000"/>
              </a:srgbClr>
            </a:solidFill>
            <a:ln w="9525">
              <a:noFill/>
            </a:ln>
            <a:effectLst>
              <a:softEdge rad="635040"/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7" name="组合 63"/>
            <p:cNvGrpSpPr/>
            <p:nvPr/>
          </p:nvGrpSpPr>
          <p:grpSpPr>
            <a:xfrm>
              <a:off x="3943440" y="4210200"/>
              <a:ext cx="6152760" cy="1809360"/>
              <a:chOff x="3943440" y="4210200"/>
              <a:chExt cx="6152760" cy="1809360"/>
            </a:xfrm>
          </p:grpSpPr>
          <p:sp>
            <p:nvSpPr>
              <p:cNvPr id="748" name="椭圆 64"/>
              <p:cNvSpPr/>
              <p:nvPr/>
            </p:nvSpPr>
            <p:spPr>
              <a:xfrm>
                <a:off x="3943440" y="4813200"/>
                <a:ext cx="6152760" cy="603000"/>
              </a:xfrm>
              <a:prstGeom prst="ellipse">
                <a:avLst/>
              </a:prstGeom>
              <a:solidFill>
                <a:srgbClr val="fefefe">
                  <a:alpha val="50000"/>
                </a:srgbClr>
              </a:solidFill>
              <a:ln w="9525">
                <a:noFill/>
              </a:ln>
              <a:effectLst>
                <a:softEdge rad="31752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椭圆 65"/>
              <p:cNvSpPr/>
              <p:nvPr/>
            </p:nvSpPr>
            <p:spPr>
              <a:xfrm rot="5400000">
                <a:off x="6115320" y="4813200"/>
                <a:ext cx="1809360" cy="603000"/>
              </a:xfrm>
              <a:prstGeom prst="ellipse">
                <a:avLst/>
              </a:prstGeom>
              <a:solidFill>
                <a:srgbClr val="fefefe">
                  <a:alpha val="50000"/>
                </a:srgbClr>
              </a:solidFill>
              <a:ln w="9525">
                <a:noFill/>
              </a:ln>
              <a:effectLst>
                <a:softEdge rad="31752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750" name="直接连接符 99"/>
          <p:cNvCxnSpPr/>
          <p:nvPr/>
        </p:nvCxnSpPr>
        <p:spPr>
          <a:xfrm flipH="1">
            <a:off x="8915040" y="1224360"/>
            <a:ext cx="720" cy="32979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751" name="组合 102"/>
          <p:cNvGrpSpPr/>
          <p:nvPr/>
        </p:nvGrpSpPr>
        <p:grpSpPr>
          <a:xfrm>
            <a:off x="8801280" y="4458600"/>
            <a:ext cx="228240" cy="228240"/>
            <a:chOff x="8801280" y="4458600"/>
            <a:chExt cx="228240" cy="228240"/>
          </a:xfrm>
        </p:grpSpPr>
        <p:sp>
          <p:nvSpPr>
            <p:cNvPr id="752" name="椭圆 103"/>
            <p:cNvSpPr/>
            <p:nvPr/>
          </p:nvSpPr>
          <p:spPr>
            <a:xfrm>
              <a:off x="8801280" y="445860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椭圆 104"/>
            <p:cNvSpPr/>
            <p:nvPr/>
          </p:nvSpPr>
          <p:spPr>
            <a:xfrm>
              <a:off x="8858160" y="451548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组合 56"/>
          <p:cNvGrpSpPr/>
          <p:nvPr/>
        </p:nvGrpSpPr>
        <p:grpSpPr>
          <a:xfrm>
            <a:off x="1066680" y="2057400"/>
            <a:ext cx="7772040" cy="2285640"/>
            <a:chOff x="1066680" y="2057400"/>
            <a:chExt cx="7772040" cy="2285640"/>
          </a:xfrm>
        </p:grpSpPr>
        <p:sp>
          <p:nvSpPr>
            <p:cNvPr id="755" name="椭圆 57"/>
            <p:cNvSpPr/>
            <p:nvPr/>
          </p:nvSpPr>
          <p:spPr>
            <a:xfrm>
              <a:off x="1523880" y="2133720"/>
              <a:ext cx="6857640" cy="2133360"/>
            </a:xfrm>
            <a:prstGeom prst="ellipse">
              <a:avLst/>
            </a:prstGeom>
            <a:solidFill>
              <a:srgbClr val="fefefe">
                <a:alpha val="20000"/>
              </a:srgbClr>
            </a:solidFill>
            <a:ln w="9525">
              <a:noFill/>
            </a:ln>
            <a:effectLst>
              <a:softEdge rad="635040"/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组合 58"/>
            <p:cNvGrpSpPr/>
            <p:nvPr/>
          </p:nvGrpSpPr>
          <p:grpSpPr>
            <a:xfrm>
              <a:off x="1066680" y="2057400"/>
              <a:ext cx="7772040" cy="2285640"/>
              <a:chOff x="1066680" y="2057400"/>
              <a:chExt cx="7772040" cy="2285640"/>
            </a:xfrm>
          </p:grpSpPr>
          <p:sp>
            <p:nvSpPr>
              <p:cNvPr id="757" name="椭圆 59"/>
              <p:cNvSpPr/>
              <p:nvPr/>
            </p:nvSpPr>
            <p:spPr>
              <a:xfrm>
                <a:off x="1066680" y="2819520"/>
                <a:ext cx="7772040" cy="761760"/>
              </a:xfrm>
              <a:prstGeom prst="ellipse">
                <a:avLst/>
              </a:prstGeom>
              <a:solidFill>
                <a:srgbClr val="fefefe">
                  <a:alpha val="50000"/>
                </a:srgbClr>
              </a:solidFill>
              <a:ln w="9525">
                <a:noFill/>
              </a:ln>
              <a:effectLst>
                <a:softEdge rad="31752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椭圆 60"/>
              <p:cNvSpPr/>
              <p:nvPr/>
            </p:nvSpPr>
            <p:spPr>
              <a:xfrm rot="5400000">
                <a:off x="3810240" y="2819160"/>
                <a:ext cx="2285640" cy="761760"/>
              </a:xfrm>
              <a:prstGeom prst="ellipse">
                <a:avLst/>
              </a:prstGeom>
              <a:solidFill>
                <a:srgbClr val="fefefe">
                  <a:alpha val="50000"/>
                </a:srgbClr>
              </a:solidFill>
              <a:ln w="9525">
                <a:noFill/>
              </a:ln>
              <a:effectLst>
                <a:softEdge rad="317520"/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759" name="直接连接符 49"/>
          <p:cNvCxnSpPr/>
          <p:nvPr/>
        </p:nvCxnSpPr>
        <p:spPr>
          <a:xfrm flipH="1">
            <a:off x="5626080" y="5371920"/>
            <a:ext cx="262260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760" name="直接连接符 43"/>
          <p:cNvCxnSpPr/>
          <p:nvPr/>
        </p:nvCxnSpPr>
        <p:spPr>
          <a:xfrm>
            <a:off x="2095200" y="860400"/>
            <a:ext cx="360" cy="310212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761" name="直接连接符 45"/>
          <p:cNvCxnSpPr/>
          <p:nvPr/>
        </p:nvCxnSpPr>
        <p:spPr>
          <a:xfrm flipH="1">
            <a:off x="2095200" y="3962160"/>
            <a:ext cx="544896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762" name="直接连接符 13"/>
          <p:cNvCxnSpPr/>
          <p:nvPr/>
        </p:nvCxnSpPr>
        <p:spPr>
          <a:xfrm flipH="1">
            <a:off x="0" y="6213960"/>
            <a:ext cx="723924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763" name="直接连接符 15"/>
          <p:cNvCxnSpPr/>
          <p:nvPr/>
        </p:nvCxnSpPr>
        <p:spPr>
          <a:xfrm flipH="1">
            <a:off x="0" y="6298200"/>
            <a:ext cx="9144360" cy="360"/>
          </a:xfrm>
          <a:prstGeom prst="straightConnector1">
            <a:avLst/>
          </a:prstGeom>
          <a:ln w="57150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764" name="组合 26"/>
          <p:cNvGrpSpPr/>
          <p:nvPr/>
        </p:nvGrpSpPr>
        <p:grpSpPr>
          <a:xfrm>
            <a:off x="-3581280" y="6215040"/>
            <a:ext cx="10820160" cy="0"/>
            <a:chOff x="-3581280" y="6215040"/>
            <a:chExt cx="10820160" cy="0"/>
          </a:xfrm>
        </p:grpSpPr>
        <p:cxnSp>
          <p:nvCxnSpPr>
            <p:cNvPr id="765" name="直接连接符 10"/>
            <p:cNvCxnSpPr/>
            <p:nvPr/>
          </p:nvCxnSpPr>
          <p:spPr>
            <a:xfrm flipH="1">
              <a:off x="1828800" y="6215040"/>
              <a:ext cx="5410440" cy="36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  <p:cxnSp>
          <p:nvCxnSpPr>
            <p:cNvPr id="766" name="直接连接符 25"/>
            <p:cNvCxnSpPr/>
            <p:nvPr/>
          </p:nvCxnSpPr>
          <p:spPr>
            <a:xfrm flipH="1">
              <a:off x="-3581280" y="6215040"/>
              <a:ext cx="5410440" cy="360"/>
            </a:xfrm>
            <a:prstGeom prst="straightConnector1">
              <a:avLst/>
            </a:prstGeom>
            <a:ln w="28575">
              <a:solidFill>
                <a:srgbClr val="4f81bd">
                  <a:alpha val="0"/>
                </a:srgbClr>
              </a:solidFill>
              <a:round/>
            </a:ln>
          </p:spPr>
        </p:cxnSp>
      </p:grpSp>
      <p:cxnSp>
        <p:nvCxnSpPr>
          <p:cNvPr id="767" name="直接连接符 28"/>
          <p:cNvCxnSpPr/>
          <p:nvPr/>
        </p:nvCxnSpPr>
        <p:spPr>
          <a:xfrm flipH="1">
            <a:off x="1828800" y="803520"/>
            <a:ext cx="541044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768" name="直接连接符 30"/>
          <p:cNvCxnSpPr/>
          <p:nvPr/>
        </p:nvCxnSpPr>
        <p:spPr>
          <a:xfrm>
            <a:off x="7238880" y="803520"/>
            <a:ext cx="1067040" cy="110160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769" name="直接连接符 33"/>
          <p:cNvCxnSpPr/>
          <p:nvPr/>
        </p:nvCxnSpPr>
        <p:spPr>
          <a:xfrm>
            <a:off x="8305560" y="1904760"/>
            <a:ext cx="360" cy="34077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770" name="组合 39"/>
          <p:cNvGrpSpPr/>
          <p:nvPr/>
        </p:nvGrpSpPr>
        <p:grpSpPr>
          <a:xfrm>
            <a:off x="1981080" y="689400"/>
            <a:ext cx="228240" cy="228240"/>
            <a:chOff x="1981080" y="689400"/>
            <a:chExt cx="228240" cy="228240"/>
          </a:xfrm>
        </p:grpSpPr>
        <p:sp>
          <p:nvSpPr>
            <p:cNvPr id="771" name="椭圆 37"/>
            <p:cNvSpPr/>
            <p:nvPr/>
          </p:nvSpPr>
          <p:spPr>
            <a:xfrm>
              <a:off x="1981080" y="68940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椭圆 38"/>
            <p:cNvSpPr/>
            <p:nvPr/>
          </p:nvSpPr>
          <p:spPr>
            <a:xfrm>
              <a:off x="2038320" y="74628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3" name="组合 40"/>
          <p:cNvGrpSpPr/>
          <p:nvPr/>
        </p:nvGrpSpPr>
        <p:grpSpPr>
          <a:xfrm>
            <a:off x="8191440" y="5257800"/>
            <a:ext cx="228240" cy="228240"/>
            <a:chOff x="8191440" y="5257800"/>
            <a:chExt cx="228240" cy="228240"/>
          </a:xfrm>
        </p:grpSpPr>
        <p:sp>
          <p:nvSpPr>
            <p:cNvPr id="774" name="椭圆 41"/>
            <p:cNvSpPr/>
            <p:nvPr/>
          </p:nvSpPr>
          <p:spPr>
            <a:xfrm>
              <a:off x="8191440" y="525780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椭圆 42"/>
            <p:cNvSpPr/>
            <p:nvPr/>
          </p:nvSpPr>
          <p:spPr>
            <a:xfrm>
              <a:off x="8248680" y="531504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矩形 52"/>
          <p:cNvSpPr/>
          <p:nvPr/>
        </p:nvSpPr>
        <p:spPr>
          <a:xfrm>
            <a:off x="4311720" y="2643120"/>
            <a:ext cx="1300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3600" spc="49" strike="noStrike">
                <a:solidFill>
                  <a:srgbClr val="fbfcfd">
                    <a:alpha val="95000"/>
                  </a:srgbClr>
                </a:solidFill>
                <a:latin typeface="全新硬笔行书简"/>
                <a:ea typeface="全新硬笔行书简"/>
              </a:rPr>
              <a:t>苏州大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矩形 55"/>
          <p:cNvSpPr/>
          <p:nvPr/>
        </p:nvSpPr>
        <p:spPr>
          <a:xfrm>
            <a:off x="5000760" y="4857840"/>
            <a:ext cx="318528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49" strike="noStrike">
                <a:solidFill>
                  <a:srgbClr val="fbfcfd">
                    <a:alpha val="95000"/>
                  </a:srgbClr>
                </a:solidFill>
                <a:latin typeface="全新硬笔行书简"/>
                <a:ea typeface="全新硬笔行书简"/>
              </a:rPr>
              <a:t>XXX—— PPT</a:t>
            </a:r>
            <a:r>
              <a:rPr b="1" lang="zh-CN" sz="2000" spc="49" strike="noStrike">
                <a:solidFill>
                  <a:srgbClr val="fbfcfd">
                    <a:alpha val="95000"/>
                  </a:srgbClr>
                </a:solidFill>
                <a:latin typeface="全新硬笔行书简"/>
                <a:ea typeface="全新硬笔行书简"/>
              </a:rPr>
              <a:t>个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矩形 81"/>
          <p:cNvSpPr/>
          <p:nvPr/>
        </p:nvSpPr>
        <p:spPr>
          <a:xfrm>
            <a:off x="603720" y="936360"/>
            <a:ext cx="615240" cy="28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1440" bIns="91440" anchor="t" vert="vert" rot="5400000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49" strike="noStrike">
                <a:solidFill>
                  <a:srgbClr val="fbfcfd">
                    <a:alpha val="95000"/>
                  </a:srgbClr>
                </a:solidFill>
                <a:latin typeface="Calibri"/>
                <a:ea typeface="黑体"/>
              </a:rPr>
              <a:t>Personal   res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79" name="直接连接符 82"/>
          <p:cNvCxnSpPr/>
          <p:nvPr/>
        </p:nvCxnSpPr>
        <p:spPr>
          <a:xfrm>
            <a:off x="609480" y="841320"/>
            <a:ext cx="360" cy="412488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780" name="直接连接符 86"/>
          <p:cNvCxnSpPr/>
          <p:nvPr/>
        </p:nvCxnSpPr>
        <p:spPr>
          <a:xfrm flipH="1">
            <a:off x="609480" y="841320"/>
            <a:ext cx="53388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781" name="组合 89"/>
          <p:cNvGrpSpPr/>
          <p:nvPr/>
        </p:nvGrpSpPr>
        <p:grpSpPr>
          <a:xfrm>
            <a:off x="1072800" y="727200"/>
            <a:ext cx="228240" cy="228240"/>
            <a:chOff x="1072800" y="727200"/>
            <a:chExt cx="228240" cy="228240"/>
          </a:xfrm>
        </p:grpSpPr>
        <p:sp>
          <p:nvSpPr>
            <p:cNvPr id="782" name="椭圆 90"/>
            <p:cNvSpPr/>
            <p:nvPr/>
          </p:nvSpPr>
          <p:spPr>
            <a:xfrm>
              <a:off x="1072800" y="72720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椭圆 91"/>
            <p:cNvSpPr/>
            <p:nvPr/>
          </p:nvSpPr>
          <p:spPr>
            <a:xfrm>
              <a:off x="1130040" y="78444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4" name="直接连接符 94"/>
          <p:cNvCxnSpPr/>
          <p:nvPr/>
        </p:nvCxnSpPr>
        <p:spPr>
          <a:xfrm flipH="1">
            <a:off x="3809880" y="584280"/>
            <a:ext cx="426744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785" name="组合 95"/>
          <p:cNvGrpSpPr/>
          <p:nvPr/>
        </p:nvGrpSpPr>
        <p:grpSpPr>
          <a:xfrm>
            <a:off x="3645000" y="470160"/>
            <a:ext cx="228240" cy="228240"/>
            <a:chOff x="3645000" y="470160"/>
            <a:chExt cx="228240" cy="228240"/>
          </a:xfrm>
        </p:grpSpPr>
        <p:sp>
          <p:nvSpPr>
            <p:cNvPr id="786" name="椭圆 96"/>
            <p:cNvSpPr/>
            <p:nvPr/>
          </p:nvSpPr>
          <p:spPr>
            <a:xfrm>
              <a:off x="3645000" y="47016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椭圆 97"/>
            <p:cNvSpPr/>
            <p:nvPr/>
          </p:nvSpPr>
          <p:spPr>
            <a:xfrm>
              <a:off x="3701880" y="52740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组合 76"/>
          <p:cNvGrpSpPr/>
          <p:nvPr/>
        </p:nvGrpSpPr>
        <p:grpSpPr>
          <a:xfrm>
            <a:off x="7924680" y="422640"/>
            <a:ext cx="1066320" cy="1066320"/>
            <a:chOff x="7924680" y="422640"/>
            <a:chExt cx="1066320" cy="1066320"/>
          </a:xfrm>
        </p:grpSpPr>
        <p:sp>
          <p:nvSpPr>
            <p:cNvPr id="789" name="椭圆 77"/>
            <p:cNvSpPr/>
            <p:nvPr/>
          </p:nvSpPr>
          <p:spPr>
            <a:xfrm>
              <a:off x="7924680" y="422640"/>
              <a:ext cx="1066320" cy="106632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椭圆 78"/>
            <p:cNvSpPr/>
            <p:nvPr/>
          </p:nvSpPr>
          <p:spPr>
            <a:xfrm>
              <a:off x="8344080" y="841680"/>
              <a:ext cx="228240" cy="228240"/>
            </a:xfrm>
            <a:prstGeom prst="ellipse">
              <a:avLst/>
            </a:prstGeom>
            <a:solidFill>
              <a:schemeClr val="accent1">
                <a:alpha val="8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椭圆 79"/>
            <p:cNvSpPr/>
            <p:nvPr/>
          </p:nvSpPr>
          <p:spPr>
            <a:xfrm>
              <a:off x="8118720" y="616680"/>
              <a:ext cx="678600" cy="67860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椭圆 80"/>
            <p:cNvSpPr/>
            <p:nvPr/>
          </p:nvSpPr>
          <p:spPr>
            <a:xfrm>
              <a:off x="8001000" y="498600"/>
              <a:ext cx="914040" cy="914040"/>
            </a:xfrm>
            <a:prstGeom prst="ellipse">
              <a:avLst/>
            </a:prstGeom>
            <a:noFill/>
            <a:ln w="28575">
              <a:solidFill>
                <a:srgbClr val="4f81bd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组合 71"/>
          <p:cNvGrpSpPr/>
          <p:nvPr/>
        </p:nvGrpSpPr>
        <p:grpSpPr>
          <a:xfrm>
            <a:off x="304920" y="4915080"/>
            <a:ext cx="1066320" cy="1066320"/>
            <a:chOff x="304920" y="4915080"/>
            <a:chExt cx="1066320" cy="1066320"/>
          </a:xfrm>
        </p:grpSpPr>
        <p:sp>
          <p:nvSpPr>
            <p:cNvPr id="794" name="椭圆 72"/>
            <p:cNvSpPr/>
            <p:nvPr/>
          </p:nvSpPr>
          <p:spPr>
            <a:xfrm>
              <a:off x="304920" y="4915080"/>
              <a:ext cx="1066320" cy="106632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椭圆 73"/>
            <p:cNvSpPr/>
            <p:nvPr/>
          </p:nvSpPr>
          <p:spPr>
            <a:xfrm>
              <a:off x="723960" y="5334120"/>
              <a:ext cx="228240" cy="228240"/>
            </a:xfrm>
            <a:prstGeom prst="ellipse">
              <a:avLst/>
            </a:prstGeom>
            <a:solidFill>
              <a:schemeClr val="accent1">
                <a:alpha val="8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椭圆 74"/>
            <p:cNvSpPr/>
            <p:nvPr/>
          </p:nvSpPr>
          <p:spPr>
            <a:xfrm>
              <a:off x="498600" y="5108760"/>
              <a:ext cx="678600" cy="67860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椭圆 75"/>
            <p:cNvSpPr/>
            <p:nvPr/>
          </p:nvSpPr>
          <p:spPr>
            <a:xfrm>
              <a:off x="380880" y="4991040"/>
              <a:ext cx="914040" cy="914040"/>
            </a:xfrm>
            <a:prstGeom prst="ellipse">
              <a:avLst/>
            </a:prstGeom>
            <a:noFill/>
            <a:ln w="28575">
              <a:solidFill>
                <a:srgbClr val="4f81bd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2" dur="indefinite" restart="never" nodeType="tmRoot">
          <p:childTnLst>
            <p:seq>
              <p:cTn id="1533" dur="indefinite" nodeType="mainSeq">
                <p:childTnLst>
                  <p:par>
                    <p:cTn id="1534" fill="hold">
                      <p:stCondLst>
                        <p:cond delay="0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nodeType="withEffect" fill="hold" presetClass="exit" presetID="1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0" nodeType="withEffect" fill="hold" presetClass="exit" presetID="1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6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8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567" dur="25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xit" presetID="1">
                                  <p:stCondLst>
                                    <p:cond delay="88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">
                                  <p:stCondLst>
                                    <p:cond delay="99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xit" presetID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1">
                                  <p:stCondLst>
                                    <p:cond delay="111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xit" presetID="1">
                                  <p:stCondLst>
                                    <p:cond delay="116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1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xit" presetID="1">
                                  <p:stCondLst>
                                    <p:cond delay="108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">
                                  <p:stCondLst>
                                    <p:cond delay="119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xit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">
                                  <p:stCondLst>
                                    <p:cond delay="131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2" nodeType="withEffect" fill="hold" presetClass="exit" presetID="1">
                                  <p:stCondLst>
                                    <p:cond delay="136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">
                                  <p:stCondLst>
                                    <p:cond delay="115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xit" presetID="1">
                                  <p:stCondLst>
                                    <p:cond delay="128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1">
                                  <p:stCondLst>
                                    <p:cond delay="139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nodeType="withEffect" fill="hold" presetClass="exit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1">
                                  <p:stCondLst>
                                    <p:cond delay="151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nodeType="withEffect" fill="hold" presetClass="exit" presetID="1">
                                  <p:stCondLst>
                                    <p:cond delay="156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1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2" nodeType="withEffect" fill="hold" presetClass="exit" presetID="1">
                                  <p:stCondLst>
                                    <p:cond delay="108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1">
                                  <p:stCondLst>
                                    <p:cond delay="119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xit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ntr" presetID="1">
                                  <p:stCondLst>
                                    <p:cond delay="131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xit" presetID="1">
                                  <p:stCondLst>
                                    <p:cond delay="136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0" dur="15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8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15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6" nodeType="withEffect" fill="hold" presetClass="exit" presetID="1">
                                  <p:stCondLst>
                                    <p:cond delay="178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1">
                                  <p:stCondLst>
                                    <p:cond delay="189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0" nodeType="withEffect" fill="hold" presetClass="exit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1">
                                  <p:stCondLst>
                                    <p:cond delay="2009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xit" presetID="1">
                                  <p:stCondLst>
                                    <p:cond delay="206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6" presetSubtype="37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58" dur="25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6" presetSubtype="37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61" dur="25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4" dur="15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xit" presetID="1">
                                  <p:stCondLst>
                                    <p:cond delay="193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">
                                  <p:stCondLst>
                                    <p:cond delay="204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xit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">
                                  <p:stCondLst>
                                    <p:cond delay="216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xit" presetID="1">
                                  <p:stCondLst>
                                    <p:cond delay="221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25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25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25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25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5" dur="25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">
                                  <p:stCondLst>
                                    <p:cond delay="205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1">
                                  <p:stCondLst>
                                    <p:cond delay="218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">
                                  <p:stCondLst>
                                    <p:cond delay="229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xit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xit" presetID="1">
                                  <p:stCondLst>
                                    <p:cond delay="246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2" dur="15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22" presetSubtype="8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5" dur="15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8" nodeType="withEffect" fill="hold" presetClass="exit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">
                                  <p:stCondLst>
                                    <p:cond delay="219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nodeType="withEffect" fill="hold" presetClass="exit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exit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2" dur="25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2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25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1">
                                  <p:stCondLst>
                                    <p:cond delay="205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8" nodeType="withEffect" fill="hold" presetClass="exit" presetID="1">
                                  <p:stCondLst>
                                    <p:cond delay="218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1">
                                  <p:stCondLst>
                                    <p:cond delay="229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2" nodeType="withEffect" fill="hold" presetClass="exit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6" nodeType="withEffect" fill="hold" presetClass="exit" presetID="1">
                                  <p:stCondLst>
                                    <p:cond delay="246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98" name="直接连接符 76"/>
          <p:cNvCxnSpPr/>
          <p:nvPr/>
        </p:nvCxnSpPr>
        <p:spPr>
          <a:xfrm flipH="1">
            <a:off x="3682800" y="799920"/>
            <a:ext cx="426744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799" name="组合 77"/>
          <p:cNvGrpSpPr/>
          <p:nvPr/>
        </p:nvGrpSpPr>
        <p:grpSpPr>
          <a:xfrm>
            <a:off x="3517920" y="685800"/>
            <a:ext cx="228240" cy="228240"/>
            <a:chOff x="3517920" y="685800"/>
            <a:chExt cx="228240" cy="228240"/>
          </a:xfrm>
        </p:grpSpPr>
        <p:sp>
          <p:nvSpPr>
            <p:cNvPr id="800" name="椭圆 78"/>
            <p:cNvSpPr/>
            <p:nvPr/>
          </p:nvSpPr>
          <p:spPr>
            <a:xfrm>
              <a:off x="3517920" y="68580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椭圆 79"/>
            <p:cNvSpPr/>
            <p:nvPr/>
          </p:nvSpPr>
          <p:spPr>
            <a:xfrm>
              <a:off x="3575160" y="74304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02" name="直接连接符 70"/>
          <p:cNvCxnSpPr/>
          <p:nvPr/>
        </p:nvCxnSpPr>
        <p:spPr>
          <a:xfrm>
            <a:off x="4259880" y="3771720"/>
            <a:ext cx="210312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803" name="直接连接符 71"/>
          <p:cNvCxnSpPr/>
          <p:nvPr/>
        </p:nvCxnSpPr>
        <p:spPr>
          <a:xfrm>
            <a:off x="6221880" y="5333760"/>
            <a:ext cx="207792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804" name="直接连接符 69"/>
          <p:cNvCxnSpPr/>
          <p:nvPr/>
        </p:nvCxnSpPr>
        <p:spPr>
          <a:xfrm>
            <a:off x="2316960" y="2218680"/>
            <a:ext cx="646668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805" name="直接连接符 48"/>
          <p:cNvCxnSpPr/>
          <p:nvPr/>
        </p:nvCxnSpPr>
        <p:spPr>
          <a:xfrm flipH="1">
            <a:off x="685800" y="955800"/>
            <a:ext cx="723924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806" name="组合 35"/>
          <p:cNvGrpSpPr/>
          <p:nvPr/>
        </p:nvGrpSpPr>
        <p:grpSpPr>
          <a:xfrm>
            <a:off x="7924680" y="422640"/>
            <a:ext cx="1066320" cy="1066320"/>
            <a:chOff x="7924680" y="422640"/>
            <a:chExt cx="1066320" cy="1066320"/>
          </a:xfrm>
        </p:grpSpPr>
        <p:sp>
          <p:nvSpPr>
            <p:cNvPr id="807" name="椭圆 36"/>
            <p:cNvSpPr/>
            <p:nvPr/>
          </p:nvSpPr>
          <p:spPr>
            <a:xfrm>
              <a:off x="7924680" y="422640"/>
              <a:ext cx="1066320" cy="106632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椭圆 44"/>
            <p:cNvSpPr/>
            <p:nvPr/>
          </p:nvSpPr>
          <p:spPr>
            <a:xfrm>
              <a:off x="8344080" y="841680"/>
              <a:ext cx="228240" cy="228240"/>
            </a:xfrm>
            <a:prstGeom prst="ellipse">
              <a:avLst/>
            </a:prstGeom>
            <a:solidFill>
              <a:schemeClr val="accent1">
                <a:alpha val="8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椭圆 46"/>
            <p:cNvSpPr/>
            <p:nvPr/>
          </p:nvSpPr>
          <p:spPr>
            <a:xfrm>
              <a:off x="8118720" y="616680"/>
              <a:ext cx="678600" cy="67860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椭圆 47"/>
            <p:cNvSpPr/>
            <p:nvPr/>
          </p:nvSpPr>
          <p:spPr>
            <a:xfrm>
              <a:off x="8001000" y="498600"/>
              <a:ext cx="914040" cy="914040"/>
            </a:xfrm>
            <a:prstGeom prst="ellipse">
              <a:avLst/>
            </a:prstGeom>
            <a:noFill/>
            <a:ln w="28575">
              <a:solidFill>
                <a:srgbClr val="4f81bd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11" name="直接连接符 50"/>
          <p:cNvCxnSpPr/>
          <p:nvPr/>
        </p:nvCxnSpPr>
        <p:spPr>
          <a:xfrm>
            <a:off x="685800" y="955800"/>
            <a:ext cx="7772760" cy="620712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812" name="组合 60"/>
          <p:cNvGrpSpPr/>
          <p:nvPr/>
        </p:nvGrpSpPr>
        <p:grpSpPr>
          <a:xfrm>
            <a:off x="2142000" y="2096640"/>
            <a:ext cx="228240" cy="228240"/>
            <a:chOff x="2142000" y="2096640"/>
            <a:chExt cx="228240" cy="228240"/>
          </a:xfrm>
        </p:grpSpPr>
        <p:sp>
          <p:nvSpPr>
            <p:cNvPr id="813" name="椭圆 61"/>
            <p:cNvSpPr/>
            <p:nvPr/>
          </p:nvSpPr>
          <p:spPr>
            <a:xfrm>
              <a:off x="2142000" y="209664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椭圆 62"/>
            <p:cNvSpPr/>
            <p:nvPr/>
          </p:nvSpPr>
          <p:spPr>
            <a:xfrm>
              <a:off x="2199240" y="215388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组合 66"/>
          <p:cNvGrpSpPr/>
          <p:nvPr/>
        </p:nvGrpSpPr>
        <p:grpSpPr>
          <a:xfrm>
            <a:off x="6050880" y="5219640"/>
            <a:ext cx="228240" cy="228240"/>
            <a:chOff x="6050880" y="5219640"/>
            <a:chExt cx="228240" cy="228240"/>
          </a:xfrm>
        </p:grpSpPr>
        <p:sp>
          <p:nvSpPr>
            <p:cNvPr id="816" name="椭圆 67"/>
            <p:cNvSpPr/>
            <p:nvPr/>
          </p:nvSpPr>
          <p:spPr>
            <a:xfrm>
              <a:off x="6050880" y="521964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椭圆 68"/>
            <p:cNvSpPr/>
            <p:nvPr/>
          </p:nvSpPr>
          <p:spPr>
            <a:xfrm>
              <a:off x="6107760" y="527688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矩形 72"/>
          <p:cNvSpPr/>
          <p:nvPr/>
        </p:nvSpPr>
        <p:spPr>
          <a:xfrm>
            <a:off x="2641680" y="1630800"/>
            <a:ext cx="1241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49" strike="noStrike">
                <a:solidFill>
                  <a:srgbClr val="fbfcfd">
                    <a:alpha val="95000"/>
                  </a:srgbClr>
                </a:solidFill>
                <a:latin typeface="黑体"/>
                <a:ea typeface="黑体"/>
              </a:rPr>
              <a:t> </a:t>
            </a:r>
            <a:r>
              <a:rPr b="1" lang="zh-CN" sz="2800" spc="49" strike="noStrike">
                <a:solidFill>
                  <a:srgbClr val="fbfcfd">
                    <a:alpha val="95000"/>
                  </a:srgbClr>
                </a:solidFill>
                <a:latin typeface="全新硬笔行书简"/>
                <a:ea typeface="全新硬笔行书简"/>
              </a:rPr>
              <a:t>在校经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矩形 73"/>
          <p:cNvSpPr/>
          <p:nvPr/>
        </p:nvSpPr>
        <p:spPr>
          <a:xfrm>
            <a:off x="4640400" y="3191400"/>
            <a:ext cx="1056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49" strike="noStrike">
                <a:solidFill>
                  <a:srgbClr val="fbfcfd">
                    <a:alpha val="95000"/>
                  </a:srgbClr>
                </a:solidFill>
                <a:latin typeface="全新硬笔行书简"/>
                <a:ea typeface="全新硬笔行书简"/>
              </a:rPr>
              <a:t>工作经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矩形 74"/>
          <p:cNvSpPr/>
          <p:nvPr/>
        </p:nvSpPr>
        <p:spPr>
          <a:xfrm>
            <a:off x="6577200" y="4753800"/>
            <a:ext cx="1056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49" strike="noStrike">
                <a:solidFill>
                  <a:srgbClr val="fbfcfd">
                    <a:alpha val="95000"/>
                  </a:srgbClr>
                </a:solidFill>
                <a:latin typeface="全新硬笔行书简"/>
                <a:ea typeface="全新硬笔行书简"/>
              </a:rPr>
              <a:t>自我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TextBox 80"/>
          <p:cNvSpPr/>
          <p:nvPr/>
        </p:nvSpPr>
        <p:spPr>
          <a:xfrm>
            <a:off x="4248720" y="304920"/>
            <a:ext cx="1461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chemeClr val="accent1"/>
                </a:solidFill>
                <a:latin typeface="Calibri"/>
              </a:rPr>
              <a:t>求职者简历内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2" name="组合 63"/>
          <p:cNvGrpSpPr/>
          <p:nvPr/>
        </p:nvGrpSpPr>
        <p:grpSpPr>
          <a:xfrm>
            <a:off x="4088520" y="3657600"/>
            <a:ext cx="228240" cy="228240"/>
            <a:chOff x="4088520" y="3657600"/>
            <a:chExt cx="228240" cy="228240"/>
          </a:xfrm>
        </p:grpSpPr>
        <p:sp>
          <p:nvSpPr>
            <p:cNvPr id="823" name="椭圆 64"/>
            <p:cNvSpPr/>
            <p:nvPr/>
          </p:nvSpPr>
          <p:spPr>
            <a:xfrm>
              <a:off x="4088520" y="365760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椭圆 65"/>
            <p:cNvSpPr/>
            <p:nvPr/>
          </p:nvSpPr>
          <p:spPr>
            <a:xfrm>
              <a:off x="4145760" y="371484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TextBox 145"/>
          <p:cNvSpPr/>
          <p:nvPr/>
        </p:nvSpPr>
        <p:spPr>
          <a:xfrm>
            <a:off x="1139040" y="1757160"/>
            <a:ext cx="591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chemeClr val="accent1"/>
                </a:solidFill>
                <a:latin typeface="黑体"/>
                <a:ea typeface="黑体"/>
              </a:rPr>
              <a:t>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TextBox 146"/>
          <p:cNvSpPr/>
          <p:nvPr/>
        </p:nvSpPr>
        <p:spPr>
          <a:xfrm>
            <a:off x="3096360" y="3310200"/>
            <a:ext cx="591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chemeClr val="accent1"/>
                </a:solidFill>
                <a:latin typeface="黑体"/>
                <a:ea typeface="黑体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TextBox 147"/>
          <p:cNvSpPr/>
          <p:nvPr/>
        </p:nvSpPr>
        <p:spPr>
          <a:xfrm>
            <a:off x="5001480" y="4863600"/>
            <a:ext cx="591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chemeClr val="accent1"/>
                </a:solidFill>
                <a:latin typeface="黑体"/>
                <a:ea typeface="黑体"/>
              </a:rPr>
              <a:t>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8" name="直接连接符 148"/>
          <p:cNvCxnSpPr>
            <a:stCxn id="814" idx="3"/>
          </p:cNvCxnSpPr>
          <p:nvPr/>
        </p:nvCxnSpPr>
        <p:spPr>
          <a:xfrm flipH="1">
            <a:off x="1869840" y="2251440"/>
            <a:ext cx="346320" cy="49212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829" name="直接连接符 151"/>
          <p:cNvCxnSpPr/>
          <p:nvPr/>
        </p:nvCxnSpPr>
        <p:spPr>
          <a:xfrm flipH="1">
            <a:off x="990360" y="2743200"/>
            <a:ext cx="87984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830" name="直接连接符 154"/>
          <p:cNvCxnSpPr>
            <a:stCxn id="824" idx="3"/>
          </p:cNvCxnSpPr>
          <p:nvPr/>
        </p:nvCxnSpPr>
        <p:spPr>
          <a:xfrm flipH="1">
            <a:off x="3809880" y="3812040"/>
            <a:ext cx="352800" cy="4845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831" name="直接连接符 155"/>
          <p:cNvCxnSpPr/>
          <p:nvPr/>
        </p:nvCxnSpPr>
        <p:spPr>
          <a:xfrm flipH="1">
            <a:off x="2930400" y="4296240"/>
            <a:ext cx="87984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832" name="直接连接符 162"/>
          <p:cNvCxnSpPr>
            <a:stCxn id="817" idx="3"/>
          </p:cNvCxnSpPr>
          <p:nvPr/>
        </p:nvCxnSpPr>
        <p:spPr>
          <a:xfrm flipH="1">
            <a:off x="5790960" y="5374080"/>
            <a:ext cx="333720" cy="45324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833" name="直接连接符 163"/>
          <p:cNvCxnSpPr/>
          <p:nvPr/>
        </p:nvCxnSpPr>
        <p:spPr>
          <a:xfrm flipH="1">
            <a:off x="4912920" y="5819760"/>
            <a:ext cx="87948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0" dur="indefinite" restart="never" nodeType="tmRoot">
          <p:childTnLst>
            <p:seq>
              <p:cTn id="1771" dur="indefinite" nodeType="mainSeq">
                <p:childTnLst>
                  <p:par>
                    <p:cTn id="1772" fill="hold">
                      <p:stCondLst>
                        <p:cond delay="0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6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8" nodeType="withEffect" fill="hold" presetClass="exit" presetID="1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2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6" nodeType="withEffect" fill="hold" presetClass="exit" presetID="1">
                                  <p:stCondLst>
                                    <p:cond delay="48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2" dur="25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5" dur="25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8" nodeType="withEffect" fill="hold" presetClass="exit" presetID="1">
                                  <p:stCondLst>
                                    <p:cond delay="88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1">
                                  <p:stCondLst>
                                    <p:cond delay="99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2" nodeType="withEffect" fill="hold" presetClass="exit" presetID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1">
                                  <p:stCondLst>
                                    <p:cond delay="111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6" nodeType="withEffect" fill="hold" presetClass="exit" presetID="1">
                                  <p:stCondLst>
                                    <p:cond delay="116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2" nodeType="withEffect" fill="hold" presetClass="exit" presetID="1">
                                  <p:stCondLst>
                                    <p:cond delay="133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1">
                                  <p:stCondLst>
                                    <p:cond delay="144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6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1">
                                  <p:stCondLst>
                                    <p:cond delay="156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xit" presetID="1">
                                  <p:stCondLst>
                                    <p:cond delay="161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6" dur="175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xit" presetID="1">
                                  <p:stCondLst>
                                    <p:cond delay="113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1">
                                  <p:stCondLst>
                                    <p:cond delay="124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1">
                                  <p:stCondLst>
                                    <p:cond delay="136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xit" presetID="1">
                                  <p:stCondLst>
                                    <p:cond delay="141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22" presetSubtype="8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3" dur="25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6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nodeType="withEffect" fill="hold" presetClass="exit" presetID="1">
                                  <p:stCondLst>
                                    <p:cond delay="158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1" nodeType="withEffect" fill="hold" presetClass="entr" presetID="1">
                                  <p:stCondLst>
                                    <p:cond delay="169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3" nodeType="withEffect" fill="hold" presetClass="exit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1">
                                  <p:stCondLst>
                                    <p:cond delay="181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nodeType="withEffect" fill="hold" presetClass="exit" presetID="1">
                                  <p:stCondLst>
                                    <p:cond delay="186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3" dur="25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22" presetSubtype="8">
                                  <p:stCondLst>
                                    <p:cond delay="215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6" dur="25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9" nodeType="withEffect" fill="hold" presetClass="exit" presetID="1">
                                  <p:stCondLst>
                                    <p:cond delay="2029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1">
                                  <p:stCondLst>
                                    <p:cond delay="214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3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1">
                                  <p:stCondLst>
                                    <p:cond delay="226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7" nodeType="withEffect" fill="hold" presetClass="exit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22" presetSubtype="8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3" dur="25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6" dur="25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2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9" dur="25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2" dur="25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5" nodeType="withEffect" fill="hold" presetClass="exit" presetID="1">
                                  <p:stCondLst>
                                    <p:cond delay="338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1">
                                  <p:stCondLst>
                                    <p:cond delay="349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1">
                                  <p:stCondLst>
                                    <p:cond delay="355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1">
                                  <p:stCondLst>
                                    <p:cond delay="361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3" nodeType="withEffect" fill="hold" presetClass="exit" presetID="1">
                                  <p:stCondLst>
                                    <p:cond delay="366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7" nodeType="withEffect" fill="hold" presetClass="entr" presetID="22" presetSubtype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9" dur="25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2" dur="25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5" nodeType="withEffect" fill="hold" presetClass="exit" presetID="1">
                                  <p:stCondLst>
                                    <p:cond delay="388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9" nodeType="withEffect" fill="hold" presetClass="exit" presetID="1">
                                  <p:stCondLst>
                                    <p:cond delay="405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1">
                                  <p:stCondLst>
                                    <p:cond delay="411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xit" presetID="1">
                                  <p:stCondLst>
                                    <p:cond delay="416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7" nodeType="withEffect" fill="hold" presetClass="entr" presetID="22" presetSubtype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9" dur="25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2" dur="25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5" nodeType="withEffect" fill="hold" presetClass="exit" presetID="1">
                                  <p:stCondLst>
                                    <p:cond delay="438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9" nodeType="withEffect" fill="hold" presetClass="exit" presetID="1">
                                  <p:stCondLst>
                                    <p:cond delay="455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1">
                                  <p:stCondLst>
                                    <p:cond delay="461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3" nodeType="withEffect" fill="hold" presetClass="exit" presetID="1">
                                  <p:stCondLst>
                                    <p:cond delay="466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Box 62"/>
          <p:cNvSpPr/>
          <p:nvPr/>
        </p:nvSpPr>
        <p:spPr>
          <a:xfrm>
            <a:off x="8270640" y="2031840"/>
            <a:ext cx="4921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49" strike="noStrike">
                <a:solidFill>
                  <a:srgbClr val="fbfcfd">
                    <a:alpha val="95000"/>
                  </a:srgbClr>
                </a:solidFill>
                <a:latin typeface="黑体"/>
                <a:ea typeface="黑体"/>
              </a:rPr>
              <a:t>苏州大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35" name="直接连接符 1"/>
          <p:cNvCxnSpPr>
            <a:endCxn id="836" idx="2"/>
          </p:cNvCxnSpPr>
          <p:nvPr/>
        </p:nvCxnSpPr>
        <p:spPr>
          <a:xfrm>
            <a:off x="0" y="5752800"/>
            <a:ext cx="174960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837" name="直接连接符 7"/>
          <p:cNvCxnSpPr>
            <a:endCxn id="836" idx="0"/>
          </p:cNvCxnSpPr>
          <p:nvPr/>
        </p:nvCxnSpPr>
        <p:spPr>
          <a:xfrm>
            <a:off x="1844640" y="990360"/>
            <a:ext cx="360" cy="46677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838" name="组合 21"/>
          <p:cNvGrpSpPr/>
          <p:nvPr/>
        </p:nvGrpSpPr>
        <p:grpSpPr>
          <a:xfrm>
            <a:off x="1844640" y="990360"/>
            <a:ext cx="6003720" cy="495360"/>
            <a:chOff x="1844640" y="990360"/>
            <a:chExt cx="6003720" cy="495360"/>
          </a:xfrm>
        </p:grpSpPr>
        <p:cxnSp>
          <p:nvCxnSpPr>
            <p:cNvPr id="839" name="直接连接符 12"/>
            <p:cNvCxnSpPr/>
            <p:nvPr/>
          </p:nvCxnSpPr>
          <p:spPr>
            <a:xfrm>
              <a:off x="1844640" y="990360"/>
              <a:ext cx="4327920" cy="36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  <p:cxnSp>
          <p:nvCxnSpPr>
            <p:cNvPr id="840" name="直接连接符 14"/>
            <p:cNvCxnSpPr/>
            <p:nvPr/>
          </p:nvCxnSpPr>
          <p:spPr>
            <a:xfrm>
              <a:off x="6172200" y="990360"/>
              <a:ext cx="533520" cy="49572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  <p:cxnSp>
          <p:nvCxnSpPr>
            <p:cNvPr id="841" name="直接连接符 18"/>
            <p:cNvCxnSpPr/>
            <p:nvPr/>
          </p:nvCxnSpPr>
          <p:spPr>
            <a:xfrm>
              <a:off x="6705360" y="1485720"/>
              <a:ext cx="1143360" cy="36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</p:grpSp>
      <p:cxnSp>
        <p:nvCxnSpPr>
          <p:cNvPr id="842" name="直接连接符 22"/>
          <p:cNvCxnSpPr/>
          <p:nvPr/>
        </p:nvCxnSpPr>
        <p:spPr>
          <a:xfrm>
            <a:off x="7848360" y="1485720"/>
            <a:ext cx="360" cy="426744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843" name="直接连接符 25"/>
          <p:cNvCxnSpPr>
            <a:endCxn id="836" idx="6"/>
          </p:cNvCxnSpPr>
          <p:nvPr/>
        </p:nvCxnSpPr>
        <p:spPr>
          <a:xfrm flipH="1">
            <a:off x="1939680" y="5752800"/>
            <a:ext cx="590904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844" name="组合 3"/>
          <p:cNvGrpSpPr/>
          <p:nvPr/>
        </p:nvGrpSpPr>
        <p:grpSpPr>
          <a:xfrm>
            <a:off x="1654200" y="5562720"/>
            <a:ext cx="380520" cy="380520"/>
            <a:chOff x="1654200" y="5562720"/>
            <a:chExt cx="380520" cy="380520"/>
          </a:xfrm>
        </p:grpSpPr>
        <p:sp>
          <p:nvSpPr>
            <p:cNvPr id="845" name="椭圆 4"/>
            <p:cNvSpPr/>
            <p:nvPr/>
          </p:nvSpPr>
          <p:spPr>
            <a:xfrm>
              <a:off x="1654200" y="5562720"/>
              <a:ext cx="380520" cy="38052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椭圆 5"/>
            <p:cNvSpPr/>
            <p:nvPr/>
          </p:nvSpPr>
          <p:spPr>
            <a:xfrm>
              <a:off x="1749600" y="5657760"/>
              <a:ext cx="190080" cy="19008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矩形 29"/>
          <p:cNvSpPr/>
          <p:nvPr/>
        </p:nvSpPr>
        <p:spPr>
          <a:xfrm>
            <a:off x="685800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矩形 31"/>
          <p:cNvSpPr/>
          <p:nvPr/>
        </p:nvSpPr>
        <p:spPr>
          <a:xfrm>
            <a:off x="701028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矩形 32"/>
          <p:cNvSpPr/>
          <p:nvPr/>
        </p:nvSpPr>
        <p:spPr>
          <a:xfrm>
            <a:off x="716292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矩形 33"/>
          <p:cNvSpPr/>
          <p:nvPr/>
        </p:nvSpPr>
        <p:spPr>
          <a:xfrm>
            <a:off x="731520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34"/>
          <p:cNvSpPr/>
          <p:nvPr/>
        </p:nvSpPr>
        <p:spPr>
          <a:xfrm>
            <a:off x="746748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矩形 35"/>
          <p:cNvSpPr/>
          <p:nvPr/>
        </p:nvSpPr>
        <p:spPr>
          <a:xfrm>
            <a:off x="762012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矩形 36"/>
          <p:cNvSpPr/>
          <p:nvPr/>
        </p:nvSpPr>
        <p:spPr>
          <a:xfrm>
            <a:off x="777240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剪去单角的矩形 37"/>
          <p:cNvSpPr/>
          <p:nvPr/>
        </p:nvSpPr>
        <p:spPr>
          <a:xfrm flipH="1" flipV="1">
            <a:off x="6438240" y="990720"/>
            <a:ext cx="1418040" cy="190080"/>
          </a:xfrm>
          <a:prstGeom prst="snip1Rect">
            <a:avLst>
              <a:gd name="adj" fmla="val 50000"/>
            </a:avLst>
          </a:prstGeom>
          <a:solidFill>
            <a:schemeClr val="accent1">
              <a:alpha val="5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矩形 40"/>
          <p:cNvSpPr/>
          <p:nvPr/>
        </p:nvSpPr>
        <p:spPr>
          <a:xfrm>
            <a:off x="670572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5" name="直接连接符 41"/>
          <p:cNvCxnSpPr>
            <a:endCxn id="836" idx="5"/>
          </p:cNvCxnSpPr>
          <p:nvPr/>
        </p:nvCxnSpPr>
        <p:spPr>
          <a:xfrm flipH="1">
            <a:off x="1911960" y="5820120"/>
            <a:ext cx="5936760" cy="360"/>
          </a:xfrm>
          <a:prstGeom prst="straightConnector1">
            <a:avLst/>
          </a:prstGeom>
          <a:ln w="57150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856" name="直接连接符 44"/>
          <p:cNvCxnSpPr/>
          <p:nvPr/>
        </p:nvCxnSpPr>
        <p:spPr>
          <a:xfrm>
            <a:off x="603360" y="533160"/>
            <a:ext cx="6480" cy="401040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857" name="直接连接符 45"/>
          <p:cNvCxnSpPr/>
          <p:nvPr/>
        </p:nvCxnSpPr>
        <p:spPr>
          <a:xfrm flipH="1">
            <a:off x="603360" y="533160"/>
            <a:ext cx="53388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858" name="组合 46"/>
          <p:cNvGrpSpPr/>
          <p:nvPr/>
        </p:nvGrpSpPr>
        <p:grpSpPr>
          <a:xfrm>
            <a:off x="1067040" y="419040"/>
            <a:ext cx="228240" cy="228240"/>
            <a:chOff x="1067040" y="419040"/>
            <a:chExt cx="228240" cy="228240"/>
          </a:xfrm>
        </p:grpSpPr>
        <p:sp>
          <p:nvSpPr>
            <p:cNvPr id="859" name="椭圆 47"/>
            <p:cNvSpPr/>
            <p:nvPr/>
          </p:nvSpPr>
          <p:spPr>
            <a:xfrm>
              <a:off x="1067040" y="41904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椭圆 48"/>
            <p:cNvSpPr/>
            <p:nvPr/>
          </p:nvSpPr>
          <p:spPr>
            <a:xfrm>
              <a:off x="1123920" y="47628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组合 49"/>
          <p:cNvGrpSpPr/>
          <p:nvPr/>
        </p:nvGrpSpPr>
        <p:grpSpPr>
          <a:xfrm>
            <a:off x="304920" y="4492440"/>
            <a:ext cx="1066320" cy="1066320"/>
            <a:chOff x="304920" y="4492440"/>
            <a:chExt cx="1066320" cy="1066320"/>
          </a:xfrm>
        </p:grpSpPr>
        <p:sp>
          <p:nvSpPr>
            <p:cNvPr id="862" name="椭圆 50"/>
            <p:cNvSpPr/>
            <p:nvPr/>
          </p:nvSpPr>
          <p:spPr>
            <a:xfrm>
              <a:off x="304920" y="4492440"/>
              <a:ext cx="1066320" cy="106632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椭圆 51"/>
            <p:cNvSpPr/>
            <p:nvPr/>
          </p:nvSpPr>
          <p:spPr>
            <a:xfrm>
              <a:off x="723960" y="4911480"/>
              <a:ext cx="228240" cy="228240"/>
            </a:xfrm>
            <a:prstGeom prst="ellipse">
              <a:avLst/>
            </a:prstGeom>
            <a:solidFill>
              <a:schemeClr val="accent1">
                <a:alpha val="8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椭圆 52"/>
            <p:cNvSpPr/>
            <p:nvPr/>
          </p:nvSpPr>
          <p:spPr>
            <a:xfrm>
              <a:off x="498600" y="4686480"/>
              <a:ext cx="678600" cy="67860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椭圆 53"/>
            <p:cNvSpPr/>
            <p:nvPr/>
          </p:nvSpPr>
          <p:spPr>
            <a:xfrm>
              <a:off x="380880" y="4568400"/>
              <a:ext cx="914040" cy="914040"/>
            </a:xfrm>
            <a:prstGeom prst="ellipse">
              <a:avLst/>
            </a:prstGeom>
            <a:noFill/>
            <a:ln w="28575">
              <a:solidFill>
                <a:srgbClr val="4f81bd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矩形 54"/>
          <p:cNvSpPr/>
          <p:nvPr/>
        </p:nvSpPr>
        <p:spPr>
          <a:xfrm>
            <a:off x="603720" y="1111680"/>
            <a:ext cx="615240" cy="28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1440" bIns="91440" anchor="t" vert="vert" rot="5400000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49" strike="noStrike">
                <a:solidFill>
                  <a:srgbClr val="fbfcfd">
                    <a:alpha val="95000"/>
                  </a:srgbClr>
                </a:solidFill>
                <a:latin typeface="Calibri"/>
                <a:ea typeface="黑体"/>
              </a:rPr>
              <a:t>Personal   res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TextBox 55"/>
          <p:cNvSpPr/>
          <p:nvPr/>
        </p:nvSpPr>
        <p:spPr>
          <a:xfrm>
            <a:off x="1802160" y="1792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chemeClr val="accent1"/>
                </a:solidFill>
                <a:latin typeface="黑体"/>
                <a:ea typeface="黑体"/>
              </a:rPr>
              <a:t>在校经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8" name="组合 57"/>
          <p:cNvGrpSpPr/>
          <p:nvPr/>
        </p:nvGrpSpPr>
        <p:grpSpPr>
          <a:xfrm>
            <a:off x="8153280" y="1486080"/>
            <a:ext cx="228240" cy="228240"/>
            <a:chOff x="8153280" y="1486080"/>
            <a:chExt cx="228240" cy="228240"/>
          </a:xfrm>
        </p:grpSpPr>
        <p:sp>
          <p:nvSpPr>
            <p:cNvPr id="869" name="椭圆 58"/>
            <p:cNvSpPr/>
            <p:nvPr/>
          </p:nvSpPr>
          <p:spPr>
            <a:xfrm>
              <a:off x="8153280" y="148608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椭圆 59"/>
            <p:cNvSpPr/>
            <p:nvPr/>
          </p:nvSpPr>
          <p:spPr>
            <a:xfrm>
              <a:off x="8210520" y="154296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组合 67"/>
          <p:cNvGrpSpPr/>
          <p:nvPr/>
        </p:nvGrpSpPr>
        <p:grpSpPr>
          <a:xfrm>
            <a:off x="8308080" y="1640520"/>
            <a:ext cx="378720" cy="4112280"/>
            <a:chOff x="8308080" y="1640520"/>
            <a:chExt cx="378720" cy="4112280"/>
          </a:xfrm>
        </p:grpSpPr>
        <p:cxnSp>
          <p:nvCxnSpPr>
            <p:cNvPr id="872" name="直接连接符 60"/>
            <p:cNvCxnSpPr/>
            <p:nvPr/>
          </p:nvCxnSpPr>
          <p:spPr>
            <a:xfrm flipV="1">
              <a:off x="8686800" y="2031840"/>
              <a:ext cx="360" cy="372132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  <p:cxnSp>
          <p:nvCxnSpPr>
            <p:cNvPr id="873" name="直接连接符 61"/>
            <p:cNvCxnSpPr>
              <a:stCxn id="870" idx="5"/>
            </p:cNvCxnSpPr>
            <p:nvPr/>
          </p:nvCxnSpPr>
          <p:spPr>
            <a:xfrm>
              <a:off x="8308080" y="1640520"/>
              <a:ext cx="379080" cy="39168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</p:grpSp>
      <p:grpSp>
        <p:nvGrpSpPr>
          <p:cNvPr id="874" name="组合 68"/>
          <p:cNvGrpSpPr/>
          <p:nvPr/>
        </p:nvGrpSpPr>
        <p:grpSpPr>
          <a:xfrm>
            <a:off x="2644560" y="2133720"/>
            <a:ext cx="228240" cy="228240"/>
            <a:chOff x="2644560" y="2133720"/>
            <a:chExt cx="228240" cy="228240"/>
          </a:xfrm>
        </p:grpSpPr>
        <p:sp>
          <p:nvSpPr>
            <p:cNvPr id="875" name="椭圆 69"/>
            <p:cNvSpPr/>
            <p:nvPr/>
          </p:nvSpPr>
          <p:spPr>
            <a:xfrm>
              <a:off x="2644560" y="213372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椭圆 70"/>
            <p:cNvSpPr/>
            <p:nvPr/>
          </p:nvSpPr>
          <p:spPr>
            <a:xfrm>
              <a:off x="2701800" y="219060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组合 71"/>
          <p:cNvGrpSpPr/>
          <p:nvPr/>
        </p:nvGrpSpPr>
        <p:grpSpPr>
          <a:xfrm>
            <a:off x="2644560" y="3178080"/>
            <a:ext cx="228240" cy="228240"/>
            <a:chOff x="2644560" y="3178080"/>
            <a:chExt cx="228240" cy="228240"/>
          </a:xfrm>
        </p:grpSpPr>
        <p:sp>
          <p:nvSpPr>
            <p:cNvPr id="878" name="椭圆 72"/>
            <p:cNvSpPr/>
            <p:nvPr/>
          </p:nvSpPr>
          <p:spPr>
            <a:xfrm>
              <a:off x="2644560" y="317808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椭圆 73"/>
            <p:cNvSpPr/>
            <p:nvPr/>
          </p:nvSpPr>
          <p:spPr>
            <a:xfrm>
              <a:off x="2701800" y="323496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组合 77"/>
          <p:cNvGrpSpPr/>
          <p:nvPr/>
        </p:nvGrpSpPr>
        <p:grpSpPr>
          <a:xfrm>
            <a:off x="2644560" y="4292640"/>
            <a:ext cx="228240" cy="228240"/>
            <a:chOff x="2644560" y="4292640"/>
            <a:chExt cx="228240" cy="228240"/>
          </a:xfrm>
        </p:grpSpPr>
        <p:sp>
          <p:nvSpPr>
            <p:cNvPr id="881" name="椭圆 78"/>
            <p:cNvSpPr/>
            <p:nvPr/>
          </p:nvSpPr>
          <p:spPr>
            <a:xfrm>
              <a:off x="2644560" y="429264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椭圆 79"/>
            <p:cNvSpPr/>
            <p:nvPr/>
          </p:nvSpPr>
          <p:spPr>
            <a:xfrm>
              <a:off x="2701800" y="434988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TextBox 56"/>
          <p:cNvSpPr/>
          <p:nvPr/>
        </p:nvSpPr>
        <p:spPr>
          <a:xfrm>
            <a:off x="3000240" y="2078280"/>
            <a:ext cx="39286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全新硬笔行书简"/>
                <a:ea typeface="全新硬笔行书简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09.09-2010.02 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担任班级学习委员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TextBox 57"/>
          <p:cNvSpPr/>
          <p:nvPr/>
        </p:nvSpPr>
        <p:spPr>
          <a:xfrm>
            <a:off x="3143160" y="3143160"/>
            <a:ext cx="37857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10.03-2011.03  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担任班级副班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TextBox 64"/>
          <p:cNvSpPr/>
          <p:nvPr/>
        </p:nvSpPr>
        <p:spPr>
          <a:xfrm>
            <a:off x="3143160" y="4286160"/>
            <a:ext cx="35715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09.09-2010.09  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校社联办公室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push dir="r"/>
  </p:transition>
  <p:timing>
    <p:tnLst>
      <p:par>
        <p:cTn id="1947" dur="indefinite" restart="never" nodeType="tmRoot">
          <p:childTnLst>
            <p:seq>
              <p:cTn id="1948" dur="indefinite" nodeType="mainSeq">
                <p:childTnLst>
                  <p:par>
                    <p:cTn id="1949" fill="hold">
                      <p:stCondLst>
                        <p:cond delay="0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1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7" dur="25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0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9" nodeType="withEffect" fill="hold" presetClass="exit" presetID="1">
                                  <p:stCondLst>
                                    <p:cond delay="168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1">
                                  <p:stCondLst>
                                    <p:cond delay="179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nodeType="withEffect" fill="hold" presetClass="exit" presetID="1">
                                  <p:stCondLst>
                                    <p:cond delay="185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5" nodeType="withEffect" fill="hold" presetClass="entr" presetID="1">
                                  <p:stCondLst>
                                    <p:cond delay="191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7" nodeType="withEffect" fill="hold" presetClass="exit" presetID="1">
                                  <p:stCondLst>
                                    <p:cond delay="196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3" nodeType="withEffect" fill="hold" presetClass="exit" presetID="1">
                                  <p:stCondLst>
                                    <p:cond delay="213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1">
                                  <p:stCondLst>
                                    <p:cond delay="224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7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nodeType="withEffect" fill="hold" presetClass="exit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7" dur="25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20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3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7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7" dur="15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8" nodeType="withEffect" fill="hold" presetClass="entr" presetID="22" presetSubtype="8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0" dur="15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xit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5" nodeType="withEffect" fill="hold" presetClass="entr" presetID="1">
                                  <p:stCondLst>
                                    <p:cond delay="219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7" nodeType="withEffect" fill="hold" presetClass="exit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1" nodeType="withEffect" fill="hold" presetClass="exit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3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7" dur="25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2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0" dur="25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1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3" nodeType="withEffect" fill="hold" presetClass="exit" presetID="1">
                                  <p:stCondLst>
                                    <p:cond delay="313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1">
                                  <p:stCondLst>
                                    <p:cond delay="324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nodeType="withEffect" fill="hold" presetClass="exit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9" nodeType="withEffect" fill="hold" presetClass="entr" presetID="1">
                                  <p:stCondLst>
                                    <p:cond delay="336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1" nodeType="withEffect" fill="hold" presetClass="exit" presetID="1">
                                  <p:stCondLst>
                                    <p:cond delay="341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1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7" dur="25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8" nodeType="withEffect" fill="hold" presetClass="entr" presetID="22" presetSubtype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0" dur="25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1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3" nodeType="withEffect" fill="hold" presetClass="exit" presetID="1">
                                  <p:stCondLst>
                                    <p:cond delay="438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5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7" nodeType="withEffect" fill="hold" presetClass="exit" presetID="1">
                                  <p:stCondLst>
                                    <p:cond delay="455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9" nodeType="withEffect" fill="hold" presetClass="entr" presetID="1">
                                  <p:stCondLst>
                                    <p:cond delay="461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1" nodeType="withEffect" fill="hold" presetClass="exit" presetID="1">
                                  <p:stCondLst>
                                    <p:cond delay="466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5" nodeType="withEffect" fill="hold" presetClass="entr" presetID="22" presetSubtype="8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7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8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0" nodeType="withEffect" fill="hold" presetClass="exit" presetID="1">
                                  <p:stCondLst>
                                    <p:cond delay="513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1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4" nodeType="withEffect" fill="hold" presetClass="exit" presetID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6" nodeType="withEffect" fill="hold" presetClass="entr" presetID="1">
                                  <p:stCondLst>
                                    <p:cond delay="536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8" nodeType="withEffect" fill="hold" presetClass="exit" presetID="1">
                                  <p:stCondLst>
                                    <p:cond delay="541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1">
                                  <p:stCondLst>
                                    <p:cond delay="545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fill="hold">
                            <p:stCondLst>
                              <p:cond delay="5450"/>
                            </p:stCondLst>
                            <p:childTnLst>
                              <p:par>
                                <p:cTn id="2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5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8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0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2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6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0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2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TextBox 62"/>
          <p:cNvSpPr/>
          <p:nvPr/>
        </p:nvSpPr>
        <p:spPr>
          <a:xfrm>
            <a:off x="8270640" y="2031840"/>
            <a:ext cx="4921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49" strike="noStrike">
                <a:solidFill>
                  <a:srgbClr val="fbfcfd">
                    <a:alpha val="95000"/>
                  </a:srgbClr>
                </a:solidFill>
                <a:latin typeface="黑体"/>
                <a:ea typeface="黑体"/>
              </a:rPr>
              <a:t>苏州大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87" name="直接连接符 1"/>
          <p:cNvCxnSpPr>
            <a:endCxn id="888" idx="2"/>
          </p:cNvCxnSpPr>
          <p:nvPr/>
        </p:nvCxnSpPr>
        <p:spPr>
          <a:xfrm>
            <a:off x="0" y="5752800"/>
            <a:ext cx="174960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889" name="直接连接符 7"/>
          <p:cNvCxnSpPr>
            <a:endCxn id="888" idx="0"/>
          </p:cNvCxnSpPr>
          <p:nvPr/>
        </p:nvCxnSpPr>
        <p:spPr>
          <a:xfrm>
            <a:off x="1844640" y="990360"/>
            <a:ext cx="360" cy="46677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890" name="组合 21"/>
          <p:cNvGrpSpPr/>
          <p:nvPr/>
        </p:nvGrpSpPr>
        <p:grpSpPr>
          <a:xfrm>
            <a:off x="1844640" y="990360"/>
            <a:ext cx="6003720" cy="495360"/>
            <a:chOff x="1844640" y="990360"/>
            <a:chExt cx="6003720" cy="495360"/>
          </a:xfrm>
        </p:grpSpPr>
        <p:cxnSp>
          <p:nvCxnSpPr>
            <p:cNvPr id="891" name="直接连接符 12"/>
            <p:cNvCxnSpPr/>
            <p:nvPr/>
          </p:nvCxnSpPr>
          <p:spPr>
            <a:xfrm>
              <a:off x="1844640" y="990360"/>
              <a:ext cx="4327920" cy="36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  <p:cxnSp>
          <p:nvCxnSpPr>
            <p:cNvPr id="892" name="直接连接符 14"/>
            <p:cNvCxnSpPr/>
            <p:nvPr/>
          </p:nvCxnSpPr>
          <p:spPr>
            <a:xfrm>
              <a:off x="6172200" y="990360"/>
              <a:ext cx="533520" cy="49572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  <p:cxnSp>
          <p:nvCxnSpPr>
            <p:cNvPr id="893" name="直接连接符 18"/>
            <p:cNvCxnSpPr/>
            <p:nvPr/>
          </p:nvCxnSpPr>
          <p:spPr>
            <a:xfrm>
              <a:off x="6705360" y="1485720"/>
              <a:ext cx="1143360" cy="36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</p:grpSp>
      <p:cxnSp>
        <p:nvCxnSpPr>
          <p:cNvPr id="894" name="直接连接符 22"/>
          <p:cNvCxnSpPr/>
          <p:nvPr/>
        </p:nvCxnSpPr>
        <p:spPr>
          <a:xfrm>
            <a:off x="7848360" y="1485720"/>
            <a:ext cx="360" cy="426744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895" name="直接连接符 25"/>
          <p:cNvCxnSpPr>
            <a:endCxn id="888" idx="6"/>
          </p:cNvCxnSpPr>
          <p:nvPr/>
        </p:nvCxnSpPr>
        <p:spPr>
          <a:xfrm flipH="1">
            <a:off x="1939680" y="5752800"/>
            <a:ext cx="590904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896" name="组合 3"/>
          <p:cNvGrpSpPr/>
          <p:nvPr/>
        </p:nvGrpSpPr>
        <p:grpSpPr>
          <a:xfrm>
            <a:off x="1654200" y="5562720"/>
            <a:ext cx="380520" cy="380520"/>
            <a:chOff x="1654200" y="5562720"/>
            <a:chExt cx="380520" cy="380520"/>
          </a:xfrm>
        </p:grpSpPr>
        <p:sp>
          <p:nvSpPr>
            <p:cNvPr id="897" name="椭圆 4"/>
            <p:cNvSpPr/>
            <p:nvPr/>
          </p:nvSpPr>
          <p:spPr>
            <a:xfrm>
              <a:off x="1654200" y="5562720"/>
              <a:ext cx="380520" cy="38052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椭圆 5"/>
            <p:cNvSpPr/>
            <p:nvPr/>
          </p:nvSpPr>
          <p:spPr>
            <a:xfrm>
              <a:off x="1749600" y="5657760"/>
              <a:ext cx="190080" cy="19008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矩形 29"/>
          <p:cNvSpPr/>
          <p:nvPr/>
        </p:nvSpPr>
        <p:spPr>
          <a:xfrm>
            <a:off x="685800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矩形 31"/>
          <p:cNvSpPr/>
          <p:nvPr/>
        </p:nvSpPr>
        <p:spPr>
          <a:xfrm>
            <a:off x="701028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矩形 32"/>
          <p:cNvSpPr/>
          <p:nvPr/>
        </p:nvSpPr>
        <p:spPr>
          <a:xfrm>
            <a:off x="716292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矩形 33"/>
          <p:cNvSpPr/>
          <p:nvPr/>
        </p:nvSpPr>
        <p:spPr>
          <a:xfrm>
            <a:off x="731520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矩形 34"/>
          <p:cNvSpPr/>
          <p:nvPr/>
        </p:nvSpPr>
        <p:spPr>
          <a:xfrm>
            <a:off x="746748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矩形 35"/>
          <p:cNvSpPr/>
          <p:nvPr/>
        </p:nvSpPr>
        <p:spPr>
          <a:xfrm>
            <a:off x="762012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36"/>
          <p:cNvSpPr/>
          <p:nvPr/>
        </p:nvSpPr>
        <p:spPr>
          <a:xfrm>
            <a:off x="777240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剪去单角的矩形 37"/>
          <p:cNvSpPr/>
          <p:nvPr/>
        </p:nvSpPr>
        <p:spPr>
          <a:xfrm flipH="1" flipV="1">
            <a:off x="6438240" y="990720"/>
            <a:ext cx="1418040" cy="190080"/>
          </a:xfrm>
          <a:prstGeom prst="snip1Rect">
            <a:avLst>
              <a:gd name="adj" fmla="val 50000"/>
            </a:avLst>
          </a:prstGeom>
          <a:solidFill>
            <a:schemeClr val="accent1">
              <a:alpha val="5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矩形 40"/>
          <p:cNvSpPr/>
          <p:nvPr/>
        </p:nvSpPr>
        <p:spPr>
          <a:xfrm>
            <a:off x="670572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7" name="直接连接符 41"/>
          <p:cNvCxnSpPr>
            <a:endCxn id="888" idx="5"/>
          </p:cNvCxnSpPr>
          <p:nvPr/>
        </p:nvCxnSpPr>
        <p:spPr>
          <a:xfrm flipH="1">
            <a:off x="1911960" y="5820120"/>
            <a:ext cx="5936760" cy="360"/>
          </a:xfrm>
          <a:prstGeom prst="straightConnector1">
            <a:avLst/>
          </a:prstGeom>
          <a:ln w="57150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908" name="直接连接符 44"/>
          <p:cNvCxnSpPr/>
          <p:nvPr/>
        </p:nvCxnSpPr>
        <p:spPr>
          <a:xfrm>
            <a:off x="603360" y="533160"/>
            <a:ext cx="6480" cy="401040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909" name="直接连接符 45"/>
          <p:cNvCxnSpPr/>
          <p:nvPr/>
        </p:nvCxnSpPr>
        <p:spPr>
          <a:xfrm flipH="1">
            <a:off x="603360" y="533160"/>
            <a:ext cx="53388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910" name="组合 46"/>
          <p:cNvGrpSpPr/>
          <p:nvPr/>
        </p:nvGrpSpPr>
        <p:grpSpPr>
          <a:xfrm>
            <a:off x="1067040" y="419040"/>
            <a:ext cx="228240" cy="228240"/>
            <a:chOff x="1067040" y="419040"/>
            <a:chExt cx="228240" cy="228240"/>
          </a:xfrm>
        </p:grpSpPr>
        <p:sp>
          <p:nvSpPr>
            <p:cNvPr id="911" name="椭圆 47"/>
            <p:cNvSpPr/>
            <p:nvPr/>
          </p:nvSpPr>
          <p:spPr>
            <a:xfrm>
              <a:off x="1067040" y="41904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椭圆 48"/>
            <p:cNvSpPr/>
            <p:nvPr/>
          </p:nvSpPr>
          <p:spPr>
            <a:xfrm>
              <a:off x="1123920" y="47628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组合 49"/>
          <p:cNvGrpSpPr/>
          <p:nvPr/>
        </p:nvGrpSpPr>
        <p:grpSpPr>
          <a:xfrm>
            <a:off x="304920" y="4492440"/>
            <a:ext cx="1066320" cy="1066320"/>
            <a:chOff x="304920" y="4492440"/>
            <a:chExt cx="1066320" cy="1066320"/>
          </a:xfrm>
        </p:grpSpPr>
        <p:sp>
          <p:nvSpPr>
            <p:cNvPr id="914" name="椭圆 50"/>
            <p:cNvSpPr/>
            <p:nvPr/>
          </p:nvSpPr>
          <p:spPr>
            <a:xfrm>
              <a:off x="304920" y="4492440"/>
              <a:ext cx="1066320" cy="106632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椭圆 51"/>
            <p:cNvSpPr/>
            <p:nvPr/>
          </p:nvSpPr>
          <p:spPr>
            <a:xfrm>
              <a:off x="723960" y="4911480"/>
              <a:ext cx="228240" cy="228240"/>
            </a:xfrm>
            <a:prstGeom prst="ellipse">
              <a:avLst/>
            </a:prstGeom>
            <a:solidFill>
              <a:schemeClr val="accent1">
                <a:alpha val="8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椭圆 52"/>
            <p:cNvSpPr/>
            <p:nvPr/>
          </p:nvSpPr>
          <p:spPr>
            <a:xfrm>
              <a:off x="498600" y="4686480"/>
              <a:ext cx="678600" cy="67860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椭圆 53"/>
            <p:cNvSpPr/>
            <p:nvPr/>
          </p:nvSpPr>
          <p:spPr>
            <a:xfrm>
              <a:off x="380880" y="4568400"/>
              <a:ext cx="914040" cy="914040"/>
            </a:xfrm>
            <a:prstGeom prst="ellipse">
              <a:avLst/>
            </a:prstGeom>
            <a:noFill/>
            <a:ln w="28575">
              <a:solidFill>
                <a:srgbClr val="4f81bd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矩形 54"/>
          <p:cNvSpPr/>
          <p:nvPr/>
        </p:nvSpPr>
        <p:spPr>
          <a:xfrm>
            <a:off x="603720" y="1111680"/>
            <a:ext cx="615240" cy="28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1440" bIns="91440" anchor="t" vert="vert" rot="5400000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49" strike="noStrike">
                <a:solidFill>
                  <a:srgbClr val="fbfcfd">
                    <a:alpha val="95000"/>
                  </a:srgbClr>
                </a:solidFill>
                <a:latin typeface="Calibri"/>
                <a:ea typeface="黑体"/>
              </a:rPr>
              <a:t>Personal   res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TextBox 55"/>
          <p:cNvSpPr/>
          <p:nvPr/>
        </p:nvSpPr>
        <p:spPr>
          <a:xfrm>
            <a:off x="1802160" y="1792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chemeClr val="accent1"/>
                </a:solidFill>
                <a:latin typeface="黑体"/>
                <a:ea typeface="黑体"/>
              </a:rPr>
              <a:t>工作经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0" name="组合 57"/>
          <p:cNvGrpSpPr/>
          <p:nvPr/>
        </p:nvGrpSpPr>
        <p:grpSpPr>
          <a:xfrm>
            <a:off x="8153280" y="1486080"/>
            <a:ext cx="228240" cy="228240"/>
            <a:chOff x="8153280" y="1486080"/>
            <a:chExt cx="228240" cy="228240"/>
          </a:xfrm>
        </p:grpSpPr>
        <p:sp>
          <p:nvSpPr>
            <p:cNvPr id="921" name="椭圆 58"/>
            <p:cNvSpPr/>
            <p:nvPr/>
          </p:nvSpPr>
          <p:spPr>
            <a:xfrm>
              <a:off x="8153280" y="148608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椭圆 59"/>
            <p:cNvSpPr/>
            <p:nvPr/>
          </p:nvSpPr>
          <p:spPr>
            <a:xfrm>
              <a:off x="8210520" y="154296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组合 67"/>
          <p:cNvGrpSpPr/>
          <p:nvPr/>
        </p:nvGrpSpPr>
        <p:grpSpPr>
          <a:xfrm>
            <a:off x="8308080" y="1640520"/>
            <a:ext cx="378720" cy="4112280"/>
            <a:chOff x="8308080" y="1640520"/>
            <a:chExt cx="378720" cy="4112280"/>
          </a:xfrm>
        </p:grpSpPr>
        <p:cxnSp>
          <p:nvCxnSpPr>
            <p:cNvPr id="924" name="直接连接符 60"/>
            <p:cNvCxnSpPr/>
            <p:nvPr/>
          </p:nvCxnSpPr>
          <p:spPr>
            <a:xfrm flipV="1">
              <a:off x="8686800" y="2031840"/>
              <a:ext cx="360" cy="372132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  <p:cxnSp>
          <p:nvCxnSpPr>
            <p:cNvPr id="925" name="直接连接符 61"/>
            <p:cNvCxnSpPr>
              <a:stCxn id="922" idx="5"/>
            </p:cNvCxnSpPr>
            <p:nvPr/>
          </p:nvCxnSpPr>
          <p:spPr>
            <a:xfrm>
              <a:off x="8308080" y="1640520"/>
              <a:ext cx="379080" cy="39168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</p:grpSp>
      <p:grpSp>
        <p:nvGrpSpPr>
          <p:cNvPr id="926" name="组合 68"/>
          <p:cNvGrpSpPr/>
          <p:nvPr/>
        </p:nvGrpSpPr>
        <p:grpSpPr>
          <a:xfrm>
            <a:off x="2644560" y="2133720"/>
            <a:ext cx="228240" cy="228240"/>
            <a:chOff x="2644560" y="2133720"/>
            <a:chExt cx="228240" cy="228240"/>
          </a:xfrm>
        </p:grpSpPr>
        <p:sp>
          <p:nvSpPr>
            <p:cNvPr id="927" name="椭圆 69"/>
            <p:cNvSpPr/>
            <p:nvPr/>
          </p:nvSpPr>
          <p:spPr>
            <a:xfrm>
              <a:off x="2644560" y="213372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椭圆 70"/>
            <p:cNvSpPr/>
            <p:nvPr/>
          </p:nvSpPr>
          <p:spPr>
            <a:xfrm>
              <a:off x="2701800" y="219060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组合 71"/>
          <p:cNvGrpSpPr/>
          <p:nvPr/>
        </p:nvGrpSpPr>
        <p:grpSpPr>
          <a:xfrm>
            <a:off x="2644560" y="3178080"/>
            <a:ext cx="228240" cy="228240"/>
            <a:chOff x="2644560" y="3178080"/>
            <a:chExt cx="228240" cy="228240"/>
          </a:xfrm>
        </p:grpSpPr>
        <p:sp>
          <p:nvSpPr>
            <p:cNvPr id="930" name="椭圆 72"/>
            <p:cNvSpPr/>
            <p:nvPr/>
          </p:nvSpPr>
          <p:spPr>
            <a:xfrm>
              <a:off x="2644560" y="317808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椭圆 73"/>
            <p:cNvSpPr/>
            <p:nvPr/>
          </p:nvSpPr>
          <p:spPr>
            <a:xfrm>
              <a:off x="2701800" y="323496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组合 77"/>
          <p:cNvGrpSpPr/>
          <p:nvPr/>
        </p:nvGrpSpPr>
        <p:grpSpPr>
          <a:xfrm>
            <a:off x="2644560" y="4292640"/>
            <a:ext cx="228240" cy="228240"/>
            <a:chOff x="2644560" y="4292640"/>
            <a:chExt cx="228240" cy="228240"/>
          </a:xfrm>
        </p:grpSpPr>
        <p:sp>
          <p:nvSpPr>
            <p:cNvPr id="933" name="椭圆 78"/>
            <p:cNvSpPr/>
            <p:nvPr/>
          </p:nvSpPr>
          <p:spPr>
            <a:xfrm>
              <a:off x="2644560" y="429264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椭圆 79"/>
            <p:cNvSpPr/>
            <p:nvPr/>
          </p:nvSpPr>
          <p:spPr>
            <a:xfrm>
              <a:off x="2701800" y="434988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TextBox 56"/>
          <p:cNvSpPr/>
          <p:nvPr/>
        </p:nvSpPr>
        <p:spPr>
          <a:xfrm>
            <a:off x="3000240" y="2078280"/>
            <a:ext cx="39286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全新硬笔行书简"/>
                <a:ea typeface="全新硬笔行书简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09.07-2009.09   XX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市区传单派发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TextBox 57"/>
          <p:cNvSpPr/>
          <p:nvPr/>
        </p:nvSpPr>
        <p:spPr>
          <a:xfrm>
            <a:off x="3143160" y="3143160"/>
            <a:ext cx="37857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10.01-2010.03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大洋百货专柜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TextBox 64"/>
          <p:cNvSpPr/>
          <p:nvPr/>
        </p:nvSpPr>
        <p:spPr>
          <a:xfrm>
            <a:off x="3071880" y="4286160"/>
            <a:ext cx="37144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12.07-2012. 09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大众房产经纪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push dir="r"/>
  </p:transition>
  <p:timing>
    <p:tnLst>
      <p:par>
        <p:cTn id="2133" dur="indefinite" restart="never" nodeType="tmRoot">
          <p:childTnLst>
            <p:seq>
              <p:cTn id="2134" dur="indefinite" nodeType="mainSeq">
                <p:childTnLst>
                  <p:par>
                    <p:cTn id="2135" fill="hold">
                      <p:stCondLst>
                        <p:cond delay="0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9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3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5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7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3" dur="25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4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6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9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1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3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7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9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1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3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5" nodeType="withEffect" fill="hold" presetClass="exit" presetID="1">
                                  <p:stCondLst>
                                    <p:cond delay="168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1">
                                  <p:stCondLst>
                                    <p:cond delay="179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9" nodeType="withEffect" fill="hold" presetClass="exit" presetID="1">
                                  <p:stCondLst>
                                    <p:cond delay="185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1" nodeType="withEffect" fill="hold" presetClass="entr" presetID="1">
                                  <p:stCondLst>
                                    <p:cond delay="191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3" nodeType="withEffect" fill="hold" presetClass="exit" presetID="1">
                                  <p:stCondLst>
                                    <p:cond delay="196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9" nodeType="withEffect" fill="hold" presetClass="exit" presetID="1">
                                  <p:stCondLst>
                                    <p:cond delay="213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1" nodeType="withEffect" fill="hold" presetClass="entr" presetID="1">
                                  <p:stCondLst>
                                    <p:cond delay="224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3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7" nodeType="withEffect" fill="hold" presetClass="exit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1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3" dur="25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4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7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9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3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7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9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3" dur="15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nodeType="withEffect" fill="hold" presetClass="entr" presetID="22" presetSubtype="8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6" dur="15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7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9" nodeType="withEffect" fill="hold" presetClass="exit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1" nodeType="withEffect" fill="hold" presetClass="entr" presetID="1">
                                  <p:stCondLst>
                                    <p:cond delay="219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nodeType="withEffect" fill="hold" presetClass="exit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5" nodeType="withEffect" fill="hold" presetClass="entr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7" nodeType="withEffect" fill="hold" presetClass="exit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1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3" dur="25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4" nodeType="withEffect" fill="hold" presetClass="entr" presetID="2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6" dur="25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9" nodeType="withEffect" fill="hold" presetClass="exit" presetID="1">
                                  <p:stCondLst>
                                    <p:cond delay="313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1" nodeType="withEffect" fill="hold" presetClass="entr" presetID="1">
                                  <p:stCondLst>
                                    <p:cond delay="324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3" nodeType="withEffect" fill="hold" presetClass="exit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nodeType="withEffect" fill="hold" presetClass="entr" presetID="1">
                                  <p:stCondLst>
                                    <p:cond delay="336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7" nodeType="withEffect" fill="hold" presetClass="exit" presetID="1">
                                  <p:stCondLst>
                                    <p:cond delay="341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1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1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3" dur="25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22" presetSubtype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6" dur="25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7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9" nodeType="withEffect" fill="hold" presetClass="exit" presetID="1">
                                  <p:stCondLst>
                                    <p:cond delay="438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1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3" nodeType="withEffect" fill="hold" presetClass="exit" presetID="1">
                                  <p:stCondLst>
                                    <p:cond delay="455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5" nodeType="withEffect" fill="hold" presetClass="entr" presetID="1">
                                  <p:stCondLst>
                                    <p:cond delay="461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7" nodeType="withEffect" fill="hold" presetClass="exit" presetID="1">
                                  <p:stCondLst>
                                    <p:cond delay="466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9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1" nodeType="withEffect" fill="hold" presetClass="entr" presetID="22" presetSubtype="8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4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6" nodeType="withEffect" fill="hold" presetClass="exit" presetID="1">
                                  <p:stCondLst>
                                    <p:cond delay="513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8" nodeType="withEffect" fill="hold" presetClass="entr" presetID="1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0" nodeType="withEffect" fill="hold" presetClass="exit" presetID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2" nodeType="withEffect" fill="hold" presetClass="entr" presetID="1">
                                  <p:stCondLst>
                                    <p:cond delay="536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4" nodeType="withEffect" fill="hold" presetClass="exit" presetID="1">
                                  <p:stCondLst>
                                    <p:cond delay="541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6" nodeType="withEffect" fill="hold" presetClass="entr" presetID="1">
                                  <p:stCondLst>
                                    <p:cond delay="545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8" fill="hold">
                            <p:stCondLst>
                              <p:cond delay="5450"/>
                            </p:stCondLst>
                            <p:childTnLst>
                              <p:par>
                                <p:cTn id="2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4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6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8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0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2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4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6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TextBox 62"/>
          <p:cNvSpPr/>
          <p:nvPr/>
        </p:nvSpPr>
        <p:spPr>
          <a:xfrm>
            <a:off x="8270640" y="2031840"/>
            <a:ext cx="492120" cy="26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49" strike="noStrike">
                <a:solidFill>
                  <a:srgbClr val="fbfcfd">
                    <a:alpha val="95000"/>
                  </a:srgbClr>
                </a:solidFill>
                <a:latin typeface="黑体"/>
                <a:ea typeface="黑体"/>
              </a:rPr>
              <a:t>苏州大学应用技术学院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9" name="直接连接符 1"/>
          <p:cNvCxnSpPr>
            <a:endCxn id="940" idx="2"/>
          </p:cNvCxnSpPr>
          <p:nvPr/>
        </p:nvCxnSpPr>
        <p:spPr>
          <a:xfrm>
            <a:off x="0" y="5752800"/>
            <a:ext cx="174960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941" name="直接连接符 7"/>
          <p:cNvCxnSpPr>
            <a:endCxn id="940" idx="0"/>
          </p:cNvCxnSpPr>
          <p:nvPr/>
        </p:nvCxnSpPr>
        <p:spPr>
          <a:xfrm>
            <a:off x="1844640" y="990360"/>
            <a:ext cx="360" cy="46677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942" name="组合 21"/>
          <p:cNvGrpSpPr/>
          <p:nvPr/>
        </p:nvGrpSpPr>
        <p:grpSpPr>
          <a:xfrm>
            <a:off x="1844640" y="990360"/>
            <a:ext cx="6003720" cy="495360"/>
            <a:chOff x="1844640" y="990360"/>
            <a:chExt cx="6003720" cy="495360"/>
          </a:xfrm>
        </p:grpSpPr>
        <p:cxnSp>
          <p:nvCxnSpPr>
            <p:cNvPr id="943" name="直接连接符 12"/>
            <p:cNvCxnSpPr/>
            <p:nvPr/>
          </p:nvCxnSpPr>
          <p:spPr>
            <a:xfrm>
              <a:off x="1844640" y="990360"/>
              <a:ext cx="4327920" cy="36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  <p:cxnSp>
          <p:nvCxnSpPr>
            <p:cNvPr id="944" name="直接连接符 14"/>
            <p:cNvCxnSpPr/>
            <p:nvPr/>
          </p:nvCxnSpPr>
          <p:spPr>
            <a:xfrm>
              <a:off x="6172200" y="990360"/>
              <a:ext cx="533520" cy="49572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  <p:cxnSp>
          <p:nvCxnSpPr>
            <p:cNvPr id="945" name="直接连接符 18"/>
            <p:cNvCxnSpPr/>
            <p:nvPr/>
          </p:nvCxnSpPr>
          <p:spPr>
            <a:xfrm>
              <a:off x="6705360" y="1485720"/>
              <a:ext cx="1143360" cy="36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</p:grpSp>
      <p:cxnSp>
        <p:nvCxnSpPr>
          <p:cNvPr id="946" name="直接连接符 22"/>
          <p:cNvCxnSpPr/>
          <p:nvPr/>
        </p:nvCxnSpPr>
        <p:spPr>
          <a:xfrm>
            <a:off x="7848360" y="1485720"/>
            <a:ext cx="360" cy="426744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947" name="直接连接符 25"/>
          <p:cNvCxnSpPr>
            <a:endCxn id="940" idx="6"/>
          </p:cNvCxnSpPr>
          <p:nvPr/>
        </p:nvCxnSpPr>
        <p:spPr>
          <a:xfrm flipH="1">
            <a:off x="1939680" y="5752800"/>
            <a:ext cx="590904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948" name="组合 3"/>
          <p:cNvGrpSpPr/>
          <p:nvPr/>
        </p:nvGrpSpPr>
        <p:grpSpPr>
          <a:xfrm>
            <a:off x="1654200" y="5562720"/>
            <a:ext cx="380520" cy="380520"/>
            <a:chOff x="1654200" y="5562720"/>
            <a:chExt cx="380520" cy="380520"/>
          </a:xfrm>
        </p:grpSpPr>
        <p:sp>
          <p:nvSpPr>
            <p:cNvPr id="949" name="椭圆 4"/>
            <p:cNvSpPr/>
            <p:nvPr/>
          </p:nvSpPr>
          <p:spPr>
            <a:xfrm>
              <a:off x="1654200" y="5562720"/>
              <a:ext cx="380520" cy="38052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椭圆 5"/>
            <p:cNvSpPr/>
            <p:nvPr/>
          </p:nvSpPr>
          <p:spPr>
            <a:xfrm>
              <a:off x="1749600" y="5657760"/>
              <a:ext cx="190080" cy="19008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0" name="矩形 29"/>
          <p:cNvSpPr/>
          <p:nvPr/>
        </p:nvSpPr>
        <p:spPr>
          <a:xfrm>
            <a:off x="685800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矩形 31"/>
          <p:cNvSpPr/>
          <p:nvPr/>
        </p:nvSpPr>
        <p:spPr>
          <a:xfrm>
            <a:off x="701028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矩形 32"/>
          <p:cNvSpPr/>
          <p:nvPr/>
        </p:nvSpPr>
        <p:spPr>
          <a:xfrm>
            <a:off x="716292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矩形 33"/>
          <p:cNvSpPr/>
          <p:nvPr/>
        </p:nvSpPr>
        <p:spPr>
          <a:xfrm>
            <a:off x="731520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矩形 34"/>
          <p:cNvSpPr/>
          <p:nvPr/>
        </p:nvSpPr>
        <p:spPr>
          <a:xfrm>
            <a:off x="746748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矩形 35"/>
          <p:cNvSpPr/>
          <p:nvPr/>
        </p:nvSpPr>
        <p:spPr>
          <a:xfrm>
            <a:off x="762012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矩形 36"/>
          <p:cNvSpPr/>
          <p:nvPr/>
        </p:nvSpPr>
        <p:spPr>
          <a:xfrm>
            <a:off x="777240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剪去单角的矩形 37"/>
          <p:cNvSpPr/>
          <p:nvPr/>
        </p:nvSpPr>
        <p:spPr>
          <a:xfrm flipH="1" flipV="1">
            <a:off x="6438240" y="990720"/>
            <a:ext cx="1418040" cy="190080"/>
          </a:xfrm>
          <a:prstGeom prst="snip1Rect">
            <a:avLst>
              <a:gd name="adj" fmla="val 50000"/>
            </a:avLst>
          </a:prstGeom>
          <a:solidFill>
            <a:schemeClr val="accent1">
              <a:alpha val="5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矩形 40"/>
          <p:cNvSpPr/>
          <p:nvPr/>
        </p:nvSpPr>
        <p:spPr>
          <a:xfrm>
            <a:off x="6705720" y="1247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9" name="直接连接符 41"/>
          <p:cNvCxnSpPr>
            <a:endCxn id="940" idx="5"/>
          </p:cNvCxnSpPr>
          <p:nvPr/>
        </p:nvCxnSpPr>
        <p:spPr>
          <a:xfrm flipH="1">
            <a:off x="1911960" y="5820120"/>
            <a:ext cx="5936760" cy="360"/>
          </a:xfrm>
          <a:prstGeom prst="straightConnector1">
            <a:avLst/>
          </a:prstGeom>
          <a:ln w="57150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960" name="直接连接符 44"/>
          <p:cNvCxnSpPr/>
          <p:nvPr/>
        </p:nvCxnSpPr>
        <p:spPr>
          <a:xfrm>
            <a:off x="603360" y="533160"/>
            <a:ext cx="6480" cy="401040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961" name="直接连接符 45"/>
          <p:cNvCxnSpPr/>
          <p:nvPr/>
        </p:nvCxnSpPr>
        <p:spPr>
          <a:xfrm flipH="1">
            <a:off x="603360" y="533160"/>
            <a:ext cx="53388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962" name="组合 46"/>
          <p:cNvGrpSpPr/>
          <p:nvPr/>
        </p:nvGrpSpPr>
        <p:grpSpPr>
          <a:xfrm>
            <a:off x="1067040" y="419040"/>
            <a:ext cx="228240" cy="228240"/>
            <a:chOff x="1067040" y="419040"/>
            <a:chExt cx="228240" cy="228240"/>
          </a:xfrm>
        </p:grpSpPr>
        <p:sp>
          <p:nvSpPr>
            <p:cNvPr id="963" name="椭圆 47"/>
            <p:cNvSpPr/>
            <p:nvPr/>
          </p:nvSpPr>
          <p:spPr>
            <a:xfrm>
              <a:off x="1067040" y="41904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椭圆 48"/>
            <p:cNvSpPr/>
            <p:nvPr/>
          </p:nvSpPr>
          <p:spPr>
            <a:xfrm>
              <a:off x="1123920" y="47628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5" name="组合 49"/>
          <p:cNvGrpSpPr/>
          <p:nvPr/>
        </p:nvGrpSpPr>
        <p:grpSpPr>
          <a:xfrm>
            <a:off x="304920" y="4492440"/>
            <a:ext cx="1066320" cy="1066320"/>
            <a:chOff x="304920" y="4492440"/>
            <a:chExt cx="1066320" cy="1066320"/>
          </a:xfrm>
        </p:grpSpPr>
        <p:sp>
          <p:nvSpPr>
            <p:cNvPr id="966" name="椭圆 50"/>
            <p:cNvSpPr/>
            <p:nvPr/>
          </p:nvSpPr>
          <p:spPr>
            <a:xfrm>
              <a:off x="304920" y="4492440"/>
              <a:ext cx="1066320" cy="106632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椭圆 51"/>
            <p:cNvSpPr/>
            <p:nvPr/>
          </p:nvSpPr>
          <p:spPr>
            <a:xfrm>
              <a:off x="723960" y="4911480"/>
              <a:ext cx="228240" cy="228240"/>
            </a:xfrm>
            <a:prstGeom prst="ellipse">
              <a:avLst/>
            </a:prstGeom>
            <a:solidFill>
              <a:schemeClr val="accent1">
                <a:alpha val="8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椭圆 52"/>
            <p:cNvSpPr/>
            <p:nvPr/>
          </p:nvSpPr>
          <p:spPr>
            <a:xfrm>
              <a:off x="498600" y="4686480"/>
              <a:ext cx="678600" cy="67860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椭圆 53"/>
            <p:cNvSpPr/>
            <p:nvPr/>
          </p:nvSpPr>
          <p:spPr>
            <a:xfrm>
              <a:off x="380880" y="4568400"/>
              <a:ext cx="914040" cy="914040"/>
            </a:xfrm>
            <a:prstGeom prst="ellipse">
              <a:avLst/>
            </a:prstGeom>
            <a:noFill/>
            <a:ln w="28575">
              <a:solidFill>
                <a:srgbClr val="4f81bd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0" name="矩形 54"/>
          <p:cNvSpPr/>
          <p:nvPr/>
        </p:nvSpPr>
        <p:spPr>
          <a:xfrm>
            <a:off x="603720" y="1111680"/>
            <a:ext cx="615240" cy="28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1440" bIns="91440" anchor="t" vert="vert" rot="5400000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49" strike="noStrike">
                <a:solidFill>
                  <a:srgbClr val="fbfcfd">
                    <a:alpha val="95000"/>
                  </a:srgbClr>
                </a:solidFill>
                <a:latin typeface="Calibri"/>
                <a:ea typeface="黑体"/>
              </a:rPr>
              <a:t>Personal   res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TextBox 55"/>
          <p:cNvSpPr/>
          <p:nvPr/>
        </p:nvSpPr>
        <p:spPr>
          <a:xfrm>
            <a:off x="1802160" y="179280"/>
            <a:ext cx="1400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chemeClr val="accent1"/>
                </a:solidFill>
                <a:latin typeface="黑体"/>
                <a:ea typeface="黑体"/>
              </a:rPr>
              <a:t>自我评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2" name="组合 57"/>
          <p:cNvGrpSpPr/>
          <p:nvPr/>
        </p:nvGrpSpPr>
        <p:grpSpPr>
          <a:xfrm>
            <a:off x="8153280" y="1486080"/>
            <a:ext cx="228240" cy="228240"/>
            <a:chOff x="8153280" y="1486080"/>
            <a:chExt cx="228240" cy="228240"/>
          </a:xfrm>
        </p:grpSpPr>
        <p:sp>
          <p:nvSpPr>
            <p:cNvPr id="973" name="椭圆 58"/>
            <p:cNvSpPr/>
            <p:nvPr/>
          </p:nvSpPr>
          <p:spPr>
            <a:xfrm>
              <a:off x="8153280" y="148608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椭圆 59"/>
            <p:cNvSpPr/>
            <p:nvPr/>
          </p:nvSpPr>
          <p:spPr>
            <a:xfrm>
              <a:off x="8210520" y="154296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组合 67"/>
          <p:cNvGrpSpPr/>
          <p:nvPr/>
        </p:nvGrpSpPr>
        <p:grpSpPr>
          <a:xfrm>
            <a:off x="8308080" y="1640520"/>
            <a:ext cx="378720" cy="4112280"/>
            <a:chOff x="8308080" y="1640520"/>
            <a:chExt cx="378720" cy="4112280"/>
          </a:xfrm>
        </p:grpSpPr>
        <p:cxnSp>
          <p:nvCxnSpPr>
            <p:cNvPr id="976" name="直接连接符 60"/>
            <p:cNvCxnSpPr/>
            <p:nvPr/>
          </p:nvCxnSpPr>
          <p:spPr>
            <a:xfrm flipV="1">
              <a:off x="8686800" y="2031840"/>
              <a:ext cx="360" cy="372132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  <p:cxnSp>
          <p:nvCxnSpPr>
            <p:cNvPr id="977" name="直接连接符 61"/>
            <p:cNvCxnSpPr>
              <a:stCxn id="974" idx="5"/>
            </p:cNvCxnSpPr>
            <p:nvPr/>
          </p:nvCxnSpPr>
          <p:spPr>
            <a:xfrm>
              <a:off x="8308080" y="1640520"/>
              <a:ext cx="379080" cy="39168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</p:grpSp>
      <p:grpSp>
        <p:nvGrpSpPr>
          <p:cNvPr id="978" name="组合 68"/>
          <p:cNvGrpSpPr/>
          <p:nvPr/>
        </p:nvGrpSpPr>
        <p:grpSpPr>
          <a:xfrm>
            <a:off x="2644560" y="2133720"/>
            <a:ext cx="228240" cy="228240"/>
            <a:chOff x="2644560" y="2133720"/>
            <a:chExt cx="228240" cy="228240"/>
          </a:xfrm>
        </p:grpSpPr>
        <p:sp>
          <p:nvSpPr>
            <p:cNvPr id="979" name="椭圆 69"/>
            <p:cNvSpPr/>
            <p:nvPr/>
          </p:nvSpPr>
          <p:spPr>
            <a:xfrm>
              <a:off x="2644560" y="2133720"/>
              <a:ext cx="228240" cy="22824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椭圆 70"/>
            <p:cNvSpPr/>
            <p:nvPr/>
          </p:nvSpPr>
          <p:spPr>
            <a:xfrm>
              <a:off x="2701800" y="2190600"/>
              <a:ext cx="114120" cy="11412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1" name="TextBox 63"/>
          <p:cNvSpPr/>
          <p:nvPr/>
        </p:nvSpPr>
        <p:spPr>
          <a:xfrm>
            <a:off x="2928960" y="1928880"/>
            <a:ext cx="5143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做过百货公司专柜人员和房产经纪人，善于人际沟通，耐心好，有丰富的实践经验，工作能力较好，应变能力较强，能较好完成上级领导的任务，做事比较细心，谨慎。能熟练掌握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Word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Excel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PowerPoint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等软件。活泼开朗，思维敏捷，有较强的文笔功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9000">
    <p:push dir="r"/>
  </p:transition>
  <p:timing>
    <p:tnLst>
      <p:par>
        <p:cTn id="2319" dur="indefinite" restart="never" nodeType="tmRoot">
          <p:childTnLst>
            <p:seq>
              <p:cTn id="2320" dur="indefinite" nodeType="mainSeq">
                <p:childTnLst>
                  <p:par>
                    <p:cTn id="2321" fill="hold">
                      <p:stCondLst>
                        <p:cond delay="0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5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7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9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3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5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9" dur="25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0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3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7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9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1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3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7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9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1" nodeType="withEffect" fill="hold" presetClass="exit" presetID="1">
                                  <p:stCondLst>
                                    <p:cond delay="168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3" nodeType="withEffect" fill="hold" presetClass="entr" presetID="1">
                                  <p:stCondLst>
                                    <p:cond delay="179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5" nodeType="withEffect" fill="hold" presetClass="exit" presetID="1">
                                  <p:stCondLst>
                                    <p:cond delay="185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7" nodeType="withEffect" fill="hold" presetClass="entr" presetID="1">
                                  <p:stCondLst>
                                    <p:cond delay="191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9" nodeType="withEffect" fill="hold" presetClass="exit" presetID="1">
                                  <p:stCondLst>
                                    <p:cond delay="196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5" nodeType="withEffect" fill="hold" presetClass="exit" presetID="1">
                                  <p:stCondLst>
                                    <p:cond delay="213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7" nodeType="withEffect" fill="hold" presetClass="entr" presetID="1">
                                  <p:stCondLst>
                                    <p:cond delay="224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9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1" nodeType="withEffect" fill="hold" presetClass="entr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3" nodeType="withEffect" fill="hold" presetClass="exit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5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7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9" dur="25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0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3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5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9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1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3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5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9" dur="15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0" nodeType="withEffect" fill="hold" presetClass="entr" presetID="22" presetSubtype="8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2" dur="15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3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5" nodeType="withEffect" fill="hold" presetClass="exit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7" nodeType="withEffect" fill="hold" presetClass="entr" presetID="1">
                                  <p:stCondLst>
                                    <p:cond delay="219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9" nodeType="withEffect" fill="hold" presetClass="exit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1" nodeType="withEffect" fill="hold" presetClass="entr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3" nodeType="withEffect" fill="hold" presetClass="exit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5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7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9" dur="25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0" nodeType="withEffect" fill="hold" presetClass="entr" presetID="2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2" dur="25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3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5" nodeType="withEffect" fill="hold" presetClass="exit" presetID="1">
                                  <p:stCondLst>
                                    <p:cond delay="313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7" nodeType="withEffect" fill="hold" presetClass="entr" presetID="1">
                                  <p:stCondLst>
                                    <p:cond delay="324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9" nodeType="withEffect" fill="hold" presetClass="exit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1" nodeType="withEffect" fill="hold" presetClass="entr" presetID="1">
                                  <p:stCondLst>
                                    <p:cond delay="336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3" nodeType="withEffect" fill="hold" presetClass="exit" presetID="1">
                                  <p:stCondLst>
                                    <p:cond delay="341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5" nodeType="withEffect" fill="hold" presetClass="entr" presetID="1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7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9" dur="25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0" nodeType="withEffect" fill="hold" presetClass="entr" presetID="22" presetSubtype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2" dur="25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3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5" nodeType="withEffect" fill="hold" presetClass="exit" presetID="1">
                                  <p:stCondLst>
                                    <p:cond delay="438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7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9" nodeType="withEffect" fill="hold" presetClass="exit" presetID="1">
                                  <p:stCondLst>
                                    <p:cond delay="455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1" nodeType="withEffect" fill="hold" presetClass="entr" presetID="1">
                                  <p:stCondLst>
                                    <p:cond delay="461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3" nodeType="withEffect" fill="hold" presetClass="exit" presetID="1">
                                  <p:stCondLst>
                                    <p:cond delay="466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5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4700"/>
                            </p:stCondLst>
                            <p:childTnLst>
                              <p:par>
                                <p:cTn id="24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2470" dur="1" fill="hold"/>
                                        <p:tgtEl>
                                          <p:spTgt spid="981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心形 2"/>
          <p:cNvSpPr/>
          <p:nvPr/>
        </p:nvSpPr>
        <p:spPr>
          <a:xfrm>
            <a:off x="2000160" y="928800"/>
            <a:ext cx="1356840" cy="1356840"/>
          </a:xfrm>
          <a:prstGeom prst="heart">
            <a:avLst/>
          </a:prstGeom>
          <a:solidFill>
            <a:srgbClr val="c0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矩形 4"/>
          <p:cNvSpPr/>
          <p:nvPr/>
        </p:nvSpPr>
        <p:spPr>
          <a:xfrm>
            <a:off x="8001000" y="3786120"/>
            <a:ext cx="142560" cy="19285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6858000" y="3786120"/>
            <a:ext cx="142560" cy="25714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50" name="组合 26"/>
          <p:cNvGrpSpPr/>
          <p:nvPr/>
        </p:nvGrpSpPr>
        <p:grpSpPr>
          <a:xfrm>
            <a:off x="3357720" y="2857320"/>
            <a:ext cx="856800" cy="1566000"/>
            <a:chOff x="3357720" y="2857320"/>
            <a:chExt cx="856800" cy="1566000"/>
          </a:xfrm>
        </p:grpSpPr>
        <p:sp>
          <p:nvSpPr>
            <p:cNvPr id="151" name="矩形 8"/>
            <p:cNvSpPr/>
            <p:nvPr/>
          </p:nvSpPr>
          <p:spPr>
            <a:xfrm>
              <a:off x="3357720" y="3780720"/>
              <a:ext cx="856800" cy="64260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2" name="矩形 11"/>
            <p:cNvSpPr/>
            <p:nvPr/>
          </p:nvSpPr>
          <p:spPr>
            <a:xfrm>
              <a:off x="3429000" y="2857320"/>
              <a:ext cx="64260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</a:pPr>
              <a:endParaRPr b="0" lang="en-US" sz="5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53" name="组合 27"/>
          <p:cNvGrpSpPr/>
          <p:nvPr/>
        </p:nvGrpSpPr>
        <p:grpSpPr>
          <a:xfrm>
            <a:off x="1214280" y="2862720"/>
            <a:ext cx="1213920" cy="1351800"/>
            <a:chOff x="1214280" y="2862720"/>
            <a:chExt cx="1213920" cy="1351800"/>
          </a:xfrm>
        </p:grpSpPr>
        <p:sp>
          <p:nvSpPr>
            <p:cNvPr id="154" name="矩形 10"/>
            <p:cNvSpPr/>
            <p:nvPr/>
          </p:nvSpPr>
          <p:spPr>
            <a:xfrm>
              <a:off x="1500120" y="2862720"/>
              <a:ext cx="66240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</a:pPr>
              <a:endParaRPr b="0" lang="en-US" sz="5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5" name="矩形 13"/>
            <p:cNvSpPr/>
            <p:nvPr/>
          </p:nvSpPr>
          <p:spPr>
            <a:xfrm>
              <a:off x="1214280" y="3786120"/>
              <a:ext cx="1213920" cy="42840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56" name="组合 20"/>
          <p:cNvGrpSpPr/>
          <p:nvPr/>
        </p:nvGrpSpPr>
        <p:grpSpPr>
          <a:xfrm>
            <a:off x="5643720" y="2857320"/>
            <a:ext cx="999720" cy="2923200"/>
            <a:chOff x="5643720" y="2857320"/>
            <a:chExt cx="999720" cy="2923200"/>
          </a:xfrm>
        </p:grpSpPr>
        <p:sp>
          <p:nvSpPr>
            <p:cNvPr id="157" name="矩形 7"/>
            <p:cNvSpPr/>
            <p:nvPr/>
          </p:nvSpPr>
          <p:spPr>
            <a:xfrm>
              <a:off x="5643720" y="3780720"/>
              <a:ext cx="999720" cy="199980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8" name="矩形 15"/>
            <p:cNvSpPr/>
            <p:nvPr/>
          </p:nvSpPr>
          <p:spPr>
            <a:xfrm>
              <a:off x="5643720" y="2857320"/>
              <a:ext cx="18432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endParaRPr b="0" lang="en-US" sz="5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59" name="组合 19"/>
          <p:cNvGrpSpPr/>
          <p:nvPr/>
        </p:nvGrpSpPr>
        <p:grpSpPr>
          <a:xfrm>
            <a:off x="6929280" y="2857320"/>
            <a:ext cx="785520" cy="2643120"/>
            <a:chOff x="6929280" y="2857320"/>
            <a:chExt cx="785520" cy="2643120"/>
          </a:xfrm>
        </p:grpSpPr>
        <p:sp>
          <p:nvSpPr>
            <p:cNvPr id="160" name="矩形 5"/>
            <p:cNvSpPr/>
            <p:nvPr/>
          </p:nvSpPr>
          <p:spPr>
            <a:xfrm>
              <a:off x="7072200" y="3786120"/>
              <a:ext cx="642600" cy="171432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1" name="矩形 16"/>
            <p:cNvSpPr/>
            <p:nvPr/>
          </p:nvSpPr>
          <p:spPr>
            <a:xfrm>
              <a:off x="6929280" y="2857320"/>
              <a:ext cx="18432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endParaRPr b="0" lang="en-US" sz="5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2" name="组合 18"/>
          <p:cNvGrpSpPr/>
          <p:nvPr/>
        </p:nvGrpSpPr>
        <p:grpSpPr>
          <a:xfrm>
            <a:off x="7567920" y="1214280"/>
            <a:ext cx="1218600" cy="5071680"/>
            <a:chOff x="7567920" y="1214280"/>
            <a:chExt cx="1218600" cy="5071680"/>
          </a:xfrm>
        </p:grpSpPr>
        <p:sp>
          <p:nvSpPr>
            <p:cNvPr id="163" name="矩形 3"/>
            <p:cNvSpPr/>
            <p:nvPr/>
          </p:nvSpPr>
          <p:spPr>
            <a:xfrm>
              <a:off x="8215200" y="3786120"/>
              <a:ext cx="571320" cy="249984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4" name="矩形 17"/>
            <p:cNvSpPr/>
            <p:nvPr/>
          </p:nvSpPr>
          <p:spPr>
            <a:xfrm>
              <a:off x="7567920" y="1214280"/>
              <a:ext cx="100692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5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介绍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矩形 22"/>
          <p:cNvSpPr/>
          <p:nvPr/>
        </p:nvSpPr>
        <p:spPr>
          <a:xfrm>
            <a:off x="2714760" y="3786120"/>
            <a:ext cx="142560" cy="31428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66" name="组合 25"/>
          <p:cNvGrpSpPr/>
          <p:nvPr/>
        </p:nvGrpSpPr>
        <p:grpSpPr>
          <a:xfrm>
            <a:off x="4429080" y="2857320"/>
            <a:ext cx="928440" cy="1857240"/>
            <a:chOff x="4429080" y="2857320"/>
            <a:chExt cx="928440" cy="1857240"/>
          </a:xfrm>
        </p:grpSpPr>
        <p:sp>
          <p:nvSpPr>
            <p:cNvPr id="167" name="矩形 12"/>
            <p:cNvSpPr/>
            <p:nvPr/>
          </p:nvSpPr>
          <p:spPr>
            <a:xfrm>
              <a:off x="4572000" y="2857320"/>
              <a:ext cx="757440" cy="92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</a:pPr>
              <a:endParaRPr b="0" lang="en-US" sz="5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68" name="组合 23"/>
            <p:cNvGrpSpPr/>
            <p:nvPr/>
          </p:nvGrpSpPr>
          <p:grpSpPr>
            <a:xfrm>
              <a:off x="4429080" y="3786120"/>
              <a:ext cx="928440" cy="928440"/>
              <a:chOff x="4429080" y="3786120"/>
              <a:chExt cx="928440" cy="928440"/>
            </a:xfrm>
          </p:grpSpPr>
          <p:sp>
            <p:nvSpPr>
              <p:cNvPr id="169" name="矩形 9"/>
              <p:cNvSpPr/>
              <p:nvPr/>
            </p:nvSpPr>
            <p:spPr>
              <a:xfrm>
                <a:off x="4429080" y="3786120"/>
                <a:ext cx="928440" cy="928440"/>
              </a:xfrm>
              <a:prstGeom prst="rect">
                <a:avLst/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0" name="矩形 21"/>
              <p:cNvSpPr/>
              <p:nvPr/>
            </p:nvSpPr>
            <p:spPr>
              <a:xfrm>
                <a:off x="4643280" y="3857760"/>
                <a:ext cx="45360" cy="85680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71" name="组合 29"/>
          <p:cNvGrpSpPr/>
          <p:nvPr/>
        </p:nvGrpSpPr>
        <p:grpSpPr>
          <a:xfrm>
            <a:off x="3000240" y="3786120"/>
            <a:ext cx="117000" cy="4071600"/>
            <a:chOff x="3000240" y="3786120"/>
            <a:chExt cx="117000" cy="4071600"/>
          </a:xfrm>
        </p:grpSpPr>
        <p:sp>
          <p:nvSpPr>
            <p:cNvPr id="172" name="矩形 14"/>
            <p:cNvSpPr/>
            <p:nvPr/>
          </p:nvSpPr>
          <p:spPr>
            <a:xfrm>
              <a:off x="3071880" y="3786120"/>
              <a:ext cx="45360" cy="407160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3" name="矩形 28"/>
            <p:cNvSpPr/>
            <p:nvPr/>
          </p:nvSpPr>
          <p:spPr>
            <a:xfrm>
              <a:off x="3000240" y="3786120"/>
              <a:ext cx="70920" cy="7138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74" name="矩形 32"/>
          <p:cNvSpPr/>
          <p:nvPr/>
        </p:nvSpPr>
        <p:spPr>
          <a:xfrm>
            <a:off x="6283800" y="1214280"/>
            <a:ext cx="10069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5400" spc="-1" strike="noStrike">
                <a:solidFill>
                  <a:srgbClr val="bfbfbf"/>
                </a:solidFill>
                <a:latin typeface="微软雅黑"/>
                <a:ea typeface="微软雅黑"/>
              </a:rPr>
              <a:t>自</a:t>
            </a:r>
            <a:r>
              <a:rPr b="0" lang="zh-CN" sz="5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by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2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5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350"/>
                            </p:stCondLst>
                            <p:childTnLst>
                              <p:par>
                                <p:cTn id="133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2.48555E-006 L -1.38889E-006 -2.48555E-006 E">
                                      <p:cBhvr>
                                        <p:cTn id="134" dur="2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5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700"/>
                            </p:stCondLst>
                            <p:childTnLst>
                              <p:par>
                                <p:cTn id="141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6 0.00625 L 0.01719 0.00625 E">
                                      <p:cBhvr>
                                        <p:cTn id="142" dur="2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924 0 E">
                                      <p:cBhvr>
                                        <p:cTn id="149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300"/>
                            </p:stCondLst>
                            <p:childTnLst>
                              <p:par>
                                <p:cTn id="155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96532E-006 L 0.03142 1.96532E-006 E">
                                      <p:cBhvr>
                                        <p:cTn id="156" dur="2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800"/>
                            </p:stCondLst>
                            <p:childTnLst>
                              <p:par>
                                <p:cTn id="163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6 0.00671 L 0.00921 0.00671 E">
                                      <p:cBhvr>
                                        <p:cTn id="164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1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25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4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5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550"/>
                            </p:stCondLst>
                            <p:childTnLst>
                              <p:par>
                                <p:cTn id="181" nodeType="after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2 8.67052E-007 L 2.5E-006 8.67052E-007 E">
                                      <p:cBhvr>
                                        <p:cTn id="18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85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2361 0 E">
                                      <p:cBhvr>
                                        <p:cTn id="189" dur="1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82" name="直接连接符 45"/>
          <p:cNvCxnSpPr/>
          <p:nvPr/>
        </p:nvCxnSpPr>
        <p:spPr>
          <a:xfrm flipH="1">
            <a:off x="4572000" y="-1571400"/>
            <a:ext cx="1800" cy="228600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983" name="直接连接符 122"/>
          <p:cNvCxnSpPr/>
          <p:nvPr/>
        </p:nvCxnSpPr>
        <p:spPr>
          <a:xfrm flipH="1">
            <a:off x="761760" y="704520"/>
            <a:ext cx="381060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984" name="直接连接符 127"/>
          <p:cNvCxnSpPr/>
          <p:nvPr/>
        </p:nvCxnSpPr>
        <p:spPr>
          <a:xfrm flipV="1">
            <a:off x="761760" y="704520"/>
            <a:ext cx="360" cy="531540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985" name="直接连接符 129"/>
          <p:cNvCxnSpPr/>
          <p:nvPr/>
        </p:nvCxnSpPr>
        <p:spPr>
          <a:xfrm flipH="1">
            <a:off x="761760" y="6019560"/>
            <a:ext cx="762048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986" name="直接连接符 134"/>
          <p:cNvCxnSpPr/>
          <p:nvPr/>
        </p:nvCxnSpPr>
        <p:spPr>
          <a:xfrm flipV="1">
            <a:off x="8381880" y="3200400"/>
            <a:ext cx="360" cy="281952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987" name="直接连接符 139"/>
          <p:cNvCxnSpPr/>
          <p:nvPr/>
        </p:nvCxnSpPr>
        <p:spPr>
          <a:xfrm>
            <a:off x="8381880" y="3200400"/>
            <a:ext cx="76248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988" name="组合 141"/>
          <p:cNvGrpSpPr/>
          <p:nvPr/>
        </p:nvGrpSpPr>
        <p:grpSpPr>
          <a:xfrm>
            <a:off x="1828800" y="1241280"/>
            <a:ext cx="380520" cy="380520"/>
            <a:chOff x="1828800" y="1241280"/>
            <a:chExt cx="380520" cy="380520"/>
          </a:xfrm>
        </p:grpSpPr>
        <p:sp>
          <p:nvSpPr>
            <p:cNvPr id="989" name="椭圆 142"/>
            <p:cNvSpPr/>
            <p:nvPr/>
          </p:nvSpPr>
          <p:spPr>
            <a:xfrm>
              <a:off x="1828800" y="1241280"/>
              <a:ext cx="380520" cy="38052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椭圆 143"/>
            <p:cNvSpPr/>
            <p:nvPr/>
          </p:nvSpPr>
          <p:spPr>
            <a:xfrm>
              <a:off x="1924200" y="1336680"/>
              <a:ext cx="190080" cy="19008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矩形 145"/>
          <p:cNvSpPr/>
          <p:nvPr/>
        </p:nvSpPr>
        <p:spPr>
          <a:xfrm>
            <a:off x="1649880" y="1747800"/>
            <a:ext cx="73836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1440" bIns="91440" anchor="t" vert="vert" rot="5400000"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49" strike="noStrike">
                <a:solidFill>
                  <a:srgbClr val="fbfcfd">
                    <a:alpha val="95000"/>
                  </a:srgbClr>
                </a:solidFill>
                <a:latin typeface="Calibri"/>
                <a:ea typeface="黑体"/>
              </a:rPr>
              <a:t>日常及活动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92" name="直接连接符 146"/>
          <p:cNvCxnSpPr>
            <a:stCxn id="990" idx="6"/>
          </p:cNvCxnSpPr>
          <p:nvPr/>
        </p:nvCxnSpPr>
        <p:spPr>
          <a:xfrm>
            <a:off x="2114280" y="1431720"/>
            <a:ext cx="76248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993" name="组合 209"/>
          <p:cNvGrpSpPr/>
          <p:nvPr/>
        </p:nvGrpSpPr>
        <p:grpSpPr>
          <a:xfrm>
            <a:off x="7696080" y="308160"/>
            <a:ext cx="1066320" cy="1066320"/>
            <a:chOff x="7696080" y="308160"/>
            <a:chExt cx="1066320" cy="1066320"/>
          </a:xfrm>
        </p:grpSpPr>
        <p:sp>
          <p:nvSpPr>
            <p:cNvPr id="994" name="椭圆 210"/>
            <p:cNvSpPr/>
            <p:nvPr/>
          </p:nvSpPr>
          <p:spPr>
            <a:xfrm>
              <a:off x="7696080" y="308160"/>
              <a:ext cx="1066320" cy="106632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椭圆 215"/>
            <p:cNvSpPr/>
            <p:nvPr/>
          </p:nvSpPr>
          <p:spPr>
            <a:xfrm>
              <a:off x="8115480" y="727200"/>
              <a:ext cx="228240" cy="228240"/>
            </a:xfrm>
            <a:prstGeom prst="ellipse">
              <a:avLst/>
            </a:prstGeom>
            <a:solidFill>
              <a:schemeClr val="accent1">
                <a:alpha val="8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椭圆 216"/>
            <p:cNvSpPr/>
            <p:nvPr/>
          </p:nvSpPr>
          <p:spPr>
            <a:xfrm>
              <a:off x="7890120" y="502200"/>
              <a:ext cx="678600" cy="67860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椭圆 217"/>
            <p:cNvSpPr/>
            <p:nvPr/>
          </p:nvSpPr>
          <p:spPr>
            <a:xfrm>
              <a:off x="7772400" y="384480"/>
              <a:ext cx="914040" cy="914040"/>
            </a:xfrm>
            <a:prstGeom prst="ellipse">
              <a:avLst/>
            </a:prstGeom>
            <a:noFill/>
            <a:ln w="28575">
              <a:solidFill>
                <a:srgbClr val="4f81bd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组合 223"/>
          <p:cNvGrpSpPr/>
          <p:nvPr/>
        </p:nvGrpSpPr>
        <p:grpSpPr>
          <a:xfrm>
            <a:off x="4848840" y="407160"/>
            <a:ext cx="2948760" cy="228240"/>
            <a:chOff x="4848840" y="407160"/>
            <a:chExt cx="2948760" cy="228240"/>
          </a:xfrm>
        </p:grpSpPr>
        <p:cxnSp>
          <p:nvCxnSpPr>
            <p:cNvPr id="999" name="直接连接符 225"/>
            <p:cNvCxnSpPr>
              <a:stCxn id="1000" idx="6"/>
            </p:cNvCxnSpPr>
            <p:nvPr/>
          </p:nvCxnSpPr>
          <p:spPr>
            <a:xfrm>
              <a:off x="5020200" y="521280"/>
              <a:ext cx="2777760" cy="36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  <p:grpSp>
          <p:nvGrpSpPr>
            <p:cNvPr id="1001" name="组合 227"/>
            <p:cNvGrpSpPr/>
            <p:nvPr/>
          </p:nvGrpSpPr>
          <p:grpSpPr>
            <a:xfrm>
              <a:off x="4848840" y="407160"/>
              <a:ext cx="228240" cy="228240"/>
              <a:chOff x="4848840" y="407160"/>
              <a:chExt cx="228240" cy="228240"/>
            </a:xfrm>
          </p:grpSpPr>
          <p:sp>
            <p:nvSpPr>
              <p:cNvPr id="1002" name="椭圆 256"/>
              <p:cNvSpPr/>
              <p:nvPr/>
            </p:nvSpPr>
            <p:spPr>
              <a:xfrm>
                <a:off x="4848840" y="407160"/>
                <a:ext cx="228240" cy="228240"/>
              </a:xfrm>
              <a:prstGeom prst="ellipse">
                <a:avLst/>
              </a:prstGeom>
              <a:gradFill rotWithShape="0">
                <a:gsLst>
                  <a:gs pos="0">
                    <a:srgbClr val="294c74">
                      <a:alpha val="0"/>
                    </a:srgbClr>
                  </a:gs>
                  <a:gs pos="100000">
                    <a:srgbClr val="467fc4"/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椭圆 257"/>
              <p:cNvSpPr/>
              <p:nvPr/>
            </p:nvSpPr>
            <p:spPr>
              <a:xfrm>
                <a:off x="4906080" y="464040"/>
                <a:ext cx="114120" cy="114120"/>
              </a:xfrm>
              <a:prstGeom prst="ellipse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组合 262"/>
          <p:cNvGrpSpPr/>
          <p:nvPr/>
        </p:nvGrpSpPr>
        <p:grpSpPr>
          <a:xfrm>
            <a:off x="8552880" y="1163520"/>
            <a:ext cx="228240" cy="1749240"/>
            <a:chOff x="8552880" y="1163520"/>
            <a:chExt cx="228240" cy="1749240"/>
          </a:xfrm>
        </p:grpSpPr>
        <p:cxnSp>
          <p:nvCxnSpPr>
            <p:cNvPr id="1004" name="直接连接符 263"/>
            <p:cNvCxnSpPr>
              <a:stCxn id="1005" idx="6"/>
            </p:cNvCxnSpPr>
            <p:nvPr/>
          </p:nvCxnSpPr>
          <p:spPr>
            <a:xfrm flipV="1">
              <a:off x="8667000" y="1163520"/>
              <a:ext cx="360" cy="157788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  <p:grpSp>
          <p:nvGrpSpPr>
            <p:cNvPr id="1006" name="组合 269"/>
            <p:cNvGrpSpPr/>
            <p:nvPr/>
          </p:nvGrpSpPr>
          <p:grpSpPr>
            <a:xfrm>
              <a:off x="8552880" y="2684520"/>
              <a:ext cx="228240" cy="228240"/>
              <a:chOff x="8552880" y="2684520"/>
              <a:chExt cx="228240" cy="228240"/>
            </a:xfrm>
          </p:grpSpPr>
          <p:sp>
            <p:nvSpPr>
              <p:cNvPr id="1007" name="椭圆 270"/>
              <p:cNvSpPr/>
              <p:nvPr/>
            </p:nvSpPr>
            <p:spPr>
              <a:xfrm rot="16200000">
                <a:off x="8552880" y="2684520"/>
                <a:ext cx="228240" cy="228240"/>
              </a:xfrm>
              <a:prstGeom prst="ellipse">
                <a:avLst/>
              </a:prstGeom>
              <a:gradFill rotWithShape="0">
                <a:gsLst>
                  <a:gs pos="0">
                    <a:srgbClr val="294c74">
                      <a:alpha val="0"/>
                    </a:srgbClr>
                  </a:gs>
                  <a:gs pos="100000">
                    <a:srgbClr val="467fc4"/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椭圆 271"/>
              <p:cNvSpPr/>
              <p:nvPr/>
            </p:nvSpPr>
            <p:spPr>
              <a:xfrm rot="16200000">
                <a:off x="8610120" y="2741400"/>
                <a:ext cx="114120" cy="114120"/>
              </a:xfrm>
              <a:prstGeom prst="ellipse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8" name="矩形 275"/>
          <p:cNvSpPr/>
          <p:nvPr/>
        </p:nvSpPr>
        <p:spPr>
          <a:xfrm>
            <a:off x="5257800" y="5785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矩形 276"/>
          <p:cNvSpPr/>
          <p:nvPr/>
        </p:nvSpPr>
        <p:spPr>
          <a:xfrm>
            <a:off x="5410080" y="5785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矩形 277"/>
          <p:cNvSpPr/>
          <p:nvPr/>
        </p:nvSpPr>
        <p:spPr>
          <a:xfrm>
            <a:off x="5562720" y="5785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矩形 278"/>
          <p:cNvSpPr/>
          <p:nvPr/>
        </p:nvSpPr>
        <p:spPr>
          <a:xfrm>
            <a:off x="5715000" y="5785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矩形 279"/>
          <p:cNvSpPr/>
          <p:nvPr/>
        </p:nvSpPr>
        <p:spPr>
          <a:xfrm>
            <a:off x="5867280" y="5785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矩形 280"/>
          <p:cNvSpPr/>
          <p:nvPr/>
        </p:nvSpPr>
        <p:spPr>
          <a:xfrm>
            <a:off x="6019920" y="5785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矩形 281"/>
          <p:cNvSpPr/>
          <p:nvPr/>
        </p:nvSpPr>
        <p:spPr>
          <a:xfrm>
            <a:off x="6172200" y="5785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剪去单角的矩形 282"/>
          <p:cNvSpPr/>
          <p:nvPr/>
        </p:nvSpPr>
        <p:spPr>
          <a:xfrm flipV="1">
            <a:off x="6318000" y="578160"/>
            <a:ext cx="1301400" cy="151920"/>
          </a:xfrm>
          <a:prstGeom prst="snip1Rect">
            <a:avLst>
              <a:gd name="adj" fmla="val 50000"/>
            </a:avLst>
          </a:prstGeom>
          <a:solidFill>
            <a:schemeClr val="accent1">
              <a:alpha val="5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283"/>
          <p:cNvSpPr/>
          <p:nvPr/>
        </p:nvSpPr>
        <p:spPr>
          <a:xfrm>
            <a:off x="5105520" y="5785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矩形 284"/>
          <p:cNvSpPr/>
          <p:nvPr/>
        </p:nvSpPr>
        <p:spPr>
          <a:xfrm rot="5400000">
            <a:off x="8496000" y="241920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矩形 285"/>
          <p:cNvSpPr/>
          <p:nvPr/>
        </p:nvSpPr>
        <p:spPr>
          <a:xfrm rot="5400000">
            <a:off x="8497080" y="2309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矩形 286"/>
          <p:cNvSpPr/>
          <p:nvPr/>
        </p:nvSpPr>
        <p:spPr>
          <a:xfrm rot="5400000">
            <a:off x="8497080" y="22003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矩形 287"/>
          <p:cNvSpPr/>
          <p:nvPr/>
        </p:nvSpPr>
        <p:spPr>
          <a:xfrm rot="5400000">
            <a:off x="8497080" y="20901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矩形 288"/>
          <p:cNvSpPr/>
          <p:nvPr/>
        </p:nvSpPr>
        <p:spPr>
          <a:xfrm rot="5400000">
            <a:off x="8497080" y="19810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矩形 289"/>
          <p:cNvSpPr/>
          <p:nvPr/>
        </p:nvSpPr>
        <p:spPr>
          <a:xfrm rot="5400000">
            <a:off x="8497080" y="18712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矩形 290"/>
          <p:cNvSpPr/>
          <p:nvPr/>
        </p:nvSpPr>
        <p:spPr>
          <a:xfrm rot="5400000">
            <a:off x="8496000" y="176220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剪去单角的矩形 291"/>
          <p:cNvSpPr/>
          <p:nvPr/>
        </p:nvSpPr>
        <p:spPr>
          <a:xfrm rot="16200000">
            <a:off x="8338320" y="1494000"/>
            <a:ext cx="389880" cy="151920"/>
          </a:xfrm>
          <a:prstGeom prst="snip1Rect">
            <a:avLst>
              <a:gd name="adj" fmla="val 50000"/>
            </a:avLst>
          </a:prstGeom>
          <a:solidFill>
            <a:schemeClr val="accent1">
              <a:alpha val="5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292"/>
          <p:cNvSpPr/>
          <p:nvPr/>
        </p:nvSpPr>
        <p:spPr>
          <a:xfrm rot="5400000">
            <a:off x="8496000" y="252864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302"/>
          <p:cNvSpPr/>
          <p:nvPr/>
        </p:nvSpPr>
        <p:spPr>
          <a:xfrm>
            <a:off x="914400" y="60958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03"/>
          <p:cNvSpPr/>
          <p:nvPr/>
        </p:nvSpPr>
        <p:spPr>
          <a:xfrm>
            <a:off x="1066680" y="60958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304"/>
          <p:cNvSpPr/>
          <p:nvPr/>
        </p:nvSpPr>
        <p:spPr>
          <a:xfrm>
            <a:off x="1219320" y="60958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305"/>
          <p:cNvSpPr/>
          <p:nvPr/>
        </p:nvSpPr>
        <p:spPr>
          <a:xfrm>
            <a:off x="1371600" y="60958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306"/>
          <p:cNvSpPr/>
          <p:nvPr/>
        </p:nvSpPr>
        <p:spPr>
          <a:xfrm>
            <a:off x="1523880" y="60958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307"/>
          <p:cNvSpPr/>
          <p:nvPr/>
        </p:nvSpPr>
        <p:spPr>
          <a:xfrm>
            <a:off x="1676520" y="60958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308"/>
          <p:cNvSpPr/>
          <p:nvPr/>
        </p:nvSpPr>
        <p:spPr>
          <a:xfrm>
            <a:off x="1828800" y="60958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剪去单角的矩形 309"/>
          <p:cNvSpPr/>
          <p:nvPr/>
        </p:nvSpPr>
        <p:spPr>
          <a:xfrm flipV="1">
            <a:off x="1981080" y="6095880"/>
            <a:ext cx="6400440" cy="151920"/>
          </a:xfrm>
          <a:prstGeom prst="snip1Rect">
            <a:avLst>
              <a:gd name="adj" fmla="val 50000"/>
            </a:avLst>
          </a:prstGeom>
          <a:solidFill>
            <a:schemeClr val="accent1">
              <a:alpha val="5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310"/>
          <p:cNvSpPr/>
          <p:nvPr/>
        </p:nvSpPr>
        <p:spPr>
          <a:xfrm>
            <a:off x="762120" y="60958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Box 55"/>
          <p:cNvSpPr/>
          <p:nvPr/>
        </p:nvSpPr>
        <p:spPr>
          <a:xfrm>
            <a:off x="2857320" y="5214960"/>
            <a:ext cx="457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 校园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SPLAY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TextBox 56"/>
          <p:cNvSpPr/>
          <p:nvPr/>
        </p:nvSpPr>
        <p:spPr>
          <a:xfrm>
            <a:off x="3714840" y="1857240"/>
            <a:ext cx="2142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Calibri"/>
              </a:rPr>
              <a:t>图片无法显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push dir="u"/>
  </p:transition>
  <p:timing>
    <p:tnLst>
      <p:par>
        <p:cTn id="2471" dur="indefinite" restart="never" nodeType="tmRoot">
          <p:childTnLst>
            <p:seq>
              <p:cTn id="2472" dur="indefinite" nodeType="mainSeq">
                <p:childTnLst>
                  <p:par>
                    <p:cTn id="2473" fill="hold">
                      <p:stCondLst>
                        <p:cond delay="0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7" dur="25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8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0" dur="25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3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6" dur="25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7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9" dur="25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2" nodeType="withEffect" fill="hold" presetClass="exit" presetID="1">
                                  <p:stCondLst>
                                    <p:cond delay="163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1">
                                  <p:stCondLst>
                                    <p:cond delay="174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6" nodeType="withEffect" fill="hold" presetClass="exit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8" nodeType="withEffect" fill="hold" presetClass="entr" presetID="1">
                                  <p:stCondLst>
                                    <p:cond delay="186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0" nodeType="withEffect" fill="hold" presetClass="exit" presetID="1">
                                  <p:stCondLst>
                                    <p:cond delay="191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2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6" dur="25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7" nodeType="withEffect" fill="hold" presetClass="entr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9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1" nodeType="withEffect" fill="hold" presetClass="entr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3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5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7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9" nodeType="withEffect" fill="hold" presetClass="entr" presetID="1">
                                  <p:stCondLst>
                                    <p:cond delay="255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1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3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5" nodeType="withEffect" fill="hold" presetClass="exit" presetID="1">
                                  <p:stCondLst>
                                    <p:cond delay="273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7" nodeType="withEffect" fill="hold" presetClass="entr" presetID="1">
                                  <p:stCondLst>
                                    <p:cond delay="284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9" nodeType="withEffect" fill="hold" presetClass="exit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1" nodeType="withEffect" fill="hold" presetClass="entr" presetID="1">
                                  <p:stCondLst>
                                    <p:cond delay="296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3" nodeType="withEffect" fill="hold" presetClass="exit" presetID="1">
                                  <p:stCondLst>
                                    <p:cond delay="301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5" nodeType="withEffect" fill="hold" presetClass="entr" presetID="1">
                                  <p:stCondLst>
                                    <p:cond delay="305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7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9" dur="25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0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4" nodeType="withEffect" fill="hold" presetClass="entr" presetID="1">
                                  <p:stCondLst>
                                    <p:cond delay="285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6" nodeType="withEffect" fill="hold" presetClass="entr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1">
                                  <p:stCondLst>
                                    <p:cond delay="295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0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2" nodeType="withEffect" fill="hold" presetClass="entr" presetID="1">
                                  <p:stCondLst>
                                    <p:cond delay="305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4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8" nodeType="withEffect" fill="hold" presetClass="exit" presetID="1">
                                  <p:stCondLst>
                                    <p:cond delay="323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0" nodeType="withEffect" fill="hold" presetClass="entr" presetID="1">
                                  <p:stCondLst>
                                    <p:cond delay="334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2" nodeType="withEffect" fill="hold" presetClass="exit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1">
                                  <p:stCondLst>
                                    <p:cond delay="346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6" nodeType="withEffect" fill="hold" presetClass="exit" presetID="1">
                                  <p:stCondLst>
                                    <p:cond delay="351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8" nodeType="withEffect" fill="hold" presetClass="entr" presetID="1">
                                  <p:stCondLst>
                                    <p:cond delay="355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0" nodeType="withEffect" fill="hold" presetClass="entr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2" nodeType="withEffect" fill="hold" presetClass="exit" presetID="1">
                                  <p:stCondLst>
                                    <p:cond delay="343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4" nodeType="withEffect" fill="hold" presetClass="entr" presetID="1">
                                  <p:stCondLst>
                                    <p:cond delay="354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6" nodeType="withEffect" fill="hold" presetClass="exit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8" nodeType="withEffect" fill="hold" presetClass="entr" presetID="1">
                                  <p:stCondLst>
                                    <p:cond delay="366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0" nodeType="withEffect" fill="hold" presetClass="exit" presetID="1">
                                  <p:stCondLst>
                                    <p:cond delay="371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4" nodeType="withEffect" fill="hold" presetClass="entr" presetID="22" presetSubtype="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6" dur="25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7" nodeType="withEffect" fill="hold" presetClass="entr" presetID="22" presetSubtype="8">
                                  <p:stCondLst>
                                    <p:cond delay="405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9" dur="25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0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2" nodeType="withEffect" fill="hold" presetClass="entr" presetID="1">
                                  <p:stCondLst>
                                    <p:cond delay="555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4" nodeType="withEffect" fill="hold" presetClass="entr" presetID="1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6" nodeType="withEffect" fill="hold" presetClass="entr" presetID="1">
                                  <p:stCondLst>
                                    <p:cond delay="565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8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0" nodeType="withEffect" fill="hold" presetClass="entr" presetID="1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2" nodeType="withEffect" fill="hold" presetClass="entr" presetID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4" nodeType="withEffect" fill="hold" presetClass="entr" presetID="1">
                                  <p:stCondLst>
                                    <p:cond delay="585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6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9" nodeType="withEffect" fill="hold" presetClass="entr" presetID="22" presetSubtype="8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2" nodeType="withEffect" fill="hold" presetClass="entr" presetID="1">
                                  <p:stCondLst>
                                    <p:cond delay="585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4" nodeType="withEffect" fill="hold" presetClass="exit" presetID="1">
                                  <p:stCondLst>
                                    <p:cond delay="598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6" nodeType="withEffect" fill="hold" presetClass="entr" presetID="1">
                                  <p:stCondLst>
                                    <p:cond delay="609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8" nodeType="withEffect" fill="hold" presetClass="exit" presetID="1">
                                  <p:stCondLst>
                                    <p:cond delay="615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0" nodeType="withEffect" fill="hold" presetClass="entr" presetID="1">
                                  <p:stCondLst>
                                    <p:cond delay="621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2" nodeType="withEffect" fill="hold" presetClass="exit" presetID="1">
                                  <p:stCondLst>
                                    <p:cond delay="626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4" nodeType="withEffect" fill="hold" presetClass="entr" presetID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37" name="直接连接符 45"/>
          <p:cNvCxnSpPr/>
          <p:nvPr/>
        </p:nvCxnSpPr>
        <p:spPr>
          <a:xfrm>
            <a:off x="4572000" y="9360"/>
            <a:ext cx="360" cy="70524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1038" name="直接连接符 122"/>
          <p:cNvCxnSpPr/>
          <p:nvPr/>
        </p:nvCxnSpPr>
        <p:spPr>
          <a:xfrm flipH="1">
            <a:off x="761760" y="704520"/>
            <a:ext cx="381060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1039" name="直接连接符 127"/>
          <p:cNvCxnSpPr/>
          <p:nvPr/>
        </p:nvCxnSpPr>
        <p:spPr>
          <a:xfrm flipV="1">
            <a:off x="761760" y="704520"/>
            <a:ext cx="360" cy="531540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1040" name="直接连接符 129"/>
          <p:cNvCxnSpPr/>
          <p:nvPr/>
        </p:nvCxnSpPr>
        <p:spPr>
          <a:xfrm flipH="1">
            <a:off x="761760" y="6019560"/>
            <a:ext cx="762048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1041" name="直接连接符 134"/>
          <p:cNvCxnSpPr/>
          <p:nvPr/>
        </p:nvCxnSpPr>
        <p:spPr>
          <a:xfrm flipV="1">
            <a:off x="8381880" y="3200400"/>
            <a:ext cx="360" cy="281952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cxnSp>
        <p:nvCxnSpPr>
          <p:cNvPr id="1042" name="直接连接符 139"/>
          <p:cNvCxnSpPr/>
          <p:nvPr/>
        </p:nvCxnSpPr>
        <p:spPr>
          <a:xfrm>
            <a:off x="8381880" y="3200400"/>
            <a:ext cx="76248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1043" name="组合 141"/>
          <p:cNvGrpSpPr/>
          <p:nvPr/>
        </p:nvGrpSpPr>
        <p:grpSpPr>
          <a:xfrm>
            <a:off x="1828800" y="1241280"/>
            <a:ext cx="380520" cy="380520"/>
            <a:chOff x="1828800" y="1241280"/>
            <a:chExt cx="380520" cy="380520"/>
          </a:xfrm>
        </p:grpSpPr>
        <p:sp>
          <p:nvSpPr>
            <p:cNvPr id="1044" name="椭圆 142"/>
            <p:cNvSpPr/>
            <p:nvPr/>
          </p:nvSpPr>
          <p:spPr>
            <a:xfrm>
              <a:off x="1828800" y="1241280"/>
              <a:ext cx="380520" cy="38052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椭圆 143"/>
            <p:cNvSpPr/>
            <p:nvPr/>
          </p:nvSpPr>
          <p:spPr>
            <a:xfrm>
              <a:off x="1924200" y="1336680"/>
              <a:ext cx="190080" cy="19008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矩形 145"/>
          <p:cNvSpPr/>
          <p:nvPr/>
        </p:nvSpPr>
        <p:spPr>
          <a:xfrm>
            <a:off x="1649880" y="1747800"/>
            <a:ext cx="73836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91440" bIns="91440" anchor="t" vert="vert" rot="5400000"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49" strike="noStrike">
                <a:solidFill>
                  <a:srgbClr val="fbfcfd">
                    <a:alpha val="95000"/>
                  </a:srgbClr>
                </a:solidFill>
                <a:latin typeface="Calibri"/>
                <a:ea typeface="黑体"/>
              </a:rPr>
              <a:t>日常及活动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47" name="直接连接符 146"/>
          <p:cNvCxnSpPr>
            <a:stCxn id="1045" idx="6"/>
          </p:cNvCxnSpPr>
          <p:nvPr/>
        </p:nvCxnSpPr>
        <p:spPr>
          <a:xfrm>
            <a:off x="2114280" y="1431720"/>
            <a:ext cx="76248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1048" name="组合 209"/>
          <p:cNvGrpSpPr/>
          <p:nvPr/>
        </p:nvGrpSpPr>
        <p:grpSpPr>
          <a:xfrm>
            <a:off x="7696080" y="308160"/>
            <a:ext cx="1066320" cy="1066320"/>
            <a:chOff x="7696080" y="308160"/>
            <a:chExt cx="1066320" cy="1066320"/>
          </a:xfrm>
        </p:grpSpPr>
        <p:sp>
          <p:nvSpPr>
            <p:cNvPr id="1049" name="椭圆 210"/>
            <p:cNvSpPr/>
            <p:nvPr/>
          </p:nvSpPr>
          <p:spPr>
            <a:xfrm>
              <a:off x="7696080" y="308160"/>
              <a:ext cx="1066320" cy="106632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椭圆 215"/>
            <p:cNvSpPr/>
            <p:nvPr/>
          </p:nvSpPr>
          <p:spPr>
            <a:xfrm>
              <a:off x="8115480" y="727200"/>
              <a:ext cx="228240" cy="228240"/>
            </a:xfrm>
            <a:prstGeom prst="ellipse">
              <a:avLst/>
            </a:prstGeom>
            <a:solidFill>
              <a:schemeClr val="accent1">
                <a:alpha val="8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椭圆 216"/>
            <p:cNvSpPr/>
            <p:nvPr/>
          </p:nvSpPr>
          <p:spPr>
            <a:xfrm>
              <a:off x="7890120" y="502200"/>
              <a:ext cx="678600" cy="67860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椭圆 217"/>
            <p:cNvSpPr/>
            <p:nvPr/>
          </p:nvSpPr>
          <p:spPr>
            <a:xfrm>
              <a:off x="7772400" y="384480"/>
              <a:ext cx="914040" cy="914040"/>
            </a:xfrm>
            <a:prstGeom prst="ellipse">
              <a:avLst/>
            </a:prstGeom>
            <a:noFill/>
            <a:ln w="28575">
              <a:solidFill>
                <a:srgbClr val="4f81bd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组合 223"/>
          <p:cNvGrpSpPr/>
          <p:nvPr/>
        </p:nvGrpSpPr>
        <p:grpSpPr>
          <a:xfrm>
            <a:off x="4848840" y="407160"/>
            <a:ext cx="2948760" cy="228240"/>
            <a:chOff x="4848840" y="407160"/>
            <a:chExt cx="2948760" cy="228240"/>
          </a:xfrm>
        </p:grpSpPr>
        <p:cxnSp>
          <p:nvCxnSpPr>
            <p:cNvPr id="1054" name="直接连接符 225"/>
            <p:cNvCxnSpPr>
              <a:stCxn id="1055" idx="6"/>
            </p:cNvCxnSpPr>
            <p:nvPr/>
          </p:nvCxnSpPr>
          <p:spPr>
            <a:xfrm>
              <a:off x="5020200" y="521280"/>
              <a:ext cx="2777760" cy="36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  <p:grpSp>
          <p:nvGrpSpPr>
            <p:cNvPr id="1056" name="组合 227"/>
            <p:cNvGrpSpPr/>
            <p:nvPr/>
          </p:nvGrpSpPr>
          <p:grpSpPr>
            <a:xfrm>
              <a:off x="4848840" y="407160"/>
              <a:ext cx="228240" cy="228240"/>
              <a:chOff x="4848840" y="407160"/>
              <a:chExt cx="228240" cy="228240"/>
            </a:xfrm>
          </p:grpSpPr>
          <p:sp>
            <p:nvSpPr>
              <p:cNvPr id="1057" name="椭圆 256"/>
              <p:cNvSpPr/>
              <p:nvPr/>
            </p:nvSpPr>
            <p:spPr>
              <a:xfrm>
                <a:off x="4848840" y="407160"/>
                <a:ext cx="228240" cy="228240"/>
              </a:xfrm>
              <a:prstGeom prst="ellipse">
                <a:avLst/>
              </a:prstGeom>
              <a:gradFill rotWithShape="0">
                <a:gsLst>
                  <a:gs pos="0">
                    <a:srgbClr val="294c74">
                      <a:alpha val="0"/>
                    </a:srgbClr>
                  </a:gs>
                  <a:gs pos="100000">
                    <a:srgbClr val="467fc4"/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椭圆 257"/>
              <p:cNvSpPr/>
              <p:nvPr/>
            </p:nvSpPr>
            <p:spPr>
              <a:xfrm>
                <a:off x="4906080" y="464040"/>
                <a:ext cx="114120" cy="114120"/>
              </a:xfrm>
              <a:prstGeom prst="ellipse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8" name="组合 262"/>
          <p:cNvGrpSpPr/>
          <p:nvPr/>
        </p:nvGrpSpPr>
        <p:grpSpPr>
          <a:xfrm>
            <a:off x="8552880" y="1163520"/>
            <a:ext cx="228240" cy="1749240"/>
            <a:chOff x="8552880" y="1163520"/>
            <a:chExt cx="228240" cy="1749240"/>
          </a:xfrm>
        </p:grpSpPr>
        <p:cxnSp>
          <p:nvCxnSpPr>
            <p:cNvPr id="1059" name="直接连接符 263"/>
            <p:cNvCxnSpPr>
              <a:stCxn id="1060" idx="6"/>
            </p:cNvCxnSpPr>
            <p:nvPr/>
          </p:nvCxnSpPr>
          <p:spPr>
            <a:xfrm flipV="1">
              <a:off x="8667000" y="1163520"/>
              <a:ext cx="360" cy="157788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  <p:grpSp>
          <p:nvGrpSpPr>
            <p:cNvPr id="1061" name="组合 269"/>
            <p:cNvGrpSpPr/>
            <p:nvPr/>
          </p:nvGrpSpPr>
          <p:grpSpPr>
            <a:xfrm>
              <a:off x="8552880" y="2684520"/>
              <a:ext cx="228240" cy="228240"/>
              <a:chOff x="8552880" y="2684520"/>
              <a:chExt cx="228240" cy="228240"/>
            </a:xfrm>
          </p:grpSpPr>
          <p:sp>
            <p:nvSpPr>
              <p:cNvPr id="1062" name="椭圆 270"/>
              <p:cNvSpPr/>
              <p:nvPr/>
            </p:nvSpPr>
            <p:spPr>
              <a:xfrm rot="16200000">
                <a:off x="8552880" y="2684520"/>
                <a:ext cx="228240" cy="228240"/>
              </a:xfrm>
              <a:prstGeom prst="ellipse">
                <a:avLst/>
              </a:prstGeom>
              <a:gradFill rotWithShape="0">
                <a:gsLst>
                  <a:gs pos="0">
                    <a:srgbClr val="294c74">
                      <a:alpha val="0"/>
                    </a:srgbClr>
                  </a:gs>
                  <a:gs pos="100000">
                    <a:srgbClr val="467fc4"/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椭圆 271"/>
              <p:cNvSpPr/>
              <p:nvPr/>
            </p:nvSpPr>
            <p:spPr>
              <a:xfrm rot="16200000">
                <a:off x="8610120" y="2741400"/>
                <a:ext cx="114120" cy="114120"/>
              </a:xfrm>
              <a:prstGeom prst="ellipse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3" name="矩形 275"/>
          <p:cNvSpPr/>
          <p:nvPr/>
        </p:nvSpPr>
        <p:spPr>
          <a:xfrm>
            <a:off x="5257800" y="5785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276"/>
          <p:cNvSpPr/>
          <p:nvPr/>
        </p:nvSpPr>
        <p:spPr>
          <a:xfrm>
            <a:off x="5410080" y="5785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277"/>
          <p:cNvSpPr/>
          <p:nvPr/>
        </p:nvSpPr>
        <p:spPr>
          <a:xfrm>
            <a:off x="5562720" y="5785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278"/>
          <p:cNvSpPr/>
          <p:nvPr/>
        </p:nvSpPr>
        <p:spPr>
          <a:xfrm>
            <a:off x="5715000" y="5785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279"/>
          <p:cNvSpPr/>
          <p:nvPr/>
        </p:nvSpPr>
        <p:spPr>
          <a:xfrm>
            <a:off x="5867280" y="5785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280"/>
          <p:cNvSpPr/>
          <p:nvPr/>
        </p:nvSpPr>
        <p:spPr>
          <a:xfrm>
            <a:off x="6019920" y="5785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281"/>
          <p:cNvSpPr/>
          <p:nvPr/>
        </p:nvSpPr>
        <p:spPr>
          <a:xfrm>
            <a:off x="6172200" y="5785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剪去单角的矩形 282"/>
          <p:cNvSpPr/>
          <p:nvPr/>
        </p:nvSpPr>
        <p:spPr>
          <a:xfrm flipV="1">
            <a:off x="6318000" y="578160"/>
            <a:ext cx="1301400" cy="151920"/>
          </a:xfrm>
          <a:prstGeom prst="snip1Rect">
            <a:avLst>
              <a:gd name="adj" fmla="val 50000"/>
            </a:avLst>
          </a:prstGeom>
          <a:solidFill>
            <a:schemeClr val="accent1">
              <a:alpha val="5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283"/>
          <p:cNvSpPr/>
          <p:nvPr/>
        </p:nvSpPr>
        <p:spPr>
          <a:xfrm>
            <a:off x="5105520" y="5785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284"/>
          <p:cNvSpPr/>
          <p:nvPr/>
        </p:nvSpPr>
        <p:spPr>
          <a:xfrm rot="5400000">
            <a:off x="8496000" y="241920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矩形 285"/>
          <p:cNvSpPr/>
          <p:nvPr/>
        </p:nvSpPr>
        <p:spPr>
          <a:xfrm rot="5400000">
            <a:off x="8497080" y="23097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286"/>
          <p:cNvSpPr/>
          <p:nvPr/>
        </p:nvSpPr>
        <p:spPr>
          <a:xfrm rot="5400000">
            <a:off x="8497080" y="22003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矩形 287"/>
          <p:cNvSpPr/>
          <p:nvPr/>
        </p:nvSpPr>
        <p:spPr>
          <a:xfrm rot="5400000">
            <a:off x="8497080" y="209016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288"/>
          <p:cNvSpPr/>
          <p:nvPr/>
        </p:nvSpPr>
        <p:spPr>
          <a:xfrm rot="5400000">
            <a:off x="8497080" y="19810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矩形 289"/>
          <p:cNvSpPr/>
          <p:nvPr/>
        </p:nvSpPr>
        <p:spPr>
          <a:xfrm rot="5400000">
            <a:off x="8497080" y="18712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矩形 290"/>
          <p:cNvSpPr/>
          <p:nvPr/>
        </p:nvSpPr>
        <p:spPr>
          <a:xfrm rot="5400000">
            <a:off x="8496000" y="176220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剪去单角的矩形 291"/>
          <p:cNvSpPr/>
          <p:nvPr/>
        </p:nvSpPr>
        <p:spPr>
          <a:xfrm rot="16200000">
            <a:off x="8338320" y="1494000"/>
            <a:ext cx="389880" cy="151920"/>
          </a:xfrm>
          <a:prstGeom prst="snip1Rect">
            <a:avLst>
              <a:gd name="adj" fmla="val 50000"/>
            </a:avLst>
          </a:prstGeom>
          <a:solidFill>
            <a:schemeClr val="accent1">
              <a:alpha val="5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矩形 292"/>
          <p:cNvSpPr/>
          <p:nvPr/>
        </p:nvSpPr>
        <p:spPr>
          <a:xfrm rot="5400000">
            <a:off x="8496000" y="252864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矩形 302"/>
          <p:cNvSpPr/>
          <p:nvPr/>
        </p:nvSpPr>
        <p:spPr>
          <a:xfrm>
            <a:off x="914400" y="60958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矩形 303"/>
          <p:cNvSpPr/>
          <p:nvPr/>
        </p:nvSpPr>
        <p:spPr>
          <a:xfrm>
            <a:off x="1066680" y="60958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矩形 304"/>
          <p:cNvSpPr/>
          <p:nvPr/>
        </p:nvSpPr>
        <p:spPr>
          <a:xfrm>
            <a:off x="1219320" y="60958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矩形 305"/>
          <p:cNvSpPr/>
          <p:nvPr/>
        </p:nvSpPr>
        <p:spPr>
          <a:xfrm>
            <a:off x="1371600" y="60958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矩形 306"/>
          <p:cNvSpPr/>
          <p:nvPr/>
        </p:nvSpPr>
        <p:spPr>
          <a:xfrm>
            <a:off x="1523880" y="60958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矩形 307"/>
          <p:cNvSpPr/>
          <p:nvPr/>
        </p:nvSpPr>
        <p:spPr>
          <a:xfrm>
            <a:off x="1676520" y="60958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矩形 308"/>
          <p:cNvSpPr/>
          <p:nvPr/>
        </p:nvSpPr>
        <p:spPr>
          <a:xfrm>
            <a:off x="1828800" y="60958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剪去单角的矩形 309"/>
          <p:cNvSpPr/>
          <p:nvPr/>
        </p:nvSpPr>
        <p:spPr>
          <a:xfrm flipV="1">
            <a:off x="1981080" y="6095880"/>
            <a:ext cx="6400440" cy="151920"/>
          </a:xfrm>
          <a:prstGeom prst="snip1Rect">
            <a:avLst>
              <a:gd name="adj" fmla="val 50000"/>
            </a:avLst>
          </a:prstGeom>
          <a:solidFill>
            <a:schemeClr val="accent1">
              <a:alpha val="5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矩形 310"/>
          <p:cNvSpPr/>
          <p:nvPr/>
        </p:nvSpPr>
        <p:spPr>
          <a:xfrm>
            <a:off x="762120" y="609588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Box 55"/>
          <p:cNvSpPr/>
          <p:nvPr/>
        </p:nvSpPr>
        <p:spPr>
          <a:xfrm>
            <a:off x="2643120" y="5429160"/>
            <a:ext cx="3928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冬季写真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TextBox 56"/>
          <p:cNvSpPr/>
          <p:nvPr/>
        </p:nvSpPr>
        <p:spPr>
          <a:xfrm>
            <a:off x="3357720" y="1500120"/>
            <a:ext cx="21427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Calibri"/>
              </a:rPr>
              <a:t>图片无法显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push dir="u"/>
  </p:transition>
  <p:timing>
    <p:tnLst>
      <p:par>
        <p:cTn id="2626" dur="indefinite" restart="never" nodeType="tmRoot">
          <p:childTnLst>
            <p:seq>
              <p:cTn id="2627" dur="indefinite" nodeType="mainSeq">
                <p:childTnLst>
                  <p:par>
                    <p:cTn id="2628" fill="hold">
                      <p:stCondLst>
                        <p:cond delay="0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2" dur="25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3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5" dur="25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1" dur="25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2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4" dur="25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5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7" nodeType="withEffect" fill="hold" presetClass="exit" presetID="1">
                                  <p:stCondLst>
                                    <p:cond delay="163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9" nodeType="withEffect" fill="hold" presetClass="entr" presetID="1">
                                  <p:stCondLst>
                                    <p:cond delay="174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1" nodeType="withEffect" fill="hold" presetClass="exit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3" nodeType="withEffect" fill="hold" presetClass="entr" presetID="1">
                                  <p:stCondLst>
                                    <p:cond delay="186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5" nodeType="withEffect" fill="hold" presetClass="exit" presetID="1">
                                  <p:stCondLst>
                                    <p:cond delay="191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7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9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1" dur="25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2" nodeType="withEffect" fill="hold" presetClass="entr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4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6" nodeType="withEffect" fill="hold" presetClass="entr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8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0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2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1">
                                  <p:stCondLst>
                                    <p:cond delay="255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6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8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0" nodeType="withEffect" fill="hold" presetClass="exit" presetID="1">
                                  <p:stCondLst>
                                    <p:cond delay="273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2" nodeType="withEffect" fill="hold" presetClass="entr" presetID="1">
                                  <p:stCondLst>
                                    <p:cond delay="284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4" nodeType="withEffect" fill="hold" presetClass="exit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6" nodeType="withEffect" fill="hold" presetClass="entr" presetID="1">
                                  <p:stCondLst>
                                    <p:cond delay="296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8" nodeType="withEffect" fill="hold" presetClass="exit" presetID="1">
                                  <p:stCondLst>
                                    <p:cond delay="301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0" nodeType="withEffect" fill="hold" presetClass="entr" presetID="1">
                                  <p:stCondLst>
                                    <p:cond delay="305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2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4" dur="25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5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7" nodeType="withEffect" fill="hold" presetClass="entr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9" nodeType="withEffect" fill="hold" presetClass="entr" presetID="1">
                                  <p:stCondLst>
                                    <p:cond delay="285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1" nodeType="withEffect" fill="hold" presetClass="entr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1">
                                  <p:stCondLst>
                                    <p:cond delay="295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5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7" nodeType="withEffect" fill="hold" presetClass="entr" presetID="1">
                                  <p:stCondLst>
                                    <p:cond delay="305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9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3" nodeType="withEffect" fill="hold" presetClass="exit" presetID="1">
                                  <p:stCondLst>
                                    <p:cond delay="323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1">
                                  <p:stCondLst>
                                    <p:cond delay="334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7" nodeType="withEffect" fill="hold" presetClass="exit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9" nodeType="withEffect" fill="hold" presetClass="entr" presetID="1">
                                  <p:stCondLst>
                                    <p:cond delay="346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1" nodeType="withEffect" fill="hold" presetClass="exit" presetID="1">
                                  <p:stCondLst>
                                    <p:cond delay="351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1">
                                  <p:stCondLst>
                                    <p:cond delay="355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5" nodeType="withEffect" fill="hold" presetClass="entr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7" nodeType="withEffect" fill="hold" presetClass="exit" presetID="1">
                                  <p:stCondLst>
                                    <p:cond delay="343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9" nodeType="withEffect" fill="hold" presetClass="entr" presetID="1">
                                  <p:stCondLst>
                                    <p:cond delay="354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1" nodeType="withEffect" fill="hold" presetClass="exit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3" nodeType="withEffect" fill="hold" presetClass="entr" presetID="1">
                                  <p:stCondLst>
                                    <p:cond delay="366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5" nodeType="withEffect" fill="hold" presetClass="exit" presetID="1">
                                  <p:stCondLst>
                                    <p:cond delay="371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7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9" nodeType="withEffect" fill="hold" presetClass="entr" presetID="22" presetSubtype="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1" dur="25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2" nodeType="withEffect" fill="hold" presetClass="entr" presetID="22" presetSubtype="8">
                                  <p:stCondLst>
                                    <p:cond delay="405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4" dur="25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5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7" nodeType="withEffect" fill="hold" presetClass="entr" presetID="1">
                                  <p:stCondLst>
                                    <p:cond delay="555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9" nodeType="withEffect" fill="hold" presetClass="entr" presetID="1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1" nodeType="withEffect" fill="hold" presetClass="entr" presetID="1">
                                  <p:stCondLst>
                                    <p:cond delay="565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3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5" nodeType="withEffect" fill="hold" presetClass="entr" presetID="1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7" nodeType="withEffect" fill="hold" presetClass="entr" presetID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9" nodeType="withEffect" fill="hold" presetClass="entr" presetID="1">
                                  <p:stCondLst>
                                    <p:cond delay="585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1" nodeType="withEffect" fill="hold" presetClass="entr" presetID="22" presetSubtype="8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4" nodeType="withEffect" fill="hold" presetClass="entr" presetID="1">
                                  <p:stCondLst>
                                    <p:cond delay="585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6" nodeType="withEffect" fill="hold" presetClass="exit" presetID="1">
                                  <p:stCondLst>
                                    <p:cond delay="598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8" nodeType="withEffect" fill="hold" presetClass="entr" presetID="1">
                                  <p:stCondLst>
                                    <p:cond delay="609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0" nodeType="withEffect" fill="hold" presetClass="exit" presetID="1">
                                  <p:stCondLst>
                                    <p:cond delay="615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2" nodeType="withEffect" fill="hold" presetClass="entr" presetID="1">
                                  <p:stCondLst>
                                    <p:cond delay="621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4" nodeType="withEffect" fill="hold" presetClass="exit" presetID="1">
                                  <p:stCondLst>
                                    <p:cond delay="626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6" nodeType="withEffect" fill="hold" presetClass="entr" presetID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8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0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组合 97"/>
          <p:cNvGrpSpPr/>
          <p:nvPr/>
        </p:nvGrpSpPr>
        <p:grpSpPr>
          <a:xfrm>
            <a:off x="5534640" y="5729040"/>
            <a:ext cx="2324160" cy="447840"/>
            <a:chOff x="5534640" y="5729040"/>
            <a:chExt cx="2324160" cy="447840"/>
          </a:xfrm>
        </p:grpSpPr>
        <p:cxnSp>
          <p:nvCxnSpPr>
            <p:cNvPr id="1093" name="直接连接符 98"/>
            <p:cNvCxnSpPr/>
            <p:nvPr/>
          </p:nvCxnSpPr>
          <p:spPr>
            <a:xfrm>
              <a:off x="6056640" y="6176880"/>
              <a:ext cx="1802520" cy="36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  <p:cxnSp>
          <p:nvCxnSpPr>
            <p:cNvPr id="1094" name="直接连接符 99"/>
            <p:cNvCxnSpPr>
              <a:stCxn id="1095" idx="5"/>
            </p:cNvCxnSpPr>
            <p:nvPr/>
          </p:nvCxnSpPr>
          <p:spPr>
            <a:xfrm>
              <a:off x="5689440" y="5883480"/>
              <a:ext cx="367560" cy="293760"/>
            </a:xfrm>
            <a:prstGeom prst="straightConnector1">
              <a:avLst/>
            </a:prstGeom>
            <a:ln w="28575">
              <a:solidFill>
                <a:srgbClr val="4f81bd">
                  <a:alpha val="50000"/>
                </a:srgbClr>
              </a:solidFill>
              <a:round/>
            </a:ln>
          </p:spPr>
        </p:cxnSp>
        <p:grpSp>
          <p:nvGrpSpPr>
            <p:cNvPr id="1096" name="组合 100"/>
            <p:cNvGrpSpPr/>
            <p:nvPr/>
          </p:nvGrpSpPr>
          <p:grpSpPr>
            <a:xfrm>
              <a:off x="5534640" y="5729040"/>
              <a:ext cx="228240" cy="228240"/>
              <a:chOff x="5534640" y="5729040"/>
              <a:chExt cx="228240" cy="228240"/>
            </a:xfrm>
          </p:grpSpPr>
          <p:sp>
            <p:nvSpPr>
              <p:cNvPr id="1097" name="椭圆 101"/>
              <p:cNvSpPr/>
              <p:nvPr/>
            </p:nvSpPr>
            <p:spPr>
              <a:xfrm>
                <a:off x="5534640" y="5729040"/>
                <a:ext cx="228240" cy="228240"/>
              </a:xfrm>
              <a:prstGeom prst="ellipse">
                <a:avLst/>
              </a:prstGeom>
              <a:gradFill rotWithShape="0">
                <a:gsLst>
                  <a:gs pos="0">
                    <a:srgbClr val="294c74">
                      <a:alpha val="0"/>
                    </a:srgbClr>
                  </a:gs>
                  <a:gs pos="100000">
                    <a:srgbClr val="467fc4"/>
                  </a:gs>
                </a:gsLst>
                <a:path path="rect">
                  <a:fillToRect l="50000" t="50000" r="50000" b="50000"/>
                </a:path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椭圆 102"/>
              <p:cNvSpPr/>
              <p:nvPr/>
            </p:nvSpPr>
            <p:spPr>
              <a:xfrm>
                <a:off x="5591880" y="5786280"/>
                <a:ext cx="114120" cy="114120"/>
              </a:xfrm>
              <a:prstGeom prst="ellipse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0320" bIns="40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1098" name="直接连接符 139"/>
          <p:cNvCxnSpPr>
            <a:endCxn id="1099" idx="2"/>
          </p:cNvCxnSpPr>
          <p:nvPr/>
        </p:nvCxnSpPr>
        <p:spPr>
          <a:xfrm>
            <a:off x="0" y="3200400"/>
            <a:ext cx="83196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1100" name="组合 70"/>
          <p:cNvGrpSpPr/>
          <p:nvPr/>
        </p:nvGrpSpPr>
        <p:grpSpPr>
          <a:xfrm>
            <a:off x="736560" y="3009960"/>
            <a:ext cx="380520" cy="380520"/>
            <a:chOff x="736560" y="3009960"/>
            <a:chExt cx="380520" cy="380520"/>
          </a:xfrm>
        </p:grpSpPr>
        <p:sp>
          <p:nvSpPr>
            <p:cNvPr id="1101" name="椭圆 71"/>
            <p:cNvSpPr/>
            <p:nvPr/>
          </p:nvSpPr>
          <p:spPr>
            <a:xfrm>
              <a:off x="736560" y="3009960"/>
              <a:ext cx="380520" cy="38052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椭圆 72"/>
            <p:cNvSpPr/>
            <p:nvPr/>
          </p:nvSpPr>
          <p:spPr>
            <a:xfrm>
              <a:off x="831960" y="3105000"/>
              <a:ext cx="190080" cy="19008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2" name="TextBox 74"/>
          <p:cNvSpPr/>
          <p:nvPr/>
        </p:nvSpPr>
        <p:spPr>
          <a:xfrm>
            <a:off x="1406880" y="2784960"/>
            <a:ext cx="2357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chemeClr val="accent1"/>
                </a:solidFill>
                <a:latin typeface="Calibri"/>
                <a:ea typeface="黑体"/>
              </a:rPr>
              <a:t>THE E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3" name="直接连接符 78"/>
          <p:cNvCxnSpPr>
            <a:stCxn id="1104" idx="6"/>
          </p:cNvCxnSpPr>
          <p:nvPr/>
        </p:nvCxnSpPr>
        <p:spPr>
          <a:xfrm>
            <a:off x="4314240" y="3200400"/>
            <a:ext cx="4830120" cy="360"/>
          </a:xfrm>
          <a:prstGeom prst="straightConnector1">
            <a:avLst/>
          </a:prstGeom>
          <a:ln w="28575">
            <a:solidFill>
              <a:srgbClr val="4f81bd">
                <a:alpha val="50000"/>
              </a:srgbClr>
            </a:solidFill>
            <a:round/>
          </a:ln>
        </p:spPr>
      </p:cxnSp>
      <p:grpSp>
        <p:nvGrpSpPr>
          <p:cNvPr id="1105" name="组合 75"/>
          <p:cNvGrpSpPr/>
          <p:nvPr/>
        </p:nvGrpSpPr>
        <p:grpSpPr>
          <a:xfrm>
            <a:off x="4028760" y="3009960"/>
            <a:ext cx="380520" cy="380520"/>
            <a:chOff x="4028760" y="3009960"/>
            <a:chExt cx="380520" cy="380520"/>
          </a:xfrm>
        </p:grpSpPr>
        <p:sp>
          <p:nvSpPr>
            <p:cNvPr id="1106" name="椭圆 76"/>
            <p:cNvSpPr/>
            <p:nvPr/>
          </p:nvSpPr>
          <p:spPr>
            <a:xfrm>
              <a:off x="4028760" y="3009960"/>
              <a:ext cx="380520" cy="380520"/>
            </a:xfrm>
            <a:prstGeom prst="ellipse">
              <a:avLst/>
            </a:prstGeom>
            <a:gradFill rotWithShape="0">
              <a:gsLst>
                <a:gs pos="0">
                  <a:srgbClr val="294c74">
                    <a:alpha val="0"/>
                  </a:srgbClr>
                </a:gs>
                <a:gs pos="100000">
                  <a:srgbClr val="467fc4"/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椭圆 77"/>
            <p:cNvSpPr/>
            <p:nvPr/>
          </p:nvSpPr>
          <p:spPr>
            <a:xfrm>
              <a:off x="4123800" y="3105000"/>
              <a:ext cx="190080" cy="190080"/>
            </a:xfrm>
            <a:prstGeom prst="ellipse">
              <a:avLst/>
            </a:prstGeom>
            <a:solidFill>
              <a:schemeClr val="accent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矩形 82"/>
          <p:cNvSpPr/>
          <p:nvPr/>
        </p:nvSpPr>
        <p:spPr>
          <a:xfrm>
            <a:off x="4588920" y="32731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83"/>
          <p:cNvSpPr/>
          <p:nvPr/>
        </p:nvSpPr>
        <p:spPr>
          <a:xfrm>
            <a:off x="4741560" y="32731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矩形 84"/>
          <p:cNvSpPr/>
          <p:nvPr/>
        </p:nvSpPr>
        <p:spPr>
          <a:xfrm>
            <a:off x="4893840" y="32731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矩形 85"/>
          <p:cNvSpPr/>
          <p:nvPr/>
        </p:nvSpPr>
        <p:spPr>
          <a:xfrm>
            <a:off x="5046120" y="32731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矩形 86"/>
          <p:cNvSpPr/>
          <p:nvPr/>
        </p:nvSpPr>
        <p:spPr>
          <a:xfrm>
            <a:off x="5198760" y="32731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矩形 87"/>
          <p:cNvSpPr/>
          <p:nvPr/>
        </p:nvSpPr>
        <p:spPr>
          <a:xfrm>
            <a:off x="5351040" y="32731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矩形 88"/>
          <p:cNvSpPr/>
          <p:nvPr/>
        </p:nvSpPr>
        <p:spPr>
          <a:xfrm>
            <a:off x="5503320" y="32731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剪去单角的矩形 89"/>
          <p:cNvSpPr/>
          <p:nvPr/>
        </p:nvSpPr>
        <p:spPr>
          <a:xfrm flipV="1">
            <a:off x="5655960" y="3273120"/>
            <a:ext cx="3411720" cy="151920"/>
          </a:xfrm>
          <a:prstGeom prst="snip1Rect">
            <a:avLst>
              <a:gd name="adj" fmla="val 50000"/>
            </a:avLst>
          </a:prstGeom>
          <a:solidFill>
            <a:schemeClr val="accent1">
              <a:alpha val="5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矩形 90"/>
          <p:cNvSpPr/>
          <p:nvPr/>
        </p:nvSpPr>
        <p:spPr>
          <a:xfrm>
            <a:off x="4436640" y="3273120"/>
            <a:ext cx="75960" cy="151920"/>
          </a:xfrm>
          <a:prstGeom prst="rect">
            <a:avLst/>
          </a:prstGeom>
          <a:solidFill>
            <a:srgbClr val="bbe0e3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Box 91"/>
          <p:cNvSpPr/>
          <p:nvPr/>
        </p:nvSpPr>
        <p:spPr>
          <a:xfrm>
            <a:off x="4535640" y="2800440"/>
            <a:ext cx="2928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accent1"/>
                </a:solidFill>
                <a:latin typeface="Calibri"/>
                <a:ea typeface="黑体"/>
              </a:rPr>
              <a:t>Personal   resume——XX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7" name="组合 92"/>
          <p:cNvGrpSpPr/>
          <p:nvPr/>
        </p:nvGrpSpPr>
        <p:grpSpPr>
          <a:xfrm>
            <a:off x="7696080" y="5257800"/>
            <a:ext cx="1066320" cy="1066320"/>
            <a:chOff x="7696080" y="5257800"/>
            <a:chExt cx="1066320" cy="1066320"/>
          </a:xfrm>
        </p:grpSpPr>
        <p:sp>
          <p:nvSpPr>
            <p:cNvPr id="1118" name="椭圆 93"/>
            <p:cNvSpPr/>
            <p:nvPr/>
          </p:nvSpPr>
          <p:spPr>
            <a:xfrm>
              <a:off x="7696080" y="5257800"/>
              <a:ext cx="1066320" cy="106632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椭圆 94"/>
            <p:cNvSpPr/>
            <p:nvPr/>
          </p:nvSpPr>
          <p:spPr>
            <a:xfrm>
              <a:off x="8115480" y="5676840"/>
              <a:ext cx="228240" cy="228240"/>
            </a:xfrm>
            <a:prstGeom prst="ellipse">
              <a:avLst/>
            </a:prstGeom>
            <a:solidFill>
              <a:schemeClr val="accent1">
                <a:alpha val="8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椭圆 95"/>
            <p:cNvSpPr/>
            <p:nvPr/>
          </p:nvSpPr>
          <p:spPr>
            <a:xfrm>
              <a:off x="7890120" y="5451840"/>
              <a:ext cx="678600" cy="678600"/>
            </a:xfrm>
            <a:prstGeom prst="ellipse">
              <a:avLst/>
            </a:prstGeom>
            <a:noFill/>
            <a:ln w="28575">
              <a:solidFill>
                <a:srgbClr val="4f81bd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椭圆 96"/>
            <p:cNvSpPr/>
            <p:nvPr/>
          </p:nvSpPr>
          <p:spPr>
            <a:xfrm>
              <a:off x="7772400" y="5334120"/>
              <a:ext cx="914040" cy="914040"/>
            </a:xfrm>
            <a:prstGeom prst="ellipse">
              <a:avLst/>
            </a:prstGeom>
            <a:noFill/>
            <a:ln w="28575">
              <a:solidFill>
                <a:srgbClr val="4f81bd">
                  <a:alpha val="8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2" name="TextBox 109">
            <a:hlinkClick r:id="" action="ppaction://hlinkshowjump?jump=firstslide"/>
          </p:cNvPr>
          <p:cNvSpPr/>
          <p:nvPr/>
        </p:nvSpPr>
        <p:spPr>
          <a:xfrm>
            <a:off x="6262920" y="5612400"/>
            <a:ext cx="1083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accent1"/>
                </a:solidFill>
                <a:latin typeface="Calibri"/>
                <a:ea typeface="黑体"/>
              </a:rPr>
              <a:t>RE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push dir="r"/>
  </p:transition>
  <p:timing>
    <p:tnLst>
      <p:par>
        <p:cTn id="2781" dur="indefinite" restart="never" nodeType="tmRoot">
          <p:childTnLst>
            <p:seq>
              <p:cTn id="2782" dur="indefinite" nodeType="mainSeq">
                <p:childTnLst>
                  <p:par>
                    <p:cTn id="2783" fill="hold">
                      <p:stCondLst>
                        <p:cond delay="0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7" nodeType="withEffect" fill="hold" presetClass="entr" presetID="1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9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1" nodeType="withEffect" fill="hold" presetClass="entr" presetID="1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3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5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7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9" nodeType="withEffect" fill="hold" presetClass="entr" presetID="1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1" nodeType="withEffect" fill="hold" presetClass="entr" presetID="1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3" nodeType="withEffect" fill="hold" presetClass="exit" presetID="1">
                                  <p:stCondLst>
                                    <p:cond delay="48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5" nodeType="withEffect" fill="hold" presetClass="entr" presetID="1">
                                  <p:stCondLst>
                                    <p:cond delay="59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7" nodeType="withEffect" fill="hold" presetClass="exit" presetID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9" nodeType="withEffect" fill="hold" presetClass="entr" presetID="1">
                                  <p:stCondLst>
                                    <p:cond delay="71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1" nodeType="withEffect" fill="hold" presetClass="exit" presetID="1">
                                  <p:stCondLst>
                                    <p:cond delay="76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3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7" dur="25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8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0" nodeType="withEffect" fill="hold" presetClass="exit" presetID="1">
                                  <p:stCondLst>
                                    <p:cond delay="138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2" nodeType="withEffect" fill="hold" presetClass="entr" presetID="1">
                                  <p:stCondLst>
                                    <p:cond delay="149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4" nodeType="withEffect" fill="hold" presetClass="exit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6" nodeType="withEffect" fill="hold" presetClass="entr" presetID="1">
                                  <p:stCondLst>
                                    <p:cond delay="161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8" nodeType="withEffect" fill="hold" presetClass="exit" presetID="1">
                                  <p:stCondLst>
                                    <p:cond delay="166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0" nodeType="withEffect" fill="hold" presetClass="entr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2" nodeType="withEffect" fill="hold" presetClass="entr" presetID="22" presetSubtype="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4" dur="25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7" dur="25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Group 2"/>
          <p:cNvGrpSpPr/>
          <p:nvPr/>
        </p:nvGrpSpPr>
        <p:grpSpPr>
          <a:xfrm>
            <a:off x="0" y="0"/>
            <a:ext cx="8466480" cy="6858000"/>
            <a:chOff x="0" y="0"/>
            <a:chExt cx="8466480" cy="6858000"/>
          </a:xfrm>
        </p:grpSpPr>
        <p:sp>
          <p:nvSpPr>
            <p:cNvPr id="1124" name="矩形 4"/>
            <p:cNvSpPr/>
            <p:nvPr/>
          </p:nvSpPr>
          <p:spPr>
            <a:xfrm>
              <a:off x="578160" y="0"/>
              <a:ext cx="6742800" cy="6991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680"/>
              <a:ext cx="8466480" cy="51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6" name="TextBox 7">
              <a:hlinkClick r:id="rId3"/>
            </p:cNvPr>
            <p:cNvSpPr/>
            <p:nvPr/>
          </p:nvSpPr>
          <p:spPr>
            <a:xfrm rot="20926800">
              <a:off x="1920600" y="3571920"/>
              <a:ext cx="4667040" cy="11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www.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eeppt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6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11"/>
          <p:cNvSpPr/>
          <p:nvPr/>
        </p:nvSpPr>
        <p:spPr>
          <a:xfrm>
            <a:off x="-7358040" y="2428920"/>
            <a:ext cx="23217120" cy="2857320"/>
          </a:xfrm>
          <a:prstGeom prst="rect">
            <a:avLst/>
          </a:prstGeom>
          <a:solidFill>
            <a:srgbClr val="ff0000">
              <a:alpha val="7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矩形 12"/>
          <p:cNvSpPr/>
          <p:nvPr/>
        </p:nvSpPr>
        <p:spPr>
          <a:xfrm>
            <a:off x="3929040" y="-3500640"/>
            <a:ext cx="3928680" cy="14287320"/>
          </a:xfrm>
          <a:prstGeom prst="rect">
            <a:avLst/>
          </a:prstGeom>
          <a:solidFill>
            <a:schemeClr val="tx1"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矩形 13"/>
          <p:cNvSpPr/>
          <p:nvPr/>
        </p:nvSpPr>
        <p:spPr>
          <a:xfrm>
            <a:off x="4714920" y="3143160"/>
            <a:ext cx="2356920" cy="14284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TextBox 14"/>
          <p:cNvSpPr/>
          <p:nvPr/>
        </p:nvSpPr>
        <p:spPr>
          <a:xfrm>
            <a:off x="4714920" y="3143160"/>
            <a:ext cx="228564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r         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aract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5"/>
          <p:cNvGrpSpPr/>
          <p:nvPr/>
        </p:nvGrpSpPr>
        <p:grpSpPr>
          <a:xfrm>
            <a:off x="4500720" y="3143160"/>
            <a:ext cx="2356920" cy="1428480"/>
            <a:chOff x="4500720" y="3143160"/>
            <a:chExt cx="2356920" cy="1428480"/>
          </a:xfrm>
        </p:grpSpPr>
        <p:sp>
          <p:nvSpPr>
            <p:cNvPr id="180" name="矩形 6"/>
            <p:cNvSpPr/>
            <p:nvPr/>
          </p:nvSpPr>
          <p:spPr>
            <a:xfrm>
              <a:off x="450072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1" name="TextBox 7"/>
            <p:cNvSpPr/>
            <p:nvPr/>
          </p:nvSpPr>
          <p:spPr>
            <a:xfrm>
              <a:off x="457200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21"/>
          <p:cNvGrpSpPr/>
          <p:nvPr/>
        </p:nvGrpSpPr>
        <p:grpSpPr>
          <a:xfrm>
            <a:off x="4357800" y="3143160"/>
            <a:ext cx="2356920" cy="1428480"/>
            <a:chOff x="4357800" y="3143160"/>
            <a:chExt cx="2356920" cy="1428480"/>
          </a:xfrm>
        </p:grpSpPr>
        <p:sp>
          <p:nvSpPr>
            <p:cNvPr id="183" name="矩形 22"/>
            <p:cNvSpPr/>
            <p:nvPr/>
          </p:nvSpPr>
          <p:spPr>
            <a:xfrm>
              <a:off x="435780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4" name="TextBox 23"/>
            <p:cNvSpPr/>
            <p:nvPr/>
          </p:nvSpPr>
          <p:spPr>
            <a:xfrm>
              <a:off x="442908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24"/>
          <p:cNvGrpSpPr/>
          <p:nvPr/>
        </p:nvGrpSpPr>
        <p:grpSpPr>
          <a:xfrm>
            <a:off x="4214880" y="3143160"/>
            <a:ext cx="2356920" cy="1428480"/>
            <a:chOff x="4214880" y="3143160"/>
            <a:chExt cx="2356920" cy="1428480"/>
          </a:xfrm>
        </p:grpSpPr>
        <p:sp>
          <p:nvSpPr>
            <p:cNvPr id="186" name="矩形 25"/>
            <p:cNvSpPr/>
            <p:nvPr/>
          </p:nvSpPr>
          <p:spPr>
            <a:xfrm>
              <a:off x="421488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7" name="TextBox 26"/>
            <p:cNvSpPr/>
            <p:nvPr/>
          </p:nvSpPr>
          <p:spPr>
            <a:xfrm>
              <a:off x="428616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27"/>
          <p:cNvGrpSpPr/>
          <p:nvPr/>
        </p:nvGrpSpPr>
        <p:grpSpPr>
          <a:xfrm>
            <a:off x="4000320" y="3143160"/>
            <a:ext cx="2357280" cy="1428480"/>
            <a:chOff x="4000320" y="3143160"/>
            <a:chExt cx="2357280" cy="1428480"/>
          </a:xfrm>
        </p:grpSpPr>
        <p:sp>
          <p:nvSpPr>
            <p:cNvPr id="189" name="矩形 28"/>
            <p:cNvSpPr/>
            <p:nvPr/>
          </p:nvSpPr>
          <p:spPr>
            <a:xfrm>
              <a:off x="400032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0" name="TextBox 29"/>
            <p:cNvSpPr/>
            <p:nvPr/>
          </p:nvSpPr>
          <p:spPr>
            <a:xfrm>
              <a:off x="407196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组合 30"/>
          <p:cNvGrpSpPr/>
          <p:nvPr/>
        </p:nvGrpSpPr>
        <p:grpSpPr>
          <a:xfrm>
            <a:off x="3786120" y="3143160"/>
            <a:ext cx="2357280" cy="1428480"/>
            <a:chOff x="3786120" y="3143160"/>
            <a:chExt cx="2357280" cy="1428480"/>
          </a:xfrm>
        </p:grpSpPr>
        <p:sp>
          <p:nvSpPr>
            <p:cNvPr id="192" name="矩形 31"/>
            <p:cNvSpPr/>
            <p:nvPr/>
          </p:nvSpPr>
          <p:spPr>
            <a:xfrm>
              <a:off x="378612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3" name="TextBox 32"/>
            <p:cNvSpPr/>
            <p:nvPr/>
          </p:nvSpPr>
          <p:spPr>
            <a:xfrm>
              <a:off x="385776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33"/>
          <p:cNvGrpSpPr/>
          <p:nvPr/>
        </p:nvGrpSpPr>
        <p:grpSpPr>
          <a:xfrm>
            <a:off x="3643200" y="3143160"/>
            <a:ext cx="2357280" cy="1428480"/>
            <a:chOff x="3643200" y="3143160"/>
            <a:chExt cx="2357280" cy="1428480"/>
          </a:xfrm>
        </p:grpSpPr>
        <p:sp>
          <p:nvSpPr>
            <p:cNvPr id="195" name="矩形 34"/>
            <p:cNvSpPr/>
            <p:nvPr/>
          </p:nvSpPr>
          <p:spPr>
            <a:xfrm>
              <a:off x="364320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6" name="TextBox 35"/>
            <p:cNvSpPr/>
            <p:nvPr/>
          </p:nvSpPr>
          <p:spPr>
            <a:xfrm>
              <a:off x="371484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组合 36"/>
          <p:cNvGrpSpPr/>
          <p:nvPr/>
        </p:nvGrpSpPr>
        <p:grpSpPr>
          <a:xfrm>
            <a:off x="3500280" y="3143160"/>
            <a:ext cx="2357280" cy="1428480"/>
            <a:chOff x="3500280" y="3143160"/>
            <a:chExt cx="2357280" cy="1428480"/>
          </a:xfrm>
        </p:grpSpPr>
        <p:sp>
          <p:nvSpPr>
            <p:cNvPr id="198" name="矩形 37"/>
            <p:cNvSpPr/>
            <p:nvPr/>
          </p:nvSpPr>
          <p:spPr>
            <a:xfrm>
              <a:off x="350028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9" name="TextBox 38"/>
            <p:cNvSpPr/>
            <p:nvPr/>
          </p:nvSpPr>
          <p:spPr>
            <a:xfrm>
              <a:off x="357192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组合 39"/>
          <p:cNvGrpSpPr/>
          <p:nvPr/>
        </p:nvGrpSpPr>
        <p:grpSpPr>
          <a:xfrm>
            <a:off x="3357720" y="3143160"/>
            <a:ext cx="2356920" cy="1428480"/>
            <a:chOff x="3357720" y="3143160"/>
            <a:chExt cx="2356920" cy="1428480"/>
          </a:xfrm>
        </p:grpSpPr>
        <p:sp>
          <p:nvSpPr>
            <p:cNvPr id="201" name="矩形 40"/>
            <p:cNvSpPr/>
            <p:nvPr/>
          </p:nvSpPr>
          <p:spPr>
            <a:xfrm>
              <a:off x="335772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2" name="TextBox 41"/>
            <p:cNvSpPr/>
            <p:nvPr/>
          </p:nvSpPr>
          <p:spPr>
            <a:xfrm>
              <a:off x="342900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42"/>
          <p:cNvGrpSpPr/>
          <p:nvPr/>
        </p:nvGrpSpPr>
        <p:grpSpPr>
          <a:xfrm>
            <a:off x="3214800" y="3143160"/>
            <a:ext cx="2356920" cy="1428480"/>
            <a:chOff x="3214800" y="3143160"/>
            <a:chExt cx="2356920" cy="1428480"/>
          </a:xfrm>
        </p:grpSpPr>
        <p:sp>
          <p:nvSpPr>
            <p:cNvPr id="204" name="矩形 43"/>
            <p:cNvSpPr/>
            <p:nvPr/>
          </p:nvSpPr>
          <p:spPr>
            <a:xfrm>
              <a:off x="321480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5" name="TextBox 44"/>
            <p:cNvSpPr/>
            <p:nvPr/>
          </p:nvSpPr>
          <p:spPr>
            <a:xfrm>
              <a:off x="328608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45"/>
          <p:cNvGrpSpPr/>
          <p:nvPr/>
        </p:nvGrpSpPr>
        <p:grpSpPr>
          <a:xfrm>
            <a:off x="3000240" y="3143160"/>
            <a:ext cx="2357280" cy="1428480"/>
            <a:chOff x="3000240" y="3143160"/>
            <a:chExt cx="2357280" cy="1428480"/>
          </a:xfrm>
        </p:grpSpPr>
        <p:sp>
          <p:nvSpPr>
            <p:cNvPr id="207" name="矩形 46"/>
            <p:cNvSpPr/>
            <p:nvPr/>
          </p:nvSpPr>
          <p:spPr>
            <a:xfrm>
              <a:off x="300024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8" name="TextBox 47"/>
            <p:cNvSpPr/>
            <p:nvPr/>
          </p:nvSpPr>
          <p:spPr>
            <a:xfrm>
              <a:off x="307188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48"/>
          <p:cNvGrpSpPr/>
          <p:nvPr/>
        </p:nvGrpSpPr>
        <p:grpSpPr>
          <a:xfrm>
            <a:off x="2857320" y="3143160"/>
            <a:ext cx="2357280" cy="1428480"/>
            <a:chOff x="2857320" y="3143160"/>
            <a:chExt cx="2357280" cy="1428480"/>
          </a:xfrm>
        </p:grpSpPr>
        <p:sp>
          <p:nvSpPr>
            <p:cNvPr id="210" name="矩形 49"/>
            <p:cNvSpPr/>
            <p:nvPr/>
          </p:nvSpPr>
          <p:spPr>
            <a:xfrm>
              <a:off x="285732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1" name="TextBox 50"/>
            <p:cNvSpPr/>
            <p:nvPr/>
          </p:nvSpPr>
          <p:spPr>
            <a:xfrm>
              <a:off x="292896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51"/>
          <p:cNvGrpSpPr/>
          <p:nvPr/>
        </p:nvGrpSpPr>
        <p:grpSpPr>
          <a:xfrm>
            <a:off x="2714760" y="3143160"/>
            <a:ext cx="2356920" cy="1428480"/>
            <a:chOff x="2714760" y="3143160"/>
            <a:chExt cx="2356920" cy="1428480"/>
          </a:xfrm>
        </p:grpSpPr>
        <p:sp>
          <p:nvSpPr>
            <p:cNvPr id="213" name="矩形 52"/>
            <p:cNvSpPr/>
            <p:nvPr/>
          </p:nvSpPr>
          <p:spPr>
            <a:xfrm>
              <a:off x="271476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4" name="TextBox 53"/>
            <p:cNvSpPr/>
            <p:nvPr/>
          </p:nvSpPr>
          <p:spPr>
            <a:xfrm>
              <a:off x="278604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54"/>
          <p:cNvGrpSpPr/>
          <p:nvPr/>
        </p:nvGrpSpPr>
        <p:grpSpPr>
          <a:xfrm>
            <a:off x="2571840" y="3143160"/>
            <a:ext cx="2356920" cy="1428480"/>
            <a:chOff x="2571840" y="3143160"/>
            <a:chExt cx="2356920" cy="1428480"/>
          </a:xfrm>
        </p:grpSpPr>
        <p:sp>
          <p:nvSpPr>
            <p:cNvPr id="216" name="矩形 55"/>
            <p:cNvSpPr/>
            <p:nvPr/>
          </p:nvSpPr>
          <p:spPr>
            <a:xfrm>
              <a:off x="257184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7" name="TextBox 56"/>
            <p:cNvSpPr/>
            <p:nvPr/>
          </p:nvSpPr>
          <p:spPr>
            <a:xfrm>
              <a:off x="264312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57"/>
          <p:cNvGrpSpPr/>
          <p:nvPr/>
        </p:nvGrpSpPr>
        <p:grpSpPr>
          <a:xfrm>
            <a:off x="2428920" y="3143160"/>
            <a:ext cx="2356920" cy="1428480"/>
            <a:chOff x="2428920" y="3143160"/>
            <a:chExt cx="2356920" cy="1428480"/>
          </a:xfrm>
        </p:grpSpPr>
        <p:sp>
          <p:nvSpPr>
            <p:cNvPr id="219" name="矩形 58"/>
            <p:cNvSpPr/>
            <p:nvPr/>
          </p:nvSpPr>
          <p:spPr>
            <a:xfrm>
              <a:off x="242892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0" name="TextBox 59"/>
            <p:cNvSpPr/>
            <p:nvPr/>
          </p:nvSpPr>
          <p:spPr>
            <a:xfrm>
              <a:off x="250020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60"/>
          <p:cNvGrpSpPr/>
          <p:nvPr/>
        </p:nvGrpSpPr>
        <p:grpSpPr>
          <a:xfrm>
            <a:off x="2286000" y="3143160"/>
            <a:ext cx="2356920" cy="1428480"/>
            <a:chOff x="2286000" y="3143160"/>
            <a:chExt cx="2356920" cy="1428480"/>
          </a:xfrm>
        </p:grpSpPr>
        <p:sp>
          <p:nvSpPr>
            <p:cNvPr id="222" name="矩形 61"/>
            <p:cNvSpPr/>
            <p:nvPr/>
          </p:nvSpPr>
          <p:spPr>
            <a:xfrm>
              <a:off x="228600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3" name="TextBox 62"/>
            <p:cNvSpPr/>
            <p:nvPr/>
          </p:nvSpPr>
          <p:spPr>
            <a:xfrm>
              <a:off x="235728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组合 63"/>
          <p:cNvGrpSpPr/>
          <p:nvPr/>
        </p:nvGrpSpPr>
        <p:grpSpPr>
          <a:xfrm>
            <a:off x="2143080" y="3143160"/>
            <a:ext cx="2357280" cy="1428480"/>
            <a:chOff x="2143080" y="3143160"/>
            <a:chExt cx="2357280" cy="1428480"/>
          </a:xfrm>
        </p:grpSpPr>
        <p:sp>
          <p:nvSpPr>
            <p:cNvPr id="225" name="矩形 64"/>
            <p:cNvSpPr/>
            <p:nvPr/>
          </p:nvSpPr>
          <p:spPr>
            <a:xfrm>
              <a:off x="214308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6" name="TextBox 65"/>
            <p:cNvSpPr/>
            <p:nvPr/>
          </p:nvSpPr>
          <p:spPr>
            <a:xfrm>
              <a:off x="221472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66"/>
          <p:cNvGrpSpPr/>
          <p:nvPr/>
        </p:nvGrpSpPr>
        <p:grpSpPr>
          <a:xfrm>
            <a:off x="2000160" y="3143160"/>
            <a:ext cx="2357280" cy="1428480"/>
            <a:chOff x="2000160" y="3143160"/>
            <a:chExt cx="2357280" cy="1428480"/>
          </a:xfrm>
        </p:grpSpPr>
        <p:sp>
          <p:nvSpPr>
            <p:cNvPr id="228" name="矩形 67"/>
            <p:cNvSpPr/>
            <p:nvPr/>
          </p:nvSpPr>
          <p:spPr>
            <a:xfrm>
              <a:off x="200016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9" name="TextBox 68"/>
            <p:cNvSpPr/>
            <p:nvPr/>
          </p:nvSpPr>
          <p:spPr>
            <a:xfrm>
              <a:off x="207180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69"/>
          <p:cNvGrpSpPr/>
          <p:nvPr/>
        </p:nvGrpSpPr>
        <p:grpSpPr>
          <a:xfrm>
            <a:off x="1857240" y="3143160"/>
            <a:ext cx="2357280" cy="1428480"/>
            <a:chOff x="1857240" y="3143160"/>
            <a:chExt cx="2357280" cy="1428480"/>
          </a:xfrm>
        </p:grpSpPr>
        <p:sp>
          <p:nvSpPr>
            <p:cNvPr id="231" name="矩形 70"/>
            <p:cNvSpPr/>
            <p:nvPr/>
          </p:nvSpPr>
          <p:spPr>
            <a:xfrm>
              <a:off x="185724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2" name="TextBox 71"/>
            <p:cNvSpPr/>
            <p:nvPr/>
          </p:nvSpPr>
          <p:spPr>
            <a:xfrm>
              <a:off x="192888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72"/>
          <p:cNvGrpSpPr/>
          <p:nvPr/>
        </p:nvGrpSpPr>
        <p:grpSpPr>
          <a:xfrm>
            <a:off x="1714320" y="3143160"/>
            <a:ext cx="2357280" cy="1428480"/>
            <a:chOff x="1714320" y="3143160"/>
            <a:chExt cx="2357280" cy="1428480"/>
          </a:xfrm>
        </p:grpSpPr>
        <p:sp>
          <p:nvSpPr>
            <p:cNvPr id="234" name="矩形 73"/>
            <p:cNvSpPr/>
            <p:nvPr/>
          </p:nvSpPr>
          <p:spPr>
            <a:xfrm>
              <a:off x="171432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5" name="TextBox 74"/>
            <p:cNvSpPr/>
            <p:nvPr/>
          </p:nvSpPr>
          <p:spPr>
            <a:xfrm>
              <a:off x="178596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75"/>
          <p:cNvGrpSpPr/>
          <p:nvPr/>
        </p:nvGrpSpPr>
        <p:grpSpPr>
          <a:xfrm>
            <a:off x="1571760" y="3143160"/>
            <a:ext cx="2356920" cy="1428480"/>
            <a:chOff x="1571760" y="3143160"/>
            <a:chExt cx="2356920" cy="1428480"/>
          </a:xfrm>
        </p:grpSpPr>
        <p:sp>
          <p:nvSpPr>
            <p:cNvPr id="237" name="矩形 76"/>
            <p:cNvSpPr/>
            <p:nvPr/>
          </p:nvSpPr>
          <p:spPr>
            <a:xfrm>
              <a:off x="157176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8" name="TextBox 77"/>
            <p:cNvSpPr/>
            <p:nvPr/>
          </p:nvSpPr>
          <p:spPr>
            <a:xfrm>
              <a:off x="164304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81"/>
          <p:cNvGrpSpPr/>
          <p:nvPr/>
        </p:nvGrpSpPr>
        <p:grpSpPr>
          <a:xfrm>
            <a:off x="1428840" y="3143160"/>
            <a:ext cx="2356920" cy="1428480"/>
            <a:chOff x="1428840" y="3143160"/>
            <a:chExt cx="2356920" cy="1428480"/>
          </a:xfrm>
        </p:grpSpPr>
        <p:sp>
          <p:nvSpPr>
            <p:cNvPr id="240" name="矩形 82"/>
            <p:cNvSpPr/>
            <p:nvPr/>
          </p:nvSpPr>
          <p:spPr>
            <a:xfrm>
              <a:off x="142884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1" name="TextBox 83"/>
            <p:cNvSpPr/>
            <p:nvPr/>
          </p:nvSpPr>
          <p:spPr>
            <a:xfrm>
              <a:off x="150012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84"/>
          <p:cNvGrpSpPr/>
          <p:nvPr/>
        </p:nvGrpSpPr>
        <p:grpSpPr>
          <a:xfrm>
            <a:off x="1285920" y="3143160"/>
            <a:ext cx="2356920" cy="1428480"/>
            <a:chOff x="1285920" y="3143160"/>
            <a:chExt cx="2356920" cy="1428480"/>
          </a:xfrm>
        </p:grpSpPr>
        <p:sp>
          <p:nvSpPr>
            <p:cNvPr id="243" name="矩形 85"/>
            <p:cNvSpPr/>
            <p:nvPr/>
          </p:nvSpPr>
          <p:spPr>
            <a:xfrm>
              <a:off x="128592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4" name="TextBox 86"/>
            <p:cNvSpPr/>
            <p:nvPr/>
          </p:nvSpPr>
          <p:spPr>
            <a:xfrm>
              <a:off x="135720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87"/>
          <p:cNvGrpSpPr/>
          <p:nvPr/>
        </p:nvGrpSpPr>
        <p:grpSpPr>
          <a:xfrm>
            <a:off x="1143000" y="3143160"/>
            <a:ext cx="2356920" cy="1428480"/>
            <a:chOff x="1143000" y="3143160"/>
            <a:chExt cx="2356920" cy="1428480"/>
          </a:xfrm>
        </p:grpSpPr>
        <p:sp>
          <p:nvSpPr>
            <p:cNvPr id="246" name="矩形 88"/>
            <p:cNvSpPr/>
            <p:nvPr/>
          </p:nvSpPr>
          <p:spPr>
            <a:xfrm>
              <a:off x="114300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7" name="TextBox 89"/>
            <p:cNvSpPr/>
            <p:nvPr/>
          </p:nvSpPr>
          <p:spPr>
            <a:xfrm>
              <a:off x="121428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90"/>
          <p:cNvGrpSpPr/>
          <p:nvPr/>
        </p:nvGrpSpPr>
        <p:grpSpPr>
          <a:xfrm>
            <a:off x="1000080" y="3143160"/>
            <a:ext cx="2356920" cy="1428480"/>
            <a:chOff x="1000080" y="3143160"/>
            <a:chExt cx="2356920" cy="1428480"/>
          </a:xfrm>
        </p:grpSpPr>
        <p:sp>
          <p:nvSpPr>
            <p:cNvPr id="249" name="矩形 91"/>
            <p:cNvSpPr/>
            <p:nvPr/>
          </p:nvSpPr>
          <p:spPr>
            <a:xfrm>
              <a:off x="100008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0" name="TextBox 92"/>
            <p:cNvSpPr/>
            <p:nvPr/>
          </p:nvSpPr>
          <p:spPr>
            <a:xfrm>
              <a:off x="107136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93"/>
          <p:cNvGrpSpPr/>
          <p:nvPr/>
        </p:nvGrpSpPr>
        <p:grpSpPr>
          <a:xfrm>
            <a:off x="857160" y="3143160"/>
            <a:ext cx="2357280" cy="1428480"/>
            <a:chOff x="857160" y="3143160"/>
            <a:chExt cx="2357280" cy="1428480"/>
          </a:xfrm>
        </p:grpSpPr>
        <p:sp>
          <p:nvSpPr>
            <p:cNvPr id="252" name="矩形 94"/>
            <p:cNvSpPr/>
            <p:nvPr/>
          </p:nvSpPr>
          <p:spPr>
            <a:xfrm>
              <a:off x="85716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3" name="TextBox 95"/>
            <p:cNvSpPr/>
            <p:nvPr/>
          </p:nvSpPr>
          <p:spPr>
            <a:xfrm>
              <a:off x="92880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组合 96"/>
          <p:cNvGrpSpPr/>
          <p:nvPr/>
        </p:nvGrpSpPr>
        <p:grpSpPr>
          <a:xfrm>
            <a:off x="714240" y="3143160"/>
            <a:ext cx="2357280" cy="1428480"/>
            <a:chOff x="714240" y="3143160"/>
            <a:chExt cx="2357280" cy="1428480"/>
          </a:xfrm>
        </p:grpSpPr>
        <p:sp>
          <p:nvSpPr>
            <p:cNvPr id="255" name="矩形 97"/>
            <p:cNvSpPr/>
            <p:nvPr/>
          </p:nvSpPr>
          <p:spPr>
            <a:xfrm>
              <a:off x="71424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6" name="TextBox 98"/>
            <p:cNvSpPr/>
            <p:nvPr/>
          </p:nvSpPr>
          <p:spPr>
            <a:xfrm>
              <a:off x="78588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99"/>
          <p:cNvGrpSpPr/>
          <p:nvPr/>
        </p:nvGrpSpPr>
        <p:grpSpPr>
          <a:xfrm>
            <a:off x="571320" y="3143160"/>
            <a:ext cx="2357280" cy="1428480"/>
            <a:chOff x="571320" y="3143160"/>
            <a:chExt cx="2357280" cy="1428480"/>
          </a:xfrm>
        </p:grpSpPr>
        <p:sp>
          <p:nvSpPr>
            <p:cNvPr id="258" name="矩形 100"/>
            <p:cNvSpPr/>
            <p:nvPr/>
          </p:nvSpPr>
          <p:spPr>
            <a:xfrm>
              <a:off x="57132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9" name="TextBox 101"/>
            <p:cNvSpPr/>
            <p:nvPr/>
          </p:nvSpPr>
          <p:spPr>
            <a:xfrm>
              <a:off x="64296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102"/>
          <p:cNvGrpSpPr/>
          <p:nvPr/>
        </p:nvGrpSpPr>
        <p:grpSpPr>
          <a:xfrm>
            <a:off x="357120" y="3143160"/>
            <a:ext cx="2357280" cy="1428480"/>
            <a:chOff x="357120" y="3143160"/>
            <a:chExt cx="2357280" cy="1428480"/>
          </a:xfrm>
        </p:grpSpPr>
        <p:sp>
          <p:nvSpPr>
            <p:cNvPr id="261" name="矩形 103"/>
            <p:cNvSpPr/>
            <p:nvPr/>
          </p:nvSpPr>
          <p:spPr>
            <a:xfrm>
              <a:off x="35712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2" name="TextBox 104"/>
            <p:cNvSpPr/>
            <p:nvPr/>
          </p:nvSpPr>
          <p:spPr>
            <a:xfrm>
              <a:off x="42876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105"/>
          <p:cNvGrpSpPr/>
          <p:nvPr/>
        </p:nvGrpSpPr>
        <p:grpSpPr>
          <a:xfrm>
            <a:off x="214200" y="3143160"/>
            <a:ext cx="2357280" cy="1428480"/>
            <a:chOff x="214200" y="3143160"/>
            <a:chExt cx="2357280" cy="1428480"/>
          </a:xfrm>
        </p:grpSpPr>
        <p:sp>
          <p:nvSpPr>
            <p:cNvPr id="264" name="矩形 106"/>
            <p:cNvSpPr/>
            <p:nvPr/>
          </p:nvSpPr>
          <p:spPr>
            <a:xfrm>
              <a:off x="21420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5" name="TextBox 107"/>
            <p:cNvSpPr/>
            <p:nvPr/>
          </p:nvSpPr>
          <p:spPr>
            <a:xfrm>
              <a:off x="28584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组合 108"/>
          <p:cNvGrpSpPr/>
          <p:nvPr/>
        </p:nvGrpSpPr>
        <p:grpSpPr>
          <a:xfrm>
            <a:off x="71280" y="3143160"/>
            <a:ext cx="2357280" cy="1428480"/>
            <a:chOff x="71280" y="3143160"/>
            <a:chExt cx="2357280" cy="1428480"/>
          </a:xfrm>
        </p:grpSpPr>
        <p:sp>
          <p:nvSpPr>
            <p:cNvPr id="267" name="矩形 109"/>
            <p:cNvSpPr/>
            <p:nvPr/>
          </p:nvSpPr>
          <p:spPr>
            <a:xfrm>
              <a:off x="7128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8" name="TextBox 110"/>
            <p:cNvSpPr/>
            <p:nvPr/>
          </p:nvSpPr>
          <p:spPr>
            <a:xfrm>
              <a:off x="14292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组合 111"/>
          <p:cNvGrpSpPr/>
          <p:nvPr/>
        </p:nvGrpSpPr>
        <p:grpSpPr>
          <a:xfrm>
            <a:off x="0" y="3143160"/>
            <a:ext cx="2356920" cy="1428480"/>
            <a:chOff x="0" y="3143160"/>
            <a:chExt cx="2356920" cy="1428480"/>
          </a:xfrm>
        </p:grpSpPr>
        <p:sp>
          <p:nvSpPr>
            <p:cNvPr id="270" name="矩形 112"/>
            <p:cNvSpPr/>
            <p:nvPr/>
          </p:nvSpPr>
          <p:spPr>
            <a:xfrm>
              <a:off x="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" name="TextBox 113"/>
            <p:cNvSpPr/>
            <p:nvPr/>
          </p:nvSpPr>
          <p:spPr>
            <a:xfrm>
              <a:off x="7128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组合 114"/>
          <p:cNvGrpSpPr/>
          <p:nvPr/>
        </p:nvGrpSpPr>
        <p:grpSpPr>
          <a:xfrm>
            <a:off x="0" y="3000240"/>
            <a:ext cx="2356920" cy="1428480"/>
            <a:chOff x="0" y="3000240"/>
            <a:chExt cx="2356920" cy="1428480"/>
          </a:xfrm>
        </p:grpSpPr>
        <p:sp>
          <p:nvSpPr>
            <p:cNvPr id="273" name="矩形 115"/>
            <p:cNvSpPr/>
            <p:nvPr/>
          </p:nvSpPr>
          <p:spPr>
            <a:xfrm>
              <a:off x="0" y="300024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4" name="TextBox 116"/>
            <p:cNvSpPr/>
            <p:nvPr/>
          </p:nvSpPr>
          <p:spPr>
            <a:xfrm>
              <a:off x="71280" y="300024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合 117"/>
          <p:cNvGrpSpPr/>
          <p:nvPr/>
        </p:nvGrpSpPr>
        <p:grpSpPr>
          <a:xfrm>
            <a:off x="0" y="2786040"/>
            <a:ext cx="2356920" cy="1428480"/>
            <a:chOff x="0" y="2786040"/>
            <a:chExt cx="2356920" cy="1428480"/>
          </a:xfrm>
        </p:grpSpPr>
        <p:sp>
          <p:nvSpPr>
            <p:cNvPr id="276" name="矩形 118"/>
            <p:cNvSpPr/>
            <p:nvPr/>
          </p:nvSpPr>
          <p:spPr>
            <a:xfrm>
              <a:off x="0" y="278604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7" name="TextBox 119"/>
            <p:cNvSpPr/>
            <p:nvPr/>
          </p:nvSpPr>
          <p:spPr>
            <a:xfrm>
              <a:off x="71280" y="278604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组合 120"/>
          <p:cNvGrpSpPr/>
          <p:nvPr/>
        </p:nvGrpSpPr>
        <p:grpSpPr>
          <a:xfrm>
            <a:off x="0" y="2643120"/>
            <a:ext cx="2356920" cy="1428480"/>
            <a:chOff x="0" y="2643120"/>
            <a:chExt cx="2356920" cy="1428480"/>
          </a:xfrm>
        </p:grpSpPr>
        <p:sp>
          <p:nvSpPr>
            <p:cNvPr id="279" name="矩形 121"/>
            <p:cNvSpPr/>
            <p:nvPr/>
          </p:nvSpPr>
          <p:spPr>
            <a:xfrm>
              <a:off x="0" y="264312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0" name="TextBox 122"/>
            <p:cNvSpPr/>
            <p:nvPr/>
          </p:nvSpPr>
          <p:spPr>
            <a:xfrm>
              <a:off x="71280" y="264312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组合 123"/>
          <p:cNvGrpSpPr/>
          <p:nvPr/>
        </p:nvGrpSpPr>
        <p:grpSpPr>
          <a:xfrm>
            <a:off x="0" y="2500200"/>
            <a:ext cx="2356920" cy="1428480"/>
            <a:chOff x="0" y="2500200"/>
            <a:chExt cx="2356920" cy="1428480"/>
          </a:xfrm>
        </p:grpSpPr>
        <p:sp>
          <p:nvSpPr>
            <p:cNvPr id="282" name="矩形 124"/>
            <p:cNvSpPr/>
            <p:nvPr/>
          </p:nvSpPr>
          <p:spPr>
            <a:xfrm>
              <a:off x="0" y="250020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" name="TextBox 125"/>
            <p:cNvSpPr/>
            <p:nvPr/>
          </p:nvSpPr>
          <p:spPr>
            <a:xfrm>
              <a:off x="71280" y="250020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126"/>
          <p:cNvGrpSpPr/>
          <p:nvPr/>
        </p:nvGrpSpPr>
        <p:grpSpPr>
          <a:xfrm>
            <a:off x="0" y="2286000"/>
            <a:ext cx="2356920" cy="1428480"/>
            <a:chOff x="0" y="2286000"/>
            <a:chExt cx="2356920" cy="1428480"/>
          </a:xfrm>
        </p:grpSpPr>
        <p:sp>
          <p:nvSpPr>
            <p:cNvPr id="285" name="矩形 127"/>
            <p:cNvSpPr/>
            <p:nvPr/>
          </p:nvSpPr>
          <p:spPr>
            <a:xfrm>
              <a:off x="0" y="228600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6" name="TextBox 128"/>
            <p:cNvSpPr/>
            <p:nvPr/>
          </p:nvSpPr>
          <p:spPr>
            <a:xfrm>
              <a:off x="71280" y="228600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129"/>
          <p:cNvGrpSpPr/>
          <p:nvPr/>
        </p:nvGrpSpPr>
        <p:grpSpPr>
          <a:xfrm>
            <a:off x="0" y="2071800"/>
            <a:ext cx="2356920" cy="1428480"/>
            <a:chOff x="0" y="2071800"/>
            <a:chExt cx="2356920" cy="1428480"/>
          </a:xfrm>
        </p:grpSpPr>
        <p:sp>
          <p:nvSpPr>
            <p:cNvPr id="288" name="矩形 130"/>
            <p:cNvSpPr/>
            <p:nvPr/>
          </p:nvSpPr>
          <p:spPr>
            <a:xfrm>
              <a:off x="0" y="207180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" name="TextBox 131"/>
            <p:cNvSpPr/>
            <p:nvPr/>
          </p:nvSpPr>
          <p:spPr>
            <a:xfrm>
              <a:off x="71280" y="207180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132"/>
          <p:cNvGrpSpPr/>
          <p:nvPr/>
        </p:nvGrpSpPr>
        <p:grpSpPr>
          <a:xfrm>
            <a:off x="0" y="1857240"/>
            <a:ext cx="2356920" cy="1428480"/>
            <a:chOff x="0" y="1857240"/>
            <a:chExt cx="2356920" cy="1428480"/>
          </a:xfrm>
        </p:grpSpPr>
        <p:sp>
          <p:nvSpPr>
            <p:cNvPr id="291" name="矩形 133"/>
            <p:cNvSpPr/>
            <p:nvPr/>
          </p:nvSpPr>
          <p:spPr>
            <a:xfrm>
              <a:off x="0" y="185724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" name="TextBox 134"/>
            <p:cNvSpPr/>
            <p:nvPr/>
          </p:nvSpPr>
          <p:spPr>
            <a:xfrm>
              <a:off x="71280" y="185724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135"/>
          <p:cNvGrpSpPr/>
          <p:nvPr/>
        </p:nvGrpSpPr>
        <p:grpSpPr>
          <a:xfrm>
            <a:off x="0" y="1714320"/>
            <a:ext cx="2356920" cy="1428480"/>
            <a:chOff x="0" y="1714320"/>
            <a:chExt cx="2356920" cy="1428480"/>
          </a:xfrm>
        </p:grpSpPr>
        <p:sp>
          <p:nvSpPr>
            <p:cNvPr id="294" name="矩形 136"/>
            <p:cNvSpPr/>
            <p:nvPr/>
          </p:nvSpPr>
          <p:spPr>
            <a:xfrm>
              <a:off x="0" y="171432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5" name="TextBox 137"/>
            <p:cNvSpPr/>
            <p:nvPr/>
          </p:nvSpPr>
          <p:spPr>
            <a:xfrm>
              <a:off x="71280" y="171432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138"/>
          <p:cNvGrpSpPr/>
          <p:nvPr/>
        </p:nvGrpSpPr>
        <p:grpSpPr>
          <a:xfrm>
            <a:off x="0" y="1571760"/>
            <a:ext cx="2356920" cy="1428480"/>
            <a:chOff x="0" y="1571760"/>
            <a:chExt cx="2356920" cy="1428480"/>
          </a:xfrm>
        </p:grpSpPr>
        <p:sp>
          <p:nvSpPr>
            <p:cNvPr id="297" name="矩形 139"/>
            <p:cNvSpPr/>
            <p:nvPr/>
          </p:nvSpPr>
          <p:spPr>
            <a:xfrm>
              <a:off x="0" y="15717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" name="TextBox 140"/>
            <p:cNvSpPr/>
            <p:nvPr/>
          </p:nvSpPr>
          <p:spPr>
            <a:xfrm>
              <a:off x="71280" y="15717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组合 141"/>
          <p:cNvGrpSpPr/>
          <p:nvPr/>
        </p:nvGrpSpPr>
        <p:grpSpPr>
          <a:xfrm>
            <a:off x="0" y="1357200"/>
            <a:ext cx="2356920" cy="1428480"/>
            <a:chOff x="0" y="1357200"/>
            <a:chExt cx="2356920" cy="1428480"/>
          </a:xfrm>
        </p:grpSpPr>
        <p:sp>
          <p:nvSpPr>
            <p:cNvPr id="300" name="矩形 142"/>
            <p:cNvSpPr/>
            <p:nvPr/>
          </p:nvSpPr>
          <p:spPr>
            <a:xfrm>
              <a:off x="0" y="135720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1" name="TextBox 143"/>
            <p:cNvSpPr/>
            <p:nvPr/>
          </p:nvSpPr>
          <p:spPr>
            <a:xfrm>
              <a:off x="71280" y="135720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组合 144"/>
          <p:cNvGrpSpPr/>
          <p:nvPr/>
        </p:nvGrpSpPr>
        <p:grpSpPr>
          <a:xfrm>
            <a:off x="0" y="1214280"/>
            <a:ext cx="2356920" cy="1428480"/>
            <a:chOff x="0" y="1214280"/>
            <a:chExt cx="2356920" cy="1428480"/>
          </a:xfrm>
        </p:grpSpPr>
        <p:sp>
          <p:nvSpPr>
            <p:cNvPr id="303" name="矩形 145"/>
            <p:cNvSpPr/>
            <p:nvPr/>
          </p:nvSpPr>
          <p:spPr>
            <a:xfrm>
              <a:off x="0" y="121428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4" name="TextBox 146"/>
            <p:cNvSpPr/>
            <p:nvPr/>
          </p:nvSpPr>
          <p:spPr>
            <a:xfrm>
              <a:off x="71280" y="121428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147"/>
          <p:cNvGrpSpPr/>
          <p:nvPr/>
        </p:nvGrpSpPr>
        <p:grpSpPr>
          <a:xfrm>
            <a:off x="0" y="1000080"/>
            <a:ext cx="2356920" cy="1428480"/>
            <a:chOff x="0" y="1000080"/>
            <a:chExt cx="2356920" cy="1428480"/>
          </a:xfrm>
        </p:grpSpPr>
        <p:sp>
          <p:nvSpPr>
            <p:cNvPr id="306" name="矩形 148"/>
            <p:cNvSpPr/>
            <p:nvPr/>
          </p:nvSpPr>
          <p:spPr>
            <a:xfrm>
              <a:off x="0" y="100008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7" name="TextBox 149"/>
            <p:cNvSpPr/>
            <p:nvPr/>
          </p:nvSpPr>
          <p:spPr>
            <a:xfrm>
              <a:off x="71280" y="100008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组合 150"/>
          <p:cNvGrpSpPr/>
          <p:nvPr/>
        </p:nvGrpSpPr>
        <p:grpSpPr>
          <a:xfrm>
            <a:off x="0" y="857160"/>
            <a:ext cx="2356920" cy="1428480"/>
            <a:chOff x="0" y="857160"/>
            <a:chExt cx="2356920" cy="1428480"/>
          </a:xfrm>
        </p:grpSpPr>
        <p:sp>
          <p:nvSpPr>
            <p:cNvPr id="309" name="矩形 151"/>
            <p:cNvSpPr/>
            <p:nvPr/>
          </p:nvSpPr>
          <p:spPr>
            <a:xfrm>
              <a:off x="0" y="857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0" name="TextBox 152"/>
            <p:cNvSpPr/>
            <p:nvPr/>
          </p:nvSpPr>
          <p:spPr>
            <a:xfrm>
              <a:off x="71280" y="857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组合 153"/>
          <p:cNvGrpSpPr/>
          <p:nvPr/>
        </p:nvGrpSpPr>
        <p:grpSpPr>
          <a:xfrm>
            <a:off x="0" y="714240"/>
            <a:ext cx="2356920" cy="1428480"/>
            <a:chOff x="0" y="714240"/>
            <a:chExt cx="2356920" cy="1428480"/>
          </a:xfrm>
        </p:grpSpPr>
        <p:sp>
          <p:nvSpPr>
            <p:cNvPr id="312" name="矩形 154"/>
            <p:cNvSpPr/>
            <p:nvPr/>
          </p:nvSpPr>
          <p:spPr>
            <a:xfrm>
              <a:off x="0" y="71424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3" name="TextBox 155"/>
            <p:cNvSpPr/>
            <p:nvPr/>
          </p:nvSpPr>
          <p:spPr>
            <a:xfrm>
              <a:off x="71280" y="71424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组合 156"/>
          <p:cNvGrpSpPr/>
          <p:nvPr/>
        </p:nvGrpSpPr>
        <p:grpSpPr>
          <a:xfrm>
            <a:off x="0" y="571320"/>
            <a:ext cx="2356920" cy="1428480"/>
            <a:chOff x="0" y="571320"/>
            <a:chExt cx="2356920" cy="1428480"/>
          </a:xfrm>
        </p:grpSpPr>
        <p:sp>
          <p:nvSpPr>
            <p:cNvPr id="315" name="矩形 157"/>
            <p:cNvSpPr/>
            <p:nvPr/>
          </p:nvSpPr>
          <p:spPr>
            <a:xfrm>
              <a:off x="0" y="57132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6" name="TextBox 158"/>
            <p:cNvSpPr/>
            <p:nvPr/>
          </p:nvSpPr>
          <p:spPr>
            <a:xfrm>
              <a:off x="71280" y="57132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组合 159"/>
          <p:cNvGrpSpPr/>
          <p:nvPr/>
        </p:nvGrpSpPr>
        <p:grpSpPr>
          <a:xfrm>
            <a:off x="0" y="428760"/>
            <a:ext cx="2356920" cy="1428480"/>
            <a:chOff x="0" y="428760"/>
            <a:chExt cx="2356920" cy="1428480"/>
          </a:xfrm>
        </p:grpSpPr>
        <p:sp>
          <p:nvSpPr>
            <p:cNvPr id="318" name="矩形 160"/>
            <p:cNvSpPr/>
            <p:nvPr/>
          </p:nvSpPr>
          <p:spPr>
            <a:xfrm>
              <a:off x="0" y="4287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9" name="TextBox 161"/>
            <p:cNvSpPr/>
            <p:nvPr/>
          </p:nvSpPr>
          <p:spPr>
            <a:xfrm>
              <a:off x="71280" y="4287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组合 162"/>
          <p:cNvGrpSpPr/>
          <p:nvPr/>
        </p:nvGrpSpPr>
        <p:grpSpPr>
          <a:xfrm>
            <a:off x="0" y="285840"/>
            <a:ext cx="2356920" cy="1428480"/>
            <a:chOff x="0" y="285840"/>
            <a:chExt cx="2356920" cy="1428480"/>
          </a:xfrm>
        </p:grpSpPr>
        <p:sp>
          <p:nvSpPr>
            <p:cNvPr id="321" name="矩形 163"/>
            <p:cNvSpPr/>
            <p:nvPr/>
          </p:nvSpPr>
          <p:spPr>
            <a:xfrm>
              <a:off x="0" y="28584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2" name="TextBox 164"/>
            <p:cNvSpPr/>
            <p:nvPr/>
          </p:nvSpPr>
          <p:spPr>
            <a:xfrm>
              <a:off x="71280" y="28584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165"/>
          <p:cNvGrpSpPr/>
          <p:nvPr/>
        </p:nvGrpSpPr>
        <p:grpSpPr>
          <a:xfrm>
            <a:off x="0" y="142920"/>
            <a:ext cx="2356920" cy="1428480"/>
            <a:chOff x="0" y="142920"/>
            <a:chExt cx="2356920" cy="1428480"/>
          </a:xfrm>
        </p:grpSpPr>
        <p:sp>
          <p:nvSpPr>
            <p:cNvPr id="324" name="矩形 166"/>
            <p:cNvSpPr/>
            <p:nvPr/>
          </p:nvSpPr>
          <p:spPr>
            <a:xfrm>
              <a:off x="0" y="14292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5" name="TextBox 167"/>
            <p:cNvSpPr/>
            <p:nvPr/>
          </p:nvSpPr>
          <p:spPr>
            <a:xfrm>
              <a:off x="71280" y="14292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168"/>
          <p:cNvGrpSpPr/>
          <p:nvPr/>
        </p:nvGrpSpPr>
        <p:grpSpPr>
          <a:xfrm>
            <a:off x="0" y="0"/>
            <a:ext cx="2356920" cy="1428480"/>
            <a:chOff x="0" y="0"/>
            <a:chExt cx="2356920" cy="1428480"/>
          </a:xfrm>
        </p:grpSpPr>
        <p:sp>
          <p:nvSpPr>
            <p:cNvPr id="327" name="矩形 169"/>
            <p:cNvSpPr/>
            <p:nvPr/>
          </p:nvSpPr>
          <p:spPr>
            <a:xfrm>
              <a:off x="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8" name="TextBox 170"/>
            <p:cNvSpPr/>
            <p:nvPr/>
          </p:nvSpPr>
          <p:spPr>
            <a:xfrm>
              <a:off x="7128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171"/>
          <p:cNvGrpSpPr/>
          <p:nvPr/>
        </p:nvGrpSpPr>
        <p:grpSpPr>
          <a:xfrm>
            <a:off x="142920" y="0"/>
            <a:ext cx="2356920" cy="1428480"/>
            <a:chOff x="142920" y="0"/>
            <a:chExt cx="2356920" cy="1428480"/>
          </a:xfrm>
        </p:grpSpPr>
        <p:sp>
          <p:nvSpPr>
            <p:cNvPr id="330" name="矩形 172"/>
            <p:cNvSpPr/>
            <p:nvPr/>
          </p:nvSpPr>
          <p:spPr>
            <a:xfrm>
              <a:off x="14292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1" name="TextBox 173"/>
            <p:cNvSpPr/>
            <p:nvPr/>
          </p:nvSpPr>
          <p:spPr>
            <a:xfrm>
              <a:off x="21420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174"/>
          <p:cNvGrpSpPr/>
          <p:nvPr/>
        </p:nvGrpSpPr>
        <p:grpSpPr>
          <a:xfrm>
            <a:off x="285840" y="0"/>
            <a:ext cx="2356920" cy="1428480"/>
            <a:chOff x="285840" y="0"/>
            <a:chExt cx="2356920" cy="1428480"/>
          </a:xfrm>
        </p:grpSpPr>
        <p:sp>
          <p:nvSpPr>
            <p:cNvPr id="333" name="矩形 175"/>
            <p:cNvSpPr/>
            <p:nvPr/>
          </p:nvSpPr>
          <p:spPr>
            <a:xfrm>
              <a:off x="28584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4" name="TextBox 176"/>
            <p:cNvSpPr/>
            <p:nvPr/>
          </p:nvSpPr>
          <p:spPr>
            <a:xfrm>
              <a:off x="35712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177"/>
          <p:cNvGrpSpPr/>
          <p:nvPr/>
        </p:nvGrpSpPr>
        <p:grpSpPr>
          <a:xfrm>
            <a:off x="428760" y="0"/>
            <a:ext cx="2356920" cy="1428480"/>
            <a:chOff x="428760" y="0"/>
            <a:chExt cx="2356920" cy="1428480"/>
          </a:xfrm>
        </p:grpSpPr>
        <p:sp>
          <p:nvSpPr>
            <p:cNvPr id="336" name="矩形 178"/>
            <p:cNvSpPr/>
            <p:nvPr/>
          </p:nvSpPr>
          <p:spPr>
            <a:xfrm>
              <a:off x="42876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7" name="TextBox 179"/>
            <p:cNvSpPr/>
            <p:nvPr/>
          </p:nvSpPr>
          <p:spPr>
            <a:xfrm>
              <a:off x="50004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180"/>
          <p:cNvGrpSpPr/>
          <p:nvPr/>
        </p:nvGrpSpPr>
        <p:grpSpPr>
          <a:xfrm>
            <a:off x="571320" y="0"/>
            <a:ext cx="2357280" cy="1428480"/>
            <a:chOff x="571320" y="0"/>
            <a:chExt cx="2357280" cy="1428480"/>
          </a:xfrm>
        </p:grpSpPr>
        <p:sp>
          <p:nvSpPr>
            <p:cNvPr id="339" name="矩形 181"/>
            <p:cNvSpPr/>
            <p:nvPr/>
          </p:nvSpPr>
          <p:spPr>
            <a:xfrm>
              <a:off x="57132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0" name="TextBox 182"/>
            <p:cNvSpPr/>
            <p:nvPr/>
          </p:nvSpPr>
          <p:spPr>
            <a:xfrm>
              <a:off x="64296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183"/>
          <p:cNvGrpSpPr/>
          <p:nvPr/>
        </p:nvGrpSpPr>
        <p:grpSpPr>
          <a:xfrm>
            <a:off x="714240" y="0"/>
            <a:ext cx="2357280" cy="1428480"/>
            <a:chOff x="714240" y="0"/>
            <a:chExt cx="2357280" cy="1428480"/>
          </a:xfrm>
        </p:grpSpPr>
        <p:sp>
          <p:nvSpPr>
            <p:cNvPr id="342" name="矩形 184"/>
            <p:cNvSpPr/>
            <p:nvPr/>
          </p:nvSpPr>
          <p:spPr>
            <a:xfrm>
              <a:off x="71424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3" name="TextBox 185"/>
            <p:cNvSpPr/>
            <p:nvPr/>
          </p:nvSpPr>
          <p:spPr>
            <a:xfrm>
              <a:off x="78588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186"/>
          <p:cNvGrpSpPr/>
          <p:nvPr/>
        </p:nvGrpSpPr>
        <p:grpSpPr>
          <a:xfrm>
            <a:off x="857160" y="0"/>
            <a:ext cx="2357280" cy="1428480"/>
            <a:chOff x="857160" y="0"/>
            <a:chExt cx="2357280" cy="1428480"/>
          </a:xfrm>
        </p:grpSpPr>
        <p:sp>
          <p:nvSpPr>
            <p:cNvPr id="345" name="矩形 187"/>
            <p:cNvSpPr/>
            <p:nvPr/>
          </p:nvSpPr>
          <p:spPr>
            <a:xfrm>
              <a:off x="85716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6" name="TextBox 188"/>
            <p:cNvSpPr/>
            <p:nvPr/>
          </p:nvSpPr>
          <p:spPr>
            <a:xfrm>
              <a:off x="92880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189"/>
          <p:cNvGrpSpPr/>
          <p:nvPr/>
        </p:nvGrpSpPr>
        <p:grpSpPr>
          <a:xfrm>
            <a:off x="1000080" y="0"/>
            <a:ext cx="2356920" cy="1428480"/>
            <a:chOff x="1000080" y="0"/>
            <a:chExt cx="2356920" cy="1428480"/>
          </a:xfrm>
        </p:grpSpPr>
        <p:sp>
          <p:nvSpPr>
            <p:cNvPr id="348" name="矩形 190"/>
            <p:cNvSpPr/>
            <p:nvPr/>
          </p:nvSpPr>
          <p:spPr>
            <a:xfrm>
              <a:off x="100008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9" name="TextBox 191"/>
            <p:cNvSpPr/>
            <p:nvPr/>
          </p:nvSpPr>
          <p:spPr>
            <a:xfrm>
              <a:off x="107136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192"/>
          <p:cNvGrpSpPr/>
          <p:nvPr/>
        </p:nvGrpSpPr>
        <p:grpSpPr>
          <a:xfrm>
            <a:off x="1143000" y="0"/>
            <a:ext cx="2356920" cy="1428480"/>
            <a:chOff x="1143000" y="0"/>
            <a:chExt cx="2356920" cy="1428480"/>
          </a:xfrm>
        </p:grpSpPr>
        <p:sp>
          <p:nvSpPr>
            <p:cNvPr id="351" name="矩形 193"/>
            <p:cNvSpPr/>
            <p:nvPr/>
          </p:nvSpPr>
          <p:spPr>
            <a:xfrm>
              <a:off x="114300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2" name="TextBox 194"/>
            <p:cNvSpPr/>
            <p:nvPr/>
          </p:nvSpPr>
          <p:spPr>
            <a:xfrm>
              <a:off x="121428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195"/>
          <p:cNvGrpSpPr/>
          <p:nvPr/>
        </p:nvGrpSpPr>
        <p:grpSpPr>
          <a:xfrm>
            <a:off x="1285920" y="0"/>
            <a:ext cx="2356920" cy="1428480"/>
            <a:chOff x="1285920" y="0"/>
            <a:chExt cx="2356920" cy="1428480"/>
          </a:xfrm>
        </p:grpSpPr>
        <p:sp>
          <p:nvSpPr>
            <p:cNvPr id="354" name="矩形 196"/>
            <p:cNvSpPr/>
            <p:nvPr/>
          </p:nvSpPr>
          <p:spPr>
            <a:xfrm>
              <a:off x="128592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5" name="TextBox 197"/>
            <p:cNvSpPr/>
            <p:nvPr/>
          </p:nvSpPr>
          <p:spPr>
            <a:xfrm>
              <a:off x="135720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198"/>
          <p:cNvGrpSpPr/>
          <p:nvPr/>
        </p:nvGrpSpPr>
        <p:grpSpPr>
          <a:xfrm>
            <a:off x="1428840" y="0"/>
            <a:ext cx="2356920" cy="1428480"/>
            <a:chOff x="1428840" y="0"/>
            <a:chExt cx="2356920" cy="1428480"/>
          </a:xfrm>
        </p:grpSpPr>
        <p:sp>
          <p:nvSpPr>
            <p:cNvPr id="357" name="矩形 199"/>
            <p:cNvSpPr/>
            <p:nvPr/>
          </p:nvSpPr>
          <p:spPr>
            <a:xfrm>
              <a:off x="142884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8" name="TextBox 200"/>
            <p:cNvSpPr/>
            <p:nvPr/>
          </p:nvSpPr>
          <p:spPr>
            <a:xfrm>
              <a:off x="150012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201"/>
          <p:cNvGrpSpPr/>
          <p:nvPr/>
        </p:nvGrpSpPr>
        <p:grpSpPr>
          <a:xfrm>
            <a:off x="1571760" y="0"/>
            <a:ext cx="2356920" cy="1428480"/>
            <a:chOff x="1571760" y="0"/>
            <a:chExt cx="2356920" cy="1428480"/>
          </a:xfrm>
        </p:grpSpPr>
        <p:sp>
          <p:nvSpPr>
            <p:cNvPr id="360" name="矩形 202"/>
            <p:cNvSpPr/>
            <p:nvPr/>
          </p:nvSpPr>
          <p:spPr>
            <a:xfrm>
              <a:off x="157176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1" name="TextBox 203"/>
            <p:cNvSpPr/>
            <p:nvPr/>
          </p:nvSpPr>
          <p:spPr>
            <a:xfrm>
              <a:off x="164304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204"/>
          <p:cNvGrpSpPr/>
          <p:nvPr/>
        </p:nvGrpSpPr>
        <p:grpSpPr>
          <a:xfrm>
            <a:off x="1714320" y="0"/>
            <a:ext cx="2357280" cy="1428480"/>
            <a:chOff x="1714320" y="0"/>
            <a:chExt cx="2357280" cy="1428480"/>
          </a:xfrm>
        </p:grpSpPr>
        <p:sp>
          <p:nvSpPr>
            <p:cNvPr id="363" name="矩形 205"/>
            <p:cNvSpPr/>
            <p:nvPr/>
          </p:nvSpPr>
          <p:spPr>
            <a:xfrm>
              <a:off x="171432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4" name="TextBox 206"/>
            <p:cNvSpPr/>
            <p:nvPr/>
          </p:nvSpPr>
          <p:spPr>
            <a:xfrm>
              <a:off x="178596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207"/>
          <p:cNvGrpSpPr/>
          <p:nvPr/>
        </p:nvGrpSpPr>
        <p:grpSpPr>
          <a:xfrm>
            <a:off x="1857240" y="0"/>
            <a:ext cx="2357280" cy="1428480"/>
            <a:chOff x="1857240" y="0"/>
            <a:chExt cx="2357280" cy="1428480"/>
          </a:xfrm>
        </p:grpSpPr>
        <p:sp>
          <p:nvSpPr>
            <p:cNvPr id="366" name="矩形 208"/>
            <p:cNvSpPr/>
            <p:nvPr/>
          </p:nvSpPr>
          <p:spPr>
            <a:xfrm>
              <a:off x="185724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7" name="TextBox 209"/>
            <p:cNvSpPr/>
            <p:nvPr/>
          </p:nvSpPr>
          <p:spPr>
            <a:xfrm>
              <a:off x="192888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210"/>
          <p:cNvGrpSpPr/>
          <p:nvPr/>
        </p:nvGrpSpPr>
        <p:grpSpPr>
          <a:xfrm>
            <a:off x="2000160" y="0"/>
            <a:ext cx="2357280" cy="1428480"/>
            <a:chOff x="2000160" y="0"/>
            <a:chExt cx="2357280" cy="1428480"/>
          </a:xfrm>
        </p:grpSpPr>
        <p:sp>
          <p:nvSpPr>
            <p:cNvPr id="369" name="矩形 211"/>
            <p:cNvSpPr/>
            <p:nvPr/>
          </p:nvSpPr>
          <p:spPr>
            <a:xfrm>
              <a:off x="200016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0" name="TextBox 212"/>
            <p:cNvSpPr/>
            <p:nvPr/>
          </p:nvSpPr>
          <p:spPr>
            <a:xfrm>
              <a:off x="207180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213"/>
          <p:cNvGrpSpPr/>
          <p:nvPr/>
        </p:nvGrpSpPr>
        <p:grpSpPr>
          <a:xfrm>
            <a:off x="2143080" y="0"/>
            <a:ext cx="2357280" cy="1428480"/>
            <a:chOff x="2143080" y="0"/>
            <a:chExt cx="2357280" cy="1428480"/>
          </a:xfrm>
        </p:grpSpPr>
        <p:sp>
          <p:nvSpPr>
            <p:cNvPr id="372" name="矩形 214"/>
            <p:cNvSpPr/>
            <p:nvPr/>
          </p:nvSpPr>
          <p:spPr>
            <a:xfrm>
              <a:off x="214308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3" name="TextBox 215"/>
            <p:cNvSpPr/>
            <p:nvPr/>
          </p:nvSpPr>
          <p:spPr>
            <a:xfrm>
              <a:off x="221472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216"/>
          <p:cNvGrpSpPr/>
          <p:nvPr/>
        </p:nvGrpSpPr>
        <p:grpSpPr>
          <a:xfrm>
            <a:off x="2286000" y="0"/>
            <a:ext cx="2356920" cy="1428480"/>
            <a:chOff x="2286000" y="0"/>
            <a:chExt cx="2356920" cy="1428480"/>
          </a:xfrm>
        </p:grpSpPr>
        <p:sp>
          <p:nvSpPr>
            <p:cNvPr id="375" name="矩形 217"/>
            <p:cNvSpPr/>
            <p:nvPr/>
          </p:nvSpPr>
          <p:spPr>
            <a:xfrm>
              <a:off x="228600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6" name="TextBox 218"/>
            <p:cNvSpPr/>
            <p:nvPr/>
          </p:nvSpPr>
          <p:spPr>
            <a:xfrm>
              <a:off x="235728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组合 219"/>
          <p:cNvGrpSpPr/>
          <p:nvPr/>
        </p:nvGrpSpPr>
        <p:grpSpPr>
          <a:xfrm>
            <a:off x="2428920" y="0"/>
            <a:ext cx="2356920" cy="1428480"/>
            <a:chOff x="2428920" y="0"/>
            <a:chExt cx="2356920" cy="1428480"/>
          </a:xfrm>
        </p:grpSpPr>
        <p:sp>
          <p:nvSpPr>
            <p:cNvPr id="378" name="矩形 220"/>
            <p:cNvSpPr/>
            <p:nvPr/>
          </p:nvSpPr>
          <p:spPr>
            <a:xfrm>
              <a:off x="242892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9" name="TextBox 221"/>
            <p:cNvSpPr/>
            <p:nvPr/>
          </p:nvSpPr>
          <p:spPr>
            <a:xfrm>
              <a:off x="250020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组合 222"/>
          <p:cNvGrpSpPr/>
          <p:nvPr/>
        </p:nvGrpSpPr>
        <p:grpSpPr>
          <a:xfrm>
            <a:off x="2571840" y="0"/>
            <a:ext cx="2356920" cy="1428480"/>
            <a:chOff x="2571840" y="0"/>
            <a:chExt cx="2356920" cy="1428480"/>
          </a:xfrm>
        </p:grpSpPr>
        <p:sp>
          <p:nvSpPr>
            <p:cNvPr id="381" name="矩形 223"/>
            <p:cNvSpPr/>
            <p:nvPr/>
          </p:nvSpPr>
          <p:spPr>
            <a:xfrm>
              <a:off x="257184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2" name="TextBox 224"/>
            <p:cNvSpPr/>
            <p:nvPr/>
          </p:nvSpPr>
          <p:spPr>
            <a:xfrm>
              <a:off x="264312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组合 225"/>
          <p:cNvGrpSpPr/>
          <p:nvPr/>
        </p:nvGrpSpPr>
        <p:grpSpPr>
          <a:xfrm>
            <a:off x="2714760" y="0"/>
            <a:ext cx="2356920" cy="1428480"/>
            <a:chOff x="2714760" y="0"/>
            <a:chExt cx="2356920" cy="1428480"/>
          </a:xfrm>
        </p:grpSpPr>
        <p:sp>
          <p:nvSpPr>
            <p:cNvPr id="384" name="矩形 226"/>
            <p:cNvSpPr/>
            <p:nvPr/>
          </p:nvSpPr>
          <p:spPr>
            <a:xfrm>
              <a:off x="271476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5" name="TextBox 227"/>
            <p:cNvSpPr/>
            <p:nvPr/>
          </p:nvSpPr>
          <p:spPr>
            <a:xfrm>
              <a:off x="278604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组合 228"/>
          <p:cNvGrpSpPr/>
          <p:nvPr/>
        </p:nvGrpSpPr>
        <p:grpSpPr>
          <a:xfrm>
            <a:off x="2857320" y="0"/>
            <a:ext cx="2357280" cy="1428480"/>
            <a:chOff x="2857320" y="0"/>
            <a:chExt cx="2357280" cy="1428480"/>
          </a:xfrm>
        </p:grpSpPr>
        <p:sp>
          <p:nvSpPr>
            <p:cNvPr id="387" name="矩形 229"/>
            <p:cNvSpPr/>
            <p:nvPr/>
          </p:nvSpPr>
          <p:spPr>
            <a:xfrm>
              <a:off x="285732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8" name="TextBox 230"/>
            <p:cNvSpPr/>
            <p:nvPr/>
          </p:nvSpPr>
          <p:spPr>
            <a:xfrm>
              <a:off x="292896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组合 231"/>
          <p:cNvGrpSpPr/>
          <p:nvPr/>
        </p:nvGrpSpPr>
        <p:grpSpPr>
          <a:xfrm>
            <a:off x="3000240" y="0"/>
            <a:ext cx="2357280" cy="1428480"/>
            <a:chOff x="3000240" y="0"/>
            <a:chExt cx="2357280" cy="1428480"/>
          </a:xfrm>
        </p:grpSpPr>
        <p:sp>
          <p:nvSpPr>
            <p:cNvPr id="390" name="矩形 232"/>
            <p:cNvSpPr/>
            <p:nvPr/>
          </p:nvSpPr>
          <p:spPr>
            <a:xfrm>
              <a:off x="300024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1" name="TextBox 233"/>
            <p:cNvSpPr/>
            <p:nvPr/>
          </p:nvSpPr>
          <p:spPr>
            <a:xfrm>
              <a:off x="307188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组合 234"/>
          <p:cNvGrpSpPr/>
          <p:nvPr/>
        </p:nvGrpSpPr>
        <p:grpSpPr>
          <a:xfrm>
            <a:off x="3143160" y="0"/>
            <a:ext cx="2357280" cy="1428480"/>
            <a:chOff x="3143160" y="0"/>
            <a:chExt cx="2357280" cy="1428480"/>
          </a:xfrm>
        </p:grpSpPr>
        <p:sp>
          <p:nvSpPr>
            <p:cNvPr id="393" name="矩形 235"/>
            <p:cNvSpPr/>
            <p:nvPr/>
          </p:nvSpPr>
          <p:spPr>
            <a:xfrm>
              <a:off x="314316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4" name="TextBox 236"/>
            <p:cNvSpPr/>
            <p:nvPr/>
          </p:nvSpPr>
          <p:spPr>
            <a:xfrm>
              <a:off x="321480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组合 237"/>
          <p:cNvGrpSpPr/>
          <p:nvPr/>
        </p:nvGrpSpPr>
        <p:grpSpPr>
          <a:xfrm>
            <a:off x="3286080" y="0"/>
            <a:ext cx="2357280" cy="1428480"/>
            <a:chOff x="3286080" y="0"/>
            <a:chExt cx="2357280" cy="1428480"/>
          </a:xfrm>
        </p:grpSpPr>
        <p:sp>
          <p:nvSpPr>
            <p:cNvPr id="396" name="矩形 238"/>
            <p:cNvSpPr/>
            <p:nvPr/>
          </p:nvSpPr>
          <p:spPr>
            <a:xfrm>
              <a:off x="328608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7" name="TextBox 239"/>
            <p:cNvSpPr/>
            <p:nvPr/>
          </p:nvSpPr>
          <p:spPr>
            <a:xfrm>
              <a:off x="335772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组合 240"/>
          <p:cNvGrpSpPr/>
          <p:nvPr/>
        </p:nvGrpSpPr>
        <p:grpSpPr>
          <a:xfrm>
            <a:off x="3429000" y="0"/>
            <a:ext cx="2356920" cy="1428480"/>
            <a:chOff x="3429000" y="0"/>
            <a:chExt cx="2356920" cy="1428480"/>
          </a:xfrm>
        </p:grpSpPr>
        <p:sp>
          <p:nvSpPr>
            <p:cNvPr id="399" name="矩形 241"/>
            <p:cNvSpPr/>
            <p:nvPr/>
          </p:nvSpPr>
          <p:spPr>
            <a:xfrm>
              <a:off x="342900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0" name="TextBox 242"/>
            <p:cNvSpPr/>
            <p:nvPr/>
          </p:nvSpPr>
          <p:spPr>
            <a:xfrm>
              <a:off x="350028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组合 243"/>
          <p:cNvGrpSpPr/>
          <p:nvPr/>
        </p:nvGrpSpPr>
        <p:grpSpPr>
          <a:xfrm>
            <a:off x="3571920" y="0"/>
            <a:ext cx="2356920" cy="1428480"/>
            <a:chOff x="3571920" y="0"/>
            <a:chExt cx="2356920" cy="1428480"/>
          </a:xfrm>
        </p:grpSpPr>
        <p:sp>
          <p:nvSpPr>
            <p:cNvPr id="402" name="矩形 244"/>
            <p:cNvSpPr/>
            <p:nvPr/>
          </p:nvSpPr>
          <p:spPr>
            <a:xfrm>
              <a:off x="357192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3" name="TextBox 245"/>
            <p:cNvSpPr/>
            <p:nvPr/>
          </p:nvSpPr>
          <p:spPr>
            <a:xfrm>
              <a:off x="364320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246"/>
          <p:cNvGrpSpPr/>
          <p:nvPr/>
        </p:nvGrpSpPr>
        <p:grpSpPr>
          <a:xfrm>
            <a:off x="3714840" y="0"/>
            <a:ext cx="2356920" cy="1428480"/>
            <a:chOff x="3714840" y="0"/>
            <a:chExt cx="2356920" cy="1428480"/>
          </a:xfrm>
        </p:grpSpPr>
        <p:sp>
          <p:nvSpPr>
            <p:cNvPr id="405" name="矩形 247"/>
            <p:cNvSpPr/>
            <p:nvPr/>
          </p:nvSpPr>
          <p:spPr>
            <a:xfrm>
              <a:off x="371484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6" name="TextBox 248"/>
            <p:cNvSpPr/>
            <p:nvPr/>
          </p:nvSpPr>
          <p:spPr>
            <a:xfrm>
              <a:off x="378612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249"/>
          <p:cNvGrpSpPr/>
          <p:nvPr/>
        </p:nvGrpSpPr>
        <p:grpSpPr>
          <a:xfrm>
            <a:off x="3857760" y="0"/>
            <a:ext cx="2356920" cy="1428480"/>
            <a:chOff x="3857760" y="0"/>
            <a:chExt cx="2356920" cy="1428480"/>
          </a:xfrm>
        </p:grpSpPr>
        <p:sp>
          <p:nvSpPr>
            <p:cNvPr id="408" name="矩形 250"/>
            <p:cNvSpPr/>
            <p:nvPr/>
          </p:nvSpPr>
          <p:spPr>
            <a:xfrm>
              <a:off x="385776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9" name="TextBox 251"/>
            <p:cNvSpPr/>
            <p:nvPr/>
          </p:nvSpPr>
          <p:spPr>
            <a:xfrm>
              <a:off x="392904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252"/>
          <p:cNvGrpSpPr/>
          <p:nvPr/>
        </p:nvGrpSpPr>
        <p:grpSpPr>
          <a:xfrm>
            <a:off x="4000320" y="0"/>
            <a:ext cx="2357280" cy="1428480"/>
            <a:chOff x="4000320" y="0"/>
            <a:chExt cx="2357280" cy="1428480"/>
          </a:xfrm>
        </p:grpSpPr>
        <p:sp>
          <p:nvSpPr>
            <p:cNvPr id="411" name="矩形 253"/>
            <p:cNvSpPr/>
            <p:nvPr/>
          </p:nvSpPr>
          <p:spPr>
            <a:xfrm>
              <a:off x="400032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2" name="TextBox 254"/>
            <p:cNvSpPr/>
            <p:nvPr/>
          </p:nvSpPr>
          <p:spPr>
            <a:xfrm>
              <a:off x="407196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255"/>
          <p:cNvGrpSpPr/>
          <p:nvPr/>
        </p:nvGrpSpPr>
        <p:grpSpPr>
          <a:xfrm>
            <a:off x="4143240" y="0"/>
            <a:ext cx="2357280" cy="1428480"/>
            <a:chOff x="4143240" y="0"/>
            <a:chExt cx="2357280" cy="1428480"/>
          </a:xfrm>
        </p:grpSpPr>
        <p:sp>
          <p:nvSpPr>
            <p:cNvPr id="414" name="矩形 256"/>
            <p:cNvSpPr/>
            <p:nvPr/>
          </p:nvSpPr>
          <p:spPr>
            <a:xfrm>
              <a:off x="414324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5" name="TextBox 257"/>
            <p:cNvSpPr/>
            <p:nvPr/>
          </p:nvSpPr>
          <p:spPr>
            <a:xfrm>
              <a:off x="421488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组合 258"/>
          <p:cNvGrpSpPr/>
          <p:nvPr/>
        </p:nvGrpSpPr>
        <p:grpSpPr>
          <a:xfrm>
            <a:off x="4286160" y="0"/>
            <a:ext cx="2357280" cy="1428480"/>
            <a:chOff x="4286160" y="0"/>
            <a:chExt cx="2357280" cy="1428480"/>
          </a:xfrm>
        </p:grpSpPr>
        <p:sp>
          <p:nvSpPr>
            <p:cNvPr id="417" name="矩形 259"/>
            <p:cNvSpPr/>
            <p:nvPr/>
          </p:nvSpPr>
          <p:spPr>
            <a:xfrm>
              <a:off x="428616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8" name="TextBox 260"/>
            <p:cNvSpPr/>
            <p:nvPr/>
          </p:nvSpPr>
          <p:spPr>
            <a:xfrm>
              <a:off x="435780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组合 261"/>
          <p:cNvGrpSpPr/>
          <p:nvPr/>
        </p:nvGrpSpPr>
        <p:grpSpPr>
          <a:xfrm>
            <a:off x="4429080" y="0"/>
            <a:ext cx="2357280" cy="1428480"/>
            <a:chOff x="4429080" y="0"/>
            <a:chExt cx="2357280" cy="1428480"/>
          </a:xfrm>
        </p:grpSpPr>
        <p:sp>
          <p:nvSpPr>
            <p:cNvPr id="420" name="矩形 262"/>
            <p:cNvSpPr/>
            <p:nvPr/>
          </p:nvSpPr>
          <p:spPr>
            <a:xfrm>
              <a:off x="442908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1" name="TextBox 263"/>
            <p:cNvSpPr/>
            <p:nvPr/>
          </p:nvSpPr>
          <p:spPr>
            <a:xfrm>
              <a:off x="450072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组合 264"/>
          <p:cNvGrpSpPr/>
          <p:nvPr/>
        </p:nvGrpSpPr>
        <p:grpSpPr>
          <a:xfrm>
            <a:off x="4572000" y="0"/>
            <a:ext cx="2356920" cy="1428480"/>
            <a:chOff x="4572000" y="0"/>
            <a:chExt cx="2356920" cy="1428480"/>
          </a:xfrm>
        </p:grpSpPr>
        <p:sp>
          <p:nvSpPr>
            <p:cNvPr id="423" name="矩形 265"/>
            <p:cNvSpPr/>
            <p:nvPr/>
          </p:nvSpPr>
          <p:spPr>
            <a:xfrm>
              <a:off x="457200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4" name="TextBox 266"/>
            <p:cNvSpPr/>
            <p:nvPr/>
          </p:nvSpPr>
          <p:spPr>
            <a:xfrm>
              <a:off x="464328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组合 267"/>
          <p:cNvGrpSpPr/>
          <p:nvPr/>
        </p:nvGrpSpPr>
        <p:grpSpPr>
          <a:xfrm>
            <a:off x="4714920" y="0"/>
            <a:ext cx="2356920" cy="1428480"/>
            <a:chOff x="4714920" y="0"/>
            <a:chExt cx="2356920" cy="1428480"/>
          </a:xfrm>
        </p:grpSpPr>
        <p:sp>
          <p:nvSpPr>
            <p:cNvPr id="426" name="矩形 268"/>
            <p:cNvSpPr/>
            <p:nvPr/>
          </p:nvSpPr>
          <p:spPr>
            <a:xfrm>
              <a:off x="471492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7" name="TextBox 269"/>
            <p:cNvSpPr/>
            <p:nvPr/>
          </p:nvSpPr>
          <p:spPr>
            <a:xfrm>
              <a:off x="478620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组合 270"/>
          <p:cNvGrpSpPr/>
          <p:nvPr/>
        </p:nvGrpSpPr>
        <p:grpSpPr>
          <a:xfrm>
            <a:off x="4857840" y="0"/>
            <a:ext cx="2356920" cy="1428480"/>
            <a:chOff x="4857840" y="0"/>
            <a:chExt cx="2356920" cy="1428480"/>
          </a:xfrm>
        </p:grpSpPr>
        <p:sp>
          <p:nvSpPr>
            <p:cNvPr id="429" name="矩形 271"/>
            <p:cNvSpPr/>
            <p:nvPr/>
          </p:nvSpPr>
          <p:spPr>
            <a:xfrm>
              <a:off x="485784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0" name="TextBox 272"/>
            <p:cNvSpPr/>
            <p:nvPr/>
          </p:nvSpPr>
          <p:spPr>
            <a:xfrm>
              <a:off x="492912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组合 273"/>
          <p:cNvGrpSpPr/>
          <p:nvPr/>
        </p:nvGrpSpPr>
        <p:grpSpPr>
          <a:xfrm>
            <a:off x="5000760" y="0"/>
            <a:ext cx="2356920" cy="1428480"/>
            <a:chOff x="5000760" y="0"/>
            <a:chExt cx="2356920" cy="1428480"/>
          </a:xfrm>
        </p:grpSpPr>
        <p:sp>
          <p:nvSpPr>
            <p:cNvPr id="432" name="矩形 274"/>
            <p:cNvSpPr/>
            <p:nvPr/>
          </p:nvSpPr>
          <p:spPr>
            <a:xfrm>
              <a:off x="500076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3" name="TextBox 275"/>
            <p:cNvSpPr/>
            <p:nvPr/>
          </p:nvSpPr>
          <p:spPr>
            <a:xfrm>
              <a:off x="507204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组合 276"/>
          <p:cNvGrpSpPr/>
          <p:nvPr/>
        </p:nvGrpSpPr>
        <p:grpSpPr>
          <a:xfrm>
            <a:off x="5143680" y="0"/>
            <a:ext cx="2356920" cy="1428480"/>
            <a:chOff x="5143680" y="0"/>
            <a:chExt cx="2356920" cy="1428480"/>
          </a:xfrm>
        </p:grpSpPr>
        <p:sp>
          <p:nvSpPr>
            <p:cNvPr id="435" name="矩形 277"/>
            <p:cNvSpPr/>
            <p:nvPr/>
          </p:nvSpPr>
          <p:spPr>
            <a:xfrm>
              <a:off x="514368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6" name="TextBox 278"/>
            <p:cNvSpPr/>
            <p:nvPr/>
          </p:nvSpPr>
          <p:spPr>
            <a:xfrm>
              <a:off x="521496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组合 279"/>
          <p:cNvGrpSpPr/>
          <p:nvPr/>
        </p:nvGrpSpPr>
        <p:grpSpPr>
          <a:xfrm>
            <a:off x="5286240" y="0"/>
            <a:ext cx="2357280" cy="1428480"/>
            <a:chOff x="5286240" y="0"/>
            <a:chExt cx="2357280" cy="1428480"/>
          </a:xfrm>
        </p:grpSpPr>
        <p:sp>
          <p:nvSpPr>
            <p:cNvPr id="438" name="矩形 280"/>
            <p:cNvSpPr/>
            <p:nvPr/>
          </p:nvSpPr>
          <p:spPr>
            <a:xfrm>
              <a:off x="528624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9" name="TextBox 281"/>
            <p:cNvSpPr/>
            <p:nvPr/>
          </p:nvSpPr>
          <p:spPr>
            <a:xfrm>
              <a:off x="535788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组合 282"/>
          <p:cNvGrpSpPr/>
          <p:nvPr/>
        </p:nvGrpSpPr>
        <p:grpSpPr>
          <a:xfrm>
            <a:off x="5429160" y="0"/>
            <a:ext cx="2357280" cy="1428480"/>
            <a:chOff x="5429160" y="0"/>
            <a:chExt cx="2357280" cy="1428480"/>
          </a:xfrm>
        </p:grpSpPr>
        <p:sp>
          <p:nvSpPr>
            <p:cNvPr id="441" name="矩形 283"/>
            <p:cNvSpPr/>
            <p:nvPr/>
          </p:nvSpPr>
          <p:spPr>
            <a:xfrm>
              <a:off x="542916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2" name="TextBox 284"/>
            <p:cNvSpPr/>
            <p:nvPr/>
          </p:nvSpPr>
          <p:spPr>
            <a:xfrm>
              <a:off x="550080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组合 285"/>
          <p:cNvGrpSpPr/>
          <p:nvPr/>
        </p:nvGrpSpPr>
        <p:grpSpPr>
          <a:xfrm>
            <a:off x="5572080" y="0"/>
            <a:ext cx="2357280" cy="1428480"/>
            <a:chOff x="5572080" y="0"/>
            <a:chExt cx="2357280" cy="1428480"/>
          </a:xfrm>
        </p:grpSpPr>
        <p:sp>
          <p:nvSpPr>
            <p:cNvPr id="444" name="矩形 286"/>
            <p:cNvSpPr/>
            <p:nvPr/>
          </p:nvSpPr>
          <p:spPr>
            <a:xfrm>
              <a:off x="557208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5" name="TextBox 287"/>
            <p:cNvSpPr/>
            <p:nvPr/>
          </p:nvSpPr>
          <p:spPr>
            <a:xfrm>
              <a:off x="564372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组合 288"/>
          <p:cNvGrpSpPr/>
          <p:nvPr/>
        </p:nvGrpSpPr>
        <p:grpSpPr>
          <a:xfrm>
            <a:off x="5715000" y="0"/>
            <a:ext cx="2356920" cy="1428480"/>
            <a:chOff x="5715000" y="0"/>
            <a:chExt cx="2356920" cy="1428480"/>
          </a:xfrm>
        </p:grpSpPr>
        <p:sp>
          <p:nvSpPr>
            <p:cNvPr id="447" name="矩形 289"/>
            <p:cNvSpPr/>
            <p:nvPr/>
          </p:nvSpPr>
          <p:spPr>
            <a:xfrm>
              <a:off x="571500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8" name="TextBox 290"/>
            <p:cNvSpPr/>
            <p:nvPr/>
          </p:nvSpPr>
          <p:spPr>
            <a:xfrm>
              <a:off x="578628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组合 291"/>
          <p:cNvGrpSpPr/>
          <p:nvPr/>
        </p:nvGrpSpPr>
        <p:grpSpPr>
          <a:xfrm>
            <a:off x="5857920" y="0"/>
            <a:ext cx="2356920" cy="1428480"/>
            <a:chOff x="5857920" y="0"/>
            <a:chExt cx="2356920" cy="1428480"/>
          </a:xfrm>
        </p:grpSpPr>
        <p:sp>
          <p:nvSpPr>
            <p:cNvPr id="450" name="矩形 292"/>
            <p:cNvSpPr/>
            <p:nvPr/>
          </p:nvSpPr>
          <p:spPr>
            <a:xfrm>
              <a:off x="585792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1" name="TextBox 293"/>
            <p:cNvSpPr/>
            <p:nvPr/>
          </p:nvSpPr>
          <p:spPr>
            <a:xfrm>
              <a:off x="592920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组合 294"/>
          <p:cNvGrpSpPr/>
          <p:nvPr/>
        </p:nvGrpSpPr>
        <p:grpSpPr>
          <a:xfrm>
            <a:off x="6000840" y="0"/>
            <a:ext cx="2356920" cy="1428480"/>
            <a:chOff x="6000840" y="0"/>
            <a:chExt cx="2356920" cy="1428480"/>
          </a:xfrm>
        </p:grpSpPr>
        <p:sp>
          <p:nvSpPr>
            <p:cNvPr id="453" name="矩形 295"/>
            <p:cNvSpPr/>
            <p:nvPr/>
          </p:nvSpPr>
          <p:spPr>
            <a:xfrm>
              <a:off x="600084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4" name="TextBox 296"/>
            <p:cNvSpPr/>
            <p:nvPr/>
          </p:nvSpPr>
          <p:spPr>
            <a:xfrm>
              <a:off x="607212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组合 297"/>
          <p:cNvGrpSpPr/>
          <p:nvPr/>
        </p:nvGrpSpPr>
        <p:grpSpPr>
          <a:xfrm>
            <a:off x="6143760" y="0"/>
            <a:ext cx="2356920" cy="1428480"/>
            <a:chOff x="6143760" y="0"/>
            <a:chExt cx="2356920" cy="1428480"/>
          </a:xfrm>
        </p:grpSpPr>
        <p:sp>
          <p:nvSpPr>
            <p:cNvPr id="456" name="矩形 298"/>
            <p:cNvSpPr/>
            <p:nvPr/>
          </p:nvSpPr>
          <p:spPr>
            <a:xfrm>
              <a:off x="614376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7" name="TextBox 299"/>
            <p:cNvSpPr/>
            <p:nvPr/>
          </p:nvSpPr>
          <p:spPr>
            <a:xfrm>
              <a:off x="621504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组合 300"/>
          <p:cNvGrpSpPr/>
          <p:nvPr/>
        </p:nvGrpSpPr>
        <p:grpSpPr>
          <a:xfrm>
            <a:off x="6286680" y="0"/>
            <a:ext cx="2356920" cy="1428480"/>
            <a:chOff x="6286680" y="0"/>
            <a:chExt cx="2356920" cy="1428480"/>
          </a:xfrm>
        </p:grpSpPr>
        <p:sp>
          <p:nvSpPr>
            <p:cNvPr id="459" name="矩形 301"/>
            <p:cNvSpPr/>
            <p:nvPr/>
          </p:nvSpPr>
          <p:spPr>
            <a:xfrm>
              <a:off x="628668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0" name="TextBox 302"/>
            <p:cNvSpPr/>
            <p:nvPr/>
          </p:nvSpPr>
          <p:spPr>
            <a:xfrm>
              <a:off x="635796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组合 303"/>
          <p:cNvGrpSpPr/>
          <p:nvPr/>
        </p:nvGrpSpPr>
        <p:grpSpPr>
          <a:xfrm>
            <a:off x="6429240" y="0"/>
            <a:ext cx="2357280" cy="1428480"/>
            <a:chOff x="6429240" y="0"/>
            <a:chExt cx="2357280" cy="1428480"/>
          </a:xfrm>
        </p:grpSpPr>
        <p:sp>
          <p:nvSpPr>
            <p:cNvPr id="462" name="矩形 304"/>
            <p:cNvSpPr/>
            <p:nvPr/>
          </p:nvSpPr>
          <p:spPr>
            <a:xfrm>
              <a:off x="642924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3" name="TextBox 305"/>
            <p:cNvSpPr/>
            <p:nvPr/>
          </p:nvSpPr>
          <p:spPr>
            <a:xfrm>
              <a:off x="650088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组合 306"/>
          <p:cNvGrpSpPr/>
          <p:nvPr/>
        </p:nvGrpSpPr>
        <p:grpSpPr>
          <a:xfrm>
            <a:off x="6572160" y="0"/>
            <a:ext cx="2357280" cy="1428480"/>
            <a:chOff x="6572160" y="0"/>
            <a:chExt cx="2357280" cy="1428480"/>
          </a:xfrm>
        </p:grpSpPr>
        <p:sp>
          <p:nvSpPr>
            <p:cNvPr id="465" name="矩形 307"/>
            <p:cNvSpPr/>
            <p:nvPr/>
          </p:nvSpPr>
          <p:spPr>
            <a:xfrm>
              <a:off x="657216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6" name="TextBox 308"/>
            <p:cNvSpPr/>
            <p:nvPr/>
          </p:nvSpPr>
          <p:spPr>
            <a:xfrm>
              <a:off x="664380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组合 309"/>
          <p:cNvGrpSpPr/>
          <p:nvPr/>
        </p:nvGrpSpPr>
        <p:grpSpPr>
          <a:xfrm>
            <a:off x="6715080" y="0"/>
            <a:ext cx="2357280" cy="1428480"/>
            <a:chOff x="6715080" y="0"/>
            <a:chExt cx="2357280" cy="1428480"/>
          </a:xfrm>
        </p:grpSpPr>
        <p:sp>
          <p:nvSpPr>
            <p:cNvPr id="468" name="矩形 310"/>
            <p:cNvSpPr/>
            <p:nvPr/>
          </p:nvSpPr>
          <p:spPr>
            <a:xfrm>
              <a:off x="671508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9" name="TextBox 311"/>
            <p:cNvSpPr/>
            <p:nvPr/>
          </p:nvSpPr>
          <p:spPr>
            <a:xfrm>
              <a:off x="678672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组合 312"/>
          <p:cNvGrpSpPr/>
          <p:nvPr/>
        </p:nvGrpSpPr>
        <p:grpSpPr>
          <a:xfrm>
            <a:off x="6786720" y="0"/>
            <a:ext cx="2356920" cy="1428480"/>
            <a:chOff x="6786720" y="0"/>
            <a:chExt cx="2356920" cy="1428480"/>
          </a:xfrm>
        </p:grpSpPr>
        <p:sp>
          <p:nvSpPr>
            <p:cNvPr id="471" name="矩形 313"/>
            <p:cNvSpPr/>
            <p:nvPr/>
          </p:nvSpPr>
          <p:spPr>
            <a:xfrm>
              <a:off x="6786720" y="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2" name="TextBox 314"/>
            <p:cNvSpPr/>
            <p:nvPr/>
          </p:nvSpPr>
          <p:spPr>
            <a:xfrm>
              <a:off x="6858000" y="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组合 315"/>
          <p:cNvGrpSpPr/>
          <p:nvPr/>
        </p:nvGrpSpPr>
        <p:grpSpPr>
          <a:xfrm>
            <a:off x="6786720" y="214200"/>
            <a:ext cx="2356920" cy="1428480"/>
            <a:chOff x="6786720" y="214200"/>
            <a:chExt cx="2356920" cy="1428480"/>
          </a:xfrm>
        </p:grpSpPr>
        <p:sp>
          <p:nvSpPr>
            <p:cNvPr id="474" name="矩形 316"/>
            <p:cNvSpPr/>
            <p:nvPr/>
          </p:nvSpPr>
          <p:spPr>
            <a:xfrm>
              <a:off x="6786720" y="21420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5" name="TextBox 317"/>
            <p:cNvSpPr/>
            <p:nvPr/>
          </p:nvSpPr>
          <p:spPr>
            <a:xfrm>
              <a:off x="6858000" y="21420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组合 318"/>
          <p:cNvGrpSpPr/>
          <p:nvPr/>
        </p:nvGrpSpPr>
        <p:grpSpPr>
          <a:xfrm>
            <a:off x="6786720" y="428760"/>
            <a:ext cx="2356920" cy="1428480"/>
            <a:chOff x="6786720" y="428760"/>
            <a:chExt cx="2356920" cy="1428480"/>
          </a:xfrm>
        </p:grpSpPr>
        <p:sp>
          <p:nvSpPr>
            <p:cNvPr id="477" name="矩形 319"/>
            <p:cNvSpPr/>
            <p:nvPr/>
          </p:nvSpPr>
          <p:spPr>
            <a:xfrm>
              <a:off x="6786720" y="4287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8" name="TextBox 320"/>
            <p:cNvSpPr/>
            <p:nvPr/>
          </p:nvSpPr>
          <p:spPr>
            <a:xfrm>
              <a:off x="6858000" y="4287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组合 321"/>
          <p:cNvGrpSpPr/>
          <p:nvPr/>
        </p:nvGrpSpPr>
        <p:grpSpPr>
          <a:xfrm>
            <a:off x="6786720" y="642960"/>
            <a:ext cx="2356920" cy="1428480"/>
            <a:chOff x="6786720" y="642960"/>
            <a:chExt cx="2356920" cy="1428480"/>
          </a:xfrm>
        </p:grpSpPr>
        <p:sp>
          <p:nvSpPr>
            <p:cNvPr id="480" name="矩形 322"/>
            <p:cNvSpPr/>
            <p:nvPr/>
          </p:nvSpPr>
          <p:spPr>
            <a:xfrm>
              <a:off x="6786720" y="6429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1" name="TextBox 323"/>
            <p:cNvSpPr/>
            <p:nvPr/>
          </p:nvSpPr>
          <p:spPr>
            <a:xfrm>
              <a:off x="6858000" y="6429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组合 324"/>
          <p:cNvGrpSpPr/>
          <p:nvPr/>
        </p:nvGrpSpPr>
        <p:grpSpPr>
          <a:xfrm>
            <a:off x="6786720" y="785880"/>
            <a:ext cx="2356920" cy="1428480"/>
            <a:chOff x="6786720" y="785880"/>
            <a:chExt cx="2356920" cy="1428480"/>
          </a:xfrm>
        </p:grpSpPr>
        <p:sp>
          <p:nvSpPr>
            <p:cNvPr id="483" name="矩形 325"/>
            <p:cNvSpPr/>
            <p:nvPr/>
          </p:nvSpPr>
          <p:spPr>
            <a:xfrm>
              <a:off x="6786720" y="78588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4" name="TextBox 326"/>
            <p:cNvSpPr/>
            <p:nvPr/>
          </p:nvSpPr>
          <p:spPr>
            <a:xfrm>
              <a:off x="6858000" y="78588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组合 327"/>
          <p:cNvGrpSpPr/>
          <p:nvPr/>
        </p:nvGrpSpPr>
        <p:grpSpPr>
          <a:xfrm>
            <a:off x="6786720" y="928800"/>
            <a:ext cx="2356920" cy="1428480"/>
            <a:chOff x="6786720" y="928800"/>
            <a:chExt cx="2356920" cy="1428480"/>
          </a:xfrm>
        </p:grpSpPr>
        <p:sp>
          <p:nvSpPr>
            <p:cNvPr id="486" name="矩形 328"/>
            <p:cNvSpPr/>
            <p:nvPr/>
          </p:nvSpPr>
          <p:spPr>
            <a:xfrm>
              <a:off x="6786720" y="92880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7" name="TextBox 329"/>
            <p:cNvSpPr/>
            <p:nvPr/>
          </p:nvSpPr>
          <p:spPr>
            <a:xfrm>
              <a:off x="6858000" y="92880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330"/>
          <p:cNvGrpSpPr/>
          <p:nvPr/>
        </p:nvGrpSpPr>
        <p:grpSpPr>
          <a:xfrm>
            <a:off x="6786720" y="1143000"/>
            <a:ext cx="2356920" cy="1428480"/>
            <a:chOff x="6786720" y="1143000"/>
            <a:chExt cx="2356920" cy="1428480"/>
          </a:xfrm>
        </p:grpSpPr>
        <p:sp>
          <p:nvSpPr>
            <p:cNvPr id="489" name="矩形 331"/>
            <p:cNvSpPr/>
            <p:nvPr/>
          </p:nvSpPr>
          <p:spPr>
            <a:xfrm>
              <a:off x="6786720" y="114300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0" name="TextBox 332"/>
            <p:cNvSpPr/>
            <p:nvPr/>
          </p:nvSpPr>
          <p:spPr>
            <a:xfrm>
              <a:off x="6858000" y="114300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组合 333"/>
          <p:cNvGrpSpPr/>
          <p:nvPr/>
        </p:nvGrpSpPr>
        <p:grpSpPr>
          <a:xfrm>
            <a:off x="6786720" y="1285920"/>
            <a:ext cx="2356920" cy="1428480"/>
            <a:chOff x="6786720" y="1285920"/>
            <a:chExt cx="2356920" cy="1428480"/>
          </a:xfrm>
        </p:grpSpPr>
        <p:sp>
          <p:nvSpPr>
            <p:cNvPr id="492" name="矩形 334"/>
            <p:cNvSpPr/>
            <p:nvPr/>
          </p:nvSpPr>
          <p:spPr>
            <a:xfrm>
              <a:off x="6786720" y="128592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3" name="TextBox 335"/>
            <p:cNvSpPr/>
            <p:nvPr/>
          </p:nvSpPr>
          <p:spPr>
            <a:xfrm>
              <a:off x="6858000" y="128592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组合 336"/>
          <p:cNvGrpSpPr/>
          <p:nvPr/>
        </p:nvGrpSpPr>
        <p:grpSpPr>
          <a:xfrm>
            <a:off x="6786720" y="1428840"/>
            <a:ext cx="2356920" cy="1428480"/>
            <a:chOff x="6786720" y="1428840"/>
            <a:chExt cx="2356920" cy="1428480"/>
          </a:xfrm>
        </p:grpSpPr>
        <p:sp>
          <p:nvSpPr>
            <p:cNvPr id="495" name="矩形 337"/>
            <p:cNvSpPr/>
            <p:nvPr/>
          </p:nvSpPr>
          <p:spPr>
            <a:xfrm>
              <a:off x="6786720" y="142884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6" name="TextBox 338"/>
            <p:cNvSpPr/>
            <p:nvPr/>
          </p:nvSpPr>
          <p:spPr>
            <a:xfrm>
              <a:off x="6858000" y="142884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组合 339"/>
          <p:cNvGrpSpPr/>
          <p:nvPr/>
        </p:nvGrpSpPr>
        <p:grpSpPr>
          <a:xfrm>
            <a:off x="6786720" y="1571760"/>
            <a:ext cx="2356920" cy="1428480"/>
            <a:chOff x="6786720" y="1571760"/>
            <a:chExt cx="2356920" cy="1428480"/>
          </a:xfrm>
        </p:grpSpPr>
        <p:sp>
          <p:nvSpPr>
            <p:cNvPr id="498" name="矩形 340"/>
            <p:cNvSpPr/>
            <p:nvPr/>
          </p:nvSpPr>
          <p:spPr>
            <a:xfrm>
              <a:off x="6786720" y="15717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9" name="TextBox 341"/>
            <p:cNvSpPr/>
            <p:nvPr/>
          </p:nvSpPr>
          <p:spPr>
            <a:xfrm>
              <a:off x="6858000" y="15717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组合 342"/>
          <p:cNvGrpSpPr/>
          <p:nvPr/>
        </p:nvGrpSpPr>
        <p:grpSpPr>
          <a:xfrm>
            <a:off x="6786720" y="1714320"/>
            <a:ext cx="2356920" cy="1428480"/>
            <a:chOff x="6786720" y="1714320"/>
            <a:chExt cx="2356920" cy="1428480"/>
          </a:xfrm>
        </p:grpSpPr>
        <p:sp>
          <p:nvSpPr>
            <p:cNvPr id="501" name="矩形 343"/>
            <p:cNvSpPr/>
            <p:nvPr/>
          </p:nvSpPr>
          <p:spPr>
            <a:xfrm>
              <a:off x="6786720" y="171432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2" name="TextBox 344"/>
            <p:cNvSpPr/>
            <p:nvPr/>
          </p:nvSpPr>
          <p:spPr>
            <a:xfrm>
              <a:off x="6858000" y="171432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组合 345"/>
          <p:cNvGrpSpPr/>
          <p:nvPr/>
        </p:nvGrpSpPr>
        <p:grpSpPr>
          <a:xfrm>
            <a:off x="6786720" y="1857240"/>
            <a:ext cx="2356920" cy="1428480"/>
            <a:chOff x="6786720" y="1857240"/>
            <a:chExt cx="2356920" cy="1428480"/>
          </a:xfrm>
        </p:grpSpPr>
        <p:sp>
          <p:nvSpPr>
            <p:cNvPr id="504" name="矩形 346"/>
            <p:cNvSpPr/>
            <p:nvPr/>
          </p:nvSpPr>
          <p:spPr>
            <a:xfrm>
              <a:off x="6786720" y="185724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5" name="TextBox 347"/>
            <p:cNvSpPr/>
            <p:nvPr/>
          </p:nvSpPr>
          <p:spPr>
            <a:xfrm>
              <a:off x="6858000" y="185724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348"/>
          <p:cNvGrpSpPr/>
          <p:nvPr/>
        </p:nvGrpSpPr>
        <p:grpSpPr>
          <a:xfrm>
            <a:off x="6786720" y="2000160"/>
            <a:ext cx="2356920" cy="1428480"/>
            <a:chOff x="6786720" y="2000160"/>
            <a:chExt cx="2356920" cy="1428480"/>
          </a:xfrm>
        </p:grpSpPr>
        <p:sp>
          <p:nvSpPr>
            <p:cNvPr id="507" name="矩形 349"/>
            <p:cNvSpPr/>
            <p:nvPr/>
          </p:nvSpPr>
          <p:spPr>
            <a:xfrm>
              <a:off x="6786720" y="2000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08" name="TextBox 350"/>
            <p:cNvSpPr/>
            <p:nvPr/>
          </p:nvSpPr>
          <p:spPr>
            <a:xfrm>
              <a:off x="6858000" y="2000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组合 351"/>
          <p:cNvGrpSpPr/>
          <p:nvPr/>
        </p:nvGrpSpPr>
        <p:grpSpPr>
          <a:xfrm>
            <a:off x="6786720" y="2143080"/>
            <a:ext cx="2356920" cy="1428480"/>
            <a:chOff x="6786720" y="2143080"/>
            <a:chExt cx="2356920" cy="1428480"/>
          </a:xfrm>
        </p:grpSpPr>
        <p:sp>
          <p:nvSpPr>
            <p:cNvPr id="510" name="矩形 352"/>
            <p:cNvSpPr/>
            <p:nvPr/>
          </p:nvSpPr>
          <p:spPr>
            <a:xfrm>
              <a:off x="6786720" y="214308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1" name="TextBox 353"/>
            <p:cNvSpPr/>
            <p:nvPr/>
          </p:nvSpPr>
          <p:spPr>
            <a:xfrm>
              <a:off x="6858000" y="214308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组合 354"/>
          <p:cNvGrpSpPr/>
          <p:nvPr/>
        </p:nvGrpSpPr>
        <p:grpSpPr>
          <a:xfrm>
            <a:off x="6786720" y="2286000"/>
            <a:ext cx="2356920" cy="1428480"/>
            <a:chOff x="6786720" y="2286000"/>
            <a:chExt cx="2356920" cy="1428480"/>
          </a:xfrm>
        </p:grpSpPr>
        <p:sp>
          <p:nvSpPr>
            <p:cNvPr id="513" name="矩形 355"/>
            <p:cNvSpPr/>
            <p:nvPr/>
          </p:nvSpPr>
          <p:spPr>
            <a:xfrm>
              <a:off x="6786720" y="228600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4" name="TextBox 356"/>
            <p:cNvSpPr/>
            <p:nvPr/>
          </p:nvSpPr>
          <p:spPr>
            <a:xfrm>
              <a:off x="6858000" y="228600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组合 357"/>
          <p:cNvGrpSpPr/>
          <p:nvPr/>
        </p:nvGrpSpPr>
        <p:grpSpPr>
          <a:xfrm>
            <a:off x="6786720" y="2428920"/>
            <a:ext cx="2356920" cy="1428480"/>
            <a:chOff x="6786720" y="2428920"/>
            <a:chExt cx="2356920" cy="1428480"/>
          </a:xfrm>
        </p:grpSpPr>
        <p:sp>
          <p:nvSpPr>
            <p:cNvPr id="516" name="矩形 358"/>
            <p:cNvSpPr/>
            <p:nvPr/>
          </p:nvSpPr>
          <p:spPr>
            <a:xfrm>
              <a:off x="6786720" y="242892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7" name="TextBox 359"/>
            <p:cNvSpPr/>
            <p:nvPr/>
          </p:nvSpPr>
          <p:spPr>
            <a:xfrm>
              <a:off x="6858000" y="242892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组合 360"/>
          <p:cNvGrpSpPr/>
          <p:nvPr/>
        </p:nvGrpSpPr>
        <p:grpSpPr>
          <a:xfrm>
            <a:off x="6786720" y="2571840"/>
            <a:ext cx="2356920" cy="1428480"/>
            <a:chOff x="6786720" y="2571840"/>
            <a:chExt cx="2356920" cy="1428480"/>
          </a:xfrm>
        </p:grpSpPr>
        <p:sp>
          <p:nvSpPr>
            <p:cNvPr id="519" name="矩形 361"/>
            <p:cNvSpPr/>
            <p:nvPr/>
          </p:nvSpPr>
          <p:spPr>
            <a:xfrm>
              <a:off x="6786720" y="257184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0" name="TextBox 362"/>
            <p:cNvSpPr/>
            <p:nvPr/>
          </p:nvSpPr>
          <p:spPr>
            <a:xfrm>
              <a:off x="6858000" y="257184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组合 363"/>
          <p:cNvGrpSpPr/>
          <p:nvPr/>
        </p:nvGrpSpPr>
        <p:grpSpPr>
          <a:xfrm>
            <a:off x="6786720" y="2714760"/>
            <a:ext cx="2356920" cy="1428480"/>
            <a:chOff x="6786720" y="2714760"/>
            <a:chExt cx="2356920" cy="1428480"/>
          </a:xfrm>
        </p:grpSpPr>
        <p:sp>
          <p:nvSpPr>
            <p:cNvPr id="522" name="矩形 364"/>
            <p:cNvSpPr/>
            <p:nvPr/>
          </p:nvSpPr>
          <p:spPr>
            <a:xfrm>
              <a:off x="6786720" y="27147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3" name="TextBox 365"/>
            <p:cNvSpPr/>
            <p:nvPr/>
          </p:nvSpPr>
          <p:spPr>
            <a:xfrm>
              <a:off x="6858000" y="27147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组合 366"/>
          <p:cNvGrpSpPr/>
          <p:nvPr/>
        </p:nvGrpSpPr>
        <p:grpSpPr>
          <a:xfrm>
            <a:off x="6786720" y="2857320"/>
            <a:ext cx="2356920" cy="1428480"/>
            <a:chOff x="6786720" y="2857320"/>
            <a:chExt cx="2356920" cy="1428480"/>
          </a:xfrm>
        </p:grpSpPr>
        <p:sp>
          <p:nvSpPr>
            <p:cNvPr id="525" name="矩形 367"/>
            <p:cNvSpPr/>
            <p:nvPr/>
          </p:nvSpPr>
          <p:spPr>
            <a:xfrm>
              <a:off x="6786720" y="285732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6" name="TextBox 368"/>
            <p:cNvSpPr/>
            <p:nvPr/>
          </p:nvSpPr>
          <p:spPr>
            <a:xfrm>
              <a:off x="6858000" y="285732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组合 369"/>
          <p:cNvGrpSpPr/>
          <p:nvPr/>
        </p:nvGrpSpPr>
        <p:grpSpPr>
          <a:xfrm>
            <a:off x="6786720" y="3000240"/>
            <a:ext cx="2356920" cy="1428480"/>
            <a:chOff x="6786720" y="3000240"/>
            <a:chExt cx="2356920" cy="1428480"/>
          </a:xfrm>
        </p:grpSpPr>
        <p:sp>
          <p:nvSpPr>
            <p:cNvPr id="528" name="矩形 370"/>
            <p:cNvSpPr/>
            <p:nvPr/>
          </p:nvSpPr>
          <p:spPr>
            <a:xfrm>
              <a:off x="6786720" y="300024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9" name="TextBox 371"/>
            <p:cNvSpPr/>
            <p:nvPr/>
          </p:nvSpPr>
          <p:spPr>
            <a:xfrm>
              <a:off x="6858000" y="300024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组合 372"/>
          <p:cNvGrpSpPr/>
          <p:nvPr/>
        </p:nvGrpSpPr>
        <p:grpSpPr>
          <a:xfrm>
            <a:off x="6786720" y="3143160"/>
            <a:ext cx="2356920" cy="1428480"/>
            <a:chOff x="6786720" y="3143160"/>
            <a:chExt cx="2356920" cy="1428480"/>
          </a:xfrm>
        </p:grpSpPr>
        <p:sp>
          <p:nvSpPr>
            <p:cNvPr id="531" name="矩形 373"/>
            <p:cNvSpPr/>
            <p:nvPr/>
          </p:nvSpPr>
          <p:spPr>
            <a:xfrm>
              <a:off x="6786720" y="3143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2" name="TextBox 374"/>
            <p:cNvSpPr/>
            <p:nvPr/>
          </p:nvSpPr>
          <p:spPr>
            <a:xfrm>
              <a:off x="6858000" y="3143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组合 375"/>
          <p:cNvGrpSpPr/>
          <p:nvPr/>
        </p:nvGrpSpPr>
        <p:grpSpPr>
          <a:xfrm>
            <a:off x="6786720" y="3286080"/>
            <a:ext cx="2356920" cy="1428480"/>
            <a:chOff x="6786720" y="3286080"/>
            <a:chExt cx="2356920" cy="1428480"/>
          </a:xfrm>
        </p:grpSpPr>
        <p:sp>
          <p:nvSpPr>
            <p:cNvPr id="534" name="矩形 376"/>
            <p:cNvSpPr/>
            <p:nvPr/>
          </p:nvSpPr>
          <p:spPr>
            <a:xfrm>
              <a:off x="6786720" y="328608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5" name="TextBox 377"/>
            <p:cNvSpPr/>
            <p:nvPr/>
          </p:nvSpPr>
          <p:spPr>
            <a:xfrm>
              <a:off x="6858000" y="328608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组合 378"/>
          <p:cNvGrpSpPr/>
          <p:nvPr/>
        </p:nvGrpSpPr>
        <p:grpSpPr>
          <a:xfrm>
            <a:off x="6786720" y="3429000"/>
            <a:ext cx="2356920" cy="1428480"/>
            <a:chOff x="6786720" y="3429000"/>
            <a:chExt cx="2356920" cy="1428480"/>
          </a:xfrm>
        </p:grpSpPr>
        <p:sp>
          <p:nvSpPr>
            <p:cNvPr id="537" name="矩形 379"/>
            <p:cNvSpPr/>
            <p:nvPr/>
          </p:nvSpPr>
          <p:spPr>
            <a:xfrm>
              <a:off x="6786720" y="342900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38" name="TextBox 380"/>
            <p:cNvSpPr/>
            <p:nvPr/>
          </p:nvSpPr>
          <p:spPr>
            <a:xfrm>
              <a:off x="6858000" y="342900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组合 381"/>
          <p:cNvGrpSpPr/>
          <p:nvPr/>
        </p:nvGrpSpPr>
        <p:grpSpPr>
          <a:xfrm>
            <a:off x="6786720" y="3571920"/>
            <a:ext cx="2356920" cy="1428480"/>
            <a:chOff x="6786720" y="3571920"/>
            <a:chExt cx="2356920" cy="1428480"/>
          </a:xfrm>
        </p:grpSpPr>
        <p:sp>
          <p:nvSpPr>
            <p:cNvPr id="540" name="矩形 382"/>
            <p:cNvSpPr/>
            <p:nvPr/>
          </p:nvSpPr>
          <p:spPr>
            <a:xfrm>
              <a:off x="6786720" y="357192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1" name="TextBox 383"/>
            <p:cNvSpPr/>
            <p:nvPr/>
          </p:nvSpPr>
          <p:spPr>
            <a:xfrm>
              <a:off x="6858000" y="357192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组合 384"/>
          <p:cNvGrpSpPr/>
          <p:nvPr/>
        </p:nvGrpSpPr>
        <p:grpSpPr>
          <a:xfrm>
            <a:off x="6786720" y="3714840"/>
            <a:ext cx="2356920" cy="1428480"/>
            <a:chOff x="6786720" y="3714840"/>
            <a:chExt cx="2356920" cy="1428480"/>
          </a:xfrm>
        </p:grpSpPr>
        <p:sp>
          <p:nvSpPr>
            <p:cNvPr id="543" name="矩形 385"/>
            <p:cNvSpPr/>
            <p:nvPr/>
          </p:nvSpPr>
          <p:spPr>
            <a:xfrm>
              <a:off x="6786720" y="371484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4" name="TextBox 386"/>
            <p:cNvSpPr/>
            <p:nvPr/>
          </p:nvSpPr>
          <p:spPr>
            <a:xfrm>
              <a:off x="6858000" y="371484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387"/>
          <p:cNvGrpSpPr/>
          <p:nvPr/>
        </p:nvGrpSpPr>
        <p:grpSpPr>
          <a:xfrm>
            <a:off x="6786720" y="3857760"/>
            <a:ext cx="2356920" cy="1428480"/>
            <a:chOff x="6786720" y="3857760"/>
            <a:chExt cx="2356920" cy="1428480"/>
          </a:xfrm>
        </p:grpSpPr>
        <p:sp>
          <p:nvSpPr>
            <p:cNvPr id="546" name="矩形 388"/>
            <p:cNvSpPr/>
            <p:nvPr/>
          </p:nvSpPr>
          <p:spPr>
            <a:xfrm>
              <a:off x="6786720" y="38577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7" name="TextBox 389"/>
            <p:cNvSpPr/>
            <p:nvPr/>
          </p:nvSpPr>
          <p:spPr>
            <a:xfrm>
              <a:off x="6858000" y="38577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组合 390"/>
          <p:cNvGrpSpPr/>
          <p:nvPr/>
        </p:nvGrpSpPr>
        <p:grpSpPr>
          <a:xfrm>
            <a:off x="6786720" y="4000680"/>
            <a:ext cx="2356920" cy="1428480"/>
            <a:chOff x="6786720" y="4000680"/>
            <a:chExt cx="2356920" cy="1428480"/>
          </a:xfrm>
        </p:grpSpPr>
        <p:sp>
          <p:nvSpPr>
            <p:cNvPr id="549" name="矩形 391"/>
            <p:cNvSpPr/>
            <p:nvPr/>
          </p:nvSpPr>
          <p:spPr>
            <a:xfrm>
              <a:off x="6786720" y="400068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0" name="TextBox 392"/>
            <p:cNvSpPr/>
            <p:nvPr/>
          </p:nvSpPr>
          <p:spPr>
            <a:xfrm>
              <a:off x="6858000" y="400068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组合 393"/>
          <p:cNvGrpSpPr/>
          <p:nvPr/>
        </p:nvGrpSpPr>
        <p:grpSpPr>
          <a:xfrm>
            <a:off x="6786720" y="4214880"/>
            <a:ext cx="2356920" cy="1428480"/>
            <a:chOff x="6786720" y="4214880"/>
            <a:chExt cx="2356920" cy="1428480"/>
          </a:xfrm>
        </p:grpSpPr>
        <p:sp>
          <p:nvSpPr>
            <p:cNvPr id="552" name="矩形 394"/>
            <p:cNvSpPr/>
            <p:nvPr/>
          </p:nvSpPr>
          <p:spPr>
            <a:xfrm>
              <a:off x="6786720" y="421488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3" name="TextBox 395"/>
            <p:cNvSpPr/>
            <p:nvPr/>
          </p:nvSpPr>
          <p:spPr>
            <a:xfrm>
              <a:off x="6858000" y="421488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组合 396"/>
          <p:cNvGrpSpPr/>
          <p:nvPr/>
        </p:nvGrpSpPr>
        <p:grpSpPr>
          <a:xfrm>
            <a:off x="6786720" y="4357800"/>
            <a:ext cx="2356920" cy="1428480"/>
            <a:chOff x="6786720" y="4357800"/>
            <a:chExt cx="2356920" cy="1428480"/>
          </a:xfrm>
        </p:grpSpPr>
        <p:sp>
          <p:nvSpPr>
            <p:cNvPr id="555" name="矩形 397"/>
            <p:cNvSpPr/>
            <p:nvPr/>
          </p:nvSpPr>
          <p:spPr>
            <a:xfrm>
              <a:off x="6786720" y="435780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6" name="TextBox 398"/>
            <p:cNvSpPr/>
            <p:nvPr/>
          </p:nvSpPr>
          <p:spPr>
            <a:xfrm>
              <a:off x="6858000" y="435780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组合 399"/>
          <p:cNvGrpSpPr/>
          <p:nvPr/>
        </p:nvGrpSpPr>
        <p:grpSpPr>
          <a:xfrm>
            <a:off x="6786720" y="4572000"/>
            <a:ext cx="2356920" cy="1428480"/>
            <a:chOff x="6786720" y="4572000"/>
            <a:chExt cx="2356920" cy="1428480"/>
          </a:xfrm>
        </p:grpSpPr>
        <p:sp>
          <p:nvSpPr>
            <p:cNvPr id="558" name="矩形 400"/>
            <p:cNvSpPr/>
            <p:nvPr/>
          </p:nvSpPr>
          <p:spPr>
            <a:xfrm>
              <a:off x="6786720" y="457200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59" name="TextBox 401"/>
            <p:cNvSpPr/>
            <p:nvPr/>
          </p:nvSpPr>
          <p:spPr>
            <a:xfrm>
              <a:off x="6858000" y="457200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组合 402"/>
          <p:cNvGrpSpPr/>
          <p:nvPr/>
        </p:nvGrpSpPr>
        <p:grpSpPr>
          <a:xfrm>
            <a:off x="6786720" y="4714920"/>
            <a:ext cx="2356920" cy="1428480"/>
            <a:chOff x="6786720" y="4714920"/>
            <a:chExt cx="2356920" cy="1428480"/>
          </a:xfrm>
        </p:grpSpPr>
        <p:sp>
          <p:nvSpPr>
            <p:cNvPr id="561" name="矩形 403"/>
            <p:cNvSpPr/>
            <p:nvPr/>
          </p:nvSpPr>
          <p:spPr>
            <a:xfrm>
              <a:off x="6786720" y="471492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2" name="TextBox 404"/>
            <p:cNvSpPr/>
            <p:nvPr/>
          </p:nvSpPr>
          <p:spPr>
            <a:xfrm>
              <a:off x="6858000" y="471492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组合 405"/>
          <p:cNvGrpSpPr/>
          <p:nvPr/>
        </p:nvGrpSpPr>
        <p:grpSpPr>
          <a:xfrm>
            <a:off x="6786720" y="4929120"/>
            <a:ext cx="2356920" cy="1428480"/>
            <a:chOff x="6786720" y="4929120"/>
            <a:chExt cx="2356920" cy="1428480"/>
          </a:xfrm>
        </p:grpSpPr>
        <p:sp>
          <p:nvSpPr>
            <p:cNvPr id="564" name="矩形 406"/>
            <p:cNvSpPr/>
            <p:nvPr/>
          </p:nvSpPr>
          <p:spPr>
            <a:xfrm>
              <a:off x="6786720" y="492912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5" name="TextBox 407"/>
            <p:cNvSpPr/>
            <p:nvPr/>
          </p:nvSpPr>
          <p:spPr>
            <a:xfrm>
              <a:off x="6858000" y="492912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组合 408"/>
          <p:cNvGrpSpPr/>
          <p:nvPr/>
        </p:nvGrpSpPr>
        <p:grpSpPr>
          <a:xfrm>
            <a:off x="6786720" y="5072040"/>
            <a:ext cx="2356920" cy="1428480"/>
            <a:chOff x="6786720" y="5072040"/>
            <a:chExt cx="2356920" cy="1428480"/>
          </a:xfrm>
        </p:grpSpPr>
        <p:sp>
          <p:nvSpPr>
            <p:cNvPr id="567" name="矩形 409"/>
            <p:cNvSpPr/>
            <p:nvPr/>
          </p:nvSpPr>
          <p:spPr>
            <a:xfrm>
              <a:off x="6786720" y="507204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68" name="TextBox 410"/>
            <p:cNvSpPr/>
            <p:nvPr/>
          </p:nvSpPr>
          <p:spPr>
            <a:xfrm>
              <a:off x="6858000" y="507204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411"/>
          <p:cNvGrpSpPr/>
          <p:nvPr/>
        </p:nvGrpSpPr>
        <p:grpSpPr>
          <a:xfrm>
            <a:off x="6786720" y="5214960"/>
            <a:ext cx="2356920" cy="1428480"/>
            <a:chOff x="6786720" y="5214960"/>
            <a:chExt cx="2356920" cy="1428480"/>
          </a:xfrm>
        </p:grpSpPr>
        <p:sp>
          <p:nvSpPr>
            <p:cNvPr id="570" name="矩形 412"/>
            <p:cNvSpPr/>
            <p:nvPr/>
          </p:nvSpPr>
          <p:spPr>
            <a:xfrm>
              <a:off x="6786720" y="52149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1" name="TextBox 413"/>
            <p:cNvSpPr/>
            <p:nvPr/>
          </p:nvSpPr>
          <p:spPr>
            <a:xfrm>
              <a:off x="6858000" y="52149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组合 414"/>
          <p:cNvGrpSpPr/>
          <p:nvPr/>
        </p:nvGrpSpPr>
        <p:grpSpPr>
          <a:xfrm>
            <a:off x="6786720" y="5429160"/>
            <a:ext cx="2356920" cy="1428480"/>
            <a:chOff x="6786720" y="5429160"/>
            <a:chExt cx="2356920" cy="1428480"/>
          </a:xfrm>
        </p:grpSpPr>
        <p:sp>
          <p:nvSpPr>
            <p:cNvPr id="573" name="矩形 415"/>
            <p:cNvSpPr/>
            <p:nvPr/>
          </p:nvSpPr>
          <p:spPr>
            <a:xfrm>
              <a:off x="6786720" y="5429160"/>
              <a:ext cx="2356920" cy="142848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4" name="TextBox 416"/>
            <p:cNvSpPr/>
            <p:nvPr/>
          </p:nvSpPr>
          <p:spPr>
            <a:xfrm>
              <a:off x="6858000" y="5429160"/>
              <a:ext cx="228564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176"/>
                                        </p:tgtEl>
                                      </p:cBhvr>
                                      <p:by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" dur="2000" fill="hold"/>
                                        <p:tgtEl>
                                          <p:spTgt spid="175"/>
                                        </p:tgtEl>
                                      </p:cBhvr>
                                      <p:by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3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33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3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36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3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39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42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3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45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3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48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3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1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3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54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3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57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3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6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63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3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66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3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69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3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72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3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75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3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78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3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81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3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84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3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87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3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9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3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93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3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96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3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99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3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2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3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5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3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8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3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11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3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14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3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17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3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2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3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23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3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26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3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29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3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32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3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35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3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38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3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41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3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44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3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47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3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5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3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530"/>
                            </p:stCondLst>
                            <p:childTnLst>
                              <p:par>
                                <p:cTn id="3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3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56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3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59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3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62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3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65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3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68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3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71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3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74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3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77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3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8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3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83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3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86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3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89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3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92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3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95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3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980"/>
                            </p:stCondLst>
                            <p:childTnLst>
                              <p:par>
                                <p:cTn id="4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3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6010"/>
                            </p:stCondLst>
                            <p:childTnLst>
                              <p:par>
                                <p:cTn id="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3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04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3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07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3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1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3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13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3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16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3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619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3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22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3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625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3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628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3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31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3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34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3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637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3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4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3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643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3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646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3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6490"/>
                            </p:stCondLst>
                            <p:childTnLst>
                              <p:par>
                                <p:cTn id="5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3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520"/>
                            </p:stCondLst>
                            <p:childTnLst>
                              <p:par>
                                <p:cTn id="5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3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655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3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6580"/>
                            </p:stCondLst>
                            <p:childTnLst>
                              <p:par>
                                <p:cTn id="5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3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6610"/>
                            </p:stCondLst>
                            <p:childTnLst>
                              <p:par>
                                <p:cTn id="5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3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6640"/>
                            </p:stCondLst>
                            <p:childTnLst>
                              <p:par>
                                <p:cTn id="5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3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6670"/>
                            </p:stCondLst>
                            <p:childTnLst>
                              <p:par>
                                <p:cTn id="5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3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6700"/>
                            </p:stCondLst>
                            <p:childTnLst>
                              <p:par>
                                <p:cTn id="5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3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6730"/>
                            </p:stCondLst>
                            <p:childTnLst>
                              <p:par>
                                <p:cTn id="5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3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6760"/>
                            </p:stCondLst>
                            <p:childTnLst>
                              <p:par>
                                <p:cTn id="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3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6790"/>
                            </p:stCondLst>
                            <p:childTnLst>
                              <p:par>
                                <p:cTn id="5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3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6820"/>
                            </p:stCondLst>
                            <p:childTnLst>
                              <p:par>
                                <p:cTn id="5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3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685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3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880"/>
                            </p:stCondLst>
                            <p:childTnLst>
                              <p:par>
                                <p:cTn id="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3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6910"/>
                            </p:stCondLst>
                            <p:childTnLst>
                              <p:par>
                                <p:cTn id="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3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694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3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6970"/>
                            </p:stCondLst>
                            <p:childTnLst>
                              <p:par>
                                <p:cTn id="5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3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70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3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7030"/>
                            </p:stCondLst>
                            <p:childTnLst>
                              <p:par>
                                <p:cTn id="5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3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7060"/>
                            </p:stCondLst>
                            <p:childTnLst>
                              <p:par>
                                <p:cTn id="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3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709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3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7120"/>
                            </p:stCondLst>
                            <p:childTnLst>
                              <p:par>
                                <p:cTn id="5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3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7150"/>
                            </p:stCondLst>
                            <p:childTnLst>
                              <p:par>
                                <p:cTn id="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3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18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3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210"/>
                            </p:stCondLst>
                            <p:childTnLst>
                              <p:par>
                                <p:cTn id="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3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7240"/>
                            </p:stCondLst>
                            <p:childTnLst>
                              <p:par>
                                <p:cTn id="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3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727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3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7300"/>
                            </p:stCondLst>
                            <p:childTnLst>
                              <p:par>
                                <p:cTn id="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3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7330"/>
                            </p:stCondLst>
                            <p:childTnLst>
                              <p:par>
                                <p:cTn id="6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3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7360"/>
                            </p:stCondLst>
                            <p:childTnLst>
                              <p:par>
                                <p:cTn id="6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3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7390"/>
                            </p:stCondLst>
                            <p:childTnLst>
                              <p:par>
                                <p:cTn id="6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3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7420"/>
                            </p:stCondLst>
                            <p:childTnLst>
                              <p:par>
                                <p:cTn id="6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3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7450"/>
                            </p:stCondLst>
                            <p:childTnLst>
                              <p:par>
                                <p:cTn id="6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3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7480"/>
                            </p:stCondLst>
                            <p:childTnLst>
                              <p:par>
                                <p:cTn id="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3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7510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3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754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3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7570"/>
                            </p:stCondLst>
                            <p:childTnLst>
                              <p:par>
                                <p:cTn id="6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3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7600"/>
                            </p:stCondLst>
                            <p:childTnLst>
                              <p:par>
                                <p:cTn id="6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3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7630"/>
                            </p:stCondLst>
                            <p:childTnLst>
                              <p:par>
                                <p:cTn id="6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3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7660"/>
                            </p:stCondLst>
                            <p:childTnLst>
                              <p:par>
                                <p:cTn id="6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3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7690"/>
                            </p:stCondLst>
                            <p:childTnLst>
                              <p:par>
                                <p:cTn id="6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3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772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3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7750"/>
                            </p:stCondLst>
                            <p:childTnLst>
                              <p:par>
                                <p:cTn id="6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3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7780"/>
                            </p:stCondLst>
                            <p:childTnLst>
                              <p:par>
                                <p:cTn id="6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3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7810"/>
                            </p:stCondLst>
                            <p:childTnLst>
                              <p:par>
                                <p:cTn id="6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3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7840"/>
                            </p:stCondLst>
                            <p:childTnLst>
                              <p:par>
                                <p:cTn id="6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3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7870"/>
                            </p:stCondLst>
                            <p:childTnLst>
                              <p:par>
                                <p:cTn id="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3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79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3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7930"/>
                            </p:stCondLst>
                            <p:childTnLst>
                              <p:par>
                                <p:cTn id="7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3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7960"/>
                            </p:stCondLst>
                            <p:childTnLst>
                              <p:par>
                                <p:cTn id="7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3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799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3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8020"/>
                            </p:stCondLst>
                            <p:childTnLst>
                              <p:par>
                                <p:cTn id="7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3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8050"/>
                            </p:stCondLst>
                            <p:childTnLst>
                              <p:par>
                                <p:cTn id="7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3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808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3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8109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3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8140"/>
                            </p:stCondLst>
                            <p:childTnLst>
                              <p:par>
                                <p:cTn id="7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3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8170"/>
                            </p:stCondLst>
                            <p:childTnLst>
                              <p:par>
                                <p:cTn id="7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3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8200"/>
                            </p:stCondLst>
                            <p:childTnLst>
                              <p:par>
                                <p:cTn id="7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3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8230"/>
                            </p:stCondLst>
                            <p:childTnLst>
                              <p:par>
                                <p:cTn id="7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3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Box 1"/>
          <p:cNvSpPr/>
          <p:nvPr/>
        </p:nvSpPr>
        <p:spPr>
          <a:xfrm>
            <a:off x="0" y="0"/>
            <a:ext cx="2071440" cy="46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0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9"/>
          <p:cNvSpPr/>
          <p:nvPr/>
        </p:nvSpPr>
        <p:spPr>
          <a:xfrm>
            <a:off x="1785960" y="1643040"/>
            <a:ext cx="1571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积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10"/>
          <p:cNvSpPr/>
          <p:nvPr/>
        </p:nvSpPr>
        <p:spPr>
          <a:xfrm>
            <a:off x="1571760" y="2428920"/>
            <a:ext cx="19998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同心圆 15"/>
          <p:cNvSpPr/>
          <p:nvPr/>
        </p:nvSpPr>
        <p:spPr>
          <a:xfrm>
            <a:off x="4429080" y="2571840"/>
            <a:ext cx="3285720" cy="3285720"/>
          </a:xfrm>
          <a:prstGeom prst="donut">
            <a:avLst>
              <a:gd name="adj" fmla="val 2914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椭圆 16"/>
          <p:cNvSpPr/>
          <p:nvPr/>
        </p:nvSpPr>
        <p:spPr>
          <a:xfrm>
            <a:off x="4786200" y="3214800"/>
            <a:ext cx="2499840" cy="4536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0" name="椭圆 17"/>
          <p:cNvSpPr/>
          <p:nvPr/>
        </p:nvSpPr>
        <p:spPr>
          <a:xfrm>
            <a:off x="4572000" y="3786120"/>
            <a:ext cx="2999880" cy="7092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1" name="椭圆 18"/>
          <p:cNvSpPr/>
          <p:nvPr/>
        </p:nvSpPr>
        <p:spPr>
          <a:xfrm>
            <a:off x="4500720" y="4429080"/>
            <a:ext cx="3142800" cy="7092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2" name="椭圆 19"/>
          <p:cNvSpPr/>
          <p:nvPr/>
        </p:nvSpPr>
        <p:spPr>
          <a:xfrm>
            <a:off x="4786200" y="5072040"/>
            <a:ext cx="2499840" cy="7092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3" name="椭圆 20"/>
          <p:cNvSpPr/>
          <p:nvPr/>
        </p:nvSpPr>
        <p:spPr>
          <a:xfrm>
            <a:off x="4786200" y="3429000"/>
            <a:ext cx="70920" cy="1642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4" name="椭圆 21"/>
          <p:cNvSpPr/>
          <p:nvPr/>
        </p:nvSpPr>
        <p:spPr>
          <a:xfrm>
            <a:off x="5286240" y="2857320"/>
            <a:ext cx="70920" cy="264276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5" name="椭圆 22"/>
          <p:cNvSpPr/>
          <p:nvPr/>
        </p:nvSpPr>
        <p:spPr>
          <a:xfrm>
            <a:off x="5857920" y="2643120"/>
            <a:ext cx="70920" cy="314280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6" name="椭圆 23"/>
          <p:cNvSpPr/>
          <p:nvPr/>
        </p:nvSpPr>
        <p:spPr>
          <a:xfrm>
            <a:off x="6500880" y="2714760"/>
            <a:ext cx="70920" cy="307152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7" name="椭圆 24"/>
          <p:cNvSpPr/>
          <p:nvPr/>
        </p:nvSpPr>
        <p:spPr>
          <a:xfrm>
            <a:off x="7000920" y="3000240"/>
            <a:ext cx="70920" cy="249984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8" name="新月形 28"/>
          <p:cNvSpPr/>
          <p:nvPr/>
        </p:nvSpPr>
        <p:spPr>
          <a:xfrm rot="5656800">
            <a:off x="5480280" y="1204560"/>
            <a:ext cx="1428480" cy="1714320"/>
          </a:xfrm>
          <a:prstGeom prst="moon">
            <a:avLst>
              <a:gd name="adj" fmla="val 22572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9" name="新月形 29"/>
          <p:cNvSpPr/>
          <p:nvPr/>
        </p:nvSpPr>
        <p:spPr>
          <a:xfrm rot="9525000">
            <a:off x="7191720" y="2486520"/>
            <a:ext cx="1428480" cy="1714320"/>
          </a:xfrm>
          <a:prstGeom prst="moon">
            <a:avLst>
              <a:gd name="adj" fmla="val 22572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0" name="新月形 30"/>
          <p:cNvSpPr/>
          <p:nvPr/>
        </p:nvSpPr>
        <p:spPr>
          <a:xfrm rot="12904200">
            <a:off x="7187760" y="4598640"/>
            <a:ext cx="1428480" cy="1714320"/>
          </a:xfrm>
          <a:prstGeom prst="moon">
            <a:avLst>
              <a:gd name="adj" fmla="val 22572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1" name="新月形 31"/>
          <p:cNvSpPr/>
          <p:nvPr/>
        </p:nvSpPr>
        <p:spPr>
          <a:xfrm rot="16646400">
            <a:off x="5157000" y="5534640"/>
            <a:ext cx="1428480" cy="1714320"/>
          </a:xfrm>
          <a:prstGeom prst="moon">
            <a:avLst>
              <a:gd name="adj" fmla="val 22572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2" name="新月形 32"/>
          <p:cNvSpPr/>
          <p:nvPr/>
        </p:nvSpPr>
        <p:spPr>
          <a:xfrm rot="20275200">
            <a:off x="3340440" y="4277520"/>
            <a:ext cx="1427760" cy="1707480"/>
          </a:xfrm>
          <a:prstGeom prst="moon">
            <a:avLst>
              <a:gd name="adj" fmla="val 22572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3" name="新月形 33"/>
          <p:cNvSpPr/>
          <p:nvPr/>
        </p:nvSpPr>
        <p:spPr>
          <a:xfrm rot="2077800">
            <a:off x="3503520" y="2182680"/>
            <a:ext cx="1428480" cy="1714320"/>
          </a:xfrm>
          <a:prstGeom prst="moon">
            <a:avLst>
              <a:gd name="adj" fmla="val 22572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8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8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8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8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5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150"/>
                            </p:stCondLst>
                            <p:childTnLst>
                              <p:par>
                                <p:cTn id="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15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30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15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45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15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6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15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750"/>
                            </p:stCondLst>
                            <p:childTnLst>
                              <p:par>
                                <p:cTn id="7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15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90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15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050"/>
                            </p:stCondLst>
                            <p:childTnLst>
                              <p:par>
                                <p:cTn id="7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15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2200"/>
                            </p:stCondLst>
                            <p:childTnLst>
                              <p:par>
                                <p:cTn id="7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15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350"/>
                            </p:stCondLst>
                            <p:childTnLst>
                              <p:par>
                                <p:cTn id="7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15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3300"/>
                            </p:stCondLst>
                            <p:childTnLst>
                              <p:par>
                                <p:cTn id="833" nodeType="after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34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0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Box 2"/>
          <p:cNvSpPr/>
          <p:nvPr/>
        </p:nvSpPr>
        <p:spPr>
          <a:xfrm>
            <a:off x="7215120" y="571320"/>
            <a:ext cx="928440" cy="31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3"/>
          <p:cNvSpPr/>
          <p:nvPr/>
        </p:nvSpPr>
        <p:spPr>
          <a:xfrm>
            <a:off x="5500800" y="1857240"/>
            <a:ext cx="1571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热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4"/>
          <p:cNvSpPr/>
          <p:nvPr/>
        </p:nvSpPr>
        <p:spPr>
          <a:xfrm>
            <a:off x="4429080" y="2571840"/>
            <a:ext cx="2999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Enthusia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图片 5" descr="未标题-11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-428760" y="3071880"/>
            <a:ext cx="4643280" cy="464328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6" descr="未命名.jpg"/>
          <p:cNvPicPr/>
          <p:nvPr/>
        </p:nvPicPr>
        <p:blipFill>
          <a:blip r:embed="rId2"/>
          <a:stretch/>
        </p:blipFill>
        <p:spPr>
          <a:xfrm rot="2088000">
            <a:off x="3709800" y="4912200"/>
            <a:ext cx="571320" cy="41220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8" descr="未标题-22.jpg"/>
          <p:cNvPicPr/>
          <p:nvPr/>
        </p:nvPicPr>
        <p:blipFill>
          <a:blip r:embed="rId3"/>
          <a:stretch/>
        </p:blipFill>
        <p:spPr>
          <a:xfrm rot="311400">
            <a:off x="1999800" y="4500720"/>
            <a:ext cx="3285720" cy="32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3000000">
                                      <p:cBhvr>
                                        <p:cTn id="858" dur="3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8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900000">
                                      <p:cBhvr>
                                        <p:cTn id="860" dur="25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1" nodeType="withEffect" fill="hold" presetClass="emph" presetID="8">
                                  <p:stCondLst>
                                    <p:cond delay="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600000">
                                      <p:cBhvr>
                                        <p:cTn id="862" dur="3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0" dur="250" autoRev="1" fill="hold"/>
                                        <p:tgtEl>
                                          <p:spTgt spid="59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7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2" dur="500" fill="hold"/>
                                        <p:tgtEl>
                                          <p:spTgt spid="595"/>
                                        </p:tgtEl>
                                      </p:cBhvr>
                                      <p:by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3600000">
                                      <p:cBhvr>
                                        <p:cTn id="88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884" dur="1000" fill="hold"/>
                                        <p:tgtEl>
                                          <p:spTgt spid="598"/>
                                        </p:tgtEl>
                                      </p:cBhvr>
                                      <p:by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6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800000">
                                      <p:cBhvr>
                                        <p:cTn id="889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组合 18"/>
          <p:cNvGrpSpPr/>
          <p:nvPr/>
        </p:nvGrpSpPr>
        <p:grpSpPr>
          <a:xfrm>
            <a:off x="3929040" y="2143080"/>
            <a:ext cx="1071360" cy="721080"/>
            <a:chOff x="3929040" y="2143080"/>
            <a:chExt cx="1071360" cy="721080"/>
          </a:xfrm>
        </p:grpSpPr>
        <p:sp>
          <p:nvSpPr>
            <p:cNvPr id="601" name="TextBox 16"/>
            <p:cNvSpPr/>
            <p:nvPr/>
          </p:nvSpPr>
          <p:spPr>
            <a:xfrm>
              <a:off x="4071960" y="2143080"/>
              <a:ext cx="7855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细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Box 17"/>
            <p:cNvSpPr/>
            <p:nvPr/>
          </p:nvSpPr>
          <p:spPr>
            <a:xfrm>
              <a:off x="3929040" y="2500200"/>
              <a:ext cx="1071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aref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组合 21"/>
          <p:cNvGrpSpPr/>
          <p:nvPr/>
        </p:nvGrpSpPr>
        <p:grpSpPr>
          <a:xfrm>
            <a:off x="-1936440" y="3387600"/>
            <a:ext cx="5365080" cy="4439880"/>
            <a:chOff x="-1936440" y="3387600"/>
            <a:chExt cx="5365080" cy="4439880"/>
          </a:xfrm>
        </p:grpSpPr>
        <p:sp>
          <p:nvSpPr>
            <p:cNvPr id="604" name="同心圆 19"/>
            <p:cNvSpPr/>
            <p:nvPr/>
          </p:nvSpPr>
          <p:spPr>
            <a:xfrm>
              <a:off x="428760" y="3387600"/>
              <a:ext cx="2999880" cy="2999880"/>
            </a:xfrm>
            <a:prstGeom prst="donut">
              <a:avLst>
                <a:gd name="adj" fmla="val 4158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梯形 20"/>
            <p:cNvSpPr/>
            <p:nvPr/>
          </p:nvSpPr>
          <p:spPr>
            <a:xfrm rot="3274800">
              <a:off x="-701640" y="5142960"/>
              <a:ext cx="356760" cy="3214440"/>
            </a:xfrm>
            <a:prstGeom prst="trapezoid">
              <a:avLst>
                <a:gd name="adj" fmla="val 25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06" name="TextBox 22"/>
          <p:cNvSpPr/>
          <p:nvPr/>
        </p:nvSpPr>
        <p:spPr>
          <a:xfrm>
            <a:off x="3786120" y="0"/>
            <a:ext cx="214272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25" descr="未命名.png"/>
          <p:cNvPicPr/>
          <p:nvPr/>
        </p:nvPicPr>
        <p:blipFill>
          <a:blip r:embed="rId1"/>
          <a:stretch/>
        </p:blipFill>
        <p:spPr>
          <a:xfrm>
            <a:off x="2643120" y="1214280"/>
            <a:ext cx="3142800" cy="31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0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xit" presetID="2" presetSubtype="1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9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2200"/>
                            </p:stCondLst>
                            <p:childTnLst>
                              <p:par>
                                <p:cTn id="9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path" presetID="56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711 0.0104 L 0.25711 -0.32254 E">
                                      <p:cBhvr>
                                        <p:cTn id="91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916" dur="200" fill="hold"/>
                                        <p:tgtEl>
                                          <p:spTgt spid="600"/>
                                        </p:tgtEl>
                                      </p:cBhvr>
                                      <p:by x="260000" y="260000"/>
                                    </p:animScale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5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图片 31" descr="未标题-1.jpg"/>
          <p:cNvPicPr/>
          <p:nvPr/>
        </p:nvPicPr>
        <p:blipFill>
          <a:blip r:embed="rId1"/>
          <a:stretch/>
        </p:blipFill>
        <p:spPr>
          <a:xfrm>
            <a:off x="1857240" y="-801720"/>
            <a:ext cx="11929680" cy="16875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7" descr="D:\Betsy葛\1\黑色的音乐符.png"/>
          <p:cNvPicPr/>
          <p:nvPr/>
        </p:nvPicPr>
        <p:blipFill>
          <a:blip r:embed="rId2"/>
          <a:stretch/>
        </p:blipFill>
        <p:spPr>
          <a:xfrm rot="13964400">
            <a:off x="4665600" y="7404120"/>
            <a:ext cx="444240" cy="6570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4" descr="D:\Betsy葛\1\未标题-2.png"/>
          <p:cNvPicPr/>
          <p:nvPr/>
        </p:nvPicPr>
        <p:blipFill>
          <a:blip r:embed="rId3"/>
          <a:stretch/>
        </p:blipFill>
        <p:spPr>
          <a:xfrm rot="237000">
            <a:off x="3687480" y="497520"/>
            <a:ext cx="4343400" cy="7568640"/>
          </a:xfrm>
          <a:prstGeom prst="rect">
            <a:avLst/>
          </a:prstGeom>
          <a:ln w="0">
            <a:noFill/>
          </a:ln>
        </p:spPr>
      </p:pic>
      <p:grpSp>
        <p:nvGrpSpPr>
          <p:cNvPr id="611" name="组合 15"/>
          <p:cNvGrpSpPr/>
          <p:nvPr/>
        </p:nvGrpSpPr>
        <p:grpSpPr>
          <a:xfrm>
            <a:off x="7561800" y="-285480"/>
            <a:ext cx="1326240" cy="1127880"/>
            <a:chOff x="7561800" y="-285480"/>
            <a:chExt cx="1326240" cy="1127880"/>
          </a:xfrm>
        </p:grpSpPr>
        <p:grpSp>
          <p:nvGrpSpPr>
            <p:cNvPr id="612" name="组合 13"/>
            <p:cNvGrpSpPr/>
            <p:nvPr/>
          </p:nvGrpSpPr>
          <p:grpSpPr>
            <a:xfrm>
              <a:off x="7561800" y="-127440"/>
              <a:ext cx="1326240" cy="969840"/>
              <a:chOff x="7561800" y="-127440"/>
              <a:chExt cx="1326240" cy="969840"/>
            </a:xfrm>
          </p:grpSpPr>
          <p:sp>
            <p:nvSpPr>
              <p:cNvPr id="613" name="梯形 6"/>
              <p:cNvSpPr/>
              <p:nvPr/>
            </p:nvSpPr>
            <p:spPr>
              <a:xfrm rot="1944000">
                <a:off x="7520040" y="230400"/>
                <a:ext cx="1409760" cy="254160"/>
              </a:xfrm>
              <a:prstGeom prst="trapezoid">
                <a:avLst>
                  <a:gd name="adj" fmla="val 25000"/>
                </a:avLst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14" name="流程图: 可选过程 12"/>
              <p:cNvSpPr/>
              <p:nvPr/>
            </p:nvSpPr>
            <p:spPr>
              <a:xfrm rot="1944000">
                <a:off x="7600680" y="456840"/>
                <a:ext cx="1057320" cy="101520"/>
              </a:xfrm>
              <a:prstGeom prst="flowChartAlternateProcess">
                <a:avLst/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15" name="矩形 14"/>
            <p:cNvSpPr/>
            <p:nvPr/>
          </p:nvSpPr>
          <p:spPr>
            <a:xfrm rot="1944000">
              <a:off x="8408520" y="-326880"/>
              <a:ext cx="37080" cy="66096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16" name="组合 26"/>
          <p:cNvGrpSpPr/>
          <p:nvPr/>
        </p:nvGrpSpPr>
        <p:grpSpPr>
          <a:xfrm>
            <a:off x="2000160" y="4572000"/>
            <a:ext cx="4572000" cy="2643120"/>
            <a:chOff x="2000160" y="4572000"/>
            <a:chExt cx="4572000" cy="2643120"/>
          </a:xfrm>
        </p:grpSpPr>
        <p:sp>
          <p:nvSpPr>
            <p:cNvPr id="617" name="椭圆 20"/>
            <p:cNvSpPr/>
            <p:nvPr/>
          </p:nvSpPr>
          <p:spPr>
            <a:xfrm>
              <a:off x="2000160" y="4572000"/>
              <a:ext cx="3564360" cy="2642760"/>
            </a:xfrm>
            <a:prstGeom prst="ellipse">
              <a:avLst/>
            </a:prstGeom>
            <a:solidFill>
              <a:schemeClr val="bg2">
                <a:alpha val="82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8" name="椭圆 21"/>
            <p:cNvSpPr/>
            <p:nvPr/>
          </p:nvSpPr>
          <p:spPr>
            <a:xfrm>
              <a:off x="4557600" y="5424840"/>
              <a:ext cx="2014560" cy="1790280"/>
            </a:xfrm>
            <a:prstGeom prst="ellipse">
              <a:avLst/>
            </a:prstGeom>
            <a:solidFill>
              <a:schemeClr val="bg2">
                <a:alpha val="8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619" name="Picture 7" descr="D:\Betsy葛\1\黑色的音乐符.png"/>
          <p:cNvPicPr/>
          <p:nvPr/>
        </p:nvPicPr>
        <p:blipFill>
          <a:blip r:embed="rId4"/>
          <a:stretch/>
        </p:blipFill>
        <p:spPr>
          <a:xfrm>
            <a:off x="6786720" y="7215120"/>
            <a:ext cx="593640" cy="401400"/>
          </a:xfrm>
          <a:prstGeom prst="rect">
            <a:avLst/>
          </a:prstGeom>
          <a:ln w="0">
            <a:noFill/>
          </a:ln>
        </p:spPr>
      </p:pic>
      <p:sp>
        <p:nvSpPr>
          <p:cNvPr id="620" name="椭圆 23"/>
          <p:cNvSpPr/>
          <p:nvPr/>
        </p:nvSpPr>
        <p:spPr>
          <a:xfrm>
            <a:off x="4714920" y="3571920"/>
            <a:ext cx="1714320" cy="1714320"/>
          </a:xfrm>
          <a:prstGeom prst="ellipse">
            <a:avLst/>
          </a:prstGeom>
          <a:solidFill>
            <a:schemeClr val="bg2">
              <a:alpha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1" name="TextBox 28"/>
          <p:cNvSpPr/>
          <p:nvPr/>
        </p:nvSpPr>
        <p:spPr>
          <a:xfrm>
            <a:off x="0" y="2428920"/>
            <a:ext cx="1642680" cy="46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0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29"/>
          <p:cNvSpPr/>
          <p:nvPr/>
        </p:nvSpPr>
        <p:spPr>
          <a:xfrm>
            <a:off x="571320" y="1500120"/>
            <a:ext cx="1428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自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30"/>
          <p:cNvSpPr/>
          <p:nvPr/>
        </p:nvSpPr>
        <p:spPr>
          <a:xfrm>
            <a:off x="357120" y="2214720"/>
            <a:ext cx="4428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lf-conf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19 -0.04938 L -3.61111E-006 -4.44444E-006 E">
                                      <p:cBhvr>
                                        <p:cTn id="931" dur="2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3" nodeType="withEffect" fill="hold" presetClass="path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9305 -0.01421 C -0.09444 -0.03244 -0.09652 -0.04974 -0.09878 -0.06704 C -0.10312 -0.10875 -0.12448 -0.18258 -0.11632 -0.2283 C -0.10816 -0.27402 -0.06927 -0.30831 -0.04965 -0.34137 C -0.03003 -0.37442 -0.00382 -0.38987 0.00122 -0.42601 C 0.00625 -0.46216 -0.02743 -0.51406 -0.01944 -0.55885 C -0.01145 -0.60365 0.0349 -0.66636 0.04914 -0.69478 E">
                                      <p:cBhvr>
                                        <p:cTn id="944" dur="32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5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946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2" presetSubtype="1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8" dur="20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20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path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2066 0.09028 C 0.01927 0.07199 0.01719 0.05486 0.01493 0.0375 C 0.01059 -0.00416 0.0059 -0.10416 0.01493 -0.17477 C 0.02083 -0.24653 0.02569 -0.3243 0.05035 -0.39328 C 0.075 -0.4625 0.13941 -0.54884 0.16285 -0.58958 E">
                                      <p:cBhvr>
                                        <p:cTn id="952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5400000">
                                      <p:cBhvr>
                                        <p:cTn id="954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2" presetSubtype="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6" dur="30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0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3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9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3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Box 1"/>
          <p:cNvSpPr/>
          <p:nvPr/>
        </p:nvSpPr>
        <p:spPr>
          <a:xfrm>
            <a:off x="6215040" y="4286160"/>
            <a:ext cx="2071440" cy="46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0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9" descr="小小.png"/>
          <p:cNvPicPr/>
          <p:nvPr/>
        </p:nvPicPr>
        <p:blipFill>
          <a:blip r:embed="rId1"/>
          <a:stretch/>
        </p:blipFill>
        <p:spPr>
          <a:xfrm>
            <a:off x="1643040" y="4124520"/>
            <a:ext cx="1113840" cy="116172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10" descr="小小.png"/>
          <p:cNvPicPr/>
          <p:nvPr/>
        </p:nvPicPr>
        <p:blipFill>
          <a:blip r:embed="rId2"/>
          <a:stretch/>
        </p:blipFill>
        <p:spPr>
          <a:xfrm>
            <a:off x="214200" y="4000680"/>
            <a:ext cx="1506960" cy="1571400"/>
          </a:xfrm>
          <a:prstGeom prst="rect">
            <a:avLst/>
          </a:prstGeom>
          <a:ln w="0">
            <a:noFill/>
          </a:ln>
        </p:spPr>
      </p:pic>
      <p:grpSp>
        <p:nvGrpSpPr>
          <p:cNvPr id="627" name="组合 15"/>
          <p:cNvGrpSpPr/>
          <p:nvPr/>
        </p:nvGrpSpPr>
        <p:grpSpPr>
          <a:xfrm>
            <a:off x="7433280" y="0"/>
            <a:ext cx="635760" cy="5455440"/>
            <a:chOff x="7433280" y="0"/>
            <a:chExt cx="635760" cy="5455440"/>
          </a:xfrm>
        </p:grpSpPr>
        <p:sp>
          <p:nvSpPr>
            <p:cNvPr id="628" name="矩形 11"/>
            <p:cNvSpPr/>
            <p:nvPr/>
          </p:nvSpPr>
          <p:spPr>
            <a:xfrm>
              <a:off x="7790040" y="0"/>
              <a:ext cx="70920" cy="500040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9" name="新月形 14"/>
            <p:cNvSpPr/>
            <p:nvPr/>
          </p:nvSpPr>
          <p:spPr>
            <a:xfrm rot="13124400">
              <a:off x="7572600" y="4835160"/>
              <a:ext cx="356760" cy="571320"/>
            </a:xfrm>
            <a:prstGeom prst="moon">
              <a:avLst>
                <a:gd name="adj" fmla="val 39685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30" name="组合 18"/>
          <p:cNvGrpSpPr/>
          <p:nvPr/>
        </p:nvGrpSpPr>
        <p:grpSpPr>
          <a:xfrm>
            <a:off x="2286000" y="1140120"/>
            <a:ext cx="5098320" cy="1608840"/>
            <a:chOff x="2286000" y="1140120"/>
            <a:chExt cx="5098320" cy="1608840"/>
          </a:xfrm>
        </p:grpSpPr>
        <p:sp>
          <p:nvSpPr>
            <p:cNvPr id="631" name="TextBox 16"/>
            <p:cNvSpPr/>
            <p:nvPr/>
          </p:nvSpPr>
          <p:spPr>
            <a:xfrm rot="8400">
              <a:off x="3261960" y="1142640"/>
              <a:ext cx="22658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合作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17"/>
            <p:cNvSpPr/>
            <p:nvPr/>
          </p:nvSpPr>
          <p:spPr>
            <a:xfrm>
              <a:off x="2286000" y="1928160"/>
              <a:ext cx="50983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orporatio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0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980" dur="5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982" dur="487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3" nodeType="withEffect" fill="hold" presetClass="path" presetID="64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72222E-006 -2.96296E-006 L 0.0073 -0.39421 E">
                                      <p:cBhvr>
                                        <p:cTn id="984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5" nodeType="withEffect" fill="hold" presetClass="path" presetID="64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94444E-006 2.96296E-006 L -0.00156 -0.41574 E">
                                      <p:cBhvr>
                                        <p:cTn id="986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7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1200000">
                                      <p:cBhvr>
                                        <p:cTn id="988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9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2100000">
                                      <p:cBhvr>
                                        <p:cTn id="99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1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00000">
                                      <p:cBhvr>
                                        <p:cTn id="992" dur="1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3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-1200000">
                                      <p:cBhvr>
                                        <p:cTn id="994" dur="2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3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3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mph" presetID="3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002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03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04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005" dur="1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  <p:animRot by="120000">
                                      <p:cBhvr>
                                        <p:cTn id="10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矩形 5"/>
          <p:cNvSpPr/>
          <p:nvPr/>
        </p:nvSpPr>
        <p:spPr>
          <a:xfrm>
            <a:off x="3422160" y="2071800"/>
            <a:ext cx="999720" cy="9997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4" name="矩形 1"/>
          <p:cNvSpPr/>
          <p:nvPr/>
        </p:nvSpPr>
        <p:spPr>
          <a:xfrm>
            <a:off x="4500720" y="1000080"/>
            <a:ext cx="999720" cy="999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5" name="矩形 2"/>
          <p:cNvSpPr/>
          <p:nvPr/>
        </p:nvSpPr>
        <p:spPr>
          <a:xfrm>
            <a:off x="3429000" y="1000080"/>
            <a:ext cx="999720" cy="999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6" name="矩形 4"/>
          <p:cNvSpPr/>
          <p:nvPr/>
        </p:nvSpPr>
        <p:spPr>
          <a:xfrm>
            <a:off x="4500720" y="4214880"/>
            <a:ext cx="999720" cy="999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7" name="矩形 3"/>
          <p:cNvSpPr/>
          <p:nvPr/>
        </p:nvSpPr>
        <p:spPr>
          <a:xfrm>
            <a:off x="2357280" y="1000080"/>
            <a:ext cx="999720" cy="999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8" name="矩形 24"/>
          <p:cNvSpPr/>
          <p:nvPr/>
        </p:nvSpPr>
        <p:spPr>
          <a:xfrm>
            <a:off x="5572080" y="1000080"/>
            <a:ext cx="999720" cy="9997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9" name="矩形 25"/>
          <p:cNvSpPr/>
          <p:nvPr/>
        </p:nvSpPr>
        <p:spPr>
          <a:xfrm>
            <a:off x="5572080" y="4214880"/>
            <a:ext cx="999720" cy="9997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0" name="矩形 26"/>
          <p:cNvSpPr/>
          <p:nvPr/>
        </p:nvSpPr>
        <p:spPr>
          <a:xfrm>
            <a:off x="3429000" y="4214880"/>
            <a:ext cx="999720" cy="9997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1" name="矩形 27"/>
          <p:cNvSpPr/>
          <p:nvPr/>
        </p:nvSpPr>
        <p:spPr>
          <a:xfrm>
            <a:off x="2357280" y="4214880"/>
            <a:ext cx="999720" cy="9997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2" name="矩形 40"/>
          <p:cNvSpPr/>
          <p:nvPr/>
        </p:nvSpPr>
        <p:spPr>
          <a:xfrm>
            <a:off x="3429000" y="3143160"/>
            <a:ext cx="999720" cy="9997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3" name="矩形 42"/>
          <p:cNvSpPr/>
          <p:nvPr/>
        </p:nvSpPr>
        <p:spPr>
          <a:xfrm rot="10800000">
            <a:off x="4501080" y="2072160"/>
            <a:ext cx="999720" cy="9997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4" name="矩形 43"/>
          <p:cNvSpPr/>
          <p:nvPr/>
        </p:nvSpPr>
        <p:spPr>
          <a:xfrm rot="10800000">
            <a:off x="4507560" y="3143520"/>
            <a:ext cx="999720" cy="9997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5" name="矩形 45"/>
          <p:cNvSpPr/>
          <p:nvPr/>
        </p:nvSpPr>
        <p:spPr>
          <a:xfrm>
            <a:off x="5572080" y="2071800"/>
            <a:ext cx="999720" cy="999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6" name="矩形 47"/>
          <p:cNvSpPr/>
          <p:nvPr/>
        </p:nvSpPr>
        <p:spPr>
          <a:xfrm>
            <a:off x="2357280" y="2071800"/>
            <a:ext cx="999720" cy="999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7" name="矩形 48"/>
          <p:cNvSpPr/>
          <p:nvPr/>
        </p:nvSpPr>
        <p:spPr>
          <a:xfrm>
            <a:off x="5572080" y="3143160"/>
            <a:ext cx="999720" cy="999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8" name="矩形 49"/>
          <p:cNvSpPr/>
          <p:nvPr/>
        </p:nvSpPr>
        <p:spPr>
          <a:xfrm>
            <a:off x="2357280" y="3143160"/>
            <a:ext cx="999720" cy="999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9" name="矩形 50"/>
          <p:cNvSpPr/>
          <p:nvPr/>
        </p:nvSpPr>
        <p:spPr>
          <a:xfrm>
            <a:off x="3429000" y="2071800"/>
            <a:ext cx="999720" cy="999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0" name="矩形 51"/>
          <p:cNvSpPr/>
          <p:nvPr/>
        </p:nvSpPr>
        <p:spPr>
          <a:xfrm>
            <a:off x="3429000" y="4214880"/>
            <a:ext cx="999720" cy="999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1" name="矩形 52"/>
          <p:cNvSpPr/>
          <p:nvPr/>
        </p:nvSpPr>
        <p:spPr>
          <a:xfrm>
            <a:off x="4500720" y="3143160"/>
            <a:ext cx="999720" cy="999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2" name="矩形 54"/>
          <p:cNvSpPr/>
          <p:nvPr/>
        </p:nvSpPr>
        <p:spPr>
          <a:xfrm>
            <a:off x="3429000" y="3143160"/>
            <a:ext cx="999720" cy="999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3" name="矩形 55"/>
          <p:cNvSpPr/>
          <p:nvPr/>
        </p:nvSpPr>
        <p:spPr>
          <a:xfrm>
            <a:off x="5572080" y="1000080"/>
            <a:ext cx="999720" cy="999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4" name="矩形 57"/>
          <p:cNvSpPr/>
          <p:nvPr/>
        </p:nvSpPr>
        <p:spPr>
          <a:xfrm>
            <a:off x="2357280" y="4214880"/>
            <a:ext cx="999720" cy="999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5" name="矩形 58"/>
          <p:cNvSpPr/>
          <p:nvPr/>
        </p:nvSpPr>
        <p:spPr>
          <a:xfrm>
            <a:off x="5572080" y="4214880"/>
            <a:ext cx="999720" cy="999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6" name="矩形 59"/>
          <p:cNvSpPr/>
          <p:nvPr/>
        </p:nvSpPr>
        <p:spPr>
          <a:xfrm>
            <a:off x="4500720" y="2071800"/>
            <a:ext cx="999720" cy="9997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7" name="矩形 41"/>
          <p:cNvSpPr/>
          <p:nvPr/>
        </p:nvSpPr>
        <p:spPr>
          <a:xfrm rot="5400000">
            <a:off x="2647440" y="134532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8" name="矩形 44"/>
          <p:cNvSpPr/>
          <p:nvPr/>
        </p:nvSpPr>
        <p:spPr>
          <a:xfrm rot="5400000">
            <a:off x="3719160" y="136152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9" name="矩形 46"/>
          <p:cNvSpPr/>
          <p:nvPr/>
        </p:nvSpPr>
        <p:spPr>
          <a:xfrm rot="5400000">
            <a:off x="4790880" y="134532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0" name="矩形 53"/>
          <p:cNvSpPr/>
          <p:nvPr/>
        </p:nvSpPr>
        <p:spPr>
          <a:xfrm rot="5400000">
            <a:off x="5933880" y="134532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1" name="矩形 56"/>
          <p:cNvSpPr/>
          <p:nvPr/>
        </p:nvSpPr>
        <p:spPr>
          <a:xfrm rot="5400000">
            <a:off x="2647440" y="236160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2" name="矩形 60"/>
          <p:cNvSpPr/>
          <p:nvPr/>
        </p:nvSpPr>
        <p:spPr>
          <a:xfrm rot="5400000">
            <a:off x="3719160" y="236160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3" name="矩形 61"/>
          <p:cNvSpPr/>
          <p:nvPr/>
        </p:nvSpPr>
        <p:spPr>
          <a:xfrm rot="5400000">
            <a:off x="4790880" y="236160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4" name="矩形 62"/>
          <p:cNvSpPr/>
          <p:nvPr/>
        </p:nvSpPr>
        <p:spPr>
          <a:xfrm rot="5400000">
            <a:off x="5933880" y="236160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5" name="矩形 63"/>
          <p:cNvSpPr/>
          <p:nvPr/>
        </p:nvSpPr>
        <p:spPr>
          <a:xfrm rot="5400000">
            <a:off x="2647440" y="348840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6" name="矩形 80"/>
          <p:cNvSpPr/>
          <p:nvPr/>
        </p:nvSpPr>
        <p:spPr>
          <a:xfrm rot="5400000">
            <a:off x="3719160" y="350028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7" name="矩形 81"/>
          <p:cNvSpPr/>
          <p:nvPr/>
        </p:nvSpPr>
        <p:spPr>
          <a:xfrm rot="5400000">
            <a:off x="4790880" y="350460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8" name="矩形 82"/>
          <p:cNvSpPr/>
          <p:nvPr/>
        </p:nvSpPr>
        <p:spPr>
          <a:xfrm rot="5400000">
            <a:off x="5933880" y="350460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9" name="矩形 83"/>
          <p:cNvSpPr/>
          <p:nvPr/>
        </p:nvSpPr>
        <p:spPr>
          <a:xfrm rot="5400000">
            <a:off x="2647440" y="456012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0" name="矩形 84"/>
          <p:cNvSpPr/>
          <p:nvPr/>
        </p:nvSpPr>
        <p:spPr>
          <a:xfrm rot="5400000">
            <a:off x="3702960" y="457632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1" name="矩形 85"/>
          <p:cNvSpPr/>
          <p:nvPr/>
        </p:nvSpPr>
        <p:spPr>
          <a:xfrm rot="5400000">
            <a:off x="4790880" y="457632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2" name="矩形 86"/>
          <p:cNvSpPr/>
          <p:nvPr/>
        </p:nvSpPr>
        <p:spPr>
          <a:xfrm rot="5400000">
            <a:off x="5933880" y="4576320"/>
            <a:ext cx="364680" cy="364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7" dur="250" autoRev="1" fill="hold"/>
                                        <p:tgtEl>
                                          <p:spTgt spid="63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0" dur="250" autoRev="1" fill="hold"/>
                                        <p:tgtEl>
                                          <p:spTgt spid="64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3" dur="250" autoRev="1" fill="hold"/>
                                        <p:tgtEl>
                                          <p:spTgt spid="64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"/>
                            </p:stCondLst>
                            <p:childTnLst>
                              <p:par>
                                <p:cTn id="10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9" dur="250" autoRev="1" fill="hold"/>
                                        <p:tgtEl>
                                          <p:spTgt spid="64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4" dur="250" autoRev="1" fill="hold"/>
                                        <p:tgtEl>
                                          <p:spTgt spid="646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9" dur="250" autoRev="1" fill="hold"/>
                                        <p:tgtEl>
                                          <p:spTgt spid="64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5" dur="250" autoRev="1" fill="hold"/>
                                        <p:tgtEl>
                                          <p:spTgt spid="636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2" dur="25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5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5" dur="250" autoRev="1" fill="hold"/>
                                        <p:tgtEl>
                                          <p:spTgt spid="63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1" dur="250" autoRev="1" fill="hold"/>
                                        <p:tgtEl>
                                          <p:spTgt spid="639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6" dur="250" autoRev="1" fill="hold"/>
                                        <p:tgtEl>
                                          <p:spTgt spid="647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1" dur="250" autoRev="1" fill="hold"/>
                                        <p:tgtEl>
                                          <p:spTgt spid="63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250" autoRev="1" fill="hold"/>
                                        <p:tgtEl>
                                          <p:spTgt spid="641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2" dur="250" autoRev="1" fill="hold"/>
                                        <p:tgtEl>
                                          <p:spTgt spid="63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7" dur="250" autoRev="1" fill="hold"/>
                                        <p:tgtEl>
                                          <p:spTgt spid="63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3" dur="250" autoRev="1" fill="hold"/>
                                        <p:tgtEl>
                                          <p:spTgt spid="64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8" dur="250" autoRev="1" fill="hold"/>
                                        <p:tgtEl>
                                          <p:spTgt spid="637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1" dur="25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4" dur="250" autoRev="1" fill="hold"/>
                                        <p:tgtEl>
                                          <p:spTgt spid="63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9" dur="250" autoRev="1" fill="hold"/>
                                        <p:tgtEl>
                                          <p:spTgt spid="649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4" dur="250" autoRev="1" fill="hold"/>
                                        <p:tgtEl>
                                          <p:spTgt spid="65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9" dur="250" autoRev="1" fill="hold"/>
                                        <p:tgtEl>
                                          <p:spTgt spid="651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5" dur="250" autoRev="1" fill="hold"/>
                                        <p:tgtEl>
                                          <p:spTgt spid="65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0" dur="250" autoRev="1" fill="hold"/>
                                        <p:tgtEl>
                                          <p:spTgt spid="65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6" dur="250" autoRev="1" fill="hold"/>
                                        <p:tgtEl>
                                          <p:spTgt spid="654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1" dur="250" autoRev="1" fill="hold"/>
                                        <p:tgtEl>
                                          <p:spTgt spid="65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6" dur="250" autoRev="1" fill="hold"/>
                                        <p:tgtEl>
                                          <p:spTgt spid="656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8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9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3" dur="50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7" dur="5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5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9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3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7" dur="5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1" dur="5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9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93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6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0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4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8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2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6" dur="5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0" dur="5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4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8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2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6" dur="5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0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4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cfdef3"/>
      </a:accent1>
      <a:accent2>
        <a:srgbClr val="333399"/>
      </a:accent2>
      <a:accent3>
        <a:srgbClr val="ffffff"/>
      </a:accent3>
      <a:accent4>
        <a:srgbClr val="000000"/>
      </a:accent4>
      <a:accent5>
        <a:srgbClr val="e4ecf8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</TotalTime>
  <Application>LibreOffice/7.4.7.2$Linux_X86_64 LibreOffice_project/40$Build-2</Application>
  <AppVersion>15.0000</AppVersion>
  <Words>728</Words>
  <Paragraphs>21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13:18:14Z</dcterms:created>
  <dc:creator>cq43</dc:creator>
  <dc:description/>
  <dc:language>en-US</dc:language>
  <cp:lastModifiedBy>a</cp:lastModifiedBy>
  <dcterms:modified xsi:type="dcterms:W3CDTF">2015-02-09T02:58:36Z</dcterms:modified>
  <cp:revision>27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5</vt:r8>
  </property>
  <property fmtid="{D5CDD505-2E9C-101B-9397-08002B2CF9AE}" pid="4" name="PresentationFormat">
    <vt:lpwstr>全屏显示(4:3)</vt:lpwstr>
  </property>
  <property fmtid="{D5CDD505-2E9C-101B-9397-08002B2CF9AE}" pid="5" name="Slides">
    <vt:r8>23</vt:r8>
  </property>
</Properties>
</file>