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8CA-F2FE-4962-A1C7-7DBFC3A9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84C-FC84-4290-A9A1-CF6793FD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1EB-21E1-4B9B-AC49-253EC892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5CA-DD86-4E4D-9211-5B8C3D60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F702-BE4D-49BD-9B27-F8A8A99F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B0BD-D349-4D8D-ABE3-F1C86EB6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3851-554A-4BE9-AC44-BC3F1031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A3B0-CA3F-45EB-92FA-B6CEF22A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CAC0-8C33-482D-968E-4645782D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300D-6CA3-4DE0-B8FC-960FB388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4E4C-3F58-4538-B8CE-68534288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530-E7A9-4C75-85C0-CD91153E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C809-988B-420E-B7EE-51A80921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82FC-00D4-4E19-BB8D-8E6CFCE5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018B-BA6C-46F5-80EA-8935D26B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AF84-2173-40FB-A284-E5AACFDA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F281-1553-45BD-8768-8A9C45C7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D1779-909C-406D-AF6E-8F2121EC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BB965-A0FA-4FFE-ADA4-FF013423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2AED-5484-43C6-935A-88A2427E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858E-2B89-4887-835B-FC79CFEA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93151-4935-4C8A-B129-B19D5D1B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D06-8B39-4975-B20A-61A1B537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FE3A-B238-4C71-95D1-FEA70194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B13B-6FFB-4EF1-A237-2B823776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20FC-3384-4219-880E-325FA8DC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4D74-A556-4310-A122-F2ACD3D5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4AD7-E968-4660-9E93-EF22A281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4CC3-CF2E-479B-9A45-9C6C088A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A264-C3D8-4A9F-883F-FF537861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2E2D7-A890-4379-89DD-D32B7F28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EDFDB-B26A-4D59-8D0F-712E17CB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89675-6D62-41D8-9A06-14CBF95B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787-1F01-4F02-A015-94BA9888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E562-3897-411F-BBB2-B4804554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24836-3BF1-4C12-8621-6F9587FE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A27F-6D65-4FFC-834A-B4B6BB13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2C5CD-D001-48BA-833B-ACF2944E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3652-999C-4B6D-9F96-2C757C0A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FE34-7A4B-4EDE-BDB3-34BB9E55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105CC-FE31-4C00-A503-8B45646C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2814-731A-4F6C-867F-6B5664E1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ACA6B-F711-4146-B83B-A3DBF214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B1E-BA04-41BE-8175-CF0F7678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5C4-7F97-4355-A532-1E758286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F75-48D5-451D-B4A0-0035089B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59F-2CFC-4CEC-912C-F5554D76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3A7-14FD-47EB-8BF9-BB9F9E04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F81FDA-9000-4718-B05B-82012B14BBD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F53954-3BA3-418E-A216-3C5A46016A3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4038120" cy="2828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000080"/>
            <a:ext cx="4038120" cy="2828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50AB47-7548-4F9D-B38C-AA69A232A13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7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7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1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5204520"/>
            <a:ext cx="289512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7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5C2788-7DF1-4D5F-9E5D-227B5E582B18}" type="slidenum">
              <a:rPr b="0" lang="en-US" sz="117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1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7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6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6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6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6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6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6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79640" y="3258000"/>
            <a:ext cx="5112360" cy="72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自我介绍</a:t>
            </a:r>
            <a:r>
              <a:rPr b="0" lang="en-US" sz="3600" spc="-151" strike="noStrike">
                <a:solidFill>
                  <a:srgbClr val="ffffff"/>
                </a:solidFill>
                <a:latin typeface="汉真广标"/>
                <a:ea typeface="汉真广标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251640" y="4050360"/>
            <a:ext cx="5424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竞聘，会议及相关类别的幻灯片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6012000" y="4650480"/>
            <a:ext cx="647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200" y="179280"/>
            <a:ext cx="1428480" cy="35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lidan\Desktop\1.png"/>
          <p:cNvPicPr/>
          <p:nvPr/>
        </p:nvPicPr>
        <p:blipFill>
          <a:blip r:embed="rId2"/>
          <a:stretch/>
        </p:blipFill>
        <p:spPr>
          <a:xfrm>
            <a:off x="1785960" y="1571760"/>
            <a:ext cx="5327280" cy="539280"/>
          </a:xfrm>
          <a:prstGeom prst="rect">
            <a:avLst/>
          </a:prstGeom>
          <a:ln w="9525">
            <a:noFill/>
          </a:ln>
        </p:spPr>
      </p:pic>
      <p:sp>
        <p:nvSpPr>
          <p:cNvPr id="170" name="TextBox 3"/>
          <p:cNvSpPr/>
          <p:nvPr/>
        </p:nvSpPr>
        <p:spPr>
          <a:xfrm>
            <a:off x="3429000" y="1643040"/>
            <a:ext cx="203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Users\lidan\Desktop\1.png"/>
          <p:cNvPicPr/>
          <p:nvPr/>
        </p:nvPicPr>
        <p:blipFill>
          <a:blip r:embed="rId3"/>
          <a:stretch/>
        </p:blipFill>
        <p:spPr>
          <a:xfrm>
            <a:off x="1785960" y="2286000"/>
            <a:ext cx="5327280" cy="53928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2" descr="C:\Users\lidan\Desktop\1.png"/>
          <p:cNvPicPr/>
          <p:nvPr/>
        </p:nvPicPr>
        <p:blipFill>
          <a:blip r:embed="rId4"/>
          <a:stretch/>
        </p:blipFill>
        <p:spPr>
          <a:xfrm>
            <a:off x="1785960" y="3032280"/>
            <a:ext cx="5327280" cy="53928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2" descr="C:\Users\lidan\Desktop\1.png"/>
          <p:cNvPicPr/>
          <p:nvPr/>
        </p:nvPicPr>
        <p:blipFill>
          <a:blip r:embed="rId5"/>
          <a:stretch/>
        </p:blipFill>
        <p:spPr>
          <a:xfrm>
            <a:off x="1785960" y="3780000"/>
            <a:ext cx="5327280" cy="539280"/>
          </a:xfrm>
          <a:prstGeom prst="rect">
            <a:avLst/>
          </a:prstGeom>
          <a:ln w="9525">
            <a:noFill/>
          </a:ln>
        </p:spPr>
      </p:pic>
      <p:sp>
        <p:nvSpPr>
          <p:cNvPr id="174" name="TextBox 8"/>
          <p:cNvSpPr/>
          <p:nvPr/>
        </p:nvSpPr>
        <p:spPr>
          <a:xfrm>
            <a:off x="3429000" y="2344680"/>
            <a:ext cx="203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3429000" y="3087720"/>
            <a:ext cx="203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3429000" y="3844800"/>
            <a:ext cx="203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3"/>
          <p:cNvSpPr/>
          <p:nvPr/>
        </p:nvSpPr>
        <p:spPr>
          <a:xfrm>
            <a:off x="488880" y="173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57160" y="857160"/>
            <a:ext cx="6714720" cy="421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本人刘</a:t>
            </a: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，性别男，汉族人，于</a:t>
            </a: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1979</a:t>
            </a:r>
            <a:r>
              <a:rPr b="0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10243e"/>
                </a:solidFill>
                <a:latin typeface="微软雅黑"/>
                <a:ea typeface="微软雅黑"/>
              </a:rPr>
              <a:t>日出生在柳州市的一个干部小家庭。系湖南商学院信息工程与信息管理系九八级自考班的学生，现担任本系自考部的团总支书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Proficiency in AutoCAD drawing software, Pro / E software, Photoshop software, to use word, excel and software to operate independently and in a timely and efficient comple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4"/>
          <p:cNvSpPr/>
          <p:nvPr/>
        </p:nvSpPr>
        <p:spPr>
          <a:xfrm>
            <a:off x="282600" y="17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内容占位符 7"/>
          <p:cNvSpPr/>
          <p:nvPr/>
        </p:nvSpPr>
        <p:spPr>
          <a:xfrm>
            <a:off x="4071960" y="1357200"/>
            <a:ext cx="3771720" cy="282852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lidan\Desktop\未标题-3.png"/>
          <p:cNvPicPr/>
          <p:nvPr/>
        </p:nvPicPr>
        <p:blipFill>
          <a:blip r:embed="rId3"/>
          <a:stretch/>
        </p:blipFill>
        <p:spPr>
          <a:xfrm>
            <a:off x="217800" y="1084320"/>
            <a:ext cx="4105080" cy="642600"/>
          </a:xfrm>
          <a:prstGeom prst="rect">
            <a:avLst/>
          </a:prstGeom>
          <a:ln w="9525">
            <a:noFill/>
          </a:ln>
        </p:spPr>
      </p:pic>
      <p:sp>
        <p:nvSpPr>
          <p:cNvPr id="182" name="TextBox 10"/>
          <p:cNvSpPr/>
          <p:nvPr/>
        </p:nvSpPr>
        <p:spPr>
          <a:xfrm>
            <a:off x="960120" y="1084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9"/>
          <p:cNvSpPr/>
          <p:nvPr/>
        </p:nvSpPr>
        <p:spPr>
          <a:xfrm>
            <a:off x="64800" y="-9000"/>
            <a:ext cx="71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10243e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10243e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副标题 2"/>
          <p:cNvSpPr/>
          <p:nvPr/>
        </p:nvSpPr>
        <p:spPr>
          <a:xfrm>
            <a:off x="157320" y="3429000"/>
            <a:ext cx="3985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en-US" sz="3600" spc="-15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THE ENG 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762120" y="0"/>
            <a:ext cx="7055280" cy="5714640"/>
            <a:chOff x="762120" y="0"/>
            <a:chExt cx="7055280" cy="5714640"/>
          </a:xfrm>
        </p:grpSpPr>
        <p:sp>
          <p:nvSpPr>
            <p:cNvPr id="186" name="矩形 4"/>
            <p:cNvSpPr/>
            <p:nvPr/>
          </p:nvSpPr>
          <p:spPr>
            <a:xfrm>
              <a:off x="1271880" y="0"/>
              <a:ext cx="5659560" cy="5979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34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334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4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334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4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840"/>
              <a:ext cx="7055280" cy="42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7">
              <a:hlinkClick r:id="rId3"/>
            </p:cNvPr>
            <p:cNvSpPr/>
            <p:nvPr/>
          </p:nvSpPr>
          <p:spPr>
            <a:xfrm rot="20926800">
              <a:off x="2361240" y="2964960"/>
              <a:ext cx="388908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</a:pPr>
              <a:r>
                <a:rPr b="1" lang="zh-CN" sz="266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266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6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6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266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266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26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  <Words>310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37:13Z</dcterms:created>
  <dc:creator>lidan</dc:creator>
  <dc:description/>
  <dc:language>en-US</dc:language>
  <cp:lastModifiedBy>a</cp:lastModifiedBy>
  <dcterms:modified xsi:type="dcterms:W3CDTF">2015-02-09T02:59:57Z</dcterms:modified>
  <cp:revision>37</cp:revision>
  <dc:subject/>
  <dc:title>自我介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6</vt:r8>
  </property>
</Properties>
</file>