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A2D-911F-4331-8CAC-724671C9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F26-6308-4D4E-8EA3-2E03FD30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5FC-6C8D-4F40-8D6A-2DEEC923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A1C-BF9F-41D6-81C9-73FEB144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A0D-E28F-4166-BFA5-8A4BE1BF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5CA1-ED32-4594-91C2-8D900C3B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39BC-DF77-447B-830E-9216BB2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ED1-2071-4E0A-9B3A-C87C084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4FEC-3D04-4A76-94C1-14BCFB2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C9D-A26B-431C-9E2E-0E4D9B2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F3F1-9336-46AA-8ABD-548A799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123-7348-4D5B-B320-89E7CB2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B4E6-FAFF-45ED-AFE9-235A4DD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B28-1357-4A86-9B8E-27111FEB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19C4-6F02-4B2C-B49A-A45DFAE9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173-3D68-4580-AD02-10FFC321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50B2-3709-4BBC-9875-7BA12CD3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E7AC-A64A-4D67-951C-225ED94B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FC7F-625D-4C1A-8500-BBDF52D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9944-665B-4F76-86B2-B6A506B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EF5F-304F-4C42-A2E8-7725CA9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D9AB-899B-425E-ACAF-A361D2F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DE6-E18F-4B4E-A749-3162E0E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2C97-4FDE-4E38-B2A7-4454399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8ABA-F704-4E3F-A0B4-DD6F5CF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94A5-AADA-4FD3-BCA2-2D372CB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E9A2-3442-43F5-8D44-AD708D9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21A7-E004-4DAD-B756-6A43D9FF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CF12-100B-4395-A8BD-853485FB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968A-97EC-4009-9012-B7340D9B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1BDD-C442-4F93-8337-DC1F47EA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7F3A-145F-4C39-8821-115198F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CA6D-7047-4F55-B057-7A5552B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262-0E98-41D4-B4BE-D2307C3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A56A-1F62-4070-B2DC-6726515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9BEF-BE88-422F-93DC-13F2ED6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9F12-5D10-4FC1-9454-9EF65B00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6222-967B-42A8-9614-15FCEB1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B4D0-E16D-4D46-9DF5-96E6B1C7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79EF-32FE-4E75-9E5A-CEC693A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2258-15F3-4532-8A54-F65EFB51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875D-F8AC-4F56-B0CB-B449BE74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9BE5-74E0-4A11-B61C-CAA3FA89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99B7-E0E7-401D-BFF6-64B7F3B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96F-34BF-4DA5-8645-C4D90D0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4895-2B06-41DC-967B-0341957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72B5-DEC2-46E0-B239-8A593BEC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8944-8F96-49C5-B91A-DA61E3A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2A9B-9E81-4B99-B59B-7A017D32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070F-D96E-43DB-BB76-78772FC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809F-8B83-49C2-AC24-3BBDC80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BBBC-016F-4F95-B706-19385A5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5D30-CAFF-45E9-877A-BF0CFE3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BE9D-7A50-49B9-BE87-815AE9B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7C4CB-DED9-440F-B874-C7B95DE9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A7C-D483-4CB1-BF5A-E9A55CAE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2630-B690-44AC-9766-C48AD15A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479-5228-4C77-93C7-74B48E6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475-B39C-437E-AE3B-F34537E8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3BE-0899-4761-AF84-2E0BE3A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BD6C-DED2-43C2-9417-14F2E52CC3C5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4" descr="Z:\newtek\_backgrounds_1.02\Tim\powerpoint templates\61-80\planet_corporate\elements\spinning_globe.gif"/>
          <p:cNvPicPr/>
          <p:nvPr/>
        </p:nvPicPr>
        <p:blipFill>
          <a:blip r:embed="rId3"/>
          <a:stretch/>
        </p:blipFill>
        <p:spPr>
          <a:xfrm>
            <a:off x="723888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CC91-9471-48A2-912C-BBFE84CF4B65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1034" descr="Z:\newtek\_backgrounds_1.02\Tim\powerpoint templates\61-80\planet_corporate\elements\spinning_globe.gif"/>
          <p:cNvPicPr/>
          <p:nvPr/>
        </p:nvPicPr>
        <p:blipFill>
          <a:blip r:embed="rId3"/>
          <a:stretch/>
        </p:blipFill>
        <p:spPr>
          <a:xfrm>
            <a:off x="723888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DB2F-EBB6-4F74-8A40-665D62F0CF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60C3-0CA0-4A8D-A19E-BABFBA61F4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7DB-0A1A-4099-A8BB-9509ACB767C6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40D-CC85-4DAE-957E-5E5D397F7E77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7000" y="266364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公司企业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873-5CB2-4447-9340-8395CB86BC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1272" descr="Z:\newtek\_backgrounds_1.02\Tim\powerpoint templates\61-80\planet_corporate\planet_corporate_prt.jpg"/>
          <p:cNvPicPr/>
          <p:nvPr/>
        </p:nvPicPr>
        <p:blipFill>
          <a:blip r:embed="rId1"/>
          <a:stretch/>
        </p:blipFill>
        <p:spPr>
          <a:xfrm>
            <a:off x="684684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273" descr="Z:\newtek\_backgrounds_1.02\Tim\powerpoint templates\61-80\planet_corporate\planet_corporate_qx.jpg"/>
          <p:cNvPicPr/>
          <p:nvPr/>
        </p:nvPicPr>
        <p:blipFill>
          <a:blip r:embed="rId2"/>
          <a:stretch/>
        </p:blipFill>
        <p:spPr>
          <a:xfrm>
            <a:off x="15228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274" descr="Z:\newtek\_backgrounds_1.02\Tim\powerpoint templates\61-80\planet_corporate\planet_corporate_sld.jpg"/>
          <p:cNvPicPr/>
          <p:nvPr/>
        </p:nvPicPr>
        <p:blipFill>
          <a:blip r:embed="rId3"/>
          <a:stretch/>
        </p:blipFill>
        <p:spPr>
          <a:xfrm>
            <a:off x="238428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275" descr="Z:\newtek\_backgrounds_1.02\Tim\powerpoint templates\61-80\planet_corporate\planet_corporate_trs.jpg"/>
          <p:cNvPicPr/>
          <p:nvPr/>
        </p:nvPicPr>
        <p:blipFill>
          <a:blip r:embed="rId4"/>
          <a:stretch/>
        </p:blipFill>
        <p:spPr>
          <a:xfrm>
            <a:off x="461484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278" descr="Z:\newtek\_backgrounds_1.02\Tim\powerpoint templates\61-80\planet_corporate\elements\spinning_globe.gif"/>
          <p:cNvPicPr/>
          <p:nvPr/>
        </p:nvPicPr>
        <p:blipFill>
          <a:blip r:embed="rId5"/>
          <a:stretch/>
        </p:blipFill>
        <p:spPr>
          <a:xfrm>
            <a:off x="6553080" y="304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4:2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