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42D-9C00-4F89-8C67-6E27CC60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BBF-8385-46D7-B129-EE21AEBB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5E7-6C5E-46AB-A27B-31C86BB6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48B-D026-48AC-BA51-35E30E2F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DBC9-A5A4-42F0-9E70-BDBECDB4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C4FD-6E3D-479F-8A2B-9AE5506B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FFB0-C7F8-4793-AFA7-B94C2FFF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C939-D093-47F1-BDDA-AAB90859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003B-C0B3-43FA-AFCC-18CA3F3C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3EA1-6AC5-4A34-94D3-68A9034A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EB9D-0964-4E30-BA81-F136AA40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622-F6C4-4F67-A234-26DC1347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67CD-D3B3-4587-A6BD-6348394F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CEB1-0BF0-4428-9FB6-7981316B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049B-3D3D-4145-BB08-3156EE32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52AC-E2F1-4278-8EA3-60D07616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E791-5FB3-4E86-8E35-AC9D4766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00989-5070-4C7A-8F04-7CFDBD19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67E5A-9712-4C1B-808D-CC989A49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45ABE-6E96-4C4E-A009-9C10C000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8B35-E32E-4881-97B2-04984DA4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E6A7-3092-40F4-AAF7-76E4588E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538-5FE7-41F5-BB31-8150261B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3B45-F71B-4592-8A7E-76B59BD0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BD20-2D11-4B12-984D-C235B1BC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50DF-EF36-46AC-A591-9A708DF7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3BED-C091-49DC-9E2B-15BE56DB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5AA2-EA04-4010-80FC-B7A856A7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AA9E-E195-4F60-9419-23DEE09B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6F11-ED5D-46F0-96D2-562AECED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375-12E1-487C-8F6E-FF638A34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898-9F4C-4398-B854-4913A6F7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8A4-ECE1-453D-8E9F-722D3AD8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CA3-5194-4BF2-8EB2-A9143F1E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6AA-EEE3-43DA-AB07-E22A2FEE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C35-FA2B-44AC-835F-6A9195F0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B896-F316-4C90-AD90-69485E5B5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09EC-F0BA-4382-8719-758663CF568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CBF8-6686-45A2-8BB3-5F71CF7837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4714-F81A-4C5B-9D45-A484BB1C6D7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3360" y="228240"/>
            <a:ext cx="87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Arial"/>
              </a:rPr>
              <a:t>国外场景夕阳西下</a:t>
            </a:r>
            <a:r>
              <a:rPr b="0" lang="zh-CN" sz="4000" spc="-1" strike="noStrike">
                <a:solidFill>
                  <a:srgbClr val="f2f2f2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2f2f2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19920" y="2895480"/>
            <a:ext cx="312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199"/>
          <p:cNvSpPr/>
          <p:nvPr/>
        </p:nvSpPr>
        <p:spPr>
          <a:xfrm>
            <a:off x="1066680" y="3505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C5CF-5496-4770-BCAF-FC1B6780A6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876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Transitional Page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8:57:5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1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