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2C41-0341-4370-9CAC-192CA0AA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C84-2ED6-4210-BF08-06BD3B5D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DBB6-10A4-4623-B6FB-C09E8DE3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7B3D-7A9E-405C-8F0E-A838C4B0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DF8F-60D3-4929-B7FA-6B05A3F1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848B-1B2F-49D0-9F48-BF3E97D5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9733-6987-4031-8A2D-5D8F3CD5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7824-5F15-4D03-A4E9-19831DEB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9552-AFD5-4E45-95E9-47199711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614A-A65B-48C1-95C3-0454FC23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0586-8309-4BB0-8FA7-807FF18A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AB41-3F96-4B1B-AA51-1D947A03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7A4D-F591-4B64-A99D-9F572E24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6250-463F-44F4-9439-83203F6F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D809-7547-4D55-8E22-CAE65F48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AE8F-60DE-4387-97D4-43561723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FACC-C559-4CEC-998E-0E546F14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A48A0-7835-4979-8AB4-195A4371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2ED6E-5EC6-495B-96A4-579F012F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9C91A-B7DC-442E-93AD-3D74997E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C8037-BBF4-4CEA-A53D-9D7C38CC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0CF75-2B83-486C-B494-99E148D1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FA7D-64F8-417B-BBA3-EE3A0E97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62569-4379-4DC7-8839-5E645FD0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A782B-D95A-429C-A946-07E8D059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53DE9-C463-452F-9BEA-7E9C2E3B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E0EEE-1199-4A99-BAF6-417AFB5A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D62DD-B789-48BB-9DAA-C132BCC7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8CCAD-BC57-414C-A859-2BDE0C15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F5E7F-F041-4F72-8412-FB1E1DE50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AA57-C6C8-4672-A250-7CB7A45A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26D7-D6BD-4F9B-A538-935F3B46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9660-3BC1-433A-981F-833F6F19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208A-0A7F-4E36-B6CE-3D090FBD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3D7E-4DEB-4D7E-A0E4-6478208A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6C68-F4DE-45E3-AE7E-6DDB6A1B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8693a3">
                  <a:alpha val="85098"/>
                </a:srgbClr>
              </a:gs>
              <a:gs pos="100000">
                <a:srgbClr val="8693a3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A615-0CE0-473C-8E78-69FB786B9B37}" type="datetime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FE88-E912-4DD8-850D-53B8CFCDCA1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6983280" y="-12600"/>
            <a:ext cx="2160720" cy="14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686B-AA08-41EA-BEB8-255A1E774D3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561A-BDBC-40C4-9795-59544985648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8693a3">
                  <a:alpha val="85098"/>
                </a:srgbClr>
              </a:gs>
              <a:gs pos="100000">
                <a:srgbClr val="8693a3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2"/>
          <a:stretch/>
        </p:blipFill>
        <p:spPr>
          <a:xfrm>
            <a:off x="6983280" y="-12600"/>
            <a:ext cx="2160720" cy="1452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3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9"/>
          <p:cNvSpPr/>
          <p:nvPr/>
        </p:nvSpPr>
        <p:spPr>
          <a:xfrm>
            <a:off x="287280" y="189000"/>
            <a:ext cx="8569440" cy="1368360"/>
          </a:xfrm>
          <a:prstGeom prst="rect">
            <a:avLst/>
          </a:prstGeom>
          <a:gradFill rotWithShape="0">
            <a:gsLst>
              <a:gs pos="0">
                <a:srgbClr val="8693a3">
                  <a:alpha val="40000"/>
                </a:srgbClr>
              </a:gs>
              <a:gs pos="100000">
                <a:srgbClr val="8693a3">
                  <a:alpha val="6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F48A-9AF3-4B99-96EA-F490F70475B1}" type="datetime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9B45-6C71-4509-BC68-87C31AA54CA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9440" y="24408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Old Farm Windmill Templ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295280" y="966600"/>
            <a:ext cx="6400800" cy="47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You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1"/>
          <p:cNvSpPr/>
          <p:nvPr/>
        </p:nvSpPr>
        <p:spPr>
          <a:xfrm>
            <a:off x="1540440" y="1268280"/>
            <a:ext cx="576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国外风车工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 Bullet Point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06440" y="166356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b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ample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Content Placeholder 3" descr=""/>
          <p:cNvPicPr/>
          <p:nvPr/>
        </p:nvPicPr>
        <p:blipFill>
          <a:blip r:embed="rId1"/>
          <a:stretch/>
        </p:blipFill>
        <p:spPr>
          <a:xfrm>
            <a:off x="901800" y="1790640"/>
            <a:ext cx="734040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lour sch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571920" y="2863800"/>
            <a:ext cx="82692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4648320" y="2863800"/>
            <a:ext cx="82692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519280" y="4478400"/>
            <a:ext cx="827280" cy="611280"/>
          </a:xfrm>
          <a:prstGeom prst="rect">
            <a:avLst/>
          </a:prstGeom>
          <a:solidFill>
            <a:srgbClr val="8693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3587760" y="4478400"/>
            <a:ext cx="826920" cy="611280"/>
          </a:xfrm>
          <a:prstGeom prst="rect">
            <a:avLst/>
          </a:prstGeom>
          <a:solidFill>
            <a:srgbClr val="6ba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4656240" y="4478400"/>
            <a:ext cx="826920" cy="611280"/>
          </a:xfrm>
          <a:prstGeom prst="rect">
            <a:avLst/>
          </a:prstGeom>
          <a:solidFill>
            <a:srgbClr val="0b6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5726160" y="4478400"/>
            <a:ext cx="826920" cy="611280"/>
          </a:xfrm>
          <a:prstGeom prst="rect">
            <a:avLst/>
          </a:prstGeom>
          <a:solidFill>
            <a:srgbClr val="237d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5708520" y="2863800"/>
            <a:ext cx="82728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2503440" y="2863800"/>
            <a:ext cx="82728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2285640" y="222408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3603960" y="210168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 &am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4553640" y="22240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ado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5834520" y="210168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61840" y="383868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609360" y="383868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4543560" y="371628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nt &am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5624640" y="371484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llow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b6de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79BC-41A6-4758-B1CD-67FFEFE6F5B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ictur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600200"/>
            <a:ext cx="402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le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IMG_9271"/>
          <p:cNvPicPr/>
          <p:nvPr/>
        </p:nvPicPr>
        <p:blipFill>
          <a:blip r:embed="rId1"/>
          <a:stretch/>
        </p:blipFill>
        <p:spPr>
          <a:xfrm>
            <a:off x="5256360" y="2205000"/>
            <a:ext cx="3097080" cy="3853080"/>
          </a:xfrm>
          <a:prstGeom prst="rect">
            <a:avLst/>
          </a:prstGeom>
          <a:ln w="57240">
            <a:solidFill>
              <a:srgbClr val="8693a3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08:48Z</dcterms:modified>
  <cp:revision>14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